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25.jpeg" ContentType="image/jpeg"/>
  <Override PartName="/ppt/media/image2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7D93-68FA-43F2-984E-8C52CF1582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0C0B-DD98-4562-9029-AFB1FD9FBC5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0F16-35A7-448A-8B15-6CB15A3F86E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5D75-457D-4E9F-A539-E497A361CCE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D715-D100-404E-A72C-118EEB457F6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AEDA-53AC-4926-B07C-6700D8F4924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6772-0442-40E8-BF88-4475D855AF1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4EA7-22F6-46EE-8579-A857A1AA94F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3F18-63C9-4C84-BD7A-EC6E884CC66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D16C-A29D-40FC-B17A-5D32A1079FB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06DE-64FB-46B2-B844-D3C1DBC27EF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F7AC-C74A-4088-B2A9-BF1A382D289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B57E-4666-4BE8-8173-3AD7B49B741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0319-3AAC-4F20-A0DB-B9666D41EEA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3F93-478A-41AE-BA7F-B6866D49284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DBBF-0331-4FE4-B2D2-F05B45856C6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1998-34AA-4A15-AC6F-3BE21BC8917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7ACF-A32C-4F63-81F4-CEDAF5142E2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2DA4-4C8A-48D0-8D82-3712094E900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28CC-7A61-4DB3-BC52-33B9AD022BA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65BF-58AA-4B51-96A0-95A95403EE6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BC99-7B91-43E8-A64E-78D96879963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8266-1BA6-4C30-BF64-868CEEFE23B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18CC-DE73-4782-BA3D-51501E7686C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904C-1492-4427-9349-0E82D4CA8E1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D5DB-34A5-44C0-B916-987A0746A85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D479-9286-4761-9C2F-86844E863FF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DADE-777D-4CAF-9CAD-30629B1CA89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44FC-2282-463D-82D2-CB9826BA0AC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B3CD-54F0-4A5C-9CF2-F2AB437D4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5385-63BF-4303-B76D-EE570436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E1F0-C073-4985-B376-2CC6AE0F5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5AB0-8E8C-42EE-8063-3979F717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4887-DE33-4C5A-8657-5A70412C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EAD5-5C91-450A-B386-CBAC6452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989A-2261-4BF1-BB53-D9D1AD75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CF7C-AAB4-4C7F-9A4F-A440AC23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63A5-6B77-495F-A143-1D168A35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C55B-C31E-4FEA-8053-5B871E86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8FB6-E029-47B5-8ED2-39BE946B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8B12-701E-4816-9813-2A35CD9D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/4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E Colloqu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7265-52AC-47D9-A974-B64B6DE037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esearch.microsoft.com/~indranim/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iki.laptop.org/images/a/a9/Sugar.png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uting and the Developing Worl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EP 590B,  Spring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cture 10, Part 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xt Free 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ign Observations 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bular Data org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are familiar with paper forms and ledgers, even if they can’t r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of color is impor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con Desig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stic sketches or pho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on c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ons subject to misinterpre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3657600" y="2895480"/>
            <a:ext cx="5295960" cy="1590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2743200" y="5791320"/>
            <a:ext cx="812880" cy="876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3"/>
          <a:stretch/>
        </p:blipFill>
        <p:spPr>
          <a:xfrm>
            <a:off x="5410080" y="5715000"/>
            <a:ext cx="1074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gative Observ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of numbers for task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tract repres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2895480" y="4267080"/>
            <a:ext cx="338796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ctures for navigation to augment ma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2905200" cy="2219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27147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r Assist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dio help files on each scr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dio prompts on meaning of but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e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http://research.microsoft.com/research/tem/TEM%20Area%20Page_files/user_INDRANIM_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48720" y="152280"/>
            <a:ext cx="10666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xt free UI:  Sugar, OLPC,  X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Image:Sugar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90920" y="335268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4"/>
          <a:stretch/>
        </p:blipFill>
        <p:spPr>
          <a:xfrm>
            <a:off x="2286000" y="1600200"/>
            <a:ext cx="441000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pplications of Text Free U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do Text Free UI’s make sense (as opposed to an intermediated application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rticipatory Desig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per Prototy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2" descr="http://web.mit.edu/is/usability/IAP/2003/Session1/Images/mockup.jpg"/>
          <p:cNvPicPr/>
          <p:nvPr/>
        </p:nvPicPr>
        <p:blipFill>
          <a:blip r:embed="rId1"/>
          <a:stretch/>
        </p:blipFill>
        <p:spPr>
          <a:xfrm>
            <a:off x="914400" y="2514600"/>
            <a:ext cx="382896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iving users a tas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b search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first began with a (very) basic overview of computers, and introduced the application to the user. Once we were satisfied that they understood the capability of the application, we then told them the following story: A friend of theirs who lived in their neighborhood was in trouble and desperately looking for a job. Their objective was to find the best paying job in a nearby neighborhood and to be able to report the address of the potential employ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king users comfortable with using the dev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ar of using the device is comm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mage, embarrassment, novel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 practice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 sett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al researchers have reported that Tablet PCs are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nounc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t day of class,  no final exam,  have a great summ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es available about June 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rse evaluation ton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ltural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on barr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ion of participants – researchers connections very likely to be upper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ion of user testing can be complic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ipants may be uncomfortable with outsid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ing in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ech Based Interfa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aker independent, unconstrained dialo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gn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quality sound cap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ech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guage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ural language proces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ech dialog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the commodity that you want the price of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llenges of S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uche et al., ICTD 2006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y in Tamil Na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zard of Oz test of Market Information Dialog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users with limited exposure to technology use a speech dialo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 basically positive: if the recognition can be done, then the approach might wor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structing an S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llect a large data set of target wor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gnificant regional variation in speec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gnificant variation based on economic leve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hallenge in explaining the data collection tas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for illiterate us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52280" y="4952880"/>
          <a:ext cx="5943600" cy="1676520"/>
        </p:xfrm>
        <a:graphic>
          <a:graphicData uri="http://schemas.openxmlformats.org/drawingml/2006/table">
            <a:tbl>
              <a:tblPr/>
              <a:tblGrid>
                <a:gridCol w="1486080"/>
                <a:gridCol w="1485720"/>
                <a:gridCol w="1486080"/>
                <a:gridCol w="148572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ndicher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imbato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dura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dig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29" name="TextBox 5"/>
          <p:cNvSpPr/>
          <p:nvPr/>
        </p:nvSpPr>
        <p:spPr>
          <a:xfrm>
            <a:off x="6324480" y="4952880"/>
            <a:ext cx="259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ror rates f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ognition of dig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ining data colle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Pondicher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udio output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much easier than input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main challenges of audio output for a widely deployed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xt Free UI Work,  MSR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xt Free UI,  ICTD  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I Guidelines for semi-literate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context videos,  ICTD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deos to instruct users on 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llenges of Computerized Job Search,  CHI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 study of job referral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ll Context Vide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oblem – teaching illiterate users how to use a job search applic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problem was much deeper than the UI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s did not understand how job information could be on the computer since they usually relied by word of mouth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olution – videos showing the full job search process with the computer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52280" y="4800600"/>
            <a:ext cx="1962360" cy="1459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2438280" y="4800600"/>
            <a:ext cx="2025720" cy="1523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"/>
          <p:cNvPicPr/>
          <p:nvPr/>
        </p:nvPicPr>
        <p:blipFill>
          <a:blip r:embed="rId3"/>
          <a:stretch/>
        </p:blipFill>
        <p:spPr>
          <a:xfrm>
            <a:off x="4648320" y="4800600"/>
            <a:ext cx="2114280" cy="1542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4"/>
          <a:stretch/>
        </p:blipFill>
        <p:spPr>
          <a:xfrm>
            <a:off x="6858000" y="4800600"/>
            <a:ext cx="213372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ob Search 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itially, test application for Text Free 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get a public kio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ential Issu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osk plac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osk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ould employers sign 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ould disputes be resol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ould employers / employees m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914400" y="5257800"/>
            <a:ext cx="2971800" cy="1455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2"/>
          <a:stretch/>
        </p:blipFill>
        <p:spPr>
          <a:xfrm>
            <a:off x="5334120" y="5257800"/>
            <a:ext cx="287784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per based pilo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a job search system using paper instead of compu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dger + coordin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GO working in the slums ran the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Need formal organiz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ering particip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ized Taxonomy of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ust and Accoun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uild Human Capacit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loyees needed additional sk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Value proposi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nsure steady deman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fficient communication between employers and employe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Need to address legal issu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ghlights from Lecture 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pan Parik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W PhD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stant Professor,  UC Berkel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ib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of developing world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ted use of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Ag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M Plat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phone based data cap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xt Free U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ney Transfer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rban bank to rural lo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94648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z-IMC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2943360" cy="3581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4800600" y="1981080"/>
            <a:ext cx="298116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C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1" descr=""/>
          <p:cNvPicPr/>
          <p:nvPr/>
        </p:nvPicPr>
        <p:blipFill>
          <a:blip r:embed="rId1"/>
          <a:stretch/>
        </p:blipFill>
        <p:spPr>
          <a:xfrm>
            <a:off x="457200" y="2719440"/>
            <a:ext cx="822960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o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038480" cy="3027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2"/>
          <a:stretch/>
        </p:blipFill>
        <p:spPr>
          <a:xfrm>
            <a:off x="4038480" y="29718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port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4" descr="Composite 1"/>
          <p:cNvPicPr/>
          <p:nvPr/>
        </p:nvPicPr>
        <p:blipFill>
          <a:blip r:embed="rId1"/>
          <a:stretch/>
        </p:blipFill>
        <p:spPr>
          <a:xfrm>
            <a:off x="1981080" y="1676520"/>
            <a:ext cx="514692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dicine Track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77533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ass 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pid technological change in developing worl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nnectivity:  Cell phones &amp; Broadban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conomics of kiosks and other projec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formation technology and marke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pplication focus – support information task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dical delivery and data col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ssemination of agricultural knowled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pture of financial transac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portun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niversity of Washingt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chool, Technical Communication,  Social Work,  Global Health,  Public Healt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W C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ange mailing li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se590f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se477 – developing world capstone proj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ading list – finished all the book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ob / internship opportunit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eaching Java in Rwanda, Grameen App Center, . . 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option of localized softw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n’t people use Nepali Softwa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answe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cal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re to advance through knowledge of Engl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ed effects of widely used plat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with background to work with systems software will have knowledge of Engl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xonomy of Intermediated Tasks (Parikh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0" y="2133720"/>
            <a:ext cx="1828800" cy="68580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981080" y="2133720"/>
            <a:ext cx="1828800" cy="68580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 rot="5400000">
            <a:off x="6971760" y="2857320"/>
            <a:ext cx="1828800" cy="68580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 rot="5400000">
            <a:off x="4228560" y="2781000"/>
            <a:ext cx="1828800" cy="68580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Oval 7"/>
          <p:cNvSpPr/>
          <p:nvPr/>
        </p:nvSpPr>
        <p:spPr>
          <a:xfrm>
            <a:off x="0" y="3200400"/>
            <a:ext cx="609480" cy="609480"/>
          </a:xfrm>
          <a:prstGeom prst="ellipse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Oval 8"/>
          <p:cNvSpPr/>
          <p:nvPr/>
        </p:nvSpPr>
        <p:spPr>
          <a:xfrm>
            <a:off x="1219320" y="3200400"/>
            <a:ext cx="609480" cy="609480"/>
          </a:xfrm>
          <a:prstGeom prst="ellipse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Oval 9"/>
          <p:cNvSpPr/>
          <p:nvPr/>
        </p:nvSpPr>
        <p:spPr>
          <a:xfrm>
            <a:off x="3200400" y="3200400"/>
            <a:ext cx="609480" cy="609480"/>
          </a:xfrm>
          <a:prstGeom prst="ellipse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Oval 10"/>
          <p:cNvSpPr/>
          <p:nvPr/>
        </p:nvSpPr>
        <p:spPr>
          <a:xfrm>
            <a:off x="1981080" y="3200400"/>
            <a:ext cx="609840" cy="609480"/>
          </a:xfrm>
          <a:prstGeom prst="ellipse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Oval 11"/>
          <p:cNvSpPr/>
          <p:nvPr/>
        </p:nvSpPr>
        <p:spPr>
          <a:xfrm>
            <a:off x="3962520" y="2819520"/>
            <a:ext cx="609480" cy="609480"/>
          </a:xfrm>
          <a:prstGeom prst="ellipse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Oval 12"/>
          <p:cNvSpPr/>
          <p:nvPr/>
        </p:nvSpPr>
        <p:spPr>
          <a:xfrm>
            <a:off x="5715000" y="2819520"/>
            <a:ext cx="609480" cy="609480"/>
          </a:xfrm>
          <a:prstGeom prst="ellipse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Oval 13"/>
          <p:cNvSpPr/>
          <p:nvPr/>
        </p:nvSpPr>
        <p:spPr>
          <a:xfrm>
            <a:off x="6553080" y="2895480"/>
            <a:ext cx="609840" cy="609840"/>
          </a:xfrm>
          <a:prstGeom prst="ellipse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Oval 14"/>
          <p:cNvSpPr/>
          <p:nvPr/>
        </p:nvSpPr>
        <p:spPr>
          <a:xfrm>
            <a:off x="8534520" y="2895480"/>
            <a:ext cx="609480" cy="609840"/>
          </a:xfrm>
          <a:prstGeom prst="ellipse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9" name="Straight Arrow Connector 16"/>
          <p:cNvCxnSpPr/>
          <p:nvPr/>
        </p:nvCxnSpPr>
        <p:spPr>
          <a:xfrm flipV="1">
            <a:off x="456120" y="2819160"/>
            <a:ext cx="229320" cy="381600"/>
          </a:xfrm>
          <a:prstGeom prst="straightConnector1">
            <a:avLst/>
          </a:prstGeom>
          <a:ln w="38160">
            <a:solidFill>
              <a:srgbClr val="c6d9f1"/>
            </a:solidFill>
            <a:miter/>
            <a:tailEnd len="med" type="triangle" w="med"/>
          </a:ln>
        </p:spPr>
      </p:cxnSp>
      <p:cxnSp>
        <p:nvCxnSpPr>
          <p:cNvPr id="70" name="Straight Arrow Connector 20"/>
          <p:cNvCxnSpPr/>
          <p:nvPr/>
        </p:nvCxnSpPr>
        <p:spPr>
          <a:xfrm flipH="1" flipV="1">
            <a:off x="1065960" y="2819160"/>
            <a:ext cx="305640" cy="381600"/>
          </a:xfrm>
          <a:prstGeom prst="straightConnector1">
            <a:avLst/>
          </a:prstGeom>
          <a:ln w="38160">
            <a:solidFill>
              <a:srgbClr val="c6d9f1"/>
            </a:solidFill>
            <a:miter/>
            <a:tailEnd len="med" type="triangle" w="med"/>
          </a:ln>
        </p:spPr>
      </p:cxnSp>
      <p:cxnSp>
        <p:nvCxnSpPr>
          <p:cNvPr id="71" name="Straight Arrow Connector 25"/>
          <p:cNvCxnSpPr/>
          <p:nvPr/>
        </p:nvCxnSpPr>
        <p:spPr>
          <a:xfrm flipV="1">
            <a:off x="2361240" y="2819160"/>
            <a:ext cx="229320" cy="381600"/>
          </a:xfrm>
          <a:prstGeom prst="straightConnector1">
            <a:avLst/>
          </a:prstGeom>
          <a:ln w="38160">
            <a:solidFill>
              <a:srgbClr val="c6d9f1"/>
            </a:solidFill>
            <a:miter/>
            <a:tailEnd len="med" type="triangle" w="med"/>
          </a:ln>
        </p:spPr>
      </p:cxnSp>
      <p:cxnSp>
        <p:nvCxnSpPr>
          <p:cNvPr id="72" name="Straight Arrow Connector 26"/>
          <p:cNvCxnSpPr/>
          <p:nvPr/>
        </p:nvCxnSpPr>
        <p:spPr>
          <a:xfrm flipH="1" flipV="1">
            <a:off x="3047760" y="2819160"/>
            <a:ext cx="305280" cy="381600"/>
          </a:xfrm>
          <a:prstGeom prst="straightConnector1">
            <a:avLst/>
          </a:prstGeom>
          <a:ln w="57240">
            <a:solidFill>
              <a:srgbClr val="c6d9f1"/>
            </a:solidFill>
            <a:miter/>
            <a:tailEnd len="med" type="arrow" w="med"/>
          </a:ln>
        </p:spPr>
      </p:cxnSp>
      <p:cxnSp>
        <p:nvCxnSpPr>
          <p:cNvPr id="73" name="Straight Arrow Connector 27"/>
          <p:cNvCxnSpPr>
            <a:endCxn id="60" idx="2"/>
          </p:cNvCxnSpPr>
          <p:nvPr/>
        </p:nvCxnSpPr>
        <p:spPr>
          <a:xfrm>
            <a:off x="4571640" y="3123720"/>
            <a:ext cx="229320" cy="2520"/>
          </a:xfrm>
          <a:prstGeom prst="straightConnector1">
            <a:avLst/>
          </a:prstGeom>
          <a:ln w="38160">
            <a:solidFill>
              <a:srgbClr val="c6d9f1"/>
            </a:solidFill>
            <a:miter/>
            <a:tailEnd len="med" type="triangle" w="med"/>
          </a:ln>
        </p:spPr>
      </p:cxnSp>
      <p:cxnSp>
        <p:nvCxnSpPr>
          <p:cNvPr id="74" name="Straight Arrow Connector 29"/>
          <p:cNvCxnSpPr/>
          <p:nvPr/>
        </p:nvCxnSpPr>
        <p:spPr>
          <a:xfrm>
            <a:off x="7238520" y="3200400"/>
            <a:ext cx="305640" cy="2160"/>
          </a:xfrm>
          <a:prstGeom prst="straightConnector1">
            <a:avLst/>
          </a:prstGeom>
          <a:ln w="38160">
            <a:solidFill>
              <a:srgbClr val="c6d9f1"/>
            </a:solidFill>
            <a:miter/>
            <a:tailEnd len="med" type="triangle" w="med"/>
          </a:ln>
        </p:spPr>
      </p:cxnSp>
      <p:sp>
        <p:nvSpPr>
          <p:cNvPr id="75" name="Half Frame 39"/>
          <p:cNvSpPr/>
          <p:nvPr/>
        </p:nvSpPr>
        <p:spPr>
          <a:xfrm>
            <a:off x="8381880" y="2133720"/>
            <a:ext cx="152640" cy="1752480"/>
          </a:xfrm>
          <a:prstGeom prst="pi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Half Frame 40"/>
          <p:cNvSpPr/>
          <p:nvPr/>
        </p:nvSpPr>
        <p:spPr>
          <a:xfrm flipV="1">
            <a:off x="8381880" y="2514600"/>
            <a:ext cx="152640" cy="1752480"/>
          </a:xfrm>
          <a:prstGeom prst="pi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42"/>
          <p:cNvSpPr/>
          <p:nvPr/>
        </p:nvSpPr>
        <p:spPr>
          <a:xfrm>
            <a:off x="12240" y="167652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per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43"/>
          <p:cNvSpPr/>
          <p:nvPr/>
        </p:nvSpPr>
        <p:spPr>
          <a:xfrm>
            <a:off x="2068200" y="167652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min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Box 44"/>
          <p:cNvSpPr/>
          <p:nvPr/>
        </p:nvSpPr>
        <p:spPr>
          <a:xfrm>
            <a:off x="4203000" y="167652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medi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45"/>
          <p:cNvSpPr/>
          <p:nvPr/>
        </p:nvSpPr>
        <p:spPr>
          <a:xfrm>
            <a:off x="7245360" y="16765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r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32" descr="tp.jpg"/>
          <p:cNvPicPr/>
          <p:nvPr/>
        </p:nvPicPr>
        <p:blipFill>
          <a:blip r:embed="rId1"/>
          <a:stretch/>
        </p:blipFill>
        <p:spPr>
          <a:xfrm>
            <a:off x="1371600" y="4876920"/>
            <a:ext cx="647712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d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 Utzschnei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oft Unlimited Potential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http://www.microsoft.com/unlimitedpotential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xt Free User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guide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ability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xt Free U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pan Parikh, UW, UC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rani Medhi,  Kentaro Toyama et al., MS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ER Group, Berkeley,  Participatory design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ader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on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I only one factor in developing a solution that delivers 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mediated interaction must be conside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user popu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ucation, Gender, Culture,  Class,  Occupation,  Language,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ign Observations  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xt Free is not Number F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l language text should be used (even if people can’t read 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dio is impor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01:40:59Z</dcterms:created>
  <dc:creator>Richard</dc:creator>
  <dc:description/>
  <dc:language>en-US</dc:language>
  <cp:lastModifiedBy>Fred Videon</cp:lastModifiedBy>
  <dcterms:modified xsi:type="dcterms:W3CDTF">2008-06-05T00:19:21Z</dcterms:modified>
  <cp:revision>1083</cp:revision>
  <dc:subject/>
  <dc:title>Slide 1</dc:title>
</cp:coreProperties>
</file>