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81B4-9B2F-4F8C-8D7A-1CE4A39A5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85A0-5B43-464D-B665-7F43AACAED7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30CA-4A16-46C0-BD32-780A357F3FD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523E-DB6A-47E7-815E-9118401BEA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945D-3E6B-4992-8C21-907D78A17A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82F7-69BC-4EB6-8785-3777944E27B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7F78-6328-4916-AC9E-A993D9962E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61BD-3C06-4B1D-8C4B-3D32F8F2E4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A56F-0AB7-4B2C-B9A9-A6F86830DF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9DC6-87B7-48D5-B4C1-85957A8A596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568E-1755-485E-8BCF-105D2572203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CBA5-D29B-4DBF-96CC-10FAC5F2FA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D5CF-F76B-429A-821F-DDD55DEDC1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176B-22BA-4395-9DF1-1DB601A4FB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9B22-8787-44E1-B19A-D043A8FE13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5D8B-60BA-4C8A-944C-2FDD36A700D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57F0-0ACE-4091-AD17-2A702D9A07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01AB-3005-495A-8845-083594075D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3976-E2EF-416F-8BB3-CB8A3E8DBC3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4225-F40F-4C08-BD98-4017349453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7A68-72EA-439D-B64A-8D50D7FBA2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AEF2-44CE-4AA5-98BA-CC4DD16B54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7EE2-F0A8-45CB-A151-136C24DEAC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CF40-21DF-4C95-B203-47C7927C1E8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9690-7788-445B-A48C-5B57C2FD8F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689C-655C-4BDC-893E-DF62376EEA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A565-FA80-470F-8757-83450ECC31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9FB7-5B15-4EC5-877A-F9100914A5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F331-76AD-4BA1-9C5C-DB5D25D23F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DA0A-27DF-462F-AD97-E33CA4131E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96F0-A221-4506-B6EF-2DEB77F8B1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CF1C-624E-4A9D-9C9F-E116173BEFD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8E3F-B628-45F6-A287-2D5B87618A7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64DF-BED8-4DC6-8956-E49BCB88C34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3F7A-8DAD-4983-9869-E6F7E5D245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E0DA-4CB4-4B7A-934F-74AF2CAFF6D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E326-5781-483E-9FB5-06F5D7B760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549F-B4E6-4203-9705-9EFDA8F4C0A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1A14-1063-4319-9BB3-67C440E2E28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ED3A-D2BA-4BF9-A89C-F276DC8060C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DA36-8833-484B-8183-E91EA7C43A5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2435-1D3D-4795-8492-5DA8AB8F18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6860-D615-4600-9260-B2266AB798E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6DA2-828F-471D-B33B-AB37105439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056D-8E5D-4742-9A75-7722E110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C3AD-16B1-4493-8481-57B487CA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3C3-2C46-42F9-8E3D-53AE5B37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4D8-77C2-402A-8B39-3DAA4D52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6FC-4C61-4B94-A58B-A454C049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F0A4-4604-4933-9703-3E032E30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42B8-2C05-48BB-9E2D-EEEAC745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0EB-D0BA-4E42-9243-963F935B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961C-C3B1-4905-9497-F2B96A11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C48-30EE-47BD-803E-1E11FD1A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A6BB-5EFC-441C-91C5-048F902A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2469-F211-49DE-8E5D-50D59FF3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/4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E Colloqu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0382-AA17-42F3-87A8-A2438C5E84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ing and the Developing Wor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EP 590B,  Spring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cture 8 – Computers and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49120" y="6324480"/>
            <a:ext cx="34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dney2.dyn.cs.washington.ed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minister of education, what studies would convince you that a nation wide laptop initiative was a good i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mechan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Image:Flag of Venezuela.svg"/>
          <p:cNvPicPr/>
          <p:nvPr/>
        </p:nvPicPr>
        <p:blipFill>
          <a:blip r:embed="rId1"/>
          <a:stretch/>
        </p:blipFill>
        <p:spPr>
          <a:xfrm>
            <a:off x="8229600" y="6248520"/>
            <a:ext cx="914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dadora (Baroda) Stu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verty Action Lab (M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ized studies of development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 get the placebo,  compare outc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s: Is there any evidence that anything helps education for the poo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ative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ing class si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ring teachers a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ying text b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ing flip ch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lsakhi (Teaching Assistant) Stu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ng women from the community work with weaker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with groups of 15-20  students who have not mastered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iculum simple and standard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pay (750rs per mon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low cost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guished from other remedial education by use of unskilled teachers and low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er Aided Lear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tham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s already placed in schools, but not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red team of instructors to provide children with supervised comput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hours per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children per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onal games tied to math curricul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ndomized Tr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year study across approx 180 schools in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 in Vadodara and Mumb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 and post tests for all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y interventions at half the sch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students receiving Balsakhi achieve higher scor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students receiving CAL achieve higher scor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 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80880" y="1219320"/>
          <a:ext cx="8305920" cy="5446440"/>
        </p:xfrm>
        <a:graphic>
          <a:graphicData uri="http://schemas.openxmlformats.org/drawingml/2006/table">
            <a:tbl>
              <a:tblPr/>
              <a:tblGrid>
                <a:gridCol w="2057400"/>
                <a:gridCol w="711360"/>
                <a:gridCol w="1384200"/>
                <a:gridCol w="1384200"/>
                <a:gridCol w="1384560"/>
                <a:gridCol w="13842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: Pret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ison Pret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Postt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ison Postt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sakhi: Vadoda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r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r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sakhi: Mumba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r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r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: Vadoda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r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r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sakhi had stronger effect on poorer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 also had a stronger effect on poorer students (but not as signific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sakhi $2.25 per student pe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 $15.18 per student pe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ing 5 yr depreciation on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ndomized stud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Bi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b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ation b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design and sc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domization appro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Attr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wthorne and John Hen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ltimous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to one use com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est, brightest, and/or richest kid controls the m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ide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multiple mice to be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level windows programming: RawInputA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eased as MultiPoint S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Mouse Per Chil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Down Arrow 4"/>
          <p:cNvSpPr/>
          <p:nvPr/>
        </p:nvSpPr>
        <p:spPr>
          <a:xfrm rot="8720400">
            <a:off x="7592760" y="5827320"/>
            <a:ext cx="387360" cy="830160"/>
          </a:xfrm>
          <a:prstGeom prst="downArrow">
            <a:avLst>
              <a:gd name="adj1" fmla="val 23176"/>
              <a:gd name="adj2" fmla="val 14528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Down Arrow 5"/>
          <p:cNvSpPr/>
          <p:nvPr/>
        </p:nvSpPr>
        <p:spPr>
          <a:xfrm rot="8720400">
            <a:off x="5459040" y="5370120"/>
            <a:ext cx="387360" cy="830160"/>
          </a:xfrm>
          <a:prstGeom prst="downArrow">
            <a:avLst>
              <a:gd name="adj1" fmla="val 23176"/>
              <a:gd name="adj2" fmla="val 14528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Down Arrow 6"/>
          <p:cNvSpPr/>
          <p:nvPr/>
        </p:nvSpPr>
        <p:spPr>
          <a:xfrm rot="8720400">
            <a:off x="6678360" y="5675040"/>
            <a:ext cx="387360" cy="830160"/>
          </a:xfrm>
          <a:prstGeom prst="downArrow">
            <a:avLst>
              <a:gd name="adj1" fmla="val 23176"/>
              <a:gd name="adj2" fmla="val 145286"/>
            </a:avLst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Down Arrow 7"/>
          <p:cNvSpPr/>
          <p:nvPr/>
        </p:nvSpPr>
        <p:spPr>
          <a:xfrm rot="8720400">
            <a:off x="7440120" y="4836240"/>
            <a:ext cx="387360" cy="830520"/>
          </a:xfrm>
          <a:prstGeom prst="downArrow">
            <a:avLst>
              <a:gd name="adj1" fmla="val 23176"/>
              <a:gd name="adj2" fmla="val 145349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ghlights from Lecture 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aw Amok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M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Edelst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llage Phone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yojeet P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s in Sch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ncerns could be raised about MultiMou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228600" y="60958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ive concerns directed at the multimouse concept, not about classroom computing in gene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Image:Flag of French Guiana.svg"/>
          <p:cNvPicPr/>
          <p:nvPr/>
        </p:nvPicPr>
        <p:blipFill>
          <a:blip r:embed="rId2"/>
          <a:stretch/>
        </p:blipFill>
        <p:spPr>
          <a:xfrm>
            <a:off x="8229600" y="6248520"/>
            <a:ext cx="914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ltiMouse Activity patter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ve cli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the CA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pendent worksp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jigsaw puzz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vo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ltimouse Observ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ds rapidly pick up UI and game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aging.  Kids particip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playing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 specific sharing / cooperation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kids without mice are enga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chi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sion of Multimouse for distance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nts use mice to communicate with a public screen during a PPT les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ture given by a remote instru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C:\Documents and Settings\anderson\My Documents\My Pictures\csep590b\mischief.JPG"/>
          <p:cNvPicPr/>
          <p:nvPr/>
        </p:nvPicPr>
        <p:blipFill>
          <a:blip r:embed="rId1"/>
          <a:stretch/>
        </p:blipFill>
        <p:spPr>
          <a:xfrm>
            <a:off x="457200" y="4495680"/>
            <a:ext cx="41241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x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ma Moraveji, MSR Asia, 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nese rural sch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age of qualified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level of technology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PT,  Internet,  Data Projector, Student input de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prac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 attention, public reinforcement,  hand raising,  unison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cur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 Ra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s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 /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ch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Content Placeholder 5" descr="m1.JPG"/>
          <p:cNvPicPr/>
          <p:nvPr/>
        </p:nvPicPr>
        <p:blipFill>
          <a:blip r:embed="rId1"/>
          <a:stretch/>
        </p:blipFill>
        <p:spPr>
          <a:xfrm>
            <a:off x="5181480" y="1600200"/>
            <a:ext cx="2595600" cy="1954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m2.JPG"/>
          <p:cNvPicPr/>
          <p:nvPr/>
        </p:nvPicPr>
        <p:blipFill>
          <a:blip r:embed="rId2"/>
          <a:stretch/>
        </p:blipFill>
        <p:spPr>
          <a:xfrm>
            <a:off x="5181480" y="4038480"/>
            <a:ext cx="26672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Scrib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RI,  Menlo Park,  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use personal devices to annotate “stickies”, which are then placed on a public dis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s elementary school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 directed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" descr="http://groupscribbles.sri.com/screenshots/Fractions1.png"/>
          <p:cNvPicPr/>
          <p:nvPr/>
        </p:nvPicPr>
        <p:blipFill>
          <a:blip r:embed="rId1"/>
          <a:stretch/>
        </p:blipFill>
        <p:spPr>
          <a:xfrm>
            <a:off x="6629400" y="2057400"/>
            <a:ext cx="23814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gital StudyH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technology help education in very poor sch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ital expenditure $500-$1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 teac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tored Video Instr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ideo recorded lectures shown with facilitat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iginal model: lectures stopped by students for discu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er tu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veloped by Jim Gibbons at Stanford University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ositive results reported in Science [1977]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6" descr="p1"/>
          <p:cNvPicPr/>
          <p:nvPr/>
        </p:nvPicPr>
        <p:blipFill>
          <a:blip r:embed="rId1"/>
          <a:stretch/>
        </p:blipFill>
        <p:spPr>
          <a:xfrm>
            <a:off x="1523880" y="4572000"/>
            <a:ext cx="2590920" cy="2011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p2"/>
          <p:cNvPicPr/>
          <p:nvPr/>
        </p:nvPicPr>
        <p:blipFill>
          <a:blip r:embed="rId2"/>
          <a:stretch/>
        </p:blipFill>
        <p:spPr>
          <a:xfrm>
            <a:off x="5334120" y="4648320"/>
            <a:ext cx="2560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464832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gital StudyH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773360"/>
            <a:ext cx="403848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y Wang, Microsoft Research In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ed Video Instruction for primary education in rural In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sites in Lucknow, In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Tube + Netflix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6" descr="01_madan_school_IMG_3844"/>
          <p:cNvPicPr/>
          <p:nvPr/>
        </p:nvPicPr>
        <p:blipFill>
          <a:blip r:embed="rId1"/>
          <a:stretch/>
        </p:blipFill>
        <p:spPr>
          <a:xfrm>
            <a:off x="5659560" y="0"/>
            <a:ext cx="3484440" cy="1676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madantoosi_model_class"/>
          <p:cNvPicPr/>
          <p:nvPr/>
        </p:nvPicPr>
        <p:blipFill>
          <a:blip r:embed="rId2"/>
          <a:stretch/>
        </p:blipFill>
        <p:spPr>
          <a:xfrm>
            <a:off x="5602320" y="4495680"/>
            <a:ext cx="3541680" cy="2362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luster_recording2"/>
          <p:cNvPicPr/>
          <p:nvPr/>
        </p:nvPicPr>
        <p:blipFill>
          <a:blip r:embed="rId3"/>
          <a:stretch/>
        </p:blipFill>
        <p:spPr>
          <a:xfrm>
            <a:off x="5761080" y="2286000"/>
            <a:ext cx="3382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as the most interesting idea from Lecture 7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Image:Flag of Singapore.svg"/>
          <p:cNvPicPr/>
          <p:nvPr/>
        </p:nvPicPr>
        <p:blipFill>
          <a:blip r:embed="rId2"/>
          <a:stretch/>
        </p:blipFill>
        <p:spPr>
          <a:xfrm>
            <a:off x="8229600" y="624852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249120" y="6324480"/>
            <a:ext cx="34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dney2.dyn.cs.washington.ed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ey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tion based pedag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b and spok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 distribution by DV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IMG_6713"/>
          <p:cNvPicPr/>
          <p:nvPr/>
        </p:nvPicPr>
        <p:blipFill>
          <a:blip r:embed="rId1"/>
          <a:stretch/>
        </p:blipFill>
        <p:spPr>
          <a:xfrm>
            <a:off x="0" y="4405320"/>
            <a:ext cx="3962520" cy="2452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69_IMG_3202_ramkes"/>
          <p:cNvPicPr/>
          <p:nvPr/>
        </p:nvPicPr>
        <p:blipFill>
          <a:blip r:embed="rId2"/>
          <a:stretch/>
        </p:blipFill>
        <p:spPr>
          <a:xfrm>
            <a:off x="5388120" y="4343400"/>
            <a:ext cx="3755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gital StudyHall Less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tent generation proble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have good teachers, with good pedag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ing to students matching the target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echnology solutions scaled bac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Automatic DVD based networking not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VD players instead of computers in the class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ideo processing and distribution technologies importa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ining, teacher support, oversight is critica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itial Technology 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Content Placeholder 3" descr="pmtet.jpg"/>
          <p:cNvPicPr/>
          <p:nvPr/>
        </p:nvPicPr>
        <p:blipFill>
          <a:blip r:embed="rId1"/>
          <a:stretch/>
        </p:blipFill>
        <p:spPr>
          <a:xfrm>
            <a:off x="1271520" y="2363760"/>
            <a:ext cx="66009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UW TVI Pro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o programming [1998-2001]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W Intro programming lectures recorded and offered at regional community colleg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C instructors served as facilita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gorithms [2006]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W Algorithms course offered at Beihang University, Beij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aching assistants as facilita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nguage and cultural issues successfully address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ers in Eritrean high scho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it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Million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poor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ked 157 / 177 in H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P per capita $281  (171 / 17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 resources, subject to dro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war of in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nt war with Ethiop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resolved border disp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Map of Eritrea"/>
          <p:cNvPicPr/>
          <p:nvPr/>
        </p:nvPicPr>
        <p:blipFill>
          <a:blip r:embed="rId1"/>
          <a:stretch/>
        </p:blipFill>
        <p:spPr>
          <a:xfrm>
            <a:off x="7275600" y="4848120"/>
            <a:ext cx="186840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t up a computer lab in every high school in the coun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ycled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s used for basic computer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use a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use basic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training program for high school teac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er Usage Mode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ngle ownership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ngle user per terminal/comput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ultiple users per comput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sts [India]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sktop PC,  US $5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intenance,  US $40 / ye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acher,  US $500 / ye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ptop,  US $2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ents Attitudes [India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hould computers be at home, or at school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ents felt overwhelmingly that computers belonged at scho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not learn at ho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teachers can tea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ildren learn better when they collabo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n’t want the responsibi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ck of power at ho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ents conservative with technology (e.g., kids aren’t allowed to touch the TV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uld it cost to make computers available to all children in Ind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enario 1:  One-on-one computing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enario 2:  Single access computer l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enario 3:  Multiple access computer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3" hidden="1"/>
          <p:cNvSpPr/>
          <p:nvPr/>
        </p:nvSpPr>
        <p:spPr>
          <a:xfrm>
            <a:off x="3966480" y="1295280"/>
            <a:ext cx="1401480" cy="3070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150 Million ki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4" hidden="1"/>
          <p:cNvSpPr/>
          <p:nvPr/>
        </p:nvSpPr>
        <p:spPr>
          <a:xfrm>
            <a:off x="2160" y="1676520"/>
            <a:ext cx="429120" cy="3070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1: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5" hidden="1"/>
          <p:cNvSpPr/>
          <p:nvPr/>
        </p:nvSpPr>
        <p:spPr>
          <a:xfrm>
            <a:off x="1800" y="2209680"/>
            <a:ext cx="528120" cy="3070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1: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6" hidden="1"/>
          <p:cNvSpPr/>
          <p:nvPr/>
        </p:nvSpPr>
        <p:spPr>
          <a:xfrm>
            <a:off x="1800" y="2743200"/>
            <a:ext cx="528120" cy="3070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1:4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7" hidden="1"/>
          <p:cNvSpPr/>
          <p:nvPr/>
        </p:nvSpPr>
        <p:spPr>
          <a:xfrm>
            <a:off x="5796720" y="0"/>
            <a:ext cx="3219480" cy="3070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ducation budget, $23B,  Primary $7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8" hidden="1"/>
          <p:cNvSpPr/>
          <p:nvPr/>
        </p:nvSpPr>
        <p:spPr>
          <a:xfrm>
            <a:off x="0" y="5904000"/>
            <a:ext cx="3124080" cy="94644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Desktop PC,  US $5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Maintenance,  US $40 / ye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Teacher,  US $500 / ye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Laptop,  US $2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9" hidden="1"/>
          <p:cNvSpPr/>
          <p:nvPr/>
        </p:nvSpPr>
        <p:spPr>
          <a:xfrm>
            <a:off x="3600" y="0"/>
            <a:ext cx="2492640" cy="3070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5 year hardware amortiz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Image:Flag of Guatemala.svg"/>
          <p:cNvPicPr/>
          <p:nvPr/>
        </p:nvPicPr>
        <p:blipFill>
          <a:blip r:embed="rId1"/>
          <a:stretch/>
        </p:blipFill>
        <p:spPr>
          <a:xfrm>
            <a:off x="8229600" y="6286680"/>
            <a:ext cx="9144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LP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onist teaching philoso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n one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ive deployments through MO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ly, minimum purchase 1M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rget: 150M units by Dec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source ide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antial press at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for k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g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 w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olpc-mit-laptop.jpg"/>
          <p:cNvPicPr/>
          <p:nvPr/>
        </p:nvPicPr>
        <p:blipFill>
          <a:blip r:embed="rId1"/>
          <a:stretch/>
        </p:blipFill>
        <p:spPr>
          <a:xfrm>
            <a:off x="7416720" y="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olpc.png"/>
          <p:cNvPicPr/>
          <p:nvPr/>
        </p:nvPicPr>
        <p:blipFill>
          <a:blip r:embed="rId2"/>
          <a:stretch/>
        </p:blipFill>
        <p:spPr>
          <a:xfrm>
            <a:off x="0" y="0"/>
            <a:ext cx="1523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M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l Record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r 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ers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ing Eco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ing Education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ndane topics – but very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wcost dev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US E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l Celeron (900 MH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2M SD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x480 Color LC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2.11 b/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P/Lin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mate 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l Mobile ULV 900 M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2M SO-DI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x480 Color LC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GB Fla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 GB HD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2.11 b/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P/Lin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6" descr="Smaller, kid friendly form factor"/>
          <p:cNvPicPr/>
          <p:nvPr/>
        </p:nvPicPr>
        <p:blipFill>
          <a:blip r:embed="rId1"/>
          <a:stretch/>
        </p:blipFill>
        <p:spPr>
          <a:xfrm>
            <a:off x="8001000" y="5667480"/>
            <a:ext cx="1143000" cy="1190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http://upload.wikimedia.org/wikipedia/commons/thumb/e/e5/ASUS_Eee_White_Alt.jpg/230px-ASUS_Eee_White_Alt.jpg"/>
          <p:cNvPicPr/>
          <p:nvPr/>
        </p:nvPicPr>
        <p:blipFill>
          <a:blip r:embed="rId2"/>
          <a:stretch/>
        </p:blipFill>
        <p:spPr>
          <a:xfrm>
            <a:off x="0" y="5699160"/>
            <a:ext cx="13525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ier Initia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u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ow cost, portable computer aimed at developing wor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Rugged,  Linux based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ed by IISc Facul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. Manohar, Vijay Chandru, V. Vina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ttempted to make a more commercial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ador Pop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pped down PC for kiosk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aimed at getting state subsi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LPC Stat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 16, 2005.  Negroponte and Kofi Annan show proto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23, 2006.  Working proto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 12, 2007.  Buy one, give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n  2008.   Separation from Int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2008.   XP annou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2008.   XO 2.0 announ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6" descr="X0_Screen_1"/>
          <p:cNvPicPr/>
          <p:nvPr/>
        </p:nvPicPr>
        <p:blipFill>
          <a:blip r:embed="rId1"/>
          <a:stretch/>
        </p:blipFill>
        <p:spPr>
          <a:xfrm>
            <a:off x="7396200" y="0"/>
            <a:ext cx="1747800" cy="99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http://www.infosyncworld.net/resources/products/olpc/olpc_xo_2.0_p00.jpg"/>
          <p:cNvPicPr/>
          <p:nvPr/>
        </p:nvPicPr>
        <p:blipFill>
          <a:blip r:embed="rId2"/>
          <a:stretch/>
        </p:blipFill>
        <p:spPr>
          <a:xfrm>
            <a:off x="7383600" y="5867280"/>
            <a:ext cx="1760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LPC Crit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evidence that constructionism and/or one on one computer deployments help education any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is establishing a model that is in conflict with local sch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 deployments through governments will gut education bud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will have difficulty against commercial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stics of large scale deployments will be diffic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model non-exis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assumes children will be allowed to control the comput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ssive h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LEE: Mobile and Immersive Learning for Literacy in Emerging Econo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English (or French or Spanish or Mandarin or . . .)  creates the greatest opportunities for economic adva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guage is one of weakest subjects in rural sch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games on mobile devices be used for language lear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gn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erative design with k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ypes of games are appropri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ability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erative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cused use of cell phone gam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ord learning, and pronunci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ndard approa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ceptive, Practice, Activ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ames provide motivation and engage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me issues of students wanting to get to the game playing phase (and skip the learning phas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ewed as a supplement to an English cla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peech recognition is future 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d I miss anyth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other applications are there of technology to education in the developing wor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2" descr="Image:Flag of the Seychelles.svg"/>
          <p:cNvPicPr/>
          <p:nvPr/>
        </p:nvPicPr>
        <p:blipFill>
          <a:blip r:embed="rId1"/>
          <a:stretch/>
        </p:blipFill>
        <p:spPr>
          <a:xfrm>
            <a:off x="8229600" y="6400800"/>
            <a:ext cx="9144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cture 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overty Action Lab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ffc000"/>
                </a:solidFill>
                <a:uFillTx/>
                <a:latin typeface="Arial"/>
              </a:rPr>
              <a:t>http://www.povertyactionlab.com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igital StudyHal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ffc000"/>
                </a:solidFill>
                <a:uFillTx/>
                <a:latin typeface="Arial"/>
              </a:rPr>
              <a:t>http://dsh.cs.washington.ed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roup Scribbl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ffc000"/>
                </a:solidFill>
                <a:uFillTx/>
                <a:latin typeface="Arial"/>
              </a:rPr>
              <a:t>http://groupscribbles.sri.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OLPC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ffc000"/>
                </a:solidFill>
                <a:uFillTx/>
                <a:latin typeface="Arial"/>
              </a:rPr>
              <a:t>http://laptop.or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ratham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ffc000"/>
                </a:solidFill>
                <a:uFillTx/>
                <a:latin typeface="Arial"/>
              </a:rPr>
              <a:t>http://www.pratham.or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icrosoft Research India Emerging Markets Group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ffc000"/>
                </a:solidFill>
                <a:uFillTx/>
                <a:latin typeface="Arial"/>
              </a:rPr>
              <a:t>http://research.microsoft.com/research/tem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llage Phone Opera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phone operators – sell airtime as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 business opportunity in selling servic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e based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ers in Edu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ral In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wful schools [More later . . .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antial donations of computers to sch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 and N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s don’t want their kids to be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view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arents view “learning computers” as important for creating opportunit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s to greater atten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arents have essentially no understanding of what computers a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 of computers diminishes with expo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ositive aspects of government run progra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y interpret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evidence of students learning from comp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ve view by students and par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lty fa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ral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s in the classr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dadora (Baroda)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m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chi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tal StudyH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room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guage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ral Edu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teacher absentee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a wide survey [2005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4% of children 7-12 cannot read a basic paragrap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% cannot do simple subtr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od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% of students enrolled in grade three could answer grade one math competen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C:\Users\Richard\Pictures\dsh\Picture1.jpg"/>
          <p:cNvPicPr/>
          <p:nvPr/>
        </p:nvPicPr>
        <p:blipFill>
          <a:blip r:embed="rId1"/>
          <a:stretch/>
        </p:blipFill>
        <p:spPr>
          <a:xfrm>
            <a:off x="4800600" y="4191120"/>
            <a:ext cx="4038480" cy="1952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dsh.cs.washington.edu:8000/distance/snaps/80_villages/03_31_IMG_2526_chinai1.JPG"/>
          <p:cNvPicPr/>
          <p:nvPr/>
        </p:nvPicPr>
        <p:blipFill>
          <a:blip r:embed="rId2"/>
          <a:stretch/>
        </p:blipFill>
        <p:spPr>
          <a:xfrm>
            <a:off x="5029200" y="1523880"/>
            <a:ext cx="358128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1:40:59Z</dcterms:created>
  <dc:creator>Richard</dc:creator>
  <dc:description/>
  <dc:language>en-US</dc:language>
  <cp:lastModifiedBy>anderson</cp:lastModifiedBy>
  <dcterms:modified xsi:type="dcterms:W3CDTF">2008-05-22T00:22:01Z</dcterms:modified>
  <cp:revision>915</cp:revision>
  <dc:subject/>
  <dc:title>Slide 1</dc:title>
</cp:coreProperties>
</file>