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037C5-03D4-45F8-B6D3-7D8BAD99F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E7F3F-C9BA-4EE2-ADE2-D36A2E31B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86F64-336E-4B61-AF1D-7903A65A8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E2B13-1491-464D-96D5-C7AE427F3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63468-5E22-4783-8BE7-DEDBE259A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590-00F0-4B71-856E-9EF24FA8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327-E3D2-4312-8765-BF695EF7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DC4-96BE-49A9-BD49-8D4F7B24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520-5FF7-49E9-9606-96F54EF2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205-2E06-4087-9365-22127322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532-864A-431A-9BC9-B5C3418C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720-6344-40B3-9D36-94C3C4B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DA0-D5E7-40BB-872F-86AA53E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AA6-8CC8-4B56-96F2-E5FA43C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003-5628-4A77-B389-10B3094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E25-E905-4092-B1BD-377956C4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EED-D417-43A1-A7B5-39E9EBD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44C95-37B4-4766-9939-9F4E6D993E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BB880-CCE5-49AC-B164-C95F13A28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loying OpenMRS in Rwand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Yaw Anok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http://cs.washington.edu/homes/yanok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0164_rwink_panorama.jpg"/>
          <p:cNvPicPr/>
          <p:nvPr/>
        </p:nvPicPr>
        <p:blipFill>
          <a:blip r:embed="rId1"/>
          <a:srcRect l="11726" t="0" r="0" b="9001"/>
          <a:stretch/>
        </p:blipFill>
        <p:spPr>
          <a:xfrm>
            <a:off x="0" y="4495680"/>
            <a:ext cx="9144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tient Registra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5" descr="Picture 2.png"/>
          <p:cNvPicPr/>
          <p:nvPr/>
        </p:nvPicPr>
        <p:blipFill>
          <a:blip r:embed="rId1"/>
          <a:stretch/>
        </p:blipFill>
        <p:spPr>
          <a:xfrm>
            <a:off x="681120" y="1600200"/>
            <a:ext cx="77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tient Summar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atient_summary.png"/>
          <p:cNvPicPr/>
          <p:nvPr/>
        </p:nvPicPr>
        <p:blipFill>
          <a:blip r:embed="rId1"/>
          <a:stretch/>
        </p:blipFill>
        <p:spPr>
          <a:xfrm>
            <a:off x="2133720" y="1417680"/>
            <a:ext cx="51814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can I help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user interface and inter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report/form design and gen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decision support t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data synchronization t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programmability and docu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train local developers in Afr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modules for community healthcare workers, food supplementation, pharmacy, and  clinici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levant Link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– http://change.cs.washington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MRS – http://openmr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ners in Health – http://pih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ROSA – http://openros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HER – http://gatherdat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aling up a healthcare syste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7143840" y="1600200"/>
            <a:ext cx="1805040" cy="2270160"/>
            <a:chOff x="7143840" y="1600200"/>
            <a:chExt cx="1805040" cy="2270160"/>
          </a:xfrm>
        </p:grpSpPr>
        <p:pic>
          <p:nvPicPr>
            <p:cNvPr id="53" name="Picture 5" descr=""/>
            <p:cNvPicPr/>
            <p:nvPr/>
          </p:nvPicPr>
          <p:blipFill>
            <a:blip r:embed="rId1"/>
            <a:srcRect l="35769" t="0" r="12986" b="0"/>
            <a:stretch/>
          </p:blipFill>
          <p:spPr>
            <a:xfrm>
              <a:off x="7236360" y="1686240"/>
              <a:ext cx="1626480" cy="21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"/>
            <p:cNvPicPr/>
            <p:nvPr/>
          </p:nvPicPr>
          <p:blipFill>
            <a:blip r:embed="rId2"/>
            <a:stretch/>
          </p:blipFill>
          <p:spPr>
            <a:xfrm>
              <a:off x="7143840" y="1600200"/>
              <a:ext cx="1805040" cy="227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9"/>
          <p:cNvGrpSpPr/>
          <p:nvPr/>
        </p:nvGrpSpPr>
        <p:grpSpPr>
          <a:xfrm>
            <a:off x="6854760" y="3995640"/>
            <a:ext cx="1832040" cy="2602080"/>
            <a:chOff x="6854760" y="3995640"/>
            <a:chExt cx="1832040" cy="2602080"/>
          </a:xfrm>
        </p:grpSpPr>
        <p:pic>
          <p:nvPicPr>
            <p:cNvPr id="56" name="Picture 10" descr=""/>
            <p:cNvPicPr/>
            <p:nvPr/>
          </p:nvPicPr>
          <p:blipFill>
            <a:blip r:embed="rId3"/>
            <a:srcRect l="15012" t="0" r="13245" b="0"/>
            <a:stretch/>
          </p:blipFill>
          <p:spPr>
            <a:xfrm>
              <a:off x="6948360" y="4081680"/>
              <a:ext cx="1644480" cy="24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1" descr=""/>
            <p:cNvPicPr/>
            <p:nvPr/>
          </p:nvPicPr>
          <p:blipFill>
            <a:blip r:embed="rId4"/>
            <a:stretch/>
          </p:blipFill>
          <p:spPr>
            <a:xfrm>
              <a:off x="6854760" y="3995640"/>
              <a:ext cx="1832040" cy="260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 txBox="1"/>
          <p:nvPr/>
        </p:nvSpPr>
        <p:spPr>
          <a:xfrm>
            <a:off x="45720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gan in 2005 as first Partners in Health project in Africa. Partners: Clinton and Gates Foundations and T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le up PIH model of health nationwide with services including HIV/TB, family planning, malnutrition, community health workers, housing, employment, school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arted in Rwinkwavu and in two years has grown into two hospitals and four health clinics. Training center and third hospital are being buil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echnology is playing an important role in the scale up and OpenMRS is the veh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OpenMRS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MRS is an application which enables design of a scalable and customized medical records system with no programming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work on which medical informatics effort in developing countries can be bui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405160" y="4684680"/>
            <a:ext cx="6618240" cy="1920960"/>
            <a:chOff x="2405160" y="4684680"/>
            <a:chExt cx="6618240" cy="1920960"/>
          </a:xfrm>
        </p:grpSpPr>
        <p:pic>
          <p:nvPicPr>
            <p:cNvPr id="62" name="Picture 5" descr=""/>
            <p:cNvPicPr/>
            <p:nvPr/>
          </p:nvPicPr>
          <p:blipFill>
            <a:blip r:embed="rId1"/>
            <a:srcRect l="873" t="34325" r="873" b="18144"/>
            <a:stretch/>
          </p:blipFill>
          <p:spPr>
            <a:xfrm>
              <a:off x="2494440" y="4782600"/>
              <a:ext cx="6426000" cy="17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"/>
            <p:cNvPicPr/>
            <p:nvPr/>
          </p:nvPicPr>
          <p:blipFill>
            <a:blip r:embed="rId2"/>
            <a:stretch/>
          </p:blipFill>
          <p:spPr>
            <a:xfrm>
              <a:off x="2405160" y="4684680"/>
              <a:ext cx="66182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3"/>
          <p:cNvSpPr/>
          <p:nvPr/>
        </p:nvSpPr>
        <p:spPr>
          <a:xfrm>
            <a:off x="389520" y="623196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http://openmr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3"/>
          <a:stretch/>
        </p:blipFill>
        <p:spPr>
          <a:xfrm>
            <a:off x="378000" y="4933800"/>
            <a:ext cx="19476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are the key players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ers: PIH, Regenstrief, and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rs: WHO, CDC, Rockefeller, PEPFAR, IRDC, NIH, Google, SA-MRC, MV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loyments: Kenya, Rwanda, Lesotho, South Africa, Zimbabwe, Mozambique, Uganda, Malawi, Tanzania, Haiti, P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pih_notype-2"/>
          <p:cNvPicPr/>
          <p:nvPr/>
        </p:nvPicPr>
        <p:blipFill>
          <a:blip r:embed="rId1"/>
          <a:stretch/>
        </p:blipFill>
        <p:spPr>
          <a:xfrm>
            <a:off x="1238400" y="5300640"/>
            <a:ext cx="590400" cy="82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ood"/>
          <p:cNvPicPr/>
          <p:nvPr/>
        </p:nvPicPr>
        <p:blipFill>
          <a:blip r:embed="rId2"/>
          <a:stretch/>
        </p:blipFill>
        <p:spPr>
          <a:xfrm>
            <a:off x="1981080" y="524520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rc_logo"/>
          <p:cNvPicPr/>
          <p:nvPr/>
        </p:nvPicPr>
        <p:blipFill>
          <a:blip r:embed="rId3"/>
          <a:stretch/>
        </p:blipFill>
        <p:spPr>
          <a:xfrm>
            <a:off x="3124080" y="5343480"/>
            <a:ext cx="648000" cy="75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4038480" y="5321160"/>
            <a:ext cx="787680" cy="77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5"/>
          <a:stretch/>
        </p:blipFill>
        <p:spPr>
          <a:xfrm>
            <a:off x="5105520" y="5486400"/>
            <a:ext cx="685800" cy="43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6"/>
          <a:stretch/>
        </p:blipFill>
        <p:spPr>
          <a:xfrm>
            <a:off x="6019920" y="5295960"/>
            <a:ext cx="663480" cy="799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"/>
          <p:cNvPicPr/>
          <p:nvPr/>
        </p:nvPicPr>
        <p:blipFill>
          <a:blip r:embed="rId7"/>
          <a:stretch/>
        </p:blipFill>
        <p:spPr>
          <a:xfrm>
            <a:off x="6858000" y="530064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is it put together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MRS is built in Java. The core application works through a web brow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cat is used as the application server. The database is currently in MySQL. Hibernate is used as an interface layer to the database. Also use Spring, Dojo, DWR, BIRT, etc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ystem creates XML schemas for form design. Form design data entry is currently done in Microsoft Infopa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ept Dictionar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Picture 1.png"/>
          <p:cNvPicPr/>
          <p:nvPr/>
        </p:nvPicPr>
        <p:blipFill>
          <a:blip r:embed="rId1"/>
          <a:stretch/>
        </p:blipFill>
        <p:spPr>
          <a:xfrm>
            <a:off x="1814400" y="1600200"/>
            <a:ext cx="551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 Drive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Picture 1.png"/>
          <p:cNvPicPr/>
          <p:nvPr/>
        </p:nvPicPr>
        <p:blipFill>
          <a:blip r:embed="rId1"/>
          <a:stretch/>
        </p:blipFill>
        <p:spPr>
          <a:xfrm>
            <a:off x="1530360" y="1600200"/>
            <a:ext cx="608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hort Build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Picture 6.png"/>
          <p:cNvPicPr/>
          <p:nvPr/>
        </p:nvPicPr>
        <p:blipFill>
          <a:blip r:embed="rId1"/>
          <a:stretch/>
        </p:blipFill>
        <p:spPr>
          <a:xfrm>
            <a:off x="457200" y="4495680"/>
            <a:ext cx="8229600" cy="376740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6" descr="Picture 3.png"/>
          <p:cNvPicPr/>
          <p:nvPr/>
        </p:nvPicPr>
        <p:blipFill>
          <a:blip r:embed="rId2"/>
          <a:stretch/>
        </p:blipFill>
        <p:spPr>
          <a:xfrm>
            <a:off x="457200" y="1504800"/>
            <a:ext cx="8229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ular Desig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Picture 2.png"/>
          <p:cNvPicPr/>
          <p:nvPr/>
        </p:nvPicPr>
        <p:blipFill>
          <a:blip r:embed="rId1"/>
          <a:stretch/>
        </p:blipFill>
        <p:spPr>
          <a:xfrm>
            <a:off x="728640" y="1600200"/>
            <a:ext cx="76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2:18:48Z</dcterms:created>
  <dc:creator>Yaw Anokwa</dc:creator>
  <dc:description/>
  <dc:language>en-US</dc:language>
  <cp:lastModifiedBy>Yaw Anokwa</cp:lastModifiedBy>
  <dcterms:modified xsi:type="dcterms:W3CDTF">2008-05-13T01:04:08Z</dcterms:modified>
  <cp:revision>24</cp:revision>
  <dc:subject/>
  <dc:title>Deploying OpenMRS in Rwanda</dc:title>
</cp:coreProperties>
</file>