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8F0-2D22-4FF9-82F0-20A9CE790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513E-2A70-46FF-A328-6618D00D95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0E70-E448-484B-A067-1D07D24975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6C65-792C-48C3-8A50-E399F50FBD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8EF2-2616-4CC4-8A36-9CF14AD47C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E5E9-B3EC-477A-A026-768B6F0417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0CE3-EAA2-4A30-9FF4-E5D9F0227F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BBD7-4E4D-47FB-8838-D029717F93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631-5BAE-46A4-A3C1-BB8D083AB6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116-3E64-4659-B7EF-169DB65CC8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29D-BB93-439C-908C-48E633C24E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57FC-8D38-4D3C-9FC6-543DBEA780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539-8450-492C-8A9C-64EF82EFBC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5F72-384C-4ED5-B58D-7F34316D2A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618C-B11E-4F21-8120-898A64F70C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5FE-EC12-4565-BA18-1873717F89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2AF-0EFB-45BB-B2CB-A8C2D4B4F2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133C-1851-48F1-86AE-0F3FF285BB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8FC7-60BF-4B35-8916-22E4AF4167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AD13-F87C-4A79-A418-8D912542B6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AA7-A818-4412-90AE-7E30EF9A0A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098C-A3DA-4421-B5FC-CF8E677F8A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E4E-2B58-428B-A2CD-25590410DE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C9FF-5A2F-481F-AB22-8E8793F5FC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A56D-C8B1-4283-A833-545A89A1A3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B366-B9E4-442F-B7C4-C68946D579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0FB-938D-4F14-B35C-F5C345CF63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3911-1F24-42C1-BEA2-169A674601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8D8-3381-442E-A635-6ACA4FD62D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75B-DE9B-45D2-BA2F-04C98E8FD3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14E6-7792-4406-B322-FCB3AC91F1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F05-1B14-425F-AB19-B6CFC7F2AD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217-E559-41A7-8198-D2F83DA18C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596F-ED45-47DF-8E5E-86459EB48A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0C1-5F92-410A-BAB0-8052BAF2ED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A47-43A1-4C97-8EB3-BBA5EBAF95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184-0D60-43E4-9D4A-84BD99CA9B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ED35-B68B-4570-AC6D-F0BA02022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41F-80D7-467D-B2E1-D7B6392A2F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04F-4B22-4A66-A573-412114F226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0B2-1116-4289-B621-B2AD9F0A94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F3A-CE54-481D-B20B-35B73472AF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EBEE-2C35-45AB-B827-0F403302F0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0EB-F652-48C6-BEB0-AEEC7DB325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3F9-FB1B-45F6-B553-A7FB933186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99EB-2385-48B3-BE67-9F2790711F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3B8-EE9C-42CC-BCA4-E632D6630A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EB20-60F7-4004-A657-57123B6E8D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472-AE87-40E7-8DB7-EFFC440304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B48C-C841-4E01-85D5-2A01F1285C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AD8-28FA-43F9-B67F-498930A81A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3315-F5B2-46C5-A281-39AF27B04A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B8F1-DC47-4B1B-9FA7-D865C9F36A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A7B-1CAB-4158-A603-6196CF431D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DC7-04A2-4F9E-A3A6-FE919EE4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4AF-999F-4C32-B97D-DE08298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5BF-4664-49C4-A7E2-8C0090D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7C3-37E0-4C40-BDE3-54E8D7BE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546-ABAE-4F62-90A4-10EEC0A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A72-C60D-4204-B0B1-9B61B10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28A-58E7-4D17-BC6D-69D6A49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F59-8993-4D78-B79A-1DAB5126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182-E8F0-44F7-B1A8-C6BCDCB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9B0-A989-4E08-A8D9-D91494C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874-3BC0-498C-9AE6-3CF0B81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38B-36DA-4740-A349-314211A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032A-4E00-47F6-BF96-C2B87A2E2A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8/Flag_of_Liberia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commons/c/cf/Flag_of_Canada.sv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upload.wikimedia.org/wikipedia/commons/9/91/Flag_of_Bhutan.sv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upload.wikimedia.org/wikipedia/commons/f/f9/Flag_of_Bangladesh.svg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upload.wikimedia.org/wikipedia/commons/9/9a/Flag_of_Afghanistan.svg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upload.wikimedia.org/wikipedia/commons/f/fe/Flag_of_Egypt.svg" TargetMode="External"/><Relationship Id="rId12" Type="http://schemas.openxmlformats.org/officeDocument/2006/relationships/image" Target="../media/image6.png"/><Relationship Id="rId13" Type="http://schemas.openxmlformats.org/officeDocument/2006/relationships/hyperlink" Target="http://upload.wikimedia.org/wikipedia/commons/0/05/Flag_of_Brazil.svg" TargetMode="External"/><Relationship Id="rId14" Type="http://schemas.openxmlformats.org/officeDocument/2006/relationships/image" Target="../media/image7.png"/><Relationship Id="rId15" Type="http://schemas.openxmlformats.org/officeDocument/2006/relationships/hyperlink" Target="http://upload.wikimedia.org/wikipedia/commons/2/21/Flag_of_Vietnam.svg" TargetMode="External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5 – ICT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nder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ideas for SMS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s and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for solving rural poverty is greater agricultural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markets are necessary for increasing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 Price 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ricultural wholesale markets can have large price swings during the 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nsportation costs and perishability limit producer o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vance notice of price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which market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whether to bring goods to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sion whether to harv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ere any evidence that this information actually is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Jen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wholesale prices of fish markets in Ker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vered the time period when cellular coverage was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4" descr="Kerala.JPG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n resu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id prices stabiliz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Image:Flag of Hong Kong.svg"/>
          <p:cNvPicPr/>
          <p:nvPr/>
        </p:nvPicPr>
        <p:blipFill>
          <a:blip r:embed="rId2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Agricultural Output Mar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ificant portion of the worlds poor are in agriculture, fisheries, forest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ctioning of Markets important for well being of the po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e dispersed consumers and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 coordinates allocation of go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damental theorem of welfare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w of one pric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and Market Func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gler,  Economics of Inform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ly search for information leads to price disp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if infrastructure is poor and markets are disper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out information, no reason to assume markets are effici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s, Producers, Intermediaries don’t adjust to scar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ice dispersion reflects inefficiency.  Improved information might improve efficiency and help the po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tion for Fisher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4"/>
          <p:cNvSpPr/>
          <p:nvPr/>
        </p:nvSpPr>
        <p:spPr>
          <a:xfrm flipH="1">
            <a:off x="3200400" y="2057400"/>
            <a:ext cx="1440" cy="3429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609480" y="2209680"/>
            <a:ext cx="144792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685800" y="4038480"/>
            <a:ext cx="144792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361680" y="274320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200400" y="472428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361680" y="464832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>
            <a:off x="7924320" y="2057400"/>
            <a:ext cx="1800" cy="3429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2"/>
          <p:cNvSpPr/>
          <p:nvPr/>
        </p:nvSpPr>
        <p:spPr>
          <a:xfrm>
            <a:off x="5334120" y="2209680"/>
            <a:ext cx="144756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5410080" y="4038480"/>
            <a:ext cx="1447920" cy="1371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7924680" y="281952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8085960" y="274320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7924680" y="472428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8085960" y="464832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fare Ec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9"/>
          <p:cNvGrpSpPr/>
          <p:nvPr/>
        </p:nvGrpSpPr>
        <p:grpSpPr>
          <a:xfrm>
            <a:off x="2286000" y="1600200"/>
            <a:ext cx="4573440" cy="3657600"/>
            <a:chOff x="2286000" y="1600200"/>
            <a:chExt cx="4573440" cy="3657600"/>
          </a:xfrm>
        </p:grpSpPr>
        <p:sp>
          <p:nvSpPr>
            <p:cNvPr id="122" name="Straight Connector 5"/>
            <p:cNvSpPr/>
            <p:nvPr/>
          </p:nvSpPr>
          <p:spPr>
            <a:xfrm flipH="1">
              <a:off x="2286000" y="1600200"/>
              <a:ext cx="1440" cy="3657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7"/>
            <p:cNvSpPr/>
            <p:nvPr/>
          </p:nvSpPr>
          <p:spPr>
            <a:xfrm>
              <a:off x="2287440" y="5256360"/>
              <a:ext cx="457200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2360520" y="1635120"/>
              <a:ext cx="4489560" cy="3448080"/>
            </a:xfrm>
            <a:prstGeom prst="pie">
              <a:avLst/>
            </a:prstGeom>
            <a:noFill/>
            <a:ln w="2844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these flags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960" y="5904000"/>
            <a:ext cx="6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5" descr="Image:Flag of Liber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257800"/>
            <a:ext cx="180972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Image:Flag of Canad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Image:Flag of Bhutan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Image:Flag of Bangladesh.sv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1600200"/>
            <a:ext cx="1854360" cy="11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Image:Flag of Afghanistan.sv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3429000"/>
            <a:ext cx="1828800" cy="122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Image:Flag of Egypt.sv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14400" y="3429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Image:Flag of Brazil.sv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3429000"/>
            <a:ext cx="1828800" cy="127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Image:Flag of Vietnam.sv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57600" y="52578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Image:Flag of Tanzania.svg"/>
          <p:cNvPicPr/>
          <p:nvPr/>
        </p:nvPicPr>
        <p:blipFill>
          <a:blip r:embed="rId17"/>
          <a:stretch/>
        </p:blipFill>
        <p:spPr>
          <a:xfrm>
            <a:off x="91440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Image:Flag of Nigeria.svg"/>
          <p:cNvPicPr/>
          <p:nvPr/>
        </p:nvPicPr>
        <p:blipFill>
          <a:blip r:embed="rId18"/>
          <a:stretch/>
        </p:blipFill>
        <p:spPr>
          <a:xfrm>
            <a:off x="914400" y="525780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3"/>
          <p:cNvSpPr/>
          <p:nvPr/>
        </p:nvSpPr>
        <p:spPr>
          <a:xfrm>
            <a:off x="934920" y="648828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dney2.dyn.cs.washington.e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ckerel Ec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traight Connector 5"/>
          <p:cNvSpPr/>
          <p:nvPr/>
        </p:nvSpPr>
        <p:spPr>
          <a:xfrm flipH="1">
            <a:off x="457200" y="1612800"/>
            <a:ext cx="1440" cy="3645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traight Connector 7"/>
          <p:cNvSpPr/>
          <p:nvPr/>
        </p:nvSpPr>
        <p:spPr>
          <a:xfrm>
            <a:off x="458640" y="5256360"/>
            <a:ext cx="36561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 flipH="1">
            <a:off x="1189080" y="1600200"/>
            <a:ext cx="30240" cy="365760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14"/>
          <p:cNvSpPr/>
          <p:nvPr/>
        </p:nvSpPr>
        <p:spPr>
          <a:xfrm flipH="1">
            <a:off x="1555560" y="1600200"/>
            <a:ext cx="44280" cy="365616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traight Connector 22"/>
          <p:cNvSpPr/>
          <p:nvPr/>
        </p:nvSpPr>
        <p:spPr>
          <a:xfrm flipH="1" flipV="1">
            <a:off x="458640" y="3615840"/>
            <a:ext cx="109728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traight Connector 24"/>
          <p:cNvSpPr/>
          <p:nvPr/>
        </p:nvSpPr>
        <p:spPr>
          <a:xfrm flipH="1" flipV="1">
            <a:off x="458280" y="2949120"/>
            <a:ext cx="73044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684360" y="1600200"/>
            <a:ext cx="3416040" cy="3462480"/>
          </a:xfrm>
          <a:prstGeom prst="pie">
            <a:avLst/>
          </a:prstGeom>
          <a:noFill/>
          <a:ln w="381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32"/>
          <p:cNvSpPr/>
          <p:nvPr/>
        </p:nvSpPr>
        <p:spPr>
          <a:xfrm flipH="1">
            <a:off x="5029200" y="1612800"/>
            <a:ext cx="1440" cy="3645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traight Connector 33"/>
          <p:cNvSpPr/>
          <p:nvPr/>
        </p:nvSpPr>
        <p:spPr>
          <a:xfrm>
            <a:off x="5030640" y="5256360"/>
            <a:ext cx="36561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36"/>
          <p:cNvSpPr/>
          <p:nvPr/>
        </p:nvSpPr>
        <p:spPr>
          <a:xfrm flipH="1">
            <a:off x="7284960" y="1600200"/>
            <a:ext cx="30240" cy="365616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37"/>
          <p:cNvSpPr/>
          <p:nvPr/>
        </p:nvSpPr>
        <p:spPr>
          <a:xfrm flipH="1">
            <a:off x="7650000" y="1600200"/>
            <a:ext cx="46080" cy="3656160"/>
          </a:xfrm>
          <a:prstGeom prst="line">
            <a:avLst/>
          </a:prstGeom>
          <a:ln w="1908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40"/>
          <p:cNvSpPr/>
          <p:nvPr/>
        </p:nvSpPr>
        <p:spPr>
          <a:xfrm flipH="1" flipV="1">
            <a:off x="5030640" y="4587480"/>
            <a:ext cx="225432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traight Connector 41"/>
          <p:cNvSpPr/>
          <p:nvPr/>
        </p:nvSpPr>
        <p:spPr>
          <a:xfrm flipH="1" flipV="1">
            <a:off x="5030640" y="4770000"/>
            <a:ext cx="2619360" cy="18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5256360" y="1600200"/>
            <a:ext cx="3416040" cy="3462480"/>
          </a:xfrm>
          <a:prstGeom prst="pie">
            <a:avLst/>
          </a:prstGeom>
          <a:noFill/>
          <a:ln w="381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fare theory argues for a net gain for produces and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depend on the shape of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 elasti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waste potentially benefits both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reduced price variability on consumers not 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ch Market Survey (N=15,  15 km ap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uesday, 7-8 am,  1996-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man Survey  (weekly,  N=15*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ing village survey (monthly, N = 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price survey (weekly,  N = 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men quickly adopted cell phones as they becam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men would contact a large number of buyers while at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benefits of cell phones for fishermen documented by Abrahim (ICTD 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 (Jense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information limits functioning of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akes markets work, and markets help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the I,  not th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ing in Kerala probably not a special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not a developmen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figured it out on their 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 (Short Message Servic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 for text messages on GSM 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20 b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 7-bit,  140 8-bit,  70 16-bit 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 Costs world w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600" cy="4457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 Cost,  Lo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 Cost US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pai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pai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 yu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w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N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a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e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o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ri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u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pu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rt phone vs. Dumb 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ICTD work target “Smart Phones” or “Dumb Phones”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Image:Flag of Cuba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3960" y="5904000"/>
            <a:ext cx="6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Wired Village (199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se study of a failed kiosk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y ambitious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ding spli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ntral: 50%, State: 40%, 10% Cooper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4 to 70 Village Kios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rete buil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C (Pentium,  Win95), UPS, Pri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dline, 10 kbps conn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ed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rana on the 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base of farmer statis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S of 70 vill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l language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nd record computer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net site about crop p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ricultural price inf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ized sugarcane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connec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UMS Holiday,  May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edule Shuffl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r 30,  Agricul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7,  Handheld devices and Medic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rian DeRenz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12,  Open Source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al Le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21,  Edu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28,  Data Col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pan Parik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ne 4,  Non-literate U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Question:  can the Kiosk functions be replaced by S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hod:  have Kiosk operators use cell phones instead of the PC.  Other operations remained the sam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space: kiosks and computers left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outs:  handwritten and stamped receipts given by kiosk op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privacy: not a worry for the farmers.  Access restricted to registered 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Results: Cost Sav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d to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P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SMS with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SMS without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RS with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RS without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village 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of kiosk operators on SM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comparable to kio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time: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vorable response from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to expand the pi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rom phones outside of kio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SMS based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ambian National Farmers Un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F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farmprices.co.zm/prices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 Price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Content Placeholder 3" descr="znfu.JPG"/>
          <p:cNvPicPr/>
          <p:nvPr/>
        </p:nvPicPr>
        <p:blipFill>
          <a:blip r:embed="rId1"/>
          <a:stretch/>
        </p:blipFill>
        <p:spPr>
          <a:xfrm>
            <a:off x="1592280" y="1600200"/>
            <a:ext cx="595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denet.b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trading in Wes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ily web based, but supports SMS not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Content Placeholder 5" descr="Shea.JPG"/>
          <p:cNvPicPr/>
          <p:nvPr/>
        </p:nvPicPr>
        <p:blipFill>
          <a:blip r:embed="rId1"/>
          <a:stretch/>
        </p:blipFill>
        <p:spPr>
          <a:xfrm>
            <a:off x="4648320" y="2565360"/>
            <a:ext cx="40384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ww.dam.gov.b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ortal with price information for agricultural commodities in Banglad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bd.JPG"/>
          <p:cNvPicPr/>
          <p:nvPr/>
        </p:nvPicPr>
        <p:blipFill>
          <a:blip r:embed="rId1"/>
          <a:stretch/>
        </p:blipFill>
        <p:spPr>
          <a:xfrm>
            <a:off x="4191120" y="2895480"/>
            <a:ext cx="4676760" cy="309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bd3.JPG"/>
          <p:cNvPicPr/>
          <p:nvPr/>
        </p:nvPicPr>
        <p:blipFill>
          <a:blip r:embed="rId2"/>
          <a:stretch/>
        </p:blipFill>
        <p:spPr>
          <a:xfrm>
            <a:off x="228600" y="2819520"/>
            <a:ext cx="390852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things fail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H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systems and developing countries: Failure,  Success, and Local Improv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il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ercentage of startup companies f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 cause of failure ______________ 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ercentage of IT projects f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 cause of failure ______________ 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Image:Flag of Morocco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lights from Lecture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mar Sai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ffc000"/>
                </a:solidFill>
                <a:uFillTx/>
                <a:latin typeface="Arial"/>
              </a:rPr>
              <a:t>umar@lums.edu.p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2600" spc="-1" strike="noStrike" u="sng">
                <a:solidFill>
                  <a:srgbClr val="ffc000"/>
                </a:solidFill>
                <a:uFillTx/>
                <a:latin typeface="Arial"/>
              </a:rPr>
              <a:t>umar@mit.ed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itte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rea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considerations very different from 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ent distribution prob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fline internet brow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verse multiplexing on cellular networ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lep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-Actuality Ga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s from the designers’ own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ived assumptions about the situation of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ystems per se have a tendency to be designed according to models of rationa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d vs. Soft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” rational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” political act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d, formal, quantitative 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, informal, 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enabling mechan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, value-laden, status-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le, formal; outcomes as optimal sol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, complex, constrained, in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and val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organizational obj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, informal, personal obj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and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viewed as rational be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viewed as political be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ystems and struc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, objective proces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, subjective proces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sources: time and mon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achieve organizational e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achieve personal e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CE: Kenya Agricultural Commodity Ex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 sector firm collecting and distributing market information to smallholder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information to help small holder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power of middl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place arbit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goods through offers to buy and s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Map of Kenya"/>
          <p:cNvPicPr/>
          <p:nvPr/>
        </p:nvPicPr>
        <p:blipFill>
          <a:blip r:embed="rId1"/>
          <a:stretch/>
        </p:blipFill>
        <p:spPr>
          <a:xfrm>
            <a:off x="7434360" y="0"/>
            <a:ext cx="1709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CE M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ral market based Market Information Points (MIP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rict-level Market Information Centers (MI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bile Phone Short Messaging Service (SM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active voice Response (IVR)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 based databas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media (radi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ded service with Safari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Ksh per message  ($ 0.10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SMS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s updated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voicemai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recorded in English and Kiswah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K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 – 2 MICs,  11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rom fou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ID,  Rockefeller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term model – user fees,  revenue sharing with phone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ate SMS, and website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of study an upswing in Voic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improvements in market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bile phone based market information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mportant do you expect these to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36"/>
          <p:cNvGrpSpPr/>
          <p:nvPr/>
        </p:nvGrpSpPr>
        <p:grpSpPr>
          <a:xfrm>
            <a:off x="457200" y="2819520"/>
            <a:ext cx="8229600" cy="228600"/>
            <a:chOff x="457200" y="2819520"/>
            <a:chExt cx="8229600" cy="228600"/>
          </a:xfrm>
        </p:grpSpPr>
        <p:sp>
          <p:nvSpPr>
            <p:cNvPr id="200" name="Straight Connector 4"/>
            <p:cNvSpPr/>
            <p:nvPr/>
          </p:nvSpPr>
          <p:spPr>
            <a:xfrm>
              <a:off x="457200" y="2819520"/>
              <a:ext cx="82296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6"/>
            <p:cNvSpPr/>
            <p:nvPr/>
          </p:nvSpPr>
          <p:spPr>
            <a:xfrm flipH="1">
              <a:off x="45720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7"/>
            <p:cNvSpPr/>
            <p:nvPr/>
          </p:nvSpPr>
          <p:spPr>
            <a:xfrm flipH="1">
              <a:off x="210348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8"/>
            <p:cNvSpPr/>
            <p:nvPr/>
          </p:nvSpPr>
          <p:spPr>
            <a:xfrm flipH="1">
              <a:off x="374976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9"/>
            <p:cNvSpPr/>
            <p:nvPr/>
          </p:nvSpPr>
          <p:spPr>
            <a:xfrm flipH="1">
              <a:off x="539604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10"/>
            <p:cNvSpPr/>
            <p:nvPr/>
          </p:nvSpPr>
          <p:spPr>
            <a:xfrm flipH="1">
              <a:off x="868536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13"/>
            <p:cNvSpPr/>
            <p:nvPr/>
          </p:nvSpPr>
          <p:spPr>
            <a:xfrm flipH="1">
              <a:off x="7042320" y="2819520"/>
              <a:ext cx="144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TextBox 37"/>
          <p:cNvSpPr/>
          <p:nvPr/>
        </p:nvSpPr>
        <p:spPr>
          <a:xfrm>
            <a:off x="0" y="3048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se than usel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8"/>
          <p:cNvSpPr/>
          <p:nvPr/>
        </p:nvSpPr>
        <p:spPr>
          <a:xfrm>
            <a:off x="152388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39"/>
          <p:cNvSpPr/>
          <p:nvPr/>
        </p:nvSpPr>
        <p:spPr>
          <a:xfrm>
            <a:off x="2971800" y="30481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or : niche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0"/>
          <p:cNvSpPr/>
          <p:nvPr/>
        </p:nvSpPr>
        <p:spPr>
          <a:xfrm>
            <a:off x="4648320" y="30481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rate: multiple  locales and cro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41"/>
          <p:cNvSpPr/>
          <p:nvPr/>
        </p:nvSpPr>
        <p:spPr>
          <a:xfrm>
            <a:off x="6324480" y="30481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ificant: widespread 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42"/>
          <p:cNvSpPr/>
          <p:nvPr/>
        </p:nvSpPr>
        <p:spPr>
          <a:xfrm>
            <a:off x="7772400" y="30481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olutiona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 change agricul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Image:Flag of Eritrea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gital G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Research India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ted Video to promote agricultural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ly produced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ted by vill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Content Placeholder 4" descr="dg2.JPG"/>
          <p:cNvPicPr/>
          <p:nvPr/>
        </p:nvPicPr>
        <p:blipFill>
          <a:blip r:embed="rId1"/>
          <a:stretch/>
        </p:blipFill>
        <p:spPr>
          <a:xfrm>
            <a:off x="6781680" y="304920"/>
            <a:ext cx="2194200" cy="305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g3.JPG"/>
          <p:cNvPicPr/>
          <p:nvPr/>
        </p:nvPicPr>
        <p:blipFill>
          <a:blip r:embed="rId2"/>
          <a:stretch/>
        </p:blipFill>
        <p:spPr>
          <a:xfrm>
            <a:off x="4724280" y="3962520"/>
            <a:ext cx="3905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 holder farm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ast majority of rural poor are far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s are generally very sm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production limits possible inc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farmers have limited access to in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rti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ers squeezed by debt and reduced l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ricultural Produ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ying as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 productivity (and sustainability) can be improved through introduction of new agricultural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agricultural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&amp;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,000 extension offers in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 office salary:  Rs. 4,000 per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n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al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 Jen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ana Unw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of other agricultur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Credit: Microsoft Research India"/>
          <p:cNvPicPr/>
          <p:nvPr/>
        </p:nvPicPr>
        <p:blipFill>
          <a:blip r:embed="rId1"/>
          <a:stretch/>
        </p:blipFill>
        <p:spPr>
          <a:xfrm>
            <a:off x="6781680" y="2286000"/>
            <a:ext cx="2068560" cy="154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research.microsoft.com/research/tem/TEM%20Area%20Page_files/TEM12.jpg"/>
          <p:cNvPicPr/>
          <p:nvPr/>
        </p:nvPicPr>
        <p:blipFill>
          <a:blip r:embed="rId2"/>
          <a:stretch/>
        </p:blipFill>
        <p:spPr>
          <a:xfrm>
            <a:off x="6781680" y="4495680"/>
            <a:ext cx="2065320" cy="159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gallery_CALICUT FISH MARKET-CRATES OF FISH AND ICE copy.jpg"/>
          <p:cNvPicPr/>
          <p:nvPr/>
        </p:nvPicPr>
        <p:blipFill>
          <a:blip r:embed="rId3"/>
          <a:stretch/>
        </p:blipFill>
        <p:spPr>
          <a:xfrm>
            <a:off x="7543800" y="152280"/>
            <a:ext cx="12128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nsion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minate agricultural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practices that increase yields and preserve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343400" y="1371600"/>
          <a:ext cx="4419720" cy="4572000"/>
        </p:xfrm>
        <a:graphic>
          <a:graphicData uri="http://schemas.openxmlformats.org/drawingml/2006/table">
            <a:tbl>
              <a:tblPr/>
              <a:tblGrid>
                <a:gridCol w="2209680"/>
                <a:gridCol w="2210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 source of Agricultural 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farm household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51,7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far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on wor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gital Green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NGO Promoting sustainable agricultural pract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Green:  Collaboration between MSRI and Green using facilitated Vide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ase 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gure it o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ase 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ase I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le and spin o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Ide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deo record farmers implementing pract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nsion worker appears in video with local far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deo replay done in public setting with a medi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y close attention to co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ild archive of agricultural video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gitalgreen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video is the enabling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topic: Azolla cul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 a hole in the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 with plastic ta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 ta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some cow dung and cow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some Azo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a few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609480" y="16765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olla: Aquatic fern that can be used to augment animal f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Content Placeholder 8" descr="azola.JPG"/>
          <p:cNvPicPr/>
          <p:nvPr/>
        </p:nvPicPr>
        <p:blipFill>
          <a:blip r:embed="rId1"/>
          <a:stretch/>
        </p:blipFill>
        <p:spPr>
          <a:xfrm>
            <a:off x="4797360" y="1600200"/>
            <a:ext cx="3740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ed vs. non-med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or skill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eening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erimental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 month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 villages  (Digital Gre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 control villages  (Green extension work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Gre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V + DVD Player per village (USD $22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ator: 3 sessions per we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D $38 per month honorariu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50 local language vide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00 screen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0 farmers particip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rvey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op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80 farmers per month attended a scree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roximately half expressed interest in adopting pract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ween 9% and 26% implemented a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 result: four month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ontrol 8% adopted at least one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DSH 55% adopted at least on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aspects of Digital G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tained local pres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etition (and novelt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gration into existing extension oper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homophily between mediator, actor, and far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ire to be “on TV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ust built from identities of farmers and villages in vide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er G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Digital Green, with local mediator, but no TV/D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or makes posters and holds regular group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Chart 3" descr=""/>
          <p:cNvPicPr/>
          <p:nvPr/>
        </p:nvPicPr>
        <p:blipFill>
          <a:blip r:embed="rId1"/>
          <a:stretch/>
        </p:blipFill>
        <p:spPr>
          <a:xfrm>
            <a:off x="1749600" y="3803760"/>
            <a:ext cx="52117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per ado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175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(USD) / village /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ption (%) /Village/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/ Adoption (US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al Gre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8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Gre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Gre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Unwi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gh profile kiosk project to support agricultu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7 years, the project had only achieved a fraction of its goals and had very high maintenance co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 application was replaced by a cell phone/SMS appl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6" descr="Low cost mobile phones"/>
          <p:cNvPicPr/>
          <p:nvPr/>
        </p:nvPicPr>
        <p:blipFill>
          <a:blip r:embed="rId1"/>
          <a:stretch/>
        </p:blipFill>
        <p:spPr>
          <a:xfrm>
            <a:off x="5410080" y="4343400"/>
            <a:ext cx="2895840" cy="194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Picture 17" descr="PC"/>
          <p:cNvPicPr/>
          <p:nvPr/>
        </p:nvPicPr>
        <p:blipFill>
          <a:blip r:embed="rId2"/>
          <a:stretch/>
        </p:blipFill>
        <p:spPr>
          <a:xfrm>
            <a:off x="914400" y="4343400"/>
            <a:ext cx="2801880" cy="19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gital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wo other potential applications of the DigitalGree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Image:Flag of the Democratic Republic of the Congo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cture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sen,  Sardine fishing in Ker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S 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queries for sugar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gricultural deployments un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Green:  Mediated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 Sugar Cooper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 harvest,  farmers send sugar cane to cooperative for proc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ers receive reports of the amount of sugar cane processed by fac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kiosk projec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rmers visit central processing off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kiosk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rmers visit kiosk off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osk operator places requ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one or two days, farmer gets re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ana: Cell Phone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w cost mobile phone at the kio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mart phone running server at processing pl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s translated into DB qu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N 123456 0807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swer sent back to calling ph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ers would have kiosk operator place the text mess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 up as experiment to evaluate cell phone against the P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S Applications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Homework 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Image:BlankMap-World.png"/>
          <p:cNvPicPr/>
          <p:nvPr/>
        </p:nvPicPr>
        <p:blipFill>
          <a:blip r:embed="rId2"/>
          <a:stretch/>
        </p:blipFill>
        <p:spPr>
          <a:xfrm>
            <a:off x="152280" y="1600200"/>
            <a:ext cx="607860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mage:Flag of Angola.svg"/>
          <p:cNvPicPr/>
          <p:nvPr/>
        </p:nvPicPr>
        <p:blipFill>
          <a:blip r:embed="rId3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960" y="5904000"/>
            <a:ext cx="6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U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847440" y="4343400"/>
            <a:ext cx="15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657680" y="4343400"/>
            <a:ext cx="15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Fred Videon</cp:lastModifiedBy>
  <dcterms:modified xsi:type="dcterms:W3CDTF">2008-04-30T23:11:12Z</dcterms:modified>
  <cp:revision>669</cp:revision>
  <dc:subject/>
  <dc:title>Slide 1</dc:title>
</cp:coreProperties>
</file>