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78D2-EEEB-4AB5-9477-3390FC81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4821-6ED2-467B-BD60-A1DADCC3A1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E4C1-0F4E-4E61-8359-75867D32F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2A10-7EEC-4D42-861A-DDE1D2568F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BD2-1AAC-40E6-A526-F35AF5EF0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64F3-98DE-4229-B564-2AF7A6E18E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826A-9C4F-49E8-B411-80C99F3720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007-857D-4514-89A3-74C646512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4A52-88A3-40C2-9482-277E065D6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C75-4561-4B1C-ACC5-C06611BB23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F2C3-FC85-423A-9C54-2A843D3E6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F598-8F88-4DA3-BCCA-B39ECB855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06F4-FF55-446D-9BCA-8D2496776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576F-4FCB-4646-9390-A5A8B608DA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304-A737-4144-85FA-63DB017BE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700C-360D-4EE5-96CC-D4F7DF1766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508A-EA12-42C2-9021-5666B35BD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4003-27CB-4194-9ABA-D5B4DBEE7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701-499B-4168-8233-EA1D7FAED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ECA7-51A9-4ADE-9EC6-C5B30DC6D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6783-0CA3-4ABB-B694-007916EE1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4EAE-1ECB-454A-9949-864D631CD8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6F5-654F-45F5-91D9-E89962868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1A5-2326-470F-A41E-3BE08A033D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146D-515B-4A98-BE97-1E2665745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948-06CF-4184-8388-4B8F6E5EAF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6E3-89A0-4256-83D2-3296947D04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E24-9189-4455-86EC-7ABFD6309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F6C-83CD-4907-9FC2-27E393B5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5D2-52BD-49B2-8BF2-9A09CCFC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5CB-4133-412E-87F3-F6F2D86F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B20-78E4-4EE8-A6A9-EE8ABA3E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E385-FDBF-4724-90B5-29532F30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879-3825-46E3-A2F1-9DC9EB93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D9DF-505F-474C-ADD6-0D8249DD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F7E5-672E-4947-B71A-80A8E57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734-93B2-4F7D-B6D8-602A0F5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AAE4-B693-41F1-B5E5-075045F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4D76-FF2E-449D-9EC4-F75C86A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2BA-DC7A-47A9-968D-11603E51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4171-D803-4746-92CA-F02C99F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631D-1BD5-4749-BC7E-38AC518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1EBE-46F7-4C5C-B06C-DF2FB41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98E-4B46-4875-856F-B0FD87FB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FF16-A93F-4D57-9294-21C9EC56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F17-7BC2-4EEA-AF7E-E3F39EF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923-8258-455D-9500-4CE9FBDE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3A8-83FC-48CC-8E75-E5757C65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F63-54C3-4272-AA23-3B734BC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247-09C4-4045-919C-C710CA5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BD3-90BA-49D3-A9D8-B625995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786-EDBB-434A-A678-9AE085D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89D-D4C8-4DA6-A3E2-703A7266E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609480" y="1523880"/>
            <a:ext cx="8456760" cy="1828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59E7-D8F2-4B4A-8971-C253B7E23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mar@lums.edu.pk" TargetMode="External"/><Relationship Id="rId2" Type="http://schemas.openxmlformats.org/officeDocument/2006/relationships/hyperlink" Target="mailto:umar@mit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umar@lums.edu.p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rmation Access and Communication Networks in the Developing-wor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ar Sai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MS, Pakist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umar@lums.edu.p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umar@mit.ed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isruptive 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course Internet also started as an overlay over the phone 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new kind of Interne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iniscent of Pre-Internet day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do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UC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is this Practical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ne bills are becoming “Flat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 199/month -- free nation-wide ca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annot always connect to the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long as one can identify a “close-by” host, “broadband access” is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2P systems already follow a similar mode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entive-based BitTorr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Dialup P2P-ISP Interleaving 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533520" y="3038400"/>
            <a:ext cx="4039920" cy="30196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00000" y="4619520"/>
            <a:ext cx="1103400" cy="57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eer-to-peer dialup conne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185920" y="4044960"/>
            <a:ext cx="147024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-speed (~40kb/s) dialup conne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2185920" y="3325680"/>
            <a:ext cx="2387520" cy="1438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7"/>
          <p:cNvSpPr/>
          <p:nvPr/>
        </p:nvSpPr>
        <p:spPr>
          <a:xfrm>
            <a:off x="2462040" y="2174760"/>
            <a:ext cx="1009800" cy="863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5124600" y="3757680"/>
            <a:ext cx="765000" cy="10065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656160" y="1600200"/>
            <a:ext cx="4039920" cy="2013120"/>
          </a:xfrm>
          <a:prstGeom prst="cloudCallout">
            <a:avLst>
              <a:gd name="adj1" fmla="val -29370"/>
              <a:gd name="adj2" fmla="val 4087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4390920" y="4332240"/>
            <a:ext cx="816120" cy="712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2"/>
          <a:stretch/>
        </p:blipFill>
        <p:spPr>
          <a:xfrm>
            <a:off x="1819440" y="2751120"/>
            <a:ext cx="815760" cy="71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3"/>
          <a:stretch/>
        </p:blipFill>
        <p:spPr>
          <a:xfrm>
            <a:off x="3390840" y="2031840"/>
            <a:ext cx="816120" cy="63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Picture 13" descr=""/>
          <p:cNvPicPr/>
          <p:nvPr/>
        </p:nvPicPr>
        <p:blipFill>
          <a:blip r:embed="rId4"/>
          <a:stretch/>
        </p:blipFill>
        <p:spPr>
          <a:xfrm>
            <a:off x="5410080" y="3181320"/>
            <a:ext cx="816120" cy="63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6" name="Picture 14" descr=""/>
          <p:cNvPicPr/>
          <p:nvPr/>
        </p:nvPicPr>
        <p:blipFill>
          <a:blip r:embed="rId5"/>
          <a:stretch/>
        </p:blipFill>
        <p:spPr>
          <a:xfrm>
            <a:off x="4573440" y="2319480"/>
            <a:ext cx="816120" cy="34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6"/>
          <a:stretch/>
        </p:blipFill>
        <p:spPr>
          <a:xfrm>
            <a:off x="6043680" y="2174760"/>
            <a:ext cx="815760" cy="34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7"/>
          <a:stretch/>
        </p:blipFill>
        <p:spPr>
          <a:xfrm>
            <a:off x="4206960" y="2894040"/>
            <a:ext cx="815760" cy="34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8"/>
          <a:stretch/>
        </p:blipFill>
        <p:spPr>
          <a:xfrm>
            <a:off x="5492880" y="2606760"/>
            <a:ext cx="815760" cy="341280"/>
          </a:xfrm>
          <a:prstGeom prst="rect">
            <a:avLst/>
          </a:prstGeom>
          <a:ln w="0">
            <a:noFill/>
          </a:ln>
        </p:spPr>
      </p:pic>
      <p:sp>
        <p:nvSpPr>
          <p:cNvPr id="180" name="Line 18"/>
          <p:cNvSpPr/>
          <p:nvPr/>
        </p:nvSpPr>
        <p:spPr>
          <a:xfrm>
            <a:off x="4206960" y="2319480"/>
            <a:ext cx="3664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5308560" y="2319480"/>
            <a:ext cx="7351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 flipH="1">
            <a:off x="4390560" y="2606760"/>
            <a:ext cx="3668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5675400" y="2894040"/>
            <a:ext cx="183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 flipH="1">
            <a:off x="6225840" y="2462040"/>
            <a:ext cx="368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4941720" y="2893680"/>
            <a:ext cx="5511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6" descr=""/>
          <p:cNvPicPr/>
          <p:nvPr/>
        </p:nvPicPr>
        <p:blipFill>
          <a:blip r:embed="rId9"/>
          <a:stretch/>
        </p:blipFill>
        <p:spPr>
          <a:xfrm>
            <a:off x="1268280" y="4187880"/>
            <a:ext cx="735120" cy="428400"/>
          </a:xfrm>
          <a:prstGeom prst="rect">
            <a:avLst/>
          </a:prstGeom>
          <a:ln w="0">
            <a:noFill/>
          </a:ln>
        </p:spPr>
      </p:pic>
      <p:sp>
        <p:nvSpPr>
          <p:cNvPr id="187" name="Freeform 27"/>
          <p:cNvSpPr/>
          <p:nvPr/>
        </p:nvSpPr>
        <p:spPr>
          <a:xfrm>
            <a:off x="1819440" y="4619520"/>
            <a:ext cx="2754000" cy="311400"/>
          </a:xfrm>
          <a:prstGeom prst="pie">
            <a:avLst/>
          </a:prstGeom>
          <a:noFill/>
          <a:ln w="2844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28"/>
          <p:cNvSpPr/>
          <p:nvPr/>
        </p:nvSpPr>
        <p:spPr>
          <a:xfrm>
            <a:off x="1635120" y="3181320"/>
            <a:ext cx="184320" cy="1006560"/>
          </a:xfrm>
          <a:prstGeom prst="pie">
            <a:avLst/>
          </a:prstGeom>
          <a:noFill/>
          <a:ln w="2844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9" descr=""/>
          <p:cNvPicPr/>
          <p:nvPr/>
        </p:nvPicPr>
        <p:blipFill>
          <a:blip r:embed="rId10"/>
          <a:stretch/>
        </p:blipFill>
        <p:spPr>
          <a:xfrm>
            <a:off x="717480" y="4187880"/>
            <a:ext cx="366840" cy="214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0" descr=""/>
          <p:cNvPicPr/>
          <p:nvPr/>
        </p:nvPicPr>
        <p:blipFill>
          <a:blip r:embed="rId11"/>
          <a:stretch/>
        </p:blipFill>
        <p:spPr>
          <a:xfrm>
            <a:off x="900000" y="3724200"/>
            <a:ext cx="550800" cy="3207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1"/>
          <p:cNvSpPr/>
          <p:nvPr/>
        </p:nvSpPr>
        <p:spPr>
          <a:xfrm>
            <a:off x="1819440" y="5195880"/>
            <a:ext cx="1285560" cy="57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up Under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32"/>
          <p:cNvSpPr/>
          <p:nvPr/>
        </p:nvSpPr>
        <p:spPr>
          <a:xfrm rot="9527400">
            <a:off x="4214880" y="4892760"/>
            <a:ext cx="1652400" cy="288720"/>
          </a:xfrm>
          <a:prstGeom prst="pie">
            <a:avLst/>
          </a:prstGeom>
          <a:noFill/>
          <a:ln w="3816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381960" y="1009800"/>
            <a:ext cx="87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Idea: Use Internet as a directory service, not as digital p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5181480" y="5181480"/>
            <a:ext cx="144792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Interleaving of ISP-P2P dialup conne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ialup BitTor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2514600" y="1600200"/>
          <a:ext cx="5159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5159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685800" y="1905120"/>
            <a:ext cx="28954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orrent in a sequential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ther Challen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of Peer connections: ~30 se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line Block Discove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t Block Probl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sh Crowds (Backoff for congestion contro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-based Downlo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eer Connection Overhe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1371600" y="2057400"/>
          <a:ext cx="62485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2485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ffline Block Discove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1676520" y="2990880"/>
            <a:ext cx="1371600" cy="104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371600" cy="104760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 flipV="1">
            <a:off x="2895480" y="274320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5105520" y="2514600"/>
            <a:ext cx="152280" cy="36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334120" y="2514600"/>
            <a:ext cx="1522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562720" y="2514600"/>
            <a:ext cx="152280" cy="36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5791320" y="2514600"/>
            <a:ext cx="1522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762120" y="3200400"/>
            <a:ext cx="152280" cy="36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990720" y="3200400"/>
            <a:ext cx="1522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219320" y="3200400"/>
            <a:ext cx="152280" cy="36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447920" y="3200400"/>
            <a:ext cx="1522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31"/>
          <p:cNvGrpSpPr/>
          <p:nvPr/>
        </p:nvGrpSpPr>
        <p:grpSpPr>
          <a:xfrm>
            <a:off x="2438280" y="4114800"/>
            <a:ext cx="2057400" cy="1219320"/>
            <a:chOff x="2438280" y="4114800"/>
            <a:chExt cx="2057400" cy="1219320"/>
          </a:xfrm>
        </p:grpSpPr>
        <p:pic>
          <p:nvPicPr>
            <p:cNvPr id="217" name="Picture 9" descr=""/>
            <p:cNvPicPr/>
            <p:nvPr/>
          </p:nvPicPr>
          <p:blipFill>
            <a:blip r:embed="rId3"/>
            <a:stretch/>
          </p:blipFill>
          <p:spPr>
            <a:xfrm>
              <a:off x="3124080" y="4286160"/>
              <a:ext cx="13716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Line 11"/>
            <p:cNvSpPr/>
            <p:nvPr/>
          </p:nvSpPr>
          <p:spPr>
            <a:xfrm>
              <a:off x="2438280" y="4114800"/>
              <a:ext cx="7621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Text Box 33"/>
          <p:cNvSpPr/>
          <p:nvPr/>
        </p:nvSpPr>
        <p:spPr>
          <a:xfrm>
            <a:off x="4495680" y="4343400"/>
            <a:ext cx="304920" cy="366120"/>
          </a:xfrm>
          <a:prstGeom prst="rect">
            <a:avLst/>
          </a:prstGeom>
          <a:solidFill>
            <a:srgbClr val="cbcb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4192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213552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0"/>
          <p:cNvGrpSpPr/>
          <p:nvPr/>
        </p:nvGrpSpPr>
        <p:grpSpPr>
          <a:xfrm>
            <a:off x="1068480" y="5181480"/>
            <a:ext cx="1903320" cy="916920"/>
            <a:chOff x="1068480" y="5181480"/>
            <a:chExt cx="1903320" cy="916920"/>
          </a:xfrm>
        </p:grpSpPr>
        <p:grpSp>
          <p:nvGrpSpPr>
            <p:cNvPr id="223" name="Group 32"/>
            <p:cNvGrpSpPr/>
            <p:nvPr/>
          </p:nvGrpSpPr>
          <p:grpSpPr>
            <a:xfrm>
              <a:off x="2133720" y="5181480"/>
              <a:ext cx="838080" cy="899640"/>
              <a:chOff x="2133720" y="5181480"/>
              <a:chExt cx="838080" cy="899640"/>
            </a:xfrm>
          </p:grpSpPr>
          <p:sp>
            <p:nvSpPr>
              <p:cNvPr id="224" name="Text Box 22"/>
              <p:cNvSpPr/>
              <p:nvPr/>
            </p:nvSpPr>
            <p:spPr>
              <a:xfrm>
                <a:off x="2133720" y="5181480"/>
                <a:ext cx="152280" cy="36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Text Box 23"/>
              <p:cNvSpPr/>
              <p:nvPr/>
            </p:nvSpPr>
            <p:spPr>
              <a:xfrm>
                <a:off x="2362320" y="5181480"/>
                <a:ext cx="152280" cy="36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24"/>
              <p:cNvSpPr/>
              <p:nvPr/>
            </p:nvSpPr>
            <p:spPr>
              <a:xfrm>
                <a:off x="2590920" y="5181480"/>
                <a:ext cx="152280" cy="36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5"/>
              <p:cNvSpPr/>
              <p:nvPr/>
            </p:nvSpPr>
            <p:spPr>
              <a:xfrm>
                <a:off x="2819520" y="5181480"/>
                <a:ext cx="152280" cy="36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26"/>
              <p:cNvSpPr/>
              <p:nvPr/>
            </p:nvSpPr>
            <p:spPr>
              <a:xfrm>
                <a:off x="2133720" y="5715000"/>
                <a:ext cx="152280" cy="36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27"/>
              <p:cNvSpPr/>
              <p:nvPr/>
            </p:nvSpPr>
            <p:spPr>
              <a:xfrm>
                <a:off x="2362320" y="5715000"/>
                <a:ext cx="152280" cy="36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8"/>
              <p:cNvSpPr/>
              <p:nvPr/>
            </p:nvSpPr>
            <p:spPr>
              <a:xfrm>
                <a:off x="2590920" y="5715000"/>
                <a:ext cx="152280" cy="36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29"/>
              <p:cNvSpPr/>
              <p:nvPr/>
            </p:nvSpPr>
            <p:spPr>
              <a:xfrm>
                <a:off x="2819520" y="5715000"/>
                <a:ext cx="152280" cy="36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 Box 36"/>
            <p:cNvSpPr/>
            <p:nvPr/>
          </p:nvSpPr>
          <p:spPr>
            <a:xfrm>
              <a:off x="1068480" y="5181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>
              <a:off x="1523880" y="54100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38"/>
            <p:cNvSpPr/>
            <p:nvPr/>
          </p:nvSpPr>
          <p:spPr>
            <a:xfrm>
              <a:off x="1523880" y="5867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39"/>
            <p:cNvSpPr/>
            <p:nvPr/>
          </p:nvSpPr>
          <p:spPr>
            <a:xfrm>
              <a:off x="1068480" y="563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Text Box 41"/>
          <p:cNvSpPr/>
          <p:nvPr/>
        </p:nvSpPr>
        <p:spPr>
          <a:xfrm>
            <a:off x="5715000" y="4146480"/>
            <a:ext cx="268272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ly Spread Knowledge of File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ffline Block Discove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ast Block Proble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562720" cy="3429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535680" y="1996920"/>
            <a:ext cx="77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b rare blocks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r those who will finish at the end of the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lash crowd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781680" cy="3581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371960" y="1981080"/>
            <a:ext cx="62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usy-tone costs ~10 se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between calls (nomi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off in times of congestion (busy t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or Man’s Broadb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Man’s Ca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et Contai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K Internet Sea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rse Multiplexing of Cellular Conne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eputer (Time permittin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dget-based Downlo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990720" y="2057400"/>
          <a:ext cx="761976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619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ree Evolving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2P file-sha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-brow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ge Email attach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ttp://dittorrent.sourceforge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Can we do the same on the “Internet”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in packets within the developing-worl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ing paths are screwed 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roads lead to Rome” i.e. transit out of the cou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cache hit-rat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 many small ISPs, no sharing of cached cont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onfigured “Proxie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t rates &lt; 30% (instead of &gt;60%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DNS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ork-in-progr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Ro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ce routing paths by vectoring messages through intermediate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 results show improvement across all traffic metr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ISP-independent distributed ca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ilar to CoralCD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ISP-independent D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houpalLin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828800" y="525780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rse Multiplexing over cellular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38080" y="2705040"/>
            <a:ext cx="3124440" cy="2290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876920" y="2705040"/>
            <a:ext cx="3276360" cy="24019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962520" y="3733920"/>
            <a:ext cx="171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igh-bandwidth Virtual Chann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790640" y="373392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Inverse multiplexing over GSM/GPRS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3048120" y="3733920"/>
            <a:ext cx="2743200" cy="228600"/>
          </a:xfrm>
          <a:prstGeom prst="leftRightArrow">
            <a:avLst>
              <a:gd name="adj1" fmla="val 35556"/>
              <a:gd name="adj2" fmla="val 169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K: Time Equals Knowled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arch for Low-bandwidth, intermittently connected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first examples of mainstream ICTD research ~circa 2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newed interest with DTNs coming in vog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et in the developing-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it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mail-based Internet Search Fac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 Dialup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ptimized for bandwidth and latency rather than sp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y client-side cach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76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K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ve Duplicate Cont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ster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inguish Content from lin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ve im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ve background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ess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ationa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er operational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ching vs internet downl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P-host conn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r Bandwdi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aper: email-only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utilization of Internet Connec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088160" y="1956960"/>
            <a:ext cx="673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560" rIns="31356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005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021120" y="2455920"/>
            <a:ext cx="625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560" rIns="31356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67080" y="1905120"/>
            <a:ext cx="685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121360" y="5002200"/>
            <a:ext cx="22255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verage End-user Bandwidth via IS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 10 kb/s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636560" y="5002200"/>
            <a:ext cx="2265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verage End-user Bandwidth via IS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gt; 100 kb/sec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121360" y="3567240"/>
            <a:ext cx="22255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ulk Data Transfer on the Intern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 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692360" y="3527280"/>
            <a:ext cx="2265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ulk Data Transfer on the Intern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gt; 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181480" y="2746440"/>
            <a:ext cx="22258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 MB Internet Conne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gt; $4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692360" y="2746440"/>
            <a:ext cx="24177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 MB Internet Conne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 $4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952880" y="1905120"/>
            <a:ext cx="2073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73240" y="1905120"/>
            <a:ext cx="2036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1752480" y="1057320"/>
            <a:ext cx="203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752480" y="5589720"/>
            <a:ext cx="203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752480" y="1057320"/>
            <a:ext cx="0" cy="66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5029200" y="1905120"/>
            <a:ext cx="0" cy="45320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6705720" y="1057320"/>
            <a:ext cx="0" cy="66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3962520" y="1905120"/>
            <a:ext cx="0" cy="45320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789360" y="1057320"/>
            <a:ext cx="84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632480" y="1057320"/>
            <a:ext cx="20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632480" y="5589720"/>
            <a:ext cx="2073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3789360" y="5589720"/>
            <a:ext cx="84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1752480" y="1722600"/>
            <a:ext cx="0" cy="996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6705720" y="1722600"/>
            <a:ext cx="0" cy="996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752480" y="2719440"/>
            <a:ext cx="0" cy="143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6705720" y="2719440"/>
            <a:ext cx="0" cy="143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1752480" y="4154400"/>
            <a:ext cx="0" cy="143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6705720" y="4154400"/>
            <a:ext cx="0" cy="143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0" rIns="3132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1768320" y="2058840"/>
            <a:ext cx="2022480" cy="539640"/>
          </a:xfrm>
          <a:prstGeom prst="roundRect">
            <a:avLst>
              <a:gd name="adj" fmla="val 16667"/>
            </a:avLst>
          </a:prstGeom>
          <a:solidFill>
            <a:srgbClr val="c2b5c9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veloped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5156280" y="2058840"/>
            <a:ext cx="2022480" cy="539640"/>
          </a:xfrm>
          <a:prstGeom prst="roundRect">
            <a:avLst>
              <a:gd name="adj" fmla="val 16667"/>
            </a:avLst>
          </a:prstGeom>
          <a:solidFill>
            <a:srgbClr val="c2b5c9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0" rIns="12816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veloping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 rot="16195800">
            <a:off x="2100240" y="3868200"/>
            <a:ext cx="4765680" cy="670680"/>
          </a:xfrm>
          <a:prstGeom prst="rect">
            <a:avLst/>
          </a:prstGeom>
          <a:solidFill>
            <a:srgbClr val="cbcbcb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0" bIns="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054"/>
                </a:solidFill>
                <a:latin typeface="Verdana"/>
              </a:rPr>
              <a:t>Digital  Div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Teleput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2209680" y="1752480"/>
          <a:ext cx="5257800" cy="35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525780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ulti-user de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1600200" y="1676520"/>
          <a:ext cx="57913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5791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leput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ero-configu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xt-free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or-actua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l-phone integra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d Compu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er-style proces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leputer Senso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2057400" y="2209680"/>
          <a:ext cx="5003640" cy="237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0036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leputer Ope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600200" y="2163600"/>
            <a:ext cx="595620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umar@lums.edu.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www.dritte.or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Internet in Pakistan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s of life in the developing wor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nsive International Bandwid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real peering po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et used over dial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“Scratch card” provisio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5675040" y="4055760"/>
            <a:ext cx="3056400" cy="2431440"/>
            <a:chOff x="5675040" y="4055760"/>
            <a:chExt cx="3056400" cy="2431440"/>
          </a:xfrm>
        </p:grpSpPr>
        <p:pic>
          <p:nvPicPr>
            <p:cNvPr id="133" name="Picture 5" descr="card_05"/>
            <p:cNvPicPr/>
            <p:nvPr/>
          </p:nvPicPr>
          <p:blipFill>
            <a:blip r:embed="rId1"/>
            <a:stretch/>
          </p:blipFill>
          <p:spPr>
            <a:xfrm rot="20293800">
              <a:off x="5867280" y="4495680"/>
              <a:ext cx="2671560" cy="15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 rot="20293800">
              <a:off x="6026760" y="5154840"/>
              <a:ext cx="838080" cy="152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ernet in Pakista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3240" y="2050920"/>
            <a:ext cx="7337520" cy="374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erage Dialup Bandwid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 than 10 kb/se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Never Used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han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emin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Content larger than a couple of hundred kiloby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I Stumbled Upon thi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3240" y="2118960"/>
            <a:ext cx="7337520" cy="37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research solv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blems in a practical way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ed last year when I wanted to exchange a 3.5 MB PDF file with my d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laptops sitting next to each o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ay to exchange data if you don’t have portable storage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actually went our and bought a CDR to exchange data…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1905120" cy="1773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679400" cy="2057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352680" y="1600200"/>
            <a:ext cx="2819520" cy="1523880"/>
          </a:xfrm>
          <a:prstGeom prst="cloudCallout">
            <a:avLst>
              <a:gd name="adj1" fmla="val -24662"/>
              <a:gd name="adj2" fmla="val 39583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1981080" y="2819520"/>
            <a:ext cx="2552760" cy="3149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4267080" y="28195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5181480" y="1752480"/>
            <a:ext cx="1828800" cy="914400"/>
          </a:xfrm>
          <a:prstGeom prst="line">
            <a:avLst/>
          </a:prstGeom>
          <a:ln w="57240">
            <a:solidFill>
              <a:srgbClr val="ff7c8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072920" y="15238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10kb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11624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56kb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914400" cy="48240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2"/>
          <p:cNvSpPr/>
          <p:nvPr/>
        </p:nvSpPr>
        <p:spPr>
          <a:xfrm>
            <a:off x="5181480" y="2819520"/>
            <a:ext cx="1295640" cy="175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52680" y="5791320"/>
            <a:ext cx="35053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Last Mil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905120" cy="177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6400800" y="2895480"/>
            <a:ext cx="1679400" cy="205740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5"/>
          <p:cNvSpPr/>
          <p:nvPr/>
        </p:nvSpPr>
        <p:spPr>
          <a:xfrm>
            <a:off x="1981080" y="3962520"/>
            <a:ext cx="5105520" cy="15494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27816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56kb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2058480"/>
            <a:ext cx="70880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pass the Internet when exchanging lar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16555"/>
              <a:gd name="adj2" fmla="val -4041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mail Attach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to exchange a 3.5 MB file on the Internet ~ 1 hours (16 Kb/se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 mins upload and downl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ing no disconn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now (40 kb/se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mins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9:08:36Z</dcterms:created>
  <dc:creator>Umar Saif</dc:creator>
  <dc:description/>
  <dc:language>en-US</dc:language>
  <cp:lastModifiedBy>Fred Videon</cp:lastModifiedBy>
  <dcterms:modified xsi:type="dcterms:W3CDTF">2008-04-23T21:40:22Z</dcterms:modified>
  <cp:revision>121</cp:revision>
  <dc:subject/>
  <dc:title>Internet for the Developing World: Offline Internet Access at Modem-speed Dialup Connections</dc:title>
</cp:coreProperties>
</file>