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5E00-AAE1-4A05-82B8-C5B366DDC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A009-8113-4BCB-913F-5A6E3C56E9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703B-3728-4266-833D-AC06C4FC98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6E9A-21D0-4652-B318-7E51498EEF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8050-7701-4D95-B09E-1A92A83973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E5C2-A345-428B-8BCB-8FA2563BB4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55F-3934-4F7D-9C89-5CEDB5A4C1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BD9A-5BAD-4833-A5EC-2D961ECC24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E8BD-5844-4D87-8593-A54926C10F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5302-1B2E-4D99-BDBB-7B7F3603D3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0800-AAF2-4437-9005-0F43EAEDB5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3F0C-6ECC-4932-9E76-B4A400C08F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261F-2E4D-427A-9F44-EBC3727307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EC44-A2DE-4ABE-94BF-C79109014D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149B-78AB-42EC-AA73-FBB366ECC7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25B9-3124-42FD-B2CE-AC37B74AF5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41F2-DAD1-4620-A227-8E7EF1D181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3E6E-95B0-4F7D-9E18-4F76515E3E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9D33-9D3E-4DFD-A5CE-962B750A20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1990-8C64-406E-BB56-D369C5F518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C528-E8F2-4F47-B166-99E7F496ED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F14E-2F57-40B8-8E4D-AC0AFB1166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368E-7C68-4F35-A95F-0100AFA7D2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A056-B608-4FE9-BE58-DD5D506F4D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9C1B-AA4D-4F68-817A-007DAC926E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4D53-BCF4-44F0-AB97-D7CE354F73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05E2-163C-491F-812D-0E2D6CB49B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4B47-ED45-4B44-B453-C0B49D1B0F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12F9-7FBD-4C0B-A040-67BC38D2DA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3562-5F1D-453E-8E1E-6FF6BA091D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AE17-EB2F-4406-9F59-AC36DCB7DE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2A0F-EE8F-4C43-AC5F-B869BE1479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7E2F-3CA3-4978-86E0-527E2CE743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DDC2-8E74-4736-8EF8-096D7554C6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8E78-7A2B-4DAB-A5E1-06360A5AB0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64CD-8DEB-4F05-A587-F0690C305B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7B81-84DF-4C57-A0F7-7222E7DE37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CC22-2F30-4CB1-8033-B96770B14C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937D-9BE0-40A2-8A95-2751E08B1C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BBF7-A40F-4C6D-8E94-D6D443FD5A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40A4-3343-43A0-B48E-D9F48FC2F3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CB7A-1E36-47B0-9DA6-BF24956719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1864-D0CE-4C79-A469-7DE88E3C8B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B0AC-4E2C-4996-BAED-0652D3C432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39DB-8585-4AE6-8642-881546CEF7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4FE-82CC-4659-AD17-8411622D3D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3059-0D6F-48F9-89F1-3765665B0A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317E-CB66-4849-9837-30CB797585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A6D-1428-47BD-8B26-3E6E249241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58B-8A06-4F7F-9DA4-8CF7BBA0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92C-0CF4-4898-A162-DDB2F1AF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6D6-6788-45CB-A2E3-236A44C0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14F-77A0-4993-935E-1759956A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601-0521-474C-9EBD-18B2E1C6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31F-57C3-47FD-8C5C-43CD0959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CE5-6D58-48A7-BD5F-40040E0B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BA8-E575-49D1-A142-20D3FC74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62E-DC0F-49C4-81C7-D4482036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E39-6D1C-428B-A1EC-A6D5574A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27C-C688-4CEA-88AE-1A212AD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B5C-BC73-48B7-985E-78982F9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BAE3-82FC-40BA-BAC7-FD67125F22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f/Flag_of_Indonesia.sv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4/4c/Flag_of_Mongolia.svg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upload.wikimedia.org/wikipedia/commons/0/06/Flag_of_Zambia.svg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upload.wikimedia.org/wikipedia/commons/a/af/Flag_of_South_Africa.svg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upload.wikimedia.org/wikipedia/commons/3/32/Flag_of_Pakistan.svg" TargetMode="External"/><Relationship Id="rId10" Type="http://schemas.openxmlformats.org/officeDocument/2006/relationships/image" Target="../media/image6.png"/><Relationship Id="rId11" Type="http://schemas.openxmlformats.org/officeDocument/2006/relationships/hyperlink" Target="http://upload.wikimedia.org/wikipedia/commons/8/83/Flag_of_Cambodia.svg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ing and the Developing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EP 590B,  Spring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4 – Internet,  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Anderson, Umar Sa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: Cell Phone 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w cost mobile phone at the kio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mart phone running server at processing pl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s translated into DB qu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N 123456 0807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swer sent back to calling ph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rmers would have kiosk operator place the text mess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 up as experiment to evaluate cell phone against the P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S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Image:BlankMap-World.png"/>
          <p:cNvPicPr/>
          <p:nvPr/>
        </p:nvPicPr>
        <p:blipFill>
          <a:blip r:embed="rId2"/>
          <a:stretch/>
        </p:blipFill>
        <p:spPr>
          <a:xfrm>
            <a:off x="152280" y="1600200"/>
            <a:ext cx="607860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mage:Flag of Angola.svg"/>
          <p:cNvPicPr/>
          <p:nvPr/>
        </p:nvPicPr>
        <p:blipFill>
          <a:blip r:embed="rId3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3960" y="5904000"/>
            <a:ext cx="67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847440" y="4343400"/>
            <a:ext cx="15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57680" y="4343400"/>
            <a:ext cx="15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ideas for SMS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s and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for solving rural poverty is greater agricultural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d markets are necessary for increasing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 Price In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ricultural wholesale markets can have large price swings during the 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nsportation costs and perishability limit producer op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vance notice of price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ision which market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ision whether to bring goods to mar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ision whether to harv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ere any evidence that this information actually is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Jen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wholesale prices of fish markets in Ker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vered the time period when cellular coverage was int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Content Placeholder 4" descr="Kerala.JPG"/>
          <p:cNvPicPr/>
          <p:nvPr/>
        </p:nvPicPr>
        <p:blipFill>
          <a:blip r:embed="rId1"/>
          <a:stretch/>
        </p:blipFill>
        <p:spPr>
          <a:xfrm>
            <a:off x="4648320" y="1857240"/>
            <a:ext cx="40384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n resu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20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ce of Agricultural Output Mar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gnificant portion of the worlds poor are in agriculture, fisheries, forest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nctioning of Markets important for well being of the po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ke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rdinate dispersed consumers and produc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ce coordinates allocation of go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ndamental theorem of welfare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w of one pric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tion and Market Fun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gler,  Economics of Inform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ly search for information leads to price disp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if infrastructure is poor and markets are disper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hout information, no reason to assume markets are effici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s, Producers, Intermediaries don’t adjust to scar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ice dispersion reflects inefficiency.  Improved information might improve efficiency and help the po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tion for Fisher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4"/>
          <p:cNvSpPr/>
          <p:nvPr/>
        </p:nvSpPr>
        <p:spPr>
          <a:xfrm flipH="1">
            <a:off x="3200400" y="2057400"/>
            <a:ext cx="1440" cy="3429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609480" y="2209680"/>
            <a:ext cx="1447920" cy="1371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685800" y="4038480"/>
            <a:ext cx="1447920" cy="1371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3200400" y="28195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361680" y="2743200"/>
            <a:ext cx="4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200400" y="472428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361680" y="4648320"/>
            <a:ext cx="4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1"/>
          <p:cNvSpPr/>
          <p:nvPr/>
        </p:nvSpPr>
        <p:spPr>
          <a:xfrm flipH="1">
            <a:off x="7924320" y="2057400"/>
            <a:ext cx="1800" cy="3429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5334120" y="2209680"/>
            <a:ext cx="1447560" cy="1371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5410080" y="4038480"/>
            <a:ext cx="1447920" cy="1371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7924680" y="281952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8085960" y="2743200"/>
            <a:ext cx="4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7924680" y="472428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8085960" y="4648320"/>
            <a:ext cx="4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assroom Presenter IP Add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31.107.151.6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ok review one due April 3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edule Shuff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xt week:  Video Based Edu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coming Guest Lectur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pan Parikh,  Neal L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dings: Authent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r:  csep590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ssword:  stu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fare Econom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19"/>
          <p:cNvGrpSpPr/>
          <p:nvPr/>
        </p:nvGrpSpPr>
        <p:grpSpPr>
          <a:xfrm>
            <a:off x="2286000" y="1600200"/>
            <a:ext cx="4573440" cy="3657600"/>
            <a:chOff x="2286000" y="1600200"/>
            <a:chExt cx="4573440" cy="3657600"/>
          </a:xfrm>
        </p:grpSpPr>
        <p:sp>
          <p:nvSpPr>
            <p:cNvPr id="120" name="Straight Connector 5"/>
            <p:cNvSpPr/>
            <p:nvPr/>
          </p:nvSpPr>
          <p:spPr>
            <a:xfrm flipH="1">
              <a:off x="2286000" y="1600200"/>
              <a:ext cx="1440" cy="3657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7"/>
            <p:cNvSpPr/>
            <p:nvPr/>
          </p:nvSpPr>
          <p:spPr>
            <a:xfrm>
              <a:off x="2287440" y="5256360"/>
              <a:ext cx="4572000" cy="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2360520" y="1635120"/>
              <a:ext cx="4489560" cy="3448080"/>
            </a:xfrm>
            <a:prstGeom prst="pie">
              <a:avLst/>
            </a:prstGeom>
            <a:noFill/>
            <a:ln w="2844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ckerel Econom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traight Connector 5"/>
          <p:cNvSpPr/>
          <p:nvPr/>
        </p:nvSpPr>
        <p:spPr>
          <a:xfrm flipH="1">
            <a:off x="457200" y="1612800"/>
            <a:ext cx="1440" cy="3645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traight Connector 7"/>
          <p:cNvSpPr/>
          <p:nvPr/>
        </p:nvSpPr>
        <p:spPr>
          <a:xfrm>
            <a:off x="458640" y="5256360"/>
            <a:ext cx="36561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>
            <a:off x="1189080" y="1600200"/>
            <a:ext cx="30240" cy="3657600"/>
          </a:xfrm>
          <a:prstGeom prst="line">
            <a:avLst/>
          </a:prstGeom>
          <a:ln w="1908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traight Connector 14"/>
          <p:cNvSpPr/>
          <p:nvPr/>
        </p:nvSpPr>
        <p:spPr>
          <a:xfrm flipH="1">
            <a:off x="1555560" y="1600200"/>
            <a:ext cx="44280" cy="3656160"/>
          </a:xfrm>
          <a:prstGeom prst="line">
            <a:avLst/>
          </a:prstGeom>
          <a:ln w="1908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22"/>
          <p:cNvSpPr/>
          <p:nvPr/>
        </p:nvSpPr>
        <p:spPr>
          <a:xfrm flipH="1" flipV="1">
            <a:off x="458640" y="3615840"/>
            <a:ext cx="1097280" cy="18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24"/>
          <p:cNvSpPr/>
          <p:nvPr/>
        </p:nvSpPr>
        <p:spPr>
          <a:xfrm flipH="1" flipV="1">
            <a:off x="458280" y="2949120"/>
            <a:ext cx="730440" cy="18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25"/>
          <p:cNvSpPr/>
          <p:nvPr/>
        </p:nvSpPr>
        <p:spPr>
          <a:xfrm>
            <a:off x="684360" y="1600200"/>
            <a:ext cx="3416040" cy="3462480"/>
          </a:xfrm>
          <a:prstGeom prst="pie">
            <a:avLst/>
          </a:prstGeom>
          <a:noFill/>
          <a:ln w="381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traight Connector 32"/>
          <p:cNvSpPr/>
          <p:nvPr/>
        </p:nvSpPr>
        <p:spPr>
          <a:xfrm flipH="1">
            <a:off x="5029200" y="1612800"/>
            <a:ext cx="1440" cy="3645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33"/>
          <p:cNvSpPr/>
          <p:nvPr/>
        </p:nvSpPr>
        <p:spPr>
          <a:xfrm>
            <a:off x="5030640" y="5256360"/>
            <a:ext cx="36561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36"/>
          <p:cNvSpPr/>
          <p:nvPr/>
        </p:nvSpPr>
        <p:spPr>
          <a:xfrm flipH="1">
            <a:off x="7284960" y="1600200"/>
            <a:ext cx="30240" cy="3656160"/>
          </a:xfrm>
          <a:prstGeom prst="line">
            <a:avLst/>
          </a:prstGeom>
          <a:ln w="1908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traight Connector 37"/>
          <p:cNvSpPr/>
          <p:nvPr/>
        </p:nvSpPr>
        <p:spPr>
          <a:xfrm flipH="1">
            <a:off x="7650000" y="1600200"/>
            <a:ext cx="46080" cy="3656160"/>
          </a:xfrm>
          <a:prstGeom prst="line">
            <a:avLst/>
          </a:prstGeom>
          <a:ln w="1908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0"/>
          <p:cNvSpPr/>
          <p:nvPr/>
        </p:nvSpPr>
        <p:spPr>
          <a:xfrm flipH="1" flipV="1">
            <a:off x="5030640" y="4587480"/>
            <a:ext cx="2254320" cy="18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41"/>
          <p:cNvSpPr/>
          <p:nvPr/>
        </p:nvSpPr>
        <p:spPr>
          <a:xfrm flipH="1" flipV="1">
            <a:off x="5030640" y="4770000"/>
            <a:ext cx="2619360" cy="18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42"/>
          <p:cNvSpPr/>
          <p:nvPr/>
        </p:nvSpPr>
        <p:spPr>
          <a:xfrm>
            <a:off x="5256360" y="1600200"/>
            <a:ext cx="3416040" cy="3462480"/>
          </a:xfrm>
          <a:prstGeom prst="pie">
            <a:avLst/>
          </a:prstGeom>
          <a:noFill/>
          <a:ln w="381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fare theory argues for a net gain for produces and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depend on the shape of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 elasti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waste potentially benefits both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 of reduced price variability on consumers not cl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ch Market Survey (N=15,  15 km ap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uesday, 7-8 am,  1996-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erman Survey  (weekly,  N=15*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ing village survey (monthly, N = 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price survey (weekly,  N = 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ermen quickly adopted cell phones as they became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ermen would contact a large number of buyers while at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benefits of cell phones for fishermen documented by Abrahim (ICTD 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 (Jense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information limits functioning of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akes markets work, and markets help the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the I,  not th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ing in Kerala probably not a special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s not a development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figured it out on their 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S (Short Message Servic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 for text messages on GSM 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20 bit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 7-bit,  140 8-bit,  70 16-bit charac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S Costs world w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457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 Cost,  Lo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 Cost US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is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pai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pai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 yu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Ko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w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N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a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p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e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o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ri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u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pu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rt phone vs. Dumb Ph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ICTD work target “Smart Phones” or “Dumb Phones”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Image:Flag of Cuba.svg"/>
          <p:cNvPicPr/>
          <p:nvPr/>
        </p:nvPicPr>
        <p:blipFill>
          <a:blip r:embed="rId1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3960" y="5904000"/>
            <a:ext cx="67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Wired Village (199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se study of a failed kiosk proj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y ambitious go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nding spli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ntral: 50%, State: 40%, 10% Cooper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4 to 70 Village Kios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crete buil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C (Pentium,  Win95), UPS, Pri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ndline, 10 kbps conn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lights from Lecture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health [Telemedicine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tinez et 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/ Low bandwidth,  Sync and Asy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notification, supply management, combating isolation, training, reports, 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distance WiF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Mbps,  20 km,  LOS, isola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ned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rana on Int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base of farmer statis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S of 70 vill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cal language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nd record computer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net site about crop pe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ricultural price inf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ized sugarcane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et connecti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Question:  can the Kiosk functions be replaced by S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hod:  have Kiosk operators use cell phones instead of the PC.  Other operations remained the sam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space: kiosks and computers left in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outs:  handwritten and stamped receipts given by kiosk op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and privacy: not a worry for the farmers.  Access restricted to registered 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Results: Cost Sav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d to w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PC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C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SMS with Kio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SMS without Kio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RS with Kio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RS without Kio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village pi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of kiosk operators on SM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comparable to kio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time: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vorable response from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to expand the pi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rom phones outside of kio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SMS based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ambian National Farmers Un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F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farmprices.co.zm/prices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 Price Qu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Content Placeholder 3" descr="znfu.JPG"/>
          <p:cNvPicPr/>
          <p:nvPr/>
        </p:nvPicPr>
        <p:blipFill>
          <a:blip r:embed="rId1"/>
          <a:stretch/>
        </p:blipFill>
        <p:spPr>
          <a:xfrm>
            <a:off x="1592280" y="1600200"/>
            <a:ext cx="595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denet.b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trading in Wes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ily web based, but supports sms not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Content Placeholder 5" descr="Shea.JPG"/>
          <p:cNvPicPr/>
          <p:nvPr/>
        </p:nvPicPr>
        <p:blipFill>
          <a:blip r:embed="rId1"/>
          <a:stretch/>
        </p:blipFill>
        <p:spPr>
          <a:xfrm>
            <a:off x="4648320" y="2565360"/>
            <a:ext cx="40384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ww.dam.gov.b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ortal with price information for agricultural commodities in Banglad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bd.JPG"/>
          <p:cNvPicPr/>
          <p:nvPr/>
        </p:nvPicPr>
        <p:blipFill>
          <a:blip r:embed="rId1"/>
          <a:stretch/>
        </p:blipFill>
        <p:spPr>
          <a:xfrm>
            <a:off x="4191120" y="2895480"/>
            <a:ext cx="4676760" cy="309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bd3.JPG"/>
          <p:cNvPicPr/>
          <p:nvPr/>
        </p:nvPicPr>
        <p:blipFill>
          <a:blip r:embed="rId2"/>
          <a:stretch/>
        </p:blipFill>
        <p:spPr>
          <a:xfrm>
            <a:off x="228600" y="2819520"/>
            <a:ext cx="390852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things fail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H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systems and developing countries: Failure,  Success, and Local Improv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n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ral Networking (Um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an’s Broadb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K Internet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e Multiplexing of Cellular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icultural Markets (Richa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rt Jen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ana Unw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il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ercentage of startup companies f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ing cause of failure ______________ 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ercentage of IT projects f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ing cause of failure ______________ 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Image:Flag of Morocco.svg"/>
          <p:cNvPicPr/>
          <p:nvPr/>
        </p:nvPicPr>
        <p:blipFill>
          <a:blip r:embed="rId1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-Actuality Ga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s from the designers’ own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ived assumptions about the situation of the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systems per se have a tendency to be designed according to models of rationa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d vs. Soft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512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” rational desig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” political act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d, formal, quantitative 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, informal, 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enabling mechan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, value-laden, status-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le, formal; outcomes as optimal solu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, complex, constrained, inf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s and val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organizational obj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, informal, personal obj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 and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viewed as rational be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viewed as political be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ystems and struct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, objective proces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, subjective proces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resources: time and mon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to achieve organizational e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to achieve personal e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CE: Kenya Agricultural Commodity Ex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te sector firm collecting and distributing market information to smallholder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information to help small holder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power of middle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place arbit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goods through offers to buy and s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Map of Kenya"/>
          <p:cNvPicPr/>
          <p:nvPr/>
        </p:nvPicPr>
        <p:blipFill>
          <a:blip r:embed="rId1"/>
          <a:stretch/>
        </p:blipFill>
        <p:spPr>
          <a:xfrm>
            <a:off x="7434360" y="0"/>
            <a:ext cx="1709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CE M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ral market based Market Information Points (MIP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trict-level Market Information Centers (MI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bile Phone Short Messaging Service (SM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active Voice Response (IVR) ser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et based database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 media (radi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bile Ph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ded service with Safari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Ksh per message  ($ 0.10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SMS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s updated da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voicemai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recorded in English and Kiswah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K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 – 2 MICs,  11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from fou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ID,  Rockefeller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term model – user fees,  revenue sharing with phone 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ate SMS, and website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of study an upswing in Voic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improvements in market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bile phone based market information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mportant do you expect these to b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36"/>
          <p:cNvGrpSpPr/>
          <p:nvPr/>
        </p:nvGrpSpPr>
        <p:grpSpPr>
          <a:xfrm>
            <a:off x="457200" y="2819520"/>
            <a:ext cx="8229600" cy="228600"/>
            <a:chOff x="457200" y="2819520"/>
            <a:chExt cx="8229600" cy="228600"/>
          </a:xfrm>
        </p:grpSpPr>
        <p:sp>
          <p:nvSpPr>
            <p:cNvPr id="198" name="Straight Connector 4"/>
            <p:cNvSpPr/>
            <p:nvPr/>
          </p:nvSpPr>
          <p:spPr>
            <a:xfrm>
              <a:off x="457200" y="2819520"/>
              <a:ext cx="82296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6"/>
            <p:cNvSpPr/>
            <p:nvPr/>
          </p:nvSpPr>
          <p:spPr>
            <a:xfrm flipH="1">
              <a:off x="45720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7"/>
            <p:cNvSpPr/>
            <p:nvPr/>
          </p:nvSpPr>
          <p:spPr>
            <a:xfrm flipH="1">
              <a:off x="210348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8"/>
            <p:cNvSpPr/>
            <p:nvPr/>
          </p:nvSpPr>
          <p:spPr>
            <a:xfrm flipH="1">
              <a:off x="374976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9"/>
            <p:cNvSpPr/>
            <p:nvPr/>
          </p:nvSpPr>
          <p:spPr>
            <a:xfrm flipH="1">
              <a:off x="539604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10"/>
            <p:cNvSpPr/>
            <p:nvPr/>
          </p:nvSpPr>
          <p:spPr>
            <a:xfrm flipH="1">
              <a:off x="868536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13"/>
            <p:cNvSpPr/>
            <p:nvPr/>
          </p:nvSpPr>
          <p:spPr>
            <a:xfrm flipH="1">
              <a:off x="704232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TextBox 37"/>
          <p:cNvSpPr/>
          <p:nvPr/>
        </p:nvSpPr>
        <p:spPr>
          <a:xfrm>
            <a:off x="0" y="3048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se than usel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38"/>
          <p:cNvSpPr/>
          <p:nvPr/>
        </p:nvSpPr>
        <p:spPr>
          <a:xfrm>
            <a:off x="1523880" y="3048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39"/>
          <p:cNvSpPr/>
          <p:nvPr/>
        </p:nvSpPr>
        <p:spPr>
          <a:xfrm>
            <a:off x="2971800" y="30481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or : niche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40"/>
          <p:cNvSpPr/>
          <p:nvPr/>
        </p:nvSpPr>
        <p:spPr>
          <a:xfrm>
            <a:off x="4648320" y="3048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rate: multiple  locales and cr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41"/>
          <p:cNvSpPr/>
          <p:nvPr/>
        </p:nvSpPr>
        <p:spPr>
          <a:xfrm>
            <a:off x="6324480" y="304812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ificant: widespread 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2"/>
          <p:cNvSpPr/>
          <p:nvPr/>
        </p:nvSpPr>
        <p:spPr>
          <a:xfrm>
            <a:off x="7772400" y="30481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olutionar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 change agricul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Image:Flag of Eritrea.svg"/>
          <p:cNvPicPr/>
          <p:nvPr/>
        </p:nvPicPr>
        <p:blipFill>
          <a:blip r:embed="rId1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cture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aling with networking constrai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ynchronous web acc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ortance of Marke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sen,  Sardine fishing in Ker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MS based 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al queries for sugar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ther agricultural deployments uncle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earch challenge – expand reach of network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and Cell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mar Sa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 Professor of Computer    Science and Engineering,  LUMS,  Lahore, Pakis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Sc,  LUMS,  PhD,  Cambridge,  PostDoc 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:  Ubiquitous Computing,  OS, Distributed Systems, 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tt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http://web.lums.edu.pk/umar/images/mekillian.jpg"/>
          <p:cNvPicPr/>
          <p:nvPr/>
        </p:nvPicPr>
        <p:blipFill>
          <a:blip r:embed="rId1"/>
          <a:stretch/>
        </p:blipFill>
        <p:spPr>
          <a:xfrm>
            <a:off x="7581960" y="0"/>
            <a:ext cx="15620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these flags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960" y="5904000"/>
            <a:ext cx="67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Image:Flag of Indones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00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age:Flag of Mongolia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525780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mage:Flag of Zambia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Image:Flag of South Africa.sv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4400" y="3429000"/>
            <a:ext cx="183024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Image:Flag of Pakistan.sv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34290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Image:Flag of Cambodia.sv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3429000"/>
            <a:ext cx="183672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Image:Flag of Russia.svg"/>
          <p:cNvPicPr/>
          <p:nvPr/>
        </p:nvPicPr>
        <p:blipFill>
          <a:blip r:embed="rId13"/>
          <a:stretch/>
        </p:blipFill>
        <p:spPr>
          <a:xfrm>
            <a:off x="3657600" y="1600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Image:Flag of the United States.svg"/>
          <p:cNvPicPr/>
          <p:nvPr/>
        </p:nvPicPr>
        <p:blipFill>
          <a:blip r:embed="rId14"/>
          <a:stretch/>
        </p:blipFill>
        <p:spPr>
          <a:xfrm>
            <a:off x="8229600" y="637704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Image:Flag of India.svg"/>
          <p:cNvPicPr/>
          <p:nvPr/>
        </p:nvPicPr>
        <p:blipFill>
          <a:blip r:embed="rId15"/>
          <a:stretch/>
        </p:blipFill>
        <p:spPr>
          <a:xfrm>
            <a:off x="914400" y="52578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Image:Flag of Argentina.svg"/>
          <p:cNvPicPr/>
          <p:nvPr/>
        </p:nvPicPr>
        <p:blipFill>
          <a:blip r:embed="rId16"/>
          <a:stretch/>
        </p:blipFill>
        <p:spPr>
          <a:xfrm>
            <a:off x="3657600" y="5257800"/>
            <a:ext cx="18288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mar’s Sl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Unwi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gh profile kiosk project to support agricultu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7 years, the project had only achieved a fraction of its goals and had very high maintenance co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in application was replaced by a cell phone/sms appl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6" descr="Low cost mobile phones"/>
          <p:cNvPicPr/>
          <p:nvPr/>
        </p:nvPicPr>
        <p:blipFill>
          <a:blip r:embed="rId1"/>
          <a:stretch/>
        </p:blipFill>
        <p:spPr>
          <a:xfrm>
            <a:off x="5410080" y="4343400"/>
            <a:ext cx="2895840" cy="194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6" name="Picture 17" descr="PC"/>
          <p:cNvPicPr/>
          <p:nvPr/>
        </p:nvPicPr>
        <p:blipFill>
          <a:blip r:embed="rId2"/>
          <a:stretch/>
        </p:blipFill>
        <p:spPr>
          <a:xfrm>
            <a:off x="914400" y="4343400"/>
            <a:ext cx="2801880" cy="193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Sugar Coopera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 harvest,  farmers send sugar cane to cooperative for proc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rmers receive reports of the amount of sugar cane processed by fac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Kiosk Proj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rmers visit central processing off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Kiosk Proj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rmers visit kiosk off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osk operator places requ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one or two days, farmer gets re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1:40:59Z</dcterms:created>
  <dc:creator>Richard</dc:creator>
  <dc:description/>
  <dc:language>en-US</dc:language>
  <cp:lastModifiedBy>Fred Videon</cp:lastModifiedBy>
  <dcterms:modified xsi:type="dcterms:W3CDTF">2008-04-23T21:39:25Z</dcterms:modified>
  <cp:revision>623</cp:revision>
  <dc:subject/>
  <dc:title>Slide 1</dc:title>
</cp:coreProperties>
</file>