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CC4B-E4A3-4124-A2F2-8A14AEA6A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6654-995D-416A-87F8-58B0DA8B3E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44FF-86B5-4BA0-925D-50A76E96ED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0D10-6769-42C8-8673-99789D3A59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DC6C-937B-4592-97E4-7FFC3A8A912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F20E-4272-47FC-A675-72433B5A00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867D-72EF-4EF4-8797-3B721DD550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7077-76AB-4385-A4F1-F1C608A6A5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507A-AF79-4322-A31A-4D204842EF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3B4E-DA9E-4CF9-B183-277280A7D5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C644-C4F0-4293-8B82-C07216E28C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C9FC-18D4-4877-BF60-FE3B82A980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E627-0145-4537-823B-32A2E1B315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3BA6-9E30-47BE-9360-51D6EF42FB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25B0-9490-4234-8496-B9BE7CC2DC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2D14-C630-4109-863A-E4685B729BB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C493-C69F-48F4-AADD-66086F6BA7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5FB0-5D0C-43F6-857E-02C27C3774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C30A-5E44-4510-A813-9707C3D498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1DB7-82F5-42ED-A507-7DCAEC7ED6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06A6-641C-44BC-B89C-37873D7733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B376-EBD3-4ED6-8FD5-FE6FE9303C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FD3E-9AC7-468E-8683-68C6F1CF30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867F-761A-413D-8467-395833508B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7819-C8C2-4053-B807-17AE6FDBA5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4CE0-4433-444A-9461-10632CF325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FC24-E161-485A-A8C3-F8DE04457E9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8BB6-3760-4DEE-9F0C-B14DB6B370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92D8-46FE-4E2A-88F8-B102A01CF4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9B37-3085-4456-9699-40B87FE926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F166-60C6-41D3-A35B-E8FD7D944E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725A-F1D4-4691-839A-85C254B4F8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1625-2CCF-4987-9EBE-11917F31BB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D5EA-8467-49D9-ADC8-ADD801FDBA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F75-2B31-40A1-973E-CFD546F7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DB3-DF8C-4E7E-8CF4-2D2F64C1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D4E-A303-4C7E-AE11-92E4DF1E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748F-CC4A-4A6C-95EA-F5E9FFAA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BA78-2B0F-415D-9727-6E941E02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8E34-4EC1-4CC7-88DE-5AE63184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6FEC-40A1-4119-B584-B0FD7ACE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D4C-6C8B-4440-A0B4-DA369A5B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FA3-A415-4461-B287-F7ACC208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EB77-215C-4AC0-A0BA-A71CDBA9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4B4-26BA-4662-BF73-8DB63405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30C-70E8-4BC4-BA0C-4F7AEF57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6490-1935-44C2-B473-789592CB22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ing and the Developing 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EP 590B,  Spring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3 - Tele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And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neaker 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bandwidth of a single DVD carried between Africa and the U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Image:Flag of Sudan.svg"/>
          <p:cNvPicPr/>
          <p:nvPr/>
        </p:nvPicPr>
        <p:blipFill>
          <a:blip r:embed="rId1"/>
          <a:stretch/>
        </p:blipFill>
        <p:spPr>
          <a:xfrm>
            <a:off x="8229600" y="6400800"/>
            <a:ext cx="914400" cy="457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0" y="59342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k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 Media Lab,  First Mile Solutions,  United Vill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atency connectivity sufficient for many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hicle based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y on regularly scheduled tran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 wireless data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hicle has “Mobile Access Poi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osk has wireless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vehicle in range of kiosk, data is excha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and power are 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rage existing transportation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issa Pilot,  Bu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 of public bu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dvantages of public bu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5" descr="India.jpg"/>
          <p:cNvPicPr/>
          <p:nvPr/>
        </p:nvPicPr>
        <p:blipFill>
          <a:blip r:embed="rId1"/>
          <a:stretch/>
        </p:blipFill>
        <p:spPr>
          <a:xfrm>
            <a:off x="7734240" y="0"/>
            <a:ext cx="1409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mbodia Pil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connectivity for AAfc/JRF sch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0 schools with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lot for 15 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or scooters used to carry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 schools with VSAT:  USD 260,3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kNet to share 1 VSAT:  USD 39,9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iosk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 Keshav,  University of Waterlo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um cost kio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: $100 PC (aka recycled P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ycled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mainte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ll system deploy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o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cost computers with Kiosk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Backha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e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x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acy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ical Challe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tion of Delay Tolerant Networks (DTN),  Integration with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model, Public Key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boot from Kiosk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e software update integrated with data fe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iosk Summar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could fund a Kiosk Research Project  what is the problem you would have the project investig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Image:Flag of Tonga.svg"/>
          <p:cNvPicPr/>
          <p:nvPr/>
        </p:nvPicPr>
        <p:blipFill>
          <a:blip r:embed="rId1"/>
          <a:stretch/>
        </p:blipFill>
        <p:spPr>
          <a:xfrm>
            <a:off x="8229600" y="6400800"/>
            <a:ext cx="91440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0" y="59342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hallenge of Telemedic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assig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lementary Rea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:  csep590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:  stu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ered Health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aching Hospit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gional Hospit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trict Hospit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lth Ce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lth Po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readings, what are the three most important problems addressable by I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867280" y="1600200"/>
            <a:ext cx="2895840" cy="4800600"/>
          </a:xfrm>
          <a:prstGeom prst="rect">
            <a:avLst/>
          </a:prstGeom>
          <a:noFill/>
          <a:ln w="5724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5958360" y="1676520"/>
            <a:ext cx="26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7" descr="Image:Flag of Turkmenistan.svg"/>
          <p:cNvPicPr/>
          <p:nvPr/>
        </p:nvPicPr>
        <p:blipFill>
          <a:blip r:embed="rId1"/>
          <a:stretch/>
        </p:blipFill>
        <p:spPr>
          <a:xfrm>
            <a:off x="8229600" y="624852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0" y="59342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ortant problem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summary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11480" indent="-4114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480" indent="-4114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480" indent="-4114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480" indent="-4114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480" indent="-4114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480" indent="-4114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480" indent="-411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lemedic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elemedicine is the ability to provide interactive healthcare utilizing modern technology and telecommunications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pecialist referra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ou have a bad sore thro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mary care physician arranges remote consultation with ENT speciali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udio video conference with medical records available to the speciali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pecial equipment – nasalpharyngoscope for real time imaging sent to speciali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acilitate scheduling and tra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mary care physician participa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age mode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al-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or outpatient specialty consul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ysician supervision of non-MD Clinici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ore and Forw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leradiolo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ages scanned, direct capture,  digital came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rmatology, Ophthalmology, Patholo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me Health Telemedic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ease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sisted Liv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lemedicine in the developing 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lly considering a broader probl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can ICT improve care in remote reg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panning greater divid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vel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conomic differenti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ertise differen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twork connectiv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icity and other infra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anc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able pro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avind Eye Hos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te exams through mobile 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 based detection of diabetic retin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 Lion Hospital, Addis Ababa, Ethiopia and Care Group Hospitals, Hyderabad,  I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t 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ber optic and satellite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NonProliferativeDiabeticRetinopathy.jpg"/>
          <p:cNvPicPr/>
          <p:nvPr/>
        </p:nvPicPr>
        <p:blipFill>
          <a:blip r:embed="rId1"/>
          <a:stretch/>
        </p:blipFill>
        <p:spPr>
          <a:xfrm>
            <a:off x="7010280" y="1143000"/>
            <a:ext cx="15242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lemedicine 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questions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 the shelf applica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3" hidden="1"/>
          <p:cNvSpPr/>
          <p:nvPr/>
        </p:nvSpPr>
        <p:spPr>
          <a:xfrm>
            <a:off x="6191640" y="3048120"/>
            <a:ext cx="2980440" cy="2562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al time consul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ynchronous consul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alth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ersonal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port generation and fi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mergency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pcoming Health Topic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l Rec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for health car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connectivity (agai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bandwidth,  synchron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bandwidth,  synchron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bandwidth,  asynchron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bandwidth,  asynchron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day’s cla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osk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Bandwidth, High Latency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u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reless Long Distanc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Fi-based Long Distance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 inexpensive, high bandwidth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 the shelf, 802.11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al Anten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ification of MAC layer protoc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Gangetic Plains,  IIT Kanp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avind Eye Hospital,  TIER Group,  Berke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802.11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dity 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expensive broad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max / Cell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nsive infrastructure amortized over large user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licensed spect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 of Sig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 of 10s of K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est range ~ 300 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wers are a big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xisting buil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tre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4724280"/>
          <a:ext cx="7543800" cy="741600"/>
        </p:xfrm>
        <a:graphic>
          <a:graphicData uri="http://schemas.openxmlformats.org/drawingml/2006/table">
            <a:tbl>
              <a:tblPr/>
              <a:tblGrid>
                <a:gridCol w="943200"/>
                <a:gridCol w="942840"/>
                <a:gridCol w="942840"/>
                <a:gridCol w="943200"/>
                <a:gridCol w="942840"/>
                <a:gridCol w="943200"/>
                <a:gridCol w="942840"/>
                <a:gridCol w="942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igh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8" name="TextBox 4"/>
          <p:cNvSpPr/>
          <p:nvPr/>
        </p:nvSpPr>
        <p:spPr>
          <a:xfrm>
            <a:off x="1172520" y="5715000"/>
            <a:ext cx="67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s from IITK,  Height in Meters,  Cost in U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al anten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y to support long d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acknowledgement protoc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 detection / correction important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work well around other access 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ployment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ing antennas and rel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nna config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te 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challenges while hacking commodity 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ying on the network while debugging th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 channels and recovery mech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all eval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avind project demonstrates sustained bandwid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ty in a production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alternatives are $$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k throughput 5-7Mbps at 2% l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6 kbps (each way) for video confere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deployments 500 kbps because of lack of clear line of s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ole do you expect long distance wireless to play in this fie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Image:Flag of Trinidad and Tobago.svg"/>
          <p:cNvPicPr/>
          <p:nvPr/>
        </p:nvPicPr>
        <p:blipFill>
          <a:blip r:embed="rId1"/>
          <a:stretch/>
        </p:blipFill>
        <p:spPr>
          <a:xfrm>
            <a:off x="8229600" y="6308640"/>
            <a:ext cx="914400" cy="5493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0" y="59342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xt We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ar Sa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Net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S Bas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ana Unw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work Assig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Exploration:  SMS-based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http://web.lums.edu.pk/umar/images/mekillian.jpg"/>
          <p:cNvPicPr/>
          <p:nvPr/>
        </p:nvPicPr>
        <p:blipFill>
          <a:blip r:embed="rId1"/>
          <a:stretch/>
        </p:blipFill>
        <p:spPr>
          <a:xfrm>
            <a:off x="7315200" y="1523880"/>
            <a:ext cx="1325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ghlights from Lecture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osk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ial 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ility of Kio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me generation too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iosk 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y Grail of ICT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fundamentally different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down from economic v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ksha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up from n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mote Internet Ac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y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 of Conn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l of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dwidth,  Latency, 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connectivity demands of different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 the internet create rural business opportuniti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ditional Craft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“direct from the village” internet based traditional craft business viable?  Why or why n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Image:Flag of Micronesia.svg"/>
          <p:cNvPicPr/>
          <p:nvPr/>
        </p:nvPicPr>
        <p:blipFill>
          <a:blip r:embed="rId1"/>
          <a:stretch/>
        </p:blipFill>
        <p:spPr>
          <a:xfrm>
            <a:off x="8229600" y="6377040"/>
            <a:ext cx="914400" cy="480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drishteehaat.com/ThumbImage.aspx?FileName=E:/sites/drishtee/drishtee.com/web/images/Products/75.jpg&amp;width=200&amp;height=200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362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www.drishteehaat.com/ThumbImage.aspx?FileName=E:/sites/drishtee/drishtee.com/web/images/Products/20.60.jpg&amp;width=200&amp;height=200"/>
          <p:cNvPicPr/>
          <p:nvPr/>
        </p:nvPicPr>
        <p:blipFill>
          <a:blip r:embed="rId3"/>
          <a:stretch/>
        </p:blipFill>
        <p:spPr>
          <a:xfrm>
            <a:off x="0" y="0"/>
            <a:ext cx="1400040" cy="129528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0" y="59342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 Case Stud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1:40:59Z</dcterms:created>
  <dc:creator>Richard</dc:creator>
  <dc:description/>
  <dc:language>en-US</dc:language>
  <cp:lastModifiedBy>Fred Videon</cp:lastModifiedBy>
  <dcterms:modified xsi:type="dcterms:W3CDTF">2008-04-17T00:17:04Z</dcterms:modified>
  <cp:revision>439</cp:revision>
  <dc:subject/>
  <dc:title>Slide 1</dc:title>
</cp:coreProperties>
</file>