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90B9-F9A4-4F17-902F-291953C2D4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BCFB-8F13-4C1C-A758-36B245F6C05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C778-1133-4F30-BA3A-D176854A1BA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D3D8-0987-431B-94D0-0E891A082D5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EB71-6A7C-4840-8AAF-8ED926B1E98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FA7B-DC75-47FA-97F8-5B4248D0485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88DD-FD90-47AB-A57D-F78A700DE3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0572-99B9-42E0-B29F-C8A9BFEC506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3AB5-F143-4EC8-955E-F669CA6C74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56BF-952B-4D47-9720-140DB7363CC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841E-FCA9-479D-B699-5759B0D50E4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2E0D-4403-43C6-B4D0-F75373E0716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3F60-B9CD-40B4-9838-95793BCB784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3A47-0226-4192-A501-6DE8FB97E27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2965-8C0A-48C1-B046-2FCD93D50E7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AF82-9C3F-427A-9029-9F1C4EC7AD8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B33C-BEB2-4908-B6EE-2DA223CAA02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D295-93A3-4DB9-96D6-B8B749D1041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687A-7ED8-4B93-848E-04720FA625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F082-89F0-43D6-8CEA-0F3718BA5FF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9AA6-94E6-456C-80B2-3213D0C677E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5C25-0882-465B-9B2C-236B4070435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84AB-1C3E-4C6D-B118-4B780962D85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756A-09D0-4EE7-91E1-BFFBDA4193C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B9ED-5BF6-4FDE-8F78-0EB9AD571DF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9575-A987-4FC2-B784-54618E3B8C4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599E-87B1-4E5A-8F21-C5A4E06B06E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33A9-0A5B-4F93-A7B2-9E9BEC0EAFA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7D31-94DB-43AD-A598-BD31CD42314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8148-C865-40DB-98E7-B8B13F67763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F8AB-5D77-4C62-9636-DD05FADD5E7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A015-9D6F-4545-8648-3FD05B0059A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0F89-A5B3-4898-A209-0F0EF5BBE45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133B-CCC8-4EEB-9173-36F2C2FC5B1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57E4-9FEF-4A2F-A5C8-96EB3B52771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D80D-F7D8-4E38-8452-E9E74485963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706C-262A-48E4-9274-B397AFF92F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4E20-FB19-46F7-AFF6-1B7250D24B8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9858-5B79-4D19-A214-F7CE6FF0CF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B409-8679-46B5-93AD-DDA7AEAB842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9BA6-6291-4656-8AE6-35944137CA2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837A-C8A4-4E9D-BC65-ACA5EF15743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BD1A-A1D8-4BE4-A051-8D5F15DB30E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50ED-5316-42FD-87AA-5D1DB606558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B71C-4CC5-4AE4-8901-E9B901D7C0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B717-F8B7-4D11-9CFB-E8C5224A6BC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BA2D-F70D-4030-8124-F44D9777936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8BB0-F19D-4196-85C0-63804D8891E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85DB-D810-461B-9916-6C8DBF9A0EE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B341-13E1-4F4A-86C8-667448B4BD4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0E07-B0ED-454E-B88B-2CC39FFFD52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9C81-22D3-4004-9359-16D80D0AB5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8FA8-2D6B-4F21-ADD3-CAB8B7253A5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9968-662B-43CA-987E-C4A300C1A55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D33D-34AE-40A2-8AC0-798D0239BC9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9ACA-C8EE-477A-BCEE-B0A3B825D57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89C8-8F4A-4F7E-90B5-1928596AFAB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BD9C-82F3-4198-BE36-94D9F0F7C3D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E735-C132-4373-9FF9-FB826DDACCA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C3E6-83E8-412F-AEDC-FCF625EC94E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7E83-380F-425E-95AD-59A3CF1C32F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850B-9AED-409F-8FA8-0A04BED7BA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A3D8-0E55-402A-A916-C39099923A8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B355-BF07-45D0-8A1E-878A3F5B1E3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4D67-2B57-41B3-9397-BF9433299D9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59E2-02B7-4B01-AC11-33B3A070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7D8A-5069-4A78-90A2-255A1DE9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19DB-4159-4F5F-BDD7-44C7FA81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81B0-4A01-4D2C-BF6F-491D25B9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B89F-D0F2-4121-AF81-A7D9DF3E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BBC2-8741-4429-96D8-DAEEC63A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1292-DF16-4F9A-9C2D-DF5AF748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CDB4-C3E7-42D9-9B65-F06C67EF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ACB5-D6DE-45FC-946A-D0493113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77D0-3BCC-4C96-BE09-7C3E8C13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A479-2F7F-42EF-97A3-B6278F08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E672-65B0-4F78-9683-CBDFD98B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F65F-D62D-4EAD-9A46-64BBDE1ED6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uting and the Developing Wor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EP 590B,  Spring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cture 2 - Kio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ard And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main issues you addressed?  Is your project via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Image:BlankMap-World.png"/>
          <p:cNvPicPr/>
          <p:nvPr/>
        </p:nvPicPr>
        <p:blipFill>
          <a:blip r:embed="rId2"/>
          <a:stretch/>
        </p:blipFill>
        <p:spPr>
          <a:xfrm>
            <a:off x="304920" y="1600200"/>
            <a:ext cx="8488080" cy="3724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Image:Flag of Jamaica.svg"/>
          <p:cNvPicPr/>
          <p:nvPr/>
        </p:nvPicPr>
        <p:blipFill>
          <a:blip r:embed="rId3"/>
          <a:stretch/>
        </p:blipFill>
        <p:spPr>
          <a:xfrm>
            <a:off x="8226360" y="6399360"/>
            <a:ext cx="91764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applications would you expect to bring in the most revenue in your kiosk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Image:Flag of the Central African Republic.svg"/>
          <p:cNvPicPr/>
          <p:nvPr/>
        </p:nvPicPr>
        <p:blipFill>
          <a:blip r:embed="rId2"/>
          <a:stretch/>
        </p:blipFill>
        <p:spPr>
          <a:xfrm>
            <a:off x="8158320" y="6200640"/>
            <a:ext cx="9856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ology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ing Hard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Conn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site  (security,  environ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osk Computing Hardware/Software/Infrastru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cost 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s/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ion from the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id,  backup,  UPS (uninterruptible power suppl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net Conne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net Usage Per Countr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Users per 100,  2006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657600" y="1600200"/>
          <a:ext cx="2666880" cy="445788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uad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tre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ela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y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yrgyzst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kist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wan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ila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57200" y="1600200"/>
          <a:ext cx="2743200" cy="445788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ghanist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an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er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al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swa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kina Fa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bod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2" name="TextBox 10" hidden="1"/>
          <p:cNvSpPr/>
          <p:nvPr/>
        </p:nvSpPr>
        <p:spPr>
          <a:xfrm>
            <a:off x="7238880" y="1600200"/>
            <a:ext cx="175284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ghanista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1.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bania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geria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7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gentina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ia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5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arus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6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i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8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swana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3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rkina Faso   0.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mbodia        0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na             10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o              1.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uador         11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trea              2.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celand           65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a                5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nya              7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yrgyzstan       5.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i                  0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kistan           7.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wanda            0.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uth Africa    10.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iland          13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men               1.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net Connection Challen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 One:  Getting bits from here to 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 Two:  The companies invol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 Three:  The countries invol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cal Fi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ell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frica:  SAT3 / EAS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2" descr="Image:Blankmap-Africa2.png"/>
          <p:cNvPicPr/>
          <p:nvPr/>
        </p:nvPicPr>
        <p:blipFill>
          <a:blip r:embed="rId1"/>
          <a:stretch/>
        </p:blipFill>
        <p:spPr>
          <a:xfrm>
            <a:off x="4648320" y="1770120"/>
            <a:ext cx="4038480" cy="4186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fibreforafrica.net/img/sat3map.gif"/>
          <p:cNvPicPr/>
          <p:nvPr/>
        </p:nvPicPr>
        <p:blipFill>
          <a:blip r:embed="rId2"/>
          <a:stretch/>
        </p:blipFill>
        <p:spPr>
          <a:xfrm>
            <a:off x="152280" y="2209680"/>
            <a:ext cx="42865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kistan: Fiber Conne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Content Placeholder 3" descr="s_asia.png"/>
          <p:cNvPicPr/>
          <p:nvPr/>
        </p:nvPicPr>
        <p:blipFill>
          <a:blip r:embed="rId1"/>
          <a:srcRect l="0" t="0" r="25485" b="0"/>
          <a:stretch/>
        </p:blipFill>
        <p:spPr>
          <a:xfrm>
            <a:off x="4876920" y="1676520"/>
            <a:ext cx="3759120" cy="3684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Image:Flag of Pakistan.svg"/>
          <p:cNvPicPr/>
          <p:nvPr/>
        </p:nvPicPr>
        <p:blipFill>
          <a:blip r:embed="rId2"/>
          <a:stretch/>
        </p:blipFill>
        <p:spPr>
          <a:xfrm>
            <a:off x="8226360" y="6246720"/>
            <a:ext cx="91764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minist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up for the mailing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000"/>
                </a:solidFill>
                <a:uFillTx/>
                <a:latin typeface="Arial"/>
              </a:rPr>
              <a:t>www.cs.washington.edu/csep590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000"/>
                </a:solidFill>
                <a:uFillTx/>
                <a:latin typeface="Arial"/>
              </a:rPr>
              <a:t>mailman.cs.washington.edu/mailman/listinfo/csep590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assig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work assig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mit online,  .doc  (not .docx) or .pd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difference between an Internet Kiosk and a Cyber Café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ld wide cyber café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229600" cy="4726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e Hour (local currenc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e Hour (US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iosk Appl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stain an internet kiosk by applications that customers will pay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a social benef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three potential Kiosk applications  Rate commercial potential and social benef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1447920"/>
          <a:ext cx="7315200" cy="4876560"/>
        </p:xfrm>
        <a:graphic>
          <a:graphicData uri="http://schemas.openxmlformats.org/drawingml/2006/table">
            <a:tbl>
              <a:tblPr/>
              <a:tblGrid>
                <a:gridCol w="3353040"/>
                <a:gridCol w="1904760"/>
                <a:gridCol w="205740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Applic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Commercial Potent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Social Benef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a88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a88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a889d"/>
                    </a:solidFill>
                  </a:tcPr>
                </a:tc>
              </a:tr>
              <a:tr h="13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13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a88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a88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a889d"/>
                    </a:solidFill>
                  </a:tcPr>
                </a:tc>
              </a:tr>
            </a:tbl>
          </a:graphicData>
        </a:graphic>
      </p:graphicFrame>
      <p:pic>
        <p:nvPicPr>
          <p:cNvPr id="101" name="Picture 27" descr="Image:Flag of Burundi.svg"/>
          <p:cNvPicPr/>
          <p:nvPr/>
        </p:nvPicPr>
        <p:blipFill>
          <a:blip r:embed="rId1"/>
          <a:stretch/>
        </p:blipFill>
        <p:spPr>
          <a:xfrm>
            <a:off x="8229600" y="6308640"/>
            <a:ext cx="914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ercial Potent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cial Benef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iosk Case Stud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osk K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-Logu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sht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kshaya - Kera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-Choupal - I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kNet - Zam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-Log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osk Kit  (rs. 53,5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eless corDect conn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nded PC with 15” moni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akers, microphone, printer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b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 su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month internet subscri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De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kbps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km los conne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iginated from IIT-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isht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sht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ral services + Kio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 Cour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lish Pro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ri-qu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-Govern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ral e-comme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co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les                25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bscriptions     9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tup                4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tributions    26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n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ponsor a kiosk $175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ding to support mobile busin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c000"/>
                </a:solidFill>
                <a:uFillTx/>
                <a:latin typeface="Arial"/>
              </a:rPr>
              <a:t>www.drishtee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c000"/>
                </a:solidFill>
                <a:uFillTx/>
                <a:latin typeface="Arial"/>
              </a:rPr>
              <a:t>www.drishteehaat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kshaya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eral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ong emphasis on human develop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rst state in India to achieve “100% literacy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kshaya goal:  “100% e-literacy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nsely popula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od infra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lappuram District,  Keral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gh rate of overseas work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or distri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me district of the Information Technology Minis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2" descr="south-india.jpg"/>
          <p:cNvPicPr/>
          <p:nvPr/>
        </p:nvPicPr>
        <p:blipFill>
          <a:blip r:embed="rId1"/>
          <a:stretch/>
        </p:blipFill>
        <p:spPr>
          <a:xfrm>
            <a:off x="7402680" y="0"/>
            <a:ext cx="1741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day’s cla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ral Computer Kio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hared access computing available through subsidized computer ce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term sustainability through revenue generating applic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work discu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osk Case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logy Case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kshaya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mall computer centers – 5 computers per si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600 Centers set 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 per every thousand househol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veryone with 3km of a computer cen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reless netw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stablished to promote eLiterac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ffered cd-rom based cour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ducate one member of every fami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akshaya.n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tu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ivate / State partnershi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ntreprenu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urchased equipment $45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n center as a busin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t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sign and brand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network connectiv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avily subsidized e-literacy training (rs 100 out of rs 120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cilitated lo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itera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enters required to offer eLiteracy cour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5 hours to teach about compu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ic computing applications NOT cover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rget: one member of every househol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ong financial incentiv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rox. 80% of households reported to receive train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fter eLiteracy phase, centers were to be self sustaining (but with state provided interne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fter initial phase,  approx 200 kiosks clos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panding to other distri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ower density (1/3000 vs 1/1000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creased beneficiary contribu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oader mix of servi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erview stud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cially driven vs. Business driven entrepreneu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bsidized training brought in poor people – but did not keep th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flicting role of state and busin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g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371600"/>
          <a:ext cx="2438280" cy="5181480"/>
        </p:xfrm>
        <a:graphic>
          <a:graphicData uri="http://schemas.openxmlformats.org/drawingml/2006/table">
            <a:tbl>
              <a:tblPr/>
              <a:tblGrid>
                <a:gridCol w="1676520"/>
                <a:gridCol w="761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 Download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yw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tai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In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ult Cont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rimoni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 Sear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29" name="TextBox 4"/>
          <p:cNvSpPr/>
          <p:nvPr/>
        </p:nvSpPr>
        <p:spPr>
          <a:xfrm>
            <a:off x="4459680" y="1447920"/>
            <a:ext cx="3050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guage 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glish                   7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layalam             10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tuguese              6.8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/Unknown       8.4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guage for new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layalam                  9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glish                         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ntry hosting cont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ed States          72.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a                          6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eden                     4.9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azil                         3.0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na                         1.6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/Unknown        11.38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rve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rvey of general public about Akshay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 goal of Akshaya was to reach entire population – general surveys were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as a member of your household taken the Akshaya course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vey results:               30%  [8% - 50%]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epreneurs figure:     80%   [59% - 100%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repancy:                  50%  [23% - 81%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jority of people introduced to computing by Akshaya would not have had access without i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dian age 16 for course tak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ow use rate of kiosks after course comple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serv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1" descr="http://210.212.236.212/akshaya/images/online_services_epayment.gif"/>
          <p:cNvPicPr/>
          <p:nvPr/>
        </p:nvPicPr>
        <p:blipFill>
          <a:blip r:embed="rId1"/>
          <a:stretch/>
        </p:blipFill>
        <p:spPr>
          <a:xfrm>
            <a:off x="762120" y="1905120"/>
            <a:ext cx="1228680" cy="990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http://210.212.236.212/akshaya/images/online_services_ekrishi.jpg"/>
          <p:cNvPicPr/>
          <p:nvPr/>
        </p:nvPicPr>
        <p:blipFill>
          <a:blip r:embed="rId2"/>
          <a:stretch/>
        </p:blipFill>
        <p:spPr>
          <a:xfrm>
            <a:off x="2743200" y="1905120"/>
            <a:ext cx="1228680" cy="990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http://210.212.236.212/akshaya/images/online_services_egovt.jpg"/>
          <p:cNvPicPr/>
          <p:nvPr/>
        </p:nvPicPr>
        <p:blipFill>
          <a:blip r:embed="rId3"/>
          <a:stretch/>
        </p:blipFill>
        <p:spPr>
          <a:xfrm>
            <a:off x="4724280" y="1905120"/>
            <a:ext cx="1228680" cy="990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210.212.236.212/akshaya/images/online_services_cal.gif"/>
          <p:cNvPicPr/>
          <p:nvPr/>
        </p:nvPicPr>
        <p:blipFill>
          <a:blip r:embed="rId4"/>
          <a:stretch/>
        </p:blipFill>
        <p:spPr>
          <a:xfrm>
            <a:off x="6629400" y="1905120"/>
            <a:ext cx="1228680" cy="99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http://210.212.236.212/akshaya/images/online_services_xmon.gif"/>
          <p:cNvPicPr/>
          <p:nvPr/>
        </p:nvPicPr>
        <p:blipFill>
          <a:blip r:embed="rId5"/>
          <a:stretch/>
        </p:blipFill>
        <p:spPr>
          <a:xfrm>
            <a:off x="762120" y="3657600"/>
            <a:ext cx="1228680" cy="990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http://210.212.236.212/akshaya/images/online_services_businesstie.gif"/>
          <p:cNvPicPr/>
          <p:nvPr/>
        </p:nvPicPr>
        <p:blipFill>
          <a:blip r:embed="rId6"/>
          <a:stretch/>
        </p:blipFill>
        <p:spPr>
          <a:xfrm>
            <a:off x="2743200" y="3657600"/>
            <a:ext cx="1228680" cy="990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http://210.212.236.212/akshaya/images/online_services_cap.gif"/>
          <p:cNvPicPr/>
          <p:nvPr/>
        </p:nvPicPr>
        <p:blipFill>
          <a:blip r:embed="rId7"/>
          <a:stretch/>
        </p:blipFill>
        <p:spPr>
          <a:xfrm>
            <a:off x="4724280" y="3657600"/>
            <a:ext cx="1228680" cy="990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http://210.212.236.212/akshaya/images/online_services_coursep.gif"/>
          <p:cNvPicPr/>
          <p:nvPr/>
        </p:nvPicPr>
        <p:blipFill>
          <a:blip r:embed="rId8"/>
          <a:stretch/>
        </p:blipFill>
        <p:spPr>
          <a:xfrm>
            <a:off x="6705720" y="3657600"/>
            <a:ext cx="1228680" cy="990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1"/>
          <p:cNvSpPr/>
          <p:nvPr/>
        </p:nvSpPr>
        <p:spPr>
          <a:xfrm>
            <a:off x="2519280" y="5410080"/>
            <a:ext cx="376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ww.akshaya.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-Choup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loyed by ITC-IBD (Indian Tobacco Company) Agri-business Di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200 Kiosks in 6 Indian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P, AP,  UP,  Karnataka, Rajasthan, Maharasht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farmers growing soy beans, wheat, pulses, wheat, coff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c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up trans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http://echoupal.com/images/ibd_logo.jpg"/>
          <p:cNvPicPr/>
          <p:nvPr/>
        </p:nvPicPr>
        <p:blipFill>
          <a:blip r:embed="rId1"/>
          <a:stretch/>
        </p:blipFill>
        <p:spPr>
          <a:xfrm>
            <a:off x="7924680" y="228600"/>
            <a:ext cx="95256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timizing Agriculture Supply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itional Mandi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mer carries crop to wholesale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otiates P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houpal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mer gets future price from Kio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ds good directly to processing 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s to farmer and I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t out the middle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range sale prior to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ios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ed and capitalized by I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n by entreprene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stomers not charged for computer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sine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C gains by more efficient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mers gain by setting up trans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repreneur gains from selling other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ghlights from Lecture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information and computing technology address global challeng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,  Education,  Livelih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subject to constra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stain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term deployment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 to impact large number of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Choupal Kiosk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40384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  42,000 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er          7,000 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8,000 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ar             9,600 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         12,500 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SAT         90,000 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S             8,000 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ar            9,000 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457200" y="47242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cost      186,000 rs.    (4500 US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SAT              21,000 rs.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enance  12,000 rs.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nkNet: Zamb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onor supported “Proof-of-concept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DP Per person: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mbia $1400 (198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dia $2700 (16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ach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mall tow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rregular pow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ssion hospital / research institu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ncom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bsistence Fa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$1 per da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us to nearest town $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2" descr="Map of Zambia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rge scale kio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mputer center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20,000 inves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eless 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S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,024 kbs downlink, 256 kbs upli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12 kbs downlink, 128 kbs upli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1700 per mon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ed local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stain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ling services to hospital/research cen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griculture inform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se study on adoption of sun flower farm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ilot for village outsourc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ta ent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lemedic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mote consul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duction of isol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dering medic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Mai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would you conduct a study to determine kiosk usag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 information to understand v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7" descr="Image:Flag of Laos.svg"/>
          <p:cNvPicPr/>
          <p:nvPr/>
        </p:nvPicPr>
        <p:blipFill>
          <a:blip r:embed="rId1"/>
          <a:stretch/>
        </p:blipFill>
        <p:spPr>
          <a:xfrm>
            <a:off x="8229600" y="6248520"/>
            <a:ext cx="914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iosk Logging Stud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SRI: Rajesh Veeraraghava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applications do Kiosk’s really run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thodology – software logg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beLo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tai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rs identified if there is a 10 minute ga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ivacy/Secur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UID for identify of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crypted log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gns pos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 kiosks in Uttar Prade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kiosks in Maharash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0 days worth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 better power/internet for  Maharashtra kio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antial differences between survey data and logg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per day:  UP 2.3 hrs,  Mah 3.9 h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nancial V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s. 20-30 per hour,  Rs. 10 per print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enue estimates from usage 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operating costs, Rs. 3000-5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04920" y="3124080"/>
          <a:ext cx="8534160" cy="371520"/>
        </p:xfrm>
        <a:graphic>
          <a:graphicData uri="http://schemas.openxmlformats.org/drawingml/2006/table">
            <a:tbl>
              <a:tblPr/>
              <a:tblGrid>
                <a:gridCol w="711000"/>
                <a:gridCol w="711360"/>
                <a:gridCol w="711000"/>
                <a:gridCol w="711360"/>
                <a:gridCol w="711000"/>
                <a:gridCol w="711360"/>
                <a:gridCol w="711360"/>
                <a:gridCol w="711000"/>
                <a:gridCol w="711360"/>
                <a:gridCol w="711000"/>
                <a:gridCol w="711360"/>
                <a:gridCol w="711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04920" y="1828800"/>
          <a:ext cx="2438280" cy="1482840"/>
        </p:xfrm>
        <a:graphic>
          <a:graphicData uri="http://schemas.openxmlformats.org/drawingml/2006/table">
            <a:tbl>
              <a:tblPr/>
              <a:tblGrid>
                <a:gridCol w="1676160"/>
                <a:gridCol w="762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 Off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graph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200400" y="1828800"/>
          <a:ext cx="2438280" cy="2225520"/>
        </p:xfrm>
        <a:graphic>
          <a:graphicData uri="http://schemas.openxmlformats.org/drawingml/2006/table">
            <a:tbl>
              <a:tblPr/>
              <a:tblGrid>
                <a:gridCol w="1676520"/>
                <a:gridCol w="761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 Off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graph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med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6095880" y="1828800"/>
          <a:ext cx="2438640" cy="3708360"/>
        </p:xfrm>
        <a:graphic>
          <a:graphicData uri="http://schemas.openxmlformats.org/drawingml/2006/table">
            <a:tbl>
              <a:tblPr/>
              <a:tblGrid>
                <a:gridCol w="1676520"/>
                <a:gridCol w="762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spap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 resul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ult cont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si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icul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4" name="TextBox 6"/>
          <p:cNvSpPr/>
          <p:nvPr/>
        </p:nvSpPr>
        <p:spPr>
          <a:xfrm>
            <a:off x="536760" y="137160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 Ap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3434760" y="137160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h. Ap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6259320" y="13716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h. Brow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iosk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ios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computer centers aimed at providing computing services/internet connectiv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acce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osk Entreprene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iness Owner with financial stake in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goals and business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ccess Cases [Kuriyan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education ce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r Internet Caf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 Service Ce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 sh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flict of Business/Social Development go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llager goals conflict with external go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iosk Entrepreneur and Champ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ditional Craft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 “direct from the village” internet based traditional craft business viable?  Why or why n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2" descr="Image:Flag of Micronesia.svg"/>
          <p:cNvPicPr/>
          <p:nvPr/>
        </p:nvPicPr>
        <p:blipFill>
          <a:blip r:embed="rId1"/>
          <a:stretch/>
        </p:blipFill>
        <p:spPr>
          <a:xfrm>
            <a:off x="8229600" y="6377040"/>
            <a:ext cx="914400" cy="480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http://www.drishteehaat.com/ThumbImage.aspx?FileName=E:/sites/drishtee/drishtee.com/web/images/Products/75.jpg&amp;width=200&amp;height=200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1362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http://www.drishteehaat.com/ThumbImage.aspx?FileName=E:/sites/drishtee/drishtee.com/web/images/Products/20.60.jpg&amp;width=200&amp;height=200"/>
          <p:cNvPicPr/>
          <p:nvPr/>
        </p:nvPicPr>
        <p:blipFill>
          <a:blip r:embed="rId3"/>
          <a:stretch/>
        </p:blipFill>
        <p:spPr>
          <a:xfrm>
            <a:off x="0" y="0"/>
            <a:ext cx="14000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ortance of full supply cha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ngle service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action Cost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mographic Attracted to Kios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ology Case Stud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ey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W,  Software,  Conne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ite of applications to generate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iness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icit and Implicit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/Subsi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neaker 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bandwidth of a single DVD carried between Africa and the U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5" descr="Image:Flag of Sudan.svg"/>
          <p:cNvPicPr/>
          <p:nvPr/>
        </p:nvPicPr>
        <p:blipFill>
          <a:blip r:embed="rId1"/>
          <a:stretch/>
        </p:blipFill>
        <p:spPr>
          <a:xfrm>
            <a:off x="8229600" y="6400800"/>
            <a:ext cx="9144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k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T Media Lab,  First Mile Solutions,  United Vill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latency connectivity sufficient for many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hicle based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y on regularly scheduled trans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ic wireless data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hicle has “Mobile Access Poin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osk has wireless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vehicle in range of kiosk, data is exchan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and power are 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erage existing transportation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issa Pilot,  Bus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s of public bu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advantages of public bu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mbodia Pilo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connectivity for AAfc/JRF sch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0 schools with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lot for 15 sch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or scooters used to carry M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 schools with VSAT:  USD 260,37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kNet to share 1 VSAT:  USD 39,97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ign Problem: Minimum Cost Kio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minimum cost of setting up a Kiosk in ___________ (your home town)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5" descr="Image:Flag of Bulgaria.svg"/>
          <p:cNvPicPr/>
          <p:nvPr/>
        </p:nvPicPr>
        <p:blipFill>
          <a:blip r:embed="rId1"/>
          <a:stretch/>
        </p:blipFill>
        <p:spPr>
          <a:xfrm>
            <a:off x="8229600" y="6308640"/>
            <a:ext cx="914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iosk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. Keshav,  University of Waterlo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mum cost kio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: $100 PC (aka recycled P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ycled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mainte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ll system deploy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o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cost computers with Kiosk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r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cal Backha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te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x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acy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ical Challen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tion of Delay Tolerant Networks (DTN),  Integration with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urity model, Public Key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boot from Kiosk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e software update integrated with data fe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cess to Computing  and Int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ewed as public g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have advocated designating access to the internet as a “human righ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 arg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Divide: those without access will be left beh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internet/computing will lead to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ology Fir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echnology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will find uses for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cken and Egg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generate sufficient use of a technology to make it sustain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mework 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earch the feasibility and cost of providing at least one Internet kiosk per every 10,000 citizen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technical requirements of an Internet Kiosk for your target country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contingencies or constraints do you need to plan for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n overview of cost estimates for the kiosk project. Include hardware, software, networking and maintenance cos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recommendation would you make to the funders of your project in terms of kiosks feasibility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1:40:59Z</dcterms:created>
  <dc:creator>Richard</dc:creator>
  <dc:description/>
  <dc:language>en-US</dc:language>
  <cp:lastModifiedBy>Fred Videon</cp:lastModifiedBy>
  <dcterms:modified xsi:type="dcterms:W3CDTF">2008-04-09T23:39:09Z</dcterms:modified>
  <cp:revision>337</cp:revision>
  <dc:subject/>
  <dc:title>Slide 1</dc:title>
</cp:coreProperties>
</file>