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2BDD-B2AD-4912-BAE3-6FD681597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8044-BEA1-439E-A18F-61FE0AA636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47D-D5C1-4DAF-9741-DF14BFF34B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BF9D-087D-4319-8C42-54DD382580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F864-490C-4B45-8280-F8C30994CA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5CE7-5B16-4C00-BDDF-6E46815F39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AFE-116D-4DDD-94C1-DBE9B0B9CD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7162-313E-4914-A0DB-0ACD6D1392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1DB5-D166-4296-A478-39666E064A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BBD-EE0F-4377-AA66-D9F0A03DF0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553-989A-48C3-9B67-3EC1E30226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EE1A-1254-4D2A-BAA9-8842C47A30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A4A-5617-4552-9679-838979A15B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458-4899-42D9-B441-9DAAA785A3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DCB-7596-46BD-A699-DDE9824FC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151-671D-4C07-AA73-6BC33595FA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96C-55E3-49FE-A696-1F2CEA5EE7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E72-45F7-45EE-BD7F-CA8A1C4B48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ED5-64BE-4F69-B606-8FA46D1F4B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F514-941F-4F93-BE7A-671304C773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D6A-69A3-467B-8389-0D939BD712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29C-9AE6-408F-A7C2-C4E1A0BAB1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9208-F837-47F3-ADBE-4068C802C4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E2D-DB84-47E4-8917-3BD985F3A7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47F-74AF-4195-9175-084763F56F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CE7E-D0FB-4B3C-8A57-849E00FA4A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100B-42B8-4B73-B2AA-CCDE4B0117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732-0256-457D-BC18-976CC19275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51EB-9238-456B-A985-78B8BE27CF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C814-1C3C-4195-8EA0-707304B695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A5C-B299-48C7-8FD4-A32C2E7FEE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924-B7E2-4B8E-BC85-B18320AAAA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DB65-5E5E-4DFF-B77C-302200EDE7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7D9-05D8-44A3-92E6-85D3F9ADC4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71C-3AD9-4511-96E9-A3DE5C3B7E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286-1BB2-4440-9A0D-ECBC62C2B7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0DC-FE7D-42BF-8C05-B51F73D4F5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F36B-3B5C-418B-81F2-CECA8C8984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5570-717A-4153-94AA-7E76B6FCA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F536-710E-411A-AFC8-F711C84ED4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4A7-BAAE-44F8-A6E5-AF9B3B0E9C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9537-B5BD-428B-81F6-B652496816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308-586B-416C-9CA5-35CC9EDE49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43F-7E5B-4262-86DA-48AD6DC6A8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5F3A-00B1-43FE-BDD1-69EA0D5697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6E6-663C-445E-B42D-EF090E006C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C4D9-D6F1-4121-8A62-F7B2436512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C0E-351A-4895-8801-E246311884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0FC-32C6-4CF4-B720-FF387B3959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87E8-E2E0-4F53-9743-C4AE5F2DA4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831-FFCE-4614-92D2-92BE9E4B12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CC14-5A74-41D7-9544-9081442A4F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B6A-4220-4B0F-98A5-775C25505C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8FC3-033B-4563-A0F7-E5F6B719A6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B0C-F8A7-4CA9-A7CA-8FEFDFC040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9C5-61EC-4894-9533-63CC0EE1D0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32C-1A14-46DC-9069-CC0014A834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980-7CDA-480A-8EBE-42FA3B4F76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487-DF4D-4F65-90AC-C21B3269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B9B-3553-490F-87BF-FC1CC10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362-4289-4C86-8A2C-EF2AE437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283-844D-4329-A924-49BDBA9B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E70-7653-4BE5-9A8F-47C6D031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4BF-1445-41F5-8D5A-C935C4E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985-EC63-4B6C-AF30-AB131F1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FFF-6A81-457E-ACAD-0495CDA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118-5136-486C-A920-48CF31E2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36C-76CE-46D8-AA5C-AE93DA1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293-FFAA-490D-B983-2E27DF19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E97-BDB4-41BC-A356-297559E5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9BD-9EC7-4AC9-B581-D33F79952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pload.wikimedia.org/wikipedia/commons/c/c3/BlankMap-World.png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nd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Image:Blankmap-Africa2.png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481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:Flag of Haiti.svg"/>
          <p:cNvPicPr/>
          <p:nvPr/>
        </p:nvPicPr>
        <p:blipFill>
          <a:blip r:embed="rId2"/>
          <a:stretch/>
        </p:blipFill>
        <p:spPr>
          <a:xfrm>
            <a:off x="8229600" y="6308640"/>
            <a:ext cx="914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Content Placeholder 3" descr="s_asia.pn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235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age:Flag of Greenland.svg"/>
          <p:cNvPicPr/>
          <p:nvPr/>
        </p:nvPicPr>
        <p:blipFill>
          <a:blip r:embed="rId2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computing technology address the problems of the world’s po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ing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d deploy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ering, not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of success /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projects address human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side the scope of this 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might “computing for the developing world” be a bad id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Image:Flag of Somalia.svg"/>
          <p:cNvPicPr/>
          <p:nvPr/>
        </p:nvPicPr>
        <p:blipFill>
          <a:blip r:embed="rId2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 Tre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, world wide econ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p between rich and poor g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plified Developmen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-off and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 Tr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Tre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nential improvement in  price/performance + exponential increases in income = rapid ad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cal leap fr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 U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s leading Information and Communicatio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Cell phone"/>
          <p:cNvPicPr/>
          <p:nvPr/>
        </p:nvPicPr>
        <p:blipFill>
          <a:blip r:embed="rId1"/>
          <a:stretch/>
        </p:blipFill>
        <p:spPr>
          <a:xfrm>
            <a:off x="8310600" y="0"/>
            <a:ext cx="833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has cell phone usage increased over ti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Image:Flag of Mongoli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5"/>
          <p:cNvSpPr/>
          <p:nvPr/>
        </p:nvSpPr>
        <p:spPr>
          <a:xfrm flipH="1">
            <a:off x="609120" y="4191120"/>
            <a:ext cx="180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611280" y="601992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30506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21362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12218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3074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32"/>
          <p:cNvSpPr/>
          <p:nvPr/>
        </p:nvSpPr>
        <p:spPr>
          <a:xfrm>
            <a:off x="609480" y="51055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34"/>
          <p:cNvSpPr/>
          <p:nvPr/>
        </p:nvSpPr>
        <p:spPr>
          <a:xfrm>
            <a:off x="609480" y="55627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35"/>
          <p:cNvSpPr/>
          <p:nvPr/>
        </p:nvSpPr>
        <p:spPr>
          <a:xfrm>
            <a:off x="609480" y="46483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36"/>
          <p:cNvSpPr/>
          <p:nvPr/>
        </p:nvSpPr>
        <p:spPr>
          <a:xfrm>
            <a:off x="609480" y="41911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7"/>
          <p:cNvSpPr/>
          <p:nvPr/>
        </p:nvSpPr>
        <p:spPr>
          <a:xfrm>
            <a:off x="154800" y="541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8"/>
          <p:cNvSpPr/>
          <p:nvPr/>
        </p:nvSpPr>
        <p:spPr>
          <a:xfrm>
            <a:off x="154800" y="4952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9"/>
          <p:cNvSpPr/>
          <p:nvPr/>
        </p:nvSpPr>
        <p:spPr>
          <a:xfrm>
            <a:off x="15480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40"/>
          <p:cNvSpPr/>
          <p:nvPr/>
        </p:nvSpPr>
        <p:spPr>
          <a:xfrm>
            <a:off x="15444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1"/>
          <p:cNvSpPr/>
          <p:nvPr/>
        </p:nvSpPr>
        <p:spPr>
          <a:xfrm flipH="1">
            <a:off x="609120" y="1600200"/>
            <a:ext cx="180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42"/>
          <p:cNvSpPr/>
          <p:nvPr/>
        </p:nvSpPr>
        <p:spPr>
          <a:xfrm>
            <a:off x="611280" y="342900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43"/>
          <p:cNvSpPr/>
          <p:nvPr/>
        </p:nvSpPr>
        <p:spPr>
          <a:xfrm>
            <a:off x="30506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44"/>
          <p:cNvSpPr/>
          <p:nvPr/>
        </p:nvSpPr>
        <p:spPr>
          <a:xfrm>
            <a:off x="21362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5"/>
          <p:cNvSpPr/>
          <p:nvPr/>
        </p:nvSpPr>
        <p:spPr>
          <a:xfrm>
            <a:off x="12218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6"/>
          <p:cNvSpPr/>
          <p:nvPr/>
        </p:nvSpPr>
        <p:spPr>
          <a:xfrm>
            <a:off x="3074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47"/>
          <p:cNvSpPr/>
          <p:nvPr/>
        </p:nvSpPr>
        <p:spPr>
          <a:xfrm>
            <a:off x="609480" y="25146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48"/>
          <p:cNvSpPr/>
          <p:nvPr/>
        </p:nvSpPr>
        <p:spPr>
          <a:xfrm>
            <a:off x="609480" y="29718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49"/>
          <p:cNvSpPr/>
          <p:nvPr/>
        </p:nvSpPr>
        <p:spPr>
          <a:xfrm>
            <a:off x="609480" y="20574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50"/>
          <p:cNvSpPr/>
          <p:nvPr/>
        </p:nvSpPr>
        <p:spPr>
          <a:xfrm>
            <a:off x="609480" y="16002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51"/>
          <p:cNvSpPr/>
          <p:nvPr/>
        </p:nvSpPr>
        <p:spPr>
          <a:xfrm>
            <a:off x="154800" y="28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52"/>
          <p:cNvSpPr/>
          <p:nvPr/>
        </p:nvSpPr>
        <p:spPr>
          <a:xfrm>
            <a:off x="154800" y="2362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3"/>
          <p:cNvSpPr/>
          <p:nvPr/>
        </p:nvSpPr>
        <p:spPr>
          <a:xfrm>
            <a:off x="154800" y="1905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54"/>
          <p:cNvSpPr/>
          <p:nvPr/>
        </p:nvSpPr>
        <p:spPr>
          <a:xfrm>
            <a:off x="154440" y="1447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traight Connector 55"/>
          <p:cNvSpPr/>
          <p:nvPr/>
        </p:nvSpPr>
        <p:spPr>
          <a:xfrm flipH="1">
            <a:off x="5029200" y="4191120"/>
            <a:ext cx="144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traight Connector 56"/>
          <p:cNvSpPr/>
          <p:nvPr/>
        </p:nvSpPr>
        <p:spPr>
          <a:xfrm>
            <a:off x="5030640" y="601992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57"/>
          <p:cNvSpPr/>
          <p:nvPr/>
        </p:nvSpPr>
        <p:spPr>
          <a:xfrm>
            <a:off x="74703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8"/>
          <p:cNvSpPr/>
          <p:nvPr/>
        </p:nvSpPr>
        <p:spPr>
          <a:xfrm>
            <a:off x="65559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9"/>
          <p:cNvSpPr/>
          <p:nvPr/>
        </p:nvSpPr>
        <p:spPr>
          <a:xfrm>
            <a:off x="56415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60"/>
          <p:cNvSpPr/>
          <p:nvPr/>
        </p:nvSpPr>
        <p:spPr>
          <a:xfrm>
            <a:off x="47271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61"/>
          <p:cNvSpPr/>
          <p:nvPr/>
        </p:nvSpPr>
        <p:spPr>
          <a:xfrm>
            <a:off x="5029200" y="51055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62"/>
          <p:cNvSpPr/>
          <p:nvPr/>
        </p:nvSpPr>
        <p:spPr>
          <a:xfrm>
            <a:off x="5029200" y="55627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63"/>
          <p:cNvSpPr/>
          <p:nvPr/>
        </p:nvSpPr>
        <p:spPr>
          <a:xfrm>
            <a:off x="5029200" y="46483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64"/>
          <p:cNvSpPr/>
          <p:nvPr/>
        </p:nvSpPr>
        <p:spPr>
          <a:xfrm>
            <a:off x="5029200" y="41911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65"/>
          <p:cNvSpPr/>
          <p:nvPr/>
        </p:nvSpPr>
        <p:spPr>
          <a:xfrm>
            <a:off x="4574520" y="541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66"/>
          <p:cNvSpPr/>
          <p:nvPr/>
        </p:nvSpPr>
        <p:spPr>
          <a:xfrm>
            <a:off x="4574520" y="4952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67"/>
          <p:cNvSpPr/>
          <p:nvPr/>
        </p:nvSpPr>
        <p:spPr>
          <a:xfrm>
            <a:off x="457452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8"/>
          <p:cNvSpPr/>
          <p:nvPr/>
        </p:nvSpPr>
        <p:spPr>
          <a:xfrm>
            <a:off x="457416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traight Connector 69"/>
          <p:cNvSpPr/>
          <p:nvPr/>
        </p:nvSpPr>
        <p:spPr>
          <a:xfrm flipH="1">
            <a:off x="5029200" y="1600200"/>
            <a:ext cx="144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traight Connector 70"/>
          <p:cNvSpPr/>
          <p:nvPr/>
        </p:nvSpPr>
        <p:spPr>
          <a:xfrm>
            <a:off x="5030640" y="342900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71"/>
          <p:cNvSpPr/>
          <p:nvPr/>
        </p:nvSpPr>
        <p:spPr>
          <a:xfrm>
            <a:off x="74703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72"/>
          <p:cNvSpPr/>
          <p:nvPr/>
        </p:nvSpPr>
        <p:spPr>
          <a:xfrm>
            <a:off x="65559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73"/>
          <p:cNvSpPr/>
          <p:nvPr/>
        </p:nvSpPr>
        <p:spPr>
          <a:xfrm>
            <a:off x="56415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74"/>
          <p:cNvSpPr/>
          <p:nvPr/>
        </p:nvSpPr>
        <p:spPr>
          <a:xfrm>
            <a:off x="47271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traight Connector 75"/>
          <p:cNvSpPr/>
          <p:nvPr/>
        </p:nvSpPr>
        <p:spPr>
          <a:xfrm>
            <a:off x="5029200" y="25146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traight Connector 76"/>
          <p:cNvSpPr/>
          <p:nvPr/>
        </p:nvSpPr>
        <p:spPr>
          <a:xfrm>
            <a:off x="5029200" y="29718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traight Connector 77"/>
          <p:cNvSpPr/>
          <p:nvPr/>
        </p:nvSpPr>
        <p:spPr>
          <a:xfrm>
            <a:off x="5029200" y="20574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traight Connector 78"/>
          <p:cNvSpPr/>
          <p:nvPr/>
        </p:nvSpPr>
        <p:spPr>
          <a:xfrm>
            <a:off x="5029200" y="16002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79"/>
          <p:cNvSpPr/>
          <p:nvPr/>
        </p:nvSpPr>
        <p:spPr>
          <a:xfrm>
            <a:off x="4574520" y="28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80"/>
          <p:cNvSpPr/>
          <p:nvPr/>
        </p:nvSpPr>
        <p:spPr>
          <a:xfrm>
            <a:off x="4574520" y="2362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81"/>
          <p:cNvSpPr/>
          <p:nvPr/>
        </p:nvSpPr>
        <p:spPr>
          <a:xfrm>
            <a:off x="4574520" y="1905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82"/>
          <p:cNvSpPr/>
          <p:nvPr/>
        </p:nvSpPr>
        <p:spPr>
          <a:xfrm>
            <a:off x="4574160" y="1447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3"/>
          <p:cNvSpPr/>
          <p:nvPr/>
        </p:nvSpPr>
        <p:spPr>
          <a:xfrm>
            <a:off x="695160" y="2057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Afghan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84"/>
          <p:cNvSpPr/>
          <p:nvPr/>
        </p:nvSpPr>
        <p:spPr>
          <a:xfrm>
            <a:off x="5035320" y="2133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85"/>
          <p:cNvSpPr/>
          <p:nvPr/>
        </p:nvSpPr>
        <p:spPr>
          <a:xfrm>
            <a:off x="618480" y="47242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Domini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Re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86"/>
          <p:cNvSpPr/>
          <p:nvPr/>
        </p:nvSpPr>
        <p:spPr>
          <a:xfrm>
            <a:off x="5034240" y="472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has cell phone usage increased over ti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5"/>
          <p:cNvSpPr/>
          <p:nvPr/>
        </p:nvSpPr>
        <p:spPr>
          <a:xfrm flipH="1">
            <a:off x="609120" y="4191120"/>
            <a:ext cx="180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7"/>
          <p:cNvSpPr/>
          <p:nvPr/>
        </p:nvSpPr>
        <p:spPr>
          <a:xfrm>
            <a:off x="611280" y="601992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30506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1362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29"/>
          <p:cNvSpPr/>
          <p:nvPr/>
        </p:nvSpPr>
        <p:spPr>
          <a:xfrm>
            <a:off x="12218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0"/>
          <p:cNvSpPr/>
          <p:nvPr/>
        </p:nvSpPr>
        <p:spPr>
          <a:xfrm>
            <a:off x="30744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traight Connector 32"/>
          <p:cNvSpPr/>
          <p:nvPr/>
        </p:nvSpPr>
        <p:spPr>
          <a:xfrm>
            <a:off x="609480" y="51055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609480" y="55627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traight Connector 35"/>
          <p:cNvSpPr/>
          <p:nvPr/>
        </p:nvSpPr>
        <p:spPr>
          <a:xfrm>
            <a:off x="609480" y="46483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36"/>
          <p:cNvSpPr/>
          <p:nvPr/>
        </p:nvSpPr>
        <p:spPr>
          <a:xfrm>
            <a:off x="609480" y="41911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37"/>
          <p:cNvSpPr/>
          <p:nvPr/>
        </p:nvSpPr>
        <p:spPr>
          <a:xfrm>
            <a:off x="154800" y="541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8"/>
          <p:cNvSpPr/>
          <p:nvPr/>
        </p:nvSpPr>
        <p:spPr>
          <a:xfrm>
            <a:off x="154800" y="4952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9"/>
          <p:cNvSpPr/>
          <p:nvPr/>
        </p:nvSpPr>
        <p:spPr>
          <a:xfrm>
            <a:off x="15480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0"/>
          <p:cNvSpPr/>
          <p:nvPr/>
        </p:nvSpPr>
        <p:spPr>
          <a:xfrm>
            <a:off x="15444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traight Connector 41"/>
          <p:cNvSpPr/>
          <p:nvPr/>
        </p:nvSpPr>
        <p:spPr>
          <a:xfrm flipH="1">
            <a:off x="609120" y="1600200"/>
            <a:ext cx="180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traight Connector 42"/>
          <p:cNvSpPr/>
          <p:nvPr/>
        </p:nvSpPr>
        <p:spPr>
          <a:xfrm>
            <a:off x="611280" y="342900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43"/>
          <p:cNvSpPr/>
          <p:nvPr/>
        </p:nvSpPr>
        <p:spPr>
          <a:xfrm>
            <a:off x="30506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44"/>
          <p:cNvSpPr/>
          <p:nvPr/>
        </p:nvSpPr>
        <p:spPr>
          <a:xfrm>
            <a:off x="21362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5"/>
          <p:cNvSpPr/>
          <p:nvPr/>
        </p:nvSpPr>
        <p:spPr>
          <a:xfrm>
            <a:off x="12218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6"/>
          <p:cNvSpPr/>
          <p:nvPr/>
        </p:nvSpPr>
        <p:spPr>
          <a:xfrm>
            <a:off x="30744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47"/>
          <p:cNvSpPr/>
          <p:nvPr/>
        </p:nvSpPr>
        <p:spPr>
          <a:xfrm>
            <a:off x="609480" y="25146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48"/>
          <p:cNvSpPr/>
          <p:nvPr/>
        </p:nvSpPr>
        <p:spPr>
          <a:xfrm>
            <a:off x="609480" y="29718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traight Connector 49"/>
          <p:cNvSpPr/>
          <p:nvPr/>
        </p:nvSpPr>
        <p:spPr>
          <a:xfrm>
            <a:off x="609480" y="20574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50"/>
          <p:cNvSpPr/>
          <p:nvPr/>
        </p:nvSpPr>
        <p:spPr>
          <a:xfrm>
            <a:off x="609480" y="16002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51"/>
          <p:cNvSpPr/>
          <p:nvPr/>
        </p:nvSpPr>
        <p:spPr>
          <a:xfrm>
            <a:off x="154800" y="28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2"/>
          <p:cNvSpPr/>
          <p:nvPr/>
        </p:nvSpPr>
        <p:spPr>
          <a:xfrm>
            <a:off x="154800" y="2362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154800" y="1905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154440" y="1447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55"/>
          <p:cNvSpPr/>
          <p:nvPr/>
        </p:nvSpPr>
        <p:spPr>
          <a:xfrm flipH="1">
            <a:off x="5029200" y="4191120"/>
            <a:ext cx="144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56"/>
          <p:cNvSpPr/>
          <p:nvPr/>
        </p:nvSpPr>
        <p:spPr>
          <a:xfrm>
            <a:off x="5030640" y="601992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74703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5559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56415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60"/>
          <p:cNvSpPr/>
          <p:nvPr/>
        </p:nvSpPr>
        <p:spPr>
          <a:xfrm>
            <a:off x="4727160" y="6095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61"/>
          <p:cNvSpPr/>
          <p:nvPr/>
        </p:nvSpPr>
        <p:spPr>
          <a:xfrm>
            <a:off x="5029200" y="51055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62"/>
          <p:cNvSpPr/>
          <p:nvPr/>
        </p:nvSpPr>
        <p:spPr>
          <a:xfrm>
            <a:off x="5029200" y="55627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63"/>
          <p:cNvSpPr/>
          <p:nvPr/>
        </p:nvSpPr>
        <p:spPr>
          <a:xfrm>
            <a:off x="5029200" y="46483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traight Connector 64"/>
          <p:cNvSpPr/>
          <p:nvPr/>
        </p:nvSpPr>
        <p:spPr>
          <a:xfrm>
            <a:off x="5029200" y="419112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65"/>
          <p:cNvSpPr/>
          <p:nvPr/>
        </p:nvSpPr>
        <p:spPr>
          <a:xfrm>
            <a:off x="4574520" y="541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6"/>
          <p:cNvSpPr/>
          <p:nvPr/>
        </p:nvSpPr>
        <p:spPr>
          <a:xfrm>
            <a:off x="4574520" y="4952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7"/>
          <p:cNvSpPr/>
          <p:nvPr/>
        </p:nvSpPr>
        <p:spPr>
          <a:xfrm>
            <a:off x="4574520" y="449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68"/>
          <p:cNvSpPr/>
          <p:nvPr/>
        </p:nvSpPr>
        <p:spPr>
          <a:xfrm>
            <a:off x="457416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traight Connector 69"/>
          <p:cNvSpPr/>
          <p:nvPr/>
        </p:nvSpPr>
        <p:spPr>
          <a:xfrm flipH="1">
            <a:off x="5029200" y="1600200"/>
            <a:ext cx="1440" cy="18302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traight Connector 70"/>
          <p:cNvSpPr/>
          <p:nvPr/>
        </p:nvSpPr>
        <p:spPr>
          <a:xfrm>
            <a:off x="5030640" y="3429000"/>
            <a:ext cx="27432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71"/>
          <p:cNvSpPr/>
          <p:nvPr/>
        </p:nvSpPr>
        <p:spPr>
          <a:xfrm>
            <a:off x="74703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2"/>
          <p:cNvSpPr/>
          <p:nvPr/>
        </p:nvSpPr>
        <p:spPr>
          <a:xfrm>
            <a:off x="65559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73"/>
          <p:cNvSpPr/>
          <p:nvPr/>
        </p:nvSpPr>
        <p:spPr>
          <a:xfrm>
            <a:off x="56415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74"/>
          <p:cNvSpPr/>
          <p:nvPr/>
        </p:nvSpPr>
        <p:spPr>
          <a:xfrm>
            <a:off x="4727160" y="3505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traight Connector 75"/>
          <p:cNvSpPr/>
          <p:nvPr/>
        </p:nvSpPr>
        <p:spPr>
          <a:xfrm>
            <a:off x="5029200" y="25146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76"/>
          <p:cNvSpPr/>
          <p:nvPr/>
        </p:nvSpPr>
        <p:spPr>
          <a:xfrm>
            <a:off x="5029200" y="29718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77"/>
          <p:cNvSpPr/>
          <p:nvPr/>
        </p:nvSpPr>
        <p:spPr>
          <a:xfrm>
            <a:off x="5029200" y="20574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5029200" y="1600200"/>
            <a:ext cx="2743200" cy="1440"/>
          </a:xfrm>
          <a:prstGeom prst="line">
            <a:avLst/>
          </a:prstGeom>
          <a:ln w="19080">
            <a:solidFill>
              <a:srgbClr val="b9cd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79"/>
          <p:cNvSpPr/>
          <p:nvPr/>
        </p:nvSpPr>
        <p:spPr>
          <a:xfrm>
            <a:off x="4574520" y="28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0"/>
          <p:cNvSpPr/>
          <p:nvPr/>
        </p:nvSpPr>
        <p:spPr>
          <a:xfrm>
            <a:off x="4574520" y="2362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1"/>
          <p:cNvSpPr/>
          <p:nvPr/>
        </p:nvSpPr>
        <p:spPr>
          <a:xfrm>
            <a:off x="4574520" y="1905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82"/>
          <p:cNvSpPr/>
          <p:nvPr/>
        </p:nvSpPr>
        <p:spPr>
          <a:xfrm>
            <a:off x="4574160" y="1447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83"/>
          <p:cNvSpPr/>
          <p:nvPr/>
        </p:nvSpPr>
        <p:spPr>
          <a:xfrm>
            <a:off x="616320" y="20574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4"/>
          <p:cNvSpPr/>
          <p:nvPr/>
        </p:nvSpPr>
        <p:spPr>
          <a:xfrm>
            <a:off x="503388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85"/>
          <p:cNvSpPr/>
          <p:nvPr/>
        </p:nvSpPr>
        <p:spPr>
          <a:xfrm>
            <a:off x="616680" y="47242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86"/>
          <p:cNvSpPr/>
          <p:nvPr/>
        </p:nvSpPr>
        <p:spPr>
          <a:xfrm>
            <a:off x="5033520" y="472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b9b8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Image:Flag of Afghanistan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om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li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obal Health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ic Health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fe Expectancy: Zambia 43 yrs,  Germany 79 y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ant Mortality:  Niger 109,  Italy 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ol of Major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V/Aids:  Namibia 20%, Canada 0.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laria: 500M infections,  2M deaths per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d Health Pract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1 B people lack access to safe drinking 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 19%, Pakistan 49%,  Laos 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ttendance, Primary Enrol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lia 17%,  Sudan 60%,  Congo 88%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 116%,  Rwanda 120%,  Cambodia 1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Absente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tional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velih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son most poor people are poor is because they don’t have enough mone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 Million Smallholder Farmers in Sub-Saharan Africa earning under 1$ a d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of being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goods more expensive for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frica the informal sector accounts for 20% of the GDP and employs 60% of the urban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 Millennium Develop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adicate extreme poverty and hun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hieve universal primary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mote gender equality and empower w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duce child mort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 maternal h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bat HIV/AIDS, malaria and other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sure environmental sustain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a global partnership for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sc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the main players in this fie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G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or Cond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 must be directed towards countries with good 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 must have measurable impacts and attai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 must have the potential to be scaled up to serve a large number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“Computing for the Developing World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erging Market vs. ICT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distinction between “computing for emerging markets” and “information and communication technology for development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Revi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wo books from the current “development literatu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hort review of each that connects the book to the topics of this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lin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review:  April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review: June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hite Man's Burden: Why the West's Efforts to Aid the Rest Have Done So Much Ill and So Little Good by William Easter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lusive Quest for Growth: Economists' Adventures and Misadventures in the Tropics by William Easter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d of Poverty: Economic Possibilities for Our Time by Jeffrey Sac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Wealth: Economics for a Crowded Planet by Jeffrey Sac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Billion: Why the Poorest Countries are Failing and What Can Be Done About It by Paul Colli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arewell to Alms: A Brief Economic History of the World by Gregory Cla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ite of the Gods: The Rise of Modern India by Edward Lu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ate of Africa: A History of Fifty Years of Independence by Martin Mered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List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s and Inequalities: The Modern Plagues by Paul Farm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a World Without Poverty: Social Business and the Future of Capitalism by Muhammad Yun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ker To The Poor: Micro-Lending and the Battle Against World Poverty by Muhammad Yun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Poverty: What Works When Traditional Approaches Fail by Paul Pol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ns, Germs, and Steel: The Fates of Human Societies by Jared Diam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tune at the Bottom of the Pyramid: Eradicating Poverty Through Profits by CK Prahal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ing an Architecture for Delivering Mobile Information Services to the Rural Developing World by Tapan S. Parik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by half the proportion of people without sustainable access to safe drinking water”  [Millennium Development Goal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computing technology be used to increase access to safe drinking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ose three ideas for using ICT to improve access to safe drinking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Image:Flag of Papua New Guinea.svg"/>
          <p:cNvPicPr/>
          <p:nvPr/>
        </p:nvPicPr>
        <p:blipFill>
          <a:blip r:embed="rId1"/>
          <a:stretch/>
        </p:blipFill>
        <p:spPr>
          <a:xfrm>
            <a:off x="8229600" y="61722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themes in Computing for the Developing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ource Constraints / Cost Re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ng nature of the domain is bound on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s are funda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al and physical infrastructu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tility of the computers is diminished by the lack of pow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availability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quality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’t wish away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chard Ander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omputer Science and Engr at UW since 198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ing Prof at IISc,  Bangalore,  1993-199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: Educational Technology,  Computing in the Developing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ma R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D Student, Technical Commun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vised by Prof. Beth Kolk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ing mobile phone use and application design in Kyrgyzst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Results: Valid &amp; Import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why things don’t work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repeating same mist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E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ferent Usage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expect usage models will be the same as in the developed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ated Use of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ing people in solutions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 often readi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tile PC Infra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flash drive in Africa is infected by viruses.   WHY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Image:Flag of Mali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Re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computing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of dubious prov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of getting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 and Cul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keep and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for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a project be replicated to address the problem on a broad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set of issues in thinking b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ppro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few ideas, reproduced in different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dissemination and information collection is domin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Worklo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ekly Reading Assign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rate amount, but you are expected to read the papers before clas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ekly Writing/Research Assign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ue at 6pm, Wednesdays, by electronic sub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 Assignments: minus 10% per 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 of nine assignments must be compl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book review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+ 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l variety of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ervices would you offer to sustain a computer kiosk 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mond, 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penish, 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Za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Image:Flag of Kyrgyzstan.svg"/>
          <p:cNvPicPr/>
          <p:nvPr/>
        </p:nvPicPr>
        <p:blipFill>
          <a:blip r:embed="rId1"/>
          <a:stretch/>
        </p:blipFill>
        <p:spPr>
          <a:xfrm>
            <a:off x="8229600" y="6308640"/>
            <a:ext cx="914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 time commun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w cost PC deploy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cost de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particula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bile data collection and activity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based on collecting data or delivering services based 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nd transmission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nso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cost sen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 data commun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S or other formats for transmitting data using cell phone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most important ideas from today’s lec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Image:Flag of Nepal.svg"/>
          <p:cNvPicPr/>
          <p:nvPr/>
        </p:nvPicPr>
        <p:blipFill>
          <a:blip r:embed="rId1"/>
          <a:stretch/>
        </p:blipFill>
        <p:spPr>
          <a:xfrm>
            <a:off x="8229600" y="5740560"/>
            <a:ext cx="9144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onferenced class between UW and Red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s to include Lahore University of Management Science,  Paki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ved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please attend class, and participa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classroom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Activ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from remot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room Pres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t PC based classroom interac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ubmission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ademic Free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Content Placeholder 5" descr="subs.JPG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3465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838080" y="5257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presenter.cs.washington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nection Instru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wnload and install application from classroompresenter.cs.washington.ed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all build 158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 Classroom Presenter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ed “Networked Student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oose “Advanced Connection Option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“Connect to TCP Server . . 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sydney2.dyn.cs.washington.ed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s “Join” button when highligh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icate your experience in  developing cou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:BlankMap-World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209680"/>
            <a:ext cx="7619760" cy="33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mage:Flag of Zambia.svg"/>
          <p:cNvPicPr/>
          <p:nvPr/>
        </p:nvPicPr>
        <p:blipFill>
          <a:blip r:embed="rId4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4-02T20:52:32Z</dcterms:modified>
  <cp:revision>158</cp:revision>
  <dc:subject/>
  <dc:title>Slide 1</dc:title>
</cp:coreProperties>
</file>