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C82-E946-4D4C-9CE6-55619CD1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E95-32DF-4BEA-8413-A07DF5B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344-EC67-4847-82B9-88116238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CDD-87CB-44FA-912D-88834442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A6C-780C-42D4-8E99-03693E1B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58F6-E1D6-474D-B3C3-6A73D6A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4C0-B3A0-4F1F-A8E5-15A09D84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159-757A-45D8-A2BA-F31DB143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67E-0D36-4E09-A96C-AAA4BEF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AC1-19D5-495F-B9DA-B0229ED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AAF-A51A-477A-95FD-CEC9465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846-37C2-4671-8617-2B6AAF42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ABD-BFA6-4FB8-92D4-1E01052B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F3E5-70A4-414F-A7AE-B0B7811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820B-260C-4D5E-A92C-C19A465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BCC-1E8D-4E19-8485-B67BE4EA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4C59-D0CD-47FD-9DF9-3F0FCBFC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4FD-36B4-4AEE-8585-508BECBF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BE8-DD5E-420F-8974-F6EEB8F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391-6C29-4C1B-B909-AAA0691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6CD-1ADA-4A51-B37F-78B8690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7E0-B647-4398-AF4F-17C8D51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090-16F8-488E-816C-68B1928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666-FB29-4765-A3B2-5263543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6FF3-A055-427F-90E7-8306B32A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95280"/>
            <a:ext cx="91425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4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964E-AB46-4587-9943-3ACD2D54D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 – Proble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box 4 is observed to have the indicated output xor when presented with the indicat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1: 0x22, In2: 0x16,  Output xor: 0x0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1: 0x12, In2: 0x0c , Output xor: 0x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differential cryptanalysis and produce the possible candidate key(s).  You may find the tables provided in “DC.txt” help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D14-469B-4600-BCBE-09F7DAEB5D4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2 (om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2 round iterative differential characteristic for DES 0x19600000000000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9600000000000, p=1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for the following questions we can always find chosen plaintext with S/N ratio high enough to require only 10 “right pairs” for a successful differential cryptanalysis (“DC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how many chosen plain ciphertext pairs are required for a successful DC on two r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how many chosen plain ciphertext pairs are required for a successful DC on ten r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how many rounds is DC impossible because there cannot possibly be enough plain ciphertext pairs to succ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124-B1A3-4D33-B2D9-AF69D59884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 – Problem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cipher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6 bit key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4 linear constra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corresponding plaintext, ciphertext pairs and substituting the equations be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How many encryptions are needed to discover the correct key with exhaustive search in the worst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are needed with these constra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706-705D-4517-8155-EC55521497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Suppose the cipher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 linear constraint (Equation 1) that holds with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75 where the input to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laintext bit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e output is the ciphertext bit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key bit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constant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 are all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1: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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th1" charset="2"/>
              <a:buChar char="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suppose upon substituting values from 3 plaintext/ciphertext pairs the left hand side of equation 1 has values 1,1,0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dds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 rather than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 same setup as in A but 3 out of 4 plaintext/ciphertext pairs “vote”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dds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 rather than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DE2-8F2C-4505-A901-582DE23473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Constructing a multi-round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four round iterative cipher with plaintext input, P and ciphertext output C where each round has 6 bit input I and 6 bit output O and per round key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Using Matsui’s notation suppose the con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2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3,4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3,4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1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,6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5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1,6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5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6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2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with probabilitie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9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9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robability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[1,2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[2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,6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5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741-F92C-4827-8CE5-9660BB5BB4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Suppose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multi round iterative cipher with 40 bit plaintext input, P, and ciphertext output, C, and 40 bit key.  Suppose, using Matsui’s notation, that the following four linearly independent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with probabilitie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75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7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9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on 10 plaintext/ciphertext pairs the LHS of i, ii, iii and iv “vote” that the RHS of the equations are 0 with tallies (2,8,2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ies that each of the most popular choices for the resulting constraints is correct?   What is the probability that all 4 are correct?  If all 4 are correct, and assuming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1 microsecond/encrypt, what is the time to break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xhaustive search (assuming a serial processor)?  How about by applying the 4 constraints and searching for the remaining key bits (assuming a serial processor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: Key search is a “trivially parallelizable”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943-E6A5-4FC8-9FD8-9EE059DF46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) In the lecture we noted that there was a linear attack that worked on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D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intext/ciphertext pairs where the basic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with probability p= ½ +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19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“bias”. Using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, estimate for what p, there are not enough corresp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/cipher texts to enable applying the Linear cryptanalysis to reduc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key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C8C-3F7C-440F-9B2B-1272C26677F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hn Manferdelli</dc:creator>
  <dc:description/>
  <dc:language>en-US</dc:language>
  <cp:lastModifiedBy>Fred Videon</cp:lastModifiedBy>
  <dcterms:modified xsi:type="dcterms:W3CDTF">2006-02-09T18:19:47Z</dcterms:modified>
  <cp:revision>2743</cp:revision>
  <dc:subject/>
  <dc:title>An Introduction to Cryptography</dc:title>
</cp:coreProperties>
</file>