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FF20A-766A-48A4-9E3E-5BA8E2F98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D2E9D-A381-48F3-9F61-98436E6F1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4C722-A6AE-4E17-B40C-04C6C7C99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610A0-805F-468A-938C-C08BF717C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EC019-7C45-4791-9E65-B822A8CBB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FFDAD-A7B8-413A-B34C-23E3BD48F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687F6-76BA-4E7D-8372-26DD0A6F4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F546E-2C2A-41D1-8266-C4F9B4692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33B6A-EBF3-4576-A2EE-2EDCF5546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F05BA-C4DA-4435-8C34-094C7B0CA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F3AC3-18F6-4504-A14E-6F0113BCF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066EE-2EBF-4603-8F92-9E847434A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EDCF9-F176-4B25-9F19-F37FF2EFF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D4657-B390-4027-B8EA-CAA19C313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F2557-382C-49AA-B95F-B9D21C6B1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FF20B-C620-4176-98DB-45D2DF78B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16652-52AA-4136-9CC0-C46370050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79E9E-0E79-4C5F-BD54-BF6F673C4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B6385-B7AA-4605-9237-BFFA97457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79581-1B3B-4CE4-94F5-D0E26466C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55683-B5E1-4C8D-BECD-81B804E50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827BD-EF01-434E-89AB-D186AE1D4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52061-094B-4602-9258-21C999C94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210CB-397F-4310-A91D-1C0B7114E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EC8BE-1162-4837-A8EA-F23D1F5BCB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1295280"/>
            <a:ext cx="9142560" cy="762120"/>
          </a:xfrm>
          <a:prstGeom prst="rect">
            <a:avLst/>
          </a:prstGeom>
          <a:solidFill>
            <a:srgbClr val="33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0" y="2514240"/>
            <a:ext cx="1909800" cy="1909800"/>
            <a:chOff x="0" y="2514240"/>
            <a:chExt cx="1909800" cy="1909800"/>
          </a:xfrm>
        </p:grpSpPr>
        <p:sp>
          <p:nvSpPr>
            <p:cNvPr id="43" name=""/>
            <p:cNvSpPr/>
            <p:nvPr/>
          </p:nvSpPr>
          <p:spPr>
            <a:xfrm rot="16200000">
              <a:off x="544320" y="3252240"/>
              <a:ext cx="703440" cy="1639800"/>
            </a:xfrm>
            <a:custGeom>
              <a:avLst/>
              <a:gdLst/>
              <a:ahLst/>
              <a:rect l="l" t="t" r="r" b="b"/>
              <a:pathLst>
                <a:path w="443" h="1033">
                  <a:moveTo>
                    <a:pt x="272" y="1032"/>
                  </a:moveTo>
                  <a:lnTo>
                    <a:pt x="290" y="1016"/>
                  </a:lnTo>
                  <a:lnTo>
                    <a:pt x="301" y="992"/>
                  </a:lnTo>
                  <a:lnTo>
                    <a:pt x="316" y="974"/>
                  </a:lnTo>
                  <a:lnTo>
                    <a:pt x="328" y="955"/>
                  </a:lnTo>
                  <a:lnTo>
                    <a:pt x="354" y="920"/>
                  </a:lnTo>
                  <a:lnTo>
                    <a:pt x="373" y="904"/>
                  </a:lnTo>
                  <a:lnTo>
                    <a:pt x="384" y="884"/>
                  </a:lnTo>
                  <a:lnTo>
                    <a:pt x="390" y="848"/>
                  </a:lnTo>
                  <a:lnTo>
                    <a:pt x="381" y="832"/>
                  </a:lnTo>
                  <a:lnTo>
                    <a:pt x="375" y="812"/>
                  </a:lnTo>
                  <a:lnTo>
                    <a:pt x="370" y="794"/>
                  </a:lnTo>
                  <a:lnTo>
                    <a:pt x="361" y="774"/>
                  </a:lnTo>
                  <a:lnTo>
                    <a:pt x="361" y="760"/>
                  </a:lnTo>
                  <a:lnTo>
                    <a:pt x="361" y="747"/>
                  </a:lnTo>
                  <a:lnTo>
                    <a:pt x="361" y="734"/>
                  </a:lnTo>
                  <a:lnTo>
                    <a:pt x="359" y="722"/>
                  </a:lnTo>
                  <a:lnTo>
                    <a:pt x="359" y="707"/>
                  </a:lnTo>
                  <a:lnTo>
                    <a:pt x="364" y="698"/>
                  </a:lnTo>
                  <a:lnTo>
                    <a:pt x="373" y="691"/>
                  </a:lnTo>
                  <a:lnTo>
                    <a:pt x="390" y="686"/>
                  </a:lnTo>
                  <a:lnTo>
                    <a:pt x="391" y="686"/>
                  </a:lnTo>
                  <a:lnTo>
                    <a:pt x="395" y="682"/>
                  </a:lnTo>
                  <a:lnTo>
                    <a:pt x="395" y="680"/>
                  </a:lnTo>
                  <a:lnTo>
                    <a:pt x="395" y="677"/>
                  </a:lnTo>
                  <a:lnTo>
                    <a:pt x="390" y="671"/>
                  </a:lnTo>
                  <a:lnTo>
                    <a:pt x="386" y="666"/>
                  </a:lnTo>
                  <a:lnTo>
                    <a:pt x="386" y="660"/>
                  </a:lnTo>
                  <a:lnTo>
                    <a:pt x="395" y="655"/>
                  </a:lnTo>
                  <a:lnTo>
                    <a:pt x="437" y="635"/>
                  </a:lnTo>
                  <a:lnTo>
                    <a:pt x="442" y="626"/>
                  </a:lnTo>
                  <a:lnTo>
                    <a:pt x="442" y="619"/>
                  </a:lnTo>
                  <a:lnTo>
                    <a:pt x="442" y="613"/>
                  </a:lnTo>
                  <a:lnTo>
                    <a:pt x="438" y="604"/>
                  </a:lnTo>
                  <a:lnTo>
                    <a:pt x="417" y="577"/>
                  </a:lnTo>
                  <a:lnTo>
                    <a:pt x="400" y="543"/>
                  </a:lnTo>
                  <a:lnTo>
                    <a:pt x="391" y="511"/>
                  </a:lnTo>
                  <a:lnTo>
                    <a:pt x="384" y="474"/>
                  </a:lnTo>
                  <a:lnTo>
                    <a:pt x="368" y="465"/>
                  </a:lnTo>
                  <a:lnTo>
                    <a:pt x="354" y="455"/>
                  </a:lnTo>
                  <a:lnTo>
                    <a:pt x="339" y="444"/>
                  </a:lnTo>
                  <a:lnTo>
                    <a:pt x="326" y="433"/>
                  </a:lnTo>
                  <a:lnTo>
                    <a:pt x="317" y="422"/>
                  </a:lnTo>
                  <a:lnTo>
                    <a:pt x="312" y="411"/>
                  </a:lnTo>
                  <a:lnTo>
                    <a:pt x="308" y="402"/>
                  </a:lnTo>
                  <a:lnTo>
                    <a:pt x="307" y="391"/>
                  </a:lnTo>
                  <a:lnTo>
                    <a:pt x="285" y="363"/>
                  </a:lnTo>
                  <a:lnTo>
                    <a:pt x="290" y="339"/>
                  </a:lnTo>
                  <a:lnTo>
                    <a:pt x="301" y="314"/>
                  </a:lnTo>
                  <a:lnTo>
                    <a:pt x="308" y="289"/>
                  </a:lnTo>
                  <a:lnTo>
                    <a:pt x="308" y="267"/>
                  </a:lnTo>
                  <a:lnTo>
                    <a:pt x="298" y="278"/>
                  </a:lnTo>
                  <a:lnTo>
                    <a:pt x="287" y="294"/>
                  </a:lnTo>
                  <a:lnTo>
                    <a:pt x="280" y="307"/>
                  </a:lnTo>
                  <a:lnTo>
                    <a:pt x="272" y="314"/>
                  </a:lnTo>
                  <a:lnTo>
                    <a:pt x="269" y="283"/>
                  </a:lnTo>
                  <a:lnTo>
                    <a:pt x="271" y="254"/>
                  </a:lnTo>
                  <a:lnTo>
                    <a:pt x="272" y="224"/>
                  </a:lnTo>
                  <a:lnTo>
                    <a:pt x="272" y="195"/>
                  </a:lnTo>
                  <a:lnTo>
                    <a:pt x="280" y="177"/>
                  </a:lnTo>
                  <a:lnTo>
                    <a:pt x="280" y="164"/>
                  </a:lnTo>
                  <a:lnTo>
                    <a:pt x="280" y="146"/>
                  </a:lnTo>
                  <a:lnTo>
                    <a:pt x="281" y="133"/>
                  </a:lnTo>
                  <a:lnTo>
                    <a:pt x="281" y="123"/>
                  </a:lnTo>
                  <a:lnTo>
                    <a:pt x="285" y="113"/>
                  </a:lnTo>
                  <a:lnTo>
                    <a:pt x="290" y="104"/>
                  </a:lnTo>
                  <a:lnTo>
                    <a:pt x="296" y="97"/>
                  </a:lnTo>
                  <a:lnTo>
                    <a:pt x="296" y="97"/>
                  </a:lnTo>
                  <a:lnTo>
                    <a:pt x="298" y="94"/>
                  </a:lnTo>
                  <a:lnTo>
                    <a:pt x="298" y="94"/>
                  </a:lnTo>
                  <a:lnTo>
                    <a:pt x="298" y="94"/>
                  </a:lnTo>
                  <a:lnTo>
                    <a:pt x="301" y="92"/>
                  </a:lnTo>
                  <a:lnTo>
                    <a:pt x="303" y="86"/>
                  </a:lnTo>
                  <a:lnTo>
                    <a:pt x="307" y="83"/>
                  </a:lnTo>
                  <a:lnTo>
                    <a:pt x="308" y="83"/>
                  </a:lnTo>
                  <a:lnTo>
                    <a:pt x="317" y="79"/>
                  </a:lnTo>
                  <a:lnTo>
                    <a:pt x="323" y="77"/>
                  </a:lnTo>
                  <a:lnTo>
                    <a:pt x="328" y="77"/>
                  </a:lnTo>
                  <a:lnTo>
                    <a:pt x="334" y="74"/>
                  </a:lnTo>
                  <a:lnTo>
                    <a:pt x="337" y="74"/>
                  </a:lnTo>
                  <a:lnTo>
                    <a:pt x="339" y="72"/>
                  </a:lnTo>
                  <a:lnTo>
                    <a:pt x="345" y="67"/>
                  </a:lnTo>
                  <a:lnTo>
                    <a:pt x="345" y="63"/>
                  </a:lnTo>
                  <a:lnTo>
                    <a:pt x="337" y="50"/>
                  </a:lnTo>
                  <a:lnTo>
                    <a:pt x="337" y="50"/>
                  </a:lnTo>
                  <a:lnTo>
                    <a:pt x="337" y="47"/>
                  </a:lnTo>
                  <a:lnTo>
                    <a:pt x="337" y="47"/>
                  </a:lnTo>
                  <a:lnTo>
                    <a:pt x="337" y="43"/>
                  </a:lnTo>
                  <a:lnTo>
                    <a:pt x="337" y="43"/>
                  </a:lnTo>
                  <a:lnTo>
                    <a:pt x="337" y="41"/>
                  </a:lnTo>
                  <a:lnTo>
                    <a:pt x="334" y="41"/>
                  </a:lnTo>
                  <a:lnTo>
                    <a:pt x="334" y="38"/>
                  </a:lnTo>
                  <a:lnTo>
                    <a:pt x="328" y="30"/>
                  </a:lnTo>
                  <a:lnTo>
                    <a:pt x="321" y="21"/>
                  </a:lnTo>
                  <a:lnTo>
                    <a:pt x="317" y="11"/>
                  </a:lnTo>
                  <a:lnTo>
                    <a:pt x="316" y="0"/>
                  </a:lnTo>
                  <a:lnTo>
                    <a:pt x="249" y="41"/>
                  </a:lnTo>
                  <a:lnTo>
                    <a:pt x="188" y="94"/>
                  </a:lnTo>
                  <a:lnTo>
                    <a:pt x="133" y="151"/>
                  </a:lnTo>
                  <a:lnTo>
                    <a:pt x="88" y="218"/>
                  </a:lnTo>
                  <a:lnTo>
                    <a:pt x="50" y="289"/>
                  </a:lnTo>
                  <a:lnTo>
                    <a:pt x="21" y="366"/>
                  </a:lnTo>
                  <a:lnTo>
                    <a:pt x="5" y="446"/>
                  </a:lnTo>
                  <a:lnTo>
                    <a:pt x="0" y="530"/>
                  </a:lnTo>
                  <a:lnTo>
                    <a:pt x="5" y="608"/>
                  </a:lnTo>
                  <a:lnTo>
                    <a:pt x="20" y="680"/>
                  </a:lnTo>
                  <a:lnTo>
                    <a:pt x="45" y="751"/>
                  </a:lnTo>
                  <a:lnTo>
                    <a:pt x="74" y="819"/>
                  </a:lnTo>
                  <a:lnTo>
                    <a:pt x="114" y="879"/>
                  </a:lnTo>
                  <a:lnTo>
                    <a:pt x="160" y="938"/>
                  </a:lnTo>
                  <a:lnTo>
                    <a:pt x="215" y="987"/>
                  </a:lnTo>
                  <a:lnTo>
                    <a:pt x="272" y="1032"/>
                  </a:lnTo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 rot="16200000">
              <a:off x="300600" y="2213280"/>
              <a:ext cx="1308240" cy="1909800"/>
            </a:xfrm>
            <a:custGeom>
              <a:avLst/>
              <a:gdLst/>
              <a:ahLst/>
              <a:rect l="l" t="t" r="r" b="b"/>
              <a:pathLst>
                <a:path w="824" h="1203">
                  <a:moveTo>
                    <a:pt x="803" y="736"/>
                  </a:moveTo>
                  <a:lnTo>
                    <a:pt x="807" y="724"/>
                  </a:lnTo>
                  <a:lnTo>
                    <a:pt x="808" y="713"/>
                  </a:lnTo>
                  <a:lnTo>
                    <a:pt x="812" y="702"/>
                  </a:lnTo>
                  <a:lnTo>
                    <a:pt x="814" y="691"/>
                  </a:lnTo>
                  <a:lnTo>
                    <a:pt x="803" y="691"/>
                  </a:lnTo>
                  <a:lnTo>
                    <a:pt x="796" y="688"/>
                  </a:lnTo>
                  <a:lnTo>
                    <a:pt x="783" y="686"/>
                  </a:lnTo>
                  <a:lnTo>
                    <a:pt x="776" y="680"/>
                  </a:lnTo>
                  <a:lnTo>
                    <a:pt x="770" y="675"/>
                  </a:lnTo>
                  <a:lnTo>
                    <a:pt x="767" y="666"/>
                  </a:lnTo>
                  <a:lnTo>
                    <a:pt x="761" y="661"/>
                  </a:lnTo>
                  <a:lnTo>
                    <a:pt x="760" y="655"/>
                  </a:lnTo>
                  <a:lnTo>
                    <a:pt x="756" y="641"/>
                  </a:lnTo>
                  <a:lnTo>
                    <a:pt x="756" y="624"/>
                  </a:lnTo>
                  <a:lnTo>
                    <a:pt x="760" y="610"/>
                  </a:lnTo>
                  <a:lnTo>
                    <a:pt x="767" y="599"/>
                  </a:lnTo>
                  <a:lnTo>
                    <a:pt x="781" y="597"/>
                  </a:lnTo>
                  <a:lnTo>
                    <a:pt x="792" y="599"/>
                  </a:lnTo>
                  <a:lnTo>
                    <a:pt x="803" y="608"/>
                  </a:lnTo>
                  <a:lnTo>
                    <a:pt x="812" y="615"/>
                  </a:lnTo>
                  <a:lnTo>
                    <a:pt x="819" y="628"/>
                  </a:lnTo>
                  <a:lnTo>
                    <a:pt x="823" y="619"/>
                  </a:lnTo>
                  <a:lnTo>
                    <a:pt x="823" y="610"/>
                  </a:lnTo>
                  <a:lnTo>
                    <a:pt x="823" y="605"/>
                  </a:lnTo>
                  <a:lnTo>
                    <a:pt x="823" y="597"/>
                  </a:lnTo>
                  <a:lnTo>
                    <a:pt x="819" y="549"/>
                  </a:lnTo>
                  <a:lnTo>
                    <a:pt x="814" y="502"/>
                  </a:lnTo>
                  <a:lnTo>
                    <a:pt x="807" y="455"/>
                  </a:lnTo>
                  <a:lnTo>
                    <a:pt x="792" y="411"/>
                  </a:lnTo>
                  <a:lnTo>
                    <a:pt x="776" y="366"/>
                  </a:lnTo>
                  <a:lnTo>
                    <a:pt x="756" y="325"/>
                  </a:lnTo>
                  <a:lnTo>
                    <a:pt x="734" y="285"/>
                  </a:lnTo>
                  <a:lnTo>
                    <a:pt x="709" y="247"/>
                  </a:lnTo>
                  <a:lnTo>
                    <a:pt x="705" y="247"/>
                  </a:lnTo>
                  <a:lnTo>
                    <a:pt x="702" y="244"/>
                  </a:lnTo>
                  <a:lnTo>
                    <a:pt x="698" y="244"/>
                  </a:lnTo>
                  <a:lnTo>
                    <a:pt x="693" y="242"/>
                  </a:lnTo>
                  <a:lnTo>
                    <a:pt x="677" y="253"/>
                  </a:lnTo>
                  <a:lnTo>
                    <a:pt x="668" y="254"/>
                  </a:lnTo>
                  <a:lnTo>
                    <a:pt x="660" y="258"/>
                  </a:lnTo>
                  <a:lnTo>
                    <a:pt x="651" y="262"/>
                  </a:lnTo>
                  <a:lnTo>
                    <a:pt x="642" y="264"/>
                  </a:lnTo>
                  <a:lnTo>
                    <a:pt x="631" y="267"/>
                  </a:lnTo>
                  <a:lnTo>
                    <a:pt x="619" y="273"/>
                  </a:lnTo>
                  <a:lnTo>
                    <a:pt x="606" y="278"/>
                  </a:lnTo>
                  <a:lnTo>
                    <a:pt x="594" y="283"/>
                  </a:lnTo>
                  <a:lnTo>
                    <a:pt x="583" y="285"/>
                  </a:lnTo>
                  <a:lnTo>
                    <a:pt x="574" y="289"/>
                  </a:lnTo>
                  <a:lnTo>
                    <a:pt x="567" y="291"/>
                  </a:lnTo>
                  <a:lnTo>
                    <a:pt x="557" y="289"/>
                  </a:lnTo>
                  <a:lnTo>
                    <a:pt x="554" y="285"/>
                  </a:lnTo>
                  <a:lnTo>
                    <a:pt x="548" y="280"/>
                  </a:lnTo>
                  <a:lnTo>
                    <a:pt x="547" y="278"/>
                  </a:lnTo>
                  <a:lnTo>
                    <a:pt x="543" y="273"/>
                  </a:lnTo>
                  <a:lnTo>
                    <a:pt x="536" y="258"/>
                  </a:lnTo>
                  <a:lnTo>
                    <a:pt x="532" y="244"/>
                  </a:lnTo>
                  <a:lnTo>
                    <a:pt x="532" y="231"/>
                  </a:lnTo>
                  <a:lnTo>
                    <a:pt x="530" y="217"/>
                  </a:lnTo>
                  <a:lnTo>
                    <a:pt x="532" y="202"/>
                  </a:lnTo>
                  <a:lnTo>
                    <a:pt x="541" y="190"/>
                  </a:lnTo>
                  <a:lnTo>
                    <a:pt x="552" y="177"/>
                  </a:lnTo>
                  <a:lnTo>
                    <a:pt x="563" y="170"/>
                  </a:lnTo>
                  <a:lnTo>
                    <a:pt x="574" y="159"/>
                  </a:lnTo>
                  <a:lnTo>
                    <a:pt x="583" y="146"/>
                  </a:lnTo>
                  <a:lnTo>
                    <a:pt x="588" y="134"/>
                  </a:lnTo>
                  <a:lnTo>
                    <a:pt x="588" y="119"/>
                  </a:lnTo>
                  <a:lnTo>
                    <a:pt x="568" y="105"/>
                  </a:lnTo>
                  <a:lnTo>
                    <a:pt x="552" y="92"/>
                  </a:lnTo>
                  <a:lnTo>
                    <a:pt x="532" y="81"/>
                  </a:lnTo>
                  <a:lnTo>
                    <a:pt x="512" y="70"/>
                  </a:lnTo>
                  <a:lnTo>
                    <a:pt x="491" y="58"/>
                  </a:lnTo>
                  <a:lnTo>
                    <a:pt x="471" y="47"/>
                  </a:lnTo>
                  <a:lnTo>
                    <a:pt x="449" y="38"/>
                  </a:lnTo>
                  <a:lnTo>
                    <a:pt x="428" y="31"/>
                  </a:lnTo>
                  <a:lnTo>
                    <a:pt x="442" y="45"/>
                  </a:lnTo>
                  <a:lnTo>
                    <a:pt x="455" y="56"/>
                  </a:lnTo>
                  <a:lnTo>
                    <a:pt x="465" y="63"/>
                  </a:lnTo>
                  <a:lnTo>
                    <a:pt x="484" y="74"/>
                  </a:lnTo>
                  <a:lnTo>
                    <a:pt x="485" y="88"/>
                  </a:lnTo>
                  <a:lnTo>
                    <a:pt x="484" y="105"/>
                  </a:lnTo>
                  <a:lnTo>
                    <a:pt x="478" y="123"/>
                  </a:lnTo>
                  <a:lnTo>
                    <a:pt x="478" y="135"/>
                  </a:lnTo>
                  <a:lnTo>
                    <a:pt x="484" y="150"/>
                  </a:lnTo>
                  <a:lnTo>
                    <a:pt x="484" y="155"/>
                  </a:lnTo>
                  <a:lnTo>
                    <a:pt x="480" y="161"/>
                  </a:lnTo>
                  <a:lnTo>
                    <a:pt x="474" y="166"/>
                  </a:lnTo>
                  <a:lnTo>
                    <a:pt x="469" y="170"/>
                  </a:lnTo>
                  <a:lnTo>
                    <a:pt x="465" y="175"/>
                  </a:lnTo>
                  <a:lnTo>
                    <a:pt x="465" y="180"/>
                  </a:lnTo>
                  <a:lnTo>
                    <a:pt x="465" y="190"/>
                  </a:lnTo>
                  <a:lnTo>
                    <a:pt x="464" y="195"/>
                  </a:lnTo>
                  <a:lnTo>
                    <a:pt x="460" y="197"/>
                  </a:lnTo>
                  <a:lnTo>
                    <a:pt x="458" y="200"/>
                  </a:lnTo>
                  <a:lnTo>
                    <a:pt x="455" y="200"/>
                  </a:lnTo>
                  <a:lnTo>
                    <a:pt x="453" y="200"/>
                  </a:lnTo>
                  <a:lnTo>
                    <a:pt x="447" y="197"/>
                  </a:lnTo>
                  <a:lnTo>
                    <a:pt x="442" y="200"/>
                  </a:lnTo>
                  <a:lnTo>
                    <a:pt x="433" y="202"/>
                  </a:lnTo>
                  <a:lnTo>
                    <a:pt x="428" y="202"/>
                  </a:lnTo>
                  <a:lnTo>
                    <a:pt x="424" y="200"/>
                  </a:lnTo>
                  <a:lnTo>
                    <a:pt x="424" y="197"/>
                  </a:lnTo>
                  <a:lnTo>
                    <a:pt x="424" y="197"/>
                  </a:lnTo>
                  <a:lnTo>
                    <a:pt x="422" y="195"/>
                  </a:lnTo>
                  <a:lnTo>
                    <a:pt x="419" y="164"/>
                  </a:lnTo>
                  <a:lnTo>
                    <a:pt x="411" y="159"/>
                  </a:lnTo>
                  <a:lnTo>
                    <a:pt x="406" y="150"/>
                  </a:lnTo>
                  <a:lnTo>
                    <a:pt x="397" y="141"/>
                  </a:lnTo>
                  <a:lnTo>
                    <a:pt x="390" y="134"/>
                  </a:lnTo>
                  <a:lnTo>
                    <a:pt x="386" y="125"/>
                  </a:lnTo>
                  <a:lnTo>
                    <a:pt x="384" y="117"/>
                  </a:lnTo>
                  <a:lnTo>
                    <a:pt x="381" y="108"/>
                  </a:lnTo>
                  <a:lnTo>
                    <a:pt x="384" y="103"/>
                  </a:lnTo>
                  <a:lnTo>
                    <a:pt x="386" y="99"/>
                  </a:lnTo>
                  <a:lnTo>
                    <a:pt x="390" y="99"/>
                  </a:lnTo>
                  <a:lnTo>
                    <a:pt x="390" y="97"/>
                  </a:lnTo>
                  <a:lnTo>
                    <a:pt x="391" y="97"/>
                  </a:lnTo>
                  <a:lnTo>
                    <a:pt x="397" y="103"/>
                  </a:lnTo>
                  <a:lnTo>
                    <a:pt x="406" y="108"/>
                  </a:lnTo>
                  <a:lnTo>
                    <a:pt x="413" y="110"/>
                  </a:lnTo>
                  <a:lnTo>
                    <a:pt x="422" y="110"/>
                  </a:lnTo>
                  <a:lnTo>
                    <a:pt x="424" y="110"/>
                  </a:lnTo>
                  <a:lnTo>
                    <a:pt x="424" y="108"/>
                  </a:lnTo>
                  <a:lnTo>
                    <a:pt x="424" y="108"/>
                  </a:lnTo>
                  <a:lnTo>
                    <a:pt x="424" y="108"/>
                  </a:lnTo>
                  <a:lnTo>
                    <a:pt x="424" y="72"/>
                  </a:lnTo>
                  <a:lnTo>
                    <a:pt x="411" y="56"/>
                  </a:lnTo>
                  <a:lnTo>
                    <a:pt x="395" y="42"/>
                  </a:lnTo>
                  <a:lnTo>
                    <a:pt x="377" y="27"/>
                  </a:lnTo>
                  <a:lnTo>
                    <a:pt x="364" y="9"/>
                  </a:lnTo>
                  <a:lnTo>
                    <a:pt x="350" y="5"/>
                  </a:lnTo>
                  <a:lnTo>
                    <a:pt x="339" y="2"/>
                  </a:lnTo>
                  <a:lnTo>
                    <a:pt x="325" y="0"/>
                  </a:lnTo>
                  <a:lnTo>
                    <a:pt x="312" y="0"/>
                  </a:lnTo>
                  <a:lnTo>
                    <a:pt x="308" y="0"/>
                  </a:lnTo>
                  <a:lnTo>
                    <a:pt x="308" y="2"/>
                  </a:lnTo>
                  <a:lnTo>
                    <a:pt x="308" y="5"/>
                  </a:lnTo>
                  <a:lnTo>
                    <a:pt x="307" y="9"/>
                  </a:lnTo>
                  <a:lnTo>
                    <a:pt x="289" y="14"/>
                  </a:lnTo>
                  <a:lnTo>
                    <a:pt x="281" y="27"/>
                  </a:lnTo>
                  <a:lnTo>
                    <a:pt x="276" y="42"/>
                  </a:lnTo>
                  <a:lnTo>
                    <a:pt x="265" y="56"/>
                  </a:lnTo>
                  <a:lnTo>
                    <a:pt x="260" y="56"/>
                  </a:lnTo>
                  <a:lnTo>
                    <a:pt x="256" y="56"/>
                  </a:lnTo>
                  <a:lnTo>
                    <a:pt x="251" y="56"/>
                  </a:lnTo>
                  <a:lnTo>
                    <a:pt x="249" y="58"/>
                  </a:lnTo>
                  <a:lnTo>
                    <a:pt x="240" y="72"/>
                  </a:lnTo>
                  <a:lnTo>
                    <a:pt x="231" y="87"/>
                  </a:lnTo>
                  <a:lnTo>
                    <a:pt x="224" y="99"/>
                  </a:lnTo>
                  <a:lnTo>
                    <a:pt x="213" y="110"/>
                  </a:lnTo>
                  <a:lnTo>
                    <a:pt x="209" y="110"/>
                  </a:lnTo>
                  <a:lnTo>
                    <a:pt x="209" y="110"/>
                  </a:lnTo>
                  <a:lnTo>
                    <a:pt x="209" y="110"/>
                  </a:lnTo>
                  <a:lnTo>
                    <a:pt x="209" y="114"/>
                  </a:lnTo>
                  <a:lnTo>
                    <a:pt x="184" y="139"/>
                  </a:lnTo>
                  <a:lnTo>
                    <a:pt x="184" y="139"/>
                  </a:lnTo>
                  <a:lnTo>
                    <a:pt x="184" y="139"/>
                  </a:lnTo>
                  <a:lnTo>
                    <a:pt x="184" y="139"/>
                  </a:lnTo>
                  <a:lnTo>
                    <a:pt x="184" y="141"/>
                  </a:lnTo>
                  <a:lnTo>
                    <a:pt x="195" y="146"/>
                  </a:lnTo>
                  <a:lnTo>
                    <a:pt x="209" y="150"/>
                  </a:lnTo>
                  <a:lnTo>
                    <a:pt x="224" y="153"/>
                  </a:lnTo>
                  <a:lnTo>
                    <a:pt x="234" y="153"/>
                  </a:lnTo>
                  <a:lnTo>
                    <a:pt x="236" y="155"/>
                  </a:lnTo>
                  <a:lnTo>
                    <a:pt x="240" y="155"/>
                  </a:lnTo>
                  <a:lnTo>
                    <a:pt x="240" y="159"/>
                  </a:lnTo>
                  <a:lnTo>
                    <a:pt x="242" y="161"/>
                  </a:lnTo>
                  <a:lnTo>
                    <a:pt x="240" y="164"/>
                  </a:lnTo>
                  <a:lnTo>
                    <a:pt x="234" y="166"/>
                  </a:lnTo>
                  <a:lnTo>
                    <a:pt x="231" y="170"/>
                  </a:lnTo>
                  <a:lnTo>
                    <a:pt x="225" y="171"/>
                  </a:lnTo>
                  <a:lnTo>
                    <a:pt x="220" y="180"/>
                  </a:lnTo>
                  <a:lnTo>
                    <a:pt x="215" y="195"/>
                  </a:lnTo>
                  <a:lnTo>
                    <a:pt x="209" y="208"/>
                  </a:lnTo>
                  <a:lnTo>
                    <a:pt x="209" y="222"/>
                  </a:lnTo>
                  <a:lnTo>
                    <a:pt x="213" y="227"/>
                  </a:lnTo>
                  <a:lnTo>
                    <a:pt x="215" y="227"/>
                  </a:lnTo>
                  <a:lnTo>
                    <a:pt x="213" y="231"/>
                  </a:lnTo>
                  <a:lnTo>
                    <a:pt x="209" y="238"/>
                  </a:lnTo>
                  <a:lnTo>
                    <a:pt x="209" y="238"/>
                  </a:lnTo>
                  <a:lnTo>
                    <a:pt x="213" y="242"/>
                  </a:lnTo>
                  <a:lnTo>
                    <a:pt x="213" y="242"/>
                  </a:lnTo>
                  <a:lnTo>
                    <a:pt x="215" y="244"/>
                  </a:lnTo>
                  <a:lnTo>
                    <a:pt x="231" y="233"/>
                  </a:lnTo>
                  <a:lnTo>
                    <a:pt x="260" y="231"/>
                  </a:lnTo>
                  <a:lnTo>
                    <a:pt x="260" y="227"/>
                  </a:lnTo>
                  <a:lnTo>
                    <a:pt x="262" y="226"/>
                  </a:lnTo>
                  <a:lnTo>
                    <a:pt x="265" y="226"/>
                  </a:lnTo>
                  <a:lnTo>
                    <a:pt x="267" y="222"/>
                  </a:lnTo>
                  <a:lnTo>
                    <a:pt x="267" y="200"/>
                  </a:lnTo>
                  <a:lnTo>
                    <a:pt x="289" y="155"/>
                  </a:lnTo>
                  <a:lnTo>
                    <a:pt x="289" y="155"/>
                  </a:lnTo>
                  <a:lnTo>
                    <a:pt x="292" y="155"/>
                  </a:lnTo>
                  <a:lnTo>
                    <a:pt x="292" y="155"/>
                  </a:lnTo>
                  <a:lnTo>
                    <a:pt x="292" y="155"/>
                  </a:lnTo>
                  <a:lnTo>
                    <a:pt x="303" y="170"/>
                  </a:lnTo>
                  <a:lnTo>
                    <a:pt x="312" y="180"/>
                  </a:lnTo>
                  <a:lnTo>
                    <a:pt x="323" y="195"/>
                  </a:lnTo>
                  <a:lnTo>
                    <a:pt x="336" y="206"/>
                  </a:lnTo>
                  <a:lnTo>
                    <a:pt x="343" y="211"/>
                  </a:lnTo>
                  <a:lnTo>
                    <a:pt x="345" y="217"/>
                  </a:lnTo>
                  <a:lnTo>
                    <a:pt x="350" y="226"/>
                  </a:lnTo>
                  <a:lnTo>
                    <a:pt x="354" y="231"/>
                  </a:lnTo>
                  <a:lnTo>
                    <a:pt x="354" y="244"/>
                  </a:lnTo>
                  <a:lnTo>
                    <a:pt x="354" y="258"/>
                  </a:lnTo>
                  <a:lnTo>
                    <a:pt x="359" y="273"/>
                  </a:lnTo>
                  <a:lnTo>
                    <a:pt x="364" y="283"/>
                  </a:lnTo>
                  <a:lnTo>
                    <a:pt x="366" y="285"/>
                  </a:lnTo>
                  <a:lnTo>
                    <a:pt x="370" y="289"/>
                  </a:lnTo>
                  <a:lnTo>
                    <a:pt x="372" y="291"/>
                  </a:lnTo>
                  <a:lnTo>
                    <a:pt x="375" y="294"/>
                  </a:lnTo>
                  <a:lnTo>
                    <a:pt x="375" y="298"/>
                  </a:lnTo>
                  <a:lnTo>
                    <a:pt x="372" y="300"/>
                  </a:lnTo>
                  <a:lnTo>
                    <a:pt x="372" y="305"/>
                  </a:lnTo>
                  <a:lnTo>
                    <a:pt x="370" y="309"/>
                  </a:lnTo>
                  <a:lnTo>
                    <a:pt x="359" y="305"/>
                  </a:lnTo>
                  <a:lnTo>
                    <a:pt x="348" y="294"/>
                  </a:lnTo>
                  <a:lnTo>
                    <a:pt x="336" y="285"/>
                  </a:lnTo>
                  <a:lnTo>
                    <a:pt x="323" y="283"/>
                  </a:lnTo>
                  <a:lnTo>
                    <a:pt x="314" y="289"/>
                  </a:lnTo>
                  <a:lnTo>
                    <a:pt x="308" y="294"/>
                  </a:lnTo>
                  <a:lnTo>
                    <a:pt x="299" y="300"/>
                  </a:lnTo>
                  <a:lnTo>
                    <a:pt x="296" y="305"/>
                  </a:lnTo>
                  <a:lnTo>
                    <a:pt x="298" y="309"/>
                  </a:lnTo>
                  <a:lnTo>
                    <a:pt x="299" y="310"/>
                  </a:lnTo>
                  <a:lnTo>
                    <a:pt x="299" y="314"/>
                  </a:lnTo>
                  <a:lnTo>
                    <a:pt x="303" y="314"/>
                  </a:lnTo>
                  <a:lnTo>
                    <a:pt x="312" y="314"/>
                  </a:lnTo>
                  <a:lnTo>
                    <a:pt x="317" y="316"/>
                  </a:lnTo>
                  <a:lnTo>
                    <a:pt x="319" y="321"/>
                  </a:lnTo>
                  <a:lnTo>
                    <a:pt x="323" y="330"/>
                  </a:lnTo>
                  <a:lnTo>
                    <a:pt x="323" y="330"/>
                  </a:lnTo>
                  <a:lnTo>
                    <a:pt x="319" y="334"/>
                  </a:lnTo>
                  <a:lnTo>
                    <a:pt x="317" y="339"/>
                  </a:lnTo>
                  <a:lnTo>
                    <a:pt x="317" y="339"/>
                  </a:lnTo>
                  <a:lnTo>
                    <a:pt x="260" y="327"/>
                  </a:lnTo>
                  <a:lnTo>
                    <a:pt x="260" y="334"/>
                  </a:lnTo>
                  <a:lnTo>
                    <a:pt x="260" y="339"/>
                  </a:lnTo>
                  <a:lnTo>
                    <a:pt x="260" y="345"/>
                  </a:lnTo>
                  <a:lnTo>
                    <a:pt x="256" y="347"/>
                  </a:lnTo>
                  <a:lnTo>
                    <a:pt x="251" y="356"/>
                  </a:lnTo>
                  <a:lnTo>
                    <a:pt x="249" y="357"/>
                  </a:lnTo>
                  <a:lnTo>
                    <a:pt x="242" y="366"/>
                  </a:lnTo>
                  <a:lnTo>
                    <a:pt x="225" y="393"/>
                  </a:lnTo>
                  <a:lnTo>
                    <a:pt x="189" y="411"/>
                  </a:lnTo>
                  <a:lnTo>
                    <a:pt x="188" y="413"/>
                  </a:lnTo>
                  <a:lnTo>
                    <a:pt x="184" y="419"/>
                  </a:lnTo>
                  <a:lnTo>
                    <a:pt x="184" y="424"/>
                  </a:lnTo>
                  <a:lnTo>
                    <a:pt x="184" y="430"/>
                  </a:lnTo>
                  <a:lnTo>
                    <a:pt x="184" y="439"/>
                  </a:lnTo>
                  <a:lnTo>
                    <a:pt x="184" y="453"/>
                  </a:lnTo>
                  <a:lnTo>
                    <a:pt x="184" y="469"/>
                  </a:lnTo>
                  <a:lnTo>
                    <a:pt x="184" y="478"/>
                  </a:lnTo>
                  <a:lnTo>
                    <a:pt x="173" y="478"/>
                  </a:lnTo>
                  <a:lnTo>
                    <a:pt x="164" y="475"/>
                  </a:lnTo>
                  <a:lnTo>
                    <a:pt x="157" y="469"/>
                  </a:lnTo>
                  <a:lnTo>
                    <a:pt x="151" y="464"/>
                  </a:lnTo>
                  <a:lnTo>
                    <a:pt x="151" y="449"/>
                  </a:lnTo>
                  <a:lnTo>
                    <a:pt x="148" y="435"/>
                  </a:lnTo>
                  <a:lnTo>
                    <a:pt x="141" y="424"/>
                  </a:lnTo>
                  <a:lnTo>
                    <a:pt x="130" y="413"/>
                  </a:lnTo>
                  <a:lnTo>
                    <a:pt x="117" y="417"/>
                  </a:lnTo>
                  <a:lnTo>
                    <a:pt x="110" y="417"/>
                  </a:lnTo>
                  <a:lnTo>
                    <a:pt x="101" y="413"/>
                  </a:lnTo>
                  <a:lnTo>
                    <a:pt x="94" y="408"/>
                  </a:lnTo>
                  <a:lnTo>
                    <a:pt x="83" y="402"/>
                  </a:lnTo>
                  <a:lnTo>
                    <a:pt x="72" y="397"/>
                  </a:lnTo>
                  <a:lnTo>
                    <a:pt x="59" y="393"/>
                  </a:lnTo>
                  <a:lnTo>
                    <a:pt x="49" y="392"/>
                  </a:lnTo>
                  <a:lnTo>
                    <a:pt x="38" y="402"/>
                  </a:lnTo>
                  <a:lnTo>
                    <a:pt x="21" y="424"/>
                  </a:lnTo>
                  <a:lnTo>
                    <a:pt x="5" y="448"/>
                  </a:lnTo>
                  <a:lnTo>
                    <a:pt x="0" y="455"/>
                  </a:lnTo>
                  <a:lnTo>
                    <a:pt x="21" y="475"/>
                  </a:lnTo>
                  <a:lnTo>
                    <a:pt x="25" y="516"/>
                  </a:lnTo>
                  <a:lnTo>
                    <a:pt x="29" y="516"/>
                  </a:lnTo>
                  <a:lnTo>
                    <a:pt x="38" y="513"/>
                  </a:lnTo>
                  <a:lnTo>
                    <a:pt x="43" y="511"/>
                  </a:lnTo>
                  <a:lnTo>
                    <a:pt x="49" y="505"/>
                  </a:lnTo>
                  <a:lnTo>
                    <a:pt x="54" y="496"/>
                  </a:lnTo>
                  <a:lnTo>
                    <a:pt x="58" y="491"/>
                  </a:lnTo>
                  <a:lnTo>
                    <a:pt x="63" y="485"/>
                  </a:lnTo>
                  <a:lnTo>
                    <a:pt x="72" y="480"/>
                  </a:lnTo>
                  <a:lnTo>
                    <a:pt x="74" y="480"/>
                  </a:lnTo>
                  <a:lnTo>
                    <a:pt x="74" y="484"/>
                  </a:lnTo>
                  <a:lnTo>
                    <a:pt x="74" y="484"/>
                  </a:lnTo>
                  <a:lnTo>
                    <a:pt x="74" y="485"/>
                  </a:lnTo>
                  <a:lnTo>
                    <a:pt x="63" y="538"/>
                  </a:lnTo>
                  <a:lnTo>
                    <a:pt x="79" y="556"/>
                  </a:lnTo>
                  <a:lnTo>
                    <a:pt x="77" y="567"/>
                  </a:lnTo>
                  <a:lnTo>
                    <a:pt x="68" y="574"/>
                  </a:lnTo>
                  <a:lnTo>
                    <a:pt x="59" y="583"/>
                  </a:lnTo>
                  <a:lnTo>
                    <a:pt x="54" y="597"/>
                  </a:lnTo>
                  <a:lnTo>
                    <a:pt x="54" y="608"/>
                  </a:lnTo>
                  <a:lnTo>
                    <a:pt x="63" y="619"/>
                  </a:lnTo>
                  <a:lnTo>
                    <a:pt x="74" y="630"/>
                  </a:lnTo>
                  <a:lnTo>
                    <a:pt x="88" y="641"/>
                  </a:lnTo>
                  <a:lnTo>
                    <a:pt x="101" y="646"/>
                  </a:lnTo>
                  <a:lnTo>
                    <a:pt x="114" y="646"/>
                  </a:lnTo>
                  <a:lnTo>
                    <a:pt x="124" y="644"/>
                  </a:lnTo>
                  <a:lnTo>
                    <a:pt x="132" y="641"/>
                  </a:lnTo>
                  <a:lnTo>
                    <a:pt x="141" y="635"/>
                  </a:lnTo>
                  <a:lnTo>
                    <a:pt x="148" y="635"/>
                  </a:lnTo>
                  <a:lnTo>
                    <a:pt x="153" y="639"/>
                  </a:lnTo>
                  <a:lnTo>
                    <a:pt x="160" y="641"/>
                  </a:lnTo>
                  <a:lnTo>
                    <a:pt x="168" y="644"/>
                  </a:lnTo>
                  <a:lnTo>
                    <a:pt x="184" y="652"/>
                  </a:lnTo>
                  <a:lnTo>
                    <a:pt x="195" y="661"/>
                  </a:lnTo>
                  <a:lnTo>
                    <a:pt x="209" y="670"/>
                  </a:lnTo>
                  <a:lnTo>
                    <a:pt x="220" y="677"/>
                  </a:lnTo>
                  <a:lnTo>
                    <a:pt x="225" y="691"/>
                  </a:lnTo>
                  <a:lnTo>
                    <a:pt x="229" y="706"/>
                  </a:lnTo>
                  <a:lnTo>
                    <a:pt x="231" y="722"/>
                  </a:lnTo>
                  <a:lnTo>
                    <a:pt x="234" y="738"/>
                  </a:lnTo>
                  <a:lnTo>
                    <a:pt x="249" y="744"/>
                  </a:lnTo>
                  <a:lnTo>
                    <a:pt x="262" y="749"/>
                  </a:lnTo>
                  <a:lnTo>
                    <a:pt x="276" y="758"/>
                  </a:lnTo>
                  <a:lnTo>
                    <a:pt x="287" y="772"/>
                  </a:lnTo>
                  <a:lnTo>
                    <a:pt x="298" y="800"/>
                  </a:lnTo>
                  <a:lnTo>
                    <a:pt x="308" y="830"/>
                  </a:lnTo>
                  <a:lnTo>
                    <a:pt x="319" y="861"/>
                  </a:lnTo>
                  <a:lnTo>
                    <a:pt x="334" y="886"/>
                  </a:lnTo>
                  <a:lnTo>
                    <a:pt x="350" y="904"/>
                  </a:lnTo>
                  <a:lnTo>
                    <a:pt x="366" y="924"/>
                  </a:lnTo>
                  <a:lnTo>
                    <a:pt x="381" y="944"/>
                  </a:lnTo>
                  <a:lnTo>
                    <a:pt x="395" y="966"/>
                  </a:lnTo>
                  <a:lnTo>
                    <a:pt x="397" y="980"/>
                  </a:lnTo>
                  <a:lnTo>
                    <a:pt x="397" y="993"/>
                  </a:lnTo>
                  <a:lnTo>
                    <a:pt x="391" y="1007"/>
                  </a:lnTo>
                  <a:lnTo>
                    <a:pt x="381" y="1018"/>
                  </a:lnTo>
                  <a:lnTo>
                    <a:pt x="364" y="1022"/>
                  </a:lnTo>
                  <a:lnTo>
                    <a:pt x="348" y="1027"/>
                  </a:lnTo>
                  <a:lnTo>
                    <a:pt x="334" y="1032"/>
                  </a:lnTo>
                  <a:lnTo>
                    <a:pt x="319" y="1038"/>
                  </a:lnTo>
                  <a:lnTo>
                    <a:pt x="307" y="1043"/>
                  </a:lnTo>
                  <a:lnTo>
                    <a:pt x="292" y="1052"/>
                  </a:lnTo>
                  <a:lnTo>
                    <a:pt x="278" y="1063"/>
                  </a:lnTo>
                  <a:lnTo>
                    <a:pt x="262" y="1074"/>
                  </a:lnTo>
                  <a:lnTo>
                    <a:pt x="249" y="1083"/>
                  </a:lnTo>
                  <a:lnTo>
                    <a:pt x="231" y="1090"/>
                  </a:lnTo>
                  <a:lnTo>
                    <a:pt x="215" y="1094"/>
                  </a:lnTo>
                  <a:lnTo>
                    <a:pt x="198" y="1099"/>
                  </a:lnTo>
                  <a:lnTo>
                    <a:pt x="182" y="1105"/>
                  </a:lnTo>
                  <a:lnTo>
                    <a:pt x="164" y="1110"/>
                  </a:lnTo>
                  <a:lnTo>
                    <a:pt x="151" y="1119"/>
                  </a:lnTo>
                  <a:lnTo>
                    <a:pt x="141" y="1132"/>
                  </a:lnTo>
                  <a:lnTo>
                    <a:pt x="124" y="1146"/>
                  </a:lnTo>
                  <a:lnTo>
                    <a:pt x="106" y="1160"/>
                  </a:lnTo>
                  <a:lnTo>
                    <a:pt x="88" y="1171"/>
                  </a:lnTo>
                  <a:lnTo>
                    <a:pt x="68" y="1180"/>
                  </a:lnTo>
                  <a:lnTo>
                    <a:pt x="88" y="1186"/>
                  </a:lnTo>
                  <a:lnTo>
                    <a:pt x="106" y="1188"/>
                  </a:lnTo>
                  <a:lnTo>
                    <a:pt x="124" y="1193"/>
                  </a:lnTo>
                  <a:lnTo>
                    <a:pt x="142" y="1197"/>
                  </a:lnTo>
                  <a:lnTo>
                    <a:pt x="162" y="1198"/>
                  </a:lnTo>
                  <a:lnTo>
                    <a:pt x="182" y="1198"/>
                  </a:lnTo>
                  <a:lnTo>
                    <a:pt x="200" y="1202"/>
                  </a:lnTo>
                  <a:lnTo>
                    <a:pt x="220" y="1202"/>
                  </a:lnTo>
                  <a:lnTo>
                    <a:pt x="252" y="1202"/>
                  </a:lnTo>
                  <a:lnTo>
                    <a:pt x="287" y="1198"/>
                  </a:lnTo>
                  <a:lnTo>
                    <a:pt x="319" y="1193"/>
                  </a:lnTo>
                  <a:lnTo>
                    <a:pt x="354" y="1186"/>
                  </a:lnTo>
                  <a:lnTo>
                    <a:pt x="386" y="1177"/>
                  </a:lnTo>
                  <a:lnTo>
                    <a:pt x="417" y="1168"/>
                  </a:lnTo>
                  <a:lnTo>
                    <a:pt x="447" y="1155"/>
                  </a:lnTo>
                  <a:lnTo>
                    <a:pt x="478" y="1141"/>
                  </a:lnTo>
                  <a:lnTo>
                    <a:pt x="505" y="1126"/>
                  </a:lnTo>
                  <a:lnTo>
                    <a:pt x="536" y="1110"/>
                  </a:lnTo>
                  <a:lnTo>
                    <a:pt x="559" y="1094"/>
                  </a:lnTo>
                  <a:lnTo>
                    <a:pt x="588" y="1074"/>
                  </a:lnTo>
                  <a:lnTo>
                    <a:pt x="613" y="1052"/>
                  </a:lnTo>
                  <a:lnTo>
                    <a:pt x="637" y="1029"/>
                  </a:lnTo>
                  <a:lnTo>
                    <a:pt x="660" y="1007"/>
                  </a:lnTo>
                  <a:lnTo>
                    <a:pt x="682" y="982"/>
                  </a:lnTo>
                  <a:lnTo>
                    <a:pt x="666" y="966"/>
                  </a:lnTo>
                  <a:lnTo>
                    <a:pt x="646" y="955"/>
                  </a:lnTo>
                  <a:lnTo>
                    <a:pt x="626" y="940"/>
                  </a:lnTo>
                  <a:lnTo>
                    <a:pt x="610" y="929"/>
                  </a:lnTo>
                  <a:lnTo>
                    <a:pt x="590" y="922"/>
                  </a:lnTo>
                  <a:lnTo>
                    <a:pt x="574" y="917"/>
                  </a:lnTo>
                  <a:lnTo>
                    <a:pt x="557" y="904"/>
                  </a:lnTo>
                  <a:lnTo>
                    <a:pt x="547" y="893"/>
                  </a:lnTo>
                  <a:lnTo>
                    <a:pt x="547" y="892"/>
                  </a:lnTo>
                  <a:lnTo>
                    <a:pt x="547" y="888"/>
                  </a:lnTo>
                  <a:lnTo>
                    <a:pt x="543" y="888"/>
                  </a:lnTo>
                  <a:lnTo>
                    <a:pt x="543" y="886"/>
                  </a:lnTo>
                  <a:lnTo>
                    <a:pt x="543" y="874"/>
                  </a:lnTo>
                  <a:lnTo>
                    <a:pt x="547" y="863"/>
                  </a:lnTo>
                  <a:lnTo>
                    <a:pt x="547" y="855"/>
                  </a:lnTo>
                  <a:lnTo>
                    <a:pt x="548" y="845"/>
                  </a:lnTo>
                  <a:lnTo>
                    <a:pt x="557" y="819"/>
                  </a:lnTo>
                  <a:lnTo>
                    <a:pt x="567" y="791"/>
                  </a:lnTo>
                  <a:lnTo>
                    <a:pt x="579" y="769"/>
                  </a:lnTo>
                  <a:lnTo>
                    <a:pt x="601" y="753"/>
                  </a:lnTo>
                  <a:lnTo>
                    <a:pt x="613" y="749"/>
                  </a:lnTo>
                  <a:lnTo>
                    <a:pt x="624" y="744"/>
                  </a:lnTo>
                  <a:lnTo>
                    <a:pt x="631" y="742"/>
                  </a:lnTo>
                  <a:lnTo>
                    <a:pt x="642" y="738"/>
                  </a:lnTo>
                  <a:lnTo>
                    <a:pt x="655" y="738"/>
                  </a:lnTo>
                  <a:lnTo>
                    <a:pt x="666" y="736"/>
                  </a:lnTo>
                  <a:lnTo>
                    <a:pt x="673" y="729"/>
                  </a:lnTo>
                  <a:lnTo>
                    <a:pt x="684" y="727"/>
                  </a:lnTo>
                  <a:lnTo>
                    <a:pt x="695" y="727"/>
                  </a:lnTo>
                  <a:lnTo>
                    <a:pt x="704" y="722"/>
                  </a:lnTo>
                  <a:lnTo>
                    <a:pt x="715" y="718"/>
                  </a:lnTo>
                  <a:lnTo>
                    <a:pt x="725" y="713"/>
                  </a:lnTo>
                  <a:lnTo>
                    <a:pt x="736" y="711"/>
                  </a:lnTo>
                  <a:lnTo>
                    <a:pt x="749" y="707"/>
                  </a:lnTo>
                  <a:lnTo>
                    <a:pt x="760" y="707"/>
                  </a:lnTo>
                  <a:lnTo>
                    <a:pt x="770" y="711"/>
                  </a:lnTo>
                  <a:lnTo>
                    <a:pt x="776" y="717"/>
                  </a:lnTo>
                  <a:lnTo>
                    <a:pt x="783" y="722"/>
                  </a:lnTo>
                  <a:lnTo>
                    <a:pt x="792" y="729"/>
                  </a:lnTo>
                  <a:lnTo>
                    <a:pt x="803" y="736"/>
                  </a:lnTo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A7D44-AD4C-405E-932E-3A23A545AAE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mework 6 – Problem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-box 4 is observed to have the indicated output xor when presented with the indicated inpu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1: 0x22, In2: 0x16,  Output xor: 0x0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1: 0x12, In2: 0x0c , Output xor: 0x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 a differential cryptanalysis and produce the possible candidate key(s).  You may find the tables provided in “DC.txt” helpfu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91613-C1BB-42A0-8D86-A9B52D3196C8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LM 20060209 12:16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mework 6, problem 2 (omit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ider the 2 round iterative differential characteristic for DES 0x19600000000000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x19600000000000, p=1/23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se for the following questions we can always find chosen plaintext with S/N ratio high enough to require only 10 “right pairs” for a successful differential cryptanalysis (“DC”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 average, how many chosen plain ciphertext pairs are required for a successful DC on two round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 average, how many chosen plain ciphertext pairs are required for a successful DC on ten round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ter how many rounds is DC impossible because there cannot possibly be enough plain ciphertext pairs to succee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5CCAD-DA1B-4DEC-A5A5-E2A14095DB77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LM 20060209 12:16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mework 6 – Problem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certain cipher </a:t>
            </a:r>
            <a:r>
              <a:rPr b="0" lang="en-US" sz="2000" spc="-1" strike="noStrike">
                <a:solidFill>
                  <a:srgbClr val="000000"/>
                </a:solidFill>
                <a:latin typeface="Math1"/>
                <a:ea typeface="Math1"/>
              </a:rPr>
              <a:t>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ith 6 bit key 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has 4 linear constraint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iven the corresponding plaintext, ciphertext pairs and substituting the equations becom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= 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Math1"/>
                <a:ea typeface="Math1"/>
              </a:rPr>
              <a:t>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Math1"/>
                <a:ea typeface="Math1"/>
              </a:rPr>
              <a:t>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= 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Math1"/>
                <a:ea typeface="Math1"/>
              </a:rPr>
              <a:t>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= 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Math1"/>
                <a:ea typeface="Math1"/>
              </a:rPr>
              <a:t>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= 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Math1"/>
                <a:ea typeface="Math1"/>
              </a:rPr>
              <a:t>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uessing 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lculate 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 How many encryptions are needed to discover the correct key with exhaustive search in the worst cas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many are needed with these constraint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F22CA-6D77-4BD5-ACF5-98CB53D8CF6C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LM 20060209 12:16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mework 6, problem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A) Suppose the cipher </a:t>
            </a:r>
            <a:r>
              <a:rPr b="0" lang="en-US" sz="2000" spc="-1" strike="noStrike">
                <a:solidFill>
                  <a:srgbClr val="000000"/>
                </a:solidFill>
                <a:latin typeface="Math1"/>
                <a:ea typeface="Math1"/>
              </a:rPr>
              <a:t>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has a linear constraint (Equation 1) that holds with probability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.75 where the input to </a:t>
            </a:r>
            <a:r>
              <a:rPr b="0" lang="en-US" sz="2000" spc="-1" strike="noStrike">
                <a:solidFill>
                  <a:srgbClr val="000000"/>
                </a:solidFill>
                <a:latin typeface="Math1"/>
                <a:ea typeface="Math1"/>
              </a:rPr>
              <a:t>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plaintext bits 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||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||…||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 the output is the ciphertext bits 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||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||…||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under key bits 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||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||…||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 The constants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… ,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b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b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… , b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… , 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d are all know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quation 1: 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Math1"/>
                <a:ea typeface="Math1"/>
              </a:rPr>
              <a:t>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Math1"/>
                <a:ea typeface="Math1"/>
              </a:rPr>
              <a:t>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Math1"/>
                <a:ea typeface="Math1"/>
              </a:rPr>
              <a:t>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Math1"/>
                <a:ea typeface="Math1"/>
              </a:rPr>
              <a:t>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Math1"/>
                <a:ea typeface="Math1"/>
              </a:rPr>
              <a:t>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Math1"/>
                <a:ea typeface="Math1"/>
              </a:rPr>
              <a:t>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Math1"/>
                <a:ea typeface="Math1"/>
              </a:rPr>
              <a:t>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Math1"/>
                <a:ea typeface="Math1"/>
              </a:rPr>
              <a:t>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Math1"/>
                <a:ea typeface="Math1"/>
              </a:rPr>
              <a:t>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Math1"/>
                <a:ea typeface="Math1"/>
              </a:rPr>
              <a:t>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Math1"/>
                <a:ea typeface="Math1"/>
              </a:rPr>
              <a:t>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Math1"/>
                <a:ea typeface="Math1"/>
              </a:rPr>
              <a:t>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Math1" charset="2"/>
              <a:buChar char="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Math1"/>
                <a:ea typeface="Math1"/>
              </a:rPr>
              <a:t>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Math1"/>
                <a:ea typeface="Math1"/>
              </a:rPr>
              <a:t>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Math1"/>
                <a:ea typeface="Math1"/>
              </a:rPr>
              <a:t>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Math1"/>
                <a:ea typeface="Math1"/>
              </a:rPr>
              <a:t>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Math1"/>
                <a:ea typeface="Math1"/>
              </a:rPr>
              <a:t>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Math1"/>
                <a:ea typeface="Math1"/>
              </a:rPr>
              <a:t>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ally, suppose upon substituting values from 3 plaintext/ciphertext pairs the left hand side of equation 1 has values 1,1,0, respective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are the odds that 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Math1"/>
                <a:ea typeface="Math1"/>
              </a:rPr>
              <a:t>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Math1"/>
                <a:ea typeface="Math1"/>
              </a:rPr>
              <a:t>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Math1"/>
                <a:ea typeface="Math1"/>
              </a:rPr>
              <a:t>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Math1"/>
                <a:ea typeface="Math1"/>
              </a:rPr>
              <a:t>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Math1"/>
                <a:ea typeface="Math1"/>
              </a:rPr>
              <a:t>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Math1"/>
                <a:ea typeface="Math1"/>
              </a:rPr>
              <a:t>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=1 rather than 0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B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se the same setup as in A but 3 out of 4 plaintext/ciphertext pairs “vote” that 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Math1"/>
                <a:ea typeface="Math1"/>
              </a:rPr>
              <a:t>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Math1"/>
                <a:ea typeface="Math1"/>
              </a:rPr>
              <a:t>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Math1"/>
                <a:ea typeface="Math1"/>
              </a:rPr>
              <a:t>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Math1"/>
                <a:ea typeface="Math1"/>
              </a:rPr>
              <a:t>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Math1"/>
                <a:ea typeface="Math1"/>
              </a:rPr>
              <a:t>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Math1"/>
                <a:ea typeface="Math1"/>
              </a:rPr>
              <a:t>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=1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are the odds that 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Math1"/>
                <a:ea typeface="Math1"/>
              </a:rPr>
              <a:t>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Math1"/>
                <a:ea typeface="Math1"/>
              </a:rPr>
              <a:t>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Math1"/>
                <a:ea typeface="Math1"/>
              </a:rPr>
              <a:t>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Math1"/>
                <a:ea typeface="Math1"/>
              </a:rPr>
              <a:t>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Math1"/>
                <a:ea typeface="Math1"/>
              </a:rPr>
              <a:t>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Math1"/>
                <a:ea typeface="Math1"/>
              </a:rPr>
              <a:t>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=1 rather than 0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BF9A0-299D-4070-8D5C-3918FF337B98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LM 20060209 12:16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mework 6, problem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8680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C) Constructing a multi-round constra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se </a:t>
            </a:r>
            <a:r>
              <a:rPr b="0" lang="en-US" sz="2000" spc="-1" strike="noStrike">
                <a:solidFill>
                  <a:srgbClr val="000000"/>
                </a:solidFill>
                <a:latin typeface="Math1"/>
                <a:ea typeface="Math1"/>
              </a:rPr>
              <a:t>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a four round iterative cipher with plaintext input, P and ciphertext output C where each round has 6 bit input I and 6 bit output O and per round keys K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K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(2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…K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(6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 Using Matsui’s notation suppose the contrai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[1,2] </a:t>
            </a:r>
            <a:r>
              <a:rPr b="0" lang="en-US" sz="1800" spc="-1" strike="noStrike">
                <a:solidFill>
                  <a:srgbClr val="000000"/>
                </a:solidFill>
                <a:latin typeface="Math1"/>
                <a:ea typeface="Math1"/>
              </a:rPr>
              <a:t>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[3,4]= K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1,3]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[3,4] </a:t>
            </a:r>
            <a:r>
              <a:rPr b="0" lang="en-US" sz="1800" spc="-1" strike="noStrike">
                <a:solidFill>
                  <a:srgbClr val="000000"/>
                </a:solidFill>
                <a:latin typeface="Math1"/>
                <a:ea typeface="Math1"/>
              </a:rPr>
              <a:t>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[1,5]= K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(2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4,6]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[1,5] </a:t>
            </a:r>
            <a:r>
              <a:rPr b="0" lang="en-US" sz="1800" spc="-1" strike="noStrike">
                <a:solidFill>
                  <a:srgbClr val="000000"/>
                </a:solidFill>
                <a:latin typeface="Math1"/>
                <a:ea typeface="Math1"/>
              </a:rPr>
              <a:t>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[1,6]= K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(3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1,5]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[1,6] </a:t>
            </a:r>
            <a:r>
              <a:rPr b="0" lang="en-US" sz="1800" spc="-1" strike="noStrike">
                <a:solidFill>
                  <a:srgbClr val="000000"/>
                </a:solidFill>
                <a:latin typeface="Math1"/>
                <a:ea typeface="Math1"/>
              </a:rPr>
              <a:t>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[2,5]= K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(4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2]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ld with probabilities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.8,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.9,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.8,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.9, respective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is the probability tha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[1,2] </a:t>
            </a:r>
            <a:r>
              <a:rPr b="0" lang="en-US" sz="1800" spc="-1" strike="noStrike">
                <a:solidFill>
                  <a:srgbClr val="000000"/>
                </a:solidFill>
                <a:latin typeface="Math1"/>
                <a:ea typeface="Math1"/>
              </a:rPr>
              <a:t>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[2,5]= K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1,3] </a:t>
            </a:r>
            <a:r>
              <a:rPr b="0" lang="en-US" sz="1800" spc="-1" strike="noStrike">
                <a:solidFill>
                  <a:srgbClr val="000000"/>
                </a:solidFill>
                <a:latin typeface="Math1"/>
                <a:ea typeface="Math1"/>
              </a:rPr>
              <a:t>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(2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4,6] </a:t>
            </a:r>
            <a:r>
              <a:rPr b="0" lang="en-US" sz="1800" spc="-1" strike="noStrike">
                <a:solidFill>
                  <a:srgbClr val="000000"/>
                </a:solidFill>
                <a:latin typeface="Math1"/>
                <a:ea typeface="Math1"/>
              </a:rPr>
              <a:t>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(3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1,5] </a:t>
            </a:r>
            <a:r>
              <a:rPr b="0" lang="en-US" sz="1800" spc="-1" strike="noStrike">
                <a:solidFill>
                  <a:srgbClr val="000000"/>
                </a:solidFill>
                <a:latin typeface="Math1"/>
                <a:ea typeface="Math1"/>
              </a:rPr>
              <a:t>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(4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2]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FA49A-E90C-451D-8778-0327E50953AD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LM 20060209 12:16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mework 6, problem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602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D) Suppose </a:t>
            </a:r>
            <a:r>
              <a:rPr b="0" lang="en-US" sz="1800" spc="-1" strike="noStrike">
                <a:solidFill>
                  <a:srgbClr val="000000"/>
                </a:solidFill>
                <a:latin typeface="Math1"/>
                <a:ea typeface="Math1"/>
              </a:rPr>
              <a:t>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a multi round iterative cipher with 40 bit plaintext input, P, and ciphertext output, C, and 40 bit key.  Suppose, using Matsui’s notation, that the following four linearly independent constrain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35000" indent="-5778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[a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a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…, a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4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] </a:t>
            </a:r>
            <a:r>
              <a:rPr b="0" lang="en-US" sz="1600" spc="-1" strike="noStrike">
                <a:solidFill>
                  <a:srgbClr val="000000"/>
                </a:solidFill>
                <a:latin typeface="Math1"/>
                <a:ea typeface="Math1"/>
              </a:rPr>
              <a:t>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[b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b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…, b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4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]= K[c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c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…, c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4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35000" indent="-5778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[a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(2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a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(2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…, a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4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(2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] </a:t>
            </a:r>
            <a:r>
              <a:rPr b="0" lang="en-US" sz="1600" spc="-1" strike="noStrike">
                <a:solidFill>
                  <a:srgbClr val="000000"/>
                </a:solidFill>
                <a:latin typeface="Math1"/>
                <a:ea typeface="Math1"/>
              </a:rPr>
              <a:t>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[b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(2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b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(2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…, b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4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(2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]= K[c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(2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c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(2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…, c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4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(2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35000" indent="-5778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[a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(3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a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(3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…, a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4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(3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] </a:t>
            </a:r>
            <a:r>
              <a:rPr b="0" lang="en-US" sz="1600" spc="-1" strike="noStrike">
                <a:solidFill>
                  <a:srgbClr val="000000"/>
                </a:solidFill>
                <a:latin typeface="Math1"/>
                <a:ea typeface="Math1"/>
              </a:rPr>
              <a:t>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[b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(3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b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(3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…, b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4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(3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]= K[c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(3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c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(3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…, c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4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(3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35000" indent="-5778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[a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(4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a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(4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…, a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4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(4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] </a:t>
            </a:r>
            <a:r>
              <a:rPr b="0" lang="en-US" sz="1600" spc="-1" strike="noStrike">
                <a:solidFill>
                  <a:srgbClr val="000000"/>
                </a:solidFill>
                <a:latin typeface="Math1"/>
                <a:ea typeface="Math1"/>
              </a:rPr>
              <a:t>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[b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(4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b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(4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…, b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4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(4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]= K[c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(4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c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(4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…, c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4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(4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60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ld with probabilities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.75,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.7,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.8,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.9, respective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60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ose that on 10 plaintext/ciphertext pairs the LHS of i, ii, iii and iv “vote” that the RHS of the equations are 0 with tallies (2,8,2,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60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is the probabilities that each of the most popular choices for the resulting constraints is correct?   What is the probability that all 4 are correct?  If all 4 are correct, and assuming </a:t>
            </a:r>
            <a:r>
              <a:rPr b="0" lang="en-US" sz="1800" spc="-1" strike="noStrike">
                <a:solidFill>
                  <a:srgbClr val="000000"/>
                </a:solidFill>
                <a:latin typeface="Math1"/>
                <a:ea typeface="Math1"/>
              </a:rPr>
              <a:t>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kes 1 microsecond/encrypt, what is the time to break </a:t>
            </a:r>
            <a:r>
              <a:rPr b="0" lang="en-US" sz="1800" spc="-1" strike="noStrike">
                <a:solidFill>
                  <a:srgbClr val="000000"/>
                </a:solidFill>
                <a:latin typeface="Math1"/>
                <a:ea typeface="Math1"/>
              </a:rPr>
              <a:t>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 exhaustive search (assuming a serial processor)?  How about by applying the 4 constraints and searching for the remaining key bits (assuming a serial processor)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60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60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S: Key search is a “trivially parallelizable” oper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5A051-FC54-4B7E-A54E-FBE54DEE412D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LM 20060209 12:16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mework 6, problem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10480" cy="381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60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E) In the lecture we noted that there was a linear attack that worked on 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60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und DES with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4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laintext/ciphertext pairs where the basic constra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60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ld with probability p= ½ + </a:t>
            </a:r>
            <a:r>
              <a:rPr b="0" lang="en-US" sz="2000" spc="-1" strike="noStrike">
                <a:solidFill>
                  <a:srgbClr val="000000"/>
                </a:solidFill>
                <a:latin typeface="Math1"/>
                <a:ea typeface="Math1"/>
              </a:rPr>
              <a:t>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lang="en-US" sz="2000" spc="-1" strike="noStrike">
                <a:solidFill>
                  <a:srgbClr val="000000"/>
                </a:solidFill>
                <a:latin typeface="Math1"/>
                <a:ea typeface="Math1"/>
              </a:rPr>
              <a:t>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1.19 x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-21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the “bias”. Using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60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ct, estimate for what p, there are not enough correspon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60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in/cipher texts to enable applying the Linear cryptanalysis to reduce t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60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arch keyspa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62836-C8CC-45F5-8408-B31D5D6F1602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LM 20060209 12:16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07T23:01:52Z</dcterms:created>
  <dc:creator>John Manferdelli</dc:creator>
  <dc:description/>
  <dc:language>en-US</dc:language>
  <cp:lastModifiedBy>Fred Videon</cp:lastModifiedBy>
  <dcterms:modified xsi:type="dcterms:W3CDTF">2006-02-09T18:19:47Z</dcterms:modified>
  <cp:revision>2743</cp:revision>
  <dc:subject/>
  <dc:title>An Introduction to Cryptography</dc:title>
</cp:coreProperties>
</file>