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04B-56E9-4997-A224-E356417C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54492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17E-22C7-4574-BFD1-9A7CAD6A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5449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2960" y="35449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F56-6E2C-423C-B69F-D87C3C53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596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596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FC8-588A-4EB6-ACBE-193A5DC3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58E8-0346-4D5F-B944-B5412DD7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41588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5B33-A272-47CD-97F7-1F05C023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D009-4ECF-4E83-A3B1-1C8DAEC9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FB79-E1F7-4A28-8FF0-922450D8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7E21-76C8-4605-9BCA-74F83F00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431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9BC1-62F7-49D3-AAF5-1E12CE20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5449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AEBF-78FD-4CE7-8E11-C626234A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1588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6E2-048C-4D2E-8A00-9E8FC4F5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2960" y="35449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6207-D28A-4A37-A8B7-A1B65CBC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54492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7679-5F9E-46F3-B0B7-740926ED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54492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828E-B9EE-41CA-B2F3-A280D326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5449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2960" y="35449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36BF-1E48-45A5-B4DC-16062429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596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596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F49F-1EE8-4003-AF09-0935C4AF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7200-411D-46EF-BCF3-DD0639A8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BA65-B8B2-4FA9-A8B2-CFDE61D3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9EF-9AAF-4F18-A8BD-73B2ABDE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431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AFB-CC45-43F9-B6C6-CEBC4B14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5449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0B7-BFB3-409A-8D1B-A06F11EC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2960" y="35449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2F7-DAE4-49C0-9FD8-6EF4938D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54492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796B-DEAF-4858-A36D-56D54AAF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Click to edit the title text format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588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3" marL="18385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4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5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6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Sego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ego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572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Segoe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ego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553080"/>
            <a:ext cx="2133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Sego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3CF4-30EC-4B75-A60A-E73E1A110891}" type="slidenum">
              <a:rPr b="0" lang="en-US" sz="1000" spc="-1" strike="noStrike">
                <a:solidFill>
                  <a:srgbClr val="ffffff"/>
                </a:solidFill>
                <a:latin typeface="Sego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064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Click to edit the title text format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63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286000" y="6552720"/>
            <a:ext cx="4572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4320" y="6553080"/>
            <a:ext cx="2133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74C1-E5C7-48B1-805C-2499972AAB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Segoe"/>
            </a:endParaRPr>
          </a:p>
          <a:p>
            <a:pPr lvl="1" marL="41148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822960" indent="105480" algn="ctr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234440" indent="437040" algn="ctr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774440" algn="ctr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177444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177444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1480" y="2185560"/>
            <a:ext cx="8381880" cy="1298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Segoe"/>
              </a:rPr>
              <a:t>Homework #4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Segoe"/>
              </a:rPr>
              <a:t>Solutions</a:t>
            </a:r>
            <a:endParaRPr b="1" lang="en-US" sz="44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572000"/>
            <a:ext cx="70452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goe"/>
              </a:rPr>
              <a:t>Brian A. LaMacchia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bal@cs.washington.e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bal@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019920"/>
            <a:ext cx="861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tions © 2002-2006, Brian A. LaMacchia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aterial is provided without warranty of any kind including, without limitation, warranty of non-infringement or suitability for any purpose.  This material is not guaranteed to be error free and is intended for instructional use on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2a - Solution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15360" cy="3671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For a 1K packet, we need one IKE + (1K/16) block encryptions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The IKE takes 25000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s 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The block encryptions take 64*.25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s = 16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s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The total time is 25016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s, and we’ve processed 1K bytes in that time, or about 40933 bytes/sec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6CCA-E013-487A-9EFC-B718B1058D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2a - Solution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422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But wait, what about the additional bytes ESP adds?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No effect on bandwidth limits from encryption, but ESP does add overhead, so it’s fair to look at that cost too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We don’t know the actual wire speed, but we know that ESP adds some bytes to each packet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Assume 56 bytes added to each packet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So we have to send 1024+56 = 1080 bytes to actually transmit 1024 data bytes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1080/1024 = 1024/X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X = 970.9 bytes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970.9 bytes in 25016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s = 38811 bytes/sec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2A3D-A80A-4C98-9411-3C0705E42E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2b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15360" cy="3314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Question 2(b): Now assume the average packet is 100KB; what’s the maximum achievable bandwidth?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What’s the maximum bandwidth in the limiting case (i.e. one persistent session with an infinite-length packet to be sent)?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1EB-5553-4708-9C39-6E1BE0EF09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2b - Solution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5718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For a 100K packet, we need one IKE + (1K/16) block encryptions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The IKE takes 25000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s, 100K = 102400 bytes 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(100K/16) block encryptions take (100K/16)*.25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s = 6400*.25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s = 1600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s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Total time: 26600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s, or about 3,849,624 bytes/sec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Adding in 56 header bytes, we have to send 102456 bytes instead of 102400 bytes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2" marL="1498680" indent="-46692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102456/102400 = 102400/X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 X = 102344 bytes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102344 bytes in 26600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s = 3,847,518 bytes/sec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In the limit, the limiting factor is that it takes .25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s to encrypt 16 bytes, so that's an upper limit of 64,000,000 bytes/sec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C7B1-9379-4F83-8A6E-95727E0C80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Segoe"/>
              </a:rPr>
              <a:t>Question 3 – KDC Eavesdropping</a:t>
            </a:r>
            <a:endParaRPr b="1" lang="en-US" sz="40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15360" cy="4622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KDC, S and C are members of the same Kerberos realm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When C obtains a ticket for S, KDC assigns ephemeral key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Segoe"/>
              </a:rPr>
              <a:t>C,S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KDC knows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Segoe"/>
              </a:rPr>
              <a:t>C,S 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and can eavesdrop on all traffic protected with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Segoe"/>
              </a:rPr>
              <a:t>C,S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Assume KDC is passive (i.e. KDC cannot modify messages it sees on the wire)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Question 3(a): Show how C and S can establish key K’ known only to them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8AC-8D98-4BCB-9476-F18485EF6D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3a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15360" cy="1846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Key establishment is easy, right? All we have to do is have C and S perform a Diffie-Hellman key exchange.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D36-CD11-4A87-B0A6-A3F5F34591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3a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15360" cy="3314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Key establishment is easy, right? All we have to do is have C and S perform a Diffie-Hellman key exchange.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But how do C and S know they’re talking to each other while doing so?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6A6-5C15-4653-9FE4-548552650F2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3a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15360" cy="6066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Key establishment is easy, right? All we have to do is have C and S perform a Diffie-Hellman key exchange.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But how do C and S know they’re talking to each other while doing so?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One of the benefits of Kerberos is that it give you mutual authentication “for free”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C and S authenticate each other as a side-effect of running the Kerberos protocol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0E0-504F-4119-AB1F-EA83867D7C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3a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415360" cy="6066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Key establishment is easy, right? All we have to do is have C and S perform a Diffie-Hellman key exchange.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But how do C and S know they’re talking to each other while doing so?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One of the benefits of Kerberos is that it give you mutual authentication “for free”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C and S authenticate each other as a side-effect of running the Kerberos protocol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6D2-3D69-4F00-8985-2AC533FBBA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3a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15360" cy="5640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So one way to solve the problem is to add mutual authentication to Diffie-Hellman.  Here’s how: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First, have C and S run the Kerberos protocol to obtain shared secret K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egoe"/>
              </a:rPr>
              <a:t>C,S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 (known to C, S and the KDC).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Now have C and S run ephemeral Diffie-Hellman (using some common set of parameters).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Initialization: each party (C and S) chooses a secret exponent (a and b respectively)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70000"/>
              </a:lnSpc>
              <a:spcBef>
                <a:spcPts val="675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egoe"/>
              </a:rPr>
              <a:t>C computes A = g</a:t>
            </a:r>
            <a:r>
              <a:rPr b="1" lang="en-US" sz="1800" spc="-1" strike="noStrike" baseline="30000">
                <a:solidFill>
                  <a:srgbClr val="ffffff"/>
                </a:solidFill>
                <a:latin typeface="Segoe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Segoe"/>
              </a:rPr>
              <a:t> mod p, S computes B = g</a:t>
            </a:r>
            <a:r>
              <a:rPr b="1" lang="en-US" sz="1800" spc="-1" strike="noStrike" baseline="30000">
                <a:solidFill>
                  <a:srgbClr val="ffffff"/>
                </a:solidFill>
                <a:latin typeface="Segoe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Segoe"/>
              </a:rPr>
              <a:t> mod p</a:t>
            </a:r>
            <a:endParaRPr b="1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C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 S:  A, HMAC-SHA1(A, K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egoe"/>
              </a:rPr>
              <a:t>C,S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).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70000"/>
              </a:lnSpc>
              <a:spcBef>
                <a:spcPts val="675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egoe"/>
              </a:rPr>
              <a:t>S verifies the keyed MAC and knows that A really came from C.</a:t>
            </a:r>
            <a:endParaRPr b="1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S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 C:  B, HMAC-SHA1(B, K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egoe"/>
              </a:rPr>
              <a:t>C,S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).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70000"/>
              </a:lnSpc>
              <a:spcBef>
                <a:spcPts val="675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egoe"/>
              </a:rPr>
              <a:t>C verifies the keyed MAC and knows that B really came from S.</a:t>
            </a:r>
            <a:endParaRPr b="1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C computes B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egoe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 mod p to get K’ = g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egoe"/>
              </a:rPr>
              <a:t>ab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 mod p.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S computes A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egoe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 mod p to get K’ = g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egoe"/>
              </a:rPr>
              <a:t>ab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 mod p.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Now C and S hold a new shared secret, K’, which is unknown to the KDC.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70000"/>
              </a:lnSpc>
              <a:spcBef>
                <a:spcPts val="675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egoe"/>
              </a:rPr>
              <a:t>C and S used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Segoe"/>
              </a:rPr>
              <a:t>C,S </a:t>
            </a:r>
            <a:r>
              <a:rPr b="1" lang="en-US" sz="1800" spc="-1" strike="noStrike">
                <a:solidFill>
                  <a:srgbClr val="ffffff"/>
                </a:solidFill>
                <a:latin typeface="Segoe"/>
              </a:rPr>
              <a:t>to authenticate a later, public key-based exchange.</a:t>
            </a:r>
            <a:endParaRPr b="1" lang="en-US" sz="1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9ED-DE47-4BA2-B976-C860FDEE2B6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Segoe"/>
              </a:rPr>
              <a:t>Question 1a</a:t>
            </a:r>
            <a:endParaRPr b="1" lang="en-US" sz="44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15360" cy="4159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Question 1(a): Compute the relative cost of RSA encryption to RSA decryption in SSL in terms of modular multiplications mod n.  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The server’s public key is (n, e), where n is a 1024-bit composite, n = p*q (p, q 512-bit primes), and e =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egoe"/>
              </a:rPr>
              <a:t>16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+1.  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The server’s private decryption exponent is d where ed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1 mod (p-1)(q-1).  Assume for this problem that half the bits in d are 1’s and |d| = 1024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4E9-E6EF-42F9-A405-60216F539A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3b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415360" cy="53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What happens if the KDC is active?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0DEE-B447-47BD-88BB-972F08B1221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3b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302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What happens if the KDC is active?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If the KDC is active then it can intercept messages, rewrite A &amp; B to A' and B' and conduct a man-in-the-middle attack.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6DB-B665-49B9-BCD2-86088D6B535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Segoe"/>
              </a:rPr>
              <a:t>Man-in-the-Middle</a:t>
            </a:r>
            <a:endParaRPr b="1" lang="en-US" sz="44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1923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An active KDC can play a man-in-the-middle attack.  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KDC can also defeat the modified D-H in 3(a) because it knows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Segoe"/>
              </a:rPr>
              <a:t>C,S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4952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er 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1960" y="50068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ent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4343400"/>
            <a:ext cx="2057400" cy="0"/>
          </a:xfrm>
          <a:prstGeom prst="line">
            <a:avLst/>
          </a:prstGeom>
          <a:ln w="28440">
            <a:solidFill>
              <a:srgbClr val="fdee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4343400"/>
            <a:ext cx="2133360" cy="0"/>
          </a:xfrm>
          <a:prstGeom prst="line">
            <a:avLst/>
          </a:prstGeom>
          <a:ln w="28440">
            <a:solidFill>
              <a:srgbClr val="00c7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4876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886200" y="3809880"/>
            <a:ext cx="1054080" cy="1011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80880" y="3733920"/>
            <a:ext cx="1295640" cy="1285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7543800" y="3809880"/>
            <a:ext cx="725400" cy="1067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52480" y="4495680"/>
            <a:ext cx="2057400" cy="0"/>
          </a:xfrm>
          <a:prstGeom prst="line">
            <a:avLst/>
          </a:prstGeom>
          <a:ln w="28440">
            <a:solidFill>
              <a:srgbClr val="fdee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4495680"/>
            <a:ext cx="2133360" cy="0"/>
          </a:xfrm>
          <a:prstGeom prst="line">
            <a:avLst/>
          </a:prstGeom>
          <a:ln w="28440">
            <a:solidFill>
              <a:srgbClr val="00c7c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45280" y="380988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a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d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40920" y="3809880"/>
            <a:ext cx="14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d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42040" y="449568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d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45960" y="4495680"/>
            <a:ext cx="15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b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d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47880" y="5257800"/>
            <a:ext cx="231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goti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: 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ab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d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24600" y="5257800"/>
            <a:ext cx="231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goti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: 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a’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d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F2E-6ADC-4976-B50F-52959E5B8BC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3c (Extra Credit)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508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Assume C and S are jointly members of two independent Kerberos realms: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Realm 1: KDC1, yielding key K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C,S,1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Realm 2: KDC2, yielding key K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C,S,2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Assuming that KDC1 and KDC2 do not collude with each other, devise a protocol between C and S to create an encrypted channel that is secure against active eavesdropping from both KDC1 and KDC2. 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&gt; 3c) With two independent keys, so long as the KDCs don't collude they can't play man-in-the-middle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6F70-C9A6-4CB0-80A5-56BD043A4CC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3c (Extra Credit)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415360" cy="5499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With two independent keys shared between C and S, so long as the KDCs don't collude neither can perform a man-in-the-middle attack.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Independent” here means “Neither key is known to both KDC1 and KDC2”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Solution: as in 3(a) above, but use both keys in the HMAC authenticators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Neither KDC1 or KDC2 knows both, so even if they’re active they can’t switch messages on C or S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147-C4B2-4BFC-B769-4FCB9059BB9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3c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15360" cy="511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7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C and S run Kerberos in both realms, obtaining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Segoe"/>
              </a:rPr>
              <a:t>C,S,1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and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Segoe"/>
              </a:rPr>
              <a:t>C,S,2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Now have C and S run ephemeral Diffie-Hellman (using some common set of parameters)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Initialization: C computes A = 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egoe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mod p, S computes B = 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egoe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mod p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C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S:  A, HMAC-SHA1(A,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Segoe"/>
              </a:rPr>
              <a:t>C,S,1,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Segoe"/>
              </a:rPr>
              <a:t>C,S,2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)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S verifies the keyed MAC and knows that A really came from C.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S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C:  B, HMAC-SHA1(B,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Segoe"/>
              </a:rPr>
              <a:t>C,S,1,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Segoe"/>
              </a:rPr>
              <a:t>C,S,2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)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C verifies the keyed MAC and knows that B really came from S.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C computes B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egoe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mod p to get K’ = 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egoe"/>
              </a:rPr>
              <a:t>ab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mod p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S computes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egoe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mod p to get K’ = 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egoe"/>
              </a:rPr>
              <a:t>ab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mod p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Now C and S hold a new shared secret, K’, which is unknown to the KDC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9C1-E22C-464F-B02A-530CEF48DB9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1a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15360" cy="4845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Recall Josh's description of how to multiply fast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Follow the bits in the exponent (high to low, ignoring the high bit since it's always 1), a 0 is a square and a 1 is a square followed by a side multiply.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So the cost of exponentiating is determined by the size of the exponent and the number of 1 bits it has.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The cost of encrypting (exponentiating to e) is thus going to involve 16 squares and 1 side multiply, since |e| = 17 and has only the high &amp; low bit set. 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The cost of decrypting (exponentiating to d) is going to involve 1023 squares and 511 side multiplies (because |d| = 1024 and half the bits in d are 1s)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272-E745-42D0-859B-8D25257E6D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31200" cy="1298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Segoe"/>
              </a:rPr>
              <a:t>Question 1b - Rebalanced RSA</a:t>
            </a:r>
            <a:endParaRPr b="1" lang="en-US" sz="44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15360" cy="5738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n = pq, |p| = |q| = 512, p, q prime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Server chooses the decryption exponent d first such that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d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r1 mod p-1, d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r2 mod q-1,  |r1| = |r2| = 160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Assume half the bits in r1 &amp; r2 are 1s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The server then computes e such that ed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 1 mod (p-1)(q-1)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|e| = 1024, assume half the bits in e are 1s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Encryption E(X) = 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Segoe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 mod n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Decryption D(X) is now done by computing 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Segoe"/>
              </a:rPr>
              <a:t>r1 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mod p, 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Segoe"/>
              </a:rPr>
              <a:t>r2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 mod q, and using CRT to construct 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Segoe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 mod n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7C88-FE75-43CF-B9D9-DD3EE9DC99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Segoe"/>
              </a:rPr>
              <a:t>Question 1b</a:t>
            </a:r>
            <a:endParaRPr b="1" lang="en-US" sz="44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15360" cy="462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Question 1(b): Compute the relative cost of RSA encryption to RSA decryption in the Rebalanced RSA case for |n| = 1024, |r1| = |r2| = 160, again in terms of modular multiplications in the exponentiations.  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What’s the speedup for a server compared to the “regular” RSA in Question 1(a)? 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05D-5412-4E54-BDD4-E0BE19D70A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1b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15360" cy="58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We proceed as in 1(a), looking at the sizes and number of 1 bits in the various exponents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Encrypting: e is now "full size“, so |e| = 1024 and half the bits in e are 1s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Computing 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egoe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mod n will involve 1023 squares and 511 side multiplies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Decrypting: we need to compute 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Segoe"/>
              </a:rPr>
              <a:t>r1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 mod p and 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Segoe"/>
              </a:rPr>
              <a:t>r2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 mod q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|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Segoe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| = |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Segoe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| = 160 (by definition), and each has 80 1 bits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Each exponentiation will involve 159 squares and 79 side multiplies.  So together, the server has to perform 318 squares and 158 side multiplies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0C17-316D-46A5-9FE4-10798C7183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1b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47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Just comparing the number of exponentiations, we've reduced the server's workload from 1023 squares &amp; 511 side multiplies to 318 squares and 158 side multiplies, which is about a 3.2X speedup for the server. 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Segoe"/>
              </a:rPr>
              <a:t>Plus,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the server gets to do these calculations mod p and mod q, which means it's dealing with smaller numbers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The client is a lot slower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1023 squares and 511 side multiplies vs. 16 squares and 1 side multiply in 1(a)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C8D-EE23-4AA2-8172-047EC93DE0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2 – IPSEC cost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15360" cy="532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C sends data to S in packets of varying length; for each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Segoe"/>
              </a:rPr>
              <a:t>packet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 S and C have to perform an IKE key establishment once to agree on a symmetric encryption key, and then perform repeated symmetric encryptions until the entire packet is encrypted.  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Assume the following performance characteristics for C’s encryption capabilities: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112760" indent="-53316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C can perform IKE key establishment with S in 25,000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s to derive a symmetric encryption key for the session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112760" indent="-53316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C can perform a single symmetric encryption operation on a 16-byte plaintext in 0.25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s. 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A09D-098C-4D44-9245-56C739B86D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2a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15360" cy="4708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Question 2(a): If the average packet of data sent from C to S is 1KB (1024 bytes) in length, what’s the maximum bandwidth that can be achieved between C and S? 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Encrypting each packet requires one IKE key establishment and some number of symmetric encryption operations.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Bandwidth = bits/second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C2A-242D-460D-BF96-5895BD6B5A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2:39:26Z</dcterms:created>
  <dc:creator>Brian A. LaMacchia</dc:creator>
  <dc:description/>
  <dc:language>en-US</dc:language>
  <cp:lastModifiedBy>Brian LaMacchia</cp:lastModifiedBy>
  <dcterms:modified xsi:type="dcterms:W3CDTF">2006-01-31T17:06:16Z</dcterms:modified>
  <cp:revision>64</cp:revision>
  <dc:subject/>
  <dc:title>Slide 1</dc:title>
</cp:coreProperties>
</file>