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6DC-F51E-498D-9030-4302522E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784-BA06-49B2-BE52-EC5F4B3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38B-012A-4031-8E21-1FE08A89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9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9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8B1-31F0-4EC4-A4BA-DF7B6E4E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A4E7-05C8-4E25-81B6-3AF177E2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2DC9-4634-4D96-9B17-C680BB00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D0EC-A43B-49F4-B616-0E55A2B6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A837-763A-477E-AE89-0800310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872B-C2EF-45A8-BE15-C8A8FAFC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2483-66E8-4E32-B137-3D9C77AB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AF36-40A8-44FE-A3CB-B624B68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BA6-0930-4E0E-B8E2-C4EAB810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8CD-5CD2-4825-B9B2-3E3BAE3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DB42-2296-4C0E-92B1-C3AB2745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172-FF7E-4A68-B195-77BC739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097-51F1-4088-B4B0-0F048B35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59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59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77B3-6D5F-474A-A0DE-554EAC8C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C8F-D2CF-4890-AD96-A4693479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4C4-6C92-4822-9BEA-0E575C8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502-D336-4373-B6AA-3106F23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C85-A984-4DCB-BEED-41A9207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B10-26F0-4B93-83D0-A281C45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843-2664-4659-BD87-3485C46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F05-6947-4EC1-B59D-52830D12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Sego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848-4BFA-4330-81EC-2E3F3840B032}" type="slidenum">
              <a:rPr b="0" lang="en-US" sz="1000" spc="-1" strike="noStrike">
                <a:solidFill>
                  <a:srgbClr val="ffffff"/>
                </a:solidFill>
                <a:latin typeface="Sego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064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3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4320" y="6553080"/>
            <a:ext cx="2133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183-78DF-4A43-8F86-FDBC05FC27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Segoe"/>
            </a:endParaRPr>
          </a:p>
          <a:p>
            <a:pPr lvl="1" marL="4114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822960" indent="105480" algn="ctr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234440" indent="437040" algn="ctr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4440" algn="ctr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444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444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1480" y="2185560"/>
            <a:ext cx="838188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Homework #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Solutions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0"/>
            <a:ext cx="70452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"/>
              </a:rPr>
              <a:t>Brian A. LaMacchia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al@cs.washington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al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01992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s © 2002-2006, Brian A. LaMacchia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terial is provided without warranty of any kind including, without limitation, warranty of non-infringement or suitability for any purpose.  This material is not guaranteed to be error free and is intended for instructional use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367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For a 1K packet, we need one IKE + (1K/16) block encryptions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IKE takes 2500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block encryptions take 64*.25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= 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total time is 250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, and we’ve processed 1K bytes in that time, or about 40933 bytes/sec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11F-EA86-4517-A9EF-039251DE06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2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But wait, what about the additional bytes ESP adds?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 effect on bandwidth limits from encryption, but ESP does add overhead, so it’s fair to look at that cost too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e don’t know the actual wire speed, but we know that ESP adds some bytes to each packet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ssume 56 bytes added to each packet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o we have to send 1024+56 = 1080 bytes to actually transmit 1024 data byt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1080/1024 = 1024/X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X = 970.9 byte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970.9 bytes in 25016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= 38811 bytes/sec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797-B31C-4724-A845-773275F61A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331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2(b): Now assume the average packet is 100KB; what’s the maximum achievable bandwidth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’s the maximum bandwidth in the limiting case (i.e. one persistent session with an infinite-length packet to be sent)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0C7-1533-4AB3-BB8C-63361C0837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b - Solution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718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For a 100K packet, we need one IKE + (1K/16) block encryption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IKE takes 250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, 100K = 102400 bytes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(100K/16) block encryptions take (100K/16)*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6400*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1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otal time: 26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, or about 3,849,624 bytes/sec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dding in 56 header bytes, we have to send 102456 bytes instead of 102400 byt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102456/102400 = 102400/X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X = 102344 bytes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102344 bytes in 266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= 3,847,518 bytes/sec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In the limit, the limiting factor is that it takes .25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 to encrypt 16 bytes, so that's an upper limit of 64,000,000 bytes/sec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30D-F4CD-4955-9BD8-9ADF038AF9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Segoe"/>
              </a:rPr>
              <a:t>Question 3 – KDC Eavesdropping</a:t>
            </a:r>
            <a:endParaRPr b="1" lang="en-US" sz="40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62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, S and C are members of the same Kerberos realm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hen C obtains a ticket for S, KDC assigns ephemeral key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 knows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 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nd can eavesdrop on all traffic protected wit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KDC is passive (i.e. KDC cannot modify messages it sees on the wire)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Question 3(a): Show how C and S can establish key K’ known only to them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5AC-4901-41BC-B175-3EC07C0B84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184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C9A-1458-41A4-A428-4B9315EEC7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331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D77-E07E-43EA-B26A-A13DDC06B0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60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One of the benefits of Kerberos is that it give you mutual authentication “for free”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and S authenticate each other as a side-effect of running the Kerberos protocol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0C9-4D22-405B-ACEA-7835C2528B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15360" cy="60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Key establishment is easy, right? All we have to do is have C and S perform a Diffie-Hellman key exchange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But how do C and S know they’re talking to each other while doing so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One of the benefits of Kerberos is that it give you mutual authentication “for free”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and S authenticate each other as a side-effect of running the Kerberos protocol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D00-470F-44C2-AF89-4D904ECF91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564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o one way to solve the problem is to add mutual authentication to Diffie-Hellman.  Here’s how: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First, have C and S run the Kerberos protocol to obtain shared secret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(known to C, S and the KDC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Now have C and S run ephemeral Diffie-Hellman (using some common set of parameters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Initialization: each party (C and S) chooses a secret exponent (a and b respectively)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computes A = g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 mod p, S computes B = g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 mod p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S:  A, HMAC-SHA1(A,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S verifies the keyed MAC and knows that A really came from C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C:  B, HMAC-SHA1(B, 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verifies the keyed MAC and knows that B really came from S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computes B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computes A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Now C and S hold a new shared secret, K’, which is unknown to the KDC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675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C and S used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Segoe"/>
              </a:rPr>
              <a:t>C,S </a:t>
            </a:r>
            <a:r>
              <a:rPr b="1" lang="en-US" sz="1800" spc="-1" strike="noStrike">
                <a:solidFill>
                  <a:srgbClr val="ffffff"/>
                </a:solidFill>
                <a:latin typeface="Segoe"/>
              </a:rPr>
              <a:t>to authenticate a later, public key-based exchange.</a:t>
            </a:r>
            <a:endParaRPr b="1" lang="en-US" sz="1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27F-B8DC-490B-B8AD-E47A03AB8D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a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159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Question 1(a): Compute the relative cost of RSA encryption to RSA decryption in SSL in terms of modular multiplications mod n.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server’s public key is (n, e), where n is a 1024-bit composite, n = p*q (p, q 512-bit primes), and e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+1. 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server’s private decryption exponent is d where e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1 mod (p-1)(q-1).  Assume for this problem that half the bits in d are 1’s and |d| = 1024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D88-FAD2-4300-BEA1-771D04DC5F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 happens if the KDC is active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0A-9AC9-4354-B30E-CE808E4AE9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 happens if the KDC is active?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If the KDC is active then it can intercept messages, rewrite A &amp; B to A' and B' and conduct a man-in-the-middle attack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36A-E251-4181-808D-AF78FAD0DE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Man-in-the-Middle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23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An active KDC can play a man-in-the-middle attack. 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KDC can also defeat the modified D-H in 3(a) because it knows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Segoe"/>
              </a:rPr>
              <a:t>C,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" y="5006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fdee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4343400"/>
            <a:ext cx="2133360" cy="0"/>
          </a:xfrm>
          <a:prstGeom prst="line">
            <a:avLst/>
          </a:prstGeom>
          <a:ln w="28440">
            <a:solidFill>
              <a:srgbClr val="00c7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86200" y="3809880"/>
            <a:ext cx="1054080" cy="1011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129564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543800" y="3809880"/>
            <a:ext cx="725400" cy="10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4495680"/>
            <a:ext cx="2057400" cy="0"/>
          </a:xfrm>
          <a:prstGeom prst="line">
            <a:avLst/>
          </a:prstGeom>
          <a:ln w="28440">
            <a:solidFill>
              <a:srgbClr val="fdee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495680"/>
            <a:ext cx="2133360" cy="0"/>
          </a:xfrm>
          <a:prstGeom prst="line">
            <a:avLst/>
          </a:prstGeom>
          <a:ln w="28440">
            <a:solidFill>
              <a:srgbClr val="00c7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5280" y="38098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40920" y="3809880"/>
            <a:ext cx="14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2040" y="44956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5960" y="4495680"/>
            <a:ext cx="15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b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47880" y="525780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o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: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b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525780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go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: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a’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AB0-98CC-4CFB-B1EF-2C00E4F5E7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 (Extra Credit)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508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C and S are jointly members of two independent Kerberos realms: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alm 1: KDC1, yielding key K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,S,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alm 2: KDC2, yielding key K</a:t>
            </a: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ing that KDC1 and KDC2 do not collude with each other, devise a protocol between C and S to create an encrypted channel that is secure against active eavesdropping from both KDC1 and KDC2.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&gt; 3c) With two independent keys, so long as the KDCs don't collude they can't play man-in-the-middle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A3D-394A-455D-A611-25168F838F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 (Extra Credit)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549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ith two independent keys shared between C and S, so long as the KDCs don't collude neither can perform a man-in-the-middle attack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Independent” here means “Neither key is known to both KDC1 and KDC2”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Solution: as in 3(a) above, but use both keys in the HMAC authenticators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Neither KDC1 or KDC2 knows both, so even if they’re active they can’t switch messages on C or 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E2D-F64D-45CC-A12B-CF6E55A128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3c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11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and S run Kerberos in both realms, obtain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w have C and S run ephemeral Diffie-Hellman (using some common set of parameters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Initialization: C computes A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, S computes B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S:  A, HMAC-SHA1(A,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 verifies the keyed MAC and knows that A really came from C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C:  B, HMAC-SHA1(B,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1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C,S,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C verifies the keyed MAC and knows that B really came from S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omputes 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computes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 to get K’ = 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p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7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Now C and S hold a new shared secret, K’, which is unknown to the KDC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FF4-2588-4DF9-9BEE-ABFA253BC9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84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Recall Josh's description of how to multiply fast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Follow the bits in the exponent (high to low, ignoring the high bit since it's always 1), a 0 is a square and a 1 is a square followed by a side multiply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"/>
              </a:rPr>
              <a:t>So the cost of exponentiating is determined by the size of the exponent and the number of 1 bits it has.</a:t>
            </a:r>
            <a:endParaRPr b="1" lang="en-US" sz="20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cost of encrypting (exponentiating to e) is thus going to involve 16 squares and 1 side multiply, since |e| = 17 and has only the high &amp; low bit set.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The cost of decrypting (exponentiating to d) is going to involve 1023 squares and 511 side multiplies (because |d| = 1024 and half the bits in d are 1s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1AC-C3E7-4F41-A968-AF77D6A6E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b - Rebalanced RSA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738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n = pq, |p| = |q| = 512, p, q prime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Server chooses the decryption exponent d first such that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r1 mod p-1, 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r2 mod q-1,  |r1| = |r2| = 160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Assume half the bits in r1 &amp; r2 are 1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server then computes e such that ed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1 mod (p-1)(q-1)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e| = 1024, assume half the bits in e are 1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Encryption E(X) =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n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Decryption D(X) is now done by computing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1 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mod p,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2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q, and using CRT to construct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n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C09-FF74-44D8-9B34-B85DD047D1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4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62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1(b): Compute the relative cost of RSA encryption to RSA decryption in the Rebalanced RSA case for |n| = 1024, |r1| = |r2| = 160, again in terms of modular multiplications in the exponentiations. 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What’s the speedup for a server compared to the “regular” RSA in Question 1(a)?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AC8-367F-41ED-AC4D-62D2177B9B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8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We proceed as in 1(a), looking at the sizes and number of 1 bits in the various exponents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Encrypting: e is now "full size“, so |e| = 1024 and half the bits in e are 1s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omputing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Segoe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mod n will involve 1023 squares and 511 side multiplies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Decrypting: we need to compute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1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p and 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Segoe"/>
              </a:rPr>
              <a:t>r2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mod q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 = |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egoe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| = 160 (by definition), and each has 80 1 bit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Each exponentiation will involve 159 squares and 79 side multiplies.  So together, the server has to perform 318 squares and 158 side multiplie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E9B-5346-4683-B361-4B67F7F34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1b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7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Just comparing the number of exponentiations, we've reduced the server's workload from 1023 squares &amp; 511 side multiplies to 318 squares and 158 side multiplies, which is about a 3.2X speedup for the server.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Segoe"/>
              </a:rPr>
              <a:t>Plus,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 the server gets to do these calculations mod p and mod q, which means it's dealing with smaller numbers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The client is a lot slower.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1023 squares and 511 side multiplies vs. 16 squares and 1 side multiply in 1(a)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888-D3FD-4F82-89B9-DF6FF067E3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 – IPSEC cost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532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C sends data to S in packets of varying length; for eac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egoe"/>
              </a:rPr>
              <a:t>packet</a:t>
            </a: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 S and C have to perform an IKE key establishment once to agree on a symmetric encryption key, and then perform repeated symmetric encryptions until the entire packet is encrypted.  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Assume the following performance characteristics for C’s encryption capabilities: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1112760" indent="-53316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an perform IKE key establishment with S in 25,000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 to derive a symmetric encryption key for the session.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  <a:p>
            <a:pPr lvl="1" marL="1112760" indent="-53316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C can perform a single symmetric encryption operation on a 16-byte plaintext in 0.25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Segoe"/>
              </a:rPr>
              <a:t>s. </a:t>
            </a:r>
            <a:endParaRPr b="1" lang="en-US" sz="24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14C-8BFB-46C9-8A3E-7972FDAA12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Segoe"/>
              </a:rPr>
              <a:t>Question 2a</a:t>
            </a:r>
            <a:endParaRPr b="1" lang="en-US" sz="4800" spc="-1" strike="noStrike">
              <a:solidFill>
                <a:srgbClr val="ffcc66"/>
              </a:solidFill>
              <a:latin typeface="Sego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15360" cy="470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Question 2(a): If the average packet of data sent from C to S is 1KB (1024 bytes) in length, what’s the maximum bandwidth that can be achieved between C and S? 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egoe"/>
              </a:rPr>
              <a:t>Encrypting each packet requires one IKE key establishment and some number of symmetric encryption operations.</a:t>
            </a:r>
            <a:endParaRPr b="1" lang="en-US" sz="3200" spc="-1" strike="noStrike">
              <a:solidFill>
                <a:srgbClr val="ffffff"/>
              </a:solidFill>
              <a:latin typeface="Segoe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"/>
              </a:rPr>
              <a:t>Bandwidth = bits/second</a:t>
            </a:r>
            <a:endParaRPr b="1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ctical Aspects of Modern Cryptograph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70B-9B7B-42FA-808F-69FC99C6CA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31,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2:39:26Z</dcterms:created>
  <dc:creator>Brian A. LaMacchia</dc:creator>
  <dc:description/>
  <dc:language>en-US</dc:language>
  <cp:lastModifiedBy>Brian LaMacchia</cp:lastModifiedBy>
  <dcterms:modified xsi:type="dcterms:W3CDTF">2006-01-31T17:06:16Z</dcterms:modified>
  <cp:revision>64</cp:revision>
  <dc:subject/>
  <dc:title>Slide 1</dc:title>
</cp:coreProperties>
</file>