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C2F99-F366-4A35-B930-13E71FA65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0EFB6-8022-4690-A136-293DEA0C4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C73D8-88BF-433D-8F5C-45AB3C5D7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E3382-F590-41BA-831D-42F80BD91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11D0B-87DF-4E7F-9814-426937909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83707-BAF0-45BD-B21C-7917444FB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4DDAC-EA2A-446A-BCB1-0B2EF75A9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61F9B-9E70-4677-BF7B-9B8C4EDE2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7F928-3C71-49CF-8D94-581BA3169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2574B-EE22-4F47-97BB-917248425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9BA2D-FBEC-4CDF-9920-F8E856845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F46DD-B625-40D1-BC86-5085CE947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08865-4695-4790-AB26-95A1062E2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CAF05-08AA-450F-AF81-9176768EE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D6CAE-2427-4CA1-847C-BF82EBEB6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BB5AA-FDFD-4FAC-A48A-2664E1286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8F79E-2E06-45BF-BCEA-8608B0135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E5F51-913B-4C76-B55D-1DF3DF834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A780E-4DB9-43DD-8882-D908E2DD7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EFF27-42E2-4826-9969-B33A1EC52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54B18-3014-4AA8-BFFF-9010AA720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4448D-E333-4BF6-B196-1607FC38F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8FCCE-D48F-41A6-B62E-BFD7767A5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8923E-A008-4BA9-BB3C-D9E7CD9A9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3D04F-9D5A-4D71-B11D-EE9782C4A0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1295280"/>
            <a:ext cx="9142560" cy="762120"/>
          </a:xfrm>
          <a:prstGeom prst="rect">
            <a:avLst/>
          </a:prstGeom>
          <a:solidFill>
            <a:srgbClr val="33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0" y="2514240"/>
            <a:ext cx="1909800" cy="1909800"/>
            <a:chOff x="0" y="2514240"/>
            <a:chExt cx="1909800" cy="1909800"/>
          </a:xfrm>
        </p:grpSpPr>
        <p:sp>
          <p:nvSpPr>
            <p:cNvPr id="43" name=""/>
            <p:cNvSpPr/>
            <p:nvPr/>
          </p:nvSpPr>
          <p:spPr>
            <a:xfrm rot="16200000">
              <a:off x="544320" y="3252240"/>
              <a:ext cx="703440" cy="1639800"/>
            </a:xfrm>
            <a:custGeom>
              <a:avLst/>
              <a:gdLst/>
              <a:ahLst/>
              <a:rect l="l" t="t" r="r" b="b"/>
              <a:pathLst>
                <a:path w="443" h="1033">
                  <a:moveTo>
                    <a:pt x="272" y="1032"/>
                  </a:moveTo>
                  <a:lnTo>
                    <a:pt x="290" y="1016"/>
                  </a:lnTo>
                  <a:lnTo>
                    <a:pt x="301" y="992"/>
                  </a:lnTo>
                  <a:lnTo>
                    <a:pt x="316" y="974"/>
                  </a:lnTo>
                  <a:lnTo>
                    <a:pt x="328" y="955"/>
                  </a:lnTo>
                  <a:lnTo>
                    <a:pt x="354" y="920"/>
                  </a:lnTo>
                  <a:lnTo>
                    <a:pt x="373" y="904"/>
                  </a:lnTo>
                  <a:lnTo>
                    <a:pt x="384" y="884"/>
                  </a:lnTo>
                  <a:lnTo>
                    <a:pt x="390" y="848"/>
                  </a:lnTo>
                  <a:lnTo>
                    <a:pt x="381" y="832"/>
                  </a:lnTo>
                  <a:lnTo>
                    <a:pt x="375" y="812"/>
                  </a:lnTo>
                  <a:lnTo>
                    <a:pt x="370" y="794"/>
                  </a:lnTo>
                  <a:lnTo>
                    <a:pt x="361" y="774"/>
                  </a:lnTo>
                  <a:lnTo>
                    <a:pt x="361" y="760"/>
                  </a:lnTo>
                  <a:lnTo>
                    <a:pt x="361" y="747"/>
                  </a:lnTo>
                  <a:lnTo>
                    <a:pt x="361" y="734"/>
                  </a:lnTo>
                  <a:lnTo>
                    <a:pt x="359" y="722"/>
                  </a:lnTo>
                  <a:lnTo>
                    <a:pt x="359" y="707"/>
                  </a:lnTo>
                  <a:lnTo>
                    <a:pt x="364" y="698"/>
                  </a:lnTo>
                  <a:lnTo>
                    <a:pt x="373" y="691"/>
                  </a:lnTo>
                  <a:lnTo>
                    <a:pt x="390" y="686"/>
                  </a:lnTo>
                  <a:lnTo>
                    <a:pt x="391" y="686"/>
                  </a:lnTo>
                  <a:lnTo>
                    <a:pt x="395" y="682"/>
                  </a:lnTo>
                  <a:lnTo>
                    <a:pt x="395" y="680"/>
                  </a:lnTo>
                  <a:lnTo>
                    <a:pt x="395" y="677"/>
                  </a:lnTo>
                  <a:lnTo>
                    <a:pt x="390" y="671"/>
                  </a:lnTo>
                  <a:lnTo>
                    <a:pt x="386" y="666"/>
                  </a:lnTo>
                  <a:lnTo>
                    <a:pt x="386" y="660"/>
                  </a:lnTo>
                  <a:lnTo>
                    <a:pt x="395" y="655"/>
                  </a:lnTo>
                  <a:lnTo>
                    <a:pt x="437" y="635"/>
                  </a:lnTo>
                  <a:lnTo>
                    <a:pt x="442" y="626"/>
                  </a:lnTo>
                  <a:lnTo>
                    <a:pt x="442" y="619"/>
                  </a:lnTo>
                  <a:lnTo>
                    <a:pt x="442" y="613"/>
                  </a:lnTo>
                  <a:lnTo>
                    <a:pt x="438" y="604"/>
                  </a:lnTo>
                  <a:lnTo>
                    <a:pt x="417" y="577"/>
                  </a:lnTo>
                  <a:lnTo>
                    <a:pt x="400" y="543"/>
                  </a:lnTo>
                  <a:lnTo>
                    <a:pt x="391" y="511"/>
                  </a:lnTo>
                  <a:lnTo>
                    <a:pt x="384" y="474"/>
                  </a:lnTo>
                  <a:lnTo>
                    <a:pt x="368" y="465"/>
                  </a:lnTo>
                  <a:lnTo>
                    <a:pt x="354" y="455"/>
                  </a:lnTo>
                  <a:lnTo>
                    <a:pt x="339" y="444"/>
                  </a:lnTo>
                  <a:lnTo>
                    <a:pt x="326" y="433"/>
                  </a:lnTo>
                  <a:lnTo>
                    <a:pt x="317" y="422"/>
                  </a:lnTo>
                  <a:lnTo>
                    <a:pt x="312" y="411"/>
                  </a:lnTo>
                  <a:lnTo>
                    <a:pt x="308" y="402"/>
                  </a:lnTo>
                  <a:lnTo>
                    <a:pt x="307" y="391"/>
                  </a:lnTo>
                  <a:lnTo>
                    <a:pt x="285" y="363"/>
                  </a:lnTo>
                  <a:lnTo>
                    <a:pt x="290" y="339"/>
                  </a:lnTo>
                  <a:lnTo>
                    <a:pt x="301" y="314"/>
                  </a:lnTo>
                  <a:lnTo>
                    <a:pt x="308" y="289"/>
                  </a:lnTo>
                  <a:lnTo>
                    <a:pt x="308" y="267"/>
                  </a:lnTo>
                  <a:lnTo>
                    <a:pt x="298" y="278"/>
                  </a:lnTo>
                  <a:lnTo>
                    <a:pt x="287" y="294"/>
                  </a:lnTo>
                  <a:lnTo>
                    <a:pt x="280" y="307"/>
                  </a:lnTo>
                  <a:lnTo>
                    <a:pt x="272" y="314"/>
                  </a:lnTo>
                  <a:lnTo>
                    <a:pt x="269" y="283"/>
                  </a:lnTo>
                  <a:lnTo>
                    <a:pt x="271" y="254"/>
                  </a:lnTo>
                  <a:lnTo>
                    <a:pt x="272" y="224"/>
                  </a:lnTo>
                  <a:lnTo>
                    <a:pt x="272" y="195"/>
                  </a:lnTo>
                  <a:lnTo>
                    <a:pt x="280" y="177"/>
                  </a:lnTo>
                  <a:lnTo>
                    <a:pt x="280" y="164"/>
                  </a:lnTo>
                  <a:lnTo>
                    <a:pt x="280" y="146"/>
                  </a:lnTo>
                  <a:lnTo>
                    <a:pt x="281" y="133"/>
                  </a:lnTo>
                  <a:lnTo>
                    <a:pt x="281" y="123"/>
                  </a:lnTo>
                  <a:lnTo>
                    <a:pt x="285" y="113"/>
                  </a:lnTo>
                  <a:lnTo>
                    <a:pt x="290" y="104"/>
                  </a:lnTo>
                  <a:lnTo>
                    <a:pt x="296" y="97"/>
                  </a:lnTo>
                  <a:lnTo>
                    <a:pt x="296" y="97"/>
                  </a:lnTo>
                  <a:lnTo>
                    <a:pt x="298" y="94"/>
                  </a:lnTo>
                  <a:lnTo>
                    <a:pt x="298" y="94"/>
                  </a:lnTo>
                  <a:lnTo>
                    <a:pt x="298" y="94"/>
                  </a:lnTo>
                  <a:lnTo>
                    <a:pt x="301" y="92"/>
                  </a:lnTo>
                  <a:lnTo>
                    <a:pt x="303" y="86"/>
                  </a:lnTo>
                  <a:lnTo>
                    <a:pt x="307" y="83"/>
                  </a:lnTo>
                  <a:lnTo>
                    <a:pt x="308" y="83"/>
                  </a:lnTo>
                  <a:lnTo>
                    <a:pt x="317" y="79"/>
                  </a:lnTo>
                  <a:lnTo>
                    <a:pt x="323" y="77"/>
                  </a:lnTo>
                  <a:lnTo>
                    <a:pt x="328" y="77"/>
                  </a:lnTo>
                  <a:lnTo>
                    <a:pt x="334" y="74"/>
                  </a:lnTo>
                  <a:lnTo>
                    <a:pt x="337" y="74"/>
                  </a:lnTo>
                  <a:lnTo>
                    <a:pt x="339" y="72"/>
                  </a:lnTo>
                  <a:lnTo>
                    <a:pt x="345" y="67"/>
                  </a:lnTo>
                  <a:lnTo>
                    <a:pt x="345" y="63"/>
                  </a:lnTo>
                  <a:lnTo>
                    <a:pt x="337" y="50"/>
                  </a:lnTo>
                  <a:lnTo>
                    <a:pt x="337" y="50"/>
                  </a:lnTo>
                  <a:lnTo>
                    <a:pt x="337" y="47"/>
                  </a:lnTo>
                  <a:lnTo>
                    <a:pt x="337" y="47"/>
                  </a:lnTo>
                  <a:lnTo>
                    <a:pt x="337" y="43"/>
                  </a:lnTo>
                  <a:lnTo>
                    <a:pt x="337" y="43"/>
                  </a:lnTo>
                  <a:lnTo>
                    <a:pt x="337" y="41"/>
                  </a:lnTo>
                  <a:lnTo>
                    <a:pt x="334" y="41"/>
                  </a:lnTo>
                  <a:lnTo>
                    <a:pt x="334" y="38"/>
                  </a:lnTo>
                  <a:lnTo>
                    <a:pt x="328" y="30"/>
                  </a:lnTo>
                  <a:lnTo>
                    <a:pt x="321" y="21"/>
                  </a:lnTo>
                  <a:lnTo>
                    <a:pt x="317" y="11"/>
                  </a:lnTo>
                  <a:lnTo>
                    <a:pt x="316" y="0"/>
                  </a:lnTo>
                  <a:lnTo>
                    <a:pt x="249" y="41"/>
                  </a:lnTo>
                  <a:lnTo>
                    <a:pt x="188" y="94"/>
                  </a:lnTo>
                  <a:lnTo>
                    <a:pt x="133" y="151"/>
                  </a:lnTo>
                  <a:lnTo>
                    <a:pt x="88" y="218"/>
                  </a:lnTo>
                  <a:lnTo>
                    <a:pt x="50" y="289"/>
                  </a:lnTo>
                  <a:lnTo>
                    <a:pt x="21" y="366"/>
                  </a:lnTo>
                  <a:lnTo>
                    <a:pt x="5" y="446"/>
                  </a:lnTo>
                  <a:lnTo>
                    <a:pt x="0" y="530"/>
                  </a:lnTo>
                  <a:lnTo>
                    <a:pt x="5" y="608"/>
                  </a:lnTo>
                  <a:lnTo>
                    <a:pt x="20" y="680"/>
                  </a:lnTo>
                  <a:lnTo>
                    <a:pt x="45" y="751"/>
                  </a:lnTo>
                  <a:lnTo>
                    <a:pt x="74" y="819"/>
                  </a:lnTo>
                  <a:lnTo>
                    <a:pt x="114" y="879"/>
                  </a:lnTo>
                  <a:lnTo>
                    <a:pt x="160" y="938"/>
                  </a:lnTo>
                  <a:lnTo>
                    <a:pt x="215" y="987"/>
                  </a:lnTo>
                  <a:lnTo>
                    <a:pt x="272" y="1032"/>
                  </a:lnTo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 rot="16200000">
              <a:off x="300600" y="2213280"/>
              <a:ext cx="1308240" cy="1909800"/>
            </a:xfrm>
            <a:custGeom>
              <a:avLst/>
              <a:gdLst/>
              <a:ahLst/>
              <a:rect l="l" t="t" r="r" b="b"/>
              <a:pathLst>
                <a:path w="824" h="1203">
                  <a:moveTo>
                    <a:pt x="803" y="736"/>
                  </a:moveTo>
                  <a:lnTo>
                    <a:pt x="807" y="724"/>
                  </a:lnTo>
                  <a:lnTo>
                    <a:pt x="808" y="713"/>
                  </a:lnTo>
                  <a:lnTo>
                    <a:pt x="812" y="702"/>
                  </a:lnTo>
                  <a:lnTo>
                    <a:pt x="814" y="691"/>
                  </a:lnTo>
                  <a:lnTo>
                    <a:pt x="803" y="691"/>
                  </a:lnTo>
                  <a:lnTo>
                    <a:pt x="796" y="688"/>
                  </a:lnTo>
                  <a:lnTo>
                    <a:pt x="783" y="686"/>
                  </a:lnTo>
                  <a:lnTo>
                    <a:pt x="776" y="680"/>
                  </a:lnTo>
                  <a:lnTo>
                    <a:pt x="770" y="675"/>
                  </a:lnTo>
                  <a:lnTo>
                    <a:pt x="767" y="666"/>
                  </a:lnTo>
                  <a:lnTo>
                    <a:pt x="761" y="661"/>
                  </a:lnTo>
                  <a:lnTo>
                    <a:pt x="760" y="655"/>
                  </a:lnTo>
                  <a:lnTo>
                    <a:pt x="756" y="641"/>
                  </a:lnTo>
                  <a:lnTo>
                    <a:pt x="756" y="624"/>
                  </a:lnTo>
                  <a:lnTo>
                    <a:pt x="760" y="610"/>
                  </a:lnTo>
                  <a:lnTo>
                    <a:pt x="767" y="599"/>
                  </a:lnTo>
                  <a:lnTo>
                    <a:pt x="781" y="597"/>
                  </a:lnTo>
                  <a:lnTo>
                    <a:pt x="792" y="599"/>
                  </a:lnTo>
                  <a:lnTo>
                    <a:pt x="803" y="608"/>
                  </a:lnTo>
                  <a:lnTo>
                    <a:pt x="812" y="615"/>
                  </a:lnTo>
                  <a:lnTo>
                    <a:pt x="819" y="628"/>
                  </a:lnTo>
                  <a:lnTo>
                    <a:pt x="823" y="619"/>
                  </a:lnTo>
                  <a:lnTo>
                    <a:pt x="823" y="610"/>
                  </a:lnTo>
                  <a:lnTo>
                    <a:pt x="823" y="605"/>
                  </a:lnTo>
                  <a:lnTo>
                    <a:pt x="823" y="597"/>
                  </a:lnTo>
                  <a:lnTo>
                    <a:pt x="819" y="549"/>
                  </a:lnTo>
                  <a:lnTo>
                    <a:pt x="814" y="502"/>
                  </a:lnTo>
                  <a:lnTo>
                    <a:pt x="807" y="455"/>
                  </a:lnTo>
                  <a:lnTo>
                    <a:pt x="792" y="411"/>
                  </a:lnTo>
                  <a:lnTo>
                    <a:pt x="776" y="366"/>
                  </a:lnTo>
                  <a:lnTo>
                    <a:pt x="756" y="325"/>
                  </a:lnTo>
                  <a:lnTo>
                    <a:pt x="734" y="285"/>
                  </a:lnTo>
                  <a:lnTo>
                    <a:pt x="709" y="247"/>
                  </a:lnTo>
                  <a:lnTo>
                    <a:pt x="705" y="247"/>
                  </a:lnTo>
                  <a:lnTo>
                    <a:pt x="702" y="244"/>
                  </a:lnTo>
                  <a:lnTo>
                    <a:pt x="698" y="244"/>
                  </a:lnTo>
                  <a:lnTo>
                    <a:pt x="693" y="242"/>
                  </a:lnTo>
                  <a:lnTo>
                    <a:pt x="677" y="253"/>
                  </a:lnTo>
                  <a:lnTo>
                    <a:pt x="668" y="254"/>
                  </a:lnTo>
                  <a:lnTo>
                    <a:pt x="660" y="258"/>
                  </a:lnTo>
                  <a:lnTo>
                    <a:pt x="651" y="262"/>
                  </a:lnTo>
                  <a:lnTo>
                    <a:pt x="642" y="264"/>
                  </a:lnTo>
                  <a:lnTo>
                    <a:pt x="631" y="267"/>
                  </a:lnTo>
                  <a:lnTo>
                    <a:pt x="619" y="273"/>
                  </a:lnTo>
                  <a:lnTo>
                    <a:pt x="606" y="278"/>
                  </a:lnTo>
                  <a:lnTo>
                    <a:pt x="594" y="283"/>
                  </a:lnTo>
                  <a:lnTo>
                    <a:pt x="583" y="285"/>
                  </a:lnTo>
                  <a:lnTo>
                    <a:pt x="574" y="289"/>
                  </a:lnTo>
                  <a:lnTo>
                    <a:pt x="567" y="291"/>
                  </a:lnTo>
                  <a:lnTo>
                    <a:pt x="557" y="289"/>
                  </a:lnTo>
                  <a:lnTo>
                    <a:pt x="554" y="285"/>
                  </a:lnTo>
                  <a:lnTo>
                    <a:pt x="548" y="280"/>
                  </a:lnTo>
                  <a:lnTo>
                    <a:pt x="547" y="278"/>
                  </a:lnTo>
                  <a:lnTo>
                    <a:pt x="543" y="273"/>
                  </a:lnTo>
                  <a:lnTo>
                    <a:pt x="536" y="258"/>
                  </a:lnTo>
                  <a:lnTo>
                    <a:pt x="532" y="244"/>
                  </a:lnTo>
                  <a:lnTo>
                    <a:pt x="532" y="231"/>
                  </a:lnTo>
                  <a:lnTo>
                    <a:pt x="530" y="217"/>
                  </a:lnTo>
                  <a:lnTo>
                    <a:pt x="532" y="202"/>
                  </a:lnTo>
                  <a:lnTo>
                    <a:pt x="541" y="190"/>
                  </a:lnTo>
                  <a:lnTo>
                    <a:pt x="552" y="177"/>
                  </a:lnTo>
                  <a:lnTo>
                    <a:pt x="563" y="170"/>
                  </a:lnTo>
                  <a:lnTo>
                    <a:pt x="574" y="159"/>
                  </a:lnTo>
                  <a:lnTo>
                    <a:pt x="583" y="146"/>
                  </a:lnTo>
                  <a:lnTo>
                    <a:pt x="588" y="134"/>
                  </a:lnTo>
                  <a:lnTo>
                    <a:pt x="588" y="119"/>
                  </a:lnTo>
                  <a:lnTo>
                    <a:pt x="568" y="105"/>
                  </a:lnTo>
                  <a:lnTo>
                    <a:pt x="552" y="92"/>
                  </a:lnTo>
                  <a:lnTo>
                    <a:pt x="532" y="81"/>
                  </a:lnTo>
                  <a:lnTo>
                    <a:pt x="512" y="70"/>
                  </a:lnTo>
                  <a:lnTo>
                    <a:pt x="491" y="58"/>
                  </a:lnTo>
                  <a:lnTo>
                    <a:pt x="471" y="47"/>
                  </a:lnTo>
                  <a:lnTo>
                    <a:pt x="449" y="38"/>
                  </a:lnTo>
                  <a:lnTo>
                    <a:pt x="428" y="31"/>
                  </a:lnTo>
                  <a:lnTo>
                    <a:pt x="442" y="45"/>
                  </a:lnTo>
                  <a:lnTo>
                    <a:pt x="455" y="56"/>
                  </a:lnTo>
                  <a:lnTo>
                    <a:pt x="465" y="63"/>
                  </a:lnTo>
                  <a:lnTo>
                    <a:pt x="484" y="74"/>
                  </a:lnTo>
                  <a:lnTo>
                    <a:pt x="485" y="88"/>
                  </a:lnTo>
                  <a:lnTo>
                    <a:pt x="484" y="105"/>
                  </a:lnTo>
                  <a:lnTo>
                    <a:pt x="478" y="123"/>
                  </a:lnTo>
                  <a:lnTo>
                    <a:pt x="478" y="135"/>
                  </a:lnTo>
                  <a:lnTo>
                    <a:pt x="484" y="150"/>
                  </a:lnTo>
                  <a:lnTo>
                    <a:pt x="484" y="155"/>
                  </a:lnTo>
                  <a:lnTo>
                    <a:pt x="480" y="161"/>
                  </a:lnTo>
                  <a:lnTo>
                    <a:pt x="474" y="166"/>
                  </a:lnTo>
                  <a:lnTo>
                    <a:pt x="469" y="170"/>
                  </a:lnTo>
                  <a:lnTo>
                    <a:pt x="465" y="175"/>
                  </a:lnTo>
                  <a:lnTo>
                    <a:pt x="465" y="180"/>
                  </a:lnTo>
                  <a:lnTo>
                    <a:pt x="465" y="190"/>
                  </a:lnTo>
                  <a:lnTo>
                    <a:pt x="464" y="195"/>
                  </a:lnTo>
                  <a:lnTo>
                    <a:pt x="460" y="197"/>
                  </a:lnTo>
                  <a:lnTo>
                    <a:pt x="458" y="200"/>
                  </a:lnTo>
                  <a:lnTo>
                    <a:pt x="455" y="200"/>
                  </a:lnTo>
                  <a:lnTo>
                    <a:pt x="453" y="200"/>
                  </a:lnTo>
                  <a:lnTo>
                    <a:pt x="447" y="197"/>
                  </a:lnTo>
                  <a:lnTo>
                    <a:pt x="442" y="200"/>
                  </a:lnTo>
                  <a:lnTo>
                    <a:pt x="433" y="202"/>
                  </a:lnTo>
                  <a:lnTo>
                    <a:pt x="428" y="202"/>
                  </a:lnTo>
                  <a:lnTo>
                    <a:pt x="424" y="200"/>
                  </a:lnTo>
                  <a:lnTo>
                    <a:pt x="424" y="197"/>
                  </a:lnTo>
                  <a:lnTo>
                    <a:pt x="424" y="197"/>
                  </a:lnTo>
                  <a:lnTo>
                    <a:pt x="422" y="195"/>
                  </a:lnTo>
                  <a:lnTo>
                    <a:pt x="419" y="164"/>
                  </a:lnTo>
                  <a:lnTo>
                    <a:pt x="411" y="159"/>
                  </a:lnTo>
                  <a:lnTo>
                    <a:pt x="406" y="150"/>
                  </a:lnTo>
                  <a:lnTo>
                    <a:pt x="397" y="141"/>
                  </a:lnTo>
                  <a:lnTo>
                    <a:pt x="390" y="134"/>
                  </a:lnTo>
                  <a:lnTo>
                    <a:pt x="386" y="125"/>
                  </a:lnTo>
                  <a:lnTo>
                    <a:pt x="384" y="117"/>
                  </a:lnTo>
                  <a:lnTo>
                    <a:pt x="381" y="108"/>
                  </a:lnTo>
                  <a:lnTo>
                    <a:pt x="384" y="103"/>
                  </a:lnTo>
                  <a:lnTo>
                    <a:pt x="386" y="99"/>
                  </a:lnTo>
                  <a:lnTo>
                    <a:pt x="390" y="99"/>
                  </a:lnTo>
                  <a:lnTo>
                    <a:pt x="390" y="97"/>
                  </a:lnTo>
                  <a:lnTo>
                    <a:pt x="391" y="97"/>
                  </a:lnTo>
                  <a:lnTo>
                    <a:pt x="397" y="103"/>
                  </a:lnTo>
                  <a:lnTo>
                    <a:pt x="406" y="108"/>
                  </a:lnTo>
                  <a:lnTo>
                    <a:pt x="413" y="110"/>
                  </a:lnTo>
                  <a:lnTo>
                    <a:pt x="422" y="110"/>
                  </a:lnTo>
                  <a:lnTo>
                    <a:pt x="424" y="110"/>
                  </a:lnTo>
                  <a:lnTo>
                    <a:pt x="424" y="108"/>
                  </a:lnTo>
                  <a:lnTo>
                    <a:pt x="424" y="108"/>
                  </a:lnTo>
                  <a:lnTo>
                    <a:pt x="424" y="108"/>
                  </a:lnTo>
                  <a:lnTo>
                    <a:pt x="424" y="72"/>
                  </a:lnTo>
                  <a:lnTo>
                    <a:pt x="411" y="56"/>
                  </a:lnTo>
                  <a:lnTo>
                    <a:pt x="395" y="42"/>
                  </a:lnTo>
                  <a:lnTo>
                    <a:pt x="377" y="27"/>
                  </a:lnTo>
                  <a:lnTo>
                    <a:pt x="364" y="9"/>
                  </a:lnTo>
                  <a:lnTo>
                    <a:pt x="350" y="5"/>
                  </a:lnTo>
                  <a:lnTo>
                    <a:pt x="339" y="2"/>
                  </a:lnTo>
                  <a:lnTo>
                    <a:pt x="325" y="0"/>
                  </a:lnTo>
                  <a:lnTo>
                    <a:pt x="312" y="0"/>
                  </a:lnTo>
                  <a:lnTo>
                    <a:pt x="308" y="0"/>
                  </a:lnTo>
                  <a:lnTo>
                    <a:pt x="308" y="2"/>
                  </a:lnTo>
                  <a:lnTo>
                    <a:pt x="308" y="5"/>
                  </a:lnTo>
                  <a:lnTo>
                    <a:pt x="307" y="9"/>
                  </a:lnTo>
                  <a:lnTo>
                    <a:pt x="289" y="14"/>
                  </a:lnTo>
                  <a:lnTo>
                    <a:pt x="281" y="27"/>
                  </a:lnTo>
                  <a:lnTo>
                    <a:pt x="276" y="42"/>
                  </a:lnTo>
                  <a:lnTo>
                    <a:pt x="265" y="56"/>
                  </a:lnTo>
                  <a:lnTo>
                    <a:pt x="260" y="56"/>
                  </a:lnTo>
                  <a:lnTo>
                    <a:pt x="256" y="56"/>
                  </a:lnTo>
                  <a:lnTo>
                    <a:pt x="251" y="56"/>
                  </a:lnTo>
                  <a:lnTo>
                    <a:pt x="249" y="58"/>
                  </a:lnTo>
                  <a:lnTo>
                    <a:pt x="240" y="72"/>
                  </a:lnTo>
                  <a:lnTo>
                    <a:pt x="231" y="87"/>
                  </a:lnTo>
                  <a:lnTo>
                    <a:pt x="224" y="99"/>
                  </a:lnTo>
                  <a:lnTo>
                    <a:pt x="213" y="110"/>
                  </a:lnTo>
                  <a:lnTo>
                    <a:pt x="209" y="110"/>
                  </a:lnTo>
                  <a:lnTo>
                    <a:pt x="209" y="110"/>
                  </a:lnTo>
                  <a:lnTo>
                    <a:pt x="209" y="110"/>
                  </a:lnTo>
                  <a:lnTo>
                    <a:pt x="209" y="114"/>
                  </a:lnTo>
                  <a:lnTo>
                    <a:pt x="184" y="139"/>
                  </a:lnTo>
                  <a:lnTo>
                    <a:pt x="184" y="139"/>
                  </a:lnTo>
                  <a:lnTo>
                    <a:pt x="184" y="139"/>
                  </a:lnTo>
                  <a:lnTo>
                    <a:pt x="184" y="139"/>
                  </a:lnTo>
                  <a:lnTo>
                    <a:pt x="184" y="141"/>
                  </a:lnTo>
                  <a:lnTo>
                    <a:pt x="195" y="146"/>
                  </a:lnTo>
                  <a:lnTo>
                    <a:pt x="209" y="150"/>
                  </a:lnTo>
                  <a:lnTo>
                    <a:pt x="224" y="153"/>
                  </a:lnTo>
                  <a:lnTo>
                    <a:pt x="234" y="153"/>
                  </a:lnTo>
                  <a:lnTo>
                    <a:pt x="236" y="155"/>
                  </a:lnTo>
                  <a:lnTo>
                    <a:pt x="240" y="155"/>
                  </a:lnTo>
                  <a:lnTo>
                    <a:pt x="240" y="159"/>
                  </a:lnTo>
                  <a:lnTo>
                    <a:pt x="242" y="161"/>
                  </a:lnTo>
                  <a:lnTo>
                    <a:pt x="240" y="164"/>
                  </a:lnTo>
                  <a:lnTo>
                    <a:pt x="234" y="166"/>
                  </a:lnTo>
                  <a:lnTo>
                    <a:pt x="231" y="170"/>
                  </a:lnTo>
                  <a:lnTo>
                    <a:pt x="225" y="171"/>
                  </a:lnTo>
                  <a:lnTo>
                    <a:pt x="220" y="180"/>
                  </a:lnTo>
                  <a:lnTo>
                    <a:pt x="215" y="195"/>
                  </a:lnTo>
                  <a:lnTo>
                    <a:pt x="209" y="208"/>
                  </a:lnTo>
                  <a:lnTo>
                    <a:pt x="209" y="222"/>
                  </a:lnTo>
                  <a:lnTo>
                    <a:pt x="213" y="227"/>
                  </a:lnTo>
                  <a:lnTo>
                    <a:pt x="215" y="227"/>
                  </a:lnTo>
                  <a:lnTo>
                    <a:pt x="213" y="231"/>
                  </a:lnTo>
                  <a:lnTo>
                    <a:pt x="209" y="238"/>
                  </a:lnTo>
                  <a:lnTo>
                    <a:pt x="209" y="238"/>
                  </a:lnTo>
                  <a:lnTo>
                    <a:pt x="213" y="242"/>
                  </a:lnTo>
                  <a:lnTo>
                    <a:pt x="213" y="242"/>
                  </a:lnTo>
                  <a:lnTo>
                    <a:pt x="215" y="244"/>
                  </a:lnTo>
                  <a:lnTo>
                    <a:pt x="231" y="233"/>
                  </a:lnTo>
                  <a:lnTo>
                    <a:pt x="260" y="231"/>
                  </a:lnTo>
                  <a:lnTo>
                    <a:pt x="260" y="227"/>
                  </a:lnTo>
                  <a:lnTo>
                    <a:pt x="262" y="226"/>
                  </a:lnTo>
                  <a:lnTo>
                    <a:pt x="265" y="226"/>
                  </a:lnTo>
                  <a:lnTo>
                    <a:pt x="267" y="222"/>
                  </a:lnTo>
                  <a:lnTo>
                    <a:pt x="267" y="200"/>
                  </a:lnTo>
                  <a:lnTo>
                    <a:pt x="289" y="155"/>
                  </a:lnTo>
                  <a:lnTo>
                    <a:pt x="289" y="155"/>
                  </a:lnTo>
                  <a:lnTo>
                    <a:pt x="292" y="155"/>
                  </a:lnTo>
                  <a:lnTo>
                    <a:pt x="292" y="155"/>
                  </a:lnTo>
                  <a:lnTo>
                    <a:pt x="292" y="155"/>
                  </a:lnTo>
                  <a:lnTo>
                    <a:pt x="303" y="170"/>
                  </a:lnTo>
                  <a:lnTo>
                    <a:pt x="312" y="180"/>
                  </a:lnTo>
                  <a:lnTo>
                    <a:pt x="323" y="195"/>
                  </a:lnTo>
                  <a:lnTo>
                    <a:pt x="336" y="206"/>
                  </a:lnTo>
                  <a:lnTo>
                    <a:pt x="343" y="211"/>
                  </a:lnTo>
                  <a:lnTo>
                    <a:pt x="345" y="217"/>
                  </a:lnTo>
                  <a:lnTo>
                    <a:pt x="350" y="226"/>
                  </a:lnTo>
                  <a:lnTo>
                    <a:pt x="354" y="231"/>
                  </a:lnTo>
                  <a:lnTo>
                    <a:pt x="354" y="244"/>
                  </a:lnTo>
                  <a:lnTo>
                    <a:pt x="354" y="258"/>
                  </a:lnTo>
                  <a:lnTo>
                    <a:pt x="359" y="273"/>
                  </a:lnTo>
                  <a:lnTo>
                    <a:pt x="364" y="283"/>
                  </a:lnTo>
                  <a:lnTo>
                    <a:pt x="366" y="285"/>
                  </a:lnTo>
                  <a:lnTo>
                    <a:pt x="370" y="289"/>
                  </a:lnTo>
                  <a:lnTo>
                    <a:pt x="372" y="291"/>
                  </a:lnTo>
                  <a:lnTo>
                    <a:pt x="375" y="294"/>
                  </a:lnTo>
                  <a:lnTo>
                    <a:pt x="375" y="298"/>
                  </a:lnTo>
                  <a:lnTo>
                    <a:pt x="372" y="300"/>
                  </a:lnTo>
                  <a:lnTo>
                    <a:pt x="372" y="305"/>
                  </a:lnTo>
                  <a:lnTo>
                    <a:pt x="370" y="309"/>
                  </a:lnTo>
                  <a:lnTo>
                    <a:pt x="359" y="305"/>
                  </a:lnTo>
                  <a:lnTo>
                    <a:pt x="348" y="294"/>
                  </a:lnTo>
                  <a:lnTo>
                    <a:pt x="336" y="285"/>
                  </a:lnTo>
                  <a:lnTo>
                    <a:pt x="323" y="283"/>
                  </a:lnTo>
                  <a:lnTo>
                    <a:pt x="314" y="289"/>
                  </a:lnTo>
                  <a:lnTo>
                    <a:pt x="308" y="294"/>
                  </a:lnTo>
                  <a:lnTo>
                    <a:pt x="299" y="300"/>
                  </a:lnTo>
                  <a:lnTo>
                    <a:pt x="296" y="305"/>
                  </a:lnTo>
                  <a:lnTo>
                    <a:pt x="298" y="309"/>
                  </a:lnTo>
                  <a:lnTo>
                    <a:pt x="299" y="310"/>
                  </a:lnTo>
                  <a:lnTo>
                    <a:pt x="299" y="314"/>
                  </a:lnTo>
                  <a:lnTo>
                    <a:pt x="303" y="314"/>
                  </a:lnTo>
                  <a:lnTo>
                    <a:pt x="312" y="314"/>
                  </a:lnTo>
                  <a:lnTo>
                    <a:pt x="317" y="316"/>
                  </a:lnTo>
                  <a:lnTo>
                    <a:pt x="319" y="321"/>
                  </a:lnTo>
                  <a:lnTo>
                    <a:pt x="323" y="330"/>
                  </a:lnTo>
                  <a:lnTo>
                    <a:pt x="323" y="330"/>
                  </a:lnTo>
                  <a:lnTo>
                    <a:pt x="319" y="334"/>
                  </a:lnTo>
                  <a:lnTo>
                    <a:pt x="317" y="339"/>
                  </a:lnTo>
                  <a:lnTo>
                    <a:pt x="317" y="339"/>
                  </a:lnTo>
                  <a:lnTo>
                    <a:pt x="260" y="327"/>
                  </a:lnTo>
                  <a:lnTo>
                    <a:pt x="260" y="334"/>
                  </a:lnTo>
                  <a:lnTo>
                    <a:pt x="260" y="339"/>
                  </a:lnTo>
                  <a:lnTo>
                    <a:pt x="260" y="345"/>
                  </a:lnTo>
                  <a:lnTo>
                    <a:pt x="256" y="347"/>
                  </a:lnTo>
                  <a:lnTo>
                    <a:pt x="251" y="356"/>
                  </a:lnTo>
                  <a:lnTo>
                    <a:pt x="249" y="357"/>
                  </a:lnTo>
                  <a:lnTo>
                    <a:pt x="242" y="366"/>
                  </a:lnTo>
                  <a:lnTo>
                    <a:pt x="225" y="393"/>
                  </a:lnTo>
                  <a:lnTo>
                    <a:pt x="189" y="411"/>
                  </a:lnTo>
                  <a:lnTo>
                    <a:pt x="188" y="413"/>
                  </a:lnTo>
                  <a:lnTo>
                    <a:pt x="184" y="419"/>
                  </a:lnTo>
                  <a:lnTo>
                    <a:pt x="184" y="424"/>
                  </a:lnTo>
                  <a:lnTo>
                    <a:pt x="184" y="430"/>
                  </a:lnTo>
                  <a:lnTo>
                    <a:pt x="184" y="439"/>
                  </a:lnTo>
                  <a:lnTo>
                    <a:pt x="184" y="453"/>
                  </a:lnTo>
                  <a:lnTo>
                    <a:pt x="184" y="469"/>
                  </a:lnTo>
                  <a:lnTo>
                    <a:pt x="184" y="478"/>
                  </a:lnTo>
                  <a:lnTo>
                    <a:pt x="173" y="478"/>
                  </a:lnTo>
                  <a:lnTo>
                    <a:pt x="164" y="475"/>
                  </a:lnTo>
                  <a:lnTo>
                    <a:pt x="157" y="469"/>
                  </a:lnTo>
                  <a:lnTo>
                    <a:pt x="151" y="464"/>
                  </a:lnTo>
                  <a:lnTo>
                    <a:pt x="151" y="449"/>
                  </a:lnTo>
                  <a:lnTo>
                    <a:pt x="148" y="435"/>
                  </a:lnTo>
                  <a:lnTo>
                    <a:pt x="141" y="424"/>
                  </a:lnTo>
                  <a:lnTo>
                    <a:pt x="130" y="413"/>
                  </a:lnTo>
                  <a:lnTo>
                    <a:pt x="117" y="417"/>
                  </a:lnTo>
                  <a:lnTo>
                    <a:pt x="110" y="417"/>
                  </a:lnTo>
                  <a:lnTo>
                    <a:pt x="101" y="413"/>
                  </a:lnTo>
                  <a:lnTo>
                    <a:pt x="94" y="408"/>
                  </a:lnTo>
                  <a:lnTo>
                    <a:pt x="83" y="402"/>
                  </a:lnTo>
                  <a:lnTo>
                    <a:pt x="72" y="397"/>
                  </a:lnTo>
                  <a:lnTo>
                    <a:pt x="59" y="393"/>
                  </a:lnTo>
                  <a:lnTo>
                    <a:pt x="49" y="392"/>
                  </a:lnTo>
                  <a:lnTo>
                    <a:pt x="38" y="402"/>
                  </a:lnTo>
                  <a:lnTo>
                    <a:pt x="21" y="424"/>
                  </a:lnTo>
                  <a:lnTo>
                    <a:pt x="5" y="448"/>
                  </a:lnTo>
                  <a:lnTo>
                    <a:pt x="0" y="455"/>
                  </a:lnTo>
                  <a:lnTo>
                    <a:pt x="21" y="475"/>
                  </a:lnTo>
                  <a:lnTo>
                    <a:pt x="25" y="516"/>
                  </a:lnTo>
                  <a:lnTo>
                    <a:pt x="29" y="516"/>
                  </a:lnTo>
                  <a:lnTo>
                    <a:pt x="38" y="513"/>
                  </a:lnTo>
                  <a:lnTo>
                    <a:pt x="43" y="511"/>
                  </a:lnTo>
                  <a:lnTo>
                    <a:pt x="49" y="505"/>
                  </a:lnTo>
                  <a:lnTo>
                    <a:pt x="54" y="496"/>
                  </a:lnTo>
                  <a:lnTo>
                    <a:pt x="58" y="491"/>
                  </a:lnTo>
                  <a:lnTo>
                    <a:pt x="63" y="485"/>
                  </a:lnTo>
                  <a:lnTo>
                    <a:pt x="72" y="480"/>
                  </a:lnTo>
                  <a:lnTo>
                    <a:pt x="74" y="480"/>
                  </a:lnTo>
                  <a:lnTo>
                    <a:pt x="74" y="484"/>
                  </a:lnTo>
                  <a:lnTo>
                    <a:pt x="74" y="484"/>
                  </a:lnTo>
                  <a:lnTo>
                    <a:pt x="74" y="485"/>
                  </a:lnTo>
                  <a:lnTo>
                    <a:pt x="63" y="538"/>
                  </a:lnTo>
                  <a:lnTo>
                    <a:pt x="79" y="556"/>
                  </a:lnTo>
                  <a:lnTo>
                    <a:pt x="77" y="567"/>
                  </a:lnTo>
                  <a:lnTo>
                    <a:pt x="68" y="574"/>
                  </a:lnTo>
                  <a:lnTo>
                    <a:pt x="59" y="583"/>
                  </a:lnTo>
                  <a:lnTo>
                    <a:pt x="54" y="597"/>
                  </a:lnTo>
                  <a:lnTo>
                    <a:pt x="54" y="608"/>
                  </a:lnTo>
                  <a:lnTo>
                    <a:pt x="63" y="619"/>
                  </a:lnTo>
                  <a:lnTo>
                    <a:pt x="74" y="630"/>
                  </a:lnTo>
                  <a:lnTo>
                    <a:pt x="88" y="641"/>
                  </a:lnTo>
                  <a:lnTo>
                    <a:pt x="101" y="646"/>
                  </a:lnTo>
                  <a:lnTo>
                    <a:pt x="114" y="646"/>
                  </a:lnTo>
                  <a:lnTo>
                    <a:pt x="124" y="644"/>
                  </a:lnTo>
                  <a:lnTo>
                    <a:pt x="132" y="641"/>
                  </a:lnTo>
                  <a:lnTo>
                    <a:pt x="141" y="635"/>
                  </a:lnTo>
                  <a:lnTo>
                    <a:pt x="148" y="635"/>
                  </a:lnTo>
                  <a:lnTo>
                    <a:pt x="153" y="639"/>
                  </a:lnTo>
                  <a:lnTo>
                    <a:pt x="160" y="641"/>
                  </a:lnTo>
                  <a:lnTo>
                    <a:pt x="168" y="644"/>
                  </a:lnTo>
                  <a:lnTo>
                    <a:pt x="184" y="652"/>
                  </a:lnTo>
                  <a:lnTo>
                    <a:pt x="195" y="661"/>
                  </a:lnTo>
                  <a:lnTo>
                    <a:pt x="209" y="670"/>
                  </a:lnTo>
                  <a:lnTo>
                    <a:pt x="220" y="677"/>
                  </a:lnTo>
                  <a:lnTo>
                    <a:pt x="225" y="691"/>
                  </a:lnTo>
                  <a:lnTo>
                    <a:pt x="229" y="706"/>
                  </a:lnTo>
                  <a:lnTo>
                    <a:pt x="231" y="722"/>
                  </a:lnTo>
                  <a:lnTo>
                    <a:pt x="234" y="738"/>
                  </a:lnTo>
                  <a:lnTo>
                    <a:pt x="249" y="744"/>
                  </a:lnTo>
                  <a:lnTo>
                    <a:pt x="262" y="749"/>
                  </a:lnTo>
                  <a:lnTo>
                    <a:pt x="276" y="758"/>
                  </a:lnTo>
                  <a:lnTo>
                    <a:pt x="287" y="772"/>
                  </a:lnTo>
                  <a:lnTo>
                    <a:pt x="298" y="800"/>
                  </a:lnTo>
                  <a:lnTo>
                    <a:pt x="308" y="830"/>
                  </a:lnTo>
                  <a:lnTo>
                    <a:pt x="319" y="861"/>
                  </a:lnTo>
                  <a:lnTo>
                    <a:pt x="334" y="886"/>
                  </a:lnTo>
                  <a:lnTo>
                    <a:pt x="350" y="904"/>
                  </a:lnTo>
                  <a:lnTo>
                    <a:pt x="366" y="924"/>
                  </a:lnTo>
                  <a:lnTo>
                    <a:pt x="381" y="944"/>
                  </a:lnTo>
                  <a:lnTo>
                    <a:pt x="395" y="966"/>
                  </a:lnTo>
                  <a:lnTo>
                    <a:pt x="397" y="980"/>
                  </a:lnTo>
                  <a:lnTo>
                    <a:pt x="397" y="993"/>
                  </a:lnTo>
                  <a:lnTo>
                    <a:pt x="391" y="1007"/>
                  </a:lnTo>
                  <a:lnTo>
                    <a:pt x="381" y="1018"/>
                  </a:lnTo>
                  <a:lnTo>
                    <a:pt x="364" y="1022"/>
                  </a:lnTo>
                  <a:lnTo>
                    <a:pt x="348" y="1027"/>
                  </a:lnTo>
                  <a:lnTo>
                    <a:pt x="334" y="1032"/>
                  </a:lnTo>
                  <a:lnTo>
                    <a:pt x="319" y="1038"/>
                  </a:lnTo>
                  <a:lnTo>
                    <a:pt x="307" y="1043"/>
                  </a:lnTo>
                  <a:lnTo>
                    <a:pt x="292" y="1052"/>
                  </a:lnTo>
                  <a:lnTo>
                    <a:pt x="278" y="1063"/>
                  </a:lnTo>
                  <a:lnTo>
                    <a:pt x="262" y="1074"/>
                  </a:lnTo>
                  <a:lnTo>
                    <a:pt x="249" y="1083"/>
                  </a:lnTo>
                  <a:lnTo>
                    <a:pt x="231" y="1090"/>
                  </a:lnTo>
                  <a:lnTo>
                    <a:pt x="215" y="1094"/>
                  </a:lnTo>
                  <a:lnTo>
                    <a:pt x="198" y="1099"/>
                  </a:lnTo>
                  <a:lnTo>
                    <a:pt x="182" y="1105"/>
                  </a:lnTo>
                  <a:lnTo>
                    <a:pt x="164" y="1110"/>
                  </a:lnTo>
                  <a:lnTo>
                    <a:pt x="151" y="1119"/>
                  </a:lnTo>
                  <a:lnTo>
                    <a:pt x="141" y="1132"/>
                  </a:lnTo>
                  <a:lnTo>
                    <a:pt x="124" y="1146"/>
                  </a:lnTo>
                  <a:lnTo>
                    <a:pt x="106" y="1160"/>
                  </a:lnTo>
                  <a:lnTo>
                    <a:pt x="88" y="1171"/>
                  </a:lnTo>
                  <a:lnTo>
                    <a:pt x="68" y="1180"/>
                  </a:lnTo>
                  <a:lnTo>
                    <a:pt x="88" y="1186"/>
                  </a:lnTo>
                  <a:lnTo>
                    <a:pt x="106" y="1188"/>
                  </a:lnTo>
                  <a:lnTo>
                    <a:pt x="124" y="1193"/>
                  </a:lnTo>
                  <a:lnTo>
                    <a:pt x="142" y="1197"/>
                  </a:lnTo>
                  <a:lnTo>
                    <a:pt x="162" y="1198"/>
                  </a:lnTo>
                  <a:lnTo>
                    <a:pt x="182" y="1198"/>
                  </a:lnTo>
                  <a:lnTo>
                    <a:pt x="200" y="1202"/>
                  </a:lnTo>
                  <a:lnTo>
                    <a:pt x="220" y="1202"/>
                  </a:lnTo>
                  <a:lnTo>
                    <a:pt x="252" y="1202"/>
                  </a:lnTo>
                  <a:lnTo>
                    <a:pt x="287" y="1198"/>
                  </a:lnTo>
                  <a:lnTo>
                    <a:pt x="319" y="1193"/>
                  </a:lnTo>
                  <a:lnTo>
                    <a:pt x="354" y="1186"/>
                  </a:lnTo>
                  <a:lnTo>
                    <a:pt x="386" y="1177"/>
                  </a:lnTo>
                  <a:lnTo>
                    <a:pt x="417" y="1168"/>
                  </a:lnTo>
                  <a:lnTo>
                    <a:pt x="447" y="1155"/>
                  </a:lnTo>
                  <a:lnTo>
                    <a:pt x="478" y="1141"/>
                  </a:lnTo>
                  <a:lnTo>
                    <a:pt x="505" y="1126"/>
                  </a:lnTo>
                  <a:lnTo>
                    <a:pt x="536" y="1110"/>
                  </a:lnTo>
                  <a:lnTo>
                    <a:pt x="559" y="1094"/>
                  </a:lnTo>
                  <a:lnTo>
                    <a:pt x="588" y="1074"/>
                  </a:lnTo>
                  <a:lnTo>
                    <a:pt x="613" y="1052"/>
                  </a:lnTo>
                  <a:lnTo>
                    <a:pt x="637" y="1029"/>
                  </a:lnTo>
                  <a:lnTo>
                    <a:pt x="660" y="1007"/>
                  </a:lnTo>
                  <a:lnTo>
                    <a:pt x="682" y="982"/>
                  </a:lnTo>
                  <a:lnTo>
                    <a:pt x="666" y="966"/>
                  </a:lnTo>
                  <a:lnTo>
                    <a:pt x="646" y="955"/>
                  </a:lnTo>
                  <a:lnTo>
                    <a:pt x="626" y="940"/>
                  </a:lnTo>
                  <a:lnTo>
                    <a:pt x="610" y="929"/>
                  </a:lnTo>
                  <a:lnTo>
                    <a:pt x="590" y="922"/>
                  </a:lnTo>
                  <a:lnTo>
                    <a:pt x="574" y="917"/>
                  </a:lnTo>
                  <a:lnTo>
                    <a:pt x="557" y="904"/>
                  </a:lnTo>
                  <a:lnTo>
                    <a:pt x="547" y="893"/>
                  </a:lnTo>
                  <a:lnTo>
                    <a:pt x="547" y="892"/>
                  </a:lnTo>
                  <a:lnTo>
                    <a:pt x="547" y="888"/>
                  </a:lnTo>
                  <a:lnTo>
                    <a:pt x="543" y="888"/>
                  </a:lnTo>
                  <a:lnTo>
                    <a:pt x="543" y="886"/>
                  </a:lnTo>
                  <a:lnTo>
                    <a:pt x="543" y="874"/>
                  </a:lnTo>
                  <a:lnTo>
                    <a:pt x="547" y="863"/>
                  </a:lnTo>
                  <a:lnTo>
                    <a:pt x="547" y="855"/>
                  </a:lnTo>
                  <a:lnTo>
                    <a:pt x="548" y="845"/>
                  </a:lnTo>
                  <a:lnTo>
                    <a:pt x="557" y="819"/>
                  </a:lnTo>
                  <a:lnTo>
                    <a:pt x="567" y="791"/>
                  </a:lnTo>
                  <a:lnTo>
                    <a:pt x="579" y="769"/>
                  </a:lnTo>
                  <a:lnTo>
                    <a:pt x="601" y="753"/>
                  </a:lnTo>
                  <a:lnTo>
                    <a:pt x="613" y="749"/>
                  </a:lnTo>
                  <a:lnTo>
                    <a:pt x="624" y="744"/>
                  </a:lnTo>
                  <a:lnTo>
                    <a:pt x="631" y="742"/>
                  </a:lnTo>
                  <a:lnTo>
                    <a:pt x="642" y="738"/>
                  </a:lnTo>
                  <a:lnTo>
                    <a:pt x="655" y="738"/>
                  </a:lnTo>
                  <a:lnTo>
                    <a:pt x="666" y="736"/>
                  </a:lnTo>
                  <a:lnTo>
                    <a:pt x="673" y="729"/>
                  </a:lnTo>
                  <a:lnTo>
                    <a:pt x="684" y="727"/>
                  </a:lnTo>
                  <a:lnTo>
                    <a:pt x="695" y="727"/>
                  </a:lnTo>
                  <a:lnTo>
                    <a:pt x="704" y="722"/>
                  </a:lnTo>
                  <a:lnTo>
                    <a:pt x="715" y="718"/>
                  </a:lnTo>
                  <a:lnTo>
                    <a:pt x="725" y="713"/>
                  </a:lnTo>
                  <a:lnTo>
                    <a:pt x="736" y="711"/>
                  </a:lnTo>
                  <a:lnTo>
                    <a:pt x="749" y="707"/>
                  </a:lnTo>
                  <a:lnTo>
                    <a:pt x="760" y="707"/>
                  </a:lnTo>
                  <a:lnTo>
                    <a:pt x="770" y="711"/>
                  </a:lnTo>
                  <a:lnTo>
                    <a:pt x="776" y="717"/>
                  </a:lnTo>
                  <a:lnTo>
                    <a:pt x="783" y="722"/>
                  </a:lnTo>
                  <a:lnTo>
                    <a:pt x="792" y="729"/>
                  </a:lnTo>
                  <a:lnTo>
                    <a:pt x="803" y="736"/>
                  </a:lnTo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BE0AE-ADDC-4E23-857D-19D0AB575BA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J%7Bjlm@cs.washington.edu" TargetMode="External"/><Relationship Id="rId2" Type="http://schemas.openxmlformats.org/officeDocument/2006/relationships/hyperlink" Target="mailto:jmanfer@microsoft.com" TargetMode="External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aci.net/kalliste/des.htm" TargetMode="External"/><Relationship Id="rId2" Type="http://schemas.openxmlformats.org/officeDocument/2006/relationships/hyperlink" Target="http://www.itl.nist.gov/fipspubs/fip46-2.htm" TargetMode="External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762120" y="1828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mmetric Key Cryptograp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yptographic Hash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mework 2 solu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644080" y="3908520"/>
            <a:ext cx="2875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ohn Manferdell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0099"/>
                </a:solidFill>
                <a:uFillTx/>
                <a:latin typeface="Arial"/>
                <a:hlinkClick r:id="rId1"/>
              </a:rPr>
              <a:t>jlm@cs.washington.ed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0099"/>
                </a:solidFill>
                <a:uFillTx/>
                <a:latin typeface="Arial"/>
                <a:hlinkClick r:id="rId2"/>
              </a:rPr>
              <a:t>jmanfer@microsoft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4920" y="5105520"/>
            <a:ext cx="8610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rtions © 2004-2005, John Manferdelli.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material is provided without warranty of any kind including, without limitation, warranty of non-infringement or suitability for any purpose.  This material is not guaranteed to be error free and is intended for instructional use on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80F19-6C31-4141-8B5D-F5C2DD62EDAF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LM 20060115 9:16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omework 1-Answer 2 (cont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52280" y="990360"/>
            <a:ext cx="8686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5788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olumn 2 of 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h Count   Freq    Ch Count   Freq    Ch Count   Freq    Ch Count   Freq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G      7  0.121    Y      7  0.121    C      6  0.103    L      5  0.08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P      4  0.069    R      4  0.069    J      4  0.069    E      3  0.05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B      3  0.052    M      3  0.052    F      2  0.034    D      2  0.03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urier New"/>
              </a:rPr>
              <a:t>Q      1  0.017    N      1  0.017    S      1  0.017    T      1  0.01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urier New"/>
              </a:rPr>
              <a:t>U      1  0.017    W      1  0.017    I      1  0.017    Z      1  0.01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urier New"/>
              </a:rPr>
              <a:t>O      0  0.000    K      0  0.000    V      0  0.000    H      0  0.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X      0  0.000    A      0  0.000           0  0.000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58 characters, index of coincidence: 0.058, IC(square approx): 0.074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52280" y="3657600"/>
            <a:ext cx="86868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5000"/>
          </a:bodyPr>
          <a:p>
            <a:pPr marL="578880" indent="-578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olumn 3 of 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78880" indent="-578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h Count   Freq    Ch Count   Freq    Ch Count   Freq    Ch Count   Freq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78880" indent="-578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D      8  0.138    S      7  0.121    R      6  0.103    C      6  0.10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78880" indent="-578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Y      6  0.103    V      4  0.069    G      4  0.069    B      3  0.05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78880" indent="-578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X      3  0.052    M      3  0.052    O      2  0.034    N      2  0.03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78880" indent="-578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urier New"/>
              </a:rPr>
              <a:t>F      1  0.017    E      1  0.017    K      1  0.017    L      1  0.01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78880" indent="-578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urier New"/>
              </a:rPr>
              <a:t>P      0  0.000    Q      0  0.000    A      0  0.000    T      0  0.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78880" indent="-578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urier New"/>
              </a:rPr>
              <a:t>U      0  0.000    H      0  0.000    W      0  0.000    I      0  0.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78880" indent="-578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J      0  0.000    Z      0  0.000           0  0.000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78880" indent="-578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58 characters, index of coincidence: 0.071, IC (square approx): 0.087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09CB1-558B-4D72-AD04-0A7234927993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LM 20060115 9:16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omework 1-Answer 2 (cont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52280" y="990360"/>
            <a:ext cx="8686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5788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olumn 4 of 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h Count   Freq    Ch Count   Freq    Ch Count   Freq    Ch Count   Freq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L      9  0.155    I      7  0.121    W      6  0.103    X      6  0.10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S      5  0.086    M      5  0.086    R      5  0.086    E      3  0.05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H      2  0.034    V      2  0.034    G      2  0.034    K      2  0.03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urier New"/>
              </a:rPr>
              <a:t>A      1  0.017    P      1  0.017    T      1  0.017    Z      1  0.01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urier New"/>
              </a:rPr>
              <a:t>C      0  0.000    Q      0  0.000    D      0  0.000    J      0  0.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urier New"/>
              </a:rPr>
              <a:t>U      0  0.000    F      0  0.000    B      0  0.000    N      0  0.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Y      0  0.000    O      0  0.000           0  0.000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58 characters, index of coincidence: 0.075, IC (square approx): 0.09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52280" y="3657600"/>
            <a:ext cx="86868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5000"/>
          </a:bodyPr>
          <a:p>
            <a:pPr marL="578880" indent="-578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olumn 5 of 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78880" indent="-578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h Count   Freq    Ch Count   Freq    Ch Count   Freq    Ch Count   Freq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78880" indent="-578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Y      9  0.155    C      7  0.121    F      5  0.086    M      4  0.06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78880" indent="-578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P      4  0.069    Q      4  0.069    K      4  0.069    J      3  0.05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78880" indent="-578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R      3  0.052    D      3  0.052    G      2  0.034    S      2  0.03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78880" indent="-578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urier New"/>
              </a:rPr>
              <a:t>U      2  0.034    B      2  0.034    A      1  0.017    N      1  0.01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78880" indent="-578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urier New"/>
              </a:rPr>
              <a:t>E      1  0.017    L      1  0.017    H      0  0.000    O      0  0.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78880" indent="-578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urier New"/>
              </a:rPr>
              <a:t>T      0  0.000    I      0  0.000    V      0  0.000    W      0  0.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78880" indent="-578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urier New"/>
              </a:rPr>
              <a:t>X      0  0.000    Z      0  0.000           0  0.000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78880" indent="-578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58 characters, index of coincidence: 0.063, IC (square approx): 0.079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2723A-F01A-4229-AED9-E16607705A7B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LM 20060115 9:16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omework 1-Answer 2 (cont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2280" y="9903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de normal alphabet against input alphabet and check distanc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urier New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= </a:t>
            </a:r>
            <a:r>
              <a:rPr b="0" lang="en-US" sz="1800" spc="-1" strike="noStrike">
                <a:solidFill>
                  <a:srgbClr val="000000"/>
                </a:solidFill>
                <a:latin typeface="Math1Mono"/>
                <a:ea typeface="Math1Mono"/>
              </a:rPr>
              <a:t>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urier New"/>
              </a:rPr>
              <a:t>i=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ourier New"/>
              </a:rPr>
              <a:t>25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urier New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d’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urier New"/>
              </a:rPr>
              <a:t>((i+s)(mod 26)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ourier New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ourier New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is the cipher alphabet frequency, 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ourier New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is the normal alphabet frequenc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28600" y="2209680"/>
            <a:ext cx="259092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7000"/>
          </a:bodyPr>
          <a:p>
            <a:pPr marL="591120" indent="-5911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Alphabet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li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ist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00 (A)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0.065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01 (B)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0.055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02 (C)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0.070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03 (D)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0.075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04 (E)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0.07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05 (F)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0.077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06 (G)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0.06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07 (H)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0.06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08 (I)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0.04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09 (J)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0.089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10 (K)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0.089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11 (L)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0.066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12 (M)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0.016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209680" y="2209680"/>
            <a:ext cx="259092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7000"/>
          </a:bodyPr>
          <a:p>
            <a:pPr marL="591120" indent="-5911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Alphabet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li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ist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13 (N)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0.07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14 (O)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0.079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15 (P)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0.072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16 (Q)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0.060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17 (R)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0.062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18 (S)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0.073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19 (T)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0.07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20 (U)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0.069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21 (V)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0.04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22 (W)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0.067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23 (X)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0.07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24 (Y)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0.08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25 (Z)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0.055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572000" y="2209680"/>
            <a:ext cx="259092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7000"/>
          </a:bodyPr>
          <a:p>
            <a:pPr marL="591120" indent="-5911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Alphabet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li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ist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00 (A)   0.072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01 (B)   0.073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02 (C)   0.05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03 (D)   0.079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04 (E)   0.07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05 (F)   0.064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06 (G)   0.07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07 (H)   0.064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08 (I)   0.078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09 (J)   0.062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10 (K)   0.07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11 (L)   0.04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12 (M)   0.078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553080" y="2209680"/>
            <a:ext cx="259092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7000"/>
          </a:bodyPr>
          <a:p>
            <a:pPr marL="591120" indent="-5911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Alphabet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li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ist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13 (N)   0.049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14 (O)   0.072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15 (P)   0.063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16 (Q)   0.068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17 (R)   0.069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18 (S)   0.069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19 (T)   0.07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20 (U)   0.044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21 (V)   0.075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22 (W)   0.077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23 (X)   0.073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24 (Y)   0.013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25 (Z)   0.075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4F7CA-AC7D-4896-9A83-33DD3C39E52B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LM 20060115 9:16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omework 1-Answer 2 (cont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52280" y="99072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591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de normal alphabet against input alphabet and check distanc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urier New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= </a:t>
            </a:r>
            <a:r>
              <a:rPr b="0" lang="en-US" sz="1800" spc="-1" strike="noStrike">
                <a:solidFill>
                  <a:srgbClr val="000000"/>
                </a:solidFill>
                <a:latin typeface="Math1Mono"/>
                <a:ea typeface="Math1Mono"/>
              </a:rPr>
              <a:t>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urier New"/>
              </a:rPr>
              <a:t>i=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ourier New"/>
              </a:rPr>
              <a:t>25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urier New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d’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urier New"/>
              </a:rPr>
              <a:t>((i+s)(mod 26)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ourier New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ourier New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is the cipher alphabet frequency, 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ourier New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is the normal alphabet frequenc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28600" y="2209680"/>
            <a:ext cx="259092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7000"/>
          </a:bodyPr>
          <a:p>
            <a:pPr marL="591120" indent="-5911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Alphabet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li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ist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00 (A)   0.076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01 (B)   0.09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02 (C)   0.084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03 (D)   0.083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04 (E)   0.074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05 (F)   0.082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06 (G)   0.084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07 (H)   0.096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08 (I)   0.096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09 (J)   0.071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10 (K)   0.03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11 (L)   0.075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12 (M)   0.091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209680" y="2209680"/>
            <a:ext cx="259092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7000"/>
          </a:bodyPr>
          <a:p>
            <a:pPr marL="591120" indent="-5911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Alphabet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li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ist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13 (N)   0.064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14 (O)   0.059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15 (P)   0.076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16 (Q)   0.08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17 (R)   0.079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18 (S)   0.09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19 (T)   0.087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20 (U)   0.074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21 (V)   0.075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22 (W)   0.108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23 (X)   0.09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24 (Y)   0.049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25 (Z)   0.042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0" y="2209680"/>
            <a:ext cx="259092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7000"/>
          </a:bodyPr>
          <a:p>
            <a:pPr marL="591120" indent="-5911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Alphabet 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li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ist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00 (A)   0.07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01 (B)   0.109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02 (C)   0.107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03 (D)   0.067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04 (E)   0.023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05 (F)   0.082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06 (G)   0.087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07 (H)   0.075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08 (I)   0.067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09 (J)   0.089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10 (K)   0.092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11 (L)   0.089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12 (M)   0.107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553080" y="2209680"/>
            <a:ext cx="259092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7000"/>
          </a:bodyPr>
          <a:p>
            <a:pPr marL="591120" indent="-5911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Alphabet 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li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ist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13 (N)   0.092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14 (O)   0.083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15 (P)   0.073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16 (Q)   0.1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17 (R)   0.075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18 (S)   0.057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19 (T)   0.05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20 (U)   0.078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21 (V)   0.094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22 (W)   0.097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23 (X)   0.086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24 (Y)   0.083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25 (Z)   0.087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D74E4-D489-459B-B4C2-20B4676CED89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LM 20060115 9:16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omework 1-Answer 2 (cont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52280" y="99072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591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de normal alphabet against input alphabet and check distanc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urier New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= </a:t>
            </a:r>
            <a:r>
              <a:rPr b="0" lang="en-US" sz="1800" spc="-1" strike="noStrike">
                <a:solidFill>
                  <a:srgbClr val="000000"/>
                </a:solidFill>
                <a:latin typeface="Math1Mono"/>
                <a:ea typeface="Math1Mono"/>
              </a:rPr>
              <a:t>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urier New"/>
              </a:rPr>
              <a:t>i=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ourier New"/>
              </a:rPr>
              <a:t>25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urier New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d’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urier New"/>
              </a:rPr>
              <a:t>((i+s)(mod 26)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ourier New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ourier New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is the cipher alphabet frequency, 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ourier New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is the normal alphabet frequenc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447920" y="2057400"/>
            <a:ext cx="25905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7000"/>
          </a:bodyPr>
          <a:p>
            <a:pPr marL="591120" indent="-5911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Alphabet 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li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ist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00 (A)   0.09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01 (B)   0.069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02 (C)   0.062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03 (D)   0.087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04 (E)   0.08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05 (F)   0.059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06 (G)   0.076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07 (H)   0.073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08 (I)   0.083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09 (J)   0.066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10 (K)   0.059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11 (L)   0.053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12 (M)   0.059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800600" y="2057400"/>
            <a:ext cx="25909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7000"/>
          </a:bodyPr>
          <a:p>
            <a:pPr marL="591120" indent="-5911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Alphabet 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li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ist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13 (N)   0.068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14 (O)   0.075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15 (P)   0.084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16 (Q)   0.06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17 (R)   0.072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18 (S)   0.08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19 (T)   0.088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20 (U)   0.046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21 (V)   0.083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22 (W)   0.078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23 (X)   0.066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24 (Y)   0.02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25 (Z)   0.069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A758F-8846-401C-8F52-0C635AEB476C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LM 20060115 9:16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omework 1-Answer 2 (cont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Vig Tablea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BCDEFGHIJKLMNOPQRSTUVWXY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NOPQRSTUVWXYZABCDEFGHIJK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ZABCDEFGHIJKLMNOPQRSTUVW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LMNOPQRSTUVWXYZABCDEFGHI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FGHIJKLMNOPQRSTUVWXYZABC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ZABCDEFGHIJKLMNOPQRSTUVW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8BFDD-AD78-4598-9B4C-63B5ED05BA43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LM 20060115 9:16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omework 1-Answers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8680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ITHM ALICE TOWAR DNONE WITHC HARIT YFORA LLW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HFIRM NESSI NTHER IGHTA SGODG IVESU STOSE E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GHTL ETUSS TRIVE ONTOF INISH THEWO RKWEA RE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BIND UPTHE NATIO NSWOU NDSTO CAREF ORHIM WHO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LLHA VEBOR NETHE BATTL EANDF ORHIS WIDOW ANDH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ORPH ANTOD OALLW HICHM AYACH IEVEA NDCHE RISH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JUSTA NDLAS TINGP EACEA MONGO URSEL VESAN DWI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LLNA T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Key Length: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Key: MYK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responding plain/cipher required: k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pher only&lt; 25k [assuming 25 letters are required to identify one letter with high certainty, a pretty conservative assumption.  You could argue it was as small as about 8k.]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7F77E-EF68-4930-A578-8109631EA3A5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LM 20060115 9:16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omework 1-Question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ider a message source M(x) with the following distribu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: P(x=0)= 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: P(x=1)= q, with p+q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a one time pad selected from distribution P(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: P(x=0)= 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: P(x=1)= 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ider the ciphertext formed by “xoring” the message m with the pad p, so that c= m</a:t>
            </a:r>
            <a:r>
              <a:rPr b="0" lang="en-US" sz="2000" spc="-1" strike="noStrike">
                <a:solidFill>
                  <a:srgbClr val="000000"/>
                </a:solidFill>
                <a:latin typeface="Math1"/>
                <a:ea typeface="Math1"/>
              </a:rPr>
              <a:t>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is the ciphertext distribution C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te H(M), H(P), H(C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te:  I(M|C)= H(M)-H(M|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se, P: P(x=0)=3/4 and P(x=1)=1/4.  What is the ciphertext distribution and H(M), H(P), H(C) and I(M|C) no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7D757-19A1-4876-80A2-15803403F12B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LM 20060115 9:16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omework 1-Answer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(c=0)= P(m=0)P(p=0)+P(m=1)P(p=1)= p(1/2)+q(1/2)= 1/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(c=1)= P(m=1)P(p=0)+P(m=0)P(p=1)= p(1/2)+q(1/2)= 1/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(M)= -p lg(p) – q lg(q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(P)= -1/2 lg(1/2) – 1/2 lg(1/2)= 1 (bi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(C)= 1 (bi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(M,C)= P(M=0,C=0) lg(P(M=0,C=0) )+P(M=0,C=1) lg(P(M=0,C=1) )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(M=1,C=0) lg(P(M=1,C=0) )+P(M=1,C=1) lg(P(M=1,C=1)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(M=0,C=0)= p/2, et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(M|C)= H(M) – H(M|C)= H(M)+H(C) – H(M,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(M|C)= -p lg(p) – q lg(q) +1 + p/2 lg(p/2) + q/2 lg(q/2) + p/2 lg(p/2) + q/2 lg(q/2) = -p lg(p) –q lg(q) +1 +p lg(p/2)+q(lg(q/2)=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1A990-59B2-4EFF-8490-5BACAFCBD7F2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LM 20060115 9:16</a:t>
            </a: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omework 1-Answer 3 (cont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(c=0)= P(m=0)P(p=0)+P(m=1)P(p=1)= p(3/4)+q(1/4)= (3p+q)/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(c=1)= P(m=1)P(p=0)+P(m=0)P(p=1)= p(1/4)+q(3/4)= (3q+p)/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(M)= -p lg(p) – q lg(q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(P)= -3/4 lg(3/4) – 1/4 lg(1/4) </a:t>
            </a:r>
            <a:r>
              <a:rPr b="0" lang="en-US" sz="2000" spc="-1" strike="noStrike">
                <a:solidFill>
                  <a:srgbClr val="000000"/>
                </a:solidFill>
                <a:latin typeface="Math1"/>
                <a:ea typeface="Math1"/>
              </a:rPr>
              <a:t>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.81 (bi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(C)=  -(3p+q)/4 lg((3p+q)/4) -(3q+p)/4 lg((3q+p)/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(M,C)= P(M=0,C=0) lg(P(M=0,C=0) )+P(M=0,C=1) lg(P(M=0,C=1) )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(M=1,C=0) lg(P(M=1,C=0) )+P(M=1,C=1) lg(P(M=1,C=1)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(M=0,C=0)= 3p/4, P(M=0,C=1)= p/4, P(M=1,C=0)= 3q/4, P(M=1,C=1)= q/4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(M|C)= H(M) – H(M|C)=H(M)+H(C) –H(M,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(M|C)= -p lg(p) – q lg(q) -(3p+q)/4 lg((3p+q)/4) -(3q+p)/4 lg((3q+p)/4)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p/4 lg(3p/4)+p/4 lg(p/4)+3q/4 lg(3q/4)+q/4 lg(q/4)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(3p+q)/4 lg((3p+q)/4) -(3q+p)/4 lg((3q+p)/4)+ 3/4 lg(3/4) + 1/4 lg(1/4) </a:t>
            </a:r>
            <a:r>
              <a:rPr b="1" lang="en-US" sz="1800" spc="-1" strike="noStrike">
                <a:solidFill>
                  <a:srgbClr val="000000"/>
                </a:solidFill>
                <a:latin typeface="Math1"/>
                <a:ea typeface="Math1"/>
              </a:rPr>
              <a:t>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(3p+q)/4 lg((3p+q)/4) -(3q+p)/4 lg((3q+p)/4)-.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e: If you didn’t simplify, it’s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801B7-C858-4F94-968E-D5102ED06C95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LM 20060115 9:16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omework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52280" y="144792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view DES description by re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0099"/>
                </a:solidFill>
                <a:uFillTx/>
                <a:latin typeface="Arial"/>
                <a:hlinkClick r:id="rId1"/>
              </a:rPr>
              <a:t>http://www.aci.net/kalliste/des.htm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0099"/>
                </a:solidFill>
                <a:uFillTx/>
                <a:latin typeface="Arial"/>
                <a:hlinkClick r:id="rId2"/>
              </a:rPr>
              <a:t>http://www.itl.nist.gov/fipspubs/fip46-2.h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need to know DES well for next class as well as for problem number 4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473DB-65CE-4F82-8762-8D7C212EF09E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LM 20060115 9:16</a:t>
            </a: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omework 1-Question 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8680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te the output of the first two rounds of DES with input message  0x3132333435363738  0x3433323138373635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input to round 1 (after initial permutation) and the first 2 round keys are given belo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fixed key, DES is a permutation on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6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letter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roximately how many such permutations are there?  (Hint: Use Stirling’s approximation.)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are this to the size of the key space for D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ound 01 Key:   01001111 01010111 00000111 10111001 01011100 101010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ound 02 Key:   00101111 00100111 01101001 00111011 01111111 00100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put to DES:   00110100 00110011 00110010 00110001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00111000 00110111 00110110 001101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ound 1 Input:  00000000 11111111 11100001 10101010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00000000 11111111 00010000 011001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914400" y="1752480"/>
            <a:ext cx="251460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71D12-BF78-40AB-BC3B-DF88B2D72F5A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LM 20060115 9:16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omework 1-Answer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8680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KEY: 0xabcdef89abcdef8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ES Input: desin.txt, Output: desout.bin, Key: 00abcdefabcdef89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ound 01 Key:  01001111 01010111 00000111 10111001 01011100 10101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ound 02 Key:  00101111 00100111 01101001 00111011 01111111 001001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ound 03 Key:  11001011 01010100 10111001 10111000 01001001 10110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ound 04 Key:  11011101 10001011 11011000 11000101 01101010 000101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ound 05 Key:  00010110 11111010 10001011 11110111 00100010 11011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ound 06 Key:  00111011 00111101 01000110 10110001 10010011 010011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ound 07 Key:  01101000 01101100 11001101 00010110 10110110 101001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ound 08 Key:  01010001 11100101 00111100 01111100 00101101 111001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ound 09 Key:  11010110 11001100 11101100 01100110 11110000 101001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ound 10 Key:  11011010 11100011 00100010 11100010 00101101 11101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ound 11 Key:  10101000 10011111 00101111 10101110 10011011 00011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ound 12 Key:  11100001 00110010 01001111 01010111 01010111 01110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ound 13 Key:  00100001 11011110 11110000 01011101 10001001 01101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ound 14 Key:  11010100 01111001 11110010 11000000 11111100 010111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ound 15 Key:  10110110 11100111 01010001 01101001 10110110 101111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ound 16 Key:  10101110 01111001 00010111 10001010 11110110 001110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63341-2BFE-4403-90ED-BE855F4095C1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LM 20060115 9:16</a:t>
            </a: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omework 1-Answer 4 (cont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8680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put to DES:        00110100 00110011 00110010 00110001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00111000 00110111 00110110 001101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fter IP:            00000000 11111111 11100001 10101010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00000000 11111111 00010000 011001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ound 01  f:         00100101 00001011 10111110 11110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fter round 01:      00000000 11111111 00010000 01100110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00100101 11110100 01011111 010111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ound 02  f:         10000000 00110000 00111001 111011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fter round 02:      00100101 11110100 01011111 010111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10000000 11001111 00101001 100010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39F65-C4F2-42D5-A37D-F986AEBB7896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LM 20060115 9:16</a:t>
            </a: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omework 1-Answer 4 (cont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8680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irling:  N! </a:t>
            </a:r>
            <a:r>
              <a:rPr b="0" lang="en-US" sz="1800" spc="-1" strike="noStrike">
                <a:solidFill>
                  <a:srgbClr val="000000"/>
                </a:solidFill>
                <a:latin typeface="Math1"/>
                <a:ea typeface="Math1"/>
              </a:rPr>
              <a:t></a:t>
            </a:r>
            <a:r>
              <a:rPr b="0" lang="en-US" sz="1800" spc="-1" strike="noStrike">
                <a:solidFill>
                  <a:srgbClr val="000000"/>
                </a:solidFill>
                <a:latin typeface="Math1Mono"/>
                <a:ea typeface="Math1Mono"/>
              </a:rPr>
              <a:t>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(2 </a:t>
            </a:r>
            <a:r>
              <a:rPr b="0" lang="en-US" sz="1800" spc="-1" strike="noStrike">
                <a:solidFill>
                  <a:srgbClr val="000000"/>
                </a:solidFill>
                <a:latin typeface="Math1"/>
                <a:ea typeface="Math1"/>
              </a:rPr>
              <a:t>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N) (N/e)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= 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6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ath1"/>
                <a:ea typeface="Math1"/>
              </a:rPr>
              <a:t></a:t>
            </a:r>
            <a:r>
              <a:rPr b="0" lang="en-US" sz="1800" spc="-1" strike="noStrike">
                <a:solidFill>
                  <a:srgbClr val="000000"/>
                </a:solidFill>
                <a:latin typeface="Math1Mono"/>
                <a:ea typeface="Math1Mono"/>
              </a:rPr>
              <a:t>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16 x 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18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   [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=1024 </a:t>
            </a:r>
            <a:r>
              <a:rPr b="0" lang="en-US" sz="1800" spc="-1" strike="noStrike">
                <a:solidFill>
                  <a:srgbClr val="000000"/>
                </a:solidFill>
                <a:latin typeface="Math1"/>
                <a:ea typeface="Math1"/>
              </a:rPr>
              <a:t>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ook at R=N!/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5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, the ratio of the sizes.  Let r= ln(R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r=  ½ ln(2 </a:t>
            </a:r>
            <a:r>
              <a:rPr b="0" lang="en-US" sz="1800" spc="-1" strike="noStrike">
                <a:solidFill>
                  <a:srgbClr val="000000"/>
                </a:solidFill>
                <a:latin typeface="Math1"/>
                <a:ea typeface="Math1"/>
              </a:rPr>
              <a:t>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N) + N ln(N/e)-56 ln(2). r </a:t>
            </a:r>
            <a:r>
              <a:rPr b="0" lang="en-US" sz="1800" spc="-1" strike="noStrike">
                <a:solidFill>
                  <a:srgbClr val="000000"/>
                </a:solidFill>
                <a:latin typeface="Math1"/>
                <a:ea typeface="Math1"/>
              </a:rPr>
              <a:t>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½ (1+45)-39+ 16 x 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18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(64  ln(2) -1) </a:t>
            </a:r>
            <a:r>
              <a:rPr b="0" lang="en-US" sz="1800" spc="-1" strike="noStrike">
                <a:solidFill>
                  <a:srgbClr val="000000"/>
                </a:solidFill>
                <a:latin typeface="Math1"/>
                <a:ea typeface="Math1"/>
              </a:rPr>
              <a:t>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16 x 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18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64  ln(2) </a:t>
            </a:r>
            <a:r>
              <a:rPr b="0" lang="en-US" sz="1800" spc="-1" strike="noStrike">
                <a:solidFill>
                  <a:srgbClr val="000000"/>
                </a:solidFill>
                <a:latin typeface="Math1"/>
                <a:ea typeface="Math1"/>
              </a:rPr>
              <a:t>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7 x 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0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R=exp(7 x 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0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), an unfathomably large numb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You may have “rounded” differently or expressed the answer as a power of 2.  That’s O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CEFE7-B87D-4C7C-8C7C-1818DD7AF24E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LM 20060115 9:16</a:t>
            </a: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omework 1-Answer 4 (Addendum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5972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ound 1 Input:    L: 00000000 11111111 11100001 10101010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: 00000000 11111111 00010000 011001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010011 110101 011100 000111 101110 010101 110010 101011  K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000000 000001 011111 111110 100010 100000 001100 001100  E(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010011 110100 000011 111001 001100 110101 111110 100111  K</a:t>
            </a:r>
            <a:r>
              <a:rPr b="0" lang="en-US" sz="1600" spc="-1" strike="noStrike">
                <a:solidFill>
                  <a:srgbClr val="000000"/>
                </a:solidFill>
                <a:latin typeface="Math1"/>
                <a:ea typeface="Math1"/>
              </a:rPr>
              <a:t>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(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1/1001 2/1010 1/0001 3/1100 0/0110 3/1010 2/1111 3/0011  Row/Ind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6      c      7      c      b      1      2      7       S box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0110   1100   0111   1100   1011   0001   0010   0111    As Bi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0010   0101   0000   1011   1011   1110   1111   0100    Apply 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00100101 00001011 10111110 11110100    f(K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ourier New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,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00000000 11111111 11100001 10101010    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00100101 11110100 01011111 01011110    L</a:t>
            </a:r>
            <a:r>
              <a:rPr b="0" lang="en-US" sz="1600" spc="-1" strike="noStrike">
                <a:solidFill>
                  <a:srgbClr val="000000"/>
                </a:solidFill>
                <a:latin typeface="Math1"/>
                <a:ea typeface="Math1"/>
              </a:rPr>
              <a:t>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(K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ourier New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,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Output: R||L</a:t>
            </a:r>
            <a:r>
              <a:rPr b="0" lang="en-US" sz="1600" spc="-1" strike="noStrike">
                <a:solidFill>
                  <a:srgbClr val="000000"/>
                </a:solidFill>
                <a:latin typeface="Math1"/>
                <a:ea typeface="Math1"/>
              </a:rPr>
              <a:t>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(K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ourier New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,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ound 1 Output:      00000000 11111111 00010000 01100110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00100101 11110100 01011111 010111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67384-5A77-487A-933B-DC09ACEA2916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LM 20060115 9:16</a:t>
            </a: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omework 1-Question 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52280" y="1143000"/>
            <a:ext cx="868680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iven a one rotor machine, M, depicted below with equ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-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U C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-i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 C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p)=c, C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-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U C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-i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 C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=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ith C, U, R below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: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BCDEFGHIJKLMNOPQRSTUVWXY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KMFLGDQVZNTOWYHXUSPAIBRC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: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ABCDEFGHIJKLMNOPQRSTUVWXY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YRUHQSLDPXNGOKMIEBFZCWVJ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: The cyclic permutation A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, B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, et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143000" y="4230720"/>
            <a:ext cx="368280" cy="1359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828800" y="4230720"/>
            <a:ext cx="368280" cy="1359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448080" y="5346720"/>
            <a:ext cx="2425680" cy="901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4051440" y="5029200"/>
            <a:ext cx="0" cy="317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3130200" y="5035680"/>
            <a:ext cx="927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215800" y="4883040"/>
            <a:ext cx="99684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753000" y="4356000"/>
            <a:ext cx="2425680" cy="3682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5041800" y="4723920"/>
            <a:ext cx="0" cy="62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1511280" y="4910040"/>
            <a:ext cx="31752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115640" y="4724280"/>
            <a:ext cx="365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828440" y="4724280"/>
            <a:ext cx="365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564440" y="4397400"/>
            <a:ext cx="865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m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031640" y="5616720"/>
            <a:ext cx="11566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yboa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2209680" y="5035680"/>
            <a:ext cx="927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1511280" y="5214960"/>
            <a:ext cx="317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143160" y="4883040"/>
            <a:ext cx="113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280040" y="4889520"/>
            <a:ext cx="0" cy="444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28600" y="1676520"/>
            <a:ext cx="28195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DDF31-4B59-4445-B0AD-965AFC5D6725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LM 20060115 9:16</a:t>
            </a: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omework 1-Question 5 (cont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te the ciphertext derived from the plaintext: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ELLOWORL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do you think the index of coincidence of the cipher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a 50 letter message i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the key was the “starting position,” i=0 (if you started at i=1, it’s OK), of M, how many le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 corresponding plain/cipher text would you need to find the key?  How many ciphertext only letter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ollowing may be helpfu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BCDEFGHIJKLMNOPQRSTUVWXY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UWYGADFPVZBECKMTHXSLRINQO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9F3FC-25CF-405A-8B3F-648118BDF228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LM 20060115 9:16</a:t>
            </a: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omework 1-Answer 5 (as asked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-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U C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-i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 C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p)=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   i   C</a:t>
            </a:r>
            <a:r>
              <a:rPr b="0" lang="en-US" sz="1600" spc="-1" strike="noStrike" baseline="30000">
                <a:solidFill>
                  <a:srgbClr val="000000"/>
                </a:solidFill>
                <a:latin typeface="Courier New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R  C</a:t>
            </a:r>
            <a:r>
              <a:rPr b="0" lang="en-US" sz="1600" spc="-1" strike="noStrike" baseline="30000">
                <a:solidFill>
                  <a:srgbClr val="000000"/>
                </a:solidFill>
                <a:latin typeface="Courier New"/>
              </a:rPr>
              <a:t>-i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U  C</a:t>
            </a:r>
            <a:r>
              <a:rPr b="0" lang="en-US" sz="1600" spc="-1" strike="noStrike" baseline="30000">
                <a:solidFill>
                  <a:srgbClr val="000000"/>
                </a:solidFill>
                <a:latin typeface="Courier New"/>
              </a:rPr>
              <a:t>-i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R</a:t>
            </a:r>
            <a:r>
              <a:rPr b="0" lang="en-US" sz="1600" spc="-1" strike="noStrike" baseline="30000">
                <a:solidFill>
                  <a:srgbClr val="000000"/>
                </a:solidFill>
                <a:latin typeface="Courier New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C</a:t>
            </a:r>
            <a:r>
              <a:rPr b="0" lang="en-US" sz="1600" spc="-1" strike="noStrike" baseline="30000">
                <a:solidFill>
                  <a:srgbClr val="000000"/>
                </a:solidFill>
                <a:latin typeface="Courier New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H    0   H   Q  Q   E  E   A  A      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    1   F   G  F   S  R   X  Y      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L    2   N   W  U   C  A   U  W      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L    3   O   Y  V   W  T   L  O      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O    4   S   S  O   M  I   V  Z      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    5   B   K  F   S  N   K  P      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O    6   U   A  U   C  W   N  T      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    7   Y   C  V   W  P   T  A      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L    8   T   P  H   D  V   I  Q      Q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    9   M   O  F   S  J   Z  I      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e: Some people started at i=1, since the question was ambiguous, that’s accepta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307CB-9F95-46F4-823C-D795009CDBA7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LM 20060115 9:16</a:t>
            </a: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omework 1-Answer 5 (correct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868680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-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U C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-i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 C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p)=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   i   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ourier New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R  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ourier New"/>
              </a:rPr>
              <a:t>-i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U  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ourier New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R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ourier New"/>
              </a:rPr>
              <a:t>-1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ourier New"/>
              </a:rPr>
              <a:t>-i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H    0   H   Q  Q   E  E   A  A    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    1   F   G  F   S  T   L  K     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    2   N   W  U   C  E   A  Y     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    3   O   Y  V   W  Z   J  G     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    4   S   S  O   M  Q   H  D    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    5   B   K  F   S  X   Q  L    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    6   U   A  U   C  I   V  P     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    7   Y   C  V   W  D   G  K     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    8   T   P  H   D  L   E  D    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    9   M   O  F   S  B   W  N    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7881B-1CFA-49F0-9BEB-FB423033B331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LM 20060115 9:16</a:t>
            </a: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omework 1-Answer 5 (correct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52280" y="1295280"/>
            <a:ext cx="86868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C for 50 letters: about .038 since there are 26 alphab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ired corresponding plain/chosen: 1 or 2 (depends on input).  Saying “a few” or even 1 letter would be acceptable her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lan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“key” is the starting position of the rotor (i).  If you have a single plain/cipher pair, say p and c, you can find an i such th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-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U 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-i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 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p)=c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times a few i’s will work because 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-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-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U 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-i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 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p)= 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-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U 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-j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 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p) can have solutions for i!=j.  So sometimes you need another letter to disambiguate.  [A full explanation is very hard and probabilistic in nature.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phertext only: about 3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BF751-83FC-49A5-83D3-E0ABD57E9871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LM 20060115 9:16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omework 1-Question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6868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crypt the following message using a Vigeniere cipher with direct standard alphabets.  Key: JOSH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ll persons born or naturalized in the United States, an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ubject to the jurisdiction thereof, are citizens of t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nited States and of the state wherein they reside. 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ate shall make or enforce any law which shall abridg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he privileges or immunities of citizens of the Uni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ates; nor shall any state deprive any person of life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liberty, or property, without due process of law; nor den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o any person within its jurisdiction the equal prot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of the law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per case only!  Turn plain and cipher text into 5 letter group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te the index of coincidence of the plaintext and ciphertex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eak the ciphertext into 4 columns.   What is the index of coincidence of each colum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6A6B1-4A64-4DAB-876A-C87A9D840EFA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LM 20060115 9:16</a:t>
            </a: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omework 1-Question 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52280" y="1143000"/>
            <a:ext cx="87631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iven a one rotor machine, M, depicted below with equ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-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U C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-i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 C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p)=c, C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-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U C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-i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 C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p)=c with C, U, R below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: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BCDEFGHIJKLMNOPQRSTUVWXY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KMFLGDQVZNTOWYHXUSPAIBRC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: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ABCDEFGHIJKLMNOPQRSTUVWXY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YRUHQSLDPXNGOKMIEBFZCWVJ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: The cyclic permuta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BCDEFGHIJKLMNOPQRSTUVWXY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BCDEFGHIJKLMNOPQRSTUVWXY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UWYGADFPVZBECKMTHXSLRINQO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28600" y="1600200"/>
            <a:ext cx="28195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1AB0B-66B3-4F66-ABF3-B02BC12670EE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LM 20060115 9:16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omework 1-Answer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53452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LLPE RSONS BORNO RNATU RALIZ EDINT HEUNI TEDST ATESA NDSUB JECT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OTHEJ URISD ICTIO NTHER EOFAR ECITI ZENSO FTHEU NITED STATE SAN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THES TATEW HEREI NTHEY RESID ENOST ATESH ALLMA KEORE NFORC EANY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WWHI CHSHA LLABR IDGET HEPRI VILEG ESORI MMUNI TIESO FCITI ZEN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THEU NITED STATE SNORS HALLA NYSTA TEDEP RIVEA NYPER SONOF LIF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BERT YORPR OPERT YWITH OUTDU EPROC ESSOF LAWNO RDENY TOANY PER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NWITH INITS JURIS DICTI ONTHE EQUAL PROTE CTION OFTHE LAW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h Count   Freq    Ch Count   Freq    Ch Count   Freq    Ch Count   Freq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     49  0.129    T     42  0.111    I     32  0.084    O     29  0.07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     28  0.074    N     28  0.074    R     26  0.069    A     25  0.06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     18  0.047    L     16  0.042    D     13  0.034    U     11  0.02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     10  0.026    C      9  0.024    P      9  0.024    Y      8  0.02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W      7  0.018    B      4  0.011    M      3  0.008    J      3  0.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Z      3  0.008    V      2  0.005    G      2  0.005    K      1  0.00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Q      1  0.003    X      0  0.000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379 characters,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ex of coincidence: 0.069, IC (square approx): 0.07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D49A9-86F0-4A5F-8159-5D15226EF541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LM 20060115 9:16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omework 1-Answer 1 (cont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6033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JZDWN FKVWG TVABG YWOLB AODPI SVPWH ZLDBA ANRKA JHWZJ BVZDP BLLH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CVWQ DFAZM WUARC FAQSJ LXTSY NQAAR NWUBC XAQSM URHWK BHSAN GSUM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XAQSK AJHWD QSJLR BLONM JLBWV LWCKA JHWZQ ODSVO CLXFW UOCJJ NOFF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OODQW UOBVS SUOTY RRYLC VWWAW NPUSY LBCJP VAMUR HALBC XJRHA GNBK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OHZLD BAANR KAJHW ZWCJZ QODSJ BQZCO LLMSH YRJWH WMHLA GGUXT DPOS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KSJA HCJWA CHLAH QDRHZ VDHVB NDJVL SKZXT DHFBG YMSFF CCSUH DWYB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DRHZ PWWLZ SIJPB RAJCW GUCVW LZISS YFGAN QLPXB GMCVW SJK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h Count   Freq    Ch Count   Freq    Ch Count   Freq    Ch Count   Freq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W     29  0.077    A     28  0.074    S     23  0.061    L     23  0.06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J     22  0.058    H     22  0.058    C     20  0.053    B     20  0.05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     18  0.047    V     17  0.045    O     15  0.040    Z     15  0.04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     14  0.037    U     13  0.034    N     12  0.032    Q     12  0.03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     11  0.029    K     11  0.029    P     10  0.026    G     10  0.02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Y      9  0.024    M      9  0.024    X      8  0.021    T      5  0.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      3  0.008    E      0  0.000           0  0.000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379 characters, index of coincidence: 0.045, IC (square approx): 0.04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BB1F3-A95B-4A61-B8A6-00C8A62BAC4B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LM 20060115 9:16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omework 1-Answer 1 (cont further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JNWAW AIWDN JJDLC DMRQX NRBQR BNMQJ QRNBW JQVX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NUQBU RCAUB VRBRN ODNJW QJCMR WAXOK HAARD NLXF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HBRW SBCCZ YNXCJ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umn 1: 95 characters, index of coincidence: 0.058, IC (square approx): 0.06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ZFGBO OSHBR HBPHV FWCST QNCSH HGCSH SBMWC HOOF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OOWVO RVWSC AHCHB HBRHC OBOSJ MGTSS CCHHH DSTB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DCHW IRWVI FQBVK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umn 2: 95 characters, index of coincidence: 0.077, IC (square approx): 0.087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KTGL DVZAK WVBLW AUFJS AWXMW SSXKW JLJVK WDCW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UST YWNYJ MAXAK ZAKWJ DQLHW HGDDJ JHQZV JKDG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WFZL JAGWS GLGWK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umn 3: 95 characters, index of coincidence: 0.060, IC (square approx): 0.070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VVYB PPLAA ZZLVQ ZAALY AUAUK AUAAD LOLLA ZSLU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DOSY LWPLP ULJGV LAAZZ SZLYH LUPPA WLDVB VZHY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YDPZ PJULS AP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umn4: 94 characters, index of coincidence: 0.081, IC (square approx): 0.090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EE05C-76C0-4DD9-9C85-3ED380309CAA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LM 20060115 9:16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omework 1-Question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8680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eak the Vigeniere based ciphertext below.  Plaintext and ciphertext alphabets are direct standar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is the key length?  What is the key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the key length is k, how long a corresponding plain, ciphertext sequence be given to solve?  Can you give an upper bound on the pure ciphertext length neede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GDLK MJSGC FMGEP PLYRC IGDLA TYBMR KDYVY XJGMR TDSVK ZCCWG ZRR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ERXY EEYHE UTOWS ERYWC QRRIP UERXJ QREWQ FPSZC ALDSD ULSWF FFO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IGIY DCSRR AZSRB GNDLC ZYDMM ZQGSS ZBCXM OYBID APRMK IFYWF MJV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HCLSP ZCDLC NYDXJ QYXHD APRMQ IGNSU MLNLG EMBTF MLDSB AYVPU TGML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MWKGF UCFIY ZBMLC DGCLY VSCXY ZBVEQ FGXKN QYMIY YMXKM GPCIJ HCC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SXF MJVRY FGYRQ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60605-E6A1-46DE-A29B-FA96382383E9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LM 20060115 9:16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omework 1 - Answer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3580920"/>
            <a:ext cx="99072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ALDS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APRMK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APRMQ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AZSRB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CSR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GCL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IGI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EYH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MBT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RYWC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04920" y="1066680"/>
            <a:ext cx="868680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2000"/>
          </a:bodyPr>
          <a:p>
            <a:pPr marL="560520" indent="-560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1     2     3     4     5     6     7     8     9     10    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60520" indent="-560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0000"/>
                </a:solidFill>
                <a:uFillTx/>
                <a:latin typeface="Courier New"/>
              </a:rPr>
              <a:t>IGDL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K MJSGC FMGEP PLYRC </a:t>
            </a:r>
            <a:r>
              <a:rPr b="0" lang="en-US" sz="1600" spc="-1" strike="noStrike" u="sng">
                <a:solidFill>
                  <a:srgbClr val="ff0000"/>
                </a:solidFill>
                <a:uFillTx/>
                <a:latin typeface="Courier New"/>
              </a:rPr>
              <a:t>IGDL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 TYBMR KDYVY XJGMR TDSVK ZCCWG Z</a:t>
            </a:r>
            <a:r>
              <a:rPr b="0" lang="en-US" sz="1600" spc="-1" strike="noStrike" u="sng">
                <a:solidFill>
                  <a:srgbClr val="0066cc"/>
                </a:solidFill>
                <a:uFillTx/>
                <a:latin typeface="Courier New"/>
              </a:rPr>
              <a:t>RRIP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60520" indent="-560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66cc"/>
                </a:solidFill>
                <a:uFillTx/>
                <a:latin typeface="Courier New"/>
              </a:rPr>
              <a:t>UERX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Y EEYHE UTOWS ERYWC Q</a:t>
            </a:r>
            <a:r>
              <a:rPr b="0" lang="en-US" sz="1600" spc="-1" strike="noStrike" u="sng">
                <a:solidFill>
                  <a:srgbClr val="0066cc"/>
                </a:solidFill>
                <a:uFillTx/>
                <a:latin typeface="Courier New"/>
              </a:rPr>
              <a:t>RRIP UERX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J QREWQ FPSZC ALDSD ULSWF FFOAM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60520" indent="-560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IGIY DCSRR AZSRB GNDLC ZYDMM ZQGSS ZBCXM OYBI</a:t>
            </a:r>
            <a:r>
              <a:rPr b="0" lang="en-US" sz="1600" spc="-1" strike="noStrike" u="sng">
                <a:solidFill>
                  <a:srgbClr val="33cc33"/>
                </a:solidFill>
                <a:uFillTx/>
                <a:latin typeface="Courier New"/>
              </a:rPr>
              <a:t>D APRM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K IFYWF MJVLY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60520" indent="-560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HCLSP ZCDLC NYDXJ QYXH</a:t>
            </a:r>
            <a:r>
              <a:rPr b="0" lang="en-US" sz="1600" spc="-1" strike="noStrike" u="sng">
                <a:solidFill>
                  <a:srgbClr val="33cc33"/>
                </a:solidFill>
                <a:uFillTx/>
                <a:latin typeface="Courier New"/>
              </a:rPr>
              <a:t>D APRM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Q IGNSU MLNLG EMBTF MLDSB AYVPU TGMLK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60520" indent="-560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MWKGF UCFIY ZBMLC DGCLY VSCXY ZBVEQ FGXKN QYMIY YMXKM GPCIJ HCCEL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60520" indent="-560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SXF MJVRY FGYRQ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60520" indent="-560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ourier New"/>
              </a:rPr>
              <a:t>First Repetition: 20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1600" spc="-1" strike="noStrike">
                <a:solidFill>
                  <a:srgbClr val="0066cc"/>
                </a:solidFill>
                <a:latin typeface="Courier New"/>
              </a:rPr>
              <a:t>Second: 25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 </a:t>
            </a:r>
            <a:r>
              <a:rPr b="0" lang="en-US" sz="1600" spc="-1" strike="noStrike">
                <a:solidFill>
                  <a:srgbClr val="33cc33"/>
                </a:solidFill>
                <a:latin typeface="Courier New"/>
              </a:rPr>
              <a:t>Third: 53.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(20,25,35)=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057400" y="3581280"/>
            <a:ext cx="99072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609480" indent="-6094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FOA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GXK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GYRQ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MGEP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PSZ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GNDL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GPCIJ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CC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CLSP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52680" y="3581280"/>
            <a:ext cx="99072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609480" indent="-6094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YWF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GDL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GDLK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GNSU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KDYVY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MJSG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MJV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MJVRY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MLDSB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MLNL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MWKGF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724280" y="3581280"/>
            <a:ext cx="99072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609480" indent="-6094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NYDXJ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OYB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LYR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SXF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QREWQ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QRRIP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QYMIY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QYXH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TDSVK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TGML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TYBM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19920" y="3581280"/>
            <a:ext cx="99036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609480" indent="-6094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UCFIY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UERXJ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UERXY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ULSWF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UTOW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VSCXY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XJGM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YMXK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YVPU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315200" y="3581280"/>
            <a:ext cx="99072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609480" indent="-6094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ZBCX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ZBML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ZBVEQ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ZCCW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ZCDL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ZQGS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ZRR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ZYD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F1509-670C-4C37-AEA8-C270539641C9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LM 20060115 9:16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omework 1-Answer 2 (cont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52280" y="914040"/>
            <a:ext cx="8686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5788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ull Cip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h Count   Freq    Ch Count   Freq    Ch Count   Freq    Ch Count   Freq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Y     23  0.079    M     21  0.072    C     19  0.066    R     18  0.06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G     17  0.059    L     16  0.055    D     16  0.055    S     15  0.05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F     13  0.045    I     12  0.041    P     11  0.038    E     11  0.03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urier New"/>
              </a:rPr>
              <a:t>X     10  0.034    Z     10  0.034    Q      9  0.031    B      8  0.02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urier New"/>
              </a:rPr>
              <a:t>K      8  0.028    U      8  0.028    W      7  0.024    A      7  0.02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urier New"/>
              </a:rPr>
              <a:t>J      7  0.024    V      7  0.024    N      5  0.017    T      5  0.01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      4  0.014    O      3  0.010           0  0.000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90 characters, index of coincidence: 0.044, IC (square approx): 0.047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28600" y="3581280"/>
            <a:ext cx="86868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5000"/>
          </a:bodyPr>
          <a:p>
            <a:pPr marL="578880" indent="-578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olumn 1 of 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78880" indent="-578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h Count   Freq    Ch Count   Freq    Ch Count   Freq    Ch Count   Freq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78880" indent="-578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urier New"/>
              </a:rPr>
              <a:t>Z      8  0.138    M      6  0.103    A      5  0.086    U      5  0.08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78880" indent="-578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urier New"/>
              </a:rPr>
              <a:t>F      5  0.086    I      4  0.069    Q      4  0.069    T      3  0.05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78880" indent="-578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urier New"/>
              </a:rPr>
              <a:t>D      3  0.052    E      3  0.052    H      2  0.034    P      2  0.03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78880" indent="-578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G      2  0.034    O      1  0.017    K      1  0.017    V      1  0.01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78880" indent="-578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X      1  0.017    Y      1  0.017    N      1  0.017    S      0  0.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78880" indent="-578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B      0  0.000    C      0  0.000    J      0  0.000    W      0  0.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78880" indent="-578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L      0  0.000    R      0  0.000           0  0.000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78880" indent="-578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58 characters, index of coincidence: 0.059, IC (square approx): 0.075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B2EEF-D026-4DCD-A27E-4B597E355FAE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LM 20060115 9:16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07T23:01:52Z</dcterms:created>
  <dc:creator>John Manferdelli</dc:creator>
  <dc:description/>
  <dc:language>en-US</dc:language>
  <cp:lastModifiedBy>John L Manferdelli</cp:lastModifiedBy>
  <dcterms:modified xsi:type="dcterms:W3CDTF">2006-01-20T20:14:34Z</dcterms:modified>
  <cp:revision>2627</cp:revision>
  <dc:subject/>
  <dc:title>An Introduction to Cryptography</dc:title>
</cp:coreProperties>
</file>