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33F-2585-4EC2-9933-1BE8953F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D7F-7FE0-48A1-BE24-BDDFD158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47F-7C5F-4B34-BF64-09982AD1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343-EA4C-4534-BE99-0DC0414D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ED78-A407-4775-AA2A-8D7D519D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E9C9-B536-4264-98BF-D9D242EE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269A-4425-45CC-8E5F-65DD1BB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F26-CF94-4FFC-9D0D-915446D7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247A-75B1-49DE-990F-07C4133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A8A8-7F56-4FF9-8DA4-B47A189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D5E8-E6EA-4CB7-A046-852030D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2F2-6B2C-473B-BC6A-F3FBDABF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D779-D865-4158-BEB2-F58B6E6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9BC-A4FE-4DAE-82A8-6264876C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C47F-B224-49FC-9F8F-A312B03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5095-77BE-430E-BCBA-3C3534D0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A69B-3E88-458A-85D2-892F3A36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683-7F4D-4D16-9A24-073B3787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6BF-7A0E-4856-BFF5-07414311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7FF-8ECA-4284-A49C-6993708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8F9-23CC-4119-ABC2-7B68348F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0E7-15F1-4AB0-8012-C3DC09E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FBC-8DB7-4525-ADC3-D1C5B974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A87-177C-4341-9BD7-B56D5CE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F38-0C53-4C52-932E-A0BAF8334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95280"/>
            <a:ext cx="914256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514240"/>
            <a:ext cx="1909800" cy="1909800"/>
            <a:chOff x="0" y="2514240"/>
            <a:chExt cx="1909800" cy="1909800"/>
          </a:xfrm>
        </p:grpSpPr>
        <p:sp>
          <p:nvSpPr>
            <p:cNvPr id="43" name=""/>
            <p:cNvSpPr/>
            <p:nvPr/>
          </p:nvSpPr>
          <p:spPr>
            <a:xfrm rot="16200000">
              <a:off x="544320" y="325224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300600" y="221328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F0B-51FD-4DD2-BBA0-028258F73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%7Bjlm@cs.washington.edu" TargetMode="External"/><Relationship Id="rId2" Type="http://schemas.openxmlformats.org/officeDocument/2006/relationships/hyperlink" Target="mailto:jmanfer@microsoft.co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i.net/kalliste/des.htm" TargetMode="External"/><Relationship Id="rId2" Type="http://schemas.openxmlformats.org/officeDocument/2006/relationships/hyperlink" Target="http://www.itl.nist.gov/fipspubs/fip46-2.ht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Cryp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yptographic Has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2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44080" y="3908520"/>
            <a:ext cx="287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Manferd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jlm@cs.washington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jmanfer@microsof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105520"/>
            <a:ext cx="8610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ons © 2004-2005, John Manferdelli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terial is provided without warranty of any kind including, without limitation, warranty of non-infringement or suitability for any purpose.  This material is not guaranteed to be error free and is intended for instructional use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635-9722-4D0E-8BD4-A2693B319F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2 of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G      7  0.121    Y      7  0.121    C      6  0.103    L      5  0.0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      4  0.069    R      4  0.069    J      4  0.069    E      3  0.0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B      3  0.052    M      3  0.052    F      2  0.034    D      2  0.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Q      1  0.017    N      1  0.017    S      1  0.017    T      1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1  0.017    W      1  0.017    I      1  0.017    Z      1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O      0  0.000    K      0  0.000    V      0  0.000    H      0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      0  0.000    A      0  0.00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58, IC(square approx): 0.0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6576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3 of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      8  0.138    S      7  0.121    R      6  0.103    C      6  0.1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Y      6  0.103    V      4  0.069    G      4  0.069    B      3  0.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X      3  0.052    M      3  0.052    O      2  0.034    N      2  0.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F      1  0.017    E      1  0.017    K      1  0.017    L      1  0.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P      0  0.000    Q      0  0.000    A      0  0.000    T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0  0.000    H      0  0.000    W      0  0.000    I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      0  0.000    Z      0  0.000           0  0.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71, IC (square approx): 0.08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8F5-C563-44E4-8D18-9A041C3243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4 of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L      9  0.155    I      7  0.121    W      6  0.103    X      6  0.1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      5  0.086    M      5  0.086    R      5  0.086    E      3  0.0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H      2  0.034    V      2  0.034    G      2  0.034    K      2  0.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A      1  0.017    P      1  0.017    T      1  0.017    Z      1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C      0  0.000    Q      0  0.000    D      0  0.000    J      0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0  0.000    F      0  0.000    B      0  0.000    N      0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     0  0.000    O      0  0.00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75, IC (square approx): 0.09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36576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5 of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Y      9  0.155    C      7  0.121    F      5  0.086    M      4  0.0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      4  0.069    Q      4  0.069    K      4  0.069    J      3  0.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R      3  0.052    D      3  0.052    G      2  0.034    S      2  0.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U      2  0.034    B      2  0.034    A      1  0.017    N      1  0.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E      1  0.017    L      1  0.017    H      0  0.000    O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T      0  0.000    I      0  0.000    V      0  0.000    W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X      0  0.000    Z      0  0.000           0  0.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63, IC (square approx): 0.07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126-126F-4A88-B72D-0524349774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normal alphabet against input alphabet and check d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=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d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((i+s)(mod 26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 the cipher alphabet frequency,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 the normal alphabet freq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5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8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8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2 (M)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.0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6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 (Y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8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.0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7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07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05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7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   0.07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6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7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6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7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6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   0.07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07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7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6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06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6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6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7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4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07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7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4 (Y)   0.01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7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F5D-3A5E-4B85-AF8F-7C816F50BB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normal alphabet against input alphabet and check d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=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d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((i+s)(mod 26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 the cipher alphabet frequency,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 the normal alphabet freq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7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09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08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8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   0.07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8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8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9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9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7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0 (K)   0.03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7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09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6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7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08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7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9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8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7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7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10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9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 (Y)   0.04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4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10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1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6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4 (E)   0.02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8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7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6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8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   0.09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8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1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2209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9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8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7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7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5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5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7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9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09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8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4 (Y)   0.08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8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9CB-0EA3-4CAD-904B-290E2446B4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 normal alphabet against input alphabet and check dist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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=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d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((i+s)(mod 26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s the cipher alphabet frequency,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s the normal alphabet frequ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057400"/>
            <a:ext cx="259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 (A)   0.0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1 (B)   0.06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2 (C)   0.06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3 (D)   0.08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4 (E)   0.08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5 (F)   0.05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6 (G)   0.07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7 (H)   0.07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8 (I)   0.08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9 (J)   0.06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 (K)   0.05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(L)   0.0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 (M)   0.05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2057400"/>
            <a:ext cx="259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phabe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i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 (N)   0.06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4 (O)   0.07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5 (P)   0.08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(Q)   0.06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7 (R)   0.07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8 (S)   0.08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 (T)   0.08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 (U)   0.04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1 (V)   0.08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2 (W)   0.07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3 (X)   0.06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4 (Y)   0.02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 (Z)   0.0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128-3BE7-459D-924F-2180D78BC8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g Tabl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NOPQRSTUVWXYZABCDEFGHIJ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ZABCDEFGHIJKLMNOPQRSTUVW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LMNOPQRSTUVWXYZABCDEFGH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GHIJKLMNOPQRSTUVWXYZ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ZABCDEFGHIJKLMNOPQRSTUVW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921-D2B6-4CA7-BBC4-EB8F5BDF7C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THM ALICE TOWAR DNONE WITHC HARIT YFORA LL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FIRM NESSI NTHER IGHTA SGODG IVESU STOSE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GHTL ETUSS TRIVE ONTOF INISH THEWO RKWEA RE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IND UPTHE NATIO NSWOU NDSTO CAREF ORHIM WH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HA VEBOR NETHE BATTL EANDF ORHIS WIDOW AND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PH ANTOD OALLW HICHM AYACH IEVEA NDCHE RI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USTA NDLAS TINGP EACEA MONGO URSEL VESAN 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NA 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 Length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: MY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ing plain/cipher required: 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 only&lt; 25k [assuming 25 letters are required to identify one letter with high certainty, a pretty conservative assumption.  You could argue it was as small as about 8k.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87C-B8D6-4816-9482-78DF1E1840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message source M(x) with the following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: P(x=0)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: P(x=1)= q, with p+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one time pad selected from distribution P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(x=0)=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(x=1)=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ciphertext formed by “xoring” the message m with the pad p, so that c= m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iphertext distribution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H(M), H(P), H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:  I(M|C)= H(M)-H(M|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, P: P(x=0)=3/4 and P(x=1)=1/4.  What is the ciphertext distribution and H(M), H(P), H(C) and I(M|C)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293-F5EA-4B08-B7D2-FE1314B23C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0)= P(m=0)P(p=0)+P(m=1)P(p=1)= p(1/2)+q(1/2)=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1)= P(m=1)P(p=0)+P(m=0)P(p=1)= p(1/2)+q(1/2)=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)= -p lg(p) – q lg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P)= -1/2 lg(1/2) – 1/2 lg(1/2)= 1 (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C)= 1 (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,C)= P(M=0,C=0) lg(P(M=0,C=0) )+P(M=0,C=1) lg(P(M=0,C=1) 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1,C=0) lg(P(M=1,C=0) )+P(M=1,C=1) lg(P(M=1,C=1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0,C=0)= p/2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H(M) – H(M|C)= H(M)+H(C) – H(M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-p lg(p) – q lg(q) +1 + p/2 lg(p/2) + q/2 lg(q/2) + p/2 lg(p/2) + q/2 lg(q/2) = -p lg(p) –q lg(q) +1 +p lg(p/2)+q(lg(q/2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277-A204-4E4C-BB91-74B198D6DA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3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0)= P(m=0)P(p=0)+P(m=1)P(p=1)= p(3/4)+q(1/4)= (3p+q)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c=1)= P(m=1)P(p=0)+P(m=0)P(p=1)= p(1/4)+q(3/4)= (3q+p)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)= -p lg(p) – q lg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P)= -3/4 lg(3/4) – 1/4 lg(1/4)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81 (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C)=  -(3p+q)/4 lg((3p+q)/4) -(3q+p)/4 lg((3q+p)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M,C)= P(M=0,C=0) lg(P(M=0,C=0) )+P(M=0,C=1) lg(P(M=0,C=1) 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1,C=0) lg(P(M=1,C=0) )+P(M=1,C=1) lg(P(M=1,C=1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=0,C=0)= 3p/4, P(M=0,C=1)= p/4, P(M=1,C=0)= 3q/4, P(M=1,C=1)= q/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H(M) – H(M|C)=H(M)+H(C) –H(M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M|C)= -p lg(p) – q lg(q) -(3p+q)/4 lg((3p+q)/4) -(3q+p)/4 lg((3q+p)/4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p/4 lg(3p/4)+p/4 lg(p/4)+3q/4 lg(3q/4)+q/4 lg(q/4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3p+q)/4 lg((3p+q)/4) -(3q+p)/4 lg((3q+p)/4)+ 3/4 lg(3/4) + 1/4 lg(1/4) </a:t>
            </a:r>
            <a:r>
              <a:rPr b="1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(3p+q)/4 lg((3p+q)/4) -(3q+p)/4 lg((3q+p)/4)-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f you didn’t simplify,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D8F-DD3A-412E-8CD1-07F24A6496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DES description by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http://www.aci.net/kalliste/des.ht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http://www.itl.nist.gov/fipspubs/fip46-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need to know DES well for next class as well as for problem number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A78-4A84-4C39-BCE9-1B16C078DB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utput of the first two rounds of DES with input message  0x3132333435363738  0x343332313837363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to round 1 (after initial permutation) and the first 2 round keys are given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ixed key, DES is a permutation on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t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how many such permutations are there?  (Hint: Use Stirling’s approximation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is to the size of the key space for 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1 Key:   01001111 01010111 00000111 10111001 01011100 10101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2 Key:   00101111 00100111 01101001 00111011 01111111 0010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to DES:   00110100 00110011 00110010 001100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11000 00110111 00110110 00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1 Input:  00000000 11111111 11100001 10101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 11111111 00010000 01100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752480"/>
            <a:ext cx="2514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BB8-0C51-47E0-9501-454249FB2D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EY: 0xabcdef89abcdef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S Input: desin.txt, Output: desout.bin, Key: 00abcdefabcdef89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1 Key:  01001111 01010111 00000111 10111001 01011100 101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2 Key:  00101111 00100111 01101001 00111011 01111111 001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3 Key:  11001011 01010100 10111001 10111000 01001001 1011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4 Key:  11011101 10001011 11011000 11000101 01101010 000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5 Key:  00010110 11111010 10001011 11110111 00100010 1101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6 Key:  00111011 00111101 01000110 10110001 10010011 01001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7 Key:  01101000 01101100 11001101 00010110 10110110 1010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8 Key:  01010001 11100101 00111100 01111100 00101101 1110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09 Key:  11010110 11001100 11101100 01100110 11110000 1010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0 Key:  11011010 11100011 00100010 11100010 00101101 1110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1 Key:  10101000 10011111 00101111 10101110 10011011 0001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2 Key:  11100001 00110010 01001111 01010111 01010111 0111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3 Key:  00100001 11011110 11110000 01011101 10001001 0110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4 Key:  11010100 01111001 11110010 11000000 11111100 0101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5 Key:  10110110 11100111 01010001 01101001 10110110 1011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ound 16 Key:  10101110 01111001 00010111 10001010 11110110 0011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96E-5BF5-4626-8325-BEA7CDCF20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4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to DES:        00110100 00110011 00110010 001100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11000 00110111 00110110 00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IP:            00000000 11111111 11100001 10101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 11111111 00010000 01100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1  f:         00100101 00001011 10111110 111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round 01:      00000000 11111111 00010000 011001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11110100 01011111 010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02  f:         10000000 00110000 00111001 1110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ter round 02:      00100101 11110100 01011111 010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000000 11001111 00101001 1000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9EC-F5DF-4236-B48A-9DE0C1E4F9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4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rling:  N!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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) (N/e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Math1Mono"/>
                <a:ea typeface="Math1Mono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 [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024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R=N!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the ratio of the sizes.  Let r= ln(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=  ½ ln(2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) + N ln(N/e)-56 ln(2). r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½ (1+45)-39+ 1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64  ln(2) -1)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8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4  ln(2)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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=exp(7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an unfathomably large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 may have “rounded” differently or expressed the answer as a power of 2.  That’s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CBA-F0AA-43AE-A120-848D29552E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4 (Addend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1 Input:    L: 00000000 11111111 11100001 10101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: 00000000 11111111 00010000 01100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0011 110101 011100 000111 101110 010101 110010 101011 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 000001 011111 111110 100010 100000 001100 001100  E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0011 110100 000011 111001 001100 110101 111110 100111  K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/1001 2/1010 1/0001 3/1100 0/0110 3/1010 2/1111 3/0011  Row/In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      c      7      c      b      1      2      7       S box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110   1100   0111   1100   1011   0001   0010   0111    A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   0101   0000   1011   1011   1110   1111   0100    Apply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00001011 10111110 11110100    f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000000 11111111 11100001 10101010   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11110100 01011111 01011110    L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: R||L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nd 1 Output:      00000000 11111111 00010000 011001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0100101 11110100 01011111 01011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87F-D674-44FC-A7F7-BC297B01706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one rotor machine, M, depicted below 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,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C, U, R bel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KMFLGDQVZNTOWYHXUSPAIBR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UHQSLDPXNGOKMIEBFZCWV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he cyclic permutation 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230720"/>
            <a:ext cx="368280" cy="1359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230720"/>
            <a:ext cx="368280" cy="1359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5346720"/>
            <a:ext cx="2425680" cy="901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051440" y="5029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30200" y="5035680"/>
            <a:ext cx="927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15800" y="4883040"/>
            <a:ext cx="996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53000" y="4356000"/>
            <a:ext cx="242568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41800" y="472392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511280" y="4910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5640" y="47242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440" y="47242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64440" y="43974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1640" y="561672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09680" y="503568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11280" y="5214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43160" y="488304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80040" y="48895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6765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ACA-8EBB-4B4B-8EE4-EED9198EFC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5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ciphertext derived from the plaintex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LOWOR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think the index of coincidence of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50 letter message 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key was the “starting position,” i=0 (if you started at i=1, it’s OK), of M, how many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rresponding plain/cipher text would you need to find the key?  How many ciphertext only let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y be help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WYGADFPVZBECKMTHXSLRINQ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FE2-412C-49CF-B3EC-678D74C2ADF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5 (as ask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   i  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 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U 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    0   H   Q  Q   E  E   A  A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    1   F   G  F   S  R   X  Y     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   2   N   W  U   C  A   U  W     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   3   O   Y  V   W  T   L  O     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    4   S   S  O   M  I   V  Z  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    5   B   K  F   S  N   K  P     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    6   U   A  U   C  W   N  T     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    7   Y   C  V   W  P   T  A   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   8   T   P  H   D  V   I  Q      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    9   M   O  F   S  J   Z  I     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Some people started at i=1, since the question was ambiguous, that’s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745-FF84-40EE-98A1-D2F51FFE502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5 (corr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   i  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R 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U 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urier New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   0   H   Q  Q   E  E   A  A  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   1   F   G  F   S  T   L  K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2   N   W  U   C  E   A  Y 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3   O   Y  V   W  Z   J  G   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    4   S   S  O   M  Q   H  D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    5   B   K  F   S  X   Q  L    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    6   U   A  U   C  I   V  P    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    7   Y   C  V   W  D   G  K    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    8   T   P  H   D  L   E  D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   9   M   O  F   S  B   W  N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E94-18D3-4B97-BD4C-F6324B8A7A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5 (corr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 for 50 letters: about .038 since there are 26 alphab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corresponding plain/chosen: 1 or 2 (depends on input).  Saying “a few” or even 1 letter would be acceptable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key” is the starting position of the rotor (i).  If you have a single plain/cipher pair, say p and c, you can find an i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=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a few i’s will work because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=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 can have solutions for i!=j.  So sometimes you need another letter to disambiguate.  [A full explanation is very hard and probabilistic in nature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 only: about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0E0-947D-439F-A180-AE54279D28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the following message using a Vigeniere cipher with direct standard alphabets.  Key: JO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 persons born or naturalized in the United States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ject to the jurisdiction thereof, are citizens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ted States and of the state wherein they reside.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 shall make or enforce any law which shall abrid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privileges or immunities of citizens of the Un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es; nor shall any state deprive any person of lif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berty, or property, without due process of law; nor d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any person within its jurisdiction the equal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f the law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case only!  Turn plain and cipher text into 5 letter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index of coincidence of the plaintext and cipher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ciphertext into 4 columns.   What is the index of coincidence of each colum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E51-B1EE-4963-B02C-814903ADA7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one rotor machine, M, depicted below with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,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=c with C, U, R bel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KMFLGDQVZNTOWYHXUSPAIBRC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UHQSLDPXNGOKMIEBFZCWV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he cyclic permu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WYGADFPVZBECKMTHXSLRINQ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60020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FB5-ED3F-43F7-8923-BFBB628E79A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PE RSONS BORNO RNATU RALIZ EDINT HEUNI TEDST ATESA NDSUB JEC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THEJ URISD ICTIO NTHER EOFAR ECITI ZENSO FTHEU NITED STATE S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HES TATEW HEREI NTHEY RESID ENOST ATESH ALLMA KEORE NFORC EAN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WWHI CHSHA LLABR IDGET HEPRI VILEG ESORI MMUNI TIESO FCITI Z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HEU NITED STATE SNORS HALLA NYSTA TEDEP RIVEA NYPER SONOF LIF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BERT YORPR OPERT YWITH OUTDU EPROC ESSOF LAWNO RDENY TOANY PE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WITH INITS JURIS DICTI ONTHE EQUAL PROTE CTION OFTHE LA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     49  0.129    T     42  0.111    I     32  0.084    O     29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     28  0.074    N     28  0.074    R     26  0.069    A     25  0.0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     18  0.047    L     16  0.042    D     13  0.034    U     11  0.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     10  0.026    C      9  0.024    P      9  0.024    Y      8  0.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  7  0.018    B      4  0.011    M      3  0.008    J      3 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      3  0.008    V      2  0.005    G      2  0.005    K      1  0.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     1  0.003    X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79 character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x of coincidence: 0.069, IC (square approx): 0.0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92A-0767-464F-B03D-6C7526FA3E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1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ZDWN FKVWG TVABG YWOLB AODPI SVPWH ZLDBA ANRKA JHWZJ BVZDP BLLH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CVWQ DFAZM WUARC FAQSJ LXTSY NQAAR NWUBC XAQSM URHWK BHSAN GSU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AQSK AJHWD QSJLR BLONM JLBWV LWCKA JHWZQ ODSVO CLXFW UOCJJ NOFF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DQW UOBVS SUOTY RRYLC VWWAW NPUSY LBCJP VAMUR HALBC XJRHA GNBK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HZLD BAANR KAJHW ZWCJZ QODSJ BQZCO LLMSH YRJWH WMHLA GGUXT DPO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KSJA HCJWA CHLAH QDRHZ VDHVB NDJVL SKZXT DHFBG YMSFF CCSUH DWY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DRHZ PWWLZ SIJPB RAJCW GUCVW LZISS YFGAN QLPXB GMCVW SJK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     29  0.077    A     28  0.074    S     23  0.061    L     23  0.0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     22  0.058    H     22  0.058    C     20  0.053    B     20  0.0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    18  0.047    V     17  0.045    O     15  0.040    Z     15  0.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     14  0.037    U     13  0.034    N     12  0.032    Q     12  0.0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     11  0.029    K     11  0.029    P     10  0.026    G     10  0.0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      9  0.024    M      9  0.024    X      8  0.021    T      5  0.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     3  0.008    E      0  0.00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79 characters, index of coincidence: 0.045, IC (square approx): 0.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497-F784-446A-BD2F-31052E85EB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1 (cont furth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NWAW AIWDN JJDLC DMRQX NRBQR BNMQJ QRNBW JQVX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UQBU RCAUB VRBRN ODNJW QJCMR WAXOK HAARD NLX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BRW SBCCZ YNXC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1: 95 characters, index of coincidence: 0.058, IC (square approx): 0.0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FGBO OSHBR HBPHV FWCST QNCSH HGCSH SBMWC HOO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OWVO RVWSC AHCHB HBRHC OBOSJ MGTSS CCHHH DST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DCHW IRWVI FQBV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2: 95 characters, index of coincidence: 0.077, IC (square approx): 0.08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KTGL DVZAK WVBLW AUFJS AWXMW SSXKW JLJVK WDCW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UST YWNYJ MAXAK ZAKWJ DQLHW HGDDJ JHQZV JKD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FZL JAGWS GLGW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3: 95 characters, index of coincidence: 0.060, IC (square approx): 0.0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VVYB PPLAA ZZLVQ ZAALY AUAUK AUAAD LOLLA ZSLU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DOSY LWPLP ULJGV LAAZZ SZLYH LUPPA WLDVB VZHY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YDPZ PJULS AP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4: 94 characters, index of coincidence: 0.081, IC (square approx): 0.0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324-5982-415F-B891-808FE9D3EB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Vigeniere based ciphertext below.  Plaintext and ciphertext alphabets are direc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key length?  What is the ke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key length is k, how long a corresponding plain, ciphertext sequence be given to solve?  Can you give an upper bound on the pure ciphertext length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GDLK MJSGC FMGEP PLYRC IGDLA TYBMR KDYVY XJGMR TDSVK ZCCWG ZR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ERXY EEYHE UTOWS ERYWC QRRIP UERXJ QREWQ FPSZC ALDSD ULSWF FFO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GIY DCSRR AZSRB GNDLC ZYDMM ZQGSS ZBCXM OYBID APRMK IFYWF MJV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CLSP ZCDLC NYDXJ QYXHD APRMQ IGNSU MLNLG EMBTF MLDSB AYVPU TGM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WKGF UCFIY ZBMLC DGCLY VSCXY ZBVEQ FGXKN QYMIY YMXKM GPCIJ HC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XF MJVRY FGYR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D1D-B3A5-44B8-8FEF-F1A8B10EED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 - Answe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3580920"/>
            <a:ext cx="990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D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RM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RM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ZSR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CSR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GC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GI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EY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MBT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RYW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066680"/>
            <a:ext cx="8686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    2     3     4     5     6     7     8     9     10   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ourier New"/>
              </a:rPr>
              <a:t>IGD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MJSGC FMGEP PLYRC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ourier New"/>
              </a:rPr>
              <a:t>IGD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TYBMR KDYVY XJGMR TDSVK ZCCWG Z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ourier New"/>
              </a:rPr>
              <a:t>RRI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Courier New"/>
              </a:rPr>
              <a:t>UER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 EEYHE UTOWS ERYWC Q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ourier New"/>
              </a:rPr>
              <a:t>RRIP UER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 QREWQ FPSZC ALDSD ULSWF FFOAM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GIY DCSRR AZSRB GNDLC ZYDMM ZQGSS ZBCXM OYBI</a:t>
            </a:r>
            <a:r>
              <a:rPr b="0" lang="en-US" sz="1600" spc="-1" strike="noStrike" u="sng">
                <a:solidFill>
                  <a:srgbClr val="33cc33"/>
                </a:solidFill>
                <a:uFillTx/>
                <a:latin typeface="Courier New"/>
              </a:rPr>
              <a:t>D APR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K IFYWF MJVLY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CLSP ZCDLC NYDXJ QYXH</a:t>
            </a:r>
            <a:r>
              <a:rPr b="0" lang="en-US" sz="1600" spc="-1" strike="noStrike" u="sng">
                <a:solidFill>
                  <a:srgbClr val="33cc33"/>
                </a:solidFill>
                <a:uFillTx/>
                <a:latin typeface="Courier New"/>
              </a:rPr>
              <a:t>D APR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IGNSU MLNLG EMBTF MLDSB AYVPU TGMLK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WKGF UCFIY ZBMLC DGCLY VSCXY ZBVEQ FGXKN QYMIY YMXKM GPCIJ HCCEL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XF MJVRY FGYRQ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First Repetition: 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600" spc="-1" strike="noStrike">
                <a:solidFill>
                  <a:srgbClr val="0066cc"/>
                </a:solidFill>
                <a:latin typeface="Courier New"/>
              </a:rPr>
              <a:t>Second: 2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en-US" sz="1600" spc="-1" strike="noStrike">
                <a:solidFill>
                  <a:srgbClr val="33cc33"/>
                </a:solidFill>
                <a:latin typeface="Courier New"/>
              </a:rPr>
              <a:t>Third: 53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20,25,35)=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F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XK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YR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MG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PSZ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DL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PCI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C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CLS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YW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GD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GDL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GNS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KDYV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JSG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JV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JV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LDS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LNL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WKG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YDX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YB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LYR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SX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REW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RRI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YMI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YXH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DSV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GM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YBM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581280"/>
            <a:ext cx="990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CFI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ERX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ER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SW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C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JGM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MXK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VP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581280"/>
            <a:ext cx="99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BCX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BML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BVEQ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CCW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CDL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QG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RR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YD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98D-4CE4-466D-A571-1BF1E82C92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 1-Answer 2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ll Ci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Y     23  0.079    M     21  0.072    C     19  0.066    R     18  0.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G     17  0.059    L     16  0.055    D     16  0.055    S     15  0.0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F     13  0.045    I     12  0.041    P     11  0.038    E     11  0.0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X     10  0.034    Z     10  0.034    Q      9  0.031    B      8  0.0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K      8  0.028    U      8  0.028    W      7  0.024    A      7  0.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J      7  0.024    V      7  0.024    N      5  0.017    T      5  0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      4  0.014    O      3  0.010           0  0.0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0 characters, index of coincidence: 0.044, IC (square approx): 0.0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58128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 1 of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 Count   Freq    Ch Count   Freq    Ch Count   Freq    Ch Count   Fr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Z      8  0.138    M      6  0.103    A      5  0.086    U      5  0.0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F      5  0.086    I      4  0.069    Q      4  0.069    T      3  0.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urier New"/>
              </a:rPr>
              <a:t>D      3  0.052    E      3  0.052    H      2  0.034    P      2  0.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G      2  0.034    O      1  0.017    K      1  0.017    V      1  0.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X      1  0.017    Y      1  0.017    N      1  0.017    S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B      0  0.000    C      0  0.000    J      0  0.000    W      0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L      0  0.000    R      0  0.000           0  0.00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8 characters, index of coincidence: 0.059, IC (square approx): 0.0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154-8874-4059-AD11-79E6997EE1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115 9:1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3:01:52Z</dcterms:created>
  <dc:creator>John Manferdelli</dc:creator>
  <dc:description/>
  <dc:language>en-US</dc:language>
  <cp:lastModifiedBy>John L Manferdelli</cp:lastModifiedBy>
  <dcterms:modified xsi:type="dcterms:W3CDTF">2006-01-20T20:14:34Z</dcterms:modified>
  <cp:revision>2627</cp:revision>
  <dc:subject/>
  <dc:title>An Introduction to Cryptography</dc:title>
</cp:coreProperties>
</file>