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A1F-91CE-4CBD-9A32-FDBED0D0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B73-8B0C-4359-8906-4F80F5A6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254-ED13-4CF7-91EE-4B28A4BF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C01-A056-45DF-8E00-7AF07843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D5D-348D-43C6-9202-F19D744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5AF23-E877-482F-921A-414BE5E0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CB25D-5F5F-4349-8E69-BA304044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4A073-D714-4AB7-8663-C10E81E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B7156-1158-4D47-8EF2-FE949459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B5181-E48B-47AB-9F9F-A66CEFE8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C78-8A45-4FD7-AD1B-4D773A6C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BEC61-CC5D-4C64-9802-5934CA0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C9123-0A42-4569-A610-9BC2B3B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005BF-CA5F-4914-97B8-82A5FD8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9694F-C62C-455D-9CE8-38E278A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3474D-6BCB-4462-A277-03E27E68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AF2A0-FC61-4B4B-8C07-5ADC572A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434D6-93D7-44D6-9C39-491D90AD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455-C80F-4357-AE1E-62B1229C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5810E0-9130-47D4-A8AB-40DD09AE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362-C78B-4C46-AEB5-6E5E328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4A8A3C-14D2-4836-A0A8-A7E25E88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18E39-0D0E-4036-BB39-FF0F24F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2FAA9-B492-4AC4-8EAA-C027EBCE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9347A-4BAA-487C-93E1-0A175EC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EAFEF-E443-4FB0-9491-57FBD4B0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097B6-0BF4-4F06-AFA9-CA7C6D6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75A37-8842-4D07-928F-3EC329E5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5F5119-CF66-4046-9C31-30C4C86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4F2BF-1D68-45AA-9EB7-D6BA8A28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B484B-1AD5-4444-8679-89CF15FF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810-F648-47EF-AED5-EC87427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12685-A2F3-4A76-9375-97FD262C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3AF28-0908-489A-BAA0-6F2EA472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D5B713-9C61-4031-9C0A-21111BEC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820A4-0C9F-4E9E-BAE2-B1986D5F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3AB80-CE1B-4953-8E6F-90B77918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410BE-E3C8-4C7C-817E-9533DF69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2F619-FEB1-4277-97AF-0D0EA009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5ED527-1617-4509-A3B5-BD53656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9FDB3-A348-4DCA-84D6-C7E0F2C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4CC6B2-B16D-4ECA-B521-F18BE57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7E9-6CB1-40C5-8108-D6EB3C18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34EC9-1F7D-4505-A7D7-784A67C0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356FBB-910F-4062-9B98-A2552E20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261E62-3A1F-46EB-A78A-689F4DA0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3FF-2168-4813-8DFB-0C97124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360-B315-49B5-9396-D50AF4F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B92-AC78-42D4-9793-53FA6068957F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FF52-0373-4706-BCD1-70B5E24E9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DCB-EFC8-4CB3-8895-B1DA67050CAE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063-006D-4ED2-A7EA-694F9600865B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BD65-176B-4A29-8A99-6EA6E68F6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8EF-B5D4-431D-9218-33DA5ADDD3FF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1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F1F0-1B33-43DE-A43C-AA4088B06353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2"/>
          </p:nvPr>
        </p:nvSpPr>
        <p:spPr>
          <a:xfrm>
            <a:off x="685440" y="647676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3"/>
          </p:nvPr>
        </p:nvSpPr>
        <p:spPr>
          <a:xfrm>
            <a:off x="4419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722-DB90-434E-950A-779010236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1523880"/>
            <a:ext cx="9132840" cy="152280"/>
            <a:chOff x="0" y="1523880"/>
            <a:chExt cx="9132840" cy="152280"/>
          </a:xfrm>
        </p:grpSpPr>
        <p:sp>
          <p:nvSpPr>
            <p:cNvPr id="183" name=""/>
            <p:cNvSpPr/>
            <p:nvPr/>
          </p:nvSpPr>
          <p:spPr>
            <a:xfrm>
              <a:off x="0" y="152388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63800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90720"/>
            <a:ext cx="9142560" cy="12952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2514240"/>
            <a:ext cx="1909800" cy="1909800"/>
            <a:chOff x="0" y="2514240"/>
            <a:chExt cx="1909800" cy="1909800"/>
          </a:xfrm>
        </p:grpSpPr>
        <p:sp>
          <p:nvSpPr>
            <p:cNvPr id="223" name=""/>
            <p:cNvSpPr/>
            <p:nvPr/>
          </p:nvSpPr>
          <p:spPr>
            <a:xfrm rot="16200000">
              <a:off x="544320" y="325224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00600" y="221328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61ED-A11C-42E8-827F-58260A9C640B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DFD7-B409-487C-BBD1-91A35C2D1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Assignment #1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Solution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276720" y="3968280"/>
            <a:ext cx="5333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nuary 10, 20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2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cannot be done mod 1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 12 is even regardless of the value of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Therefore 2 does not have a mod 12 multiplicative in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01B32492-1AF4-4376-A429-80BB8E235032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3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41592653589793238462643383279502884197169399375105820974944592307816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4D3C780E-9151-4738-B526-6C321D6C5877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3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3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9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5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4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1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…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6FE4269A-ED1B-4603-94EB-054A91404D07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4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718281828459045235360287471352662497757247093699959574966967627724076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B3FE5AA5-6DEB-40DC-8C30-8D9B5C3F7D68}" type="datetime3">
              <a:rPr lang="en-US"/>
              <a:t>July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4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2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4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8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16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32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…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6D4FB49D-D144-49D9-B70E-1D977ECABC3E}" type="datetime3">
              <a:rPr lang="en-US"/>
              <a:t>July 29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5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prime, then for integers a such that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66ff66"/>
                </a:solidFill>
                <a:latin typeface="Times New Roman"/>
              </a:rPr>
              <a:t>p</a:t>
            </a:r>
            <a:r>
              <a:rPr b="0" i="1" lang="en-US" sz="1200" spc="-1" strike="noStrike" baseline="30000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-</a:t>
            </a:r>
            <a:r>
              <a:rPr b="0" lang="en-US" sz="1200" spc="-1" strike="noStrike" baseline="30000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is fact to show that 65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C62F68F4-DE71-4FA2-A515-B97F88BB4C4B}" type="datetime3">
              <a:rPr lang="en-US"/>
              <a:t>July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5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2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4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≠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us 65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5B5A746E-8DFE-4D3B-9011-05C88B665BBF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6F7D0F1C-4211-4E4D-825D-955CD88C1BA8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                 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there exist integers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ch that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F216E6B5-1BA3-4277-AA12-43183760BB93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                              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0 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refore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F3802B35-62C3-4134-BB4A-9FA073DFA9A1}" type="datetime3">
              <a:rPr lang="en-US"/>
              <a:t>July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                 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there exist integers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ch that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626642AD-4D12-48BA-B924-7C767038CFBF}" type="datetime3">
              <a:rPr lang="en-US"/>
              <a:t>July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                              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0 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refore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7B897B6F-D97C-44B5-89AD-627DCE8DB9F5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2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mod 11 multiplicative inverse of each value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rang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&lt; 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FC4B3EE6-123E-45CF-86EB-74714974D9A3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2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706320"/>
                <a:gridCol w="706680"/>
                <a:gridCol w="706320"/>
                <a:gridCol w="706320"/>
                <a:gridCol w="706680"/>
                <a:gridCol w="707760"/>
                <a:gridCol w="706680"/>
                <a:gridCol w="706320"/>
                <a:gridCol w="706320"/>
                <a:gridCol w="706680"/>
                <a:gridCol w="706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BA6D8CE7-FDFE-49ED-A0D1-AEBAA9A46892}" type="datetime3">
              <a:rPr lang="en-US"/>
              <a:t>July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2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706320"/>
                <a:gridCol w="706680"/>
                <a:gridCol w="706320"/>
                <a:gridCol w="706320"/>
                <a:gridCol w="706680"/>
                <a:gridCol w="707760"/>
                <a:gridCol w="706680"/>
                <a:gridCol w="706320"/>
                <a:gridCol w="706320"/>
                <a:gridCol w="706680"/>
                <a:gridCol w="706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49D7189B-D64D-42B0-BFC2-706F97EF1667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3:01:52Z</dcterms:created>
  <dc:creator>Josh Benaloh</dc:creator>
  <dc:description/>
  <dc:language>en-US</dc:language>
  <cp:lastModifiedBy>Josh Benaloh</cp:lastModifiedBy>
  <dcterms:modified xsi:type="dcterms:W3CDTF">2006-01-10T08:00:38Z</dcterms:modified>
  <cp:revision>137</cp:revision>
  <dc:subject/>
  <dc:title>An Introduction to Cryptography</dc:title>
</cp:coreProperties>
</file>