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97.png" ContentType="image/png"/>
  <Override PartName="/ppt/media/image90.jpeg" ContentType="image/jpeg"/>
  <Override PartName="/ppt/media/image60.png" ContentType="image/png"/>
  <Override PartName="/ppt/media/image65.png" ContentType="image/png"/>
  <Override PartName="/ppt/media/image66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91.jpeg" ContentType="image/jpeg"/>
  <Override PartName="/ppt/media/image67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75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74.png" ContentType="image/png"/>
  <Override PartName="/ppt/media/image96.png" ContentType="image/png"/>
  <Override PartName="/ppt/media/image95.png" ContentType="image/png"/>
  <Override PartName="/ppt/media/image88.png" ContentType="image/png"/>
  <Override PartName="/ppt/media/image76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89.jpeg" ContentType="image/jpe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82.png" ContentType="image/pn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6FB-0715-40F6-BEFD-D3C66718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AA05-C069-40CB-8129-6F08206D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093-4686-45DC-987A-0980CFD1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5CAB-3654-41E8-BF5D-EF49A187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FAA-F385-4AF7-BE22-D4454EE4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625-05F6-4BEC-8BD4-8BD3B4B7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B214-F6DD-420E-824D-3733CA3E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A29F-DE8C-497C-BF8E-B4E33F8F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703D-4250-46EE-A719-EFDC1D13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53B-142D-4484-AE8D-F74AD3BC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D52-BF25-4433-A772-485AA0F7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96E-333F-4FA1-BD19-ABA79B5B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26E9-6F5F-43EE-9B35-A29278C1B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29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5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9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48.png"/><Relationship Id="rId7" Type="http://schemas.openxmlformats.org/officeDocument/2006/relationships/image" Target="../media/image71.png"/><Relationship Id="rId8" Type="http://schemas.openxmlformats.org/officeDocument/2006/relationships/image" Target="../media/image72.png"/><Relationship Id="rId9" Type="http://schemas.openxmlformats.org/officeDocument/2006/relationships/image" Target="../media/image73.png"/><Relationship Id="rId10" Type="http://schemas.openxmlformats.org/officeDocument/2006/relationships/image" Target="../media/image74.png"/><Relationship Id="rId1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5.png"/><Relationship Id="rId9" Type="http://schemas.openxmlformats.org/officeDocument/2006/relationships/image" Target="../media/image76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8.pn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8.png"/><Relationship Id="rId5" Type="http://schemas.openxmlformats.org/officeDocument/2006/relationships/image" Target="../media/image9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93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6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45000" y="76320"/>
            <a:ext cx="918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SEP 590tv: Quantum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69880" y="838080"/>
            <a:ext cx="25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Ba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 10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63880" y="1905120"/>
            <a:ext cx="239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oday’s M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41680" y="259092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2400" y="327672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’s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43120" y="4572000"/>
            <a:ext cx="52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Communication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42760" y="3886200"/>
            <a:ext cx="58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ment and Quantum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41320" y="518148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ment as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51720" y="0"/>
            <a:ext cx="478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pecial Rel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5812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1337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80320" y="35053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0600" y="1828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8160" y="609480"/>
            <a:ext cx="82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al relativi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physics is the same in all inertial reference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speed of light is same in all reference fr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35812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21337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852320" y="35053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02600" y="1828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28800" y="2437920"/>
            <a:ext cx="1143000" cy="1143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400800" y="2437920"/>
            <a:ext cx="1143000" cy="1143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5320" y="52578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 fram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59600" y="52578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 fram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438280"/>
            <a:ext cx="990720" cy="2514600"/>
          </a:xfrm>
          <a:custGeom>
            <a:avLst/>
            <a:gdLst/>
            <a:ahLst/>
            <a:rect l="l" t="t" r="r" b="b"/>
            <a:pathLst>
              <a:path w="432" h="1392">
                <a:moveTo>
                  <a:pt x="432" y="1392"/>
                </a:moveTo>
                <a:cubicBezTo>
                  <a:pt x="376" y="1272"/>
                  <a:pt x="320" y="1152"/>
                  <a:pt x="288" y="1056"/>
                </a:cubicBezTo>
                <a:cubicBezTo>
                  <a:pt x="256" y="960"/>
                  <a:pt x="256" y="928"/>
                  <a:pt x="240" y="816"/>
                </a:cubicBezTo>
                <a:cubicBezTo>
                  <a:pt x="224" y="704"/>
                  <a:pt x="232" y="520"/>
                  <a:pt x="192" y="384"/>
                </a:cubicBezTo>
                <a:cubicBezTo>
                  <a:pt x="152" y="248"/>
                  <a:pt x="76" y="124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2438280"/>
            <a:ext cx="609840" cy="2438640"/>
          </a:xfrm>
          <a:custGeom>
            <a:avLst/>
            <a:gdLst/>
            <a:ahLst/>
            <a:rect l="l" t="t" r="r" b="b"/>
            <a:pathLst>
              <a:path w="432" h="1392">
                <a:moveTo>
                  <a:pt x="432" y="1392"/>
                </a:moveTo>
                <a:cubicBezTo>
                  <a:pt x="376" y="1272"/>
                  <a:pt x="320" y="1152"/>
                  <a:pt x="288" y="1056"/>
                </a:cubicBezTo>
                <a:cubicBezTo>
                  <a:pt x="256" y="960"/>
                  <a:pt x="256" y="928"/>
                  <a:pt x="240" y="816"/>
                </a:cubicBezTo>
                <a:cubicBezTo>
                  <a:pt x="224" y="704"/>
                  <a:pt x="232" y="520"/>
                  <a:pt x="192" y="384"/>
                </a:cubicBezTo>
                <a:cubicBezTo>
                  <a:pt x="152" y="248"/>
                  <a:pt x="76" y="124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50280" y="449568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acetime path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4680" y="2590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800600" y="274320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895120" y="2590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562720" y="449532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209320" y="4647960"/>
            <a:ext cx="8384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18080" y="0"/>
            <a:ext cx="35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multane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35812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21337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91080" y="3581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2000" y="1828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2560" y="838080"/>
            <a:ext cx="74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special relativity, the idea of simultaneity is rel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720" y="52578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 fram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09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120" y="38862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6920" y="2895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35812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1337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62880" y="3581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3800" y="1828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8520" y="52578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 fram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35528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35481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9960" y="36576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8720" y="31240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4560" y="35812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02480" y="21337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04600" y="3124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04280" y="1828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09000" y="52578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 fram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6896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8336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0400" y="29718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74200" y="38098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1004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0040" y="5867280"/>
            <a:ext cx="797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t events are seen as occurring in a different ord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ending on the reference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151720" y="0"/>
            <a:ext cx="478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pecial Rel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35812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21337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91080" y="3581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2000" y="1828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6720" y="50292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 fram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809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120" y="38862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6920" y="2895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35812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62880" y="3581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3800" y="1828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8520" y="50292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 fram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35528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35481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9960" y="36576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78720" y="31240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54560" y="35812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02480" y="21337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004600" y="3124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04280" y="1828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09000" y="50292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 fram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68960" y="3352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8336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0400" y="29718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74200" y="38098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1004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1905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3720" y="762120"/>
            <a:ext cx="897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al: I do something at my location and time such that you ca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ditional on what I do, act conditionally at your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200" y="5730840"/>
            <a:ext cx="901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I try to send a signal from A to B, then in some reference fra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 acts before A sends the signal.  Better not allow thi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flipV="1">
            <a:off x="3124080" y="2895120"/>
            <a:ext cx="2743200" cy="1371600"/>
          </a:xfrm>
          <a:custGeom>
            <a:avLst/>
            <a:gdLst/>
            <a:ahLst/>
            <a:rect l="l" t="t" r="r" b="b"/>
            <a:pathLst>
              <a:path w="1728" h="864">
                <a:moveTo>
                  <a:pt x="48" y="816"/>
                </a:moveTo>
                <a:lnTo>
                  <a:pt x="864" y="0"/>
                </a:lnTo>
                <a:lnTo>
                  <a:pt x="1728" y="864"/>
                </a:lnTo>
                <a:lnTo>
                  <a:pt x="0" y="864"/>
                </a:lnTo>
                <a:lnTo>
                  <a:pt x="864" y="0"/>
                </a:ln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267080"/>
            <a:ext cx="2743200" cy="1371600"/>
          </a:xfrm>
          <a:custGeom>
            <a:avLst/>
            <a:gdLst/>
            <a:ahLst/>
            <a:rect l="l" t="t" r="r" b="b"/>
            <a:pathLst>
              <a:path w="1728" h="864">
                <a:moveTo>
                  <a:pt x="48" y="816"/>
                </a:moveTo>
                <a:lnTo>
                  <a:pt x="864" y="0"/>
                </a:lnTo>
                <a:lnTo>
                  <a:pt x="1728" y="864"/>
                </a:lnTo>
                <a:lnTo>
                  <a:pt x="0" y="864"/>
                </a:lnTo>
                <a:lnTo>
                  <a:pt x="864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51720" y="0"/>
            <a:ext cx="478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pecial Rel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65400" y="42670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13320" y="28195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9480" y="40384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15120" y="2438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40" y="777960"/>
            <a:ext cx="922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all inertial observers moving through the origin, there are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ions of spacetime which are preserved between inertial fram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200400" y="2895120"/>
            <a:ext cx="266688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50680" y="32004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5638680" y="31237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029200" y="350532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45560" y="33526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590920" y="312372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657600"/>
            <a:ext cx="914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962520" y="5257440"/>
            <a:ext cx="75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57080" y="6019920"/>
            <a:ext cx="9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8840" y="18288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tu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228600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8720" y="449568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sewhe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42640" y="45720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sewhe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51720" y="0"/>
            <a:ext cx="478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pecial Rel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58880" y="3809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97160" y="23623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28080" y="3886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98960" y="19810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5080" y="762120"/>
            <a:ext cx="86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Alice and Bob both live in each other’s “elsewhere” th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793880" y="2437920"/>
            <a:ext cx="266688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93880" y="251460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81280" y="2437920"/>
            <a:ext cx="266724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92600" y="236232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049400" y="3124080"/>
          <a:ext cx="59508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9400" y="3124080"/>
                    <a:ext cx="59508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1873080" y="3824280"/>
            <a:ext cx="1270080" cy="800280"/>
          </a:xfrm>
          <a:custGeom>
            <a:avLst/>
            <a:gdLst/>
            <a:ahLst/>
            <a:rect l="l" t="t" r="r" b="b"/>
            <a:pathLst>
              <a:path w="800" h="504">
                <a:moveTo>
                  <a:pt x="0" y="144"/>
                </a:moveTo>
                <a:cubicBezTo>
                  <a:pt x="272" y="324"/>
                  <a:pt x="544" y="504"/>
                  <a:pt x="672" y="480"/>
                </a:cubicBezTo>
                <a:cubicBezTo>
                  <a:pt x="800" y="456"/>
                  <a:pt x="784" y="228"/>
                  <a:pt x="76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6680" y="457200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858000" y="213372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076720" y="2743200"/>
            <a:ext cx="1828800" cy="914400"/>
          </a:xfrm>
          <a:custGeom>
            <a:avLst/>
            <a:gdLst/>
            <a:ahLst/>
            <a:rect l="l" t="t" r="r" b="b"/>
            <a:pathLst>
              <a:path w="1152" h="576">
                <a:moveTo>
                  <a:pt x="1152" y="0"/>
                </a:moveTo>
                <a:cubicBezTo>
                  <a:pt x="988" y="12"/>
                  <a:pt x="824" y="24"/>
                  <a:pt x="720" y="96"/>
                </a:cubicBezTo>
                <a:cubicBezTo>
                  <a:pt x="616" y="168"/>
                  <a:pt x="648" y="352"/>
                  <a:pt x="528" y="432"/>
                </a:cubicBezTo>
                <a:cubicBezTo>
                  <a:pt x="408" y="512"/>
                  <a:pt x="204" y="544"/>
                  <a:pt x="0" y="57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98600" y="35053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98320" y="563868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ll such setups “space-like separa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044440" y="0"/>
            <a:ext cx="496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184320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184320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184320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184320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184320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184320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184320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29000" y="184320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91320" y="19810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5880" y="1981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00800" y="1981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248520" y="1795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9588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010280" y="1981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5200" y="1981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0120" y="19810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467480" y="1795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1520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91320" y="3048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95880" y="3048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3048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248520" y="286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25146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3048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3048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3048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7467480" y="286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15200" y="25146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91320" y="4114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4114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00800" y="4114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248520" y="3928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9588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114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15200" y="4114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20120" y="4114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7467480" y="3928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1520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5181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5181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248520" y="49957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95880" y="4648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10280" y="5181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15200" y="5181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0120" y="5181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467480" y="49957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4648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840" y="9907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ular automata (C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5640" y="17524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9840" y="76212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5105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5105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5105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57400" y="5105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5105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5105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71800" y="5105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30040" y="5029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0040" y="4495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4572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4572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7180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040" y="396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4038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57400" y="4038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362320" y="4038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4038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38080" y="571500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rule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1120" y="327672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olution of a 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044440" y="0"/>
            <a:ext cx="496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907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952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447920" y="1871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95280" y="1523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8880" y="83808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 rules ar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733920" y="1143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4340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4340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03848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33920" y="1447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733920" y="1752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03848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4340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434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0384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1143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5288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48320" y="1447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1752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5780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2578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483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62720" y="1143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728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7220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62720" y="1447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562720" y="1752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6728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672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77120" y="1143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78168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8660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8168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477120" y="1447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77120" y="1752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78168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866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816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771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3848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34340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0384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339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7339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0384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434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3434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7339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483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5288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2578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528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483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2578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578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95288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483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62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86728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7220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722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8672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562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627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722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771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8168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8660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866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816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771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771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816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8168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771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73392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03848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34340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34340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03848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733920" y="3886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733920" y="4191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03848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34340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4340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03848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733920" y="4495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4832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5288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25780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25780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95288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48320" y="3886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48320" y="4191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95288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5780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648320" y="4495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6272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86728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7220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86728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562720" y="3886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62720" y="4191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86728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7220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17220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86728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562720" y="4495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47712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78168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8660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08660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8168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477120" y="3886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477120" y="4191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08660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08660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8168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477120" y="4495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926840" y="2743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7696080" y="114264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657600" y="495288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889800" y="50292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422600" y="5562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 “Spaceti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044440" y="0"/>
            <a:ext cx="496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9907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952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447920" y="1871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95280" y="1523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8880" y="83808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 rules ar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33920" y="11430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038480" y="11430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343400" y="11430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43400" y="14479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38480" y="14479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33920" y="1447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733920" y="1752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343400" y="17524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3434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0384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7339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648320" y="11430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1430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57800" y="11430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257800" y="14479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4479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48320" y="1447920"/>
            <a:ext cx="30456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175248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17524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57800" y="17524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0574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952880" y="20574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48320" y="20574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62720" y="11430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867280" y="11430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72200" y="11430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14479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867280" y="14479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562720" y="1447920"/>
            <a:ext cx="30456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562720" y="175248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867280" y="17524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72200" y="17524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72200" y="20574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867280" y="20574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2720" y="20574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477120" y="11430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781680" y="11430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11430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14479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14479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477120" y="1447920"/>
            <a:ext cx="30456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77120" y="175248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781680" y="17524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8660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0866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7816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477120" y="20574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339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03848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4340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3434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0384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339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7339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0384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434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434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03848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7339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483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952880" y="23623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257800" y="23623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57800" y="26668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528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6483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6483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9528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578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2578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95288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6483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562720" y="2362320"/>
            <a:ext cx="30456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867280" y="23623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172200" y="23623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1722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26668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562720" y="266688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562720" y="2971800"/>
            <a:ext cx="304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8672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1722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1722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86728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5627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4771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78168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08660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0866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7816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4771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4771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7816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0866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0866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78168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771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73392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03848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34340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34340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03848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733920" y="3886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733920" y="4191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03848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34340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03848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733920" y="4495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4832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95288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25780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95288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648320" y="3886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648320" y="4191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95288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25780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25780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5288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648320" y="4495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56272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86728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17220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17220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86728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562720" y="3886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562720" y="4191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86728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7220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17220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62720" y="4495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47712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8168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08660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78168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477120" y="3886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477120" y="4191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78168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8660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8660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81680" y="4495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477120" y="4495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926840" y="2743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696080" y="114264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3657600" y="495288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889800" y="50292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600440" y="54864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 “Spaceti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3352680" y="3123720"/>
            <a:ext cx="2057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0280" y="2895480"/>
            <a:ext cx="322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ging thi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only every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lue states (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8080" y="449568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ite speed of sign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2044440" y="0"/>
            <a:ext cx="496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9907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6002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1447920" y="1871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295280" y="1523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08880" y="83808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 rules ar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733920" y="1143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03848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4340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34340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03848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33920" y="1447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733920" y="1752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3434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0384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339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648320" y="1143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95288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648320" y="1447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648320" y="1752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95288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5780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528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6483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562720" y="1143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86728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17220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17220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1447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562720" y="1752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6728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17220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1722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8672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5627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477120" y="1143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78168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086600" y="1143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08660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781680" y="1447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477120" y="1447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477120" y="17524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78168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086600" y="17524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08660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781680" y="2057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477120" y="20574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7339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34340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3434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0384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7339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7339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0384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3434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434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03848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7339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6483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5288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25780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2578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9528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6483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6483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9528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257800" y="32767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5288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6483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5627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86728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7220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1722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8672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627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562720" y="2971800"/>
            <a:ext cx="304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8672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22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22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867280" y="32767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562720" y="3276720"/>
            <a:ext cx="30456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477120" y="23623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78168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086600" y="23623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08660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781680" y="26668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477120" y="26668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4771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7816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0866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08660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781680" y="3276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477120" y="3276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73392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03848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34340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34340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03848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733920" y="3886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733920" y="4191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03848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343400" y="41911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343400" y="44956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038480" y="44956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733920" y="4495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64832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35812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257800" y="35812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257800" y="38862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952880" y="38862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648320" y="388620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648320" y="4191120"/>
            <a:ext cx="30456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952880" y="41911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257800" y="41911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257800" y="44956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952880" y="44956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44956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562720" y="35812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867280" y="35812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172200" y="35812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172200" y="38862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867280" y="38862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562720" y="388620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562720" y="4191120"/>
            <a:ext cx="30456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867280" y="41911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172200" y="41911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172200" y="44956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867280" y="44956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562720" y="44956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477120" y="3581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78168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086600" y="3581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08660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781680" y="3886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477120" y="388620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477120" y="4191120"/>
            <a:ext cx="30456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81680" y="41911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086600" y="4191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086600" y="44956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781680" y="44956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7120" y="449568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926840" y="2743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7696080" y="114264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3657600" y="495288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889800" y="50292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600440" y="54864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 “Spaceti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3352680" y="3123720"/>
            <a:ext cx="2057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-720" y="2987640"/>
            <a:ext cx="372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state is a func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tates in red (the p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080" y="426708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ite speed of sign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373040" y="76320"/>
            <a:ext cx="629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ipartite Entang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533520" y="1371600"/>
          <a:ext cx="5950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7543800" y="13716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1905120" y="18288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629400" y="18288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223640" y="23623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947200" y="24382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82680" y="3352680"/>
            <a:ext cx="841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will be interested in situations where Alice and Bob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acelike separated.  It is in these setups, where they can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e, that quantum theory becomes inter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76600" y="76320"/>
            <a:ext cx="37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4480" y="106668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s on f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200" y="1981080"/>
            <a:ext cx="837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st lecture will be a non-technical summary of the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quantum information science we didn’t c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cryptography, quantum error correc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communication, physical implem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us probably a little something on some far off topics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information and the black hole information parad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610920" y="0"/>
            <a:ext cx="779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eparable States: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533520" y="914400"/>
          <a:ext cx="5950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8" name="" descr=""/>
          <p:cNvPicPr/>
          <p:nvPr/>
        </p:nvPicPr>
        <p:blipFill>
          <a:blip r:embed="rId3"/>
          <a:stretch/>
        </p:blipFill>
        <p:spPr>
          <a:xfrm>
            <a:off x="7543800" y="9144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1905120" y="13716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629400" y="13716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223640" y="19051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947200" y="19810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32920" y="2819520"/>
            <a:ext cx="85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lice acts on her qubit, while Bob does nothing, the re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is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4"/>
          <a:stretch/>
        </p:blipFill>
        <p:spPr>
          <a:xfrm>
            <a:off x="4038480" y="3770280"/>
            <a:ext cx="816120" cy="26820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228600" y="4191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Bob acts on his qubit, while Alice does nothing, the re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is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5"/>
          <a:stretch/>
        </p:blipFill>
        <p:spPr>
          <a:xfrm>
            <a:off x="3968640" y="4952880"/>
            <a:ext cx="831960" cy="26856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231120" y="5410080"/>
            <a:ext cx="49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of these preserve separ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6"/>
          <a:stretch/>
        </p:blipFill>
        <p:spPr>
          <a:xfrm>
            <a:off x="592200" y="5867280"/>
            <a:ext cx="6799320" cy="385920"/>
          </a:xfrm>
          <a:prstGeom prst="rect">
            <a:avLst/>
          </a:prstGeom>
          <a:ln w="0">
            <a:noFill/>
          </a:ln>
        </p:spPr>
      </p:pic>
      <p:pic>
        <p:nvPicPr>
          <p:cNvPr id="819" name="" descr=""/>
          <p:cNvPicPr/>
          <p:nvPr/>
        </p:nvPicPr>
        <p:blipFill>
          <a:blip r:embed="rId7"/>
          <a:stretch/>
        </p:blipFill>
        <p:spPr>
          <a:xfrm>
            <a:off x="7391520" y="6400800"/>
            <a:ext cx="1601640" cy="38412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307440" y="6400800"/>
            <a:ext cx="42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bout entangled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268280" y="0"/>
            <a:ext cx="657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hmidt De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533520" y="533520"/>
          <a:ext cx="5950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4" name="" descr=""/>
          <p:cNvPicPr/>
          <p:nvPr/>
        </p:nvPicPr>
        <p:blipFill>
          <a:blip r:embed="rId3"/>
          <a:stretch/>
        </p:blipFill>
        <p:spPr>
          <a:xfrm>
            <a:off x="7543800" y="53352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1905120" y="9907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29400" y="99072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222560" y="15238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012800" y="15238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31480" y="205740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bipartite quantum systems can be expressed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4"/>
          <a:stretch/>
        </p:blipFill>
        <p:spPr>
          <a:xfrm>
            <a:off x="1447920" y="2743200"/>
            <a:ext cx="4405320" cy="97776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146520" y="3886200"/>
            <a:ext cx="75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some choice of basis of the two parties,         an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5"/>
          <a:stretch/>
        </p:blipFill>
        <p:spPr>
          <a:xfrm>
            <a:off x="2590920" y="838080"/>
            <a:ext cx="318960" cy="26856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6"/>
          <a:stretch/>
        </p:blipFill>
        <p:spPr>
          <a:xfrm>
            <a:off x="6103800" y="812880"/>
            <a:ext cx="289080" cy="30456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7"/>
          <a:stretch/>
        </p:blipFill>
        <p:spPr>
          <a:xfrm>
            <a:off x="6302520" y="3962520"/>
            <a:ext cx="527040" cy="33480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8"/>
          <a:stretch/>
        </p:blipFill>
        <p:spPr>
          <a:xfrm>
            <a:off x="7554960" y="3959280"/>
            <a:ext cx="527040" cy="33480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9"/>
          <a:stretch/>
        </p:blipFill>
        <p:spPr>
          <a:xfrm>
            <a:off x="6324480" y="2679840"/>
            <a:ext cx="2384640" cy="97776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880" y="44197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0"/>
          <a:stretch/>
        </p:blipFill>
        <p:spPr>
          <a:xfrm>
            <a:off x="838080" y="5181480"/>
            <a:ext cx="6639120" cy="68904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11"/>
          <a:stretch/>
        </p:blipFill>
        <p:spPr>
          <a:xfrm>
            <a:off x="1523880" y="4419720"/>
            <a:ext cx="5608800" cy="68868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12"/>
          <a:stretch/>
        </p:blipFill>
        <p:spPr>
          <a:xfrm>
            <a:off x="833400" y="5943600"/>
            <a:ext cx="5033880" cy="73512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13"/>
          <a:stretch/>
        </p:blipFill>
        <p:spPr>
          <a:xfrm>
            <a:off x="6095880" y="5943600"/>
            <a:ext cx="301320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268280" y="0"/>
            <a:ext cx="657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hmidt De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533520" y="533520"/>
          <a:ext cx="5950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6" name="" descr=""/>
          <p:cNvPicPr/>
          <p:nvPr/>
        </p:nvPicPr>
        <p:blipFill>
          <a:blip r:embed="rId3"/>
          <a:stretch/>
        </p:blipFill>
        <p:spPr>
          <a:xfrm>
            <a:off x="7543800" y="53352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1905120" y="9907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629400" y="99072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222560" y="15238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7012800" y="15238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31480" y="205740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bipartite quantum systems can be expressed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4"/>
          <a:stretch/>
        </p:blipFill>
        <p:spPr>
          <a:xfrm>
            <a:off x="1447920" y="2743200"/>
            <a:ext cx="4405320" cy="97776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6520" y="3886200"/>
            <a:ext cx="75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some choice of basis of the two parties,         an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5"/>
          <a:stretch/>
        </p:blipFill>
        <p:spPr>
          <a:xfrm>
            <a:off x="2590920" y="838080"/>
            <a:ext cx="318960" cy="26856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6"/>
          <a:stretch/>
        </p:blipFill>
        <p:spPr>
          <a:xfrm>
            <a:off x="6103800" y="812880"/>
            <a:ext cx="289080" cy="30456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7"/>
          <a:stretch/>
        </p:blipFill>
        <p:spPr>
          <a:xfrm>
            <a:off x="6302520" y="3962520"/>
            <a:ext cx="527040" cy="33480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8"/>
          <a:stretch/>
        </p:blipFill>
        <p:spPr>
          <a:xfrm>
            <a:off x="7554960" y="3959280"/>
            <a:ext cx="527040" cy="3348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9"/>
          <a:stretch/>
        </p:blipFill>
        <p:spPr>
          <a:xfrm>
            <a:off x="6324480" y="2679840"/>
            <a:ext cx="2384640" cy="97776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182880" y="4572000"/>
            <a:ext cx="81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only one     is nonzero (and hence equal to one)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wave function is 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10"/>
          <a:stretch/>
        </p:blipFill>
        <p:spPr>
          <a:xfrm>
            <a:off x="7707240" y="4111560"/>
            <a:ext cx="527040" cy="33516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11"/>
          <a:stretch/>
        </p:blipFill>
        <p:spPr>
          <a:xfrm>
            <a:off x="2389320" y="4724280"/>
            <a:ext cx="288720" cy="22248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303840" y="5486400"/>
            <a:ext cx="77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us we can use Schmidt form to test for entang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610920" y="0"/>
            <a:ext cx="782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tangled States: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533520" y="914400"/>
          <a:ext cx="5950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>
            <a:off x="7543800" y="9144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1905120" y="13716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629400" y="13716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223640" y="19051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947200" y="19810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2920" y="2819520"/>
            <a:ext cx="85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lice acts on her qubit, while Bob does nothing, the re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is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4"/>
          <a:stretch/>
        </p:blipFill>
        <p:spPr>
          <a:xfrm>
            <a:off x="4038480" y="3770280"/>
            <a:ext cx="816120" cy="26820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228600" y="4191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Bob acts on his qubit, while Alice does nothing, the re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ary is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5"/>
          <a:stretch/>
        </p:blipFill>
        <p:spPr>
          <a:xfrm>
            <a:off x="3968640" y="4952880"/>
            <a:ext cx="831960" cy="26856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230760" y="5410080"/>
            <a:ext cx="52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of these preserve entang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610920" y="0"/>
            <a:ext cx="782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tangled States: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533520" y="914400"/>
          <a:ext cx="5950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9" name="" descr=""/>
          <p:cNvPicPr/>
          <p:nvPr/>
        </p:nvPicPr>
        <p:blipFill>
          <a:blip r:embed="rId3"/>
          <a:stretch/>
        </p:blipFill>
        <p:spPr>
          <a:xfrm>
            <a:off x="7543800" y="9144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1905120" y="13716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629400" y="13716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223640" y="19051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947200" y="19810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4"/>
          <a:stretch/>
        </p:blipFill>
        <p:spPr>
          <a:xfrm>
            <a:off x="2362320" y="2743200"/>
            <a:ext cx="4405320" cy="977760"/>
          </a:xfrm>
          <a:prstGeom prst="rect">
            <a:avLst/>
          </a:prstGeom>
          <a:ln w="0">
            <a:noFill/>
          </a:ln>
        </p:spPr>
      </p:pic>
      <p:pic>
        <p:nvPicPr>
          <p:cNvPr id="885" name="" descr=""/>
          <p:cNvPicPr/>
          <p:nvPr/>
        </p:nvPicPr>
        <p:blipFill>
          <a:blip r:embed="rId5"/>
          <a:stretch/>
        </p:blipFill>
        <p:spPr>
          <a:xfrm>
            <a:off x="1371600" y="3886200"/>
            <a:ext cx="6156360" cy="97776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3963960" y="4876920"/>
            <a:ext cx="329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 a change of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es not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6"/>
          <a:stretch/>
        </p:blipFill>
        <p:spPr>
          <a:xfrm>
            <a:off x="6477120" y="5334120"/>
            <a:ext cx="288720" cy="22212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7"/>
          <a:stretch/>
        </p:blipFill>
        <p:spPr>
          <a:xfrm>
            <a:off x="1433520" y="5915160"/>
            <a:ext cx="816120" cy="26820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8"/>
          <a:stretch/>
        </p:blipFill>
        <p:spPr>
          <a:xfrm>
            <a:off x="2978280" y="5904000"/>
            <a:ext cx="831600" cy="268200"/>
          </a:xfrm>
          <a:prstGeom prst="rect">
            <a:avLst/>
          </a:prstGeom>
          <a:ln w="0">
            <a:noFill/>
          </a:ln>
        </p:spPr>
      </p:pic>
      <p:sp>
        <p:nvSpPr>
          <p:cNvPr id="890" name=""/>
          <p:cNvSpPr/>
          <p:nvPr/>
        </p:nvSpPr>
        <p:spPr>
          <a:xfrm>
            <a:off x="296640" y="5791320"/>
            <a:ext cx="68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nce             and            preserve entang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2440080" y="0"/>
            <a:ext cx="418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ocal Unit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2" name=""/>
          <p:cNvGraphicFramePr/>
          <p:nvPr/>
        </p:nvGraphicFramePr>
        <p:xfrm>
          <a:off x="533520" y="914400"/>
          <a:ext cx="5950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4" name="" descr=""/>
          <p:cNvPicPr/>
          <p:nvPr/>
        </p:nvPicPr>
        <p:blipFill>
          <a:blip r:embed="rId3"/>
          <a:stretch/>
        </p:blipFill>
        <p:spPr>
          <a:xfrm>
            <a:off x="7543800" y="9144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1905120" y="13716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629400" y="13716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223640" y="19051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947200" y="19810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4"/>
          <a:stretch/>
        </p:blipFill>
        <p:spPr>
          <a:xfrm>
            <a:off x="4038480" y="2895480"/>
            <a:ext cx="1219320" cy="989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350712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5071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490560" y="228600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 unit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5"/>
          <a:stretch/>
        </p:blipFill>
        <p:spPr>
          <a:xfrm>
            <a:off x="1754280" y="4191120"/>
            <a:ext cx="1218960" cy="9889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232560" y="44956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901240" y="44956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6"/>
          <a:stretch/>
        </p:blipFill>
        <p:spPr>
          <a:xfrm>
            <a:off x="6323040" y="4191120"/>
            <a:ext cx="1219320" cy="98892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4801320" y="44956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470000" y="44956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880880" y="60199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3581280" y="5715000"/>
            <a:ext cx="1219320" cy="98892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2059920" y="60199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505320" y="5410080"/>
            <a:ext cx="1447560" cy="1447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992880" y="0"/>
            <a:ext cx="69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tanglement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533520" y="914400"/>
          <a:ext cx="5950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6" name="" descr=""/>
          <p:cNvPicPr/>
          <p:nvPr/>
        </p:nvPicPr>
        <p:blipFill>
          <a:blip r:embed="rId3"/>
          <a:stretch/>
        </p:blipFill>
        <p:spPr>
          <a:xfrm>
            <a:off x="7543800" y="9144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1905120" y="13716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629400" y="13716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223640" y="19051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947200" y="19810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50712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50712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487680" y="228600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party unit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32560" y="44956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901240" y="44956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4"/>
          <a:stretch/>
        </p:blipFill>
        <p:spPr>
          <a:xfrm>
            <a:off x="3979800" y="2968560"/>
            <a:ext cx="1336680" cy="84456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5"/>
          <a:stretch/>
        </p:blipFill>
        <p:spPr>
          <a:xfrm>
            <a:off x="1635120" y="4336920"/>
            <a:ext cx="1336680" cy="84456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232560" y="55627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901240" y="55627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6"/>
          <a:stretch/>
        </p:blipFill>
        <p:spPr>
          <a:xfrm>
            <a:off x="1635120" y="5403960"/>
            <a:ext cx="1336680" cy="84456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4726800" y="45021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395480" y="45021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7"/>
          <a:stretch/>
        </p:blipFill>
        <p:spPr>
          <a:xfrm>
            <a:off x="6129360" y="4343400"/>
            <a:ext cx="1336680" cy="84456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4728240" y="55627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396920" y="55627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8"/>
          <a:stretch/>
        </p:blipFill>
        <p:spPr>
          <a:xfrm>
            <a:off x="6130800" y="5403960"/>
            <a:ext cx="1336680" cy="84456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801720" y="6400800"/>
            <a:ext cx="76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ends on the details of the unitary and on the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992880" y="0"/>
            <a:ext cx="69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tanglement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1074960" cy="61884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78840" y="9907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2"/>
          <a:stretch/>
        </p:blipFill>
        <p:spPr>
          <a:xfrm>
            <a:off x="1600200" y="1981080"/>
            <a:ext cx="1957320" cy="69084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78480" y="21337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813840" y="21337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3"/>
          <a:stretch/>
        </p:blipFill>
        <p:spPr>
          <a:xfrm>
            <a:off x="1600200" y="2971800"/>
            <a:ext cx="2746440" cy="763560"/>
          </a:xfrm>
          <a:prstGeom prst="rect">
            <a:avLst/>
          </a:prstGeom>
          <a:ln w="0">
            <a:noFill/>
          </a:ln>
        </p:spPr>
      </p:pic>
      <p:pic>
        <p:nvPicPr>
          <p:cNvPr id="946" name="" descr=""/>
          <p:cNvPicPr/>
          <p:nvPr/>
        </p:nvPicPr>
        <p:blipFill>
          <a:blip r:embed="rId4"/>
          <a:stretch/>
        </p:blipFill>
        <p:spPr>
          <a:xfrm>
            <a:off x="4495680" y="3106800"/>
            <a:ext cx="1600200" cy="4744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3960" y="30481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252480" y="30481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5"/>
          <a:stretch/>
        </p:blipFill>
        <p:spPr>
          <a:xfrm>
            <a:off x="1600200" y="4038480"/>
            <a:ext cx="1600200" cy="474840"/>
          </a:xfrm>
          <a:prstGeom prst="rect">
            <a:avLst/>
          </a:prstGeom>
          <a:ln w="0">
            <a:noFill/>
          </a:ln>
        </p:spPr>
      </p:pic>
      <p:sp>
        <p:nvSpPr>
          <p:cNvPr id="950" name=""/>
          <p:cNvSpPr/>
          <p:nvPr/>
        </p:nvSpPr>
        <p:spPr>
          <a:xfrm>
            <a:off x="3960" y="40384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6"/>
          <a:stretch/>
        </p:blipFill>
        <p:spPr>
          <a:xfrm>
            <a:off x="3276720" y="3886200"/>
            <a:ext cx="2724120" cy="76356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6176160" y="40384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960" y="51814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7"/>
          <a:stretch/>
        </p:blipFill>
        <p:spPr>
          <a:xfrm>
            <a:off x="1447920" y="5227560"/>
            <a:ext cx="2514600" cy="39852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8"/>
          <a:stretch/>
        </p:blipFill>
        <p:spPr>
          <a:xfrm>
            <a:off x="4038480" y="5105520"/>
            <a:ext cx="1074960" cy="61884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/>
          <p:cNvPicPr/>
          <p:nvPr/>
        </p:nvPicPr>
        <p:blipFill>
          <a:blip r:embed="rId9"/>
          <a:stretch/>
        </p:blipFill>
        <p:spPr>
          <a:xfrm>
            <a:off x="5181480" y="5221440"/>
            <a:ext cx="2514600" cy="398160"/>
          </a:xfrm>
          <a:prstGeom prst="rect">
            <a:avLst/>
          </a:prstGeom>
          <a:ln w="0">
            <a:noFill/>
          </a:ln>
        </p:spPr>
      </p:pic>
      <p:pic>
        <p:nvPicPr>
          <p:cNvPr id="957" name="" descr=""/>
          <p:cNvPicPr/>
          <p:nvPr/>
        </p:nvPicPr>
        <p:blipFill>
          <a:blip r:embed="rId10"/>
          <a:stretch/>
        </p:blipFill>
        <p:spPr>
          <a:xfrm>
            <a:off x="1447920" y="5846760"/>
            <a:ext cx="2543040" cy="47484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/>
          <p:cNvPicPr/>
          <p:nvPr/>
        </p:nvPicPr>
        <p:blipFill>
          <a:blip r:embed="rId11"/>
          <a:stretch/>
        </p:blipFill>
        <p:spPr>
          <a:xfrm>
            <a:off x="5257800" y="5859360"/>
            <a:ext cx="2511360" cy="474840"/>
          </a:xfrm>
          <a:prstGeom prst="rect">
            <a:avLst/>
          </a:prstGeom>
          <a:ln w="0">
            <a:noFill/>
          </a:ln>
        </p:spPr>
      </p:pic>
      <p:sp>
        <p:nvSpPr>
          <p:cNvPr id="959" name=""/>
          <p:cNvSpPr/>
          <p:nvPr/>
        </p:nvSpPr>
        <p:spPr>
          <a:xfrm>
            <a:off x="7622280" y="51814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992880" y="0"/>
            <a:ext cx="69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ntanglement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658880" y="320040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097160" y="17524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328080" y="32767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098960" y="13716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1793880" y="182880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793880" y="190512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3581280" y="1828800"/>
            <a:ext cx="266724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92600" y="1752480"/>
            <a:ext cx="266688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9" name=""/>
          <p:cNvGraphicFramePr/>
          <p:nvPr/>
        </p:nvGraphicFramePr>
        <p:xfrm>
          <a:off x="1049400" y="2514600"/>
          <a:ext cx="5950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9400" y="251460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1" name=""/>
          <p:cNvSpPr/>
          <p:nvPr/>
        </p:nvSpPr>
        <p:spPr>
          <a:xfrm>
            <a:off x="1873080" y="3214800"/>
            <a:ext cx="1270080" cy="799920"/>
          </a:xfrm>
          <a:custGeom>
            <a:avLst/>
            <a:gdLst/>
            <a:ahLst/>
            <a:rect l="l" t="t" r="r" b="b"/>
            <a:pathLst>
              <a:path w="800" h="504">
                <a:moveTo>
                  <a:pt x="0" y="144"/>
                </a:moveTo>
                <a:cubicBezTo>
                  <a:pt x="272" y="324"/>
                  <a:pt x="544" y="504"/>
                  <a:pt x="672" y="480"/>
                </a:cubicBezTo>
                <a:cubicBezTo>
                  <a:pt x="800" y="456"/>
                  <a:pt x="784" y="228"/>
                  <a:pt x="76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976680" y="39625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1146240" cy="152424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5076720" y="2133720"/>
            <a:ext cx="1828800" cy="914400"/>
          </a:xfrm>
          <a:custGeom>
            <a:avLst/>
            <a:gdLst/>
            <a:ahLst/>
            <a:rect l="l" t="t" r="r" b="b"/>
            <a:pathLst>
              <a:path w="1152" h="576">
                <a:moveTo>
                  <a:pt x="1152" y="0"/>
                </a:moveTo>
                <a:cubicBezTo>
                  <a:pt x="988" y="12"/>
                  <a:pt x="824" y="24"/>
                  <a:pt x="720" y="96"/>
                </a:cubicBezTo>
                <a:cubicBezTo>
                  <a:pt x="616" y="168"/>
                  <a:pt x="648" y="352"/>
                  <a:pt x="528" y="432"/>
                </a:cubicBezTo>
                <a:cubicBezTo>
                  <a:pt x="408" y="512"/>
                  <a:pt x="204" y="544"/>
                  <a:pt x="0" y="57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698600" y="2895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048120" y="3200400"/>
            <a:ext cx="914400" cy="1447920"/>
          </a:xfrm>
          <a:custGeom>
            <a:avLst/>
            <a:gdLst/>
            <a:ahLst/>
            <a:rect l="l" t="t" r="r" b="b"/>
            <a:pathLst>
              <a:path w="576" h="912">
                <a:moveTo>
                  <a:pt x="576" y="912"/>
                </a:moveTo>
                <a:cubicBezTo>
                  <a:pt x="480" y="796"/>
                  <a:pt x="384" y="680"/>
                  <a:pt x="288" y="528"/>
                </a:cubicBezTo>
                <a:cubicBezTo>
                  <a:pt x="192" y="376"/>
                  <a:pt x="96" y="18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2971800"/>
            <a:ext cx="1066680" cy="167652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0" y="1056"/>
                </a:moveTo>
                <a:cubicBezTo>
                  <a:pt x="208" y="856"/>
                  <a:pt x="416" y="656"/>
                  <a:pt x="528" y="480"/>
                </a:cubicBezTo>
                <a:cubicBezTo>
                  <a:pt x="640" y="304"/>
                  <a:pt x="656" y="152"/>
                  <a:pt x="672" y="0"/>
                </a:cubicBezTo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809640" y="5029200"/>
            <a:ext cx="787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ment needs to be generated “locall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.e. the two parties got together in the past and inte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ir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007800" y="0"/>
            <a:ext cx="31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59100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1" name=""/>
          <p:cNvGraphicFramePr/>
          <p:nvPr/>
        </p:nvGraphicFramePr>
        <p:xfrm>
          <a:off x="533520" y="990720"/>
          <a:ext cx="59508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99072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3" name="" descr=""/>
          <p:cNvPicPr/>
          <p:nvPr/>
        </p:nvPicPr>
        <p:blipFill>
          <a:blip r:embed="rId4"/>
          <a:stretch/>
        </p:blipFill>
        <p:spPr>
          <a:xfrm>
            <a:off x="7543800" y="99072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1905120" y="14479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629400" y="144792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223640" y="198108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947200" y="205740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8" name="" descr=""/>
          <p:cNvPicPr/>
          <p:nvPr/>
        </p:nvPicPr>
        <p:blipFill>
          <a:blip r:embed="rId5"/>
          <a:stretch/>
        </p:blipFill>
        <p:spPr>
          <a:xfrm>
            <a:off x="4343400" y="609480"/>
            <a:ext cx="351000" cy="335160"/>
          </a:xfrm>
          <a:prstGeom prst="rect">
            <a:avLst/>
          </a:prstGeom>
          <a:ln w="0">
            <a:noFill/>
          </a:ln>
        </p:spPr>
      </p:pic>
      <p:sp>
        <p:nvSpPr>
          <p:cNvPr id="989" name=""/>
          <p:cNvSpPr/>
          <p:nvPr/>
        </p:nvSpPr>
        <p:spPr>
          <a:xfrm rot="16200000">
            <a:off x="4152600" y="-1486080"/>
            <a:ext cx="685800" cy="5486400"/>
          </a:xfrm>
          <a:custGeom>
            <a:avLst/>
            <a:gdLst>
              <a:gd name="textAreaLeft" fmla="*/ 0 w 685800"/>
              <a:gd name="textAreaRight" fmla="*/ 247680 w 68580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32920" y="2590920"/>
            <a:ext cx="629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Alice measures in the computational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31120" y="3048120"/>
            <a:ext cx="670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probability 50% she gets outcome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probability 50% she gets outcome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067400" y="4343400"/>
            <a:ext cx="650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her outcome was 0, the new wave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her outcome was 1, the new wave fun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6"/>
          <a:stretch/>
        </p:blipFill>
        <p:spPr>
          <a:xfrm>
            <a:off x="7647120" y="4443480"/>
            <a:ext cx="556920" cy="33480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/>
          <p:cNvPicPr/>
          <p:nvPr/>
        </p:nvPicPr>
        <p:blipFill>
          <a:blip r:embed="rId7"/>
          <a:stretch/>
        </p:blipFill>
        <p:spPr>
          <a:xfrm>
            <a:off x="7621560" y="4844880"/>
            <a:ext cx="557280" cy="33516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>
            <a:off x="1147680" y="563868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lice’s outcome was 0, and Bob’s outcome will be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lice’s outcome was 1, and Bob’s outcome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90520" y="5257800"/>
            <a:ext cx="67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Bob now measures in the computation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320" y="1181160"/>
            <a:ext cx="8991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ate: Wed, 20 Jul 2005 13:49:33 -0700 (PD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om: Nancy Ba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: Dave Ba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ject: te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ts/Attachm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  OK     1 lines 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Shown    0 lines 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om you earthly mortal mother,  i learn best when someone gives me a broad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neral concept, then goes into details, and then returns to the basic concept,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rse the trick is to find just the very right details to explain the 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cept. ha!  good luck da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74680" y="76320"/>
            <a:ext cx="49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mail From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3007800" y="0"/>
            <a:ext cx="31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59100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9" name=""/>
          <p:cNvGraphicFramePr/>
          <p:nvPr/>
        </p:nvGraphicFramePr>
        <p:xfrm>
          <a:off x="533520" y="1371600"/>
          <a:ext cx="59508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37160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1" name="" descr=""/>
          <p:cNvPicPr/>
          <p:nvPr/>
        </p:nvPicPr>
        <p:blipFill>
          <a:blip r:embed="rId4"/>
          <a:stretch/>
        </p:blipFill>
        <p:spPr>
          <a:xfrm>
            <a:off x="7543800" y="13716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1002" name=""/>
          <p:cNvSpPr/>
          <p:nvPr/>
        </p:nvSpPr>
        <p:spPr>
          <a:xfrm>
            <a:off x="1905120" y="18288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629400" y="18288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223640" y="23623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947200" y="24382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" descr=""/>
          <p:cNvPicPr/>
          <p:nvPr/>
        </p:nvPicPr>
        <p:blipFill>
          <a:blip r:embed="rId5"/>
          <a:stretch/>
        </p:blipFill>
        <p:spPr>
          <a:xfrm>
            <a:off x="4343400" y="990720"/>
            <a:ext cx="351000" cy="33480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 rot="16200000">
            <a:off x="4152600" y="-1105200"/>
            <a:ext cx="685800" cy="5486400"/>
          </a:xfrm>
          <a:custGeom>
            <a:avLst/>
            <a:gdLst>
              <a:gd name="textAreaLeft" fmla="*/ 0 w 685800"/>
              <a:gd name="textAreaRight" fmla="*/ 247680 w 68580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995400" y="312408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lice’s outcome was 0, and Bob’s outcome will be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lice’s outcome was 1, and Bob’s outcome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31120" y="411480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ice that this is NOT signaling.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32920" y="4800600"/>
            <a:ext cx="78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does Bob se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ving NOT seen Alice’s measurement outco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 finds that he g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with 50% probabil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with 50% prob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2151720" y="0"/>
            <a:ext cx="478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pecial Rel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52280" y="236232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600200" y="9144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891080" y="23623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602000" y="6094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06720" y="3809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 fram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066680" y="2590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981080" y="2133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78120" y="26668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906920" y="16765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124080" y="236232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572000" y="9144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862880" y="23623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573800" y="6094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278520" y="3809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 fram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038480" y="23335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952880" y="23288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279960" y="24382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878720" y="19051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154560" y="236232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602480" y="9144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8004600" y="19051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604280" y="6094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309000" y="3809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e fram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068960" y="2133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983360" y="2514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6080400" y="1752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7774200" y="25909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110040" y="685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095880" y="685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9680" y="4419720"/>
            <a:ext cx="77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we worry that “who does the measurement first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ends on the frame of refe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13560" y="5410080"/>
            <a:ext cx="85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perspective of each party, NO, because they 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t the same probabilities of outc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007800" y="0"/>
            <a:ext cx="31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59100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5" name=""/>
          <p:cNvGraphicFramePr/>
          <p:nvPr/>
        </p:nvGraphicFramePr>
        <p:xfrm>
          <a:off x="533520" y="1371600"/>
          <a:ext cx="59508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37160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7" name="" descr=""/>
          <p:cNvPicPr/>
          <p:nvPr/>
        </p:nvPicPr>
        <p:blipFill>
          <a:blip r:embed="rId4"/>
          <a:stretch/>
        </p:blipFill>
        <p:spPr>
          <a:xfrm>
            <a:off x="7543800" y="13716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>
            <a:off x="1905120" y="18288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629400" y="18288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223640" y="23623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947200" y="24382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2" name="" descr=""/>
          <p:cNvPicPr/>
          <p:nvPr/>
        </p:nvPicPr>
        <p:blipFill>
          <a:blip r:embed="rId5"/>
          <a:stretch/>
        </p:blipFill>
        <p:spPr>
          <a:xfrm>
            <a:off x="4343400" y="990720"/>
            <a:ext cx="351000" cy="334800"/>
          </a:xfrm>
          <a:prstGeom prst="rect">
            <a:avLst/>
          </a:prstGeom>
          <a:ln w="0">
            <a:noFill/>
          </a:ln>
        </p:spPr>
      </p:pic>
      <p:sp>
        <p:nvSpPr>
          <p:cNvPr id="1053" name=""/>
          <p:cNvSpPr/>
          <p:nvPr/>
        </p:nvSpPr>
        <p:spPr>
          <a:xfrm rot="16200000">
            <a:off x="4152600" y="-1105200"/>
            <a:ext cx="685800" cy="5486400"/>
          </a:xfrm>
          <a:custGeom>
            <a:avLst/>
            <a:gdLst>
              <a:gd name="textAreaLeft" fmla="*/ 0 w 685800"/>
              <a:gd name="textAreaRight" fmla="*/ 247680 w 68580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09800" y="3048120"/>
            <a:ext cx="75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ompletely classical way to simulate this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20240" y="3733920"/>
            <a:ext cx="906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ip a fair co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esult is heads, put 0 into two bo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esult is tails, put 1 into two bo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Give Alice and Bob the bo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Parties perform measurements by opening their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reporting the classical bit inside as their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3007800" y="0"/>
            <a:ext cx="31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591000" cy="73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8" name=""/>
          <p:cNvGraphicFramePr/>
          <p:nvPr/>
        </p:nvGraphicFramePr>
        <p:xfrm>
          <a:off x="533520" y="1371600"/>
          <a:ext cx="59508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37160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0" name="" descr=""/>
          <p:cNvPicPr/>
          <p:nvPr/>
        </p:nvPicPr>
        <p:blipFill>
          <a:blip r:embed="rId4"/>
          <a:stretch/>
        </p:blipFill>
        <p:spPr>
          <a:xfrm>
            <a:off x="7543800" y="13716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>
            <a:off x="1905120" y="18288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629400" y="18288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223640" y="23623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947200" y="24382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" descr=""/>
          <p:cNvPicPr/>
          <p:nvPr/>
        </p:nvPicPr>
        <p:blipFill>
          <a:blip r:embed="rId5"/>
          <a:stretch/>
        </p:blipFill>
        <p:spPr>
          <a:xfrm>
            <a:off x="4343400" y="990720"/>
            <a:ext cx="351000" cy="334800"/>
          </a:xfrm>
          <a:prstGeom prst="rect">
            <a:avLst/>
          </a:prstGeom>
          <a:ln w="0">
            <a:noFill/>
          </a:ln>
        </p:spPr>
      </p:pic>
      <p:sp>
        <p:nvSpPr>
          <p:cNvPr id="1066" name=""/>
          <p:cNvSpPr/>
          <p:nvPr/>
        </p:nvSpPr>
        <p:spPr>
          <a:xfrm rot="16200000">
            <a:off x="4152600" y="-1105200"/>
            <a:ext cx="685800" cy="5486400"/>
          </a:xfrm>
          <a:custGeom>
            <a:avLst/>
            <a:gdLst>
              <a:gd name="textAreaLeft" fmla="*/ 0 w 685800"/>
              <a:gd name="textAreaRight" fmla="*/ 247680 w 68580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09800" y="3048120"/>
            <a:ext cx="75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ompletely classical way to simulate this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20240" y="3733920"/>
            <a:ext cx="906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ip a fair co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esult is heads, put 0 into two bo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esult is tails, put 1 into two bo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Give Alice and Bob the bo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Parties perform measurements by opening their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reporting the classical bit inside as their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610920" y="0"/>
            <a:ext cx="779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ocal Hidden Variabl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1658880" y="320040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097160" y="17524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328080" y="32767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098960" y="13716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1793880" y="182880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793880" y="190512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3581280" y="1828800"/>
            <a:ext cx="266724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792600" y="1752480"/>
            <a:ext cx="266688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0760" y="4952880"/>
            <a:ext cx="867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we try to respective special relativity, but at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, reproduce the probabilities we get from quantu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209680" y="6019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 Hidden Variabl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048120" y="3200400"/>
            <a:ext cx="914400" cy="1523880"/>
          </a:xfrm>
          <a:custGeom>
            <a:avLst/>
            <a:gdLst/>
            <a:ahLst/>
            <a:rect l="l" t="t" r="r" b="b"/>
            <a:pathLst>
              <a:path w="576" h="912">
                <a:moveTo>
                  <a:pt x="576" y="912"/>
                </a:moveTo>
                <a:cubicBezTo>
                  <a:pt x="480" y="796"/>
                  <a:pt x="384" y="680"/>
                  <a:pt x="288" y="528"/>
                </a:cubicBezTo>
                <a:cubicBezTo>
                  <a:pt x="192" y="376"/>
                  <a:pt x="96" y="18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962520" y="3048120"/>
            <a:ext cx="1066680" cy="167616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0" y="1056"/>
                </a:moveTo>
                <a:cubicBezTo>
                  <a:pt x="208" y="856"/>
                  <a:pt x="416" y="656"/>
                  <a:pt x="528" y="480"/>
                </a:cubicBezTo>
                <a:cubicBezTo>
                  <a:pt x="640" y="304"/>
                  <a:pt x="656" y="152"/>
                  <a:pt x="672" y="0"/>
                </a:cubicBezTo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1373400" y="0"/>
            <a:ext cx="654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instein, Bohr (1927-3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0880" y="8380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the creation of quantum theory, Einstein became very concerned about quantum the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" descr=""/>
          <p:cNvPicPr/>
          <p:nvPr/>
        </p:nvPicPr>
        <p:blipFill>
          <a:blip r:embed="rId1"/>
          <a:stretch/>
        </p:blipFill>
        <p:spPr>
          <a:xfrm>
            <a:off x="2895480" y="1690560"/>
            <a:ext cx="3429000" cy="2195640"/>
          </a:xfrm>
          <a:prstGeom prst="rect">
            <a:avLst/>
          </a:prstGeom>
          <a:ln w="0">
            <a:noFill/>
          </a:ln>
        </p:spPr>
      </p:pic>
      <p:sp>
        <p:nvSpPr>
          <p:cNvPr id="1085" name=""/>
          <p:cNvSpPr/>
          <p:nvPr/>
        </p:nvSpPr>
        <p:spPr>
          <a:xfrm>
            <a:off x="457920" y="3962520"/>
            <a:ext cx="49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stein: “God does not play dic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hr: “Stop telling God what to d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78720" y="5029200"/>
            <a:ext cx="871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ually Einstein was not troubled by the indeterminism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theory, but by the fact that he thought quantum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s probably not the “ultimate” theory.  He thought qua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ory was incomp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3202200" y="76320"/>
            <a:ext cx="26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John B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" descr="John Bell - Happy Physicist"/>
          <p:cNvPicPr/>
          <p:nvPr/>
        </p:nvPicPr>
        <p:blipFill>
          <a:blip r:embed="rId1"/>
          <a:stretch/>
        </p:blipFill>
        <p:spPr>
          <a:xfrm>
            <a:off x="380880" y="914400"/>
            <a:ext cx="2190960" cy="3181320"/>
          </a:xfrm>
          <a:prstGeom prst="rect">
            <a:avLst/>
          </a:prstGeom>
          <a:ln w="0">
            <a:noFill/>
          </a:ln>
        </p:spPr>
      </p:pic>
      <p:sp>
        <p:nvSpPr>
          <p:cNvPr id="1089" name=""/>
          <p:cNvSpPr/>
          <p:nvPr/>
        </p:nvSpPr>
        <p:spPr>
          <a:xfrm>
            <a:off x="2976120" y="1143000"/>
            <a:ext cx="609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1964, John Bell showed that the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whether or not quantum theory c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explained by a local hidden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ory was an EXPERIMENTAL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nd thus a real scientific hypothesi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754280" y="4648320"/>
            <a:ext cx="56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st profound discovery of sci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3343680" y="7632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12840" y="914400"/>
            <a:ext cx="852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 and Bob are locked away in prison cells and they can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1752480" y="1905120"/>
          <a:ext cx="59544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05120"/>
                    <a:ext cx="5954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5" name="" descr=""/>
          <p:cNvPicPr/>
          <p:nvPr/>
        </p:nvPicPr>
        <p:blipFill>
          <a:blip r:embed="rId3"/>
          <a:stretch/>
        </p:blipFill>
        <p:spPr>
          <a:xfrm>
            <a:off x="5867280" y="1828800"/>
            <a:ext cx="1146240" cy="152388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4"/>
          <a:stretch/>
        </p:blipFill>
        <p:spPr>
          <a:xfrm>
            <a:off x="1371600" y="1752480"/>
            <a:ext cx="1476360" cy="189576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5"/>
          <a:stretch/>
        </p:blipFill>
        <p:spPr>
          <a:xfrm>
            <a:off x="5715000" y="1685880"/>
            <a:ext cx="1476360" cy="189540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304920" y="388620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warden plays the following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 gives Alice and Bob a slip of paper.  Written on each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papers is the letter S or the letter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Alice are instructed that at a certain time, they will both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d to shout out either +1 or 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3343680" y="7632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0" name=""/>
          <p:cNvGraphicFramePr/>
          <p:nvPr/>
        </p:nvGraphicFramePr>
        <p:xfrm>
          <a:off x="1752480" y="228600"/>
          <a:ext cx="501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"/>
                    <a:ext cx="50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2" name="" descr=""/>
          <p:cNvPicPr/>
          <p:nvPr/>
        </p:nvPicPr>
        <p:blipFill>
          <a:blip r:embed="rId3"/>
          <a:stretch/>
        </p:blipFill>
        <p:spPr>
          <a:xfrm>
            <a:off x="6143760" y="228600"/>
            <a:ext cx="915840" cy="121752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4"/>
          <a:stretch/>
        </p:blipFill>
        <p:spPr>
          <a:xfrm>
            <a:off x="1371600" y="76320"/>
            <a:ext cx="12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104" name="" descr=""/>
          <p:cNvPicPr/>
          <p:nvPr/>
        </p:nvPicPr>
        <p:blipFill>
          <a:blip r:embed="rId5"/>
          <a:stretch/>
        </p:blipFill>
        <p:spPr>
          <a:xfrm>
            <a:off x="5991120" y="85680"/>
            <a:ext cx="1179720" cy="1514520"/>
          </a:xfrm>
          <a:prstGeom prst="rect">
            <a:avLst/>
          </a:prstGeom>
          <a:ln w="0">
            <a:noFill/>
          </a:ln>
        </p:spPr>
      </p:pic>
      <p:sp>
        <p:nvSpPr>
          <p:cNvPr id="1105" name=""/>
          <p:cNvSpPr/>
          <p:nvPr/>
        </p:nvSpPr>
        <p:spPr>
          <a:xfrm>
            <a:off x="992520" y="3416400"/>
            <a:ext cx="712548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slip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 of their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307160" y="1676520"/>
            <a:ext cx="64216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l Alice’s output (+1,-1) if she received S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l Alice’s output (+1,-1) if she received T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l Bob’s output (+1,-1) if she received S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l Bob’s output (+1,-1) if she received T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83760" y="5715000"/>
            <a:ext cx="831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e that the product of their answers depends only on 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party does lo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3343680" y="7632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9" name=""/>
          <p:cNvGraphicFramePr/>
          <p:nvPr/>
        </p:nvGraphicFramePr>
        <p:xfrm>
          <a:off x="1752480" y="228600"/>
          <a:ext cx="501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"/>
                    <a:ext cx="50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1" name="" descr=""/>
          <p:cNvPicPr/>
          <p:nvPr/>
        </p:nvPicPr>
        <p:blipFill>
          <a:blip r:embed="rId3"/>
          <a:stretch/>
        </p:blipFill>
        <p:spPr>
          <a:xfrm>
            <a:off x="6143760" y="228600"/>
            <a:ext cx="915840" cy="1217520"/>
          </a:xfrm>
          <a:prstGeom prst="rect">
            <a:avLst/>
          </a:prstGeom>
          <a:ln w="0">
            <a:noFill/>
          </a:ln>
        </p:spPr>
      </p:pic>
      <p:pic>
        <p:nvPicPr>
          <p:cNvPr id="1112" name="" descr=""/>
          <p:cNvPicPr/>
          <p:nvPr/>
        </p:nvPicPr>
        <p:blipFill>
          <a:blip r:embed="rId4"/>
          <a:stretch/>
        </p:blipFill>
        <p:spPr>
          <a:xfrm>
            <a:off x="1371600" y="76320"/>
            <a:ext cx="12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/>
          <p:cNvPicPr/>
          <p:nvPr/>
        </p:nvPicPr>
        <p:blipFill>
          <a:blip r:embed="rId5"/>
          <a:stretch/>
        </p:blipFill>
        <p:spPr>
          <a:xfrm>
            <a:off x="5991120" y="85680"/>
            <a:ext cx="1179720" cy="151452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>
            <a:off x="1447920" y="2362320"/>
            <a:ext cx="62481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slip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ning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33640" y="1828800"/>
            <a:ext cx="74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Warden will let Alice and Bob free if they 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09960" y="4419720"/>
            <a:ext cx="77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it possible for Alice and Bob to always win this g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06720" y="51814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268280" y="5181480"/>
            <a:ext cx="5033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+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ies that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-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+1 implies that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-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238400" y="6095880"/>
            <a:ext cx="545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this implies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, contradi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76240" y="76320"/>
            <a:ext cx="31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1880" y="1143000"/>
            <a:ext cx="722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ment has long been known to be one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ly strange things about quantum the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1880" y="2286000"/>
            <a:ext cx="649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years, people worried about entang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instein, Schrodinger, Bell,…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1960" y="3505320"/>
            <a:ext cx="811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happening in quantum computing is tha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opped learning to worry about entanglement, and be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realize that if they just accepted it, it was a very 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5029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pt Entangle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5715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what is entanglement?  Why is it “mysterious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is it important for quantum compu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3343680" y="7632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1" name=""/>
          <p:cNvGraphicFramePr/>
          <p:nvPr/>
        </p:nvGraphicFramePr>
        <p:xfrm>
          <a:off x="1752480" y="228600"/>
          <a:ext cx="501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"/>
                    <a:ext cx="50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3" name="" descr=""/>
          <p:cNvPicPr/>
          <p:nvPr/>
        </p:nvPicPr>
        <p:blipFill>
          <a:blip r:embed="rId3"/>
          <a:stretch/>
        </p:blipFill>
        <p:spPr>
          <a:xfrm>
            <a:off x="6143760" y="228600"/>
            <a:ext cx="915840" cy="121752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/>
          <p:cNvPicPr/>
          <p:nvPr/>
        </p:nvPicPr>
        <p:blipFill>
          <a:blip r:embed="rId4"/>
          <a:stretch/>
        </p:blipFill>
        <p:spPr>
          <a:xfrm>
            <a:off x="1371600" y="76320"/>
            <a:ext cx="12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5"/>
          <a:stretch/>
        </p:blipFill>
        <p:spPr>
          <a:xfrm>
            <a:off x="5991120" y="85680"/>
            <a:ext cx="1179720" cy="151452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>
            <a:off x="81720" y="1981080"/>
            <a:ext cx="85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ey play this game lots of times, each time they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n one of the sheets of paper with equal probability (i.e.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rden gives each party an S or a T with 50% proba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480" y="3505320"/>
            <a:ext cx="797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indication of how well they are doing is to calcula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winn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72360" y="4724280"/>
            <a:ext cx="8718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winning= ¼(Pr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+1|S,S)+ Pr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+1|S,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Pr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+1|T,S)+Pr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-1|T,T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56600" y="5867280"/>
            <a:ext cx="29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are they d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3343680" y="7632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1" name=""/>
          <p:cNvGraphicFramePr/>
          <p:nvPr/>
        </p:nvGraphicFramePr>
        <p:xfrm>
          <a:off x="1752480" y="228600"/>
          <a:ext cx="501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"/>
                    <a:ext cx="50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3" name="" descr=""/>
          <p:cNvPicPr/>
          <p:nvPr/>
        </p:nvPicPr>
        <p:blipFill>
          <a:blip r:embed="rId3"/>
          <a:stretch/>
        </p:blipFill>
        <p:spPr>
          <a:xfrm>
            <a:off x="6143760" y="228600"/>
            <a:ext cx="915840" cy="1217520"/>
          </a:xfrm>
          <a:prstGeom prst="rect">
            <a:avLst/>
          </a:prstGeom>
          <a:ln w="0">
            <a:noFill/>
          </a:ln>
        </p:spPr>
      </p:pic>
      <p:pic>
        <p:nvPicPr>
          <p:cNvPr id="1134" name="" descr=""/>
          <p:cNvPicPr/>
          <p:nvPr/>
        </p:nvPicPr>
        <p:blipFill>
          <a:blip r:embed="rId4"/>
          <a:stretch/>
        </p:blipFill>
        <p:spPr>
          <a:xfrm>
            <a:off x="1371600" y="76320"/>
            <a:ext cx="12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5"/>
          <a:stretch/>
        </p:blipFill>
        <p:spPr>
          <a:xfrm>
            <a:off x="5991120" y="85680"/>
            <a:ext cx="1179720" cy="1514520"/>
          </a:xfrm>
          <a:prstGeom prst="rect">
            <a:avLst/>
          </a:prstGeom>
          <a:ln w="0">
            <a:noFill/>
          </a:ln>
        </p:spPr>
      </p:pic>
      <p:sp>
        <p:nvSpPr>
          <p:cNvPr id="1136" name=""/>
          <p:cNvSpPr/>
          <p:nvPr/>
        </p:nvSpPr>
        <p:spPr>
          <a:xfrm>
            <a:off x="81720" y="1981080"/>
            <a:ext cx="776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Alice and Bob always play the same strateg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means assigning values to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and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72360" y="3048120"/>
            <a:ext cx="8735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winning= ¼(Pr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+1|S,S)+ Pr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+1|S,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Pr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+1|S,T)+Pr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-1|S,T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49760" y="4038480"/>
            <a:ext cx="49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most they can win ¾ of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76400" y="4664160"/>
            <a:ext cx="842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?  There must always be a contradiction with the w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ula and so one of these probabilities is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51280" y="5715000"/>
            <a:ext cx="85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y can achieve the case where one is zero and all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s are one by always having A and B output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3343680" y="7632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2" name=""/>
          <p:cNvGraphicFramePr/>
          <p:nvPr/>
        </p:nvGraphicFramePr>
        <p:xfrm>
          <a:off x="1752480" y="228600"/>
          <a:ext cx="501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"/>
                    <a:ext cx="50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4" name="" descr=""/>
          <p:cNvPicPr/>
          <p:nvPr/>
        </p:nvPicPr>
        <p:blipFill>
          <a:blip r:embed="rId3"/>
          <a:stretch/>
        </p:blipFill>
        <p:spPr>
          <a:xfrm>
            <a:off x="6143760" y="228600"/>
            <a:ext cx="915840" cy="1217520"/>
          </a:xfrm>
          <a:prstGeom prst="rect">
            <a:avLst/>
          </a:prstGeom>
          <a:ln w="0">
            <a:noFill/>
          </a:ln>
        </p:spPr>
      </p:pic>
      <p:pic>
        <p:nvPicPr>
          <p:cNvPr id="1145" name="" descr=""/>
          <p:cNvPicPr/>
          <p:nvPr/>
        </p:nvPicPr>
        <p:blipFill>
          <a:blip r:embed="rId4"/>
          <a:stretch/>
        </p:blipFill>
        <p:spPr>
          <a:xfrm>
            <a:off x="1371600" y="76320"/>
            <a:ext cx="12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146" name="" descr=""/>
          <p:cNvPicPr/>
          <p:nvPr/>
        </p:nvPicPr>
        <p:blipFill>
          <a:blip r:embed="rId5"/>
          <a:stretch/>
        </p:blipFill>
        <p:spPr>
          <a:xfrm>
            <a:off x="5991120" y="85680"/>
            <a:ext cx="1179720" cy="151452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80280" y="1981080"/>
            <a:ext cx="890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Alice and Bob are even allowed to share some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s they copied from each other before they were thrown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56240" y="3276720"/>
            <a:ext cx="87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ir maximum probability of winning?  Same as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?  Fix the random numbers.  Run the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winning will be less than 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erage over the random numbe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help.  Probability of winning is at most 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136240" y="6019920"/>
            <a:ext cx="48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winning is at most 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2363760" y="0"/>
            <a:ext cx="440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Conn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838080" y="1752480"/>
          <a:ext cx="501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50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3" name="" descr=""/>
          <p:cNvPicPr/>
          <p:nvPr/>
        </p:nvPicPr>
        <p:blipFill>
          <a:blip r:embed="rId3"/>
          <a:stretch/>
        </p:blipFill>
        <p:spPr>
          <a:xfrm>
            <a:off x="6705720" y="1752480"/>
            <a:ext cx="915840" cy="1217880"/>
          </a:xfrm>
          <a:prstGeom prst="rect">
            <a:avLst/>
          </a:prstGeom>
          <a:ln w="0">
            <a:noFill/>
          </a:ln>
        </p:spPr>
      </p:pic>
      <p:pic>
        <p:nvPicPr>
          <p:cNvPr id="1154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12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155" name="" descr=""/>
          <p:cNvPicPr/>
          <p:nvPr/>
        </p:nvPicPr>
        <p:blipFill>
          <a:blip r:embed="rId5"/>
          <a:stretch/>
        </p:blipFill>
        <p:spPr>
          <a:xfrm>
            <a:off x="6553080" y="1609560"/>
            <a:ext cx="1179720" cy="1514520"/>
          </a:xfrm>
          <a:prstGeom prst="rect">
            <a:avLst/>
          </a:prstGeom>
          <a:ln w="0">
            <a:noFill/>
          </a:ln>
        </p:spPr>
      </p:pic>
      <p:sp>
        <p:nvSpPr>
          <p:cNvPr id="1156" name=""/>
          <p:cNvSpPr/>
          <p:nvPr/>
        </p:nvSpPr>
        <p:spPr>
          <a:xfrm>
            <a:off x="1658880" y="320040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097160" y="17524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328080" y="32767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098960" y="13716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1793880" y="182880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793880" y="190512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3581280" y="1828800"/>
            <a:ext cx="266724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3792600" y="1752480"/>
            <a:ext cx="266688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3048120" y="3200400"/>
            <a:ext cx="914400" cy="1523880"/>
          </a:xfrm>
          <a:custGeom>
            <a:avLst/>
            <a:gdLst/>
            <a:ahLst/>
            <a:rect l="l" t="t" r="r" b="b"/>
            <a:pathLst>
              <a:path w="576" h="912">
                <a:moveTo>
                  <a:pt x="576" y="912"/>
                </a:moveTo>
                <a:cubicBezTo>
                  <a:pt x="480" y="796"/>
                  <a:pt x="384" y="680"/>
                  <a:pt x="288" y="528"/>
                </a:cubicBezTo>
                <a:cubicBezTo>
                  <a:pt x="192" y="376"/>
                  <a:pt x="96" y="18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3962520" y="3048120"/>
            <a:ext cx="1066680" cy="167616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0" y="1056"/>
                </a:moveTo>
                <a:cubicBezTo>
                  <a:pt x="208" y="856"/>
                  <a:pt x="416" y="656"/>
                  <a:pt x="528" y="480"/>
                </a:cubicBezTo>
                <a:cubicBezTo>
                  <a:pt x="640" y="304"/>
                  <a:pt x="656" y="152"/>
                  <a:pt x="672" y="0"/>
                </a:cubicBezTo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349520" y="4724280"/>
            <a:ext cx="329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 class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 hidden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 flipV="1">
            <a:off x="4572000" y="41148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3580920" y="41911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363760" y="0"/>
            <a:ext cx="440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Conn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39280" y="1371600"/>
            <a:ext cx="83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the break: how quantum entanglement allows Alic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 a greater probability of freedo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828800" y="3505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ntanglement shall set you free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3343680" y="7632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3" name=""/>
          <p:cNvGraphicFramePr/>
          <p:nvPr/>
        </p:nvGraphicFramePr>
        <p:xfrm>
          <a:off x="1752480" y="228600"/>
          <a:ext cx="501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"/>
                    <a:ext cx="50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5" name="" descr=""/>
          <p:cNvPicPr/>
          <p:nvPr/>
        </p:nvPicPr>
        <p:blipFill>
          <a:blip r:embed="rId3"/>
          <a:stretch/>
        </p:blipFill>
        <p:spPr>
          <a:xfrm>
            <a:off x="6143760" y="228600"/>
            <a:ext cx="915840" cy="121752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4"/>
          <a:stretch/>
        </p:blipFill>
        <p:spPr>
          <a:xfrm>
            <a:off x="1371600" y="76320"/>
            <a:ext cx="12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177" name="" descr=""/>
          <p:cNvPicPr/>
          <p:nvPr/>
        </p:nvPicPr>
        <p:blipFill>
          <a:blip r:embed="rId5"/>
          <a:stretch/>
        </p:blipFill>
        <p:spPr>
          <a:xfrm>
            <a:off x="5991120" y="85680"/>
            <a:ext cx="1179720" cy="1514520"/>
          </a:xfrm>
          <a:prstGeom prst="rect">
            <a:avLst/>
          </a:prstGeom>
          <a:ln w="0">
            <a:noFill/>
          </a:ln>
        </p:spPr>
      </p:pic>
      <p:sp>
        <p:nvSpPr>
          <p:cNvPr id="1178" name=""/>
          <p:cNvSpPr/>
          <p:nvPr/>
        </p:nvSpPr>
        <p:spPr>
          <a:xfrm>
            <a:off x="81720" y="1981080"/>
            <a:ext cx="897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Alice and Bob are even allowed to share an 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state which they made when they were plotting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the were thrown in j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6"/>
          <a:stretch/>
        </p:blipFill>
        <p:spPr>
          <a:xfrm>
            <a:off x="2809800" y="4114800"/>
            <a:ext cx="3591000" cy="73656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156960" y="3581280"/>
            <a:ext cx="729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ey each have one qubit of two qubits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/>
          <p:nvPr/>
        </p:nvSpPr>
        <p:spPr>
          <a:xfrm>
            <a:off x="3430440" y="7632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2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4538520" cy="350640"/>
          </a:xfrm>
          <a:prstGeom prst="rect">
            <a:avLst/>
          </a:prstGeom>
          <a:ln w="0">
            <a:noFill/>
          </a:ln>
        </p:spPr>
      </p:pic>
      <p:sp>
        <p:nvSpPr>
          <p:cNvPr id="1183" name=""/>
          <p:cNvSpPr/>
          <p:nvPr/>
        </p:nvSpPr>
        <p:spPr>
          <a:xfrm>
            <a:off x="231480" y="236232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states are orthog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4" name="" descr=""/>
          <p:cNvPicPr/>
          <p:nvPr/>
        </p:nvPicPr>
        <p:blipFill>
          <a:blip r:embed="rId2"/>
          <a:stretch/>
        </p:blipFill>
        <p:spPr>
          <a:xfrm>
            <a:off x="485640" y="1609560"/>
            <a:ext cx="4456080" cy="351000"/>
          </a:xfrm>
          <a:prstGeom prst="rect">
            <a:avLst/>
          </a:prstGeom>
          <a:ln w="0">
            <a:noFill/>
          </a:ln>
        </p:spPr>
      </p:pic>
      <p:pic>
        <p:nvPicPr>
          <p:cNvPr id="1185" name="" descr=""/>
          <p:cNvPicPr/>
          <p:nvPr/>
        </p:nvPicPr>
        <p:blipFill>
          <a:blip r:embed="rId3"/>
          <a:stretch/>
        </p:blipFill>
        <p:spPr>
          <a:xfrm>
            <a:off x="927000" y="3048120"/>
            <a:ext cx="7150320" cy="334800"/>
          </a:xfrm>
          <a:prstGeom prst="rect">
            <a:avLst/>
          </a:prstGeom>
          <a:ln w="0">
            <a:noFill/>
          </a:ln>
        </p:spPr>
      </p:pic>
      <p:sp>
        <p:nvSpPr>
          <p:cNvPr id="1186" name=""/>
          <p:cNvSpPr/>
          <p:nvPr/>
        </p:nvSpPr>
        <p:spPr>
          <a:xfrm>
            <a:off x="231840" y="36576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7" name="" descr=""/>
          <p:cNvPicPr/>
          <p:nvPr/>
        </p:nvPicPr>
        <p:blipFill>
          <a:blip r:embed="rId4"/>
          <a:stretch/>
        </p:blipFill>
        <p:spPr>
          <a:xfrm>
            <a:off x="860400" y="4267080"/>
            <a:ext cx="7216920" cy="335160"/>
          </a:xfrm>
          <a:prstGeom prst="rect">
            <a:avLst/>
          </a:prstGeom>
          <a:ln w="0">
            <a:noFill/>
          </a:ln>
        </p:spPr>
      </p:pic>
      <p:pic>
        <p:nvPicPr>
          <p:cNvPr id="1188" name="" descr=""/>
          <p:cNvPicPr/>
          <p:nvPr/>
        </p:nvPicPr>
        <p:blipFill>
          <a:blip r:embed="rId5"/>
          <a:stretch/>
        </p:blipFill>
        <p:spPr>
          <a:xfrm>
            <a:off x="873000" y="4724280"/>
            <a:ext cx="8194680" cy="33516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385560" y="5257800"/>
            <a:ext cx="86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ment operators in this basis, labeling these outco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and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6"/>
          <a:stretch/>
        </p:blipFill>
        <p:spPr>
          <a:xfrm>
            <a:off x="942840" y="6188040"/>
            <a:ext cx="3272040" cy="365040"/>
          </a:xfrm>
          <a:prstGeom prst="rect">
            <a:avLst/>
          </a:prstGeom>
          <a:ln w="0">
            <a:noFill/>
          </a:ln>
        </p:spPr>
      </p:pic>
      <p:pic>
        <p:nvPicPr>
          <p:cNvPr id="1191" name="" descr=""/>
          <p:cNvPicPr/>
          <p:nvPr/>
        </p:nvPicPr>
        <p:blipFill>
          <a:blip r:embed="rId7"/>
          <a:stretch/>
        </p:blipFill>
        <p:spPr>
          <a:xfrm>
            <a:off x="4749840" y="6172200"/>
            <a:ext cx="317484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2363400" y="76320"/>
            <a:ext cx="434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18880" y="1844640"/>
            <a:ext cx="781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Alice measures in the                        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at Bob measures in the                         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4" name="" descr=""/>
          <p:cNvPicPr/>
          <p:nvPr/>
        </p:nvPicPr>
        <p:blipFill>
          <a:blip r:embed="rId1"/>
          <a:stretch/>
        </p:blipFill>
        <p:spPr>
          <a:xfrm>
            <a:off x="2733840" y="863640"/>
            <a:ext cx="3590640" cy="736560"/>
          </a:xfrm>
          <a:prstGeom prst="rect">
            <a:avLst/>
          </a:prstGeom>
          <a:ln w="0">
            <a:noFill/>
          </a:ln>
        </p:spPr>
      </p:pic>
      <p:pic>
        <p:nvPicPr>
          <p:cNvPr id="1195" name="" descr=""/>
          <p:cNvPicPr/>
          <p:nvPr/>
        </p:nvPicPr>
        <p:blipFill>
          <a:blip r:embed="rId2"/>
          <a:stretch/>
        </p:blipFill>
        <p:spPr>
          <a:xfrm>
            <a:off x="4495680" y="2265480"/>
            <a:ext cx="1890720" cy="350640"/>
          </a:xfrm>
          <a:prstGeom prst="rect">
            <a:avLst/>
          </a:prstGeom>
          <a:ln w="0">
            <a:noFill/>
          </a:ln>
        </p:spPr>
      </p:pic>
      <p:pic>
        <p:nvPicPr>
          <p:cNvPr id="1196" name="" descr=""/>
          <p:cNvPicPr/>
          <p:nvPr/>
        </p:nvPicPr>
        <p:blipFill>
          <a:blip r:embed="rId3"/>
          <a:stretch/>
        </p:blipFill>
        <p:spPr>
          <a:xfrm>
            <a:off x="5257800" y="1862280"/>
            <a:ext cx="1828800" cy="350640"/>
          </a:xfrm>
          <a:prstGeom prst="rect">
            <a:avLst/>
          </a:prstGeom>
          <a:ln w="0">
            <a:noFill/>
          </a:ln>
        </p:spPr>
      </p:pic>
      <p:sp>
        <p:nvSpPr>
          <p:cNvPr id="1197" name=""/>
          <p:cNvSpPr/>
          <p:nvPr/>
        </p:nvSpPr>
        <p:spPr>
          <a:xfrm>
            <a:off x="308520" y="297180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ies of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4"/>
          <a:stretch/>
        </p:blipFill>
        <p:spPr>
          <a:xfrm>
            <a:off x="1214280" y="3505320"/>
            <a:ext cx="5338800" cy="36504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5"/>
          <a:stretch/>
        </p:blipFill>
        <p:spPr>
          <a:xfrm>
            <a:off x="1219320" y="4125960"/>
            <a:ext cx="5257800" cy="365040"/>
          </a:xfrm>
          <a:prstGeom prst="rect">
            <a:avLst/>
          </a:prstGeom>
          <a:ln w="0">
            <a:noFill/>
          </a:ln>
        </p:spPr>
      </p:pic>
      <p:pic>
        <p:nvPicPr>
          <p:cNvPr id="1200" name="" descr=""/>
          <p:cNvPicPr/>
          <p:nvPr/>
        </p:nvPicPr>
        <p:blipFill>
          <a:blip r:embed="rId6"/>
          <a:stretch/>
        </p:blipFill>
        <p:spPr>
          <a:xfrm>
            <a:off x="1219320" y="4735440"/>
            <a:ext cx="5257800" cy="36504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/>
          <p:cNvPicPr/>
          <p:nvPr/>
        </p:nvPicPr>
        <p:blipFill>
          <a:blip r:embed="rId7"/>
          <a:stretch/>
        </p:blipFill>
        <p:spPr>
          <a:xfrm>
            <a:off x="1266840" y="5408640"/>
            <a:ext cx="5160960" cy="3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2211480" y="7632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 Clas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2363400" y="76320"/>
            <a:ext cx="434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18880" y="1844640"/>
            <a:ext cx="781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Alice measures in the                        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at Bob measures in the                         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2733840" y="863640"/>
            <a:ext cx="3590640" cy="736560"/>
          </a:xfrm>
          <a:prstGeom prst="rect">
            <a:avLst/>
          </a:prstGeom>
          <a:ln w="0">
            <a:noFill/>
          </a:ln>
        </p:spPr>
      </p:pic>
      <p:pic>
        <p:nvPicPr>
          <p:cNvPr id="1206" name="" descr=""/>
          <p:cNvPicPr/>
          <p:nvPr/>
        </p:nvPicPr>
        <p:blipFill>
          <a:blip r:embed="rId2"/>
          <a:stretch/>
        </p:blipFill>
        <p:spPr>
          <a:xfrm>
            <a:off x="4495680" y="2265480"/>
            <a:ext cx="1890720" cy="35064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3"/>
          <a:stretch/>
        </p:blipFill>
        <p:spPr>
          <a:xfrm>
            <a:off x="5257800" y="1862280"/>
            <a:ext cx="1828800" cy="35064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/>
          <p:nvPr/>
        </p:nvSpPr>
        <p:spPr>
          <a:xfrm>
            <a:off x="79920" y="297180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ies of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" descr=""/>
          <p:cNvPicPr/>
          <p:nvPr/>
        </p:nvPicPr>
        <p:blipFill>
          <a:blip r:embed="rId4"/>
          <a:stretch/>
        </p:blipFill>
        <p:spPr>
          <a:xfrm>
            <a:off x="1828800" y="4111560"/>
            <a:ext cx="3924360" cy="689040"/>
          </a:xfrm>
          <a:prstGeom prst="rect">
            <a:avLst/>
          </a:prstGeom>
          <a:ln w="0">
            <a:noFill/>
          </a:ln>
        </p:spPr>
      </p:pic>
      <p:pic>
        <p:nvPicPr>
          <p:cNvPr id="1210" name="" descr=""/>
          <p:cNvPicPr/>
          <p:nvPr/>
        </p:nvPicPr>
        <p:blipFill>
          <a:blip r:embed="rId5"/>
          <a:stretch/>
        </p:blipFill>
        <p:spPr>
          <a:xfrm>
            <a:off x="1822320" y="4948200"/>
            <a:ext cx="3924360" cy="689040"/>
          </a:xfrm>
          <a:prstGeom prst="rect">
            <a:avLst/>
          </a:prstGeom>
          <a:ln w="0">
            <a:noFill/>
          </a:ln>
        </p:spPr>
      </p:pic>
      <p:pic>
        <p:nvPicPr>
          <p:cNvPr id="1211" name="" descr=""/>
          <p:cNvPicPr/>
          <p:nvPr/>
        </p:nvPicPr>
        <p:blipFill>
          <a:blip r:embed="rId6"/>
          <a:stretch/>
        </p:blipFill>
        <p:spPr>
          <a:xfrm>
            <a:off x="1847880" y="3335400"/>
            <a:ext cx="4057560" cy="68904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7"/>
          <a:stretch/>
        </p:blipFill>
        <p:spPr>
          <a:xfrm>
            <a:off x="1905120" y="5710320"/>
            <a:ext cx="39621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73040" y="76320"/>
            <a:ext cx="629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ipartite Entang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371600"/>
          <a:ext cx="5950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595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543800" y="1371600"/>
            <a:ext cx="114624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05120" y="18288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1828800"/>
            <a:ext cx="457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23640" y="23623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7200" y="24382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’s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048120" y="4694400"/>
            <a:ext cx="2020680" cy="334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9680" y="3429000"/>
            <a:ext cx="72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qubits have a wave function        which is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ble: we can express it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905360" y="3505320"/>
            <a:ext cx="351000" cy="334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3048120" y="5105520"/>
            <a:ext cx="866520" cy="334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43160" y="502920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 wav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5119560" y="5667480"/>
            <a:ext cx="2021040" cy="334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31120" y="556272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d: we cannot express it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3048120" y="6170760"/>
            <a:ext cx="2020680" cy="33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4343400" y="990720"/>
            <a:ext cx="351000" cy="334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rot="16200000">
            <a:off x="4152600" y="-1105200"/>
            <a:ext cx="685800" cy="5486400"/>
          </a:xfrm>
          <a:custGeom>
            <a:avLst/>
            <a:gdLst>
              <a:gd name="textAreaLeft" fmla="*/ 0 w 685800"/>
              <a:gd name="textAreaRight" fmla="*/ 247680 w 68580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3343680" y="7632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4" name=""/>
          <p:cNvGraphicFramePr/>
          <p:nvPr/>
        </p:nvGraphicFramePr>
        <p:xfrm>
          <a:off x="1752480" y="228600"/>
          <a:ext cx="501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"/>
                    <a:ext cx="50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6" name="" descr=""/>
          <p:cNvPicPr/>
          <p:nvPr/>
        </p:nvPicPr>
        <p:blipFill>
          <a:blip r:embed="rId3"/>
          <a:stretch/>
        </p:blipFill>
        <p:spPr>
          <a:xfrm>
            <a:off x="6143760" y="228600"/>
            <a:ext cx="915840" cy="1217520"/>
          </a:xfrm>
          <a:prstGeom prst="rect">
            <a:avLst/>
          </a:prstGeom>
          <a:ln w="0">
            <a:noFill/>
          </a:ln>
        </p:spPr>
      </p:pic>
      <p:pic>
        <p:nvPicPr>
          <p:cNvPr id="1217" name="" descr=""/>
          <p:cNvPicPr/>
          <p:nvPr/>
        </p:nvPicPr>
        <p:blipFill>
          <a:blip r:embed="rId4"/>
          <a:stretch/>
        </p:blipFill>
        <p:spPr>
          <a:xfrm>
            <a:off x="1371600" y="76320"/>
            <a:ext cx="12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218" name="" descr=""/>
          <p:cNvPicPr/>
          <p:nvPr/>
        </p:nvPicPr>
        <p:blipFill>
          <a:blip r:embed="rId5"/>
          <a:stretch/>
        </p:blipFill>
        <p:spPr>
          <a:xfrm>
            <a:off x="5991120" y="85680"/>
            <a:ext cx="1179720" cy="1514520"/>
          </a:xfrm>
          <a:prstGeom prst="rect">
            <a:avLst/>
          </a:prstGeom>
          <a:ln w="0">
            <a:noFill/>
          </a:ln>
        </p:spPr>
      </p:pic>
      <p:pic>
        <p:nvPicPr>
          <p:cNvPr id="1219" name="" descr=""/>
          <p:cNvPicPr/>
          <p:nvPr/>
        </p:nvPicPr>
        <p:blipFill>
          <a:blip r:embed="rId6"/>
          <a:stretch/>
        </p:blipFill>
        <p:spPr>
          <a:xfrm>
            <a:off x="2819520" y="1768320"/>
            <a:ext cx="3590640" cy="736920"/>
          </a:xfrm>
          <a:prstGeom prst="rect">
            <a:avLst/>
          </a:prstGeom>
          <a:ln w="0">
            <a:noFill/>
          </a:ln>
        </p:spPr>
      </p:pic>
      <p:sp>
        <p:nvSpPr>
          <p:cNvPr id="1220" name=""/>
          <p:cNvSpPr/>
          <p:nvPr/>
        </p:nvSpPr>
        <p:spPr>
          <a:xfrm>
            <a:off x="154800" y="169236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54080" y="2606760"/>
            <a:ext cx="773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lice got a slip with S, she measures in the basis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lice got a slip with T, she measures in the basis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7"/>
          <a:stretch/>
        </p:blipFill>
        <p:spPr>
          <a:xfrm>
            <a:off x="7848720" y="2730600"/>
            <a:ext cx="992160" cy="304560"/>
          </a:xfrm>
          <a:prstGeom prst="rect">
            <a:avLst/>
          </a:prstGeom>
          <a:ln w="0">
            <a:noFill/>
          </a:ln>
        </p:spPr>
      </p:pic>
      <p:pic>
        <p:nvPicPr>
          <p:cNvPr id="1223" name="" descr=""/>
          <p:cNvPicPr/>
          <p:nvPr/>
        </p:nvPicPr>
        <p:blipFill>
          <a:blip r:embed="rId8"/>
          <a:stretch/>
        </p:blipFill>
        <p:spPr>
          <a:xfrm>
            <a:off x="7831080" y="3063960"/>
            <a:ext cx="1023840" cy="304560"/>
          </a:xfrm>
          <a:prstGeom prst="rect">
            <a:avLst/>
          </a:prstGeom>
          <a:ln w="0">
            <a:noFill/>
          </a:ln>
        </p:spPr>
      </p:pic>
      <p:sp>
        <p:nvSpPr>
          <p:cNvPr id="1224" name=""/>
          <p:cNvSpPr/>
          <p:nvPr/>
        </p:nvSpPr>
        <p:spPr>
          <a:xfrm>
            <a:off x="153360" y="3597120"/>
            <a:ext cx="76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Bob got a slip with S, she measures in the basis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Bob got a slip with T, she measures in the basis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" descr=""/>
          <p:cNvPicPr/>
          <p:nvPr/>
        </p:nvPicPr>
        <p:blipFill>
          <a:blip r:embed="rId9"/>
          <a:stretch/>
        </p:blipFill>
        <p:spPr>
          <a:xfrm>
            <a:off x="7688160" y="3716280"/>
            <a:ext cx="1074960" cy="304920"/>
          </a:xfrm>
          <a:prstGeom prst="rect">
            <a:avLst/>
          </a:prstGeom>
          <a:ln w="0">
            <a:noFill/>
          </a:ln>
        </p:spPr>
      </p:pic>
      <p:pic>
        <p:nvPicPr>
          <p:cNvPr id="1226" name="" descr=""/>
          <p:cNvPicPr/>
          <p:nvPr/>
        </p:nvPicPr>
        <p:blipFill>
          <a:blip r:embed="rId10"/>
          <a:stretch/>
        </p:blipFill>
        <p:spPr>
          <a:xfrm>
            <a:off x="7684920" y="4054320"/>
            <a:ext cx="1089360" cy="304920"/>
          </a:xfrm>
          <a:prstGeom prst="rect">
            <a:avLst/>
          </a:prstGeom>
          <a:ln w="0">
            <a:noFill/>
          </a:ln>
        </p:spPr>
      </p:pic>
      <p:sp>
        <p:nvSpPr>
          <p:cNvPr id="1227" name=""/>
          <p:cNvSpPr/>
          <p:nvPr/>
        </p:nvSpPr>
        <p:spPr>
          <a:xfrm>
            <a:off x="225720" y="4800600"/>
            <a:ext cx="73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parties output their measurement (+ = +1, - =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315360" y="55627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oose angles which maximize the probability of w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2363400" y="76320"/>
            <a:ext cx="434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18880" y="1844640"/>
            <a:ext cx="781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Alice measures in the                        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at Bob measures in the                         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" descr=""/>
          <p:cNvPicPr/>
          <p:nvPr/>
        </p:nvPicPr>
        <p:blipFill>
          <a:blip r:embed="rId1"/>
          <a:stretch/>
        </p:blipFill>
        <p:spPr>
          <a:xfrm>
            <a:off x="2733840" y="863640"/>
            <a:ext cx="3590640" cy="736560"/>
          </a:xfrm>
          <a:prstGeom prst="rect">
            <a:avLst/>
          </a:prstGeom>
          <a:ln w="0">
            <a:noFill/>
          </a:ln>
        </p:spPr>
      </p:pic>
      <p:pic>
        <p:nvPicPr>
          <p:cNvPr id="1232" name="" descr=""/>
          <p:cNvPicPr/>
          <p:nvPr/>
        </p:nvPicPr>
        <p:blipFill>
          <a:blip r:embed="rId2"/>
          <a:stretch/>
        </p:blipFill>
        <p:spPr>
          <a:xfrm>
            <a:off x="4495680" y="2265480"/>
            <a:ext cx="1890720" cy="35064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/>
          <p:cNvPicPr/>
          <p:nvPr/>
        </p:nvPicPr>
        <p:blipFill>
          <a:blip r:embed="rId3"/>
          <a:stretch/>
        </p:blipFill>
        <p:spPr>
          <a:xfrm>
            <a:off x="5257800" y="1862280"/>
            <a:ext cx="1828800" cy="35064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79920" y="289548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ies of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" descr=""/>
          <p:cNvPicPr/>
          <p:nvPr/>
        </p:nvPicPr>
        <p:blipFill>
          <a:blip r:embed="rId4"/>
          <a:stretch/>
        </p:blipFill>
        <p:spPr>
          <a:xfrm>
            <a:off x="615960" y="4111560"/>
            <a:ext cx="3924360" cy="689040"/>
          </a:xfrm>
          <a:prstGeom prst="rect">
            <a:avLst/>
          </a:prstGeom>
          <a:ln w="0">
            <a:noFill/>
          </a:ln>
        </p:spPr>
      </p:pic>
      <p:pic>
        <p:nvPicPr>
          <p:cNvPr id="1236" name="" descr=""/>
          <p:cNvPicPr/>
          <p:nvPr/>
        </p:nvPicPr>
        <p:blipFill>
          <a:blip r:embed="rId5"/>
          <a:stretch/>
        </p:blipFill>
        <p:spPr>
          <a:xfrm>
            <a:off x="647640" y="4948200"/>
            <a:ext cx="3924360" cy="689040"/>
          </a:xfrm>
          <a:prstGeom prst="rect">
            <a:avLst/>
          </a:prstGeom>
          <a:ln w="0">
            <a:noFill/>
          </a:ln>
        </p:spPr>
      </p:pic>
      <p:pic>
        <p:nvPicPr>
          <p:cNvPr id="1237" name="" descr=""/>
          <p:cNvPicPr/>
          <p:nvPr/>
        </p:nvPicPr>
        <p:blipFill>
          <a:blip r:embed="rId6"/>
          <a:stretch/>
        </p:blipFill>
        <p:spPr>
          <a:xfrm>
            <a:off x="635040" y="3335400"/>
            <a:ext cx="4057560" cy="689040"/>
          </a:xfrm>
          <a:prstGeom prst="rect">
            <a:avLst/>
          </a:prstGeom>
          <a:ln w="0">
            <a:noFill/>
          </a:ln>
        </p:spPr>
      </p:pic>
      <p:pic>
        <p:nvPicPr>
          <p:cNvPr id="1238" name="" descr=""/>
          <p:cNvPicPr/>
          <p:nvPr/>
        </p:nvPicPr>
        <p:blipFill>
          <a:blip r:embed="rId7"/>
          <a:stretch/>
        </p:blipFill>
        <p:spPr>
          <a:xfrm>
            <a:off x="685800" y="5710320"/>
            <a:ext cx="3962520" cy="690480"/>
          </a:xfrm>
          <a:prstGeom prst="rect">
            <a:avLst/>
          </a:prstGeom>
          <a:ln w="0">
            <a:noFill/>
          </a:ln>
        </p:spPr>
      </p:pic>
      <p:pic>
        <p:nvPicPr>
          <p:cNvPr id="1239" name="" descr=""/>
          <p:cNvPicPr/>
          <p:nvPr/>
        </p:nvPicPr>
        <p:blipFill>
          <a:blip r:embed="rId8"/>
          <a:stretch/>
        </p:blipFill>
        <p:spPr>
          <a:xfrm>
            <a:off x="5092560" y="4029120"/>
            <a:ext cx="3480120" cy="401760"/>
          </a:xfrm>
          <a:prstGeom prst="rect">
            <a:avLst/>
          </a:prstGeom>
          <a:ln w="0">
            <a:noFill/>
          </a:ln>
        </p:spPr>
      </p:pic>
      <p:pic>
        <p:nvPicPr>
          <p:cNvPr id="1240" name="" descr=""/>
          <p:cNvPicPr/>
          <p:nvPr/>
        </p:nvPicPr>
        <p:blipFill>
          <a:blip r:embed="rId9"/>
          <a:stretch/>
        </p:blipFill>
        <p:spPr>
          <a:xfrm>
            <a:off x="5105520" y="4724280"/>
            <a:ext cx="334620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3343680" y="7632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2" name=""/>
          <p:cNvGraphicFramePr/>
          <p:nvPr/>
        </p:nvGraphicFramePr>
        <p:xfrm>
          <a:off x="1752480" y="228600"/>
          <a:ext cx="501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"/>
                    <a:ext cx="50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4" name="" descr=""/>
          <p:cNvPicPr/>
          <p:nvPr/>
        </p:nvPicPr>
        <p:blipFill>
          <a:blip r:embed="rId3"/>
          <a:stretch/>
        </p:blipFill>
        <p:spPr>
          <a:xfrm>
            <a:off x="6143760" y="228600"/>
            <a:ext cx="915840" cy="1217520"/>
          </a:xfrm>
          <a:prstGeom prst="rect">
            <a:avLst/>
          </a:prstGeom>
          <a:ln w="0">
            <a:noFill/>
          </a:ln>
        </p:spPr>
      </p:pic>
      <p:pic>
        <p:nvPicPr>
          <p:cNvPr id="1245" name="" descr=""/>
          <p:cNvPicPr/>
          <p:nvPr/>
        </p:nvPicPr>
        <p:blipFill>
          <a:blip r:embed="rId4"/>
          <a:stretch/>
        </p:blipFill>
        <p:spPr>
          <a:xfrm>
            <a:off x="1371600" y="76320"/>
            <a:ext cx="12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246" name="" descr=""/>
          <p:cNvPicPr/>
          <p:nvPr/>
        </p:nvPicPr>
        <p:blipFill>
          <a:blip r:embed="rId5"/>
          <a:stretch/>
        </p:blipFill>
        <p:spPr>
          <a:xfrm>
            <a:off x="5991120" y="85680"/>
            <a:ext cx="1179720" cy="1514520"/>
          </a:xfrm>
          <a:prstGeom prst="rect">
            <a:avLst/>
          </a:prstGeom>
          <a:ln w="0">
            <a:noFill/>
          </a:ln>
        </p:spPr>
      </p:pic>
      <p:pic>
        <p:nvPicPr>
          <p:cNvPr id="1247" name="" descr=""/>
          <p:cNvPicPr/>
          <p:nvPr/>
        </p:nvPicPr>
        <p:blipFill>
          <a:blip r:embed="rId6"/>
          <a:stretch/>
        </p:blipFill>
        <p:spPr>
          <a:xfrm>
            <a:off x="603360" y="1754280"/>
            <a:ext cx="7327800" cy="1266840"/>
          </a:xfrm>
          <a:prstGeom prst="rect">
            <a:avLst/>
          </a:prstGeom>
          <a:ln w="0">
            <a:noFill/>
          </a:ln>
        </p:spPr>
      </p:pic>
      <p:pic>
        <p:nvPicPr>
          <p:cNvPr id="1248" name="" descr=""/>
          <p:cNvPicPr/>
          <p:nvPr/>
        </p:nvPicPr>
        <p:blipFill>
          <a:blip r:embed="rId7"/>
          <a:stretch/>
        </p:blipFill>
        <p:spPr>
          <a:xfrm>
            <a:off x="608040" y="3430440"/>
            <a:ext cx="2289240" cy="608040"/>
          </a:xfrm>
          <a:prstGeom prst="rect">
            <a:avLst/>
          </a:prstGeom>
          <a:ln w="0">
            <a:noFill/>
          </a:ln>
        </p:spPr>
      </p:pic>
      <p:pic>
        <p:nvPicPr>
          <p:cNvPr id="1249" name="" descr=""/>
          <p:cNvPicPr/>
          <p:nvPr/>
        </p:nvPicPr>
        <p:blipFill>
          <a:blip r:embed="rId8"/>
          <a:stretch/>
        </p:blipFill>
        <p:spPr>
          <a:xfrm>
            <a:off x="3533760" y="3368520"/>
            <a:ext cx="2695680" cy="623880"/>
          </a:xfrm>
          <a:prstGeom prst="rect">
            <a:avLst/>
          </a:prstGeom>
          <a:ln w="0">
            <a:noFill/>
          </a:ln>
        </p:spPr>
      </p:pic>
      <p:pic>
        <p:nvPicPr>
          <p:cNvPr id="1250" name="" descr=""/>
          <p:cNvPicPr/>
          <p:nvPr/>
        </p:nvPicPr>
        <p:blipFill>
          <a:blip r:embed="rId9"/>
          <a:stretch/>
        </p:blipFill>
        <p:spPr>
          <a:xfrm>
            <a:off x="328680" y="4343400"/>
            <a:ext cx="8385120" cy="609480"/>
          </a:xfrm>
          <a:prstGeom prst="rect">
            <a:avLst/>
          </a:prstGeom>
          <a:ln w="0">
            <a:noFill/>
          </a:ln>
        </p:spPr>
      </p:pic>
      <p:pic>
        <p:nvPicPr>
          <p:cNvPr id="1251" name="" descr=""/>
          <p:cNvPicPr/>
          <p:nvPr/>
        </p:nvPicPr>
        <p:blipFill>
          <a:blip r:embed="rId10"/>
          <a:stretch/>
        </p:blipFill>
        <p:spPr>
          <a:xfrm>
            <a:off x="365040" y="5257800"/>
            <a:ext cx="527364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3343680" y="7632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3" name=""/>
          <p:cNvGraphicFramePr/>
          <p:nvPr/>
        </p:nvGraphicFramePr>
        <p:xfrm>
          <a:off x="1752480" y="228600"/>
          <a:ext cx="501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"/>
                    <a:ext cx="50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5" name="" descr=""/>
          <p:cNvPicPr/>
          <p:nvPr/>
        </p:nvPicPr>
        <p:blipFill>
          <a:blip r:embed="rId3"/>
          <a:stretch/>
        </p:blipFill>
        <p:spPr>
          <a:xfrm>
            <a:off x="6143760" y="228600"/>
            <a:ext cx="915840" cy="1217520"/>
          </a:xfrm>
          <a:prstGeom prst="rect">
            <a:avLst/>
          </a:prstGeom>
          <a:ln w="0">
            <a:noFill/>
          </a:ln>
        </p:spPr>
      </p:pic>
      <p:pic>
        <p:nvPicPr>
          <p:cNvPr id="1256" name="" descr=""/>
          <p:cNvPicPr/>
          <p:nvPr/>
        </p:nvPicPr>
        <p:blipFill>
          <a:blip r:embed="rId4"/>
          <a:stretch/>
        </p:blipFill>
        <p:spPr>
          <a:xfrm>
            <a:off x="1371600" y="76320"/>
            <a:ext cx="12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257" name="" descr=""/>
          <p:cNvPicPr/>
          <p:nvPr/>
        </p:nvPicPr>
        <p:blipFill>
          <a:blip r:embed="rId5"/>
          <a:stretch/>
        </p:blipFill>
        <p:spPr>
          <a:xfrm>
            <a:off x="5991120" y="85680"/>
            <a:ext cx="1179720" cy="1514520"/>
          </a:xfrm>
          <a:prstGeom prst="rect">
            <a:avLst/>
          </a:prstGeom>
          <a:ln w="0">
            <a:noFill/>
          </a:ln>
        </p:spPr>
      </p:pic>
      <p:pic>
        <p:nvPicPr>
          <p:cNvPr id="1258" name="" descr=""/>
          <p:cNvPicPr/>
          <p:nvPr/>
        </p:nvPicPr>
        <p:blipFill>
          <a:blip r:embed="rId6"/>
          <a:stretch/>
        </p:blipFill>
        <p:spPr>
          <a:xfrm>
            <a:off x="2819520" y="1768320"/>
            <a:ext cx="3590640" cy="736920"/>
          </a:xfrm>
          <a:prstGeom prst="rect">
            <a:avLst/>
          </a:prstGeom>
          <a:ln w="0">
            <a:noFill/>
          </a:ln>
        </p:spPr>
      </p:pic>
      <p:sp>
        <p:nvSpPr>
          <p:cNvPr id="1259" name=""/>
          <p:cNvSpPr/>
          <p:nvPr/>
        </p:nvSpPr>
        <p:spPr>
          <a:xfrm>
            <a:off x="232200" y="2666880"/>
            <a:ext cx="79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sharing this entangled state, which they cannot us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e with each other, but they can increase the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ces of defeating this evil evil wa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2438640" y="0"/>
            <a:ext cx="418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ll’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1" name=""/>
          <p:cNvGraphicFramePr/>
          <p:nvPr/>
        </p:nvGraphicFramePr>
        <p:xfrm>
          <a:off x="838080" y="3048120"/>
          <a:ext cx="5018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8120"/>
                    <a:ext cx="5018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3" name="" descr=""/>
          <p:cNvPicPr/>
          <p:nvPr/>
        </p:nvPicPr>
        <p:blipFill>
          <a:blip r:embed="rId3"/>
          <a:stretch/>
        </p:blipFill>
        <p:spPr>
          <a:xfrm>
            <a:off x="6705720" y="3048120"/>
            <a:ext cx="915840" cy="1217520"/>
          </a:xfrm>
          <a:prstGeom prst="rect">
            <a:avLst/>
          </a:prstGeom>
          <a:ln w="0">
            <a:noFill/>
          </a:ln>
        </p:spPr>
      </p:pic>
      <p:pic>
        <p:nvPicPr>
          <p:cNvPr id="1264" name="" descr=""/>
          <p:cNvPicPr/>
          <p:nvPr/>
        </p:nvPicPr>
        <p:blipFill>
          <a:blip r:embed="rId4"/>
          <a:stretch/>
        </p:blipFill>
        <p:spPr>
          <a:xfrm>
            <a:off x="457200" y="2895480"/>
            <a:ext cx="12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265" name="" descr=""/>
          <p:cNvPicPr/>
          <p:nvPr/>
        </p:nvPicPr>
        <p:blipFill>
          <a:blip r:embed="rId5"/>
          <a:stretch/>
        </p:blipFill>
        <p:spPr>
          <a:xfrm>
            <a:off x="6553080" y="2905200"/>
            <a:ext cx="1179720" cy="1514520"/>
          </a:xfrm>
          <a:prstGeom prst="rect">
            <a:avLst/>
          </a:prstGeom>
          <a:ln w="0">
            <a:noFill/>
          </a:ln>
        </p:spPr>
      </p:pic>
      <p:sp>
        <p:nvSpPr>
          <p:cNvPr id="1266" name=""/>
          <p:cNvSpPr/>
          <p:nvPr/>
        </p:nvSpPr>
        <p:spPr>
          <a:xfrm>
            <a:off x="1658880" y="44956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4097160" y="304812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328080" y="45720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4098960" y="26668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1793880" y="3123720"/>
            <a:ext cx="266688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793880" y="320040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3581280" y="3123720"/>
            <a:ext cx="266724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792600" y="3048120"/>
            <a:ext cx="26668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3048120" y="4495680"/>
            <a:ext cx="914400" cy="1524240"/>
          </a:xfrm>
          <a:custGeom>
            <a:avLst/>
            <a:gdLst/>
            <a:ahLst/>
            <a:rect l="l" t="t" r="r" b="b"/>
            <a:pathLst>
              <a:path w="576" h="912">
                <a:moveTo>
                  <a:pt x="576" y="912"/>
                </a:moveTo>
                <a:cubicBezTo>
                  <a:pt x="480" y="796"/>
                  <a:pt x="384" y="680"/>
                  <a:pt x="288" y="528"/>
                </a:cubicBezTo>
                <a:cubicBezTo>
                  <a:pt x="192" y="376"/>
                  <a:pt x="96" y="18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4343400"/>
            <a:ext cx="1066680" cy="167652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0" y="1056"/>
                </a:moveTo>
                <a:cubicBezTo>
                  <a:pt x="208" y="856"/>
                  <a:pt x="416" y="656"/>
                  <a:pt x="528" y="480"/>
                </a:cubicBezTo>
                <a:cubicBezTo>
                  <a:pt x="640" y="304"/>
                  <a:pt x="656" y="152"/>
                  <a:pt x="672" y="0"/>
                </a:cubicBezTo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349520" y="6019920"/>
            <a:ext cx="329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 class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 hidden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flipH="1" flipV="1">
            <a:off x="4572000" y="54100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H="1" flipV="1">
            <a:off x="3580920" y="548640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9" name="" descr=""/>
          <p:cNvPicPr/>
          <p:nvPr/>
        </p:nvPicPr>
        <p:blipFill>
          <a:blip r:embed="rId6"/>
          <a:stretch/>
        </p:blipFill>
        <p:spPr>
          <a:xfrm>
            <a:off x="2514600" y="685800"/>
            <a:ext cx="3591000" cy="736560"/>
          </a:xfrm>
          <a:prstGeom prst="rect">
            <a:avLst/>
          </a:prstGeom>
          <a:ln w="0">
            <a:noFill/>
          </a:ln>
        </p:spPr>
      </p:pic>
      <p:sp>
        <p:nvSpPr>
          <p:cNvPr id="1280" name=""/>
          <p:cNvSpPr/>
          <p:nvPr/>
        </p:nvSpPr>
        <p:spPr>
          <a:xfrm>
            <a:off x="307080" y="1523880"/>
            <a:ext cx="82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’s theorem tells us that we cannot simulate the stat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quantum theory using a local hidden variable theo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2438640" y="0"/>
            <a:ext cx="418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ll’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07080" y="83808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is this prof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666880" y="15238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971800" y="15238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276720" y="152388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276720" y="18288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971800" y="18288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666880" y="1828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2666880" y="2133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971800" y="21337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276720" y="2133720"/>
            <a:ext cx="30456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276720" y="2438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97180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266688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581280" y="15238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3886200" y="15238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4191120" y="152388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191120" y="18288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18288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581280" y="18288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581280" y="21337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886200" y="21337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191120" y="2133720"/>
            <a:ext cx="30456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191120" y="243828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886200" y="24382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581280" y="24382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495680" y="15238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800600" y="15238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5105520" y="152388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105520" y="18288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800600" y="18288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495680" y="18288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495680" y="21337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105520" y="2133720"/>
            <a:ext cx="30456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105520" y="243828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800600" y="24382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495680" y="24382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410080" y="15238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019920" y="152388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019920" y="18288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5715000" y="18288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5410080" y="18288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410080" y="21337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5715000" y="21337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6019920" y="21337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019920" y="24382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715000" y="24382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43828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666880" y="2743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971800" y="2743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276720" y="2743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276720" y="3048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971800" y="3048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666880" y="3048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26668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97180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276720" y="3352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276720" y="36576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971800" y="36576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666880" y="36576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581280" y="2743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886200" y="27432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4191120" y="27432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191120" y="3048120"/>
            <a:ext cx="30456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886200" y="3048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3581280" y="3048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5812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88620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4191120" y="3352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191120" y="36576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886200" y="36576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581280" y="36576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4495680" y="27432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800600" y="2743200"/>
            <a:ext cx="30492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5105520" y="2743200"/>
            <a:ext cx="304560" cy="3049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5105520" y="3048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4800600" y="30481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3048120"/>
            <a:ext cx="304920" cy="304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495680" y="335268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480060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5105520" y="3352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105520" y="36576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4800600" y="36576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495680" y="36576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410080" y="2743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715000" y="27432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6019920" y="27432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019920" y="30481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715000" y="3048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5410080" y="30481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4100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71500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6019920" y="33526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019920" y="36576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715000" y="36576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10080" y="36576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666880" y="3962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971800" y="3962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2767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276720" y="42670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971800" y="4267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2666880" y="4267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266688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297180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276720" y="4572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3276720" y="4876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97180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66688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581280" y="3962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886200" y="3962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41911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4191120" y="42670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3886200" y="4267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581280" y="4267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58128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88620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191120" y="4572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191120" y="4876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88620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58128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3962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4800600" y="3962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51055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105520" y="42670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4800600" y="4267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4495680" y="4267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49568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480060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5105520" y="4572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105520" y="4876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480060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49568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410080" y="3962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5715000" y="39625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6019920" y="39625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6019920" y="426708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715000" y="4267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410080" y="42670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541008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715000" y="45720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019920" y="45720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019920" y="487692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71500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410080" y="487692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6629400" y="1523880"/>
            <a:ext cx="0" cy="381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2590920" y="53341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12480" y="5349960"/>
            <a:ext cx="873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 theories, with classical information, like cellular autom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reproduce the predictions of quantum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384480" y="624852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pologies to Stephen Wolf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2438640" y="0"/>
            <a:ext cx="418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ll’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07080" y="83808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is this prof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234360" y="1676520"/>
            <a:ext cx="87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all our model where we put bits into boxes to get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232200" y="251460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lation is not prof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231120" y="3276720"/>
            <a:ext cx="826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quantum correlation is different from experiments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generate correlations local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as truly the first result in quantum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correlations play games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classical 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2438640" y="0"/>
            <a:ext cx="418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ll’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07080" y="68580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is this prof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08520" y="137160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’s theorem is an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26160" y="1905120"/>
            <a:ext cx="55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local hidden variable theories satis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20760" y="3048120"/>
            <a:ext cx="39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quantum theory pred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1" name="" descr=""/>
          <p:cNvPicPr/>
          <p:nvPr/>
        </p:nvPicPr>
        <p:blipFill>
          <a:blip r:embed="rId1"/>
          <a:stretch/>
        </p:blipFill>
        <p:spPr>
          <a:xfrm>
            <a:off x="2259000" y="3632040"/>
            <a:ext cx="3608280" cy="636840"/>
          </a:xfrm>
          <a:prstGeom prst="rect">
            <a:avLst/>
          </a:prstGeom>
          <a:ln w="0">
            <a:noFill/>
          </a:ln>
        </p:spPr>
      </p:pic>
      <p:pic>
        <p:nvPicPr>
          <p:cNvPr id="1442" name="" descr=""/>
          <p:cNvPicPr/>
          <p:nvPr/>
        </p:nvPicPr>
        <p:blipFill>
          <a:blip r:embed="rId2"/>
          <a:stretch/>
        </p:blipFill>
        <p:spPr>
          <a:xfrm>
            <a:off x="3192480" y="2432160"/>
            <a:ext cx="1692360" cy="596880"/>
          </a:xfrm>
          <a:prstGeom prst="rect">
            <a:avLst/>
          </a:prstGeom>
          <a:ln w="0">
            <a:noFill/>
          </a:ln>
        </p:spPr>
      </p:pic>
      <p:sp>
        <p:nvSpPr>
          <p:cNvPr id="1443" name=""/>
          <p:cNvSpPr/>
          <p:nvPr/>
        </p:nvSpPr>
        <p:spPr>
          <a:xfrm>
            <a:off x="246960" y="4267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go out and test it!!!!   Famous tests of Aspect 198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4" name="" descr=""/>
          <p:cNvPicPr/>
          <p:nvPr/>
        </p:nvPicPr>
        <p:blipFill>
          <a:blip r:embed="rId3"/>
          <a:stretch/>
        </p:blipFill>
        <p:spPr>
          <a:xfrm>
            <a:off x="1066680" y="4745160"/>
            <a:ext cx="685800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-2160" y="98280"/>
            <a:ext cx="92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tanglement and Quantum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05640" y="106668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remarked before, that a general quantum state on 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7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2749680" cy="815760"/>
          </a:xfrm>
          <a:prstGeom prst="rect">
            <a:avLst/>
          </a:prstGeom>
          <a:ln w="0">
            <a:noFill/>
          </a:ln>
        </p:spPr>
      </p:pic>
      <p:sp>
        <p:nvSpPr>
          <p:cNvPr id="1448" name=""/>
          <p:cNvSpPr/>
          <p:nvPr/>
        </p:nvSpPr>
        <p:spPr>
          <a:xfrm>
            <a:off x="294120" y="2590920"/>
            <a:ext cx="84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d       complex numbers to specify.  Exponential in n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9" name="" descr=""/>
          <p:cNvPicPr/>
          <p:nvPr/>
        </p:nvPicPr>
        <p:blipFill>
          <a:blip r:embed="rId2"/>
          <a:stretch/>
        </p:blipFill>
        <p:spPr>
          <a:xfrm>
            <a:off x="1741320" y="2709720"/>
            <a:ext cx="303480" cy="220680"/>
          </a:xfrm>
          <a:prstGeom prst="rect">
            <a:avLst/>
          </a:prstGeom>
          <a:ln w="0">
            <a:noFill/>
          </a:ln>
        </p:spPr>
      </p:pic>
      <p:sp>
        <p:nvSpPr>
          <p:cNvPr id="1450" name=""/>
          <p:cNvSpPr/>
          <p:nvPr/>
        </p:nvSpPr>
        <p:spPr>
          <a:xfrm>
            <a:off x="307440" y="350532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, suppose that this n qubit state is separable across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1" name="" descr=""/>
          <p:cNvPicPr/>
          <p:nvPr/>
        </p:nvPicPr>
        <p:blipFill>
          <a:blip r:embed="rId3"/>
          <a:stretch/>
        </p:blipFill>
        <p:spPr>
          <a:xfrm>
            <a:off x="1225440" y="4357800"/>
            <a:ext cx="3803760" cy="290520"/>
          </a:xfrm>
          <a:prstGeom prst="rect">
            <a:avLst/>
          </a:prstGeom>
          <a:ln w="0">
            <a:noFill/>
          </a:ln>
        </p:spPr>
      </p:pic>
      <p:sp>
        <p:nvSpPr>
          <p:cNvPr id="1452" name=""/>
          <p:cNvSpPr/>
          <p:nvPr/>
        </p:nvSpPr>
        <p:spPr>
          <a:xfrm>
            <a:off x="387000" y="4800600"/>
            <a:ext cx="86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single qubit wave function requires us to specify only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x numbers, so we only need 2n complex number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y this separable sta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-2160" y="98280"/>
            <a:ext cx="92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tanglement and Quantum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3803400" cy="290520"/>
          </a:xfrm>
          <a:prstGeom prst="rect">
            <a:avLst/>
          </a:prstGeom>
          <a:ln w="0">
            <a:noFill/>
          </a:ln>
        </p:spPr>
      </p:pic>
      <p:sp>
        <p:nvSpPr>
          <p:cNvPr id="1455" name=""/>
          <p:cNvSpPr/>
          <p:nvPr/>
        </p:nvSpPr>
        <p:spPr>
          <a:xfrm>
            <a:off x="7200" y="838080"/>
            <a:ext cx="90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during an algorithm, the state always remains 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55160" y="190512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efficiently simulate this quantum computation o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ical compu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992520" y="2819520"/>
            <a:ext cx="72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and two qubit gates are just 2x2 and 4x4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304920" y="3809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, we need some entanglement in a quantum algorithm in order to have a speedup of quantum over class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wo Qubits, Separ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1480" y="12193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2021040" cy="335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647720" y="1847880"/>
            <a:ext cx="2903760" cy="749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975200" y="1822320"/>
            <a:ext cx="3140280" cy="73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80880" y="2895480"/>
            <a:ext cx="7893000" cy="846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222120" y="4200480"/>
            <a:ext cx="8775720" cy="768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28600" y="5254560"/>
            <a:ext cx="629928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-2160" y="98280"/>
            <a:ext cx="92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tanglement and Quantum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7240" y="838080"/>
            <a:ext cx="629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ittle more sophisticated [Jozsa and Linde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34960" y="1447920"/>
            <a:ext cx="71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-blocked: If no p+1 subset of n qubits is entang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38200" y="2209680"/>
            <a:ext cx="79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h circuits can be efficiently simulated if p is poly(lo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38920" y="2819520"/>
            <a:ext cx="786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c idea: Entangled blocks of size p can be expre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mplex numbe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polynomial in n if p is poly(lo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06360" y="4800600"/>
            <a:ext cx="855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“large amount” of entanglement is necessary for a quant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up.  Interestingly it is not su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/>
          <p:nvPr/>
        </p:nvSpPr>
        <p:spPr>
          <a:xfrm>
            <a:off x="-2160" y="98280"/>
            <a:ext cx="92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tanglement and Quantum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30040" y="1143000"/>
            <a:ext cx="867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ide benefit: physicists spend a lot of time trying to sim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systems.  This is often computationally h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we know that entanglement is important for this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, we can design our algorithms to keep track of as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anglement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has lead to nice deep insights into some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ists had previously invented, and is currently 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oited to design new faster algorithm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11760" y="510552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ing entanglement is essential to understand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s of computational quantum physic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/>
          <p:nvPr/>
        </p:nvSpPr>
        <p:spPr>
          <a:xfrm>
            <a:off x="2838960" y="152280"/>
            <a:ext cx="332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alk To 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83808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0" name=""/>
          <p:cNvGraphicFramePr/>
          <p:nvPr/>
        </p:nvGraphicFramePr>
        <p:xfrm>
          <a:off x="838080" y="304920"/>
          <a:ext cx="82728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82728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2" name="" descr=""/>
          <p:cNvPicPr/>
          <p:nvPr/>
        </p:nvPicPr>
        <p:blipFill>
          <a:blip r:embed="rId3"/>
          <a:stretch/>
        </p:blipFill>
        <p:spPr>
          <a:xfrm>
            <a:off x="6616800" y="228600"/>
            <a:ext cx="1612800" cy="2057400"/>
          </a:xfrm>
          <a:prstGeom prst="rect">
            <a:avLst/>
          </a:prstGeom>
          <a:ln w="0">
            <a:noFill/>
          </a:ln>
        </p:spPr>
      </p:pic>
      <p:sp>
        <p:nvSpPr>
          <p:cNvPr id="1473" name=""/>
          <p:cNvSpPr/>
          <p:nvPr/>
        </p:nvSpPr>
        <p:spPr>
          <a:xfrm>
            <a:off x="699768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991800" y="388620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68724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90480" y="3368520"/>
            <a:ext cx="38124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06812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07172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0636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30960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44936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45260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33496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233856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890720" y="3568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2043000" y="3568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2195640" y="3568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647856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48180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685944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862680" y="3368520"/>
            <a:ext cx="38124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609732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10092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24032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724392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812628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8129520" y="3368520"/>
            <a:ext cx="38124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682040" y="3568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7834320" y="3568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986600" y="3568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1220760" y="271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7191360" y="2643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6782760" y="384012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485800" y="1935000"/>
            <a:ext cx="17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,b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4210200" y="1633680"/>
            <a:ext cx="609480" cy="1185840"/>
          </a:xfrm>
          <a:custGeom>
            <a:avLst/>
            <a:gdLst>
              <a:gd name="textAreaLeft" fmla="*/ 389520 w 609480"/>
              <a:gd name="textAreaRight" fmla="*/ 609840 w 609480"/>
              <a:gd name="textAreaTop" fmla="*/ 30600 h 1185840"/>
              <a:gd name="textAreaBottom" fmla="*/ 1155240 h 118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4607640" y="1676520"/>
            <a:ext cx="160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f a=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if a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79080" y="4495680"/>
            <a:ext cx="842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(many bits) do Alice and Bob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change to compute F(a,b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969840" y="5715000"/>
            <a:ext cx="726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 no erro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n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 one-sided error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O(log(n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/>
          <p:nvPr/>
        </p:nvSpPr>
        <p:spPr>
          <a:xfrm>
            <a:off x="2750400" y="76320"/>
            <a:ext cx="349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alk To M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ome M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83808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1" name=""/>
          <p:cNvGraphicFramePr/>
          <p:nvPr/>
        </p:nvGraphicFramePr>
        <p:xfrm>
          <a:off x="838080" y="304920"/>
          <a:ext cx="82728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82728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3" name="" descr=""/>
          <p:cNvPicPr/>
          <p:nvPr/>
        </p:nvPicPr>
        <p:blipFill>
          <a:blip r:embed="rId3"/>
          <a:stretch/>
        </p:blipFill>
        <p:spPr>
          <a:xfrm>
            <a:off x="6616800" y="228600"/>
            <a:ext cx="1612800" cy="2057400"/>
          </a:xfrm>
          <a:prstGeom prst="rect">
            <a:avLst/>
          </a:prstGeom>
          <a:ln w="0">
            <a:noFill/>
          </a:ln>
        </p:spPr>
      </p:pic>
      <p:sp>
        <p:nvSpPr>
          <p:cNvPr id="1514" name=""/>
          <p:cNvSpPr/>
          <p:nvPr/>
        </p:nvSpPr>
        <p:spPr>
          <a:xfrm>
            <a:off x="699768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991800" y="388620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68724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90480" y="3368520"/>
            <a:ext cx="38124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06812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107172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0636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0960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44936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145260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233496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33856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890720" y="3568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043000" y="3568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195640" y="3568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647856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48180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685944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6862680" y="3368520"/>
            <a:ext cx="38124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09732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10092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724032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7243920" y="3368520"/>
            <a:ext cx="38088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8126280" y="3306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8129520" y="3368520"/>
            <a:ext cx="381240" cy="4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7682040" y="3568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7834320" y="3568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986600" y="3568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220760" y="2719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191360" y="2643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782760" y="384012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361880" y="4419720"/>
            <a:ext cx="6396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,b)=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226440" y="5181480"/>
            <a:ext cx="842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(many bits) do Alice and Bob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change to compute F(a,b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2454480" y="6202440"/>
            <a:ext cx="39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 no erro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1 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442440" y="76320"/>
            <a:ext cx="823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ommunication Complex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4816440" y="362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77640" y="990720"/>
            <a:ext cx="840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communication between 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Bob is necessary for them to comp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a,b) when Alice knows a and Bob knows 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Yao 79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2897280" y="541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057400" y="5105520"/>
            <a:ext cx="2133720" cy="12189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752480" y="4829040"/>
            <a:ext cx="5181840" cy="1752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4802040" y="53341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607680" y="4114800"/>
            <a:ext cx="75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trast to computational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01520" y="3276720"/>
            <a:ext cx="898344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y rigorous lower and matching upper b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7316640" y="5410080"/>
            <a:ext cx="116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=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=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"/>
          <p:cNvSpPr/>
          <p:nvPr/>
        </p:nvSpPr>
        <p:spPr>
          <a:xfrm>
            <a:off x="2054160" y="76320"/>
            <a:ext cx="508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ake It Quant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685800" y="2416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0" name=""/>
          <p:cNvGraphicFramePr/>
          <p:nvPr/>
        </p:nvGraphicFramePr>
        <p:xfrm>
          <a:off x="685800" y="358920"/>
          <a:ext cx="82692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8920"/>
                    <a:ext cx="8269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2" name="" descr=""/>
          <p:cNvPicPr/>
          <p:nvPr/>
        </p:nvPicPr>
        <p:blipFill>
          <a:blip r:embed="rId3"/>
          <a:stretch/>
        </p:blipFill>
        <p:spPr>
          <a:xfrm>
            <a:off x="7149960" y="228600"/>
            <a:ext cx="1613160" cy="20574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74674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106812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7661160" y="2643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2895480" y="1066680"/>
            <a:ext cx="3353040" cy="1067040"/>
          </a:xfrm>
          <a:prstGeom prst="leftRightArrow">
            <a:avLst>
              <a:gd name="adj1" fmla="val 50000"/>
              <a:gd name="adj2" fmla="val 6255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3133800" y="236232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8" name="" descr=""/>
          <p:cNvPicPr/>
          <p:nvPr/>
        </p:nvPicPr>
        <p:blipFill>
          <a:blip r:embed="rId4"/>
          <a:stretch/>
        </p:blipFill>
        <p:spPr>
          <a:xfrm>
            <a:off x="3581280" y="2895480"/>
            <a:ext cx="2149560" cy="273240"/>
          </a:xfrm>
          <a:prstGeom prst="rect">
            <a:avLst/>
          </a:prstGeom>
          <a:ln w="0">
            <a:noFill/>
          </a:ln>
        </p:spPr>
      </p:pic>
      <p:sp>
        <p:nvSpPr>
          <p:cNvPr id="1569" name=""/>
          <p:cNvSpPr/>
          <p:nvPr/>
        </p:nvSpPr>
        <p:spPr>
          <a:xfrm>
            <a:off x="271080" y="3505320"/>
            <a:ext cx="8573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oes classical communication complexity (bi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to quantum communication complexity (qubits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1545480" y="4829040"/>
            <a:ext cx="6917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levo’s Theoer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nding n classical bi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n quantum bi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" descr=""/>
          <p:cNvPicPr/>
          <p:nvPr/>
        </p:nvPicPr>
        <p:blipFill>
          <a:blip r:embed="rId5"/>
          <a:stretch/>
        </p:blipFill>
        <p:spPr>
          <a:xfrm>
            <a:off x="457200" y="4724280"/>
            <a:ext cx="1117440" cy="1117800"/>
          </a:xfrm>
          <a:prstGeom prst="rect">
            <a:avLst/>
          </a:prstGeom>
          <a:ln w="0">
            <a:noFill/>
          </a:ln>
        </p:spPr>
      </p:pic>
      <p:sp>
        <p:nvSpPr>
          <p:cNvPr id="1572" name=""/>
          <p:cNvSpPr/>
          <p:nvPr/>
        </p:nvSpPr>
        <p:spPr>
          <a:xfrm>
            <a:off x="457200" y="4724280"/>
            <a:ext cx="807732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3" name="" descr=""/>
          <p:cNvPicPr/>
          <p:nvPr/>
        </p:nvPicPr>
        <p:blipFill>
          <a:blip r:embed="rId1"/>
          <a:stretch/>
        </p:blipFill>
        <p:spPr>
          <a:xfrm>
            <a:off x="677880" y="1235160"/>
            <a:ext cx="1333440" cy="1778040"/>
          </a:xfrm>
          <a:prstGeom prst="rect">
            <a:avLst/>
          </a:prstGeom>
          <a:ln w="0">
            <a:noFill/>
          </a:ln>
        </p:spPr>
      </p:pic>
      <p:sp>
        <p:nvSpPr>
          <p:cNvPr id="1574" name=""/>
          <p:cNvSpPr/>
          <p:nvPr/>
        </p:nvSpPr>
        <p:spPr>
          <a:xfrm>
            <a:off x="2362320" y="1295280"/>
            <a:ext cx="6553080" cy="1676520"/>
          </a:xfrm>
          <a:prstGeom prst="wedgeRectCallout">
            <a:avLst>
              <a:gd name="adj1" fmla="val -61675"/>
              <a:gd name="adj2" fmla="val 4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2748600" y="76320"/>
            <a:ext cx="35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ot So Fa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604440" y="3063960"/>
            <a:ext cx="14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 Ra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513160" y="1327320"/>
            <a:ext cx="639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exists functions F(a,b) which requ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log(m)) bits of communication to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n be solved using only O(log(m)) qu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m is the length of a and 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337720" y="3733920"/>
            <a:ext cx="33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benefi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over class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9" name="" descr=""/>
          <p:cNvPicPr/>
          <p:nvPr/>
        </p:nvPicPr>
        <p:blipFill>
          <a:blip r:embed="rId2"/>
          <a:stretch/>
        </p:blipFill>
        <p:spPr>
          <a:xfrm>
            <a:off x="2286000" y="3429000"/>
            <a:ext cx="2914560" cy="1469880"/>
          </a:xfrm>
          <a:prstGeom prst="rect">
            <a:avLst/>
          </a:prstGeom>
          <a:ln w="0">
            <a:noFill/>
          </a:ln>
        </p:spPr>
      </p:pic>
      <p:sp>
        <p:nvSpPr>
          <p:cNvPr id="1580" name=""/>
          <p:cNvSpPr/>
          <p:nvPr/>
        </p:nvSpPr>
        <p:spPr>
          <a:xfrm>
            <a:off x="2286000" y="3429000"/>
            <a:ext cx="670572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40720" y="5150880"/>
            <a:ext cx="636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 model 0-err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hrman, Cleve, Wigderson (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way communication exponential sepa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-Yossef, Jayram, Kerenidis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/>
          <p:nvPr/>
        </p:nvSpPr>
        <p:spPr>
          <a:xfrm>
            <a:off x="457200" y="2416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3" name=""/>
          <p:cNvGraphicFramePr/>
          <p:nvPr/>
        </p:nvGraphicFramePr>
        <p:xfrm>
          <a:off x="457200" y="358920"/>
          <a:ext cx="82692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58920"/>
                    <a:ext cx="8269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5" name="" descr=""/>
          <p:cNvPicPr/>
          <p:nvPr/>
        </p:nvPicPr>
        <p:blipFill>
          <a:blip r:embed="rId3"/>
          <a:stretch/>
        </p:blipFill>
        <p:spPr>
          <a:xfrm>
            <a:off x="7531200" y="228600"/>
            <a:ext cx="1612800" cy="2057400"/>
          </a:xfrm>
          <a:prstGeom prst="rect">
            <a:avLst/>
          </a:prstGeom>
          <a:ln w="0">
            <a:noFill/>
          </a:ln>
        </p:spPr>
      </p:pic>
      <p:sp>
        <p:nvSpPr>
          <p:cNvPr id="1586" name=""/>
          <p:cNvSpPr/>
          <p:nvPr/>
        </p:nvSpPr>
        <p:spPr>
          <a:xfrm>
            <a:off x="777240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839520" y="2773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974000" y="2643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3812400" y="2133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0" name="" descr=""/>
          <p:cNvPicPr/>
          <p:nvPr/>
        </p:nvPicPr>
        <p:blipFill>
          <a:blip r:embed="rId4"/>
          <a:stretch/>
        </p:blipFill>
        <p:spPr>
          <a:xfrm>
            <a:off x="3429000" y="2666880"/>
            <a:ext cx="2149560" cy="273240"/>
          </a:xfrm>
          <a:prstGeom prst="rect">
            <a:avLst/>
          </a:prstGeom>
          <a:ln w="0">
            <a:noFill/>
          </a:ln>
        </p:spPr>
      </p:pic>
      <p:sp>
        <p:nvSpPr>
          <p:cNvPr id="1591" name=""/>
          <p:cNvSpPr/>
          <p:nvPr/>
        </p:nvSpPr>
        <p:spPr>
          <a:xfrm>
            <a:off x="1153080" y="0"/>
            <a:ext cx="687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Quantum Telepor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2" name="" descr=""/>
          <p:cNvPicPr/>
          <p:nvPr/>
        </p:nvPicPr>
        <p:blipFill>
          <a:blip r:embed="rId5"/>
          <a:stretch/>
        </p:blipFill>
        <p:spPr>
          <a:xfrm>
            <a:off x="4191120" y="3276720"/>
            <a:ext cx="541080" cy="419040"/>
          </a:xfrm>
          <a:prstGeom prst="rect">
            <a:avLst/>
          </a:prstGeom>
          <a:ln w="0">
            <a:noFill/>
          </a:ln>
        </p:spPr>
      </p:pic>
      <p:sp>
        <p:nvSpPr>
          <p:cNvPr id="1593" name=""/>
          <p:cNvSpPr/>
          <p:nvPr/>
        </p:nvSpPr>
        <p:spPr>
          <a:xfrm>
            <a:off x="3276720" y="914400"/>
            <a:ext cx="2438280" cy="1143000"/>
          </a:xfrm>
          <a:prstGeom prst="rightArrow">
            <a:avLst>
              <a:gd name="adj1" fmla="val 50000"/>
              <a:gd name="adj2" fmla="val 53331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533520" y="538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5" name=""/>
          <p:cNvGraphicFramePr/>
          <p:nvPr/>
        </p:nvGraphicFramePr>
        <p:xfrm>
          <a:off x="533520" y="3330720"/>
          <a:ext cx="826920" cy="2031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3330720"/>
                    <a:ext cx="8269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7" name="" descr=""/>
          <p:cNvPicPr/>
          <p:nvPr/>
        </p:nvPicPr>
        <p:blipFill>
          <a:blip r:embed="rId8"/>
          <a:stretch/>
        </p:blipFill>
        <p:spPr>
          <a:xfrm>
            <a:off x="7454880" y="3200400"/>
            <a:ext cx="1612800" cy="2057400"/>
          </a:xfrm>
          <a:prstGeom prst="rect">
            <a:avLst/>
          </a:prstGeom>
          <a:ln w="0">
            <a:noFill/>
          </a:ln>
        </p:spPr>
      </p:pic>
      <p:sp>
        <p:nvSpPr>
          <p:cNvPr id="1598" name=""/>
          <p:cNvSpPr/>
          <p:nvPr/>
        </p:nvSpPr>
        <p:spPr>
          <a:xfrm>
            <a:off x="777240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91584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8002440" y="5614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888000" y="5105520"/>
            <a:ext cx="90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3352680" y="3886200"/>
            <a:ext cx="2438640" cy="1143000"/>
          </a:xfrm>
          <a:prstGeom prst="rightArrow">
            <a:avLst>
              <a:gd name="adj1" fmla="val 50000"/>
              <a:gd name="adj2" fmla="val 53339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2278440" y="632448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Teleportation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6099840" y="5181480"/>
            <a:ext cx="151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 flipH="1">
            <a:off x="5410080" y="5562720"/>
            <a:ext cx="60984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6" name="" descr=""/>
          <p:cNvPicPr/>
          <p:nvPr/>
        </p:nvPicPr>
        <p:blipFill>
          <a:blip r:embed="rId9"/>
          <a:stretch/>
        </p:blipFill>
        <p:spPr>
          <a:xfrm>
            <a:off x="2867040" y="5892840"/>
            <a:ext cx="29494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/>
          <p:nvPr/>
        </p:nvSpPr>
        <p:spPr>
          <a:xfrm>
            <a:off x="321840" y="0"/>
            <a:ext cx="850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ntanglement as a Resour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306360" y="914400"/>
            <a:ext cx="86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rties share entangled states, they can outperform clas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complexity protoco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304560" y="2133720"/>
            <a:ext cx="79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re are all sorts of different “kinds” of entang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for two qu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0" name="" descr=""/>
          <p:cNvPicPr/>
          <p:nvPr/>
        </p:nvPicPr>
        <p:blipFill>
          <a:blip r:embed="rId1"/>
          <a:stretch/>
        </p:blipFill>
        <p:spPr>
          <a:xfrm>
            <a:off x="1447920" y="3581280"/>
            <a:ext cx="4627440" cy="336600"/>
          </a:xfrm>
          <a:prstGeom prst="rect">
            <a:avLst/>
          </a:prstGeom>
          <a:ln w="0">
            <a:noFill/>
          </a:ln>
        </p:spPr>
      </p:pic>
      <p:sp>
        <p:nvSpPr>
          <p:cNvPr id="1611" name=""/>
          <p:cNvSpPr/>
          <p:nvPr/>
        </p:nvSpPr>
        <p:spPr>
          <a:xfrm>
            <a:off x="382680" y="41148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2"/>
          <a:stretch/>
        </p:blipFill>
        <p:spPr>
          <a:xfrm>
            <a:off x="1447920" y="4210200"/>
            <a:ext cx="850680" cy="387360"/>
          </a:xfrm>
          <a:prstGeom prst="rect">
            <a:avLst/>
          </a:prstGeom>
          <a:ln w="0">
            <a:noFill/>
          </a:ln>
        </p:spPr>
      </p:pic>
      <p:pic>
        <p:nvPicPr>
          <p:cNvPr id="1613" name="" descr=""/>
          <p:cNvPicPr/>
          <p:nvPr/>
        </p:nvPicPr>
        <p:blipFill>
          <a:blip r:embed="rId3"/>
          <a:stretch/>
        </p:blipFill>
        <p:spPr>
          <a:xfrm>
            <a:off x="1409760" y="4724280"/>
            <a:ext cx="3695760" cy="530280"/>
          </a:xfrm>
          <a:prstGeom prst="rect">
            <a:avLst/>
          </a:prstGeom>
          <a:ln w="0">
            <a:noFill/>
          </a:ln>
        </p:spPr>
      </p:pic>
      <p:sp>
        <p:nvSpPr>
          <p:cNvPr id="1614" name=""/>
          <p:cNvSpPr/>
          <p:nvPr/>
        </p:nvSpPr>
        <p:spPr>
          <a:xfrm>
            <a:off x="5567400" y="4724280"/>
            <a:ext cx="316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ally entangl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bi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461160" y="5562720"/>
            <a:ext cx="81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use non-maximally entangled qubits for teleport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t becomes less e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/>
          <p:nvPr/>
        </p:nvSpPr>
        <p:spPr>
          <a:xfrm>
            <a:off x="321840" y="0"/>
            <a:ext cx="850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ntanglement as a Resour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7" name="" descr=""/>
          <p:cNvPicPr/>
          <p:nvPr/>
        </p:nvPicPr>
        <p:blipFill>
          <a:blip r:embed="rId1"/>
          <a:stretch/>
        </p:blipFill>
        <p:spPr>
          <a:xfrm>
            <a:off x="1773360" y="1873080"/>
            <a:ext cx="4627440" cy="336600"/>
          </a:xfrm>
          <a:prstGeom prst="rect">
            <a:avLst/>
          </a:prstGeom>
          <a:ln w="0">
            <a:noFill/>
          </a:ln>
        </p:spPr>
      </p:pic>
      <p:sp>
        <p:nvSpPr>
          <p:cNvPr id="1618" name=""/>
          <p:cNvSpPr/>
          <p:nvPr/>
        </p:nvSpPr>
        <p:spPr>
          <a:xfrm>
            <a:off x="388080" y="990720"/>
            <a:ext cx="863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I give you many copies of a non-maximally 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53240" y="2362320"/>
            <a:ext cx="85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possible to convert              into m&lt;n maximally entan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b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0" name="" descr=""/>
          <p:cNvPicPr/>
          <p:nvPr/>
        </p:nvPicPr>
        <p:blipFill>
          <a:blip r:embed="rId2"/>
          <a:stretch/>
        </p:blipFill>
        <p:spPr>
          <a:xfrm>
            <a:off x="3809880" y="2438280"/>
            <a:ext cx="901800" cy="366840"/>
          </a:xfrm>
          <a:prstGeom prst="rect">
            <a:avLst/>
          </a:prstGeom>
          <a:ln w="0">
            <a:noFill/>
          </a:ln>
        </p:spPr>
      </p:pic>
      <p:pic>
        <p:nvPicPr>
          <p:cNvPr id="1621" name="" descr=""/>
          <p:cNvPicPr/>
          <p:nvPr/>
        </p:nvPicPr>
        <p:blipFill>
          <a:blip r:embed="rId3"/>
          <a:stretch/>
        </p:blipFill>
        <p:spPr>
          <a:xfrm>
            <a:off x="1752480" y="3352680"/>
            <a:ext cx="2691000" cy="403200"/>
          </a:xfrm>
          <a:prstGeom prst="rect">
            <a:avLst/>
          </a:prstGeom>
          <a:ln w="0">
            <a:noFill/>
          </a:ln>
        </p:spPr>
      </p:pic>
      <p:sp>
        <p:nvSpPr>
          <p:cNvPr id="1622" name=""/>
          <p:cNvSpPr/>
          <p:nvPr/>
        </p:nvSpPr>
        <p:spPr>
          <a:xfrm>
            <a:off x="538200" y="3886200"/>
            <a:ext cx="46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anglement distillation!  Rat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" descr=""/>
          <p:cNvPicPr/>
          <p:nvPr/>
        </p:nvPicPr>
        <p:blipFill>
          <a:blip r:embed="rId4"/>
          <a:stretch/>
        </p:blipFill>
        <p:spPr>
          <a:xfrm>
            <a:off x="1001880" y="4495680"/>
            <a:ext cx="8065800" cy="449280"/>
          </a:xfrm>
          <a:prstGeom prst="rect">
            <a:avLst/>
          </a:prstGeom>
          <a:ln w="0">
            <a:noFill/>
          </a:ln>
        </p:spPr>
      </p:pic>
      <p:sp>
        <p:nvSpPr>
          <p:cNvPr id="1624" name=""/>
          <p:cNvSpPr/>
          <p:nvPr/>
        </p:nvSpPr>
        <p:spPr>
          <a:xfrm>
            <a:off x="1603800" y="52578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 Neumann entr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 flipH="1" flipV="1">
            <a:off x="2285640" y="5028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76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wo Qubits, Entang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1480" y="9907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4857840" cy="1712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920" y="3048120"/>
            <a:ext cx="2020680" cy="334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048120" y="2971800"/>
            <a:ext cx="2852640" cy="33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172200" y="2971800"/>
            <a:ext cx="2755800" cy="334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85800" y="3581280"/>
            <a:ext cx="6910560" cy="335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304920" y="4114800"/>
            <a:ext cx="134784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1371600" y="4952880"/>
            <a:ext cx="102564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1371600" y="5791320"/>
            <a:ext cx="993600" cy="304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40600" y="44956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7340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6440" y="48769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this im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4976640" y="4952880"/>
            <a:ext cx="1347840" cy="304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746440" y="563868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this im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4976640" y="5715000"/>
            <a:ext cx="134784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480360" y="51814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a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400" y="25146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8360" y="6248520"/>
            <a:ext cx="64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     is not a separable state.  It is entang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914400" y="6294600"/>
            <a:ext cx="35100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/>
          <p:nvPr/>
        </p:nvSpPr>
        <p:spPr>
          <a:xfrm>
            <a:off x="321840" y="0"/>
            <a:ext cx="850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ntanglement as a Resour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381600" y="9907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the reverse? n&gt;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462960" y="236232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anglement di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9" name="" descr=""/>
          <p:cNvPicPr/>
          <p:nvPr/>
        </p:nvPicPr>
        <p:blipFill>
          <a:blip r:embed="rId1"/>
          <a:stretch/>
        </p:blipFill>
        <p:spPr>
          <a:xfrm>
            <a:off x="1001880" y="2895480"/>
            <a:ext cx="8065800" cy="449280"/>
          </a:xfrm>
          <a:prstGeom prst="rect">
            <a:avLst/>
          </a:prstGeom>
          <a:ln w="0">
            <a:noFill/>
          </a:ln>
        </p:spPr>
      </p:pic>
      <p:sp>
        <p:nvSpPr>
          <p:cNvPr id="1630" name=""/>
          <p:cNvSpPr/>
          <p:nvPr/>
        </p:nvSpPr>
        <p:spPr>
          <a:xfrm>
            <a:off x="1603800" y="36576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 Neumann entr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 flipH="1" flipV="1">
            <a:off x="2285640" y="34286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" descr=""/>
          <p:cNvPicPr/>
          <p:nvPr/>
        </p:nvPicPr>
        <p:blipFill>
          <a:blip r:embed="rId2"/>
          <a:stretch/>
        </p:blipFill>
        <p:spPr>
          <a:xfrm>
            <a:off x="1447920" y="1754280"/>
            <a:ext cx="2690640" cy="403200"/>
          </a:xfrm>
          <a:prstGeom prst="rect">
            <a:avLst/>
          </a:prstGeom>
          <a:ln w="0">
            <a:noFill/>
          </a:ln>
        </p:spPr>
      </p:pic>
      <p:sp>
        <p:nvSpPr>
          <p:cNvPr id="1633" name=""/>
          <p:cNvSpPr/>
          <p:nvPr/>
        </p:nvSpPr>
        <p:spPr>
          <a:xfrm>
            <a:off x="690120" y="4800600"/>
            <a:ext cx="782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ure state) bipartite entanglement is a fungibl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an be quantified in the quantity of e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35880" y="0"/>
            <a:ext cx="478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pecial Rel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2560" y="1066680"/>
            <a:ext cx="829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understand what makes entanglement so interesting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s we need to know a little special rela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don’t need to know how to calculate in special relativ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we do need to understand the concept of “locality” 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ses in special rela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920" y="0"/>
            <a:ext cx="297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pace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63960" y="27432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11520" y="12952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63040" y="26668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13320" y="9907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14640" y="1600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64840" y="1676520"/>
            <a:ext cx="20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ime,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68720" y="1600200"/>
            <a:ext cx="457200" cy="2438280"/>
          </a:xfrm>
          <a:custGeom>
            <a:avLst/>
            <a:gdLst/>
            <a:ahLst/>
            <a:rect l="l" t="t" r="r" b="b"/>
            <a:pathLst>
              <a:path w="288" h="1536">
                <a:moveTo>
                  <a:pt x="288" y="1536"/>
                </a:moveTo>
                <a:cubicBezTo>
                  <a:pt x="200" y="1424"/>
                  <a:pt x="112" y="1312"/>
                  <a:pt x="96" y="1152"/>
                </a:cubicBezTo>
                <a:cubicBezTo>
                  <a:pt x="80" y="992"/>
                  <a:pt x="208" y="768"/>
                  <a:pt x="192" y="576"/>
                </a:cubicBezTo>
                <a:cubicBezTo>
                  <a:pt x="176" y="384"/>
                  <a:pt x="88" y="19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33720" y="3962520"/>
            <a:ext cx="27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acetime path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ve in spac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881520" y="1447560"/>
            <a:ext cx="145260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40800" y="4191120"/>
            <a:ext cx="243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ertial fram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ant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00:34:30Z</dcterms:created>
  <dc:creator>Dave Bacon</dc:creator>
  <dc:description/>
  <dc:language>en-US</dc:language>
  <cp:lastModifiedBy>Dave Bacon</cp:lastModifiedBy>
  <dcterms:modified xsi:type="dcterms:W3CDTF">2005-08-10T19:39:04Z</dcterms:modified>
  <cp:revision>47</cp:revision>
  <dc:subject/>
  <dc:title>Slide 1</dc:title>
</cp:coreProperties>
</file>