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97.png" ContentType="image/png"/>
  <Override PartName="/ppt/media/image90.jpeg" ContentType="image/jpeg"/>
  <Override PartName="/ppt/media/image60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1.jpeg" ContentType="image/jpeg"/>
  <Override PartName="/ppt/media/image67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96.png" ContentType="image/png"/>
  <Override PartName="/ppt/media/image95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53E-2B8C-4A5A-AA7B-EB063C6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688-6CB4-4761-9456-A9AB059C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8AC-8331-4A55-AD6E-2E746056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DFC-1653-4FE8-A2E0-D27C0EE3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40B-14F7-4061-8502-3CCEC052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720-8452-4434-B51D-4A4EFA22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92E-E2BB-4F82-A309-489F34E0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B79-DA84-4BA9-9C50-C3E2151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7D7-5DE7-4150-B2FD-E6D2DBAA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CEC-17F6-4D64-AADE-B18EF0D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261-9B36-4877-8BFE-B908FCF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F20-AAF2-401E-9A43-7739547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5628-EFBD-4BAF-BFDA-DC97E91E3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9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8.pn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8.png"/><Relationship Id="rId5" Type="http://schemas.openxmlformats.org/officeDocument/2006/relationships/image" Target="../media/image9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93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880" y="838080"/>
            <a:ext cx="25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10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680" y="25909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2400" y="32767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3120" y="45720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munication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2760" y="388620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nd Quantum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320" y="51814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s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0320" y="3505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0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8160" y="60948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 rela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physics is the same in all inertial reference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speed of light is same in all referenc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52320" y="3505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2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28800" y="243792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243792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3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960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438280"/>
            <a:ext cx="990720" cy="2514600"/>
          </a:xfrm>
          <a:custGeom>
            <a:avLst/>
            <a:gdLst/>
            <a:ahLst/>
            <a:rect l="l" t="t" r="r" b="b"/>
            <a:pathLst>
              <a:path w="432" h="1392">
                <a:moveTo>
                  <a:pt x="432" y="1392"/>
                </a:moveTo>
                <a:cubicBezTo>
                  <a:pt x="376" y="1272"/>
                  <a:pt x="320" y="1152"/>
                  <a:pt x="288" y="1056"/>
                </a:cubicBezTo>
                <a:cubicBezTo>
                  <a:pt x="256" y="960"/>
                  <a:pt x="256" y="928"/>
                  <a:pt x="240" y="816"/>
                </a:cubicBezTo>
                <a:cubicBezTo>
                  <a:pt x="224" y="704"/>
                  <a:pt x="232" y="520"/>
                  <a:pt x="192" y="384"/>
                </a:cubicBezTo>
                <a:cubicBezTo>
                  <a:pt x="152" y="248"/>
                  <a:pt x="76" y="12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2438280"/>
            <a:ext cx="609840" cy="2438640"/>
          </a:xfrm>
          <a:custGeom>
            <a:avLst/>
            <a:gdLst/>
            <a:ahLst/>
            <a:rect l="l" t="t" r="r" b="b"/>
            <a:pathLst>
              <a:path w="432" h="1392">
                <a:moveTo>
                  <a:pt x="432" y="1392"/>
                </a:moveTo>
                <a:cubicBezTo>
                  <a:pt x="376" y="1272"/>
                  <a:pt x="320" y="1152"/>
                  <a:pt x="288" y="1056"/>
                </a:cubicBezTo>
                <a:cubicBezTo>
                  <a:pt x="256" y="960"/>
                  <a:pt x="256" y="928"/>
                  <a:pt x="240" y="816"/>
                </a:cubicBezTo>
                <a:cubicBezTo>
                  <a:pt x="224" y="704"/>
                  <a:pt x="232" y="520"/>
                  <a:pt x="192" y="384"/>
                </a:cubicBezTo>
                <a:cubicBezTo>
                  <a:pt x="152" y="248"/>
                  <a:pt x="76" y="12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0280" y="44956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time path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468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00600" y="2743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895120" y="2590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562720" y="44953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320" y="464796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18080" y="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ultane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910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2560" y="83808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special relativity, the idea of simultaneity is rel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7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09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20" y="38862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692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628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38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552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9960" y="3657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8720" y="3124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456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0248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4600" y="3124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900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6896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8336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0400" y="2971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4200" y="3809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1004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0040" y="5867280"/>
            <a:ext cx="797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events are seen as occurring in a different or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910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72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809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20" y="38862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692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28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38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3552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9960" y="3657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8720" y="3124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0248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04600" y="3124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0428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900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6896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8336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0400" y="2971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4200" y="3809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004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720" y="762120"/>
            <a:ext cx="89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l: I do something at my location and time such that you c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al on what I do, act conditionally at you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" y="5730840"/>
            <a:ext cx="90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 try to send a signal from A to B, then in some reference fr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acts before A sends the signal.  Better not all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3124080" y="2895120"/>
            <a:ext cx="2743200" cy="1371600"/>
          </a:xfrm>
          <a:custGeom>
            <a:avLst/>
            <a:gdLst/>
            <a:ahLst/>
            <a:rect l="l" t="t" r="r" b="b"/>
            <a:pathLst>
              <a:path w="1728" h="864">
                <a:moveTo>
                  <a:pt x="48" y="816"/>
                </a:moveTo>
                <a:lnTo>
                  <a:pt x="864" y="0"/>
                </a:lnTo>
                <a:lnTo>
                  <a:pt x="1728" y="864"/>
                </a:lnTo>
                <a:lnTo>
                  <a:pt x="0" y="864"/>
                </a:lnTo>
                <a:lnTo>
                  <a:pt x="864" y="0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267080"/>
            <a:ext cx="2743200" cy="1371600"/>
          </a:xfrm>
          <a:custGeom>
            <a:avLst/>
            <a:gdLst/>
            <a:ahLst/>
            <a:rect l="l" t="t" r="r" b="b"/>
            <a:pathLst>
              <a:path w="1728" h="864">
                <a:moveTo>
                  <a:pt x="48" y="816"/>
                </a:moveTo>
                <a:lnTo>
                  <a:pt x="864" y="0"/>
                </a:lnTo>
                <a:lnTo>
                  <a:pt x="1728" y="864"/>
                </a:lnTo>
                <a:lnTo>
                  <a:pt x="0" y="864"/>
                </a:lnTo>
                <a:lnTo>
                  <a:pt x="86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65400" y="42670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28195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9480" y="40384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1512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" y="777960"/>
            <a:ext cx="92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ll inertial observers moving through the origin, there ar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s of spacetime which are preserved between inertial fr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00400" y="28951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0680" y="320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638680" y="3123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029200" y="35053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45560" y="3352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590920" y="3123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65760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962520" y="525744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5708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840" y="1828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2860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720" y="4495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w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42640" y="45720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w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8880" y="3809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7160" y="23623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8080" y="3886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98960" y="1981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5080" y="76212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lice and Bob both live in each other’s “elsewhere”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793880" y="24379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3880" y="25146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81280" y="24379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92600" y="23623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49400" y="3124080"/>
          <a:ext cx="595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3124080"/>
                    <a:ext cx="595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873080" y="3824280"/>
            <a:ext cx="1270080" cy="800280"/>
          </a:xfrm>
          <a:custGeom>
            <a:avLst/>
            <a:gdLst/>
            <a:ahLst/>
            <a:rect l="l" t="t" r="r" b="b"/>
            <a:pathLst>
              <a:path w="800" h="504">
                <a:moveTo>
                  <a:pt x="0" y="144"/>
                </a:moveTo>
                <a:cubicBezTo>
                  <a:pt x="272" y="324"/>
                  <a:pt x="544" y="504"/>
                  <a:pt x="672" y="480"/>
                </a:cubicBezTo>
                <a:cubicBezTo>
                  <a:pt x="800" y="456"/>
                  <a:pt x="784" y="228"/>
                  <a:pt x="76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6680" y="4572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58000" y="21337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076720" y="2743200"/>
            <a:ext cx="1828800" cy="91440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1152" y="0"/>
                </a:moveTo>
                <a:cubicBezTo>
                  <a:pt x="988" y="12"/>
                  <a:pt x="824" y="24"/>
                  <a:pt x="720" y="96"/>
                </a:cubicBezTo>
                <a:cubicBezTo>
                  <a:pt x="616" y="168"/>
                  <a:pt x="648" y="352"/>
                  <a:pt x="528" y="432"/>
                </a:cubicBezTo>
                <a:cubicBezTo>
                  <a:pt x="408" y="512"/>
                  <a:pt x="204" y="544"/>
                  <a:pt x="0" y="5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98600" y="3505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98320" y="56386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ll such setups “space-like separ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8432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8432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248520" y="1795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01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467480" y="1795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248520" y="286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14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467480" y="286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2514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48520" y="3928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467480" y="3928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48520" y="499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467480" y="499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9907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automata (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640" y="1752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9840" y="7621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0040" y="502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0040" y="449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04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8080" y="57150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rul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1120" y="32767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ution of a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22600" y="5562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00440" y="54864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352680" y="31237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0280" y="289548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ing thi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only ever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lue states (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080" y="449568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te speed of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600440" y="54864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352680" y="31237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-720" y="2987640"/>
            <a:ext cx="37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state is a fun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tes in red (the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080" y="426708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te speed of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373040" y="76320"/>
            <a:ext cx="62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partite Entang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2680" y="3352680"/>
            <a:ext cx="84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ill be interested in situations where Alice and Bob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like separated.  It is in these setups, where they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, that quantum theory become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76600" y="763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480" y="10666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on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200" y="1981080"/>
            <a:ext cx="837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 lecture will be a non-technical summary of the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quantum information science we didn’t c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ryptography, quantum error corre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munication, physica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s probably a little something on some far off topic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information and the black hole information parad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10920" y="0"/>
            <a:ext cx="77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32920" y="281952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acts on her qubit, while Bob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4038480" y="3770280"/>
            <a:ext cx="816120" cy="2682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28600" y="419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acts on his qubit, while Alice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5"/>
          <a:stretch/>
        </p:blipFill>
        <p:spPr>
          <a:xfrm>
            <a:off x="3968640" y="4952880"/>
            <a:ext cx="831960" cy="268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31120" y="541008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of these preserve separ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592200" y="5867280"/>
            <a:ext cx="6799320" cy="3859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7"/>
          <a:stretch/>
        </p:blipFill>
        <p:spPr>
          <a:xfrm>
            <a:off x="7391520" y="6400800"/>
            <a:ext cx="1601640" cy="3841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7440" y="640080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entangl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268280" y="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hmidt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533520" y="53352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7543800" y="5335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905120" y="9907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29400" y="9907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22560" y="1523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012800" y="1523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1480" y="20574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bipartite quantum systems can be expres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4405320" cy="9777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46520" y="3886200"/>
            <a:ext cx="75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ome choice of basis of the two parties,        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18960" cy="26856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6"/>
          <a:stretch/>
        </p:blipFill>
        <p:spPr>
          <a:xfrm>
            <a:off x="6103800" y="812880"/>
            <a:ext cx="289080" cy="30456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7"/>
          <a:stretch/>
        </p:blipFill>
        <p:spPr>
          <a:xfrm>
            <a:off x="6302520" y="396252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8"/>
          <a:stretch/>
        </p:blipFill>
        <p:spPr>
          <a:xfrm>
            <a:off x="7554960" y="395928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9"/>
          <a:stretch/>
        </p:blipFill>
        <p:spPr>
          <a:xfrm>
            <a:off x="6324480" y="2679840"/>
            <a:ext cx="2384640" cy="9777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880" y="4419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0"/>
          <a:stretch/>
        </p:blipFill>
        <p:spPr>
          <a:xfrm>
            <a:off x="838080" y="5181480"/>
            <a:ext cx="6639120" cy="6890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1"/>
          <a:stretch/>
        </p:blipFill>
        <p:spPr>
          <a:xfrm>
            <a:off x="1523880" y="4419720"/>
            <a:ext cx="5608800" cy="6886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2"/>
          <a:stretch/>
        </p:blipFill>
        <p:spPr>
          <a:xfrm>
            <a:off x="833400" y="5943600"/>
            <a:ext cx="5033880" cy="7351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3"/>
          <a:stretch/>
        </p:blipFill>
        <p:spPr>
          <a:xfrm>
            <a:off x="6095880" y="5943600"/>
            <a:ext cx="3013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268280" y="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hmidt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33520" y="53352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6" name="" descr=""/>
          <p:cNvPicPr/>
          <p:nvPr/>
        </p:nvPicPr>
        <p:blipFill>
          <a:blip r:embed="rId3"/>
          <a:stretch/>
        </p:blipFill>
        <p:spPr>
          <a:xfrm>
            <a:off x="7543800" y="5335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905120" y="9907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629400" y="9907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22560" y="1523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012800" y="1523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31480" y="20574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bipartite quantum systems can be expres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4405320" cy="9777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6520" y="3886200"/>
            <a:ext cx="75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ome choice of basis of the two parties,        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18960" cy="26856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6"/>
          <a:stretch/>
        </p:blipFill>
        <p:spPr>
          <a:xfrm>
            <a:off x="6103800" y="812880"/>
            <a:ext cx="289080" cy="3045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7"/>
          <a:stretch/>
        </p:blipFill>
        <p:spPr>
          <a:xfrm>
            <a:off x="6302520" y="396252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8"/>
          <a:stretch/>
        </p:blipFill>
        <p:spPr>
          <a:xfrm>
            <a:off x="7554960" y="395928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9"/>
          <a:stretch/>
        </p:blipFill>
        <p:spPr>
          <a:xfrm>
            <a:off x="6324480" y="2679840"/>
            <a:ext cx="2384640" cy="9777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82880" y="457200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only one     is nonzero (and hence equal to one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is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0"/>
          <a:stretch/>
        </p:blipFill>
        <p:spPr>
          <a:xfrm>
            <a:off x="7707240" y="4111560"/>
            <a:ext cx="527040" cy="3351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1"/>
          <a:stretch/>
        </p:blipFill>
        <p:spPr>
          <a:xfrm>
            <a:off x="2389320" y="4724280"/>
            <a:ext cx="288720" cy="222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303840" y="548640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s we can use Schmidt form to test for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10920" y="0"/>
            <a:ext cx="78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d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2920" y="281952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acts on her qubit, while Bob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4038480" y="3770280"/>
            <a:ext cx="816120" cy="26820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28600" y="419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acts on his qubit, while Alice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5"/>
          <a:stretch/>
        </p:blipFill>
        <p:spPr>
          <a:xfrm>
            <a:off x="3968640" y="4952880"/>
            <a:ext cx="831960" cy="26856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30760" y="541008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of these preserve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610920" y="0"/>
            <a:ext cx="78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d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2362320" y="2743200"/>
            <a:ext cx="4405320" cy="97776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1371600" y="3886200"/>
            <a:ext cx="6156360" cy="97776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3963960" y="487692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a change of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no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88720" cy="2221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7"/>
          <a:stretch/>
        </p:blipFill>
        <p:spPr>
          <a:xfrm>
            <a:off x="1433520" y="5915160"/>
            <a:ext cx="816120" cy="2682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8"/>
          <a:stretch/>
        </p:blipFill>
        <p:spPr>
          <a:xfrm>
            <a:off x="2978280" y="5904000"/>
            <a:ext cx="831600" cy="26820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296640" y="579132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nce             and            preserve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244008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cal Un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4038480" y="2895480"/>
            <a:ext cx="1219320" cy="989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3507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507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90560" y="22860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unit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5"/>
          <a:stretch/>
        </p:blipFill>
        <p:spPr>
          <a:xfrm>
            <a:off x="1754280" y="4191120"/>
            <a:ext cx="1218960" cy="9889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23256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90124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6"/>
          <a:stretch/>
        </p:blipFill>
        <p:spPr>
          <a:xfrm>
            <a:off x="6323040" y="419112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480132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47000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80880" y="6019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3581280" y="571500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2059920" y="6019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1447560" cy="1447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07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507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87680" y="228600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arty unit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3256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90124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4"/>
          <a:stretch/>
        </p:blipFill>
        <p:spPr>
          <a:xfrm>
            <a:off x="3979800" y="2968560"/>
            <a:ext cx="1336680" cy="8445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5"/>
          <a:stretch/>
        </p:blipFill>
        <p:spPr>
          <a:xfrm>
            <a:off x="1635120" y="433692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23256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0124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6"/>
          <a:stretch/>
        </p:blipFill>
        <p:spPr>
          <a:xfrm>
            <a:off x="1635120" y="540396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4726800" y="45021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395480" y="45021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6129360" y="434340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472824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39692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8"/>
          <a:stretch/>
        </p:blipFill>
        <p:spPr>
          <a:xfrm>
            <a:off x="6130800" y="540396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01720" y="64008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s on the details of the unitary and on th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1074960" cy="61884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7884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1957320" cy="69084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78480" y="213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13840" y="213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3"/>
          <a:stretch/>
        </p:blipFill>
        <p:spPr>
          <a:xfrm>
            <a:off x="1600200" y="2971800"/>
            <a:ext cx="2746440" cy="76356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4"/>
          <a:stretch/>
        </p:blipFill>
        <p:spPr>
          <a:xfrm>
            <a:off x="4495680" y="3106800"/>
            <a:ext cx="1600200" cy="4744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960" y="30481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52480" y="30481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5"/>
          <a:stretch/>
        </p:blipFill>
        <p:spPr>
          <a:xfrm>
            <a:off x="1600200" y="4038480"/>
            <a:ext cx="1600200" cy="47484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3960" y="4038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>
            <a:off x="3276720" y="3886200"/>
            <a:ext cx="2724120" cy="76356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176160" y="4038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6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7"/>
          <a:stretch/>
        </p:blipFill>
        <p:spPr>
          <a:xfrm>
            <a:off x="1447920" y="5227560"/>
            <a:ext cx="2514600" cy="3985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8"/>
          <a:stretch/>
        </p:blipFill>
        <p:spPr>
          <a:xfrm>
            <a:off x="4038480" y="5105520"/>
            <a:ext cx="1074960" cy="6188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9"/>
          <a:stretch/>
        </p:blipFill>
        <p:spPr>
          <a:xfrm>
            <a:off x="5181480" y="5221440"/>
            <a:ext cx="2514600" cy="39816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10"/>
          <a:stretch/>
        </p:blipFill>
        <p:spPr>
          <a:xfrm>
            <a:off x="1447920" y="5846760"/>
            <a:ext cx="2543040" cy="4748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11"/>
          <a:stretch/>
        </p:blipFill>
        <p:spPr>
          <a:xfrm>
            <a:off x="5257800" y="5859360"/>
            <a:ext cx="2511360" cy="4748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762228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049400" y="2514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2514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"/>
          <p:cNvSpPr/>
          <p:nvPr/>
        </p:nvSpPr>
        <p:spPr>
          <a:xfrm>
            <a:off x="1873080" y="3214800"/>
            <a:ext cx="1270080" cy="799920"/>
          </a:xfrm>
          <a:custGeom>
            <a:avLst/>
            <a:gdLst/>
            <a:ahLst/>
            <a:rect l="l" t="t" r="r" b="b"/>
            <a:pathLst>
              <a:path w="800" h="504">
                <a:moveTo>
                  <a:pt x="0" y="144"/>
                </a:moveTo>
                <a:cubicBezTo>
                  <a:pt x="272" y="324"/>
                  <a:pt x="544" y="504"/>
                  <a:pt x="672" y="480"/>
                </a:cubicBezTo>
                <a:cubicBezTo>
                  <a:pt x="800" y="456"/>
                  <a:pt x="784" y="228"/>
                  <a:pt x="76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76680" y="39625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1146240" cy="152424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5076720" y="2133720"/>
            <a:ext cx="1828800" cy="91440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1152" y="0"/>
                </a:moveTo>
                <a:cubicBezTo>
                  <a:pt x="988" y="12"/>
                  <a:pt x="824" y="24"/>
                  <a:pt x="720" y="96"/>
                </a:cubicBezTo>
                <a:cubicBezTo>
                  <a:pt x="616" y="168"/>
                  <a:pt x="648" y="352"/>
                  <a:pt x="528" y="432"/>
                </a:cubicBezTo>
                <a:cubicBezTo>
                  <a:pt x="408" y="512"/>
                  <a:pt x="204" y="544"/>
                  <a:pt x="0" y="5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98600" y="2895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048120" y="3200400"/>
            <a:ext cx="914400" cy="144792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297180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09640" y="5029200"/>
            <a:ext cx="78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needs to be generated “local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 the two parties got together in the past and inte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1" name=""/>
          <p:cNvGraphicFramePr/>
          <p:nvPr/>
        </p:nvGraphicFramePr>
        <p:xfrm>
          <a:off x="533520" y="99072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3" name="" descr=""/>
          <p:cNvPicPr/>
          <p:nvPr/>
        </p:nvPicPr>
        <p:blipFill>
          <a:blip r:embed="rId4"/>
          <a:stretch/>
        </p:blipFill>
        <p:spPr>
          <a:xfrm>
            <a:off x="7543800" y="9907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05120" y="14479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629400" y="14479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23640" y="1981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947200" y="2057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>
            <a:off x="4343400" y="609480"/>
            <a:ext cx="351000" cy="33516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 rot="16200000">
            <a:off x="4152600" y="-148608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32920" y="259092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Alice measures in the computational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31120" y="3048120"/>
            <a:ext cx="67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y 50% she gets outcome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y 50% she gets outcom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067400" y="434340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her outcome was 0, 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her outcome was 1, 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6"/>
          <a:stretch/>
        </p:blipFill>
        <p:spPr>
          <a:xfrm>
            <a:off x="7647120" y="4443480"/>
            <a:ext cx="556920" cy="3348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7"/>
          <a:stretch/>
        </p:blipFill>
        <p:spPr>
          <a:xfrm>
            <a:off x="7621560" y="4844880"/>
            <a:ext cx="557280" cy="33516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1147680" y="5638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0, and Bob’s outcome will b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1, and Bob’s outcome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90520" y="525780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Bob now measures i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1181160"/>
            <a:ext cx="8991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Wed, 20 Jul 2005 13:49:33 -0700 (PD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Nancy Ba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: Dave Ba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ts/Attach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OK     1 lines 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Shown    0 lines 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you earthly mortal mother,  i learn best when someone gives me a broa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neral concept, then goes into details, and then returns to the basic concept,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rse the trick is to find just the very right details to explain the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pt. ha!  good luck da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4680" y="76320"/>
            <a:ext cx="49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mail From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9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1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95400" y="31240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0, and Bob’s outcome will b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1, and Bob’s outcome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1120" y="41148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this is NOT signaling.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2920" y="480060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Bob se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ing NOT seen Alice’s measurement outco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finds that he 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with 50% probabil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with 50%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228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6002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91080" y="2362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200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672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066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98108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8120" y="2666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06920" y="1676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862880" y="2362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7380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27852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038480" y="2333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52880" y="232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79960" y="2438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878720" y="1905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15456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60248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00460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60428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0900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06896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98336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80400" y="1752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774200" y="2590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10040" y="685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95880" y="685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9680" y="441972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we worry that “who does the measurement fir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s on the frame of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3560" y="5410080"/>
            <a:ext cx="85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erspective of each party, NO, because they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the same probabilities of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5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09800" y="304812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pletely classical way to simulate this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0240" y="3733920"/>
            <a:ext cx="90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ip a fair co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heads, put 0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tails, put 1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ive Alice and Bob the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Parties perform measurements by opening their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porting the classical bit inside as thei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8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0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09800" y="304812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pletely classical way to simulate this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20240" y="3733920"/>
            <a:ext cx="90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ip a fair co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heads, put 0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tails, put 1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ive Alice and Bob the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Parties perform measurements by opening their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porting the classical bit inside as thei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10920" y="0"/>
            <a:ext cx="77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cal Hidden Variabl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0760" y="4952880"/>
            <a:ext cx="86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try to respective special relativity, but a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, reproduce the probabilities we get from quantu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0968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048120" y="3200400"/>
            <a:ext cx="914400" cy="152388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62520" y="304812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373400" y="0"/>
            <a:ext cx="65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instein, Bohr (1927-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creation of quantum theory, Einstein became very concerned about quantum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2895480" y="1690560"/>
            <a:ext cx="3429000" cy="219564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457920" y="3962520"/>
            <a:ext cx="49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stein: “God does not play di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hr: “Stop telling God what to 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78720" y="5029200"/>
            <a:ext cx="871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ually Einstein was not troubled by the indeterminism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heory, but by the fact that he thought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probably not the “ultimate” theory.  He thought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 was in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3202200" y="7632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John Bell - Happy Physicist"/>
          <p:cNvPicPr/>
          <p:nvPr/>
        </p:nvPicPr>
        <p:blipFill>
          <a:blip r:embed="rId1"/>
          <a:stretch/>
        </p:blipFill>
        <p:spPr>
          <a:xfrm>
            <a:off x="380880" y="914400"/>
            <a:ext cx="2190960" cy="318132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2976120" y="1143000"/>
            <a:ext cx="609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1964, John Bell showed that 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whether or not quantum theory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explained by a local hidde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 was an EXPERIMENTAL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d thus a real scientific hypothesi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54280" y="464832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profound discovery of sci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12840" y="914400"/>
            <a:ext cx="85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nd Bob are locked away in prison cells and they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752480" y="1905120"/>
          <a:ext cx="5954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95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5" name="" descr=""/>
          <p:cNvPicPr/>
          <p:nvPr/>
        </p:nvPicPr>
        <p:blipFill>
          <a:blip r:embed="rId3"/>
          <a:stretch/>
        </p:blipFill>
        <p:spPr>
          <a:xfrm>
            <a:off x="5867280" y="1828800"/>
            <a:ext cx="1146240" cy="152388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4"/>
          <a:stretch/>
        </p:blipFill>
        <p:spPr>
          <a:xfrm>
            <a:off x="1371600" y="1752480"/>
            <a:ext cx="1476360" cy="18957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5"/>
          <a:stretch/>
        </p:blipFill>
        <p:spPr>
          <a:xfrm>
            <a:off x="5715000" y="1685880"/>
            <a:ext cx="1476360" cy="18954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304920" y="3886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arden plays the following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gives Alice and Bob a slip of paper.  Written on eac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papers is the letter S or the letter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lice are instructed that at a certain time, they will both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to shout out either +1 or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2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992520" y="3416400"/>
            <a:ext cx="71254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slip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of their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307160" y="1676520"/>
            <a:ext cx="6421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Alice’s output (+1,-1) if she received S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Alice’s output (+1,-1) if she received T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Bob’s output (+1,-1) if she received S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Bob’s output (+1,-1) if she received T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3760" y="5715000"/>
            <a:ext cx="831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product of their answers depends only on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arty does lo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447920" y="2362320"/>
            <a:ext cx="6248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slip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nin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33640" y="182880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rden will let Alice and Bob free if they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09960" y="441972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t possible for Alice and Bob to always win this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6720" y="5181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68280" y="5181480"/>
            <a:ext cx="5033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es that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 implies that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38400" y="6095880"/>
            <a:ext cx="54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, contradi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76240" y="76320"/>
            <a:ext cx="31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1880" y="1143000"/>
            <a:ext cx="72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has long been known to be on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ly strange things about quantum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880" y="228600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years, people worried about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instein, Schrodinger, Bell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1960" y="3505320"/>
            <a:ext cx="81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ing in quantum computing is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pped learning to worry about entanglement, and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alize that if they just accepted it, it was a very 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pt Entangle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what is entanglement?  Why is it “mysteriou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it important for quantum compu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81720" y="1981080"/>
            <a:ext cx="85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ey play this game lots of times, each tim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one of the sheets of paper with equal probability (i.e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den gives each party an S or a T with 50%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480" y="350532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dication of how well they are doing is to calcula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2360" y="4724280"/>
            <a:ext cx="8718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= ¼(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S)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T,S)+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1|T,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56600" y="586728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re they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81720" y="1981080"/>
            <a:ext cx="776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lways play the same strate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assigning values to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and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360" y="3048120"/>
            <a:ext cx="873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= ¼(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S)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+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1|S,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49760" y="403848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most they can win ¾ of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6400" y="4664160"/>
            <a:ext cx="84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?  There must always be a contradiction with the w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and so one of these probabilities is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1280" y="57150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y can achieve the case where one is zero and all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are one by always having A and B outpu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45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80280" y="198108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re even allowed to share some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 they copied from each other before they were throw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6240" y="327672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ir maximum probability of winning?  Same 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?  Fix the random numbers.  Run the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 will be less than 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over the random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help.  Probability of winning is at most 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136240" y="601992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 is at most 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363760" y="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838080" y="175248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915840" cy="121788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5"/>
          <a:stretch/>
        </p:blipFill>
        <p:spPr>
          <a:xfrm>
            <a:off x="6553080" y="160956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048120" y="3200400"/>
            <a:ext cx="914400" cy="152388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304812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349520" y="4724280"/>
            <a:ext cx="32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clas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 flipV="1">
            <a:off x="457200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3580920" y="41911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363760" y="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39280" y="1371600"/>
            <a:ext cx="83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break: how quantum entanglement allows Ali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a greater probability of freedo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2880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anglement shall set you fre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81720" y="1981080"/>
            <a:ext cx="89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re even allowed to share an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tate which they made when they were plott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were thrown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6"/>
          <a:stretch/>
        </p:blipFill>
        <p:spPr>
          <a:xfrm>
            <a:off x="2809800" y="4114800"/>
            <a:ext cx="3591000" cy="7365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156960" y="3581280"/>
            <a:ext cx="72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ey each have one qubit of two qubit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3430440" y="763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538520" cy="35064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231480" y="23623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states are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2"/>
          <a:stretch/>
        </p:blipFill>
        <p:spPr>
          <a:xfrm>
            <a:off x="485640" y="1609560"/>
            <a:ext cx="4456080" cy="3510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927000" y="3048120"/>
            <a:ext cx="7150320" cy="3348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231840" y="3657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4"/>
          <a:stretch/>
        </p:blipFill>
        <p:spPr>
          <a:xfrm>
            <a:off x="860400" y="4267080"/>
            <a:ext cx="7216920" cy="3351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5"/>
          <a:stretch/>
        </p:blipFill>
        <p:spPr>
          <a:xfrm>
            <a:off x="873000" y="4724280"/>
            <a:ext cx="8194680" cy="33516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385560" y="5257800"/>
            <a:ext cx="86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operators in this basis, labeling these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an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6"/>
          <a:stretch/>
        </p:blipFill>
        <p:spPr>
          <a:xfrm>
            <a:off x="942840" y="6188040"/>
            <a:ext cx="3272040" cy="36504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7"/>
          <a:stretch/>
        </p:blipFill>
        <p:spPr>
          <a:xfrm>
            <a:off x="4749840" y="6172200"/>
            <a:ext cx="31748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308520" y="297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1214280" y="3505320"/>
            <a:ext cx="5338800" cy="36504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1219320" y="4125960"/>
            <a:ext cx="5257800" cy="36504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6"/>
          <a:stretch/>
        </p:blipFill>
        <p:spPr>
          <a:xfrm>
            <a:off x="1219320" y="4735440"/>
            <a:ext cx="5257800" cy="36504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7"/>
          <a:stretch/>
        </p:blipFill>
        <p:spPr>
          <a:xfrm>
            <a:off x="1266840" y="5408640"/>
            <a:ext cx="516096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211480" y="7632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79920" y="297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4"/>
          <a:stretch/>
        </p:blipFill>
        <p:spPr>
          <a:xfrm>
            <a:off x="1828800" y="411156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5"/>
          <a:stretch/>
        </p:blipFill>
        <p:spPr>
          <a:xfrm>
            <a:off x="1822320" y="494820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6"/>
          <a:stretch/>
        </p:blipFill>
        <p:spPr>
          <a:xfrm>
            <a:off x="1847880" y="3335400"/>
            <a:ext cx="4057560" cy="68904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7"/>
          <a:stretch/>
        </p:blipFill>
        <p:spPr>
          <a:xfrm>
            <a:off x="1905120" y="5710320"/>
            <a:ext cx="39621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3040" y="76320"/>
            <a:ext cx="62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partite Entang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8120" y="4694400"/>
            <a:ext cx="2020680" cy="33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9680" y="3429000"/>
            <a:ext cx="72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 have a wave function        which i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: we can express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905360" y="350532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048120" y="5105520"/>
            <a:ext cx="866520" cy="33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43160" y="5029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 wav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5119560" y="5667480"/>
            <a:ext cx="2021040" cy="334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20" y="556272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: we cannot express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048120" y="617076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6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6"/>
          <a:stretch/>
        </p:blipFill>
        <p:spPr>
          <a:xfrm>
            <a:off x="2819520" y="1768320"/>
            <a:ext cx="3590640" cy="7369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154800" y="16923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080" y="260676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got a slip with S, she measures in the basi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got a slip with T, she measures in the basi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7"/>
          <a:stretch/>
        </p:blipFill>
        <p:spPr>
          <a:xfrm>
            <a:off x="7848720" y="2730600"/>
            <a:ext cx="992160" cy="30456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8"/>
          <a:stretch/>
        </p:blipFill>
        <p:spPr>
          <a:xfrm>
            <a:off x="7831080" y="3063960"/>
            <a:ext cx="1023840" cy="30456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153360" y="35971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got a slip with S, she measures in the basi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got a slip with T, she measures in the basi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9"/>
          <a:stretch/>
        </p:blipFill>
        <p:spPr>
          <a:xfrm>
            <a:off x="7688160" y="3716280"/>
            <a:ext cx="1074960" cy="30492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0"/>
          <a:stretch/>
        </p:blipFill>
        <p:spPr>
          <a:xfrm>
            <a:off x="7684920" y="4054320"/>
            <a:ext cx="1089360" cy="3049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225720" y="480060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parties output their measurement (+ = +1, - =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15360" y="55627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angles which maximize the probability of w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9920" y="28954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4"/>
          <a:stretch/>
        </p:blipFill>
        <p:spPr>
          <a:xfrm>
            <a:off x="615960" y="411156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5"/>
          <a:stretch/>
        </p:blipFill>
        <p:spPr>
          <a:xfrm>
            <a:off x="647640" y="494820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6"/>
          <a:stretch/>
        </p:blipFill>
        <p:spPr>
          <a:xfrm>
            <a:off x="635040" y="3335400"/>
            <a:ext cx="4057560" cy="68904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7"/>
          <a:stretch/>
        </p:blipFill>
        <p:spPr>
          <a:xfrm>
            <a:off x="685800" y="5710320"/>
            <a:ext cx="3962520" cy="69048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8"/>
          <a:stretch/>
        </p:blipFill>
        <p:spPr>
          <a:xfrm>
            <a:off x="5092560" y="4029120"/>
            <a:ext cx="3480120" cy="40176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9"/>
          <a:stretch/>
        </p:blipFill>
        <p:spPr>
          <a:xfrm>
            <a:off x="5105520" y="4724280"/>
            <a:ext cx="33462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4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6"/>
          <a:stretch/>
        </p:blipFill>
        <p:spPr>
          <a:xfrm>
            <a:off x="603360" y="1754280"/>
            <a:ext cx="7327800" cy="126684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7"/>
          <a:stretch/>
        </p:blipFill>
        <p:spPr>
          <a:xfrm>
            <a:off x="608040" y="3430440"/>
            <a:ext cx="2289240" cy="60804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8"/>
          <a:stretch/>
        </p:blipFill>
        <p:spPr>
          <a:xfrm>
            <a:off x="3533760" y="3368520"/>
            <a:ext cx="2695680" cy="62388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9"/>
          <a:stretch/>
        </p:blipFill>
        <p:spPr>
          <a:xfrm>
            <a:off x="328680" y="4343400"/>
            <a:ext cx="8385120" cy="60948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10"/>
          <a:stretch/>
        </p:blipFill>
        <p:spPr>
          <a:xfrm>
            <a:off x="365040" y="5257800"/>
            <a:ext cx="5273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6"/>
          <a:stretch/>
        </p:blipFill>
        <p:spPr>
          <a:xfrm>
            <a:off x="2819520" y="1768320"/>
            <a:ext cx="3590640" cy="73692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232200" y="2666880"/>
            <a:ext cx="79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sharing this entangled state, which they cannot u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 with each other, but they can increase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ces of defeating this evil evil w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838080" y="304812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3" name="" descr=""/>
          <p:cNvPicPr/>
          <p:nvPr/>
        </p:nvPicPr>
        <p:blipFill>
          <a:blip r:embed="rId3"/>
          <a:stretch/>
        </p:blipFill>
        <p:spPr>
          <a:xfrm>
            <a:off x="6705720" y="304812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7200" y="289548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6553080" y="290520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1658880" y="44956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097160" y="30481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328080" y="457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098960" y="26668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793880" y="31237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793880" y="32004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581280" y="3123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792600" y="3048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048120" y="4495680"/>
            <a:ext cx="914400" cy="152424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434340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349520" y="6019920"/>
            <a:ext cx="32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clas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H="1" flipV="1">
            <a:off x="4572000" y="5410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3580920" y="54864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6"/>
          <a:stretch/>
        </p:blipFill>
        <p:spPr>
          <a:xfrm>
            <a:off x="2514600" y="685800"/>
            <a:ext cx="3591000" cy="73656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307080" y="152388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 tells us that we cannot simulate the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quantum theory using a local hidden variable theo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07080" y="838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6668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9718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767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2767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9718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66880" y="1828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66880" y="2133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971800" y="2133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2767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9718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6668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8862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1911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911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5812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91120" y="24382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620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956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8006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1055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055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8006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4956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4956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055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05520" y="24382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956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4100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199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0199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4100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4100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7150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019920" y="2133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9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68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97180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76720" y="2743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2767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9718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668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668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9718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2767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767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6668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191120" y="27432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91120" y="30481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862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5812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5812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1911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62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5812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49568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80060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105520" y="27432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1055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800600" y="30481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30481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95680" y="33526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1055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055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8006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4956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4100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1500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019920" y="2743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7150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4100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4100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50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99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100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6668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9718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767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668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668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9718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767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2767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718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668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5812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8862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1911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1911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8862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5812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812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911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8862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8006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1055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1055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006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4956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956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8006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1055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1055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8006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4956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4100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150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0199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0199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7150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100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100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150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99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0199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4100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66294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2590920" y="53341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12480" y="534996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theories, with classical information, like cellular auto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reproduce the predictions of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84480" y="624852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pologies to Stephen Wolf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07080" y="838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34360" y="1676520"/>
            <a:ext cx="87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our model where we put bits into boxes to get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32200" y="251460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lation is not pro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31120" y="3276720"/>
            <a:ext cx="826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quantum correlation is different from experiment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generate correlations loca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as truly the first result in quantum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rrelations play games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classical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07080" y="6858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8520" y="137160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 is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26160" y="1905120"/>
            <a:ext cx="55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ocal hidden variable theories satis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20760" y="30481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quantum theory pred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2259000" y="3632040"/>
            <a:ext cx="3608280" cy="636840"/>
          </a:xfrm>
          <a:prstGeom prst="rect">
            <a:avLst/>
          </a:prstGeom>
          <a:ln w="0">
            <a:noFill/>
          </a:ln>
        </p:spPr>
      </p:pic>
      <p:pic>
        <p:nvPicPr>
          <p:cNvPr id="1442" name="" descr=""/>
          <p:cNvPicPr/>
          <p:nvPr/>
        </p:nvPicPr>
        <p:blipFill>
          <a:blip r:embed="rId2"/>
          <a:stretch/>
        </p:blipFill>
        <p:spPr>
          <a:xfrm>
            <a:off x="3192480" y="2432160"/>
            <a:ext cx="1692360" cy="5968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246960" y="4267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go out and test it!!!!   Famous tests of Aspect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3"/>
          <a:stretch/>
        </p:blipFill>
        <p:spPr>
          <a:xfrm>
            <a:off x="1066680" y="4745160"/>
            <a:ext cx="6858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05640" y="106668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marked before, that a general quantum state on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9680" cy="815760"/>
          </a:xfrm>
          <a:prstGeom prst="rect">
            <a:avLst/>
          </a:prstGeom>
          <a:ln w="0">
            <a:noFill/>
          </a:ln>
        </p:spPr>
      </p:pic>
      <p:sp>
        <p:nvSpPr>
          <p:cNvPr id="1448" name=""/>
          <p:cNvSpPr/>
          <p:nvPr/>
        </p:nvSpPr>
        <p:spPr>
          <a:xfrm>
            <a:off x="294120" y="2590920"/>
            <a:ext cx="84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      complex numbers to specify.  Exponential in 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" descr=""/>
          <p:cNvPicPr/>
          <p:nvPr/>
        </p:nvPicPr>
        <p:blipFill>
          <a:blip r:embed="rId2"/>
          <a:stretch/>
        </p:blipFill>
        <p:spPr>
          <a:xfrm>
            <a:off x="1741320" y="2709720"/>
            <a:ext cx="303480" cy="22068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307440" y="350532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, suppose that this n qubit state is separable across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3"/>
          <a:stretch/>
        </p:blipFill>
        <p:spPr>
          <a:xfrm>
            <a:off x="1225440" y="4357800"/>
            <a:ext cx="3803760" cy="29052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87000" y="480060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ingle qubit wave function requires us to specify only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, so we only need 2n complex number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is separable st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03400" cy="29052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7200" y="83808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during an algorithm, the state always remains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55160" y="190512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fficiently simulate this quantum computation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992520" y="281952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and two qubit gates are just 2x2 and 4x4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, we need some entanglement in a quantum algorithm in order to have a speedup of quantum over class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Sepa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021040" cy="335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47720" y="1847880"/>
            <a:ext cx="290376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975200" y="1822320"/>
            <a:ext cx="3140280" cy="73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7893000" cy="84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22120" y="4200480"/>
            <a:ext cx="8775720" cy="768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28600" y="5254560"/>
            <a:ext cx="629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7240" y="83808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ittle more sophisticated [Jozsa and Linde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34960" y="144792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-blocked: If no p+1 subset of n qubits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38200" y="220968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circuits can be efficiently simulated if p is poly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8920" y="28195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idea: Entangled blocks of size p can be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mplex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polynomial in n if p is poly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06360" y="480060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“large amount” of entanglement is necessary for a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up.  Interestingly it is not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30040" y="1143000"/>
            <a:ext cx="867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de benefit: physicists spend a lot of time trying to si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ystems.  This is often computationally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we know that entanglement is important for thi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, we can design our algorithms to keep track of as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has lead to nice deep insights into som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sts had previously invented, and is currently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ited to design new faster algorith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11760" y="51055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ing entanglement is essential to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s of computational quantum phys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2838960" y="152280"/>
            <a:ext cx="33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alk To 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838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838080" y="304920"/>
          <a:ext cx="827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827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2" name="" descr=""/>
          <p:cNvPicPr/>
          <p:nvPr/>
        </p:nvPicPr>
        <p:blipFill>
          <a:blip r:embed="rId3"/>
          <a:stretch/>
        </p:blipFill>
        <p:spPr>
          <a:xfrm>
            <a:off x="66168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699768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991800" y="38862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872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904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0681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0717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06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09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449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452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3349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33856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8907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0430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1956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4785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4818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8594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626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097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100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240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243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812628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12952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820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8343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9866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220760" y="271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1913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782760" y="3840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85800" y="1935000"/>
            <a:ext cx="17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210200" y="1633680"/>
            <a:ext cx="609480" cy="1185840"/>
          </a:xfrm>
          <a:custGeom>
            <a:avLst/>
            <a:gdLst>
              <a:gd name="textAreaLeft" fmla="*/ 389520 w 609480"/>
              <a:gd name="textAreaRight" fmla="*/ 609840 w 609480"/>
              <a:gd name="textAreaTop" fmla="*/ 30600 h 1185840"/>
              <a:gd name="textAreaBottom" fmla="*/ 1155240 h 118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607640" y="1676520"/>
            <a:ext cx="16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f a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if 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79080" y="4495680"/>
            <a:ext cx="842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(many bits) do Alice and Bob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change to compute F(a,b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969840" y="5715000"/>
            <a:ext cx="726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no err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one-sided error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O(log(n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2750400" y="76320"/>
            <a:ext cx="349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alk To M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ome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38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1" name=""/>
          <p:cNvGraphicFramePr/>
          <p:nvPr/>
        </p:nvGraphicFramePr>
        <p:xfrm>
          <a:off x="838080" y="304920"/>
          <a:ext cx="827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827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3" name="" descr=""/>
          <p:cNvPicPr/>
          <p:nvPr/>
        </p:nvPicPr>
        <p:blipFill>
          <a:blip r:embed="rId3"/>
          <a:stretch/>
        </p:blipFill>
        <p:spPr>
          <a:xfrm>
            <a:off x="66168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/>
          <p:nvPr/>
        </p:nvSpPr>
        <p:spPr>
          <a:xfrm>
            <a:off x="699768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91800" y="38862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872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904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0681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0717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06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09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49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52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3349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33856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8907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0430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1956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785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818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8594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8626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097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100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240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243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12628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12952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6820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8343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9866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220760" y="271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1913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782760" y="3840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361880" y="4419720"/>
            <a:ext cx="63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b)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26440" y="5181480"/>
            <a:ext cx="842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(many bits) do Alice and Bob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change to compute F(a,b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454480" y="6202440"/>
            <a:ext cx="39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no err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442440" y="76320"/>
            <a:ext cx="82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ommunication Complex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816440" y="362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77640" y="990720"/>
            <a:ext cx="840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ommunication between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ob is necessary for them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a,b) when Alice knows a and Bob knows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ao 7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972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057400" y="5105520"/>
            <a:ext cx="2133720" cy="12189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752480" y="4829040"/>
            <a:ext cx="518184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802040" y="5334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07680" y="4114800"/>
            <a:ext cx="75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to computationa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01520" y="3276720"/>
            <a:ext cx="8983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rigorous lower and matching upper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6640" y="5410080"/>
            <a:ext cx="116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2054160" y="76320"/>
            <a:ext cx="50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ake It Quan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1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685800" y="35892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9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2" name="" descr=""/>
          <p:cNvPicPr/>
          <p:nvPr/>
        </p:nvPicPr>
        <p:blipFill>
          <a:blip r:embed="rId3"/>
          <a:stretch/>
        </p:blipFill>
        <p:spPr>
          <a:xfrm>
            <a:off x="7149960" y="228600"/>
            <a:ext cx="1613160" cy="20574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74674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06812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6611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895480" y="1066680"/>
            <a:ext cx="3353040" cy="1067040"/>
          </a:xfrm>
          <a:prstGeom prst="leftRightArrow">
            <a:avLst>
              <a:gd name="adj1" fmla="val 50000"/>
              <a:gd name="adj2" fmla="val 6255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133800" y="23623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4"/>
          <a:stretch/>
        </p:blipFill>
        <p:spPr>
          <a:xfrm>
            <a:off x="3581280" y="2895480"/>
            <a:ext cx="2149560" cy="273240"/>
          </a:xfrm>
          <a:prstGeom prst="rect">
            <a:avLst/>
          </a:prstGeom>
          <a:ln w="0">
            <a:noFill/>
          </a:ln>
        </p:spPr>
      </p:pic>
      <p:sp>
        <p:nvSpPr>
          <p:cNvPr id="1569" name=""/>
          <p:cNvSpPr/>
          <p:nvPr/>
        </p:nvSpPr>
        <p:spPr>
          <a:xfrm>
            <a:off x="271080" y="3505320"/>
            <a:ext cx="857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classical communication complexity (bi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o quantum communication complexity (qubit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545480" y="4829040"/>
            <a:ext cx="6917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levo’s Theoe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nding n classical b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n quantum b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117440" cy="111780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457200" y="4724280"/>
            <a:ext cx="807732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677880" y="1235160"/>
            <a:ext cx="1333440" cy="1778040"/>
          </a:xfrm>
          <a:prstGeom prst="rect">
            <a:avLst/>
          </a:prstGeom>
          <a:ln w="0">
            <a:noFill/>
          </a:ln>
        </p:spPr>
      </p:pic>
      <p:sp>
        <p:nvSpPr>
          <p:cNvPr id="1574" name=""/>
          <p:cNvSpPr/>
          <p:nvPr/>
        </p:nvSpPr>
        <p:spPr>
          <a:xfrm>
            <a:off x="2362320" y="1295280"/>
            <a:ext cx="6553080" cy="1676520"/>
          </a:xfrm>
          <a:prstGeom prst="wedgeRectCallout">
            <a:avLst>
              <a:gd name="adj1" fmla="val -61675"/>
              <a:gd name="adj2" fmla="val 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48600" y="763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t So 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04440" y="306396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 R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513160" y="1327320"/>
            <a:ext cx="639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exists functions F(a,b) which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og(m)) bits of communication to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be solved using only O(log(m))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 is the length of a and 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337720" y="373392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benefi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over class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2914560" cy="146988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>
            <a:off x="2286000" y="3429000"/>
            <a:ext cx="67057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40720" y="5150880"/>
            <a:ext cx="636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model 0-err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rman, Cleve, Wigderson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way communication exponential sep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-Yossef, Jayram, Kerenidi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457200" y="241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457200" y="35892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9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75312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86" name=""/>
          <p:cNvSpPr/>
          <p:nvPr/>
        </p:nvSpPr>
        <p:spPr>
          <a:xfrm>
            <a:off x="777240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83952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97400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812400" y="213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149560" cy="27324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1153080" y="0"/>
            <a:ext cx="687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uantum 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5"/>
          <a:stretch/>
        </p:blipFill>
        <p:spPr>
          <a:xfrm>
            <a:off x="4191120" y="3276720"/>
            <a:ext cx="541080" cy="419040"/>
          </a:xfrm>
          <a:prstGeom prst="rect">
            <a:avLst/>
          </a:prstGeom>
          <a:ln w="0">
            <a:noFill/>
          </a:ln>
        </p:spPr>
      </p:pic>
      <p:sp>
        <p:nvSpPr>
          <p:cNvPr id="1593" name=""/>
          <p:cNvSpPr/>
          <p:nvPr/>
        </p:nvSpPr>
        <p:spPr>
          <a:xfrm>
            <a:off x="3276720" y="914400"/>
            <a:ext cx="2438280" cy="1143000"/>
          </a:xfrm>
          <a:prstGeom prst="rightArrow">
            <a:avLst>
              <a:gd name="adj1" fmla="val 50000"/>
              <a:gd name="adj2" fmla="val 53331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33520" y="538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5" name=""/>
          <p:cNvGraphicFramePr/>
          <p:nvPr/>
        </p:nvGraphicFramePr>
        <p:xfrm>
          <a:off x="533520" y="3330720"/>
          <a:ext cx="826920" cy="203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3307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7" name="" descr=""/>
          <p:cNvPicPr/>
          <p:nvPr/>
        </p:nvPicPr>
        <p:blipFill>
          <a:blip r:embed="rId8"/>
          <a:stretch/>
        </p:blipFill>
        <p:spPr>
          <a:xfrm>
            <a:off x="7454880" y="32004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77724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91584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8002440" y="5614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8000" y="5105520"/>
            <a:ext cx="9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352680" y="3886200"/>
            <a:ext cx="2438640" cy="1143000"/>
          </a:xfrm>
          <a:prstGeom prst="rightArrow">
            <a:avLst>
              <a:gd name="adj1" fmla="val 50000"/>
              <a:gd name="adj2" fmla="val 53339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278440" y="632448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eleport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099840" y="5181480"/>
            <a:ext cx="15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5410080" y="5562720"/>
            <a:ext cx="60984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9"/>
          <a:stretch/>
        </p:blipFill>
        <p:spPr>
          <a:xfrm>
            <a:off x="2867040" y="5892840"/>
            <a:ext cx="2949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06360" y="91440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ties share entangled states, they can outperform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complexity protoco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04560" y="2133720"/>
            <a:ext cx="79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are all sorts of different “kinds” of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for two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4627440" cy="33660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>
            <a:off x="382680" y="41148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2"/>
          <a:stretch/>
        </p:blipFill>
        <p:spPr>
          <a:xfrm>
            <a:off x="1447920" y="4210200"/>
            <a:ext cx="850680" cy="38736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3"/>
          <a:stretch/>
        </p:blipFill>
        <p:spPr>
          <a:xfrm>
            <a:off x="1409760" y="4724280"/>
            <a:ext cx="3695760" cy="53028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5567400" y="4724280"/>
            <a:ext cx="31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ly entangl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b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61160" y="556272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 non-maximally entangled qubits for telepor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t becomes les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1773360" y="1873080"/>
            <a:ext cx="4627440" cy="336600"/>
          </a:xfrm>
          <a:prstGeom prst="rect">
            <a:avLst/>
          </a:prstGeom>
          <a:ln w="0">
            <a:noFill/>
          </a:ln>
        </p:spPr>
      </p:pic>
      <p:sp>
        <p:nvSpPr>
          <p:cNvPr id="1618" name=""/>
          <p:cNvSpPr/>
          <p:nvPr/>
        </p:nvSpPr>
        <p:spPr>
          <a:xfrm>
            <a:off x="388080" y="990720"/>
            <a:ext cx="86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give you many copies of a non-maximally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3240" y="2362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convert              into m&lt;n maximally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901800" cy="36684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3"/>
          <a:stretch/>
        </p:blipFill>
        <p:spPr>
          <a:xfrm>
            <a:off x="1752480" y="3352680"/>
            <a:ext cx="2691000" cy="403200"/>
          </a:xfrm>
          <a:prstGeom prst="rect">
            <a:avLst/>
          </a:prstGeom>
          <a:ln w="0">
            <a:noFill/>
          </a:ln>
        </p:spPr>
      </p:pic>
      <p:sp>
        <p:nvSpPr>
          <p:cNvPr id="1622" name=""/>
          <p:cNvSpPr/>
          <p:nvPr/>
        </p:nvSpPr>
        <p:spPr>
          <a:xfrm>
            <a:off x="538200" y="388620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ment distillation!  Rat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4"/>
          <a:stretch/>
        </p:blipFill>
        <p:spPr>
          <a:xfrm>
            <a:off x="1001880" y="4495680"/>
            <a:ext cx="8065800" cy="44928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1603800" y="52578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 flipV="1">
            <a:off x="228564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Entang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14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2852640" cy="33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72200" y="2971800"/>
            <a:ext cx="2755800" cy="33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6910560" cy="335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3478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02564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371600" y="5791320"/>
            <a:ext cx="99360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0600" y="4495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34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4876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976640" y="495288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46440" y="56386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4976640" y="571500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480360" y="5181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400" y="2514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360" y="62485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     is not a separable state.  It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914400" y="6294600"/>
            <a:ext cx="351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81600" y="9907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reverse? n&gt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62960" y="236232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ment di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1"/>
          <a:stretch/>
        </p:blipFill>
        <p:spPr>
          <a:xfrm>
            <a:off x="1001880" y="2895480"/>
            <a:ext cx="8065800" cy="44928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1603800" y="36576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 flipV="1">
            <a:off x="2285640" y="342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2"/>
          <a:stretch/>
        </p:blipFill>
        <p:spPr>
          <a:xfrm>
            <a:off x="1447920" y="1754280"/>
            <a:ext cx="2690640" cy="403200"/>
          </a:xfrm>
          <a:prstGeom prst="rect">
            <a:avLst/>
          </a:prstGeom>
          <a:ln w="0">
            <a:noFill/>
          </a:ln>
        </p:spPr>
      </p:pic>
      <p:sp>
        <p:nvSpPr>
          <p:cNvPr id="1633" name=""/>
          <p:cNvSpPr/>
          <p:nvPr/>
        </p:nvSpPr>
        <p:spPr>
          <a:xfrm>
            <a:off x="690120" y="480060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re state) bipartite entanglement is a fungibl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quantified in the quantity of e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588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560" y="1066680"/>
            <a:ext cx="829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nderstand what makes entanglement so interesting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s we need to know a little special rela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don’t need to know how to calculate in special rela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we do need to understand the concept of “locality”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ses in special rela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920" y="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ace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3960" y="27432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115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6304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13320" y="990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1464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4840" y="16765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ime,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68720" y="1600200"/>
            <a:ext cx="457200" cy="2438280"/>
          </a:xfrm>
          <a:custGeom>
            <a:avLst/>
            <a:gdLst/>
            <a:ahLst/>
            <a:rect l="l" t="t" r="r" b="b"/>
            <a:pathLst>
              <a:path w="288" h="1536">
                <a:moveTo>
                  <a:pt x="288" y="1536"/>
                </a:moveTo>
                <a:cubicBezTo>
                  <a:pt x="200" y="1424"/>
                  <a:pt x="112" y="1312"/>
                  <a:pt x="96" y="1152"/>
                </a:cubicBezTo>
                <a:cubicBezTo>
                  <a:pt x="80" y="992"/>
                  <a:pt x="208" y="768"/>
                  <a:pt x="192" y="576"/>
                </a:cubicBezTo>
                <a:cubicBezTo>
                  <a:pt x="176" y="384"/>
                  <a:pt x="88" y="19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33720" y="396252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time pat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ve in spac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1520" y="1447560"/>
            <a:ext cx="14526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40800" y="41911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tial fram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ant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0:34:30Z</dcterms:created>
  <dc:creator>Dave Bacon</dc:creator>
  <dc:description/>
  <dc:language>en-US</dc:language>
  <cp:lastModifiedBy>Dave Bacon</cp:lastModifiedBy>
  <dcterms:modified xsi:type="dcterms:W3CDTF">2005-08-10T19:39:04Z</dcterms:modified>
  <cp:revision>47</cp:revision>
  <dc:subject/>
  <dc:title>Slide 1</dc:title>
</cp:coreProperties>
</file>