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94.png" ContentType="image/png"/>
  <Override PartName="/ppt/media/image125.png" ContentType="image/png"/>
  <Override PartName="/ppt/media/image193.png" ContentType="image/png"/>
  <Override PartName="/ppt/media/image124.png" ContentType="image/png"/>
  <Override PartName="/ppt/media/image192.png" ContentType="image/png"/>
  <Override PartName="/ppt/media/image123.png" ContentType="image/png"/>
  <Override PartName="/ppt/media/image191.png" ContentType="image/png"/>
  <Override PartName="/ppt/media/image122.png" ContentType="image/png"/>
  <Override PartName="/ppt/media/image190.png" ContentType="image/png"/>
  <Override PartName="/ppt/media/image121.png" ContentType="image/png"/>
  <Override PartName="/ppt/media/image116.png" ContentType="image/png"/>
  <Override PartName="/ppt/media/image184.png" ContentType="image/png"/>
  <Override PartName="/ppt/media/image115.png" ContentType="image/png"/>
  <Override PartName="/ppt/media/image114.png" ContentType="image/png"/>
  <Override PartName="/ppt/media/image182.png" ContentType="image/png"/>
  <Override PartName="/ppt/media/image113.png" ContentType="image/png"/>
  <Override PartName="/ppt/media/image181.png" ContentType="image/png"/>
  <Override PartName="/ppt/media/image112.png" ContentType="image/png"/>
  <Override PartName="/ppt/media/image180.png" ContentType="image/png"/>
  <Override PartName="/ppt/media/image111.png" ContentType="image/png"/>
  <Override PartName="/ppt/media/image106.png" ContentType="image/png"/>
  <Override PartName="/ppt/media/image174.png" ContentType="image/png"/>
  <Override PartName="/ppt/media/image105.png" ContentType="image/png"/>
  <Override PartName="/ppt/media/image173.png" ContentType="image/png"/>
  <Override PartName="/ppt/media/image104.png" ContentType="image/png"/>
  <Override PartName="/ppt/media/image172.png" ContentType="image/png"/>
  <Override PartName="/ppt/media/image103.png" ContentType="image/png"/>
  <Override PartName="/ppt/media/image171.png" ContentType="image/png"/>
  <Override PartName="/ppt/media/image102.png" ContentType="image/png"/>
  <Override PartName="/ppt/media/image170.png" ContentType="image/png"/>
  <Override PartName="/ppt/media/image101.png" ContentType="image/png"/>
  <Override PartName="/ppt/media/image99.png" ContentType="image/png"/>
  <Override PartName="/ppt/media/image98.png" ContentType="image/png"/>
  <Override PartName="/ppt/media/image97.png" ContentType="image/png"/>
  <Override PartName="/ppt/media/image29.png" ContentType="image/png"/>
  <Override PartName="/ppt/media/image96.png" ContentType="image/png"/>
  <Override PartName="/ppt/media/image28.png" ContentType="image/png"/>
  <Override PartName="/ppt/media/image95.png" ContentType="image/png"/>
  <Override PartName="/ppt/media/image27.png" ContentType="image/png"/>
  <Override PartName="/ppt/media/image89.png" ContentType="image/png"/>
  <Override PartName="/ppt/media/image88.png" ContentType="image/png"/>
  <Override PartName="/ppt/media/image87.png" ContentType="image/png"/>
  <Override PartName="/ppt/media/image19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70.png" ContentType="image/png"/>
  <Override PartName="/ppt/media/image120.png" ContentType="image/png"/>
  <Override PartName="/ppt/media/image69.png" ContentType="image/png"/>
  <Override PartName="/ppt/media/image68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62.png" ContentType="image/png"/>
  <Override PartName="/ppt/media/image61.png" ContentType="image/png"/>
  <Override PartName="/ppt/media/image60.png" ContentType="image/png"/>
  <Override PartName="/ppt/media/image23.png" ContentType="image/png"/>
  <Override PartName="/ppt/media/image91.png" ContentType="image/png"/>
  <Override PartName="/ppt/media/image119.png" ContentType="image/png"/>
  <Override PartName="/ppt/media/image187.png" ContentType="image/png"/>
  <Override PartName="/ppt/media/image22.png" ContentType="image/png"/>
  <Override PartName="/ppt/media/image90.png" ContentType="image/png"/>
  <Override PartName="/ppt/media/image110.png" ContentType="image/png"/>
  <Override PartName="/ppt/media/image59.png" ContentType="image/png"/>
  <Override PartName="/ppt/media/image118.png" ContentType="image/png"/>
  <Override PartName="/ppt/media/image186.png" ContentType="image/png"/>
  <Override PartName="/ppt/media/image21.png" ContentType="image/png"/>
  <Override PartName="/ppt/media/image58.png" ContentType="image/png"/>
  <Override PartName="/ppt/media/image117.png" ContentType="image/png"/>
  <Override PartName="/ppt/media/image185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2.png" ContentType="image/png"/>
  <Override PartName="/ppt/media/image31.png" ContentType="image/png"/>
  <Override PartName="/ppt/media/image9.png" ContentType="image/png"/>
  <Override PartName="/ppt/media/image128.png" ContentType="image/png"/>
  <Override PartName="/ppt/media/image196.png" ContentType="image/png"/>
  <Override PartName="/ppt/media/image34.png" ContentType="image/png"/>
  <Override PartName="/ppt/media/image32.png" ContentType="image/png"/>
  <Override PartName="/ppt/media/image133.png" ContentType="image/png"/>
  <Override PartName="/ppt/media/image134.png" ContentType="image/png"/>
  <Override PartName="/ppt/media/image183.jpeg" ContentType="image/jpeg"/>
  <Override PartName="/ppt/media/image135.png" ContentType="image/png"/>
  <Override PartName="/ppt/media/image136.png" ContentType="image/png"/>
  <Override PartName="/ppt/media/image137.png" ContentType="image/png"/>
  <Override PartName="/ppt/media/image40.png" ContentType="image/png"/>
  <Override PartName="/ppt/media/image138.png" ContentType="image/png"/>
  <Override PartName="/ppt/media/image41.png" ContentType="image/png"/>
  <Override PartName="/ppt/media/image139.png" ContentType="image/png"/>
  <Override PartName="/ppt/media/image42.png" ContentType="image/png"/>
  <Override PartName="/ppt/media/image140.png" ContentType="image/png"/>
  <Override PartName="/ppt/media/image143.png" ContentType="image/png"/>
  <Override PartName="/ppt/media/image144.png" ContentType="image/png"/>
  <Override PartName="/ppt/media/image145.png" ContentType="image/png"/>
  <Override PartName="/ppt/media/image146.png" ContentType="image/png"/>
  <Override PartName="/ppt/media/image147.png" ContentType="image/png"/>
  <Override PartName="/ppt/media/image50.png" ContentType="image/png"/>
  <Override PartName="/ppt/media/image148.png" ContentType="image/png"/>
  <Override PartName="/ppt/media/image51.png" ContentType="image/png"/>
  <Override PartName="/ppt/media/image149.png" ContentType="image/png"/>
  <Override PartName="/ppt/media/image52.png" ContentType="image/png"/>
  <Override PartName="/ppt/media/image202.png" ContentType="image/png"/>
  <Override PartName="/ppt/media/image46.png" ContentType="image/png"/>
  <Override PartName="/ppt/media/image150.png" ContentType="image/png"/>
  <Override PartName="/ppt/media/image203.png" ContentType="image/png"/>
  <Override PartName="/ppt/media/image47.png" ContentType="image/png"/>
  <Override PartName="/ppt/media/image162.png" ContentType="image/png"/>
  <Override PartName="/ppt/media/image207.png" ContentType="image/png"/>
  <Override PartName="/ppt/media/image161.png" ContentType="image/png"/>
  <Override PartName="/ppt/media/image198.png" ContentType="image/png"/>
  <Override PartName="/ppt/media/image36.png" ContentType="image/png"/>
  <Override PartName="/ppt/media/image208.png" ContentType="image/png"/>
  <Override PartName="/ppt/media/image210.png" ContentType="image/png"/>
  <Override PartName="/ppt/media/image54.png" ContentType="image/png"/>
  <Override PartName="/ppt/media/image164.png" ContentType="image/png"/>
  <Override PartName="/ppt/media/image209.png" ContentType="image/png"/>
  <Override PartName="/ppt/media/image199.jpeg" ContentType="image/jpeg"/>
  <Override PartName="/ppt/media/image165.png" ContentType="image/png"/>
  <Override PartName="/ppt/media/image163.png" ContentType="image/png"/>
  <Override PartName="/ppt/media/image212.jpeg" ContentType="image/jpeg"/>
  <Override PartName="/ppt/media/image168.png" ContentType="image/png"/>
  <Override PartName="/ppt/media/image201.png" ContentType="image/png"/>
  <Override PartName="/ppt/media/image45.png" ContentType="image/png"/>
  <Override PartName="/ppt/media/image206.png" ContentType="image/png"/>
  <Override PartName="/ppt/media/image211.jpeg" ContentType="image/jpeg"/>
  <Override PartName="/ppt/media/image129.png" ContentType="image/png"/>
  <Override PartName="/ppt/media/image197.png" ContentType="image/png"/>
  <Override PartName="/ppt/media/image35.png" ContentType="image/png"/>
  <Override PartName="/ppt/media/image160.png" ContentType="image/png"/>
  <Override PartName="/ppt/media/image213.png" ContentType="image/png"/>
  <Override PartName="/ppt/media/image130.png" ContentType="image/png"/>
  <Override PartName="/ppt/media/image167.png" ContentType="image/png"/>
  <Override PartName="/ppt/media/image200.png" ContentType="image/png"/>
  <Override PartName="/ppt/media/image44.png" ContentType="image/png"/>
  <Override PartName="/ppt/media/image152.png" ContentType="image/png"/>
  <Override PartName="/ppt/media/image205.png" ContentType="image/png"/>
  <Override PartName="/ppt/media/image49.png" ContentType="image/png"/>
  <Override PartName="/ppt/media/image100.png" ContentType="image/png"/>
  <Override PartName="/ppt/media/image189.png" ContentType="image/png"/>
  <Override PartName="/ppt/media/image151.png" ContentType="image/png"/>
  <Override PartName="/ppt/media/image204.png" ContentType="image/png"/>
  <Override PartName="/ppt/media/image48.png" ContentType="image/png"/>
  <Override PartName="/ppt/media/image188.png" ContentType="image/png"/>
  <Override PartName="/ppt/media/image56.png" ContentType="image/png"/>
  <Override PartName="/ppt/media/image142.png" ContentType="image/png"/>
  <Override PartName="/ppt/media/image179.png" ContentType="image/png"/>
  <Override PartName="/ppt/media/image141.png" ContentType="image/png"/>
  <Override PartName="/ppt/media/image178.png" ContentType="image/png"/>
  <Override PartName="/ppt/media/image132.png" ContentType="image/png"/>
  <Override PartName="/ppt/media/image169.png" ContentType="image/png"/>
  <Override PartName="/ppt/media/image131.png" ContentType="image/png"/>
  <Override PartName="/ppt/media/image166.png" ContentType="image/png"/>
  <Override PartName="/ppt/media/image55.png" ContentType="image/png"/>
  <Override PartName="/ppt/media/image26.png" ContentType="image/png"/>
  <Override PartName="/ppt/media/image94.png" ContentType="image/png"/>
  <Override PartName="/ppt/media/image159.jpeg" ContentType="image/jpeg"/>
  <Override PartName="/ppt/media/image53.png" ContentType="image/png"/>
  <Override PartName="/ppt/media/image43.png" ContentType="image/png"/>
  <Override PartName="/ppt/media/image33.png" ContentType="image/png"/>
  <Override PartName="/ppt/media/image195.png" ContentType="image/png"/>
  <Override PartName="/ppt/media/image127.png" ContentType="image/png"/>
  <Override PartName="/ppt/media/image39.png" ContentType="image/png"/>
  <Override PartName="/ppt/media/image153.png" ContentType="image/png"/>
  <Override PartName="/ppt/media/image1.png" ContentType="image/png"/>
  <Override PartName="/ppt/media/image81.png" ContentType="image/png"/>
  <Override PartName="/ppt/media/image13.png" ContentType="image/png"/>
  <Override PartName="/ppt/media/image38.png" ContentType="image/png"/>
  <Override PartName="/ppt/media/image30.png" ContentType="image/png"/>
  <Override PartName="/ppt/media/image8.png" ContentType="image/png"/>
  <Override PartName="/ppt/media/image17.png" ContentType="image/png"/>
  <Override PartName="/ppt/media/image85.png" ContentType="image/png"/>
  <Override PartName="/ppt/media/image177.png" ContentType="image/png"/>
  <Override PartName="/ppt/media/image109.png" ContentType="image/png"/>
  <Override PartName="/ppt/media/image8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11.png" ContentType="image/png"/>
  <Override PartName="/ppt/media/image108.png" ContentType="image/png"/>
  <Override PartName="/ppt/media/image176.png" ContentType="image/png"/>
  <Override PartName="/ppt/media/image82.png" ContentType="image/png"/>
  <Override PartName="/ppt/media/image14.png" ContentType="image/png"/>
  <Override PartName="/ppt/media/image158.png" ContentType="image/png"/>
  <Override PartName="/ppt/media/image6.png" ContentType="image/png"/>
  <Override PartName="/ppt/media/image15.png" ContentType="image/png"/>
  <Override PartName="/ppt/media/image83.png" ContentType="image/png"/>
  <Override PartName="/ppt/media/image18.png" ContentType="image/png"/>
  <Override PartName="/ppt/media/image86.png" ContentType="image/png"/>
  <Override PartName="/ppt/media/image10.png" ContentType="image/png"/>
  <Override PartName="/ppt/media/image175.png" ContentType="image/png"/>
  <Override PartName="/ppt/media/image107.png" ContentType="image/png"/>
  <Override PartName="/ppt/media/image5.png" ContentType="image/png"/>
  <Override PartName="/ppt/media/image157.png" ContentType="image/png"/>
  <Override PartName="/ppt/media/image4.png" ContentType="image/png"/>
  <Override PartName="/ppt/media/image156.png" ContentType="image/png"/>
  <Override PartName="/ppt/media/image3.png" ContentType="image/png"/>
  <Override PartName="/ppt/media/image155.png" ContentType="image/png"/>
  <Override PartName="/ppt/media/image2.png" ContentType="image/png"/>
  <Override PartName="/ppt/media/image154.png" ContentType="image/png"/>
  <Override PartName="/ppt/media/image25.png" ContentType="image/png"/>
  <Override PartName="/ppt/media/image9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B1B6-9858-47BE-9C1F-6F9509523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EA2A-B71A-4572-A45D-54D849B1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8E7E-9124-419F-8064-515ACB851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67A6-637C-436A-93B5-8CE592248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A38B-DAF6-45D2-907A-180B74DF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E035-6212-4CBE-9CC7-3F4A584D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A37B-82BE-411B-91EE-80BC01E1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5A9B-E66E-4A63-A3F9-2294A191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9997-0196-4F78-9739-195E9589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2E64-2861-4192-ABD7-6262911D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37A7-E1D8-4318-91B9-84C155F1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FD48-9052-41EE-87A9-39C2D88B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3BF8-CED2-4DA9-9CC3-92AE18304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4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image" Target="../media/image40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33.png"/><Relationship Id="rId11" Type="http://schemas.openxmlformats.org/officeDocument/2006/relationships/image" Target="../media/image32.png"/><Relationship Id="rId12" Type="http://schemas.openxmlformats.org/officeDocument/2006/relationships/image" Target="../media/image44.pn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53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1.png"/><Relationship Id="rId7" Type="http://schemas.openxmlformats.org/officeDocument/2006/relationships/image" Target="../media/image62.png"/><Relationship Id="rId8" Type="http://schemas.openxmlformats.org/officeDocument/2006/relationships/image" Target="../media/image63.png"/><Relationship Id="rId9" Type="http://schemas.openxmlformats.org/officeDocument/2006/relationships/image" Target="../media/image64.png"/><Relationship Id="rId10" Type="http://schemas.openxmlformats.org/officeDocument/2006/relationships/image" Target="../media/image61.png"/><Relationship Id="rId11" Type="http://schemas.openxmlformats.org/officeDocument/2006/relationships/image" Target="../media/image61.png"/><Relationship Id="rId12" Type="http://schemas.openxmlformats.org/officeDocument/2006/relationships/image" Target="../media/image65.png"/><Relationship Id="rId13" Type="http://schemas.openxmlformats.org/officeDocument/2006/relationships/image" Target="../media/image64.png"/><Relationship Id="rId1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71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image" Target="../media/image82.png"/><Relationship Id="rId5" Type="http://schemas.openxmlformats.org/officeDocument/2006/relationships/image" Target="../media/image83.png"/><Relationship Id="rId6" Type="http://schemas.openxmlformats.org/officeDocument/2006/relationships/image" Target="../media/image84.png"/><Relationship Id="rId7" Type="http://schemas.openxmlformats.org/officeDocument/2006/relationships/image" Target="../media/image85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8.png"/><Relationship Id="rId3" Type="http://schemas.openxmlformats.org/officeDocument/2006/relationships/image" Target="../media/image89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92.png"/><Relationship Id="rId7" Type="http://schemas.openxmlformats.org/officeDocument/2006/relationships/image" Target="../media/image93.png"/><Relationship Id="rId8" Type="http://schemas.openxmlformats.org/officeDocument/2006/relationships/image" Target="../media/image94.png"/><Relationship Id="rId9" Type="http://schemas.openxmlformats.org/officeDocument/2006/relationships/image" Target="../media/image95.png"/><Relationship Id="rId10" Type="http://schemas.openxmlformats.org/officeDocument/2006/relationships/image" Target="../media/image96.png"/><Relationship Id="rId11" Type="http://schemas.openxmlformats.org/officeDocument/2006/relationships/image" Target="../media/image97.png"/><Relationship Id="rId12" Type="http://schemas.openxmlformats.org/officeDocument/2006/relationships/image" Target="../media/image98.png"/><Relationship Id="rId1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9.png"/><Relationship Id="rId3" Type="http://schemas.openxmlformats.org/officeDocument/2006/relationships/image" Target="../media/image100.png"/><Relationship Id="rId4" Type="http://schemas.openxmlformats.org/officeDocument/2006/relationships/image" Target="../media/image101.png"/><Relationship Id="rId5" Type="http://schemas.openxmlformats.org/officeDocument/2006/relationships/image" Target="../media/image102.png"/><Relationship Id="rId6" Type="http://schemas.openxmlformats.org/officeDocument/2006/relationships/image" Target="../media/image103.png"/><Relationship Id="rId7" Type="http://schemas.openxmlformats.org/officeDocument/2006/relationships/image" Target="../media/image104.png"/><Relationship Id="rId8" Type="http://schemas.openxmlformats.org/officeDocument/2006/relationships/image" Target="../media/image105.png"/><Relationship Id="rId9" Type="http://schemas.openxmlformats.org/officeDocument/2006/relationships/image" Target="../media/image106.png"/><Relationship Id="rId10" Type="http://schemas.openxmlformats.org/officeDocument/2006/relationships/image" Target="../media/image107.png"/><Relationship Id="rId11" Type="http://schemas.openxmlformats.org/officeDocument/2006/relationships/image" Target="../media/image107.png"/><Relationship Id="rId12" Type="http://schemas.openxmlformats.org/officeDocument/2006/relationships/image" Target="../media/image107.png"/><Relationship Id="rId13" Type="http://schemas.openxmlformats.org/officeDocument/2006/relationships/image" Target="../media/image107.png"/><Relationship Id="rId14" Type="http://schemas.openxmlformats.org/officeDocument/2006/relationships/image" Target="../media/image107.png"/><Relationship Id="rId15" Type="http://schemas.openxmlformats.org/officeDocument/2006/relationships/image" Target="../media/image107.png"/><Relationship Id="rId16" Type="http://schemas.openxmlformats.org/officeDocument/2006/relationships/image" Target="../media/image107.png"/><Relationship Id="rId17" Type="http://schemas.openxmlformats.org/officeDocument/2006/relationships/image" Target="../media/image107.png"/><Relationship Id="rId18" Type="http://schemas.openxmlformats.org/officeDocument/2006/relationships/image" Target="../media/image108.png"/><Relationship Id="rId19" Type="http://schemas.openxmlformats.org/officeDocument/2006/relationships/image" Target="../media/image109.png"/><Relationship Id="rId20" Type="http://schemas.openxmlformats.org/officeDocument/2006/relationships/image" Target="../media/image107.png"/><Relationship Id="rId21" Type="http://schemas.openxmlformats.org/officeDocument/2006/relationships/image" Target="../media/image110.png"/><Relationship Id="rId22" Type="http://schemas.openxmlformats.org/officeDocument/2006/relationships/image" Target="../media/image111.png"/><Relationship Id="rId2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112.png"/><Relationship Id="rId4" Type="http://schemas.openxmlformats.org/officeDocument/2006/relationships/image" Target="../media/image113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114.png"/><Relationship Id="rId3" Type="http://schemas.openxmlformats.org/officeDocument/2006/relationships/image" Target="../media/image115.png"/><Relationship Id="rId4" Type="http://schemas.openxmlformats.org/officeDocument/2006/relationships/image" Target="../media/image116.png"/><Relationship Id="rId5" Type="http://schemas.openxmlformats.org/officeDocument/2006/relationships/image" Target="../media/image117.png"/><Relationship Id="rId6" Type="http://schemas.openxmlformats.org/officeDocument/2006/relationships/image" Target="../media/image76.png"/><Relationship Id="rId7" Type="http://schemas.openxmlformats.org/officeDocument/2006/relationships/image" Target="../media/image112.pn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image" Target="../media/image77.png"/><Relationship Id="rId3" Type="http://schemas.openxmlformats.org/officeDocument/2006/relationships/image" Target="../media/image119.png"/><Relationship Id="rId4" Type="http://schemas.openxmlformats.org/officeDocument/2006/relationships/image" Target="../media/image120.png"/><Relationship Id="rId5" Type="http://schemas.openxmlformats.org/officeDocument/2006/relationships/image" Target="../media/image121.png"/><Relationship Id="rId6" Type="http://schemas.openxmlformats.org/officeDocument/2006/relationships/image" Target="../media/image122.png"/><Relationship Id="rId7" Type="http://schemas.openxmlformats.org/officeDocument/2006/relationships/image" Target="../media/image123.png"/><Relationship Id="rId8" Type="http://schemas.openxmlformats.org/officeDocument/2006/relationships/image" Target="../media/image124.png"/><Relationship Id="rId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image" Target="../media/image123.png"/><Relationship Id="rId3" Type="http://schemas.openxmlformats.org/officeDocument/2006/relationships/image" Target="../media/image124.png"/><Relationship Id="rId4" Type="http://schemas.openxmlformats.org/officeDocument/2006/relationships/image" Target="../media/image125.png"/><Relationship Id="rId5" Type="http://schemas.openxmlformats.org/officeDocument/2006/relationships/image" Target="../media/image126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127.png"/><Relationship Id="rId6" Type="http://schemas.openxmlformats.org/officeDocument/2006/relationships/image" Target="../media/image128.png"/><Relationship Id="rId7" Type="http://schemas.openxmlformats.org/officeDocument/2006/relationships/image" Target="../media/image129.png"/><Relationship Id="rId8" Type="http://schemas.openxmlformats.org/officeDocument/2006/relationships/image" Target="../media/image130.png"/><Relationship Id="rId9" Type="http://schemas.openxmlformats.org/officeDocument/2006/relationships/image" Target="../media/image131.png"/><Relationship Id="rId10" Type="http://schemas.openxmlformats.org/officeDocument/2006/relationships/image" Target="../media/image132.png"/><Relationship Id="rId11" Type="http://schemas.openxmlformats.org/officeDocument/2006/relationships/image" Target="../media/image133.png"/><Relationship Id="rId1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4.png"/><Relationship Id="rId2" Type="http://schemas.openxmlformats.org/officeDocument/2006/relationships/image" Target="../media/image135.png"/><Relationship Id="rId3" Type="http://schemas.openxmlformats.org/officeDocument/2006/relationships/image" Target="../media/image136.png"/><Relationship Id="rId4" Type="http://schemas.openxmlformats.org/officeDocument/2006/relationships/image" Target="../media/image137.png"/><Relationship Id="rId5" Type="http://schemas.openxmlformats.org/officeDocument/2006/relationships/image" Target="../media/image138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4.png"/><Relationship Id="rId2" Type="http://schemas.openxmlformats.org/officeDocument/2006/relationships/image" Target="../media/image139.png"/><Relationship Id="rId3" Type="http://schemas.openxmlformats.org/officeDocument/2006/relationships/image" Target="../media/image140.png"/><Relationship Id="rId4" Type="http://schemas.openxmlformats.org/officeDocument/2006/relationships/image" Target="../media/image141.png"/><Relationship Id="rId5" Type="http://schemas.openxmlformats.org/officeDocument/2006/relationships/image" Target="../media/image142.png"/><Relationship Id="rId6" Type="http://schemas.openxmlformats.org/officeDocument/2006/relationships/image" Target="../media/image143.png"/><Relationship Id="rId7" Type="http://schemas.openxmlformats.org/officeDocument/2006/relationships/image" Target="../media/image144.png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9.png"/><Relationship Id="rId2" Type="http://schemas.openxmlformats.org/officeDocument/2006/relationships/image" Target="../media/image145.png"/><Relationship Id="rId3" Type="http://schemas.openxmlformats.org/officeDocument/2006/relationships/image" Target="../media/image146.png"/><Relationship Id="rId4" Type="http://schemas.openxmlformats.org/officeDocument/2006/relationships/image" Target="../media/image147.png"/><Relationship Id="rId5" Type="http://schemas.openxmlformats.org/officeDocument/2006/relationships/image" Target="../media/image14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9.png"/><Relationship Id="rId2" Type="http://schemas.openxmlformats.org/officeDocument/2006/relationships/image" Target="../media/image150.png"/><Relationship Id="rId3" Type="http://schemas.openxmlformats.org/officeDocument/2006/relationships/image" Target="../media/image151.png"/><Relationship Id="rId4" Type="http://schemas.openxmlformats.org/officeDocument/2006/relationships/image" Target="../media/image152.png"/><Relationship Id="rId5" Type="http://schemas.openxmlformats.org/officeDocument/2006/relationships/image" Target="../media/image151.png"/><Relationship Id="rId6" Type="http://schemas.openxmlformats.org/officeDocument/2006/relationships/image" Target="../media/image153.png"/><Relationship Id="rId7" Type="http://schemas.openxmlformats.org/officeDocument/2006/relationships/image" Target="../media/image154.png"/><Relationship Id="rId8" Type="http://schemas.openxmlformats.org/officeDocument/2006/relationships/image" Target="../media/image155.png"/><Relationship Id="rId9" Type="http://schemas.openxmlformats.org/officeDocument/2006/relationships/image" Target="../media/image156.png"/><Relationship Id="rId10" Type="http://schemas.openxmlformats.org/officeDocument/2006/relationships/image" Target="../media/image157.png"/><Relationship Id="rId11" Type="http://schemas.openxmlformats.org/officeDocument/2006/relationships/image" Target="../media/image158.png"/><Relationship Id="rId1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9.jpeg"/><Relationship Id="rId2" Type="http://schemas.openxmlformats.org/officeDocument/2006/relationships/image" Target="../media/image149.png"/><Relationship Id="rId3" Type="http://schemas.openxmlformats.org/officeDocument/2006/relationships/image" Target="../media/image160.png"/><Relationship Id="rId4" Type="http://schemas.openxmlformats.org/officeDocument/2006/relationships/image" Target="../media/image161.png"/><Relationship Id="rId5" Type="http://schemas.openxmlformats.org/officeDocument/2006/relationships/image" Target="../media/image162.png"/><Relationship Id="rId6" Type="http://schemas.openxmlformats.org/officeDocument/2006/relationships/image" Target="../media/image163.png"/><Relationship Id="rId7" Type="http://schemas.openxmlformats.org/officeDocument/2006/relationships/image" Target="../media/image164.png"/><Relationship Id="rId8" Type="http://schemas.openxmlformats.org/officeDocument/2006/relationships/image" Target="../media/image165.png"/><Relationship Id="rId9" Type="http://schemas.openxmlformats.org/officeDocument/2006/relationships/image" Target="../media/image166.png"/><Relationship Id="rId10" Type="http://schemas.openxmlformats.org/officeDocument/2006/relationships/image" Target="../media/image167.png"/><Relationship Id="rId11" Type="http://schemas.openxmlformats.org/officeDocument/2006/relationships/image" Target="../media/image168.png"/><Relationship Id="rId12" Type="http://schemas.openxmlformats.org/officeDocument/2006/relationships/image" Target="../media/image169.png"/><Relationship Id="rId13" Type="http://schemas.openxmlformats.org/officeDocument/2006/relationships/image" Target="../media/image170.png"/><Relationship Id="rId14" Type="http://schemas.openxmlformats.org/officeDocument/2006/relationships/image" Target="../media/image171.png"/><Relationship Id="rId15" Type="http://schemas.openxmlformats.org/officeDocument/2006/relationships/image" Target="../media/image172.png"/><Relationship Id="rId16" Type="http://schemas.openxmlformats.org/officeDocument/2006/relationships/image" Target="../media/image173.png"/><Relationship Id="rId17" Type="http://schemas.openxmlformats.org/officeDocument/2006/relationships/image" Target="../media/image174.png"/><Relationship Id="rId1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5.png"/><Relationship Id="rId2" Type="http://schemas.openxmlformats.org/officeDocument/2006/relationships/image" Target="../media/image72.png"/><Relationship Id="rId3" Type="http://schemas.openxmlformats.org/officeDocument/2006/relationships/image" Target="../media/image176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9.jpeg"/><Relationship Id="rId2" Type="http://schemas.openxmlformats.org/officeDocument/2006/relationships/image" Target="../media/image149.png"/><Relationship Id="rId3" Type="http://schemas.openxmlformats.org/officeDocument/2006/relationships/image" Target="../media/image160.png"/><Relationship Id="rId4" Type="http://schemas.openxmlformats.org/officeDocument/2006/relationships/image" Target="../media/image161.png"/><Relationship Id="rId5" Type="http://schemas.openxmlformats.org/officeDocument/2006/relationships/image" Target="../media/image162.png"/><Relationship Id="rId6" Type="http://schemas.openxmlformats.org/officeDocument/2006/relationships/image" Target="../media/image163.png"/><Relationship Id="rId7" Type="http://schemas.openxmlformats.org/officeDocument/2006/relationships/image" Target="../media/image164.png"/><Relationship Id="rId8" Type="http://schemas.openxmlformats.org/officeDocument/2006/relationships/image" Target="../media/image165.png"/><Relationship Id="rId9" Type="http://schemas.openxmlformats.org/officeDocument/2006/relationships/image" Target="../media/image173.png"/><Relationship Id="rId10" Type="http://schemas.openxmlformats.org/officeDocument/2006/relationships/image" Target="../media/image174.png"/><Relationship Id="rId11" Type="http://schemas.openxmlformats.org/officeDocument/2006/relationships/image" Target="../media/image66.png"/><Relationship Id="rId1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9.png"/><Relationship Id="rId2" Type="http://schemas.openxmlformats.org/officeDocument/2006/relationships/image" Target="../media/image177.png"/><Relationship Id="rId3" Type="http://schemas.openxmlformats.org/officeDocument/2006/relationships/image" Target="../media/image178.png"/><Relationship Id="rId4" Type="http://schemas.openxmlformats.org/officeDocument/2006/relationships/image" Target="../media/image177.png"/><Relationship Id="rId5" Type="http://schemas.openxmlformats.org/officeDocument/2006/relationships/image" Target="../media/image179.png"/><Relationship Id="rId6" Type="http://schemas.openxmlformats.org/officeDocument/2006/relationships/image" Target="../media/image180.png"/><Relationship Id="rId7" Type="http://schemas.openxmlformats.org/officeDocument/2006/relationships/image" Target="../media/image181.png"/><Relationship Id="rId8" Type="http://schemas.openxmlformats.org/officeDocument/2006/relationships/image" Target="../media/image182.png"/><Relationship Id="rId9" Type="http://schemas.openxmlformats.org/officeDocument/2006/relationships/image" Target="../media/image183.jpeg"/><Relationship Id="rId10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9.png"/><Relationship Id="rId2" Type="http://schemas.openxmlformats.org/officeDocument/2006/relationships/image" Target="../media/image177.png"/><Relationship Id="rId3" Type="http://schemas.openxmlformats.org/officeDocument/2006/relationships/image" Target="../media/image184.png"/><Relationship Id="rId4" Type="http://schemas.openxmlformats.org/officeDocument/2006/relationships/image" Target="../media/image184.png"/><Relationship Id="rId5" Type="http://schemas.openxmlformats.org/officeDocument/2006/relationships/image" Target="../media/image185.png"/><Relationship Id="rId6" Type="http://schemas.openxmlformats.org/officeDocument/2006/relationships/image" Target="../media/image186.png"/><Relationship Id="rId7" Type="http://schemas.openxmlformats.org/officeDocument/2006/relationships/image" Target="../media/image18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87.png"/><Relationship Id="rId2" Type="http://schemas.openxmlformats.org/officeDocument/2006/relationships/image" Target="../media/image186.png"/><Relationship Id="rId3" Type="http://schemas.openxmlformats.org/officeDocument/2006/relationships/image" Target="../media/image188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7.png"/><Relationship Id="rId2" Type="http://schemas.openxmlformats.org/officeDocument/2006/relationships/image" Target="../media/image189.png"/><Relationship Id="rId3" Type="http://schemas.openxmlformats.org/officeDocument/2006/relationships/image" Target="../media/image190.png"/><Relationship Id="rId4" Type="http://schemas.openxmlformats.org/officeDocument/2006/relationships/image" Target="../media/image191.png"/><Relationship Id="rId5" Type="http://schemas.openxmlformats.org/officeDocument/2006/relationships/image" Target="../media/image192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93.png"/><Relationship Id="rId2" Type="http://schemas.openxmlformats.org/officeDocument/2006/relationships/image" Target="../media/image194.png"/><Relationship Id="rId3" Type="http://schemas.openxmlformats.org/officeDocument/2006/relationships/image" Target="../media/image195.png"/><Relationship Id="rId4" Type="http://schemas.openxmlformats.org/officeDocument/2006/relationships/image" Target="../media/image186.png"/><Relationship Id="rId5" Type="http://schemas.openxmlformats.org/officeDocument/2006/relationships/image" Target="../media/image196.png"/><Relationship Id="rId6" Type="http://schemas.openxmlformats.org/officeDocument/2006/relationships/image" Target="../media/image197.png"/><Relationship Id="rId7" Type="http://schemas.openxmlformats.org/officeDocument/2006/relationships/image" Target="../media/image198.png"/><Relationship Id="rId8" Type="http://schemas.openxmlformats.org/officeDocument/2006/relationships/image" Target="../media/image199.jpeg"/><Relationship Id="rId9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98.png"/><Relationship Id="rId2" Type="http://schemas.openxmlformats.org/officeDocument/2006/relationships/image" Target="../media/image200.png"/><Relationship Id="rId3" Type="http://schemas.openxmlformats.org/officeDocument/2006/relationships/image" Target="../media/image201.png"/><Relationship Id="rId4" Type="http://schemas.openxmlformats.org/officeDocument/2006/relationships/image" Target="../media/image202.png"/><Relationship Id="rId5" Type="http://schemas.openxmlformats.org/officeDocument/2006/relationships/image" Target="../media/image203.png"/><Relationship Id="rId6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04.png"/><Relationship Id="rId2" Type="http://schemas.openxmlformats.org/officeDocument/2006/relationships/image" Target="../media/image205.png"/><Relationship Id="rId3" Type="http://schemas.openxmlformats.org/officeDocument/2006/relationships/image" Target="../media/image191.png"/><Relationship Id="rId4" Type="http://schemas.openxmlformats.org/officeDocument/2006/relationships/image" Target="../media/image195.png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5.png"/><Relationship Id="rId2" Type="http://schemas.openxmlformats.org/officeDocument/2006/relationships/image" Target="../media/image194.png"/><Relationship Id="rId3" Type="http://schemas.openxmlformats.org/officeDocument/2006/relationships/image" Target="../media/image202.png"/><Relationship Id="rId4" Type="http://schemas.openxmlformats.org/officeDocument/2006/relationships/image" Target="../media/image206.png"/><Relationship Id="rId5" Type="http://schemas.openxmlformats.org/officeDocument/2006/relationships/image" Target="../media/image207.png"/><Relationship Id="rId6" Type="http://schemas.openxmlformats.org/officeDocument/2006/relationships/image" Target="../media/image208.png"/><Relationship Id="rId7" Type="http://schemas.openxmlformats.org/officeDocument/2006/relationships/image" Target="../media/image209.png"/><Relationship Id="rId8" Type="http://schemas.openxmlformats.org/officeDocument/2006/relationships/image" Target="../media/image195.png"/><Relationship Id="rId9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0.png"/><Relationship Id="rId2" Type="http://schemas.openxmlformats.org/officeDocument/2006/relationships/image" Target="../media/image211.jpeg"/><Relationship Id="rId3" Type="http://schemas.openxmlformats.org/officeDocument/2006/relationships/image" Target="../media/image211.jpeg"/><Relationship Id="rId4" Type="http://schemas.openxmlformats.org/officeDocument/2006/relationships/image" Target="../media/image211.jpeg"/><Relationship Id="rId5" Type="http://schemas.openxmlformats.org/officeDocument/2006/relationships/image" Target="../media/image211.jpeg"/><Relationship Id="rId6" Type="http://schemas.openxmlformats.org/officeDocument/2006/relationships/image" Target="../media/image211.jpeg"/><Relationship Id="rId7" Type="http://schemas.openxmlformats.org/officeDocument/2006/relationships/image" Target="../media/image211.jpeg"/><Relationship Id="rId8" Type="http://schemas.openxmlformats.org/officeDocument/2006/relationships/image" Target="../media/image211.jpeg"/><Relationship Id="rId9" Type="http://schemas.openxmlformats.org/officeDocument/2006/relationships/image" Target="../media/image211.jpeg"/><Relationship Id="rId10" Type="http://schemas.openxmlformats.org/officeDocument/2006/relationships/image" Target="../media/image211.jpeg"/><Relationship Id="rId11" Type="http://schemas.openxmlformats.org/officeDocument/2006/relationships/image" Target="../media/image211.jpeg"/><Relationship Id="rId12" Type="http://schemas.openxmlformats.org/officeDocument/2006/relationships/image" Target="../media/image211.jpeg"/><Relationship Id="rId13" Type="http://schemas.openxmlformats.org/officeDocument/2006/relationships/image" Target="../media/image211.jpeg"/><Relationship Id="rId14" Type="http://schemas.openxmlformats.org/officeDocument/2006/relationships/image" Target="../media/image211.jpeg"/><Relationship Id="rId15" Type="http://schemas.openxmlformats.org/officeDocument/2006/relationships/image" Target="../media/image211.jpeg"/><Relationship Id="rId16" Type="http://schemas.openxmlformats.org/officeDocument/2006/relationships/image" Target="../media/image212.jpeg"/><Relationship Id="rId17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3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45000" y="76320"/>
            <a:ext cx="918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SEP 590tv: Quantum Comp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313080" y="838080"/>
            <a:ext cx="250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ve Ba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 3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63880" y="1905120"/>
            <a:ext cx="239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Today’s Me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17560" y="3276720"/>
            <a:ext cx="35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blic Key Crypt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81560" y="396252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r’s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1240" y="4648320"/>
            <a:ext cx="270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ver’s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42400" y="259092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ministri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9880" y="5334120"/>
            <a:ext cx="48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um Mysteries: Entang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657600"/>
            <a:ext cx="9144000" cy="3200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5840" y="76320"/>
            <a:ext cx="726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mputational Complex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6880" y="914400"/>
            <a:ext cx="827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: decision problems which can be solved without error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nomial time on a deterministic classical Turing mach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5080" y="1905120"/>
            <a:ext cx="834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problems: problem with a yes/no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nomial time: worst case bounded by a polynomial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 of the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3809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of problems in 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480" y="4419720"/>
            <a:ext cx="89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ect match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oes a given graph have a perfect match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5080" y="4952880"/>
            <a:ext cx="61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s a given number a prime numb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1200" y="5562720"/>
            <a:ext cx="809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ar Equaliti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n integer n x d matrix A and 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er n x 1 vector b, does there exists a rational d x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tor x&gt;0 such that Ax=b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5840" y="0"/>
            <a:ext cx="726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mputational Complex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68580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 : decision problems which can be solved without error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olynomial time on a classical nondeterministic Turing machine.  Shorthand, decision problems which, given a solution, you can verify this solution in polynomial time on a deterministic classical Turing mach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590920"/>
            <a:ext cx="9144000" cy="426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" y="2590920"/>
            <a:ext cx="41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of problems in N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5160" y="3048120"/>
            <a:ext cx="89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ect match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oes a given graph have a perfect match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6960" y="3537000"/>
            <a:ext cx="8480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tisf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oes a given boolean function have a satisf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ment?  Given f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does there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 that f(x)=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3200" y="4724280"/>
            <a:ext cx="900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eswee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Given a partially solved Minesweeper board, d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exist an assignment of mines which can give 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his boa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581280" y="5562720"/>
            <a:ext cx="25909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14400" y="4724280"/>
            <a:ext cx="2895480" cy="1828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38280" y="5029200"/>
            <a:ext cx="1067040" cy="1219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914400"/>
            <a:ext cx="2895840" cy="1828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1219320"/>
            <a:ext cx="1067040" cy="12189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68560" y="76320"/>
            <a:ext cx="524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One Million Doll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10080" y="838080"/>
            <a:ext cx="2514600" cy="1828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40080" y="16002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87240" y="16002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22440" y="1523880"/>
            <a:ext cx="9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=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68880" y="15238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0640" y="2895480"/>
            <a:ext cx="833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 – Hard: Problems which have the property that for eve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in NP there is a polynomial time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his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880" y="4114800"/>
            <a:ext cx="63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 – Complete (NPC): NP – Hard and in N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5029200"/>
            <a:ext cx="1066680" cy="1219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4648320"/>
            <a:ext cx="2209680" cy="1828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42600" y="54100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49000" y="54100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23520" y="533412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=NPC=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68880" y="53341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82880" y="60958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4080" y="76320"/>
            <a:ext cx="686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ublic Key Crypt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5520" y="1219320"/>
            <a:ext cx="8791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here probably exist computational problems that are H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an we use these to perform secure cryptography by b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urity of the problem on the difficulty of the hard probl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make the hard problem big enough, baring a brea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omputational complexity of the problem, or in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technology, the cryptography will be 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-46800" y="76320"/>
            <a:ext cx="92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ublic Key Cryptography Rough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295280"/>
          <a:ext cx="71424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7142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7467480" y="1371600"/>
            <a:ext cx="1146240" cy="15238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84480" y="31240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22640" y="30481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00200" y="10666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for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ke her 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10080" y="2133720"/>
            <a:ext cx="19051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’s sec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6002280" y="3048120"/>
            <a:ext cx="932040" cy="1143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220680" y="3662280"/>
            <a:ext cx="465120" cy="9097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34720" y="5638680"/>
            <a:ext cx="85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(very roughly) what happens in public key crypt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4876920"/>
            <a:ext cx="87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: very hard to design key from instructions to make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7.40741E-007 L 0.3875 7.40741E-007 E">
                                      <p:cBhvr>
                                        <p:cTn id="46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-0.44583 4.44444E-006 E">
                                      <p:cBhvr>
                                        <p:cTn id="55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22222E-006 L -0.44062 2.22222E-006 E">
                                      <p:cBhvr>
                                        <p:cTn id="57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8148E-006 L 0.22552 -0.00023 E">
                                      <p:cBhvr>
                                        <p:cTn id="61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evt="end">
                                        <p:tn val="63"/>
                                      </p:cond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evt="end">
                                        <p:tn val="67"/>
                                      </p:cond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920" y="76320"/>
            <a:ext cx="74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ublic Key Encryption R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1295280"/>
          <a:ext cx="71424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7142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7467480" y="1371600"/>
            <a:ext cx="1146240" cy="15238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84480" y="31240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22640" y="30481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0400" y="3657600"/>
            <a:ext cx="71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 generates two random large primes,    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6342120" y="3833640"/>
            <a:ext cx="245880" cy="2667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7299360" y="3833640"/>
            <a:ext cx="182520" cy="2667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1454040" y="4270320"/>
            <a:ext cx="3575160" cy="2761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-122760" y="4648320"/>
            <a:ext cx="938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Alice chooses a number                  which is coprime with  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7"/>
          <a:stretch/>
        </p:blipFill>
        <p:spPr>
          <a:xfrm>
            <a:off x="4038480" y="4786200"/>
            <a:ext cx="1233720" cy="250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8"/>
          <a:stretch/>
        </p:blipFill>
        <p:spPr>
          <a:xfrm>
            <a:off x="8443800" y="4753080"/>
            <a:ext cx="192240" cy="2887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27160" y="5257800"/>
            <a:ext cx="43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Alice computes     such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4543560" y="5380200"/>
            <a:ext cx="2128680" cy="280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0"/>
          <a:stretch/>
        </p:blipFill>
        <p:spPr>
          <a:xfrm>
            <a:off x="2852640" y="5334120"/>
            <a:ext cx="189000" cy="284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83400" y="57913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Ke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1"/>
          <a:stretch/>
        </p:blipFill>
        <p:spPr>
          <a:xfrm>
            <a:off x="2133720" y="5896080"/>
            <a:ext cx="734760" cy="2761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81960" y="624852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Ke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2"/>
          <a:stretch/>
        </p:blipFill>
        <p:spPr>
          <a:xfrm>
            <a:off x="2228760" y="6354720"/>
            <a:ext cx="75240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743400" y="76320"/>
            <a:ext cx="763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ublic Key Encryption: R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57200" y="1295280"/>
          <a:ext cx="71424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7142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7467480" y="1371600"/>
            <a:ext cx="1146240" cy="15238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84480" y="31240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22640" y="30481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3400" y="365760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Ke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133720" y="3762360"/>
            <a:ext cx="734760" cy="2761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81960" y="411480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Ke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2228760" y="4221000"/>
            <a:ext cx="752400" cy="2764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450440" y="16765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Ke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6"/>
          <a:stretch/>
        </p:blipFill>
        <p:spPr>
          <a:xfrm>
            <a:off x="3200400" y="1781280"/>
            <a:ext cx="735120" cy="2761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127200" y="358128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’s messag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7"/>
          <a:stretch/>
        </p:blipFill>
        <p:spPr>
          <a:xfrm>
            <a:off x="8469360" y="3747960"/>
            <a:ext cx="293760" cy="2239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8"/>
          <a:stretch/>
        </p:blipFill>
        <p:spPr>
          <a:xfrm>
            <a:off x="6095880" y="4267080"/>
            <a:ext cx="2428920" cy="274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9"/>
          <a:stretch/>
        </p:blipFill>
        <p:spPr>
          <a:xfrm>
            <a:off x="6095880" y="4876920"/>
            <a:ext cx="2428920" cy="2746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0"/>
          <a:stretch/>
        </p:blipFill>
        <p:spPr>
          <a:xfrm>
            <a:off x="326880" y="5289480"/>
            <a:ext cx="4116600" cy="343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1"/>
          <a:stretch/>
        </p:blipFill>
        <p:spPr>
          <a:xfrm>
            <a:off x="762120" y="6400800"/>
            <a:ext cx="4189320" cy="311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2"/>
          <a:stretch/>
        </p:blipFill>
        <p:spPr>
          <a:xfrm>
            <a:off x="787320" y="5867280"/>
            <a:ext cx="3861000" cy="3114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030640" y="577224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16960" y="632448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22222E-006 L 0.33525 2.22222E-006 E">
                                      <p:cBhvr>
                                        <p:cTn id="76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11111E-006 L 0.34323 -1.11111E-006 E">
                                      <p:cBhvr>
                                        <p:cTn id="78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4104E-006 L -0.64948 -3.4104E-006 E">
                                      <p:cBhvr>
                                        <p:cTn id="88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776880" y="76320"/>
            <a:ext cx="763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ublic Key Encryption: R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57200" y="1295280"/>
          <a:ext cx="71424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7142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7467480" y="1371600"/>
            <a:ext cx="1146240" cy="15238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84480" y="31240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22640" y="30481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3400" y="365760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Ke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2133720" y="3762360"/>
            <a:ext cx="734760" cy="2761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81960" y="411480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Ke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2228760" y="4221000"/>
            <a:ext cx="752400" cy="2764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6127200" y="358128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’s messag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8469360" y="3747960"/>
            <a:ext cx="293760" cy="223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420440" y="4419720"/>
            <a:ext cx="471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, using public key can encry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377600" y="5638680"/>
            <a:ext cx="468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ecrypting without the 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is (thought) to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ationally 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51055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, using private key,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ypt the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776880" y="76320"/>
            <a:ext cx="763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ublic Key Encryption: R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57200" y="1295280"/>
          <a:ext cx="71424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7142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7467480" y="1371600"/>
            <a:ext cx="1146240" cy="15238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84480" y="31240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622640" y="30481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40720" y="16765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Ke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3191040" y="1781280"/>
            <a:ext cx="734760" cy="2761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439280" y="213372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Ke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3286080" y="2239920"/>
            <a:ext cx="752400" cy="2761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6127200" y="358128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’s messag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6"/>
          <a:stretch/>
        </p:blipFill>
        <p:spPr>
          <a:xfrm>
            <a:off x="8469360" y="3747960"/>
            <a:ext cx="293760" cy="2239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7"/>
          <a:stretch/>
        </p:blipFill>
        <p:spPr>
          <a:xfrm>
            <a:off x="2957400" y="4838760"/>
            <a:ext cx="1260720" cy="3254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437760" y="4762440"/>
            <a:ext cx="769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could factor,                 then we could comp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which you could use     to fin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8"/>
          <a:stretch/>
        </p:blipFill>
        <p:spPr>
          <a:xfrm>
            <a:off x="609480" y="5253120"/>
            <a:ext cx="2462400" cy="2761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9"/>
          <a:stretch/>
        </p:blipFill>
        <p:spPr>
          <a:xfrm>
            <a:off x="6729480" y="5295960"/>
            <a:ext cx="168120" cy="1872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10"/>
          <a:stretch/>
        </p:blipFill>
        <p:spPr>
          <a:xfrm>
            <a:off x="7969320" y="5205240"/>
            <a:ext cx="185760" cy="2811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1"/>
          <a:stretch/>
        </p:blipFill>
        <p:spPr>
          <a:xfrm>
            <a:off x="2895480" y="5600880"/>
            <a:ext cx="2438640" cy="3222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35680" y="5905440"/>
            <a:ext cx="59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we just use the standard decry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2"/>
          <a:stretch/>
        </p:blipFill>
        <p:spPr>
          <a:xfrm>
            <a:off x="2573280" y="6286680"/>
            <a:ext cx="3827520" cy="3427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968480" y="4191120"/>
            <a:ext cx="50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actoring can be used to break 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048120" y="914400"/>
            <a:ext cx="2895480" cy="1828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0" y="1219320"/>
            <a:ext cx="1066680" cy="12189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78160" y="76320"/>
            <a:ext cx="272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ac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1219320"/>
            <a:ext cx="1067040" cy="12189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75960" y="160020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582720" y="16002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116600" y="9907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505320" y="243828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65800" y="2971800"/>
            <a:ext cx="60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ing: Is one of the factors less than 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22200" y="1066680"/>
            <a:ext cx="15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4419720"/>
            <a:ext cx="495288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4419720"/>
            <a:ext cx="472428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14800" y="5181480"/>
            <a:ext cx="1066680" cy="609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344840" y="52578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793120" y="50292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645280" y="5105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781680" y="4648320"/>
            <a:ext cx="1067040" cy="12189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86000" y="502920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19320" y="4724280"/>
            <a:ext cx="1066680" cy="1219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69560" y="5105520"/>
            <a:ext cx="12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05320" y="3581280"/>
            <a:ext cx="121896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0440" y="6372360"/>
            <a:ext cx="84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P: efficiently verifiable that NO solution to problem ex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76600" y="76320"/>
            <a:ext cx="372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dministriv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6680" y="990720"/>
            <a:ext cx="7837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 in HW #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 up HW sol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 up the Take Home Final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eeks to complete.  No collabor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 credit problem based on next week’s l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entang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134440" y="76320"/>
            <a:ext cx="47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hor’s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133720" y="1371600"/>
            <a:ext cx="5181480" cy="1618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8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88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206079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638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69723946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50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80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7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337941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2700763356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8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97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6548531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90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6065047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304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8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3967161996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21205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40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55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56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622130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16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5930765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7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832200"/>
            <a:ext cx="3353040" cy="1313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7277214610743530253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071973048224632914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3020971164598521711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207112563635903975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14400" y="3832200"/>
            <a:ext cx="3352680" cy="1313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807508642406493739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500550386491199064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425267084063851895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463889572617685833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4365720"/>
            <a:ext cx="30492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495320" y="4365720"/>
            <a:ext cx="30492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47360" y="5425920"/>
            <a:ext cx="336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classical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032800" y="5425920"/>
            <a:ext cx="373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’s quantum algorith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2330280" y="5869080"/>
            <a:ext cx="1703520" cy="3142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4419720" y="333864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419720" y="35053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1022400" cy="15336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04920" y="28954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93600" y="30481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6627960" y="5886360"/>
            <a:ext cx="140004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134440" y="76320"/>
            <a:ext cx="47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hor’s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9907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ere the key insights which Shor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8520" y="2057400"/>
            <a:ext cx="86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on’s problem work’s because the function has a symmet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2743200" y="2700360"/>
            <a:ext cx="3254400" cy="2714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6640" y="3200400"/>
            <a:ext cx="63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case the symmetry is a         symmet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4584600" y="3252960"/>
            <a:ext cx="444600" cy="4046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307080" y="4038480"/>
            <a:ext cx="756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 became interested in different symmetries and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ular symmetrie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763800" y="4495680"/>
            <a:ext cx="3810240" cy="3636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606680" y="5105520"/>
            <a:ext cx="59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lace where we do addition modulo 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533680" y="76320"/>
            <a:ext cx="409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eriod F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0640" y="990720"/>
            <a:ext cx="78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unction from 0,1,…,N-1 to some n bit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33520" y="2286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is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 is guaranteed to satis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520" y="3505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hidden peri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023920" y="1666800"/>
            <a:ext cx="4757760" cy="2984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1765440" y="2840040"/>
            <a:ext cx="3254400" cy="2714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5153040" y="3645000"/>
            <a:ext cx="746280" cy="2887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5807160" y="2835360"/>
            <a:ext cx="745920" cy="2887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>
            <a:off x="1336680" y="4187880"/>
            <a:ext cx="2432160" cy="2858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 flipV="1">
            <a:off x="1295280" y="49827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295280" y="6507000"/>
            <a:ext cx="6553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1447920" y="62024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1600200" y="6049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766880" y="54399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1933560" y="5897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133720" y="574524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319480" y="6126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2529000" y="574524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666880" y="62024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2819520" y="6049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986200" y="54399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3152880" y="5897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3352680" y="574524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3538440" y="6126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3747960" y="574524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3948120" y="62024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4100400" y="6049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267080" y="54399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4433760" y="5897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633920" y="574524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4819680" y="6126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5029200" y="574524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243400" y="62024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396040" y="6049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5562720" y="54399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729400" y="5897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929200" y="574524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6114960" y="6126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6324480" y="574524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6477120" y="62024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6629400" y="6049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6796080" y="54399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6962760" y="5897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162920" y="574524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7348680" y="6126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7558200" y="574524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1800" y="518148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6"/>
          <a:stretch/>
        </p:blipFill>
        <p:spPr>
          <a:xfrm>
            <a:off x="609480" y="5029200"/>
            <a:ext cx="590760" cy="2872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7"/>
          <a:stretch/>
        </p:blipFill>
        <p:spPr>
          <a:xfrm>
            <a:off x="7751880" y="6638760"/>
            <a:ext cx="172800" cy="1429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 flipV="1">
            <a:off x="2971800" y="502884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4267080" y="502884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48480" y="47242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eriod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8"/>
          <a:stretch/>
        </p:blipFill>
        <p:spPr>
          <a:xfrm>
            <a:off x="4435560" y="5045040"/>
            <a:ext cx="745920" cy="2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2134440" y="76320"/>
            <a:ext cx="47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hor’s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04920" y="9907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ere the key insights which Shor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967320" y="1600200"/>
            <a:ext cx="23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eriod f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994320" y="2209680"/>
            <a:ext cx="782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eriod finding can be perform efficiently on a qua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93600" y="3124080"/>
            <a:ext cx="64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eriod finding can be used to factor inte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687240" y="76320"/>
            <a:ext cx="77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Order-Finding and Fac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" y="1066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222920" y="1600200"/>
            <a:ext cx="69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prime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uclid’s algorithm for gc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16440" y="2209680"/>
            <a:ext cx="53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finding: find smalle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ch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6564240" y="2319480"/>
            <a:ext cx="1970280" cy="21744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1132200" y="5410080"/>
            <a:ext cx="71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even then compute                            as facto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4684680" y="5470560"/>
            <a:ext cx="2173320" cy="35388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3"/>
          <a:stretch/>
        </p:blipFill>
        <p:spPr>
          <a:xfrm>
            <a:off x="1322280" y="3505320"/>
            <a:ext cx="2487600" cy="22860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6232680" y="3471840"/>
            <a:ext cx="777600" cy="2286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5045760" y="335268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5"/>
          <a:stretch/>
        </p:blipFill>
        <p:spPr>
          <a:xfrm>
            <a:off x="4670280" y="3429000"/>
            <a:ext cx="358920" cy="27792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5045760" y="38862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6"/>
          <a:stretch/>
        </p:blipFill>
        <p:spPr>
          <a:xfrm>
            <a:off x="4670280" y="3962520"/>
            <a:ext cx="358920" cy="27756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7"/>
          <a:stretch/>
        </p:blipFill>
        <p:spPr>
          <a:xfrm>
            <a:off x="6242040" y="3913200"/>
            <a:ext cx="2216160" cy="36828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2261520" y="45244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8"/>
          <a:stretch/>
        </p:blipFill>
        <p:spPr>
          <a:xfrm>
            <a:off x="2971800" y="4572000"/>
            <a:ext cx="1490760" cy="34128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1164960" y="2895480"/>
            <a:ext cx="64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rder finding to factor: suppose    is ev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9"/>
          <a:stretch/>
        </p:blipFill>
        <p:spPr>
          <a:xfrm>
            <a:off x="6186600" y="3073320"/>
            <a:ext cx="156960" cy="1414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10"/>
          <a:stretch/>
        </p:blipFill>
        <p:spPr>
          <a:xfrm>
            <a:off x="4724280" y="4648320"/>
            <a:ext cx="358920" cy="2775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5076720" y="4572000"/>
            <a:ext cx="404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share a common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qual to      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1"/>
          <a:stretch/>
        </p:blipFill>
        <p:spPr>
          <a:xfrm>
            <a:off x="6858000" y="5029200"/>
            <a:ext cx="358920" cy="2779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12"/>
          <a:stretch/>
        </p:blipFill>
        <p:spPr>
          <a:xfrm>
            <a:off x="8015400" y="5000760"/>
            <a:ext cx="820800" cy="3110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1073880" y="6324480"/>
            <a:ext cx="70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tricky:    is even happens with high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3"/>
          <a:stretch/>
        </p:blipFill>
        <p:spPr>
          <a:xfrm>
            <a:off x="2822400" y="6502320"/>
            <a:ext cx="157320" cy="1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77400" y="76320"/>
            <a:ext cx="915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Order-Finding and Period-F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68360" y="1143000"/>
            <a:ext cx="41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finding: fi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ch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5497560" y="1266840"/>
            <a:ext cx="1969920" cy="2174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3973680" y="1933560"/>
            <a:ext cx="2350800" cy="28584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1385280" y="1828800"/>
            <a:ext cx="255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perio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80880" y="28954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ere the key insights which Shor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043640" y="3505320"/>
            <a:ext cx="23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eriod f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070280" y="4114800"/>
            <a:ext cx="782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eriod finding can be perform efficiently on a qua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069560" y="5029200"/>
            <a:ext cx="64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eriod finding can be used to factor inte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90720" y="50292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1066680" y="50292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1040" y="5867280"/>
            <a:ext cx="732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nderstand period finding, we need to under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ier trans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134800" y="76320"/>
            <a:ext cx="53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ourier Trans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3643200" y="1123920"/>
            <a:ext cx="1295640" cy="2714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307440" y="99072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of a single b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12480" y="1828800"/>
            <a:ext cx="43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ould equally well deal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1143000" y="2438280"/>
            <a:ext cx="2664000" cy="27144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3"/>
          <a:stretch/>
        </p:blipFill>
        <p:spPr>
          <a:xfrm>
            <a:off x="1162080" y="2913120"/>
            <a:ext cx="2624040" cy="2714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07080" y="350532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we can “invert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4"/>
          <a:stretch/>
        </p:blipFill>
        <p:spPr>
          <a:xfrm>
            <a:off x="1235160" y="3960720"/>
            <a:ext cx="3017880" cy="58752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5"/>
          <a:stretch/>
        </p:blipFill>
        <p:spPr>
          <a:xfrm>
            <a:off x="1247760" y="4670280"/>
            <a:ext cx="2967120" cy="5875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384120" y="541008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” famili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2134800" y="76320"/>
            <a:ext cx="53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ourier Trans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2971800" y="1066680"/>
            <a:ext cx="3059280" cy="78912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685800" y="1371600"/>
            <a:ext cx="2185920" cy="2858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2595600" y="2286000"/>
            <a:ext cx="6167520" cy="6397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2514960" y="190512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>
            <a:off x="4114800" y="3124080"/>
            <a:ext cx="2936880" cy="63972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>
            <a:off x="457200" y="3352680"/>
            <a:ext cx="2664000" cy="27144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6"/>
          <a:stretch/>
        </p:blipFill>
        <p:spPr>
          <a:xfrm>
            <a:off x="476280" y="3827520"/>
            <a:ext cx="2624040" cy="2714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380880" y="4359240"/>
            <a:ext cx="82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admard is performing this transform (up to a const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AMPLITUDES of our wave func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2134800" y="76320"/>
            <a:ext cx="53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ourier Trans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7080" y="990720"/>
            <a:ext cx="42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on N different inpu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4572000" y="1114560"/>
            <a:ext cx="3156120" cy="27144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309240" y="1828800"/>
            <a:ext cx="83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the define the following N new numbers to re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1371600" y="2803680"/>
            <a:ext cx="3181320" cy="7776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309960" y="3809880"/>
            <a:ext cx="40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down there egghead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2762280" y="4505400"/>
            <a:ext cx="2114640" cy="6001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324000" y="457200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h root of un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134440" y="76320"/>
            <a:ext cx="486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th Root Of 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31840" y="152388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modul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1865160" y="838080"/>
            <a:ext cx="5450040" cy="6001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741240" y="1992240"/>
            <a:ext cx="7716960" cy="59868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3"/>
          <a:stretch/>
        </p:blipFill>
        <p:spPr>
          <a:xfrm>
            <a:off x="1447920" y="2819520"/>
            <a:ext cx="1801800" cy="2714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228600" y="327672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h root of un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4"/>
          <a:stretch/>
        </p:blipFill>
        <p:spPr>
          <a:xfrm>
            <a:off x="644400" y="3657600"/>
            <a:ext cx="6365880" cy="66996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3686040" y="501480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495680" y="48769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505320" y="583416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565240" y="563868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420440" y="449568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4495680" y="5562360"/>
            <a:ext cx="7621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495680" y="5334120"/>
            <a:ext cx="6098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3885840" y="533412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5"/>
          <a:stretch/>
        </p:blipFill>
        <p:spPr>
          <a:xfrm>
            <a:off x="5410080" y="5473800"/>
            <a:ext cx="457200" cy="22212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6"/>
          <a:stretch/>
        </p:blipFill>
        <p:spPr>
          <a:xfrm>
            <a:off x="5181480" y="4950000"/>
            <a:ext cx="762120" cy="33336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7"/>
          <a:stretch/>
        </p:blipFill>
        <p:spPr>
          <a:xfrm>
            <a:off x="5943600" y="6095880"/>
            <a:ext cx="317520" cy="52884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 flipH="1" flipV="1">
            <a:off x="4952880" y="571464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8"/>
          <a:stretch/>
        </p:blipFill>
        <p:spPr>
          <a:xfrm>
            <a:off x="2895480" y="5029200"/>
            <a:ext cx="777960" cy="34128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9"/>
          <a:stretch/>
        </p:blipFill>
        <p:spPr>
          <a:xfrm>
            <a:off x="593640" y="4646520"/>
            <a:ext cx="237816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3440" y="0"/>
            <a:ext cx="210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919440" cy="1143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3400" y="2133720"/>
            <a:ext cx="10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ut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1036800" cy="1143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50800" y="2133720"/>
            <a:ext cx="9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ch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oz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2: Deutsch-Jozsa Algorith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17524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ct classical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2096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ed error classical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26668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ct quantum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781680" y="1808280"/>
            <a:ext cx="1247760" cy="325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808680" y="2819520"/>
            <a:ext cx="125640" cy="199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96680" y="3962520"/>
            <a:ext cx="488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3: Bernstein-Vazirani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n-recurs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504720" y="4114800"/>
            <a:ext cx="714600" cy="952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920" y="51055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zir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1447920" y="4114800"/>
            <a:ext cx="900000" cy="914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19320" y="51055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ns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48006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ct classical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52578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ed error classical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57150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ct quantum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6885000" y="5867280"/>
            <a:ext cx="125280" cy="200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6810480" y="4919760"/>
            <a:ext cx="318960" cy="236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7939080" y="2340000"/>
            <a:ext cx="622440" cy="270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>
            <a:off x="8010360" y="5389560"/>
            <a:ext cx="67176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2134440" y="76320"/>
            <a:ext cx="486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th Root Of 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865160" y="838080"/>
            <a:ext cx="5450040" cy="6001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382680" y="160020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ig s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2670120" y="2895480"/>
            <a:ext cx="5178600" cy="32868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1074600" y="2131920"/>
            <a:ext cx="5040360" cy="79056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4"/>
          <a:stretch/>
        </p:blipFill>
        <p:spPr>
          <a:xfrm>
            <a:off x="2647800" y="3429000"/>
            <a:ext cx="1924200" cy="31104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5"/>
          <a:stretch/>
        </p:blipFill>
        <p:spPr>
          <a:xfrm>
            <a:off x="1495440" y="3962520"/>
            <a:ext cx="2390760" cy="34128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6"/>
          <a:stretch/>
        </p:blipFill>
        <p:spPr>
          <a:xfrm>
            <a:off x="4724280" y="3886200"/>
            <a:ext cx="1501920" cy="65556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6782040" y="396252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7"/>
          <a:stretch/>
        </p:blipFill>
        <p:spPr>
          <a:xfrm>
            <a:off x="7391520" y="4086360"/>
            <a:ext cx="709560" cy="26028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8"/>
          <a:stretch/>
        </p:blipFill>
        <p:spPr>
          <a:xfrm>
            <a:off x="4780080" y="4724280"/>
            <a:ext cx="858600" cy="21744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6782040" y="457200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9"/>
          <a:stretch/>
        </p:blipFill>
        <p:spPr>
          <a:xfrm>
            <a:off x="7358040" y="4676760"/>
            <a:ext cx="828720" cy="22212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10"/>
          <a:stretch/>
        </p:blipFill>
        <p:spPr>
          <a:xfrm>
            <a:off x="304920" y="5105520"/>
            <a:ext cx="5657760" cy="84600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224640" y="617220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ess            and the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1"/>
          <a:stretch/>
        </p:blipFill>
        <p:spPr>
          <a:xfrm>
            <a:off x="1366920" y="6286680"/>
            <a:ext cx="795240" cy="2854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12"/>
          <a:stretch/>
        </p:blipFill>
        <p:spPr>
          <a:xfrm>
            <a:off x="3733920" y="5991120"/>
            <a:ext cx="202068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2134440" y="76320"/>
            <a:ext cx="486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th Root Of 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1865160" y="838080"/>
            <a:ext cx="5450040" cy="60012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381600" y="160020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m of all su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3429000" y="1600200"/>
            <a:ext cx="2637000" cy="79056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 flipV="1">
            <a:off x="1860480" y="531648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394000" y="46303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641160" y="4097160"/>
            <a:ext cx="53316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41520" y="5316480"/>
            <a:ext cx="53316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 flipV="1">
            <a:off x="1860480" y="409716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1174320" y="40971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41520" y="46299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173960" y="5850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2241720" y="5697360"/>
            <a:ext cx="411120" cy="25092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4"/>
          <a:stretch/>
        </p:blipFill>
        <p:spPr>
          <a:xfrm>
            <a:off x="2544840" y="4753080"/>
            <a:ext cx="411120" cy="46656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5"/>
          <a:stretch/>
        </p:blipFill>
        <p:spPr>
          <a:xfrm>
            <a:off x="2228760" y="3952800"/>
            <a:ext cx="433440" cy="46836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6"/>
          <a:stretch/>
        </p:blipFill>
        <p:spPr>
          <a:xfrm>
            <a:off x="1274760" y="3505320"/>
            <a:ext cx="433440" cy="46836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7"/>
          <a:stretch/>
        </p:blipFill>
        <p:spPr>
          <a:xfrm>
            <a:off x="423720" y="3798720"/>
            <a:ext cx="411480" cy="46692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8"/>
          <a:stretch/>
        </p:blipFill>
        <p:spPr>
          <a:xfrm>
            <a:off x="76320" y="4638600"/>
            <a:ext cx="411120" cy="46692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9"/>
          <a:stretch/>
        </p:blipFill>
        <p:spPr>
          <a:xfrm>
            <a:off x="293760" y="5553000"/>
            <a:ext cx="433440" cy="46836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3504600" y="5857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0"/>
          <a:stretch/>
        </p:blipFill>
        <p:spPr>
          <a:xfrm>
            <a:off x="3581280" y="5934240"/>
            <a:ext cx="411120" cy="46656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4190400" y="5857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1"/>
          <a:stretch/>
        </p:blipFill>
        <p:spPr>
          <a:xfrm>
            <a:off x="4267080" y="5934240"/>
            <a:ext cx="411120" cy="46656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4876200" y="5857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2"/>
          <a:stretch/>
        </p:blipFill>
        <p:spPr>
          <a:xfrm>
            <a:off x="4952880" y="5934240"/>
            <a:ext cx="411120" cy="46656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5562000" y="5857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3"/>
          <a:stretch/>
        </p:blipFill>
        <p:spPr>
          <a:xfrm>
            <a:off x="5638680" y="5934240"/>
            <a:ext cx="411120" cy="46656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6247800" y="5857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4"/>
          <a:stretch/>
        </p:blipFill>
        <p:spPr>
          <a:xfrm>
            <a:off x="6324480" y="5934240"/>
            <a:ext cx="411120" cy="46656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6933600" y="5857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5"/>
          <a:stretch/>
        </p:blipFill>
        <p:spPr>
          <a:xfrm>
            <a:off x="7010280" y="5934240"/>
            <a:ext cx="411120" cy="46656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7619400" y="5857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6"/>
          <a:stretch/>
        </p:blipFill>
        <p:spPr>
          <a:xfrm>
            <a:off x="7696080" y="5934240"/>
            <a:ext cx="411120" cy="46656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8305200" y="5857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7"/>
          <a:stretch/>
        </p:blipFill>
        <p:spPr>
          <a:xfrm>
            <a:off x="8381880" y="5934240"/>
            <a:ext cx="411120" cy="4665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3429000" y="42670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3429000" y="350532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114800" y="403848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20240" y="342900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7012080" y="31366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6325920" y="31827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338880" y="31489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323760" y="38210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8"/>
          <a:stretch/>
        </p:blipFill>
        <p:spPr>
          <a:xfrm>
            <a:off x="7113600" y="3301920"/>
            <a:ext cx="1496880" cy="43992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19"/>
          <a:stretch/>
        </p:blipFill>
        <p:spPr>
          <a:xfrm>
            <a:off x="5813280" y="2666880"/>
            <a:ext cx="1836720" cy="40968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20"/>
          <a:stretch/>
        </p:blipFill>
        <p:spPr>
          <a:xfrm>
            <a:off x="1338120" y="5938920"/>
            <a:ext cx="411480" cy="46656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21"/>
          <a:stretch/>
        </p:blipFill>
        <p:spPr>
          <a:xfrm>
            <a:off x="4419720" y="3300480"/>
            <a:ext cx="1838160" cy="41112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22"/>
          <a:stretch/>
        </p:blipFill>
        <p:spPr>
          <a:xfrm>
            <a:off x="5818320" y="3984480"/>
            <a:ext cx="1854000" cy="4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2134800" y="76320"/>
            <a:ext cx="53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ourier Trans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07080" y="990720"/>
            <a:ext cx="42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on N different inpu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4572000" y="1114560"/>
            <a:ext cx="3156120" cy="27144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309240" y="1828800"/>
            <a:ext cx="83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the define the following N new numbers to re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2990880" y="2666880"/>
            <a:ext cx="3181320" cy="77796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304920" y="455616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e can see how to go from the hats back to the non ha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2940120" y="3733920"/>
            <a:ext cx="3155760" cy="31104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4"/>
          <a:stretch/>
        </p:blipFill>
        <p:spPr>
          <a:xfrm>
            <a:off x="2948040" y="5153040"/>
            <a:ext cx="337644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2134800" y="76320"/>
            <a:ext cx="53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ourier Trans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5429160" y="2057400"/>
            <a:ext cx="3181320" cy="77796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357120" y="2057400"/>
            <a:ext cx="3376800" cy="77796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3"/>
          <a:stretch/>
        </p:blipFill>
        <p:spPr>
          <a:xfrm>
            <a:off x="304920" y="4076640"/>
            <a:ext cx="8708760" cy="81144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4"/>
          <a:stretch/>
        </p:blipFill>
        <p:spPr>
          <a:xfrm>
            <a:off x="6576840" y="5369040"/>
            <a:ext cx="1805040" cy="3283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 rot="5400000">
            <a:off x="7124400" y="4228920"/>
            <a:ext cx="609480" cy="1752840"/>
          </a:xfrm>
          <a:custGeom>
            <a:avLst/>
            <a:gdLst>
              <a:gd name="textAreaLeft" fmla="*/ 0 w 609480"/>
              <a:gd name="textAreaRight" fmla="*/ 219960 w 60948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5"/>
          <a:stretch/>
        </p:blipFill>
        <p:spPr>
          <a:xfrm>
            <a:off x="838080" y="5445000"/>
            <a:ext cx="3129120" cy="8035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226440" y="350532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orks!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6"/>
          <a:stretch/>
        </p:blipFill>
        <p:spPr>
          <a:xfrm>
            <a:off x="380880" y="1066680"/>
            <a:ext cx="3156120" cy="27144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7"/>
          <a:stretch/>
        </p:blipFill>
        <p:spPr>
          <a:xfrm>
            <a:off x="5410080" y="1066680"/>
            <a:ext cx="3156120" cy="3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2134800" y="76320"/>
            <a:ext cx="53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ourier Trans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31480" y="10666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1752480" y="1201680"/>
            <a:ext cx="846360" cy="20340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5715000" y="1143000"/>
            <a:ext cx="3181320" cy="77796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2359080" y="4500720"/>
            <a:ext cx="4248000" cy="6267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4"/>
          <a:stretch/>
        </p:blipFill>
        <p:spPr>
          <a:xfrm>
            <a:off x="528480" y="2052720"/>
            <a:ext cx="5888160" cy="63972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5"/>
          <a:stretch/>
        </p:blipFill>
        <p:spPr>
          <a:xfrm>
            <a:off x="536400" y="2813040"/>
            <a:ext cx="5888160" cy="63972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6"/>
          <a:stretch/>
        </p:blipFill>
        <p:spPr>
          <a:xfrm>
            <a:off x="536400" y="3579840"/>
            <a:ext cx="5888160" cy="63972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7"/>
          <a:stretch/>
        </p:blipFill>
        <p:spPr>
          <a:xfrm>
            <a:off x="2286000" y="5257800"/>
            <a:ext cx="4935600" cy="6271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8"/>
          <a:stretch/>
        </p:blipFill>
        <p:spPr>
          <a:xfrm>
            <a:off x="2286000" y="6012000"/>
            <a:ext cx="4935600" cy="62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2134800" y="76320"/>
            <a:ext cx="53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ourier Trans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2438280" y="1219320"/>
            <a:ext cx="4248360" cy="62712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2365200" y="1976400"/>
            <a:ext cx="4935600" cy="62712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3"/>
          <a:stretch/>
        </p:blipFill>
        <p:spPr>
          <a:xfrm>
            <a:off x="2365200" y="2730600"/>
            <a:ext cx="4935600" cy="6271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4"/>
          <a:stretch/>
        </p:blipFill>
        <p:spPr>
          <a:xfrm>
            <a:off x="685800" y="4038480"/>
            <a:ext cx="3662280" cy="27144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5"/>
          <a:stretch/>
        </p:blipFill>
        <p:spPr>
          <a:xfrm>
            <a:off x="685800" y="5029200"/>
            <a:ext cx="7913520" cy="63972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231480" y="34290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06360" y="4495680"/>
            <a:ext cx="45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ier transformed coeffici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457920" y="76320"/>
            <a:ext cx="832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Unitarity &amp; Fourier Trans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2971800" y="1066680"/>
            <a:ext cx="3059280" cy="78912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685800" y="1371600"/>
            <a:ext cx="2185920" cy="28584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3"/>
          <a:stretch/>
        </p:blipFill>
        <p:spPr>
          <a:xfrm>
            <a:off x="2595600" y="2286000"/>
            <a:ext cx="6167520" cy="63972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2514960" y="190512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4"/>
          <a:stretch/>
        </p:blipFill>
        <p:spPr>
          <a:xfrm>
            <a:off x="4114800" y="3124080"/>
            <a:ext cx="2936880" cy="63972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5"/>
          <a:stretch/>
        </p:blipFill>
        <p:spPr>
          <a:xfrm>
            <a:off x="1693800" y="4191120"/>
            <a:ext cx="1201680" cy="27144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6"/>
          <a:stretch/>
        </p:blipFill>
        <p:spPr>
          <a:xfrm>
            <a:off x="1697040" y="4648320"/>
            <a:ext cx="1187280" cy="27144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7"/>
          <a:stretch/>
        </p:blipFill>
        <p:spPr>
          <a:xfrm>
            <a:off x="4443480" y="3886200"/>
            <a:ext cx="1805040" cy="63972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8"/>
          <a:stretch/>
        </p:blipFill>
        <p:spPr>
          <a:xfrm>
            <a:off x="4475160" y="4572000"/>
            <a:ext cx="1747800" cy="63972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9"/>
          <a:stretch/>
        </p:blipFill>
        <p:spPr>
          <a:xfrm>
            <a:off x="1073160" y="5638680"/>
            <a:ext cx="2279520" cy="29844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10"/>
          <a:stretch/>
        </p:blipFill>
        <p:spPr>
          <a:xfrm>
            <a:off x="5111640" y="5638680"/>
            <a:ext cx="2279880" cy="32868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11"/>
          <a:stretch/>
        </p:blipFill>
        <p:spPr>
          <a:xfrm>
            <a:off x="3587760" y="5638680"/>
            <a:ext cx="1241280" cy="35892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613800" y="6248520"/>
            <a:ext cx="777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amplitudes are Fourier transform of old amplitud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745920" y="76320"/>
            <a:ext cx="76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Fourier Trans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2583000" y="1617840"/>
            <a:ext cx="4046400" cy="82044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305640" y="1066680"/>
            <a:ext cx="44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quantum Fourier transfo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59360" y="274320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t in 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2"/>
          <a:stretch/>
        </p:blipFill>
        <p:spPr>
          <a:xfrm>
            <a:off x="1371600" y="3581280"/>
            <a:ext cx="4741920" cy="82080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3"/>
          <a:stretch/>
        </p:blipFill>
        <p:spPr>
          <a:xfrm>
            <a:off x="6130800" y="2819520"/>
            <a:ext cx="1641600" cy="29844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4"/>
          <a:stretch/>
        </p:blipFill>
        <p:spPr>
          <a:xfrm>
            <a:off x="1360440" y="4495680"/>
            <a:ext cx="6564240" cy="83340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5"/>
          <a:stretch/>
        </p:blipFill>
        <p:spPr>
          <a:xfrm>
            <a:off x="3083040" y="2583000"/>
            <a:ext cx="2241360" cy="77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745920" y="76320"/>
            <a:ext cx="76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Fourier Trans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4046760" cy="8204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153360" y="1066680"/>
            <a:ext cx="44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quantum Fourier transfo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30040" y="259092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s it unita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2"/>
          <a:stretch/>
        </p:blipFill>
        <p:spPr>
          <a:xfrm>
            <a:off x="4767120" y="1673280"/>
            <a:ext cx="4224600" cy="82080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3"/>
          <a:stretch/>
        </p:blipFill>
        <p:spPr>
          <a:xfrm>
            <a:off x="685800" y="3124080"/>
            <a:ext cx="8188200" cy="86040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4"/>
          <a:stretch/>
        </p:blipFill>
        <p:spPr>
          <a:xfrm>
            <a:off x="1371600" y="3962520"/>
            <a:ext cx="4730760" cy="84600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5"/>
          <a:stretch/>
        </p:blipFill>
        <p:spPr>
          <a:xfrm>
            <a:off x="1314360" y="4876920"/>
            <a:ext cx="4552920" cy="84600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6"/>
          <a:stretch/>
        </p:blipFill>
        <p:spPr>
          <a:xfrm>
            <a:off x="1371600" y="5788080"/>
            <a:ext cx="4610160" cy="84600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7"/>
          <a:stretch/>
        </p:blipFill>
        <p:spPr>
          <a:xfrm>
            <a:off x="6781680" y="5867280"/>
            <a:ext cx="20653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745920" y="76320"/>
            <a:ext cx="76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Fourier Trans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05280" y="106668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bout that inverse Q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224600" cy="82080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>
            <a:off x="3075120" y="2567160"/>
            <a:ext cx="2241360" cy="77760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3"/>
          <a:stretch/>
        </p:blipFill>
        <p:spPr>
          <a:xfrm>
            <a:off x="1355760" y="3575160"/>
            <a:ext cx="4741920" cy="82080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4"/>
          <a:stretch/>
        </p:blipFill>
        <p:spPr>
          <a:xfrm>
            <a:off x="1262160" y="4498920"/>
            <a:ext cx="6754680" cy="83520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5"/>
          <a:stretch/>
        </p:blipFill>
        <p:spPr>
          <a:xfrm>
            <a:off x="5257800" y="5410080"/>
            <a:ext cx="3376440" cy="77796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394560" y="6324480"/>
            <a:ext cx="82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performs the inverse Fourier transform on the amplitud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583440" y="0"/>
            <a:ext cx="210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98160" y="2144880"/>
            <a:ext cx="9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925560"/>
            <a:ext cx="228600" cy="3276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14600" y="914400"/>
            <a:ext cx="4276800" cy="39736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H="1">
            <a:off x="6933600" y="925560"/>
            <a:ext cx="228600" cy="3276720"/>
          </a:xfrm>
          <a:custGeom>
            <a:avLst/>
            <a:gdLst>
              <a:gd name="textAreaLeft" fmla="*/ 145800 w 228600"/>
              <a:gd name="textAreaRight" fmla="*/ 228600 w 22860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296120" y="2441520"/>
            <a:ext cx="266760" cy="219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449440" y="5105520"/>
            <a:ext cx="420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utsch-Jozsa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rnsetein-Vazirani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1830600" y="76320"/>
            <a:ext cx="549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 Class Problem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2443320" y="152280"/>
            <a:ext cx="42634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Period Finding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718240" y="271944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718240" y="302436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715000" y="18730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713560" y="203364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713560" y="23302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715000" y="25621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95880" y="1800360"/>
            <a:ext cx="762120" cy="1376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6323040" y="2390760"/>
            <a:ext cx="288720" cy="24444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5560920" y="1797120"/>
            <a:ext cx="152640" cy="60948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7236720" y="1797120"/>
            <a:ext cx="152280" cy="609480"/>
          </a:xfrm>
          <a:custGeom>
            <a:avLst/>
            <a:gdLst>
              <a:gd name="textAreaLeft" fmla="*/ 96840 w 152280"/>
              <a:gd name="textAreaRight" fmla="*/ 15228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2"/>
          <a:stretch/>
        </p:blipFill>
        <p:spPr>
          <a:xfrm>
            <a:off x="5486400" y="3316320"/>
            <a:ext cx="2136600" cy="26496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5565600" y="2490840"/>
            <a:ext cx="152640" cy="60948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273800" y="2490840"/>
            <a:ext cx="152640" cy="60948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3"/>
          <a:stretch/>
        </p:blipFill>
        <p:spPr>
          <a:xfrm>
            <a:off x="5229360" y="1962000"/>
            <a:ext cx="307800" cy="28116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4"/>
          <a:stretch/>
        </p:blipFill>
        <p:spPr>
          <a:xfrm>
            <a:off x="5224320" y="2633760"/>
            <a:ext cx="308160" cy="28080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5"/>
          <a:stretch/>
        </p:blipFill>
        <p:spPr>
          <a:xfrm>
            <a:off x="7464600" y="1952640"/>
            <a:ext cx="307800" cy="28080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6"/>
          <a:stretch/>
        </p:blipFill>
        <p:spPr>
          <a:xfrm>
            <a:off x="7462800" y="2619360"/>
            <a:ext cx="1285920" cy="29520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7"/>
          <a:stretch/>
        </p:blipFill>
        <p:spPr>
          <a:xfrm>
            <a:off x="685800" y="1173240"/>
            <a:ext cx="1501920" cy="31752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838080" y="1554120"/>
            <a:ext cx="990720" cy="144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8"/>
          <a:stretch/>
        </p:blipFill>
        <p:spPr>
          <a:xfrm>
            <a:off x="2590920" y="1165320"/>
            <a:ext cx="1644480" cy="35064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2819520" y="1554120"/>
            <a:ext cx="990360" cy="144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9"/>
          <a:stretch/>
        </p:blipFill>
        <p:spPr>
          <a:xfrm>
            <a:off x="2133720" y="1859040"/>
            <a:ext cx="357120" cy="56340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 flipV="1">
            <a:off x="1371600" y="193500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1371600" y="223992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1371600" y="2239920"/>
            <a:ext cx="1752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371600" y="1782720"/>
            <a:ext cx="1752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10"/>
          <a:stretch/>
        </p:blipFill>
        <p:spPr>
          <a:xfrm>
            <a:off x="685800" y="3154320"/>
            <a:ext cx="3208320" cy="42084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5794200" y="990720"/>
            <a:ext cx="136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t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1"/>
          <a:stretch/>
        </p:blipFill>
        <p:spPr>
          <a:xfrm>
            <a:off x="2432160" y="3833640"/>
            <a:ext cx="82440" cy="23832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610200" y="3733920"/>
            <a:ext cx="34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roble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find   in as f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ries as pos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22440" y="4648320"/>
            <a:ext cx="361872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iod Finding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031000" y="3733920"/>
            <a:ext cx="358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in as few uses of t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ntum oracle as pos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867280" y="210024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867280" y="278604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072200" y="278604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058160" y="208584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261760" y="4648320"/>
            <a:ext cx="2850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 symmetric problem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7010280" y="228600"/>
            <a:ext cx="1905120" cy="442800"/>
            <a:chOff x="7010280" y="228600"/>
            <a:chExt cx="1905120" cy="442800"/>
          </a:xfrm>
        </p:grpSpPr>
        <p:sp>
          <p:nvSpPr>
            <p:cNvPr id="629" name=""/>
            <p:cNvSpPr/>
            <p:nvPr/>
          </p:nvSpPr>
          <p:spPr>
            <a:xfrm flipV="1">
              <a:off x="7010280" y="228600"/>
              <a:ext cx="0" cy="44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010280" y="671400"/>
              <a:ext cx="190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7054560" y="582480"/>
              <a:ext cx="0" cy="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7098840" y="538200"/>
              <a:ext cx="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147080" y="361080"/>
              <a:ext cx="0" cy="30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7195680" y="494280"/>
              <a:ext cx="0" cy="17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7254000" y="44964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7308000" y="560520"/>
              <a:ext cx="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7368840" y="44964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7408800" y="582480"/>
              <a:ext cx="0" cy="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7453440" y="538200"/>
              <a:ext cx="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7501680" y="361080"/>
              <a:ext cx="0" cy="30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7550280" y="494280"/>
              <a:ext cx="0" cy="17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7608240" y="44964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7662240" y="560520"/>
              <a:ext cx="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7723080" y="44964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7781400" y="582480"/>
              <a:ext cx="0" cy="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7825680" y="538200"/>
              <a:ext cx="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7874280" y="361080"/>
              <a:ext cx="0" cy="30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7922520" y="494280"/>
              <a:ext cx="0" cy="17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7980840" y="44964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8034840" y="560520"/>
              <a:ext cx="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8095680" y="44964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8157960" y="582480"/>
              <a:ext cx="0" cy="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8202240" y="538200"/>
              <a:ext cx="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8250840" y="361080"/>
              <a:ext cx="0" cy="30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8299440" y="494280"/>
              <a:ext cx="0" cy="17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8357400" y="44964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8411400" y="560520"/>
              <a:ext cx="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8472240" y="44964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8516520" y="582480"/>
              <a:ext cx="0" cy="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8560800" y="538200"/>
              <a:ext cx="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8609400" y="361080"/>
              <a:ext cx="0" cy="30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8658000" y="494280"/>
              <a:ext cx="0" cy="17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8715960" y="44964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8769960" y="560520"/>
              <a:ext cx="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8831160" y="44964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497360" y="286200"/>
              <a:ext cx="376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7497360" y="241920"/>
              <a:ext cx="0" cy="88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7874280" y="241920"/>
              <a:ext cx="0" cy="88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304920" y="304920"/>
            <a:ext cx="1904760" cy="442800"/>
            <a:chOff x="304920" y="304920"/>
            <a:chExt cx="1904760" cy="442800"/>
          </a:xfrm>
        </p:grpSpPr>
        <p:sp>
          <p:nvSpPr>
            <p:cNvPr id="670" name=""/>
            <p:cNvSpPr/>
            <p:nvPr/>
          </p:nvSpPr>
          <p:spPr>
            <a:xfrm flipV="1">
              <a:off x="304920" y="304920"/>
              <a:ext cx="0" cy="44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04920" y="747720"/>
              <a:ext cx="190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349200" y="658800"/>
              <a:ext cx="0" cy="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393480" y="614520"/>
              <a:ext cx="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441720" y="437400"/>
              <a:ext cx="0" cy="30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490320" y="570600"/>
              <a:ext cx="0" cy="17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548640" y="52596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602640" y="636840"/>
              <a:ext cx="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663480" y="52596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703440" y="658800"/>
              <a:ext cx="0" cy="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747720" y="614520"/>
              <a:ext cx="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796320" y="437400"/>
              <a:ext cx="0" cy="30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844560" y="570600"/>
              <a:ext cx="0" cy="17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902880" y="52596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956880" y="636840"/>
              <a:ext cx="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1017720" y="52596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>
              <a:off x="1076040" y="658800"/>
              <a:ext cx="0" cy="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1120320" y="614520"/>
              <a:ext cx="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1168560" y="437400"/>
              <a:ext cx="0" cy="30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1217160" y="570600"/>
              <a:ext cx="0" cy="17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1275120" y="52596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1329120" y="636840"/>
              <a:ext cx="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1390320" y="52596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1452240" y="658800"/>
              <a:ext cx="0" cy="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1496880" y="614520"/>
              <a:ext cx="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1545120" y="437400"/>
              <a:ext cx="0" cy="30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1593720" y="570600"/>
              <a:ext cx="0" cy="17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1651680" y="52596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1705680" y="636840"/>
              <a:ext cx="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1766520" y="52596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1811160" y="658800"/>
              <a:ext cx="0" cy="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1855440" y="614520"/>
              <a:ext cx="0" cy="13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1903680" y="437400"/>
              <a:ext cx="0" cy="30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1952280" y="570600"/>
              <a:ext cx="0" cy="17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2010240" y="52596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2064240" y="636840"/>
              <a:ext cx="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2125440" y="525960"/>
              <a:ext cx="0" cy="22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92000" y="362520"/>
              <a:ext cx="376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792000" y="318240"/>
              <a:ext cx="0" cy="88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1168560" y="318240"/>
              <a:ext cx="0" cy="88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624240" y="0"/>
            <a:ext cx="40089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Fourier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to the Rescu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241452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511280" y="42670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511280" y="45720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508040" y="3421080"/>
            <a:ext cx="298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06600" y="3581280"/>
            <a:ext cx="29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506600" y="3878280"/>
            <a:ext cx="29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508040" y="41101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889280" y="3348000"/>
            <a:ext cx="761760" cy="1376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2"/>
          <a:stretch/>
        </p:blipFill>
        <p:spPr>
          <a:xfrm>
            <a:off x="2116080" y="3938760"/>
            <a:ext cx="289080" cy="24444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/>
          <p:nvPr/>
        </p:nvSpPr>
        <p:spPr>
          <a:xfrm>
            <a:off x="1353960" y="3344760"/>
            <a:ext cx="152640" cy="60984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359000" y="4038480"/>
            <a:ext cx="152280" cy="60984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" descr=""/>
          <p:cNvPicPr/>
          <p:nvPr/>
        </p:nvPicPr>
        <p:blipFill>
          <a:blip r:embed="rId3"/>
          <a:stretch/>
        </p:blipFill>
        <p:spPr>
          <a:xfrm>
            <a:off x="152280" y="3352680"/>
            <a:ext cx="1143000" cy="57492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4"/>
          <a:stretch/>
        </p:blipFill>
        <p:spPr>
          <a:xfrm>
            <a:off x="974880" y="4181400"/>
            <a:ext cx="322200" cy="28116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3200400" y="3343320"/>
            <a:ext cx="762120" cy="614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5"/>
          <a:stretch/>
        </p:blipFill>
        <p:spPr>
          <a:xfrm>
            <a:off x="3230640" y="4221000"/>
            <a:ext cx="731880" cy="25092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 flipH="1">
            <a:off x="3047400" y="4029120"/>
            <a:ext cx="152280" cy="609480"/>
          </a:xfrm>
          <a:custGeom>
            <a:avLst/>
            <a:gdLst>
              <a:gd name="textAreaLeft" fmla="*/ 96840 w 152280"/>
              <a:gd name="textAreaRight" fmla="*/ 15228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" descr=""/>
          <p:cNvPicPr/>
          <p:nvPr/>
        </p:nvPicPr>
        <p:blipFill>
          <a:blip r:embed="rId6"/>
          <a:stretch/>
        </p:blipFill>
        <p:spPr>
          <a:xfrm>
            <a:off x="4568760" y="3276720"/>
            <a:ext cx="4575240" cy="76500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/>
          <p:nvPr/>
        </p:nvSpPr>
        <p:spPr>
          <a:xfrm>
            <a:off x="1676520" y="364824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676520" y="433404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895480" y="364824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895480" y="433404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267080" y="364824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7"/>
          <a:stretch/>
        </p:blipFill>
        <p:spPr>
          <a:xfrm>
            <a:off x="1308240" y="2362320"/>
            <a:ext cx="3492360" cy="768240"/>
          </a:xfrm>
          <a:prstGeom prst="rect">
            <a:avLst/>
          </a:prstGeom>
          <a:ln w="0">
            <a:noFill/>
          </a:ln>
        </p:spPr>
      </p:pic>
      <p:pic>
        <p:nvPicPr>
          <p:cNvPr id="734" name="" descr=""/>
          <p:cNvPicPr/>
          <p:nvPr/>
        </p:nvPicPr>
        <p:blipFill>
          <a:blip r:embed="rId8"/>
          <a:stretch/>
        </p:blipFill>
        <p:spPr>
          <a:xfrm>
            <a:off x="4419720" y="4191120"/>
            <a:ext cx="3284280" cy="72072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/>
          <p:nvPr/>
        </p:nvSpPr>
        <p:spPr>
          <a:xfrm flipV="1">
            <a:off x="1763640" y="50288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763640" y="6172200"/>
            <a:ext cx="6553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30040" y="5410080"/>
            <a:ext cx="145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9"/>
          <a:stretch/>
        </p:blipFill>
        <p:spPr>
          <a:xfrm>
            <a:off x="8381880" y="6095880"/>
            <a:ext cx="217440" cy="252360"/>
          </a:xfrm>
          <a:prstGeom prst="rect">
            <a:avLst/>
          </a:prstGeom>
          <a:ln w="0">
            <a:noFill/>
          </a:ln>
        </p:spPr>
      </p:pic>
      <p:sp>
        <p:nvSpPr>
          <p:cNvPr id="739" name=""/>
          <p:cNvSpPr/>
          <p:nvPr/>
        </p:nvSpPr>
        <p:spPr>
          <a:xfrm flipV="1">
            <a:off x="2730600" y="53802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3645000" y="53658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4559400" y="53802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5483160" y="53625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6397560" y="53478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7311960" y="53625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1816200" y="53625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10"/>
          <a:stretch/>
        </p:blipFill>
        <p:spPr>
          <a:xfrm>
            <a:off x="1706400" y="6203880"/>
            <a:ext cx="198720" cy="27324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11"/>
          <a:stretch/>
        </p:blipFill>
        <p:spPr>
          <a:xfrm>
            <a:off x="2590920" y="6248520"/>
            <a:ext cx="317520" cy="43488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12"/>
          <a:stretch/>
        </p:blipFill>
        <p:spPr>
          <a:xfrm>
            <a:off x="3408480" y="6246720"/>
            <a:ext cx="498240" cy="43668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13"/>
          <a:stretch/>
        </p:blipFill>
        <p:spPr>
          <a:xfrm>
            <a:off x="4294080" y="6246720"/>
            <a:ext cx="498600" cy="43668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14"/>
          <a:stretch/>
        </p:blipFill>
        <p:spPr>
          <a:xfrm>
            <a:off x="5181480" y="6248520"/>
            <a:ext cx="498600" cy="43632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6705720" y="647712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15"/>
          <a:stretch/>
        </p:blipFill>
        <p:spPr>
          <a:xfrm>
            <a:off x="6087960" y="6267600"/>
            <a:ext cx="498600" cy="436320"/>
          </a:xfrm>
          <a:prstGeom prst="rect">
            <a:avLst/>
          </a:prstGeom>
          <a:ln w="0">
            <a:noFill/>
          </a:ln>
        </p:spPr>
      </p:pic>
      <p:sp>
        <p:nvSpPr>
          <p:cNvPr id="753" name=""/>
          <p:cNvSpPr/>
          <p:nvPr/>
        </p:nvSpPr>
        <p:spPr>
          <a:xfrm>
            <a:off x="2819520" y="320040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16"/>
          <a:stretch/>
        </p:blipFill>
        <p:spPr>
          <a:xfrm>
            <a:off x="611280" y="1581120"/>
            <a:ext cx="4098960" cy="698400"/>
          </a:xfrm>
          <a:prstGeom prst="rect">
            <a:avLst/>
          </a:prstGeom>
          <a:ln w="0">
            <a:noFill/>
          </a:ln>
        </p:spPr>
      </p:pic>
      <p:pic>
        <p:nvPicPr>
          <p:cNvPr id="755" name="" descr=""/>
          <p:cNvPicPr/>
          <p:nvPr/>
        </p:nvPicPr>
        <p:blipFill>
          <a:blip r:embed="rId17"/>
          <a:stretch/>
        </p:blipFill>
        <p:spPr>
          <a:xfrm>
            <a:off x="3290760" y="3546360"/>
            <a:ext cx="569880" cy="2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2217240" y="76320"/>
            <a:ext cx="47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hor’s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04920" y="1143000"/>
            <a:ext cx="51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Factor N on a quantum compu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111320" y="175248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prime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3211560" y="3048120"/>
            <a:ext cx="2351160" cy="285480"/>
          </a:xfrm>
          <a:prstGeom prst="rect">
            <a:avLst/>
          </a:prstGeom>
          <a:ln w="0">
            <a:noFill/>
          </a:ln>
        </p:spPr>
      </p:pic>
      <p:sp>
        <p:nvSpPr>
          <p:cNvPr id="760" name=""/>
          <p:cNvSpPr/>
          <p:nvPr/>
        </p:nvSpPr>
        <p:spPr>
          <a:xfrm>
            <a:off x="1067760" y="2514600"/>
            <a:ext cx="65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quantum computer to find the perio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066320" y="3597120"/>
            <a:ext cx="662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rder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compute possible factors of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if they work.  If not reru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33640" y="4648320"/>
            <a:ext cx="60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ime?  How many quantum ga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2911320" y="76320"/>
            <a:ext cx="329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FT over 2</a:t>
            </a:r>
            <a:r>
              <a:rPr b="1" lang="en-US" sz="44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1"/>
          <a:stretch/>
        </p:blipFill>
        <p:spPr>
          <a:xfrm>
            <a:off x="135000" y="1219320"/>
            <a:ext cx="8856720" cy="1941480"/>
          </a:xfrm>
          <a:prstGeom prst="rect">
            <a:avLst/>
          </a:prstGeom>
          <a:ln w="0">
            <a:noFill/>
          </a:ln>
        </p:spPr>
      </p:pic>
      <p:pic>
        <p:nvPicPr>
          <p:cNvPr id="765" name="" descr=""/>
          <p:cNvPicPr/>
          <p:nvPr/>
        </p:nvPicPr>
        <p:blipFill>
          <a:blip r:embed="rId2"/>
          <a:stretch/>
        </p:blipFill>
        <p:spPr>
          <a:xfrm>
            <a:off x="1905120" y="3581280"/>
            <a:ext cx="2514600" cy="64944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3"/>
          <a:stretch/>
        </p:blipFill>
        <p:spPr>
          <a:xfrm>
            <a:off x="5334120" y="3670200"/>
            <a:ext cx="2411280" cy="53208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1303560" y="4572000"/>
            <a:ext cx="632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ircuit requires 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“elementary” g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041120" y="5638680"/>
            <a:ext cx="71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FTs for all other Ns can similarly be impleme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624240" y="0"/>
            <a:ext cx="40089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Fourier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to the Rescu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2414520"/>
          </a:xfrm>
          <a:prstGeom prst="rect">
            <a:avLst/>
          </a:prstGeom>
          <a:ln w="0">
            <a:noFill/>
          </a:ln>
        </p:spPr>
      </p:pic>
      <p:sp>
        <p:nvSpPr>
          <p:cNvPr id="771" name=""/>
          <p:cNvSpPr/>
          <p:nvPr/>
        </p:nvSpPr>
        <p:spPr>
          <a:xfrm>
            <a:off x="1511280" y="42670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511280" y="45720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508040" y="3421080"/>
            <a:ext cx="298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506600" y="3581280"/>
            <a:ext cx="29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506600" y="3878280"/>
            <a:ext cx="29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508040" y="41101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889280" y="3348000"/>
            <a:ext cx="761760" cy="1376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2"/>
          <a:stretch/>
        </p:blipFill>
        <p:spPr>
          <a:xfrm>
            <a:off x="2116080" y="3938760"/>
            <a:ext cx="289080" cy="24444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>
            <a:off x="1353960" y="3344760"/>
            <a:ext cx="152640" cy="60984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359000" y="4038480"/>
            <a:ext cx="152280" cy="60984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" descr=""/>
          <p:cNvPicPr/>
          <p:nvPr/>
        </p:nvPicPr>
        <p:blipFill>
          <a:blip r:embed="rId3"/>
          <a:stretch/>
        </p:blipFill>
        <p:spPr>
          <a:xfrm>
            <a:off x="152280" y="3352680"/>
            <a:ext cx="1143000" cy="57492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/>
          <p:cNvPicPr/>
          <p:nvPr/>
        </p:nvPicPr>
        <p:blipFill>
          <a:blip r:embed="rId4"/>
          <a:stretch/>
        </p:blipFill>
        <p:spPr>
          <a:xfrm>
            <a:off x="974880" y="4181400"/>
            <a:ext cx="322200" cy="281160"/>
          </a:xfrm>
          <a:prstGeom prst="rect">
            <a:avLst/>
          </a:prstGeom>
          <a:ln w="0">
            <a:noFill/>
          </a:ln>
        </p:spPr>
      </p:pic>
      <p:sp>
        <p:nvSpPr>
          <p:cNvPr id="783" name=""/>
          <p:cNvSpPr/>
          <p:nvPr/>
        </p:nvSpPr>
        <p:spPr>
          <a:xfrm>
            <a:off x="3200400" y="3343320"/>
            <a:ext cx="762120" cy="614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5"/>
          <a:stretch/>
        </p:blipFill>
        <p:spPr>
          <a:xfrm>
            <a:off x="3230640" y="4221000"/>
            <a:ext cx="731880" cy="25092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 flipH="1">
            <a:off x="3047400" y="4029120"/>
            <a:ext cx="152280" cy="609480"/>
          </a:xfrm>
          <a:custGeom>
            <a:avLst/>
            <a:gdLst>
              <a:gd name="textAreaLeft" fmla="*/ 96840 w 152280"/>
              <a:gd name="textAreaRight" fmla="*/ 15228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6"/>
          <a:stretch/>
        </p:blipFill>
        <p:spPr>
          <a:xfrm>
            <a:off x="4568760" y="3276720"/>
            <a:ext cx="4575240" cy="76500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1676520" y="364824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676520" y="433404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895480" y="364824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895480" y="433404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4267080" y="364824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7"/>
          <a:stretch/>
        </p:blipFill>
        <p:spPr>
          <a:xfrm>
            <a:off x="1308240" y="2362320"/>
            <a:ext cx="3492360" cy="76824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8"/>
          <a:stretch/>
        </p:blipFill>
        <p:spPr>
          <a:xfrm>
            <a:off x="4419720" y="4191120"/>
            <a:ext cx="3284280" cy="720720"/>
          </a:xfrm>
          <a:prstGeom prst="rect">
            <a:avLst/>
          </a:prstGeom>
          <a:ln w="0">
            <a:noFill/>
          </a:ln>
        </p:spPr>
      </p:pic>
      <p:sp>
        <p:nvSpPr>
          <p:cNvPr id="794" name=""/>
          <p:cNvSpPr/>
          <p:nvPr/>
        </p:nvSpPr>
        <p:spPr>
          <a:xfrm>
            <a:off x="2819520" y="320040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" descr=""/>
          <p:cNvPicPr/>
          <p:nvPr/>
        </p:nvPicPr>
        <p:blipFill>
          <a:blip r:embed="rId9"/>
          <a:stretch/>
        </p:blipFill>
        <p:spPr>
          <a:xfrm>
            <a:off x="611280" y="1581120"/>
            <a:ext cx="4098960" cy="69840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10"/>
          <a:stretch/>
        </p:blipFill>
        <p:spPr>
          <a:xfrm>
            <a:off x="3290760" y="3546360"/>
            <a:ext cx="569880" cy="236520"/>
          </a:xfrm>
          <a:prstGeom prst="rect">
            <a:avLst/>
          </a:prstGeom>
          <a:ln w="0">
            <a:noFill/>
          </a:ln>
        </p:spPr>
      </p:pic>
      <p:pic>
        <p:nvPicPr>
          <p:cNvPr id="797" name="" descr=""/>
          <p:cNvPicPr/>
          <p:nvPr/>
        </p:nvPicPr>
        <p:blipFill>
          <a:blip r:embed="rId11"/>
          <a:stretch/>
        </p:blipFill>
        <p:spPr>
          <a:xfrm>
            <a:off x="1219320" y="4800600"/>
            <a:ext cx="2350800" cy="285840"/>
          </a:xfrm>
          <a:prstGeom prst="rect">
            <a:avLst/>
          </a:prstGeom>
          <a:ln w="0">
            <a:noFill/>
          </a:ln>
        </p:spPr>
      </p:pic>
      <p:sp>
        <p:nvSpPr>
          <p:cNvPr id="798" name=""/>
          <p:cNvSpPr/>
          <p:nvPr/>
        </p:nvSpPr>
        <p:spPr>
          <a:xfrm>
            <a:off x="769680" y="5486400"/>
            <a:ext cx="35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“elementary”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1295280" y="510552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839160" y="6019920"/>
            <a:ext cx="33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exponen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2217240" y="76320"/>
            <a:ext cx="47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hor’s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04920" y="1143000"/>
            <a:ext cx="51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Factor N on a quantum compu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111320" y="175248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prime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1"/>
          <a:stretch/>
        </p:blipFill>
        <p:spPr>
          <a:xfrm>
            <a:off x="3211560" y="3048120"/>
            <a:ext cx="2351160" cy="28548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/>
          <p:nvPr/>
        </p:nvSpPr>
        <p:spPr>
          <a:xfrm>
            <a:off x="1067760" y="2514600"/>
            <a:ext cx="65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quantum computer to find the perio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066320" y="3597120"/>
            <a:ext cx="662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rder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compute possible factors of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if they work.  If not reru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37600" y="4648320"/>
            <a:ext cx="28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ime: 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2134440" y="76320"/>
            <a:ext cx="47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hor’s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133720" y="1371600"/>
            <a:ext cx="5181480" cy="1618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8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88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206079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638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69723946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50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80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7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337941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2700763356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8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97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6548531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90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6065047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304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8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3967161996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21205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40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55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56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622130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16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5930765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7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952880" y="3832200"/>
            <a:ext cx="3353040" cy="1313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7277214610743530253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071973048224632914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3020971164598521711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207112563635903975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914400" y="3832200"/>
            <a:ext cx="3352680" cy="1313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807508642406493739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500550386491199064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425267084063851895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463889572617685833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495680" y="4365720"/>
            <a:ext cx="30492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4495320" y="4365720"/>
            <a:ext cx="30492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747360" y="5425920"/>
            <a:ext cx="336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classical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032800" y="5425920"/>
            <a:ext cx="373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’s quantum algorith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" descr=""/>
          <p:cNvPicPr/>
          <p:nvPr/>
        </p:nvPicPr>
        <p:blipFill>
          <a:blip r:embed="rId1"/>
          <a:stretch/>
        </p:blipFill>
        <p:spPr>
          <a:xfrm>
            <a:off x="2330280" y="5869080"/>
            <a:ext cx="1703520" cy="314280"/>
          </a:xfrm>
          <a:prstGeom prst="rect">
            <a:avLst/>
          </a:prstGeom>
          <a:ln w="0">
            <a:noFill/>
          </a:ln>
        </p:spPr>
      </p:pic>
      <p:sp>
        <p:nvSpPr>
          <p:cNvPr id="817" name=""/>
          <p:cNvSpPr/>
          <p:nvPr/>
        </p:nvSpPr>
        <p:spPr>
          <a:xfrm>
            <a:off x="4419720" y="333864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419720" y="35053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1022400" cy="1533600"/>
          </a:xfrm>
          <a:prstGeom prst="rect">
            <a:avLst/>
          </a:prstGeom>
          <a:ln w="0">
            <a:noFill/>
          </a:ln>
        </p:spPr>
      </p:pic>
      <p:sp>
        <p:nvSpPr>
          <p:cNvPr id="820" name=""/>
          <p:cNvSpPr/>
          <p:nvPr/>
        </p:nvSpPr>
        <p:spPr>
          <a:xfrm>
            <a:off x="304920" y="28954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993600" y="30481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3"/>
          <a:stretch/>
        </p:blipFill>
        <p:spPr>
          <a:xfrm>
            <a:off x="6627960" y="5886360"/>
            <a:ext cx="140004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2080800" y="76320"/>
            <a:ext cx="507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Grover’s Problem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678120" y="2241720"/>
            <a:ext cx="144720" cy="257040"/>
          </a:xfrm>
          <a:custGeom>
            <a:avLst/>
            <a:gdLst>
              <a:gd name="textAreaLeft" fmla="*/ 92520 w 144720"/>
              <a:gd name="textAreaRight" fmla="*/ 145080 w 144720"/>
              <a:gd name="textAreaTop" fmla="*/ 6480 h 257040"/>
              <a:gd name="textAreaBottom" fmla="*/ 250560 h 25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5353920" y="2243160"/>
            <a:ext cx="74520" cy="331920"/>
          </a:xfrm>
          <a:custGeom>
            <a:avLst/>
            <a:gdLst>
              <a:gd name="textAreaLeft" fmla="*/ 47160 w 74520"/>
              <a:gd name="textAreaRight" fmla="*/ 74520 w 74520"/>
              <a:gd name="textAreaTop" fmla="*/ 8640 h 331920"/>
              <a:gd name="textAreaBottom" fmla="*/ 323280 h 331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824280" y="16765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822840" y="18288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822840" y="21337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824280" y="23652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205160" y="1603440"/>
            <a:ext cx="762120" cy="895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4432320" y="1965240"/>
            <a:ext cx="289080" cy="244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3670200" y="1600200"/>
            <a:ext cx="152640" cy="60948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5346000" y="1600200"/>
            <a:ext cx="152280" cy="609480"/>
          </a:xfrm>
          <a:custGeom>
            <a:avLst/>
            <a:gdLst>
              <a:gd name="textAreaLeft" fmla="*/ 96840 w 152280"/>
              <a:gd name="textAreaRight" fmla="*/ 15228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" descr=""/>
          <p:cNvPicPr/>
          <p:nvPr/>
        </p:nvPicPr>
        <p:blipFill>
          <a:blip r:embed="rId2"/>
          <a:stretch/>
        </p:blipFill>
        <p:spPr>
          <a:xfrm>
            <a:off x="3173400" y="1752480"/>
            <a:ext cx="392040" cy="374760"/>
          </a:xfrm>
          <a:prstGeom prst="rect">
            <a:avLst/>
          </a:prstGeom>
          <a:ln w="0">
            <a:noFill/>
          </a:ln>
        </p:spPr>
      </p:pic>
      <p:pic>
        <p:nvPicPr>
          <p:cNvPr id="835" name="" descr=""/>
          <p:cNvPicPr/>
          <p:nvPr/>
        </p:nvPicPr>
        <p:blipFill>
          <a:blip r:embed="rId3"/>
          <a:stretch/>
        </p:blipFill>
        <p:spPr>
          <a:xfrm>
            <a:off x="3173400" y="2270160"/>
            <a:ext cx="385920" cy="368280"/>
          </a:xfrm>
          <a:prstGeom prst="rect">
            <a:avLst/>
          </a:prstGeom>
          <a:ln w="0">
            <a:noFill/>
          </a:ln>
        </p:spPr>
      </p:pic>
      <p:pic>
        <p:nvPicPr>
          <p:cNvPr id="836" name="" descr=""/>
          <p:cNvPicPr/>
          <p:nvPr/>
        </p:nvPicPr>
        <p:blipFill>
          <a:blip r:embed="rId4"/>
          <a:stretch/>
        </p:blipFill>
        <p:spPr>
          <a:xfrm>
            <a:off x="5611680" y="1752480"/>
            <a:ext cx="392400" cy="374760"/>
          </a:xfrm>
          <a:prstGeom prst="rect">
            <a:avLst/>
          </a:prstGeom>
          <a:ln w="0">
            <a:noFill/>
          </a:ln>
        </p:spPr>
      </p:pic>
      <p:pic>
        <p:nvPicPr>
          <p:cNvPr id="837" name="" descr=""/>
          <p:cNvPicPr/>
          <p:nvPr/>
        </p:nvPicPr>
        <p:blipFill>
          <a:blip r:embed="rId5"/>
          <a:stretch/>
        </p:blipFill>
        <p:spPr>
          <a:xfrm>
            <a:off x="5575320" y="2243160"/>
            <a:ext cx="1359000" cy="331920"/>
          </a:xfrm>
          <a:prstGeom prst="rect">
            <a:avLst/>
          </a:prstGeom>
          <a:ln w="0">
            <a:noFill/>
          </a:ln>
        </p:spPr>
      </p:pic>
      <p:sp>
        <p:nvSpPr>
          <p:cNvPr id="838" name=""/>
          <p:cNvSpPr/>
          <p:nvPr/>
        </p:nvSpPr>
        <p:spPr>
          <a:xfrm>
            <a:off x="1907640" y="1676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958760" y="220968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309600" y="890640"/>
            <a:ext cx="42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have a black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06720" y="266688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" descr=""/>
          <p:cNvPicPr/>
          <p:nvPr/>
        </p:nvPicPr>
        <p:blipFill>
          <a:blip r:embed="rId6"/>
          <a:stretch/>
        </p:blipFill>
        <p:spPr>
          <a:xfrm>
            <a:off x="1447920" y="3657600"/>
            <a:ext cx="2608200" cy="299880"/>
          </a:xfrm>
          <a:prstGeom prst="rect">
            <a:avLst/>
          </a:prstGeom>
          <a:ln w="0">
            <a:noFill/>
          </a:ln>
        </p:spPr>
      </p:pic>
      <p:pic>
        <p:nvPicPr>
          <p:cNvPr id="843" name="" descr=""/>
          <p:cNvPicPr/>
          <p:nvPr/>
        </p:nvPicPr>
        <p:blipFill>
          <a:blip r:embed="rId7"/>
          <a:stretch/>
        </p:blipFill>
        <p:spPr>
          <a:xfrm>
            <a:off x="1447920" y="3200400"/>
            <a:ext cx="1430280" cy="299880"/>
          </a:xfrm>
          <a:prstGeom prst="rect">
            <a:avLst/>
          </a:prstGeom>
          <a:ln w="0">
            <a:noFill/>
          </a:ln>
        </p:spPr>
      </p:pic>
      <p:sp>
        <p:nvSpPr>
          <p:cNvPr id="844" name=""/>
          <p:cNvSpPr/>
          <p:nvPr/>
        </p:nvSpPr>
        <p:spPr>
          <a:xfrm>
            <a:off x="303840" y="4191120"/>
            <a:ext cx="71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        with as few queries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" descr=""/>
          <p:cNvPicPr/>
          <p:nvPr/>
        </p:nvPicPr>
        <p:blipFill>
          <a:blip r:embed="rId8"/>
          <a:stretch/>
        </p:blipFill>
        <p:spPr>
          <a:xfrm>
            <a:off x="2495520" y="4343400"/>
            <a:ext cx="390600" cy="260280"/>
          </a:xfrm>
          <a:prstGeom prst="rect">
            <a:avLst/>
          </a:prstGeom>
          <a:ln w="0">
            <a:noFill/>
          </a:ln>
        </p:spPr>
      </p:pic>
      <p:pic>
        <p:nvPicPr>
          <p:cNvPr id="846" name="" descr=""/>
          <p:cNvPicPr/>
          <p:nvPr/>
        </p:nvPicPr>
        <p:blipFill>
          <a:blip r:embed="rId9"/>
          <a:stretch/>
        </p:blipFill>
        <p:spPr>
          <a:xfrm>
            <a:off x="3124080" y="4724280"/>
            <a:ext cx="289584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833480" y="76320"/>
            <a:ext cx="54993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Grover’s Algorithm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678120" y="2317680"/>
            <a:ext cx="144720" cy="257400"/>
          </a:xfrm>
          <a:custGeom>
            <a:avLst/>
            <a:gdLst>
              <a:gd name="textAreaLeft" fmla="*/ 92520 w 144720"/>
              <a:gd name="textAreaRight" fmla="*/ 145080 w 144720"/>
              <a:gd name="textAreaTop" fmla="*/ 6480 h 257400"/>
              <a:gd name="textAreaBottom" fmla="*/ 250920 h 2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5353920" y="2319480"/>
            <a:ext cx="74520" cy="331560"/>
          </a:xfrm>
          <a:custGeom>
            <a:avLst/>
            <a:gdLst>
              <a:gd name="textAreaLeft" fmla="*/ 47160 w 74520"/>
              <a:gd name="textAreaRight" fmla="*/ 74520 w 74520"/>
              <a:gd name="textAreaTop" fmla="*/ 8640 h 331560"/>
              <a:gd name="textAreaBottom" fmla="*/ 322920 h 331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824280" y="17524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822840" y="19051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822840" y="22096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824280" y="24415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4205160" y="1679400"/>
            <a:ext cx="762120" cy="895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" descr=""/>
          <p:cNvPicPr/>
          <p:nvPr/>
        </p:nvPicPr>
        <p:blipFill>
          <a:blip r:embed="rId1"/>
          <a:stretch/>
        </p:blipFill>
        <p:spPr>
          <a:xfrm>
            <a:off x="4432320" y="2041560"/>
            <a:ext cx="289080" cy="244440"/>
          </a:xfrm>
          <a:prstGeom prst="rect">
            <a:avLst/>
          </a:prstGeom>
          <a:ln w="0">
            <a:noFill/>
          </a:ln>
        </p:spPr>
      </p:pic>
      <p:sp>
        <p:nvSpPr>
          <p:cNvPr id="856" name=""/>
          <p:cNvSpPr/>
          <p:nvPr/>
        </p:nvSpPr>
        <p:spPr>
          <a:xfrm>
            <a:off x="3670200" y="1676520"/>
            <a:ext cx="152640" cy="60948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5346000" y="1676520"/>
            <a:ext cx="152280" cy="609480"/>
          </a:xfrm>
          <a:custGeom>
            <a:avLst/>
            <a:gdLst>
              <a:gd name="textAreaLeft" fmla="*/ 96840 w 152280"/>
              <a:gd name="textAreaRight" fmla="*/ 15228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" descr=""/>
          <p:cNvPicPr/>
          <p:nvPr/>
        </p:nvPicPr>
        <p:blipFill>
          <a:blip r:embed="rId2"/>
          <a:stretch/>
        </p:blipFill>
        <p:spPr>
          <a:xfrm>
            <a:off x="3173400" y="1828800"/>
            <a:ext cx="392040" cy="374760"/>
          </a:xfrm>
          <a:prstGeom prst="rect">
            <a:avLst/>
          </a:prstGeom>
          <a:ln w="0">
            <a:noFill/>
          </a:ln>
        </p:spPr>
      </p:pic>
      <p:sp>
        <p:nvSpPr>
          <p:cNvPr id="859" name=""/>
          <p:cNvSpPr/>
          <p:nvPr/>
        </p:nvSpPr>
        <p:spPr>
          <a:xfrm>
            <a:off x="1907640" y="1752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32920" y="99072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black box in a particular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" descr=""/>
          <p:cNvPicPr/>
          <p:nvPr/>
        </p:nvPicPr>
        <p:blipFill>
          <a:blip r:embed="rId3"/>
          <a:stretch/>
        </p:blipFill>
        <p:spPr>
          <a:xfrm>
            <a:off x="2209680" y="2286000"/>
            <a:ext cx="1284480" cy="463680"/>
          </a:xfrm>
          <a:prstGeom prst="rect">
            <a:avLst/>
          </a:prstGeom>
          <a:ln w="0">
            <a:noFill/>
          </a:ln>
        </p:spPr>
      </p:pic>
      <p:pic>
        <p:nvPicPr>
          <p:cNvPr id="862" name="" descr=""/>
          <p:cNvPicPr/>
          <p:nvPr/>
        </p:nvPicPr>
        <p:blipFill>
          <a:blip r:embed="rId4"/>
          <a:stretch/>
        </p:blipFill>
        <p:spPr>
          <a:xfrm>
            <a:off x="5562720" y="2286000"/>
            <a:ext cx="1284120" cy="463680"/>
          </a:xfrm>
          <a:prstGeom prst="rect">
            <a:avLst/>
          </a:prstGeom>
          <a:ln w="0">
            <a:noFill/>
          </a:ln>
        </p:spPr>
      </p:pic>
      <p:pic>
        <p:nvPicPr>
          <p:cNvPr id="863" name="" descr=""/>
          <p:cNvPicPr/>
          <p:nvPr/>
        </p:nvPicPr>
        <p:blipFill>
          <a:blip r:embed="rId5"/>
          <a:stretch/>
        </p:blipFill>
        <p:spPr>
          <a:xfrm>
            <a:off x="5562720" y="1752480"/>
            <a:ext cx="1523880" cy="382680"/>
          </a:xfrm>
          <a:prstGeom prst="rect">
            <a:avLst/>
          </a:prstGeom>
          <a:ln w="0">
            <a:noFill/>
          </a:ln>
        </p:spPr>
      </p:pic>
      <p:pic>
        <p:nvPicPr>
          <p:cNvPr id="864" name="" descr=""/>
          <p:cNvPicPr/>
          <p:nvPr/>
        </p:nvPicPr>
        <p:blipFill>
          <a:blip r:embed="rId6"/>
          <a:stretch/>
        </p:blipFill>
        <p:spPr>
          <a:xfrm>
            <a:off x="1828800" y="3429000"/>
            <a:ext cx="3254400" cy="865080"/>
          </a:xfrm>
          <a:prstGeom prst="rect">
            <a:avLst/>
          </a:prstGeom>
          <a:ln w="0">
            <a:noFill/>
          </a:ln>
        </p:spPr>
      </p:pic>
      <p:sp>
        <p:nvSpPr>
          <p:cNvPr id="865" name=""/>
          <p:cNvSpPr/>
          <p:nvPr/>
        </p:nvSpPr>
        <p:spPr>
          <a:xfrm>
            <a:off x="306360" y="2971800"/>
            <a:ext cx="21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ver orac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370080" y="4800600"/>
            <a:ext cx="65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Grover oracle to find                   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" descr=""/>
          <p:cNvPicPr/>
          <p:nvPr/>
        </p:nvPicPr>
        <p:blipFill>
          <a:blip r:embed="rId7"/>
          <a:stretch/>
        </p:blipFill>
        <p:spPr>
          <a:xfrm>
            <a:off x="5037120" y="4890960"/>
            <a:ext cx="1430280" cy="3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29440" y="76320"/>
            <a:ext cx="210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4600" cy="714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14400" y="16765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90680" y="838080"/>
            <a:ext cx="34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4: Simon’s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90920" y="1371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ed error classical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888320" y="1400040"/>
            <a:ext cx="1103400" cy="371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93800" y="1905120"/>
            <a:ext cx="53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ed error quantum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7962840" y="2014560"/>
            <a:ext cx="671400" cy="285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675880" y="243828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first exponential sepa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0560" y="3124080"/>
            <a:ext cx="79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unction with n bit strings as input and one bit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4419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is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 is guaranteed to satis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6172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n bit st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2363760" y="3968640"/>
            <a:ext cx="3198960" cy="298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3200400" y="5410080"/>
            <a:ext cx="4925880" cy="271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4862520" y="6310440"/>
            <a:ext cx="790560" cy="290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1417680" y="4973760"/>
            <a:ext cx="410364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1986840" y="76320"/>
            <a:ext cx="52084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The Grover Iterat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9" name="" descr=""/>
          <p:cNvPicPr/>
          <p:nvPr/>
        </p:nvPicPr>
        <p:blipFill>
          <a:blip r:embed="rId1"/>
          <a:stretch/>
        </p:blipFill>
        <p:spPr>
          <a:xfrm>
            <a:off x="2529000" y="1371600"/>
            <a:ext cx="4100400" cy="2327400"/>
          </a:xfrm>
          <a:prstGeom prst="rect">
            <a:avLst/>
          </a:prstGeom>
          <a:ln w="0">
            <a:noFill/>
          </a:ln>
        </p:spPr>
      </p:pic>
      <p:sp>
        <p:nvSpPr>
          <p:cNvPr id="870" name=""/>
          <p:cNvSpPr/>
          <p:nvPr/>
        </p:nvSpPr>
        <p:spPr>
          <a:xfrm>
            <a:off x="840600" y="22860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133720" y="1447920"/>
            <a:ext cx="228600" cy="2209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2"/>
          <a:stretch/>
        </p:blipFill>
        <p:spPr>
          <a:xfrm>
            <a:off x="533520" y="4267080"/>
            <a:ext cx="3254400" cy="865440"/>
          </a:xfrm>
          <a:prstGeom prst="rect">
            <a:avLst/>
          </a:prstGeom>
          <a:ln w="0">
            <a:noFill/>
          </a:ln>
        </p:spPr>
      </p:pic>
      <p:pic>
        <p:nvPicPr>
          <p:cNvPr id="873" name="" descr=""/>
          <p:cNvPicPr/>
          <p:nvPr/>
        </p:nvPicPr>
        <p:blipFill>
          <a:blip r:embed="rId3"/>
          <a:stretch/>
        </p:blipFill>
        <p:spPr>
          <a:xfrm>
            <a:off x="4643280" y="4267080"/>
            <a:ext cx="343404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1986840" y="76320"/>
            <a:ext cx="52084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The Grover Iterat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" descr=""/>
          <p:cNvPicPr/>
          <p:nvPr/>
        </p:nvPicPr>
        <p:blipFill>
          <a:blip r:embed="rId1"/>
          <a:stretch/>
        </p:blipFill>
        <p:spPr>
          <a:xfrm>
            <a:off x="2529000" y="990720"/>
            <a:ext cx="4100400" cy="2327040"/>
          </a:xfrm>
          <a:prstGeom prst="rect">
            <a:avLst/>
          </a:prstGeom>
          <a:ln w="0">
            <a:noFill/>
          </a:ln>
        </p:spPr>
      </p:pic>
      <p:sp>
        <p:nvSpPr>
          <p:cNvPr id="876" name=""/>
          <p:cNvSpPr/>
          <p:nvPr/>
        </p:nvSpPr>
        <p:spPr>
          <a:xfrm>
            <a:off x="840600" y="19051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133720" y="1066680"/>
            <a:ext cx="228600" cy="2210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" descr=""/>
          <p:cNvPicPr/>
          <p:nvPr/>
        </p:nvPicPr>
        <p:blipFill>
          <a:blip r:embed="rId2"/>
          <a:stretch/>
        </p:blipFill>
        <p:spPr>
          <a:xfrm>
            <a:off x="1486080" y="3429000"/>
            <a:ext cx="5448240" cy="865080"/>
          </a:xfrm>
          <a:prstGeom prst="rect">
            <a:avLst/>
          </a:prstGeom>
          <a:ln w="0">
            <a:noFill/>
          </a:ln>
        </p:spPr>
      </p:pic>
      <p:pic>
        <p:nvPicPr>
          <p:cNvPr id="879" name="" descr=""/>
          <p:cNvPicPr/>
          <p:nvPr/>
        </p:nvPicPr>
        <p:blipFill>
          <a:blip r:embed="rId3"/>
          <a:stretch/>
        </p:blipFill>
        <p:spPr>
          <a:xfrm>
            <a:off x="930240" y="4572000"/>
            <a:ext cx="6689880" cy="358920"/>
          </a:xfrm>
          <a:prstGeom prst="rect">
            <a:avLst/>
          </a:prstGeom>
          <a:ln w="0">
            <a:noFill/>
          </a:ln>
        </p:spPr>
      </p:pic>
      <p:pic>
        <p:nvPicPr>
          <p:cNvPr id="880" name="" descr=""/>
          <p:cNvPicPr/>
          <p:nvPr/>
        </p:nvPicPr>
        <p:blipFill>
          <a:blip r:embed="rId4"/>
          <a:stretch/>
        </p:blipFill>
        <p:spPr>
          <a:xfrm>
            <a:off x="5486400" y="5105520"/>
            <a:ext cx="2627280" cy="877680"/>
          </a:xfrm>
          <a:prstGeom prst="rect">
            <a:avLst/>
          </a:prstGeom>
          <a:ln w="0">
            <a:noFill/>
          </a:ln>
        </p:spPr>
      </p:pic>
      <p:pic>
        <p:nvPicPr>
          <p:cNvPr id="881" name="" descr=""/>
          <p:cNvPicPr/>
          <p:nvPr/>
        </p:nvPicPr>
        <p:blipFill>
          <a:blip r:embed="rId5"/>
          <a:stretch/>
        </p:blipFill>
        <p:spPr>
          <a:xfrm>
            <a:off x="2770200" y="6110280"/>
            <a:ext cx="2806560" cy="326880"/>
          </a:xfrm>
          <a:prstGeom prst="rect">
            <a:avLst/>
          </a:prstGeom>
          <a:ln w="0">
            <a:noFill/>
          </a:ln>
        </p:spPr>
      </p:pic>
      <p:sp>
        <p:nvSpPr>
          <p:cNvPr id="882" name=""/>
          <p:cNvSpPr/>
          <p:nvPr/>
        </p:nvSpPr>
        <p:spPr>
          <a:xfrm>
            <a:off x="458640" y="601992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ver’s it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1149840" y="76320"/>
            <a:ext cx="6796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The Grover Iterate in 2D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" descr=""/>
          <p:cNvPicPr/>
          <p:nvPr/>
        </p:nvPicPr>
        <p:blipFill>
          <a:blip r:embed="rId1"/>
          <a:stretch/>
        </p:blipFill>
        <p:spPr>
          <a:xfrm>
            <a:off x="571680" y="1270080"/>
            <a:ext cx="4076640" cy="939600"/>
          </a:xfrm>
          <a:prstGeom prst="rect">
            <a:avLst/>
          </a:prstGeom>
          <a:ln w="0">
            <a:noFill/>
          </a:ln>
        </p:spPr>
      </p:pic>
      <p:pic>
        <p:nvPicPr>
          <p:cNvPr id="885" name="" descr=""/>
          <p:cNvPicPr/>
          <p:nvPr/>
        </p:nvPicPr>
        <p:blipFill>
          <a:blip r:embed="rId2"/>
          <a:stretch/>
        </p:blipFill>
        <p:spPr>
          <a:xfrm>
            <a:off x="557280" y="2870280"/>
            <a:ext cx="4091040" cy="787320"/>
          </a:xfrm>
          <a:prstGeom prst="rect">
            <a:avLst/>
          </a:prstGeom>
          <a:ln w="0">
            <a:noFill/>
          </a:ln>
        </p:spPr>
      </p:pic>
      <p:pic>
        <p:nvPicPr>
          <p:cNvPr id="886" name="" descr=""/>
          <p:cNvPicPr/>
          <p:nvPr/>
        </p:nvPicPr>
        <p:blipFill>
          <a:blip r:embed="rId3"/>
          <a:stretch/>
        </p:blipFill>
        <p:spPr>
          <a:xfrm>
            <a:off x="5265720" y="1495440"/>
            <a:ext cx="525600" cy="333360"/>
          </a:xfrm>
          <a:prstGeom prst="rect">
            <a:avLst/>
          </a:prstGeom>
          <a:ln w="0">
            <a:noFill/>
          </a:ln>
        </p:spPr>
      </p:pic>
      <p:sp>
        <p:nvSpPr>
          <p:cNvPr id="887" name=""/>
          <p:cNvSpPr/>
          <p:nvPr/>
        </p:nvSpPr>
        <p:spPr>
          <a:xfrm>
            <a:off x="1800" y="914400"/>
            <a:ext cx="36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orthonormal vec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79200" y="2438280"/>
            <a:ext cx="69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the equal superposition in terms of the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35080" y="3809880"/>
            <a:ext cx="86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over iterate will preserve this two dimensional sub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" descr=""/>
          <p:cNvPicPr/>
          <p:nvPr/>
        </p:nvPicPr>
        <p:blipFill>
          <a:blip r:embed="rId4"/>
          <a:stretch/>
        </p:blipFill>
        <p:spPr>
          <a:xfrm>
            <a:off x="762120" y="4343400"/>
            <a:ext cx="3254400" cy="865080"/>
          </a:xfrm>
          <a:prstGeom prst="rect">
            <a:avLst/>
          </a:prstGeom>
          <a:ln w="0">
            <a:noFill/>
          </a:ln>
        </p:spPr>
      </p:pic>
      <p:pic>
        <p:nvPicPr>
          <p:cNvPr id="891" name="" descr=""/>
          <p:cNvPicPr/>
          <p:nvPr/>
        </p:nvPicPr>
        <p:blipFill>
          <a:blip r:embed="rId5"/>
          <a:stretch/>
        </p:blipFill>
        <p:spPr>
          <a:xfrm>
            <a:off x="4876920" y="4343400"/>
            <a:ext cx="1490400" cy="311040"/>
          </a:xfrm>
          <a:prstGeom prst="rect">
            <a:avLst/>
          </a:prstGeom>
          <a:ln w="0">
            <a:noFill/>
          </a:ln>
        </p:spPr>
      </p:pic>
      <p:pic>
        <p:nvPicPr>
          <p:cNvPr id="892" name="" descr=""/>
          <p:cNvPicPr/>
          <p:nvPr/>
        </p:nvPicPr>
        <p:blipFill>
          <a:blip r:embed="rId6"/>
          <a:stretch/>
        </p:blipFill>
        <p:spPr>
          <a:xfrm>
            <a:off x="4648320" y="4797360"/>
            <a:ext cx="2014560" cy="31104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/>
          <p:cNvPicPr/>
          <p:nvPr/>
        </p:nvPicPr>
        <p:blipFill>
          <a:blip r:embed="rId7"/>
          <a:stretch/>
        </p:blipFill>
        <p:spPr>
          <a:xfrm>
            <a:off x="127080" y="5421240"/>
            <a:ext cx="8877240" cy="75096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8"/>
          <a:stretch/>
        </p:blipFill>
        <p:spPr>
          <a:xfrm>
            <a:off x="6858000" y="838080"/>
            <a:ext cx="22096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1149840" y="76320"/>
            <a:ext cx="6796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The Grover Iterate in 2D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8877240" cy="750960"/>
          </a:xfrm>
          <a:prstGeom prst="rect">
            <a:avLst/>
          </a:prstGeom>
          <a:ln w="0">
            <a:noFill/>
          </a:ln>
        </p:spPr>
      </p:pic>
      <p:pic>
        <p:nvPicPr>
          <p:cNvPr id="897" name="" descr=""/>
          <p:cNvPicPr/>
          <p:nvPr/>
        </p:nvPicPr>
        <p:blipFill>
          <a:blip r:embed="rId2"/>
          <a:stretch/>
        </p:blipFill>
        <p:spPr>
          <a:xfrm>
            <a:off x="714240" y="1359000"/>
            <a:ext cx="2028960" cy="774720"/>
          </a:xfrm>
          <a:prstGeom prst="rect">
            <a:avLst/>
          </a:prstGeom>
          <a:ln w="0">
            <a:noFill/>
          </a:ln>
        </p:spPr>
      </p:pic>
      <p:pic>
        <p:nvPicPr>
          <p:cNvPr id="898" name="" descr=""/>
          <p:cNvPicPr/>
          <p:nvPr/>
        </p:nvPicPr>
        <p:blipFill>
          <a:blip r:embed="rId3"/>
          <a:stretch/>
        </p:blipFill>
        <p:spPr>
          <a:xfrm>
            <a:off x="380880" y="3200400"/>
            <a:ext cx="7899480" cy="985680"/>
          </a:xfrm>
          <a:prstGeom prst="rect">
            <a:avLst/>
          </a:prstGeom>
          <a:ln w="0">
            <a:noFill/>
          </a:ln>
        </p:spPr>
      </p:pic>
      <p:pic>
        <p:nvPicPr>
          <p:cNvPr id="899" name="" descr=""/>
          <p:cNvPicPr/>
          <p:nvPr/>
        </p:nvPicPr>
        <p:blipFill>
          <a:blip r:embed="rId4"/>
          <a:stretch/>
        </p:blipFill>
        <p:spPr>
          <a:xfrm>
            <a:off x="5791320" y="4191120"/>
            <a:ext cx="2297160" cy="69840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-720" y="838080"/>
            <a:ext cx="654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ed over the two dimensional sub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" descr=""/>
          <p:cNvPicPr/>
          <p:nvPr/>
        </p:nvPicPr>
        <p:blipFill>
          <a:blip r:embed="rId5"/>
          <a:stretch/>
        </p:blipFill>
        <p:spPr>
          <a:xfrm>
            <a:off x="609480" y="5105520"/>
            <a:ext cx="4880160" cy="774720"/>
          </a:xfrm>
          <a:prstGeom prst="rect">
            <a:avLst/>
          </a:prstGeom>
          <a:ln w="0">
            <a:noFill/>
          </a:ln>
        </p:spPr>
      </p:pic>
      <p:sp>
        <p:nvSpPr>
          <p:cNvPr id="902" name=""/>
          <p:cNvSpPr/>
          <p:nvPr/>
        </p:nvSpPr>
        <p:spPr>
          <a:xfrm>
            <a:off x="230400" y="6019920"/>
            <a:ext cx="67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ver’s iterate is just a rotation in this 2D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528840" y="76320"/>
            <a:ext cx="7997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Repeatedly Bang Your Head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2200" y="990720"/>
            <a:ext cx="583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d application of the Grover it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3757680" cy="149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2"/>
          <a:stretch/>
        </p:blipFill>
        <p:spPr>
          <a:xfrm>
            <a:off x="941400" y="3581280"/>
            <a:ext cx="6450120" cy="787680"/>
          </a:xfrm>
          <a:prstGeom prst="rect">
            <a:avLst/>
          </a:prstGeom>
          <a:ln w="0">
            <a:noFill/>
          </a:ln>
        </p:spPr>
      </p:pic>
      <p:sp>
        <p:nvSpPr>
          <p:cNvPr id="907" name=""/>
          <p:cNvSpPr/>
          <p:nvPr/>
        </p:nvSpPr>
        <p:spPr>
          <a:xfrm>
            <a:off x="380880" y="4572000"/>
            <a:ext cx="816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ver’s algorith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art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repeatedly apply Grover’s iterate to rotate to n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8" name="" descr=""/>
          <p:cNvPicPr/>
          <p:nvPr/>
        </p:nvPicPr>
        <p:blipFill>
          <a:blip r:embed="rId3"/>
          <a:stretch/>
        </p:blipFill>
        <p:spPr>
          <a:xfrm>
            <a:off x="3048120" y="4724280"/>
            <a:ext cx="2627280" cy="878040"/>
          </a:xfrm>
          <a:prstGeom prst="rect">
            <a:avLst/>
          </a:prstGeom>
          <a:ln w="0">
            <a:noFill/>
          </a:ln>
        </p:spPr>
      </p:pic>
      <p:pic>
        <p:nvPicPr>
          <p:cNvPr id="909" name="" descr=""/>
          <p:cNvPicPr/>
          <p:nvPr/>
        </p:nvPicPr>
        <p:blipFill>
          <a:blip r:embed="rId4"/>
          <a:stretch/>
        </p:blipFill>
        <p:spPr>
          <a:xfrm>
            <a:off x="8458200" y="5718240"/>
            <a:ext cx="4748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528840" y="76320"/>
            <a:ext cx="7997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Repeatedly Bang Your Head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941400" y="1219320"/>
            <a:ext cx="6450120" cy="787320"/>
          </a:xfrm>
          <a:prstGeom prst="rect">
            <a:avLst/>
          </a:prstGeom>
          <a:ln w="0">
            <a:noFill/>
          </a:ln>
        </p:spPr>
      </p:pic>
      <p:sp>
        <p:nvSpPr>
          <p:cNvPr id="912" name=""/>
          <p:cNvSpPr/>
          <p:nvPr/>
        </p:nvSpPr>
        <p:spPr>
          <a:xfrm>
            <a:off x="309240" y="3352680"/>
            <a:ext cx="62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amplitude in “bad” part of Hilbert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3" name="" descr=""/>
          <p:cNvPicPr/>
          <p:nvPr/>
        </p:nvPicPr>
        <p:blipFill>
          <a:blip r:embed="rId2"/>
          <a:stretch/>
        </p:blipFill>
        <p:spPr>
          <a:xfrm>
            <a:off x="990720" y="2209680"/>
            <a:ext cx="4091040" cy="787680"/>
          </a:xfrm>
          <a:prstGeom prst="rect">
            <a:avLst/>
          </a:prstGeom>
          <a:ln w="0">
            <a:noFill/>
          </a:ln>
        </p:spPr>
      </p:pic>
      <p:sp>
        <p:nvSpPr>
          <p:cNvPr id="914" name=""/>
          <p:cNvSpPr/>
          <p:nvPr/>
        </p:nvSpPr>
        <p:spPr>
          <a:xfrm flipH="1" flipV="1">
            <a:off x="2819160" y="289512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3"/>
          <a:stretch/>
        </p:blipFill>
        <p:spPr>
          <a:xfrm>
            <a:off x="838080" y="3886200"/>
            <a:ext cx="2297160" cy="698400"/>
          </a:xfrm>
          <a:prstGeom prst="rect">
            <a:avLst/>
          </a:prstGeom>
          <a:ln w="0">
            <a:noFill/>
          </a:ln>
        </p:spPr>
      </p:pic>
      <p:sp>
        <p:nvSpPr>
          <p:cNvPr id="916" name=""/>
          <p:cNvSpPr/>
          <p:nvPr/>
        </p:nvSpPr>
        <p:spPr>
          <a:xfrm>
            <a:off x="3507480" y="403848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4"/>
          <a:stretch/>
        </p:blipFill>
        <p:spPr>
          <a:xfrm>
            <a:off x="5002200" y="3900600"/>
            <a:ext cx="2846520" cy="744480"/>
          </a:xfrm>
          <a:prstGeom prst="rect">
            <a:avLst/>
          </a:prstGeom>
          <a:ln w="0">
            <a:noFill/>
          </a:ln>
        </p:spPr>
      </p:pic>
      <p:sp>
        <p:nvSpPr>
          <p:cNvPr id="918" name=""/>
          <p:cNvSpPr/>
          <p:nvPr/>
        </p:nvSpPr>
        <p:spPr>
          <a:xfrm>
            <a:off x="2061360" y="50292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" descr=""/>
          <p:cNvPicPr/>
          <p:nvPr/>
        </p:nvPicPr>
        <p:blipFill>
          <a:blip r:embed="rId5"/>
          <a:stretch/>
        </p:blipFill>
        <p:spPr>
          <a:xfrm>
            <a:off x="838080" y="5025960"/>
            <a:ext cx="1000080" cy="565200"/>
          </a:xfrm>
          <a:prstGeom prst="rect">
            <a:avLst/>
          </a:prstGeom>
          <a:ln w="0">
            <a:noFill/>
          </a:ln>
        </p:spPr>
      </p:pic>
      <p:pic>
        <p:nvPicPr>
          <p:cNvPr id="920" name="" descr=""/>
          <p:cNvPicPr/>
          <p:nvPr/>
        </p:nvPicPr>
        <p:blipFill>
          <a:blip r:embed="rId6"/>
          <a:stretch/>
        </p:blipFill>
        <p:spPr>
          <a:xfrm>
            <a:off x="3352680" y="4876920"/>
            <a:ext cx="2178000" cy="774720"/>
          </a:xfrm>
          <a:prstGeom prst="rect">
            <a:avLst/>
          </a:prstGeom>
          <a:ln w="0">
            <a:noFill/>
          </a:ln>
        </p:spPr>
      </p:pic>
      <p:pic>
        <p:nvPicPr>
          <p:cNvPr id="921" name="" descr=""/>
          <p:cNvPicPr/>
          <p:nvPr/>
        </p:nvPicPr>
        <p:blipFill>
          <a:blip r:embed="rId7"/>
          <a:stretch/>
        </p:blipFill>
        <p:spPr>
          <a:xfrm>
            <a:off x="6019920" y="5029200"/>
            <a:ext cx="1433520" cy="565200"/>
          </a:xfrm>
          <a:prstGeom prst="rect">
            <a:avLst/>
          </a:prstGeom>
          <a:ln w="0">
            <a:noFill/>
          </a:ln>
        </p:spPr>
      </p:pic>
      <p:sp>
        <p:nvSpPr>
          <p:cNvPr id="922" name=""/>
          <p:cNvSpPr/>
          <p:nvPr/>
        </p:nvSpPr>
        <p:spPr>
          <a:xfrm>
            <a:off x="458280" y="5791320"/>
            <a:ext cx="819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of the repeated iterate to initial state rotates i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ly all amplitude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3" name="" descr=""/>
          <p:cNvPicPr/>
          <p:nvPr/>
        </p:nvPicPr>
        <p:blipFill>
          <a:blip r:embed="rId8"/>
          <a:stretch/>
        </p:blipFill>
        <p:spPr>
          <a:xfrm>
            <a:off x="3581280" y="6172200"/>
            <a:ext cx="52560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1885680" y="0"/>
            <a:ext cx="52725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Gover’s Algorithm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454680" y="990720"/>
            <a:ext cx="82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identified marked item using only               queri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" descr=""/>
          <p:cNvPicPr/>
          <p:nvPr/>
        </p:nvPicPr>
        <p:blipFill>
          <a:blip r:embed="rId1"/>
          <a:stretch/>
        </p:blipFill>
        <p:spPr>
          <a:xfrm>
            <a:off x="6350040" y="1052640"/>
            <a:ext cx="1117440" cy="37296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photo"/>
          <p:cNvPicPr/>
          <p:nvPr/>
        </p:nvPicPr>
        <p:blipFill>
          <a:blip r:embed="rId2"/>
          <a:stretch/>
        </p:blipFill>
        <p:spPr>
          <a:xfrm>
            <a:off x="533520" y="1676520"/>
            <a:ext cx="1242720" cy="150480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photo"/>
          <p:cNvPicPr/>
          <p:nvPr/>
        </p:nvPicPr>
        <p:blipFill>
          <a:blip r:embed="rId3"/>
          <a:stretch/>
        </p:blipFill>
        <p:spPr>
          <a:xfrm>
            <a:off x="2362320" y="1676520"/>
            <a:ext cx="1242720" cy="150480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photo"/>
          <p:cNvPicPr/>
          <p:nvPr/>
        </p:nvPicPr>
        <p:blipFill>
          <a:blip r:embed="rId4"/>
          <a:stretch/>
        </p:blipFill>
        <p:spPr>
          <a:xfrm>
            <a:off x="4038480" y="1676520"/>
            <a:ext cx="1243080" cy="1504800"/>
          </a:xfrm>
          <a:prstGeom prst="rect">
            <a:avLst/>
          </a:prstGeom>
          <a:ln w="0">
            <a:noFill/>
          </a:ln>
        </p:spPr>
      </p:pic>
      <p:pic>
        <p:nvPicPr>
          <p:cNvPr id="930" name="" descr="photo"/>
          <p:cNvPicPr/>
          <p:nvPr/>
        </p:nvPicPr>
        <p:blipFill>
          <a:blip r:embed="rId5"/>
          <a:stretch/>
        </p:blipFill>
        <p:spPr>
          <a:xfrm>
            <a:off x="5791320" y="1676520"/>
            <a:ext cx="1242720" cy="1504800"/>
          </a:xfrm>
          <a:prstGeom prst="rect">
            <a:avLst/>
          </a:prstGeom>
          <a:ln w="0">
            <a:noFill/>
          </a:ln>
        </p:spPr>
      </p:pic>
      <p:pic>
        <p:nvPicPr>
          <p:cNvPr id="931" name="" descr="photo"/>
          <p:cNvPicPr/>
          <p:nvPr/>
        </p:nvPicPr>
        <p:blipFill>
          <a:blip r:embed="rId6"/>
          <a:stretch/>
        </p:blipFill>
        <p:spPr>
          <a:xfrm>
            <a:off x="7391520" y="1676520"/>
            <a:ext cx="1242720" cy="1504800"/>
          </a:xfrm>
          <a:prstGeom prst="rect">
            <a:avLst/>
          </a:prstGeom>
          <a:ln w="0">
            <a:noFill/>
          </a:ln>
        </p:spPr>
      </p:pic>
      <p:pic>
        <p:nvPicPr>
          <p:cNvPr id="932" name="" descr="photo"/>
          <p:cNvPicPr/>
          <p:nvPr/>
        </p:nvPicPr>
        <p:blipFill>
          <a:blip r:embed="rId7"/>
          <a:stretch/>
        </p:blipFill>
        <p:spPr>
          <a:xfrm>
            <a:off x="533520" y="3371760"/>
            <a:ext cx="1242720" cy="1505160"/>
          </a:xfrm>
          <a:prstGeom prst="rect">
            <a:avLst/>
          </a:prstGeom>
          <a:ln w="0">
            <a:noFill/>
          </a:ln>
        </p:spPr>
      </p:pic>
      <p:pic>
        <p:nvPicPr>
          <p:cNvPr id="933" name="" descr="photo"/>
          <p:cNvPicPr/>
          <p:nvPr/>
        </p:nvPicPr>
        <p:blipFill>
          <a:blip r:embed="rId8"/>
          <a:stretch/>
        </p:blipFill>
        <p:spPr>
          <a:xfrm>
            <a:off x="2362320" y="3371760"/>
            <a:ext cx="1242720" cy="1505160"/>
          </a:xfrm>
          <a:prstGeom prst="rect">
            <a:avLst/>
          </a:prstGeom>
          <a:ln w="0">
            <a:noFill/>
          </a:ln>
        </p:spPr>
      </p:pic>
      <p:pic>
        <p:nvPicPr>
          <p:cNvPr id="934" name="" descr="photo"/>
          <p:cNvPicPr/>
          <p:nvPr/>
        </p:nvPicPr>
        <p:blipFill>
          <a:blip r:embed="rId9"/>
          <a:stretch/>
        </p:blipFill>
        <p:spPr>
          <a:xfrm>
            <a:off x="4038480" y="3371760"/>
            <a:ext cx="1243080" cy="1505160"/>
          </a:xfrm>
          <a:prstGeom prst="rect">
            <a:avLst/>
          </a:prstGeom>
          <a:ln w="0">
            <a:noFill/>
          </a:ln>
        </p:spPr>
      </p:pic>
      <p:pic>
        <p:nvPicPr>
          <p:cNvPr id="935" name="" descr="photo"/>
          <p:cNvPicPr/>
          <p:nvPr/>
        </p:nvPicPr>
        <p:blipFill>
          <a:blip r:embed="rId10"/>
          <a:stretch/>
        </p:blipFill>
        <p:spPr>
          <a:xfrm>
            <a:off x="5791320" y="3371760"/>
            <a:ext cx="1242720" cy="1505160"/>
          </a:xfrm>
          <a:prstGeom prst="rect">
            <a:avLst/>
          </a:prstGeom>
          <a:ln w="0">
            <a:noFill/>
          </a:ln>
        </p:spPr>
      </p:pic>
      <p:pic>
        <p:nvPicPr>
          <p:cNvPr id="936" name="" descr="photo"/>
          <p:cNvPicPr/>
          <p:nvPr/>
        </p:nvPicPr>
        <p:blipFill>
          <a:blip r:embed="rId11"/>
          <a:stretch/>
        </p:blipFill>
        <p:spPr>
          <a:xfrm>
            <a:off x="7391520" y="3371760"/>
            <a:ext cx="1242720" cy="1505160"/>
          </a:xfrm>
          <a:prstGeom prst="rect">
            <a:avLst/>
          </a:prstGeom>
          <a:ln w="0">
            <a:noFill/>
          </a:ln>
        </p:spPr>
      </p:pic>
      <p:pic>
        <p:nvPicPr>
          <p:cNvPr id="937" name="" descr="photo"/>
          <p:cNvPicPr/>
          <p:nvPr/>
        </p:nvPicPr>
        <p:blipFill>
          <a:blip r:embed="rId12"/>
          <a:stretch/>
        </p:blipFill>
        <p:spPr>
          <a:xfrm>
            <a:off x="509760" y="5029200"/>
            <a:ext cx="1242720" cy="1504800"/>
          </a:xfrm>
          <a:prstGeom prst="rect">
            <a:avLst/>
          </a:prstGeom>
          <a:ln w="0">
            <a:noFill/>
          </a:ln>
        </p:spPr>
      </p:pic>
      <p:pic>
        <p:nvPicPr>
          <p:cNvPr id="938" name="" descr="photo"/>
          <p:cNvPicPr/>
          <p:nvPr/>
        </p:nvPicPr>
        <p:blipFill>
          <a:blip r:embed="rId13"/>
          <a:stretch/>
        </p:blipFill>
        <p:spPr>
          <a:xfrm>
            <a:off x="2338560" y="5029200"/>
            <a:ext cx="1242720" cy="1504800"/>
          </a:xfrm>
          <a:prstGeom prst="rect">
            <a:avLst/>
          </a:prstGeom>
          <a:ln w="0">
            <a:noFill/>
          </a:ln>
        </p:spPr>
      </p:pic>
      <p:pic>
        <p:nvPicPr>
          <p:cNvPr id="939" name="" descr="photo"/>
          <p:cNvPicPr/>
          <p:nvPr/>
        </p:nvPicPr>
        <p:blipFill>
          <a:blip r:embed="rId14"/>
          <a:stretch/>
        </p:blipFill>
        <p:spPr>
          <a:xfrm>
            <a:off x="5767560" y="5029200"/>
            <a:ext cx="1242720" cy="1504800"/>
          </a:xfrm>
          <a:prstGeom prst="rect">
            <a:avLst/>
          </a:prstGeom>
          <a:ln w="0">
            <a:noFill/>
          </a:ln>
        </p:spPr>
      </p:pic>
      <p:pic>
        <p:nvPicPr>
          <p:cNvPr id="940" name="" descr="photo"/>
          <p:cNvPicPr/>
          <p:nvPr/>
        </p:nvPicPr>
        <p:blipFill>
          <a:blip r:embed="rId15"/>
          <a:stretch/>
        </p:blipFill>
        <p:spPr>
          <a:xfrm>
            <a:off x="7367760" y="5029200"/>
            <a:ext cx="1242720" cy="1504800"/>
          </a:xfrm>
          <a:prstGeom prst="rect">
            <a:avLst/>
          </a:prstGeom>
          <a:ln w="0">
            <a:noFill/>
          </a:ln>
        </p:spPr>
      </p:pic>
      <p:pic>
        <p:nvPicPr>
          <p:cNvPr id="941" name="" descr=""/>
          <p:cNvPicPr/>
          <p:nvPr/>
        </p:nvPicPr>
        <p:blipFill>
          <a:blip r:embed="rId16"/>
          <a:stretch/>
        </p:blipFill>
        <p:spPr>
          <a:xfrm>
            <a:off x="4191120" y="5105520"/>
            <a:ext cx="8809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/>
          <p:nvPr/>
        </p:nvSpPr>
        <p:spPr>
          <a:xfrm>
            <a:off x="464040" y="76320"/>
            <a:ext cx="81604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Quantum Complexity Theory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05280" y="1066680"/>
            <a:ext cx="812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PP (Bounded-error Probabilistic Polynomial time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probability less than some fixed constant &lt; ½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04920" y="19810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QP (Bounded-error Quantum Polynomial time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probability less than some fixed constant &lt; ½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114800" y="4191120"/>
            <a:ext cx="1066680" cy="609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344840" y="42670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809880" y="38862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237920" y="4952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438280" y="2971800"/>
            <a:ext cx="4191120" cy="1981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4345920" y="31240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3505320" y="3505320"/>
            <a:ext cx="2286000" cy="2895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4268880" y="5867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Q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380880" y="2895480"/>
            <a:ext cx="8153640" cy="3810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681228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1551960" y="44280"/>
            <a:ext cx="59871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Quantum Algorithm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54800" y="914400"/>
            <a:ext cx="54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 can quantum computers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71280" y="1447920"/>
            <a:ext cx="9296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ing, discrete log </a:t>
            </a: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[Shor 94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msy1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tructured search </a:t>
            </a: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[Grover 96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msy1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hidden subgroup problems </a:t>
            </a: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[Long Lis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msy1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ll’s equation </a:t>
            </a: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[Hallgren 0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msy1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dden shift problems </a:t>
            </a: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[van Dam, Hallgren, Ip 0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msy1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 traversal </a:t>
            </a: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[CCDFGS 0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msy1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tial search </a:t>
            </a: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[AA 03, CG 03/04, AKR 04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msy1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distinctness </a:t>
            </a: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[Ambainis 0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msy1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graph problems </a:t>
            </a: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[DHHM 04, MSS 03,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msy1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matrix multiplication </a:t>
            </a: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[Buhrman,Špalek 04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dden subgroup problem </a:t>
            </a: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[Bacon, Childs, van Dam 05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 hidden shift problems </a:t>
            </a: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[Childs, van Dam 05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8" name="" descr=""/>
          <p:cNvPicPr/>
          <p:nvPr/>
        </p:nvPicPr>
        <p:blipFill>
          <a:blip r:embed="rId1"/>
          <a:stretch/>
        </p:blipFill>
        <p:spPr>
          <a:xfrm>
            <a:off x="379440" y="5218200"/>
            <a:ext cx="1063440" cy="3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1551960" y="44280"/>
            <a:ext cx="59871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Quantum Algorithm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54800" y="914400"/>
            <a:ext cx="70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 might quantum computer be able to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3886200" y="1523880"/>
            <a:ext cx="2895480" cy="1828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410080" y="1828800"/>
            <a:ext cx="1067040" cy="1219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4191120" y="1828800"/>
            <a:ext cx="1066680" cy="1219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5414400" y="22096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420800" y="22096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4954680" y="28954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590920" y="1447920"/>
            <a:ext cx="5181480" cy="2057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2820960" y="22860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Q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385200" y="1676520"/>
            <a:ext cx="15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ke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06720" y="3809880"/>
            <a:ext cx="7347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ing problems not NPC but possibly in BQ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 isomorph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ed shortest vector in a lattice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Nash equilib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29440" y="76320"/>
            <a:ext cx="210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00" y="19810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3040" y="38862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447200" y="1219320"/>
            <a:ext cx="685800" cy="1981080"/>
          </a:xfrm>
          <a:custGeom>
            <a:avLst/>
            <a:gdLst>
              <a:gd name="textAreaLeft" fmla="*/ -360 w 685800"/>
              <a:gd name="textAreaRight" fmla="*/ 247320 w 68580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447200" y="3276720"/>
            <a:ext cx="685800" cy="1752480"/>
          </a:xfrm>
          <a:custGeom>
            <a:avLst/>
            <a:gdLst>
              <a:gd name="textAreaLeft" fmla="*/ -360 w 685800"/>
              <a:gd name="textAreaRight" fmla="*/ 247320 w 6858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01840" y="1104840"/>
            <a:ext cx="4861080" cy="4075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57280" y="563868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mon’s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324480" y="3200400"/>
            <a:ext cx="2490840" cy="311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852160" y="624852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ple runs to fi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/>
          <p:nvPr/>
        </p:nvSpPr>
        <p:spPr>
          <a:xfrm>
            <a:off x="1552320" y="44280"/>
            <a:ext cx="58881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Quantum Simula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58040" y="914400"/>
            <a:ext cx="65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haps the least well studied and underst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09480" y="16765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066680" y="16765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609480" y="22096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066680" y="22096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600200" y="16765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057400" y="16765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600200" y="22096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2057400" y="22096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838080" y="26668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295280" y="26668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838080" y="32004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1295280" y="32004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1828800" y="26668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286000" y="26668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828800" y="32004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2286000" y="32004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066680" y="3581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1523880" y="3581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066680" y="41148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523880" y="41148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2057400" y="3581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514600" y="3581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057400" y="41148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2514600" y="41148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183480" y="2286000"/>
            <a:ext cx="595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ng quantum many body systems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computationally very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04920" y="4572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um computers allow one to perform these simulation without having to engineer entirely new physical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11760" y="5791320"/>
            <a:ext cx="86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um materials?  Understanding High-T Superconduc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354120" y="2590920"/>
            <a:ext cx="2727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o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ac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483640" y="0"/>
            <a:ext cx="421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One Time P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09480" y="1295280"/>
          <a:ext cx="7146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95280"/>
                    <a:ext cx="7146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7467480" y="1371600"/>
            <a:ext cx="1146240" cy="1523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36760" y="31240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22640" y="30481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31280" y="12952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1010111101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93560" y="762120"/>
            <a:ext cx="28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n bit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5800" y="40384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10110011100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7840" y="365760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’s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1280" y="12952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1010111101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3840" y="5105520"/>
            <a:ext cx="3124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2840" y="4753080"/>
            <a:ext cx="276120" cy="276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35800" y="533412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0001110011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15160" y="5562720"/>
            <a:ext cx="3124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5867280" y="5210280"/>
            <a:ext cx="276480" cy="276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103080" y="571500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10110011100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560" y="4206960"/>
            <a:ext cx="101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06880" y="4206960"/>
            <a:ext cx="101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16960" y="56386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13480" y="617220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learn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68208E-006 L -0.31702 0.46612 E">
                                      <p:cBhvr>
                                        <p:cTn id="6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68208E-006 L 0.32465 0.46612 E">
                                      <p:cBhvr>
                                        <p:cTn id="10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4104E-006 L 0.64132 -0.05549 E">
                                      <p:cBhvr>
                                        <p:cTn id="28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39400" y="0"/>
            <a:ext cx="686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ublic Key Crypt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160" y="914400"/>
            <a:ext cx="907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e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ist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hemes “known in public” where put forth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e and Hellman in 1976 (key exchange)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vest, Shamir and Adleman in 1978 (encryption algorith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ased on work by Merkle in 1974, published 197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080" y="3492360"/>
            <a:ext cx="883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it now appears that the British researchers working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tish intelligence (GCHQ) were actually the first to disco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protocols, but their work was classified at the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fford Cooks in 1973 (encryption algorith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colm Williamson in ~1973 (key exchan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ased on work by James Ellis in the late 1960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00:25:11Z</dcterms:created>
  <dc:creator>Dave Bacon</dc:creator>
  <dc:description/>
  <dc:language>en-US</dc:language>
  <cp:lastModifiedBy>Dave Bacon</cp:lastModifiedBy>
  <dcterms:modified xsi:type="dcterms:W3CDTF">2005-08-03T16:01:14Z</dcterms:modified>
  <cp:revision>53</cp:revision>
  <dc:subject/>
  <dc:title>Slide 1</dc:title>
</cp:coreProperties>
</file>