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2.png" ContentType="image/png"/>
  <Override PartName="/ppt/media/image31.png" ContentType="image/png"/>
  <Override PartName="/ppt/media/image9.png" ContentType="image/png"/>
  <Override PartName="/ppt/media/image128.png" ContentType="image/png"/>
  <Override PartName="/ppt/media/image196.png" ContentType="image/png"/>
  <Override PartName="/ppt/media/image34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183.jpeg" ContentType="image/jpeg"/>
  <Override PartName="/ppt/media/image135.png" ContentType="image/png"/>
  <Override PartName="/ppt/media/image136.png" ContentType="image/png"/>
  <Override PartName="/ppt/media/image137.png" ContentType="image/png"/>
  <Override PartName="/ppt/media/image40.png" ContentType="image/png"/>
  <Override PartName="/ppt/media/image138.png" ContentType="image/png"/>
  <Override PartName="/ppt/media/image41.png" ContentType="image/png"/>
  <Override PartName="/ppt/media/image139.png" ContentType="image/png"/>
  <Override PartName="/ppt/media/image42.png" ContentType="image/png"/>
  <Override PartName="/ppt/media/image140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50.png" ContentType="image/png"/>
  <Override PartName="/ppt/media/image148.png" ContentType="image/png"/>
  <Override PartName="/ppt/media/image51.png" ContentType="image/png"/>
  <Override PartName="/ppt/media/image149.png" ContentType="image/png"/>
  <Override PartName="/ppt/media/image52.png" ContentType="image/png"/>
  <Override PartName="/ppt/media/image202.png" ContentType="image/png"/>
  <Override PartName="/ppt/media/image46.png" ContentType="image/png"/>
  <Override PartName="/ppt/media/image150.png" ContentType="image/png"/>
  <Override PartName="/ppt/media/image203.png" ContentType="image/png"/>
  <Override PartName="/ppt/media/image47.png" ContentType="image/png"/>
  <Override PartName="/ppt/media/image162.png" ContentType="image/png"/>
  <Override PartName="/ppt/media/image207.png" ContentType="image/png"/>
  <Override PartName="/ppt/media/image161.png" ContentType="image/png"/>
  <Override PartName="/ppt/media/image198.png" ContentType="image/png"/>
  <Override PartName="/ppt/media/image36.png" ContentType="image/png"/>
  <Override PartName="/ppt/media/image208.png" ContentType="image/png"/>
  <Override PartName="/ppt/media/image210.png" ContentType="image/png"/>
  <Override PartName="/ppt/media/image54.png" ContentType="image/png"/>
  <Override PartName="/ppt/media/image164.png" ContentType="image/png"/>
  <Override PartName="/ppt/media/image209.png" ContentType="image/png"/>
  <Override PartName="/ppt/media/image199.jpeg" ContentType="image/jpeg"/>
  <Override PartName="/ppt/media/image165.png" ContentType="image/png"/>
  <Override PartName="/ppt/media/image163.png" ContentType="image/png"/>
  <Override PartName="/ppt/media/image212.jpeg" ContentType="image/jpeg"/>
  <Override PartName="/ppt/media/image168.png" ContentType="image/png"/>
  <Override PartName="/ppt/media/image201.png" ContentType="image/png"/>
  <Override PartName="/ppt/media/image45.png" ContentType="image/png"/>
  <Override PartName="/ppt/media/image206.png" ContentType="image/png"/>
  <Override PartName="/ppt/media/image211.jpeg" ContentType="image/jpeg"/>
  <Override PartName="/ppt/media/image129.png" ContentType="image/png"/>
  <Override PartName="/ppt/media/image197.png" ContentType="image/png"/>
  <Override PartName="/ppt/media/image35.png" ContentType="image/png"/>
  <Override PartName="/ppt/media/image160.png" ContentType="image/png"/>
  <Override PartName="/ppt/media/image213.png" ContentType="image/png"/>
  <Override PartName="/ppt/media/image130.png" ContentType="image/png"/>
  <Override PartName="/ppt/media/image167.png" ContentType="image/png"/>
  <Override PartName="/ppt/media/image200.png" ContentType="image/png"/>
  <Override PartName="/ppt/media/image44.png" ContentType="image/png"/>
  <Override PartName="/ppt/media/image152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189.png" ContentType="image/png"/>
  <Override PartName="/ppt/media/image151.png" ContentType="image/png"/>
  <Override PartName="/ppt/media/image204.png" ContentType="image/png"/>
  <Override PartName="/ppt/media/image48.png" ContentType="image/png"/>
  <Override PartName="/ppt/media/image188.png" ContentType="image/png"/>
  <Override PartName="/ppt/media/image56.png" ContentType="image/png"/>
  <Override PartName="/ppt/media/image142.png" ContentType="image/png"/>
  <Override PartName="/ppt/media/image179.png" ContentType="image/png"/>
  <Override PartName="/ppt/media/image141.png" ContentType="image/png"/>
  <Override PartName="/ppt/media/image178.png" ContentType="image/png"/>
  <Override PartName="/ppt/media/image132.png" ContentType="image/png"/>
  <Override PartName="/ppt/media/image169.png" ContentType="image/png"/>
  <Override PartName="/ppt/media/image131.png" ContentType="image/png"/>
  <Override PartName="/ppt/media/image166.png" ContentType="image/png"/>
  <Override PartName="/ppt/media/image55.png" ContentType="image/png"/>
  <Override PartName="/ppt/media/image26.png" ContentType="image/png"/>
  <Override PartName="/ppt/media/image94.png" ContentType="image/png"/>
  <Override PartName="/ppt/media/image159.jpeg" ContentType="image/jpeg"/>
  <Override PartName="/ppt/media/image53.png" ContentType="image/png"/>
  <Override PartName="/ppt/media/image43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39.png" ContentType="image/png"/>
  <Override PartName="/ppt/media/image153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5.png" ContentType="image/png"/>
  <Override PartName="/ppt/media/image157.png" ContentType="image/png"/>
  <Override PartName="/ppt/media/image4.png" ContentType="image/png"/>
  <Override PartName="/ppt/media/image156.png" ContentType="image/png"/>
  <Override PartName="/ppt/media/image3.png" ContentType="image/png"/>
  <Override PartName="/ppt/media/image155.png" ContentType="image/png"/>
  <Override PartName="/ppt/media/image2.png" ContentType="image/png"/>
  <Override PartName="/ppt/media/image154.png" ContentType="image/png"/>
  <Override PartName="/ppt/media/image25.png" ContentType="image/png"/>
  <Override PartName="/ppt/media/image9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889-CE1F-436C-9951-ADADF67C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262-40C5-468D-8EC4-8288FB04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CD5-BAF0-4CE4-996D-F4D1F9E2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941-E066-4070-A379-36F0043B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C42-9D6F-4509-BC4C-69FFA2B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262-14EA-44C2-9613-92ED599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F85-24BA-4CE5-8581-306257E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866-46DD-4B02-AB00-F301C80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AD6-A71B-4B85-BFEC-6C9DB20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3D2-D88E-4387-9B99-F05A0A4C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D0D-B2B4-4440-81DF-3CA66B6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0DD-6245-4320-9527-17ADF1D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1CA6-E1CC-4EAD-9994-BFAAFA21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33.png"/><Relationship Id="rId11" Type="http://schemas.openxmlformats.org/officeDocument/2006/relationships/image" Target="../media/image32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1.png"/><Relationship Id="rId11" Type="http://schemas.openxmlformats.org/officeDocument/2006/relationships/image" Target="../media/image61.png"/><Relationship Id="rId12" Type="http://schemas.openxmlformats.org/officeDocument/2006/relationships/image" Target="../media/image65.png"/><Relationship Id="rId13" Type="http://schemas.openxmlformats.org/officeDocument/2006/relationships/image" Target="../media/image64.pn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image" Target="../media/image104.pn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image" Target="../media/image107.png"/><Relationship Id="rId11" Type="http://schemas.openxmlformats.org/officeDocument/2006/relationships/image" Target="../media/image107.png"/><Relationship Id="rId12" Type="http://schemas.openxmlformats.org/officeDocument/2006/relationships/image" Target="../media/image107.png"/><Relationship Id="rId13" Type="http://schemas.openxmlformats.org/officeDocument/2006/relationships/image" Target="../media/image107.png"/><Relationship Id="rId14" Type="http://schemas.openxmlformats.org/officeDocument/2006/relationships/image" Target="../media/image107.png"/><Relationship Id="rId15" Type="http://schemas.openxmlformats.org/officeDocument/2006/relationships/image" Target="../media/image107.png"/><Relationship Id="rId16" Type="http://schemas.openxmlformats.org/officeDocument/2006/relationships/image" Target="../media/image107.png"/><Relationship Id="rId17" Type="http://schemas.openxmlformats.org/officeDocument/2006/relationships/image" Target="../media/image107.png"/><Relationship Id="rId18" Type="http://schemas.openxmlformats.org/officeDocument/2006/relationships/image" Target="../media/image108.png"/><Relationship Id="rId19" Type="http://schemas.openxmlformats.org/officeDocument/2006/relationships/image" Target="../media/image109.png"/><Relationship Id="rId20" Type="http://schemas.openxmlformats.org/officeDocument/2006/relationships/image" Target="../media/image107.png"/><Relationship Id="rId21" Type="http://schemas.openxmlformats.org/officeDocument/2006/relationships/image" Target="../media/image110.png"/><Relationship Id="rId22" Type="http://schemas.openxmlformats.org/officeDocument/2006/relationships/image" Target="../media/image111.png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17.png"/><Relationship Id="rId6" Type="http://schemas.openxmlformats.org/officeDocument/2006/relationships/image" Target="../media/image76.png"/><Relationship Id="rId7" Type="http://schemas.openxmlformats.org/officeDocument/2006/relationships/image" Target="../media/image112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77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21.png"/><Relationship Id="rId6" Type="http://schemas.openxmlformats.org/officeDocument/2006/relationships/image" Target="../media/image122.png"/><Relationship Id="rId7" Type="http://schemas.openxmlformats.org/officeDocument/2006/relationships/image" Target="../media/image123.png"/><Relationship Id="rId8" Type="http://schemas.openxmlformats.org/officeDocument/2006/relationships/image" Target="../media/image124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image" Target="../media/image130.png"/><Relationship Id="rId9" Type="http://schemas.openxmlformats.org/officeDocument/2006/relationships/image" Target="../media/image131.png"/><Relationship Id="rId10" Type="http://schemas.openxmlformats.org/officeDocument/2006/relationships/image" Target="../media/image132.png"/><Relationship Id="rId11" Type="http://schemas.openxmlformats.org/officeDocument/2006/relationships/image" Target="../media/image133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39.png"/><Relationship Id="rId3" Type="http://schemas.openxmlformats.org/officeDocument/2006/relationships/image" Target="../media/image140.png"/><Relationship Id="rId4" Type="http://schemas.openxmlformats.org/officeDocument/2006/relationships/image" Target="../media/image141.png"/><Relationship Id="rId5" Type="http://schemas.openxmlformats.org/officeDocument/2006/relationships/image" Target="../media/image142.png"/><Relationship Id="rId6" Type="http://schemas.openxmlformats.org/officeDocument/2006/relationships/image" Target="../media/image143.png"/><Relationship Id="rId7" Type="http://schemas.openxmlformats.org/officeDocument/2006/relationships/image" Target="../media/image144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5.png"/><Relationship Id="rId3" Type="http://schemas.openxmlformats.org/officeDocument/2006/relationships/image" Target="../media/image146.png"/><Relationship Id="rId4" Type="http://schemas.openxmlformats.org/officeDocument/2006/relationships/image" Target="../media/image147.png"/><Relationship Id="rId5" Type="http://schemas.openxmlformats.org/officeDocument/2006/relationships/image" Target="../media/image14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50.png"/><Relationship Id="rId3" Type="http://schemas.openxmlformats.org/officeDocument/2006/relationships/image" Target="../media/image151.png"/><Relationship Id="rId4" Type="http://schemas.openxmlformats.org/officeDocument/2006/relationships/image" Target="../media/image152.png"/><Relationship Id="rId5" Type="http://schemas.openxmlformats.org/officeDocument/2006/relationships/image" Target="../media/image151.png"/><Relationship Id="rId6" Type="http://schemas.openxmlformats.org/officeDocument/2006/relationships/image" Target="../media/image153.png"/><Relationship Id="rId7" Type="http://schemas.openxmlformats.org/officeDocument/2006/relationships/image" Target="../media/image154.png"/><Relationship Id="rId8" Type="http://schemas.openxmlformats.org/officeDocument/2006/relationships/image" Target="../media/image155.png"/><Relationship Id="rId9" Type="http://schemas.openxmlformats.org/officeDocument/2006/relationships/image" Target="../media/image156.png"/><Relationship Id="rId10" Type="http://schemas.openxmlformats.org/officeDocument/2006/relationships/image" Target="../media/image157.png"/><Relationship Id="rId11" Type="http://schemas.openxmlformats.org/officeDocument/2006/relationships/image" Target="../media/image158.png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image" Target="../media/image149.png"/><Relationship Id="rId3" Type="http://schemas.openxmlformats.org/officeDocument/2006/relationships/image" Target="../media/image160.png"/><Relationship Id="rId4" Type="http://schemas.openxmlformats.org/officeDocument/2006/relationships/image" Target="../media/image161.png"/><Relationship Id="rId5" Type="http://schemas.openxmlformats.org/officeDocument/2006/relationships/image" Target="../media/image162.png"/><Relationship Id="rId6" Type="http://schemas.openxmlformats.org/officeDocument/2006/relationships/image" Target="../media/image163.png"/><Relationship Id="rId7" Type="http://schemas.openxmlformats.org/officeDocument/2006/relationships/image" Target="../media/image164.png"/><Relationship Id="rId8" Type="http://schemas.openxmlformats.org/officeDocument/2006/relationships/image" Target="../media/image165.png"/><Relationship Id="rId9" Type="http://schemas.openxmlformats.org/officeDocument/2006/relationships/image" Target="../media/image166.png"/><Relationship Id="rId10" Type="http://schemas.openxmlformats.org/officeDocument/2006/relationships/image" Target="../media/image167.png"/><Relationship Id="rId11" Type="http://schemas.openxmlformats.org/officeDocument/2006/relationships/image" Target="../media/image168.png"/><Relationship Id="rId12" Type="http://schemas.openxmlformats.org/officeDocument/2006/relationships/image" Target="../media/image169.png"/><Relationship Id="rId13" Type="http://schemas.openxmlformats.org/officeDocument/2006/relationships/image" Target="../media/image170.png"/><Relationship Id="rId14" Type="http://schemas.openxmlformats.org/officeDocument/2006/relationships/image" Target="../media/image171.png"/><Relationship Id="rId15" Type="http://schemas.openxmlformats.org/officeDocument/2006/relationships/image" Target="../media/image172.png"/><Relationship Id="rId16" Type="http://schemas.openxmlformats.org/officeDocument/2006/relationships/image" Target="../media/image173.png"/><Relationship Id="rId17" Type="http://schemas.openxmlformats.org/officeDocument/2006/relationships/image" Target="../media/image174.png"/><Relationship Id="rId1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image" Target="../media/image72.png"/><Relationship Id="rId3" Type="http://schemas.openxmlformats.org/officeDocument/2006/relationships/image" Target="../media/image17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image" Target="../media/image149.png"/><Relationship Id="rId3" Type="http://schemas.openxmlformats.org/officeDocument/2006/relationships/image" Target="../media/image160.png"/><Relationship Id="rId4" Type="http://schemas.openxmlformats.org/officeDocument/2006/relationships/image" Target="../media/image161.png"/><Relationship Id="rId5" Type="http://schemas.openxmlformats.org/officeDocument/2006/relationships/image" Target="../media/image162.png"/><Relationship Id="rId6" Type="http://schemas.openxmlformats.org/officeDocument/2006/relationships/image" Target="../media/image163.png"/><Relationship Id="rId7" Type="http://schemas.openxmlformats.org/officeDocument/2006/relationships/image" Target="../media/image164.png"/><Relationship Id="rId8" Type="http://schemas.openxmlformats.org/officeDocument/2006/relationships/image" Target="../media/image165.png"/><Relationship Id="rId9" Type="http://schemas.openxmlformats.org/officeDocument/2006/relationships/image" Target="../media/image173.png"/><Relationship Id="rId10" Type="http://schemas.openxmlformats.org/officeDocument/2006/relationships/image" Target="../media/image174.png"/><Relationship Id="rId11" Type="http://schemas.openxmlformats.org/officeDocument/2006/relationships/image" Target="../media/image66.png"/><Relationship Id="rId1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77.png"/><Relationship Id="rId5" Type="http://schemas.openxmlformats.org/officeDocument/2006/relationships/image" Target="../media/image179.png"/><Relationship Id="rId6" Type="http://schemas.openxmlformats.org/officeDocument/2006/relationships/image" Target="../media/image180.png"/><Relationship Id="rId7" Type="http://schemas.openxmlformats.org/officeDocument/2006/relationships/image" Target="../media/image181.png"/><Relationship Id="rId8" Type="http://schemas.openxmlformats.org/officeDocument/2006/relationships/image" Target="../media/image182.png"/><Relationship Id="rId9" Type="http://schemas.openxmlformats.org/officeDocument/2006/relationships/image" Target="../media/image183.jpe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77.png"/><Relationship Id="rId3" Type="http://schemas.openxmlformats.org/officeDocument/2006/relationships/image" Target="../media/image184.png"/><Relationship Id="rId4" Type="http://schemas.openxmlformats.org/officeDocument/2006/relationships/image" Target="../media/image184.png"/><Relationship Id="rId5" Type="http://schemas.openxmlformats.org/officeDocument/2006/relationships/image" Target="../media/image185.png"/><Relationship Id="rId6" Type="http://schemas.openxmlformats.org/officeDocument/2006/relationships/image" Target="../media/image186.png"/><Relationship Id="rId7" Type="http://schemas.openxmlformats.org/officeDocument/2006/relationships/image" Target="../media/image18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7.png"/><Relationship Id="rId2" Type="http://schemas.openxmlformats.org/officeDocument/2006/relationships/image" Target="../media/image186.png"/><Relationship Id="rId3" Type="http://schemas.openxmlformats.org/officeDocument/2006/relationships/image" Target="../media/image188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7.png"/><Relationship Id="rId2" Type="http://schemas.openxmlformats.org/officeDocument/2006/relationships/image" Target="../media/image189.png"/><Relationship Id="rId3" Type="http://schemas.openxmlformats.org/officeDocument/2006/relationships/image" Target="../media/image190.png"/><Relationship Id="rId4" Type="http://schemas.openxmlformats.org/officeDocument/2006/relationships/image" Target="../media/image191.png"/><Relationship Id="rId5" Type="http://schemas.openxmlformats.org/officeDocument/2006/relationships/image" Target="../media/image192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3.png"/><Relationship Id="rId2" Type="http://schemas.openxmlformats.org/officeDocument/2006/relationships/image" Target="../media/image194.png"/><Relationship Id="rId3" Type="http://schemas.openxmlformats.org/officeDocument/2006/relationships/image" Target="../media/image195.png"/><Relationship Id="rId4" Type="http://schemas.openxmlformats.org/officeDocument/2006/relationships/image" Target="../media/image186.png"/><Relationship Id="rId5" Type="http://schemas.openxmlformats.org/officeDocument/2006/relationships/image" Target="../media/image196.png"/><Relationship Id="rId6" Type="http://schemas.openxmlformats.org/officeDocument/2006/relationships/image" Target="../media/image197.png"/><Relationship Id="rId7" Type="http://schemas.openxmlformats.org/officeDocument/2006/relationships/image" Target="../media/image198.png"/><Relationship Id="rId8" Type="http://schemas.openxmlformats.org/officeDocument/2006/relationships/image" Target="../media/image199.jpe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8.png"/><Relationship Id="rId2" Type="http://schemas.openxmlformats.org/officeDocument/2006/relationships/image" Target="../media/image200.png"/><Relationship Id="rId3" Type="http://schemas.openxmlformats.org/officeDocument/2006/relationships/image" Target="../media/image201.png"/><Relationship Id="rId4" Type="http://schemas.openxmlformats.org/officeDocument/2006/relationships/image" Target="../media/image202.png"/><Relationship Id="rId5" Type="http://schemas.openxmlformats.org/officeDocument/2006/relationships/image" Target="../media/image203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4.png"/><Relationship Id="rId2" Type="http://schemas.openxmlformats.org/officeDocument/2006/relationships/image" Target="../media/image205.png"/><Relationship Id="rId3" Type="http://schemas.openxmlformats.org/officeDocument/2006/relationships/image" Target="../media/image191.png"/><Relationship Id="rId4" Type="http://schemas.openxmlformats.org/officeDocument/2006/relationships/image" Target="../media/image195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5.png"/><Relationship Id="rId2" Type="http://schemas.openxmlformats.org/officeDocument/2006/relationships/image" Target="../media/image194.png"/><Relationship Id="rId3" Type="http://schemas.openxmlformats.org/officeDocument/2006/relationships/image" Target="../media/image202.png"/><Relationship Id="rId4" Type="http://schemas.openxmlformats.org/officeDocument/2006/relationships/image" Target="../media/image206.png"/><Relationship Id="rId5" Type="http://schemas.openxmlformats.org/officeDocument/2006/relationships/image" Target="../media/image207.png"/><Relationship Id="rId6" Type="http://schemas.openxmlformats.org/officeDocument/2006/relationships/image" Target="../media/image208.png"/><Relationship Id="rId7" Type="http://schemas.openxmlformats.org/officeDocument/2006/relationships/image" Target="../media/image209.png"/><Relationship Id="rId8" Type="http://schemas.openxmlformats.org/officeDocument/2006/relationships/image" Target="../media/image19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0.png"/><Relationship Id="rId2" Type="http://schemas.openxmlformats.org/officeDocument/2006/relationships/image" Target="../media/image211.jpeg"/><Relationship Id="rId3" Type="http://schemas.openxmlformats.org/officeDocument/2006/relationships/image" Target="../media/image211.jpeg"/><Relationship Id="rId4" Type="http://schemas.openxmlformats.org/officeDocument/2006/relationships/image" Target="../media/image211.jpeg"/><Relationship Id="rId5" Type="http://schemas.openxmlformats.org/officeDocument/2006/relationships/image" Target="../media/image211.jpeg"/><Relationship Id="rId6" Type="http://schemas.openxmlformats.org/officeDocument/2006/relationships/image" Target="../media/image211.jpeg"/><Relationship Id="rId7" Type="http://schemas.openxmlformats.org/officeDocument/2006/relationships/image" Target="../media/image211.jpeg"/><Relationship Id="rId8" Type="http://schemas.openxmlformats.org/officeDocument/2006/relationships/image" Target="../media/image211.jpeg"/><Relationship Id="rId9" Type="http://schemas.openxmlformats.org/officeDocument/2006/relationships/image" Target="../media/image211.jpeg"/><Relationship Id="rId10" Type="http://schemas.openxmlformats.org/officeDocument/2006/relationships/image" Target="../media/image211.jpeg"/><Relationship Id="rId11" Type="http://schemas.openxmlformats.org/officeDocument/2006/relationships/image" Target="../media/image211.jpeg"/><Relationship Id="rId12" Type="http://schemas.openxmlformats.org/officeDocument/2006/relationships/image" Target="../media/image211.jpeg"/><Relationship Id="rId13" Type="http://schemas.openxmlformats.org/officeDocument/2006/relationships/image" Target="../media/image211.jpeg"/><Relationship Id="rId14" Type="http://schemas.openxmlformats.org/officeDocument/2006/relationships/image" Target="../media/image211.jpeg"/><Relationship Id="rId15" Type="http://schemas.openxmlformats.org/officeDocument/2006/relationships/image" Target="../media/image211.jpeg"/><Relationship Id="rId16" Type="http://schemas.openxmlformats.org/officeDocument/2006/relationships/image" Target="../media/image212.jpeg"/><Relationship Id="rId1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1308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388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7560" y="32767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560" y="396252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240" y="464832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ver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2400" y="2590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9880" y="533412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Mysteries: 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5840" y="76320"/>
            <a:ext cx="726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880" y="914400"/>
            <a:ext cx="82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: decision problems which can be solved without error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time on a deterministic classical Turing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5080" y="1905120"/>
            <a:ext cx="83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problems: problem with a yes/no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time: worst case bounded by a polynomial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809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problems in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480" y="4419720"/>
            <a:ext cx="89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ma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oes a given graph have a perfect mat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5080" y="495288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a given number a prime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200" y="556272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Equali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integer n x d matrix A and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n x 1 vector b, does there exists a rational d x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x&gt;0 such that Ax=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5840" y="0"/>
            <a:ext cx="726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858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: decision problems which can be solved without error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lynomial time on a classical nondeterministic Turing machine.  Shorthand, decision problems which, given a solution, you can verify this solution in polynomial time on a deterministic classical Turing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" y="25909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problems in N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160" y="3048120"/>
            <a:ext cx="89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ma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oes a given graph have a perfect mat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6960" y="3537000"/>
            <a:ext cx="848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sf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oes a given boolean function have a satis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?  Given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does there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that f(x)=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" y="4724280"/>
            <a:ext cx="90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sw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iven a partially solved Minesweeper board,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exist an assignment of mines which can give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 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81280" y="5562720"/>
            <a:ext cx="2590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4724280"/>
            <a:ext cx="28954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029200"/>
            <a:ext cx="106704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914400"/>
            <a:ext cx="289584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219320"/>
            <a:ext cx="106704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68560" y="76320"/>
            <a:ext cx="52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e Million Dol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838080"/>
            <a:ext cx="25146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0080" y="1600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87240" y="1600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22440" y="15238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=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52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0640" y="2895480"/>
            <a:ext cx="83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– Hard: Problems which have the property that for e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NP there is a polynomial tim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880" y="411480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– Complete (NPC): NP – Hard and in N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5029200"/>
            <a:ext cx="106668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648320"/>
            <a:ext cx="22096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42600" y="5410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5410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23520" y="5334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=NPC=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8880" y="5334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2880" y="6095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4080" y="76320"/>
            <a:ext cx="68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520" y="1219320"/>
            <a:ext cx="879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re probably exist computational problems that are 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n we use these to perform secure cryptography by b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of the problem on the difficulty of the hard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make the hard problem big enough, baring a brea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omputational complexity of the problem, or in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technology, the cryptography will be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46800" y="76320"/>
            <a:ext cx="92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Cryptography Rough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1066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her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2133720"/>
            <a:ext cx="1905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02280" y="3048120"/>
            <a:ext cx="93204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220680" y="3662280"/>
            <a:ext cx="465120" cy="909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4720" y="5638680"/>
            <a:ext cx="85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(very roughly) what happens in public key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876920"/>
            <a:ext cx="87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: very hard to design key from instructions to make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L 0.3875 7.40741E-007 E">
                                      <p:cBhvr>
                                        <p:cTn id="4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44583 4.44444E-006 E">
                                      <p:cBhvr>
                                        <p:cTn id="5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44062 2.22222E-006 E">
                                      <p:cBhvr>
                                        <p:cTn id="5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22552 -0.00023 E">
                                      <p:cBhvr>
                                        <p:cTn id="6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920" y="7632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0400" y="365760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generates two random large primes,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342120" y="3833640"/>
            <a:ext cx="245880" cy="266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299360" y="3833640"/>
            <a:ext cx="182520" cy="266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1454040" y="4270320"/>
            <a:ext cx="3575160" cy="276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-122760" y="4648320"/>
            <a:ext cx="93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lice chooses a number                  which is coprime with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4038480" y="4786200"/>
            <a:ext cx="1233720" cy="2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8443800" y="4753080"/>
            <a:ext cx="192240" cy="28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7160" y="52578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lice computes    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4543560" y="5380200"/>
            <a:ext cx="2128680" cy="28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852640" y="5334120"/>
            <a:ext cx="189000" cy="284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3400" y="57913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2133720" y="589608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1960" y="6248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2228760" y="6354720"/>
            <a:ext cx="75240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43400" y="7632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3400" y="36576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133720" y="376236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1960" y="41148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2228760" y="4221000"/>
            <a:ext cx="752400" cy="276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450440" y="1676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3200400" y="1781280"/>
            <a:ext cx="735120" cy="276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127200" y="3581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8469360" y="3747960"/>
            <a:ext cx="293760" cy="223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6095880" y="4267080"/>
            <a:ext cx="2428920" cy="274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6095880" y="4876920"/>
            <a:ext cx="2428920" cy="274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326880" y="5289480"/>
            <a:ext cx="4116600" cy="34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762120" y="6400800"/>
            <a:ext cx="4189320" cy="311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787320" y="5867280"/>
            <a:ext cx="3861000" cy="311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30640" y="57722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16960" y="63244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33525 2.22222E-006 E">
                                      <p:cBhvr>
                                        <p:cTn id="7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34323 -1.11111E-006 E">
                                      <p:cBhvr>
                                        <p:cTn id="7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4104E-006 L -0.64948 -3.4104E-00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76880" y="7632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3400" y="36576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133720" y="376236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1960" y="41148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228760" y="4221000"/>
            <a:ext cx="752400" cy="2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127200" y="3581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8469360" y="3747960"/>
            <a:ext cx="293760" cy="223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420440" y="4419720"/>
            <a:ext cx="47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, using public key can encr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77600" y="5638680"/>
            <a:ext cx="468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crypting without th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s (thought)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5105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, using private key,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76880" y="7632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720" y="1676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191040" y="178128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39280" y="21337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286080" y="2239920"/>
            <a:ext cx="752400" cy="2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127200" y="3581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8469360" y="3747960"/>
            <a:ext cx="293760" cy="223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2957400" y="4838760"/>
            <a:ext cx="1260720" cy="32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37760" y="4762440"/>
            <a:ext cx="76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ould factor,                 then we could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ich you could use     to fi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609480" y="5253120"/>
            <a:ext cx="2462400" cy="276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6729480" y="5295960"/>
            <a:ext cx="168120" cy="18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7969320" y="5205240"/>
            <a:ext cx="185760" cy="281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2895480" y="5600880"/>
            <a:ext cx="2438640" cy="32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5680" y="590544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we just use the standard decry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>
            <a:off x="2573280" y="6286680"/>
            <a:ext cx="3827520" cy="342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968480" y="419112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ing can be used to break 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8120" y="914400"/>
            <a:ext cx="28954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1219320"/>
            <a:ext cx="106668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8160" y="76320"/>
            <a:ext cx="27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1219320"/>
            <a:ext cx="106704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5960" y="160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82720" y="1600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6600" y="99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505320" y="24382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5800" y="2971800"/>
            <a:ext cx="60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: Is one of the factors less than 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2200" y="1066680"/>
            <a:ext cx="15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419720"/>
            <a:ext cx="495288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419720"/>
            <a:ext cx="472428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5181480"/>
            <a:ext cx="10666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44840" y="5257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3120" y="5029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45280" y="5105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4648320"/>
            <a:ext cx="106704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86000" y="5029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4724280"/>
            <a:ext cx="106668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9560" y="510552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58128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6372360"/>
            <a:ext cx="84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P: efficiently verifiable that NO solution to problem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76600" y="7632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680" y="990720"/>
            <a:ext cx="7837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 in HW #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up HW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up the Take Home Final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to complete.  No collabo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credit problem based on next week’s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1371600"/>
            <a:ext cx="51814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206079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38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972394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3794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27007633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54853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06504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30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96716199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212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2213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1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93076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832200"/>
            <a:ext cx="335304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27721461074353025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7197304822463291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02097116459852171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07112563635903975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3832200"/>
            <a:ext cx="3352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0750864240649373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0055038649119906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425267084063851895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6388957261768583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49532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7360" y="542592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lassic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800" y="54259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’s quantum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330280" y="5869080"/>
            <a:ext cx="1703520" cy="314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19720" y="33386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3505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022400" cy="1533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4920" y="2895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3600" y="3048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627960" y="5886360"/>
            <a:ext cx="140004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key insights which Shor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520" y="2057400"/>
            <a:ext cx="86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’s problem work’s because the function has a symme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743200" y="2700360"/>
            <a:ext cx="3254400" cy="2714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6640" y="3200400"/>
            <a:ext cx="63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 the symmetry is a         symm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584600" y="3252960"/>
            <a:ext cx="444600" cy="404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7080" y="4038480"/>
            <a:ext cx="75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 became interested in different symmetries an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symmetri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763800" y="4495680"/>
            <a:ext cx="3810240" cy="363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606680" y="510552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ce where we do addition modulo 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33680" y="76320"/>
            <a:ext cx="409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eriod F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640" y="990720"/>
            <a:ext cx="78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from 0,1,…,N-1 to some n bi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3505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hidden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023920" y="1666800"/>
            <a:ext cx="4757760" cy="298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765440" y="2840040"/>
            <a:ext cx="3254400" cy="271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5153040" y="3645000"/>
            <a:ext cx="746280" cy="288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5807160" y="2835360"/>
            <a:ext cx="745920" cy="288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1336680" y="4187880"/>
            <a:ext cx="2432160" cy="28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V="1">
            <a:off x="1295280" y="4982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650700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44792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60020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76688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93356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31948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290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6688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81952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98620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15288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35268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3844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74796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94812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10040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26708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43376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63392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81968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0292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24340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9604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56272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72940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9292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11496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32448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47712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62940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79608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96276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16292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34868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5582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51814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609480" y="5029200"/>
            <a:ext cx="59076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7751880" y="6638760"/>
            <a:ext cx="172800" cy="142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V="1">
            <a:off x="2971800" y="50288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267080" y="50288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8480" y="4724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io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4435560" y="5045040"/>
            <a:ext cx="7459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key insights which Shor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67320" y="16002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iod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94320" y="2209680"/>
            <a:ext cx="782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eriod finding can be perform efficiently on a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3600" y="312408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eriod finding can be used to facto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7240" y="763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rder-Finding and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22920" y="1600200"/>
            <a:ext cx="69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rim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uclid’s algorithm for g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16440" y="2209680"/>
            <a:ext cx="53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finding: find small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564240" y="2319480"/>
            <a:ext cx="1970280" cy="217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32200" y="541008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en then compute                            as fac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684680" y="5470560"/>
            <a:ext cx="2173320" cy="3538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322280" y="3505320"/>
            <a:ext cx="2487600" cy="228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6232680" y="3471840"/>
            <a:ext cx="777600" cy="228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045760" y="33526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4670280" y="3429000"/>
            <a:ext cx="358920" cy="2779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045760" y="3886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4670280" y="3962520"/>
            <a:ext cx="358920" cy="2775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6242040" y="3913200"/>
            <a:ext cx="2216160" cy="368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261520" y="4524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2971800" y="4572000"/>
            <a:ext cx="1490760" cy="341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164960" y="2895480"/>
            <a:ext cx="64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rder finding to factor: suppose    is ev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9"/>
          <a:stretch/>
        </p:blipFill>
        <p:spPr>
          <a:xfrm>
            <a:off x="6186600" y="3073320"/>
            <a:ext cx="156960" cy="141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0"/>
          <a:stretch/>
        </p:blipFill>
        <p:spPr>
          <a:xfrm>
            <a:off x="4724280" y="4648320"/>
            <a:ext cx="358920" cy="2775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5076720" y="4572000"/>
            <a:ext cx="40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hare a comm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al to      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1"/>
          <a:stretch/>
        </p:blipFill>
        <p:spPr>
          <a:xfrm>
            <a:off x="6858000" y="5029200"/>
            <a:ext cx="358920" cy="2779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2"/>
          <a:stretch/>
        </p:blipFill>
        <p:spPr>
          <a:xfrm>
            <a:off x="8015400" y="5000760"/>
            <a:ext cx="820800" cy="3110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073880" y="6324480"/>
            <a:ext cx="70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ricky:    is even happens with hig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2822400" y="6502320"/>
            <a:ext cx="157320" cy="1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7400" y="76320"/>
            <a:ext cx="915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rder-Finding and Period-F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8360" y="1143000"/>
            <a:ext cx="41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finding: 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497560" y="1266840"/>
            <a:ext cx="1969920" cy="217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973680" y="1933560"/>
            <a:ext cx="2350800" cy="285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385280" y="182880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eri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2895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key insights which Shor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43640" y="35053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iod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70280" y="4114800"/>
            <a:ext cx="782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eriod finding can be perform efficiently on a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9560" y="502920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eriod finding can be used to facto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5029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066680" y="5029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1040" y="586728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period finding, we need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ier trans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643200" y="1123920"/>
            <a:ext cx="1295640" cy="271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07440" y="9907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f a single 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80" y="182880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equally well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2664000" cy="271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1162080" y="2913120"/>
            <a:ext cx="2624040" cy="271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07080" y="350532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can “inver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1235160" y="3960720"/>
            <a:ext cx="3017880" cy="5875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1247760" y="4670280"/>
            <a:ext cx="2967120" cy="587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84120" y="54100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” fam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059280" cy="789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2185920" cy="285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595600" y="2286000"/>
            <a:ext cx="6167520" cy="639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514960" y="19051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114800" y="3124080"/>
            <a:ext cx="2936880" cy="6397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57200" y="3352680"/>
            <a:ext cx="2664000" cy="271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76280" y="3827520"/>
            <a:ext cx="2624040" cy="271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80880" y="4359240"/>
            <a:ext cx="82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dmard is performing this transform (up to a con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AMPLITUDES of our wave fun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080" y="99072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n N different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572000" y="1114560"/>
            <a:ext cx="3156120" cy="2714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09240" y="1828800"/>
            <a:ext cx="83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e define the following N new numbers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2803680"/>
            <a:ext cx="3181320" cy="7776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09960" y="38098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down there egghea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2762280" y="4505400"/>
            <a:ext cx="2114640" cy="600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24000" y="457200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h root of 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34440" y="76320"/>
            <a:ext cx="48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th Root Of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1840" y="152388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modu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865160" y="838080"/>
            <a:ext cx="5450040" cy="6001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41240" y="1992240"/>
            <a:ext cx="7716960" cy="5986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447920" y="2819520"/>
            <a:ext cx="1801800" cy="271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28600" y="32767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h root of 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644400" y="3657600"/>
            <a:ext cx="6365880" cy="6699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686040" y="501480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4876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834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5240" y="5638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20440" y="44956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495680" y="556236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495680" y="533412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88584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5410080" y="5473800"/>
            <a:ext cx="457200" cy="222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5181480" y="495000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7"/>
          <a:stretch/>
        </p:blipFill>
        <p:spPr>
          <a:xfrm>
            <a:off x="5943600" y="6095880"/>
            <a:ext cx="317520" cy="5288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 flipH="1" flipV="1">
            <a:off x="4952880" y="57146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2895480" y="5029200"/>
            <a:ext cx="777960" cy="3412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593640" y="4646520"/>
            <a:ext cx="2378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344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91944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3400" y="2133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50800" y="2133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: Deutsch-Jozsa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752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209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2666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781680" y="180828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08680" y="2819520"/>
            <a:ext cx="125640" cy="19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96680" y="396252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04720" y="411480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105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447920" y="411480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5105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800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85000" y="5867280"/>
            <a:ext cx="12528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6810480" y="4919760"/>
            <a:ext cx="318960" cy="23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7939080" y="2340000"/>
            <a:ext cx="622440" cy="27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8010360" y="5389560"/>
            <a:ext cx="671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134440" y="76320"/>
            <a:ext cx="48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th Root Of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65160" y="838080"/>
            <a:ext cx="5450040" cy="600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82680" y="1600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670120" y="2895480"/>
            <a:ext cx="5178600" cy="3286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074600" y="2131920"/>
            <a:ext cx="5040360" cy="7905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647800" y="3429000"/>
            <a:ext cx="1924200" cy="3110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1495440" y="3962520"/>
            <a:ext cx="2390760" cy="3412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4724280" y="3886200"/>
            <a:ext cx="1501920" cy="6555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782040" y="39625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7"/>
          <a:stretch/>
        </p:blipFill>
        <p:spPr>
          <a:xfrm>
            <a:off x="7391520" y="4086360"/>
            <a:ext cx="709560" cy="260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8"/>
          <a:stretch/>
        </p:blipFill>
        <p:spPr>
          <a:xfrm>
            <a:off x="4780080" y="4724280"/>
            <a:ext cx="858600" cy="2174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782040" y="4572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7358040" y="4676760"/>
            <a:ext cx="828720" cy="2221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304920" y="5105520"/>
            <a:ext cx="5657760" cy="846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224640" y="61722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           and th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1"/>
          <a:stretch/>
        </p:blipFill>
        <p:spPr>
          <a:xfrm>
            <a:off x="1366920" y="6286680"/>
            <a:ext cx="795240" cy="2854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3733920" y="5991120"/>
            <a:ext cx="2020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134440" y="76320"/>
            <a:ext cx="48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th Root Of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865160" y="838080"/>
            <a:ext cx="5450040" cy="600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81600" y="1600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all su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2637000" cy="7905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 flipV="1">
            <a:off x="1860480" y="5316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94000" y="46303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41160" y="409716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1520" y="531648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60480" y="409716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174320" y="4097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1520" y="4629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73960" y="5850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2241720" y="5697360"/>
            <a:ext cx="411120" cy="250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2544840" y="4753080"/>
            <a:ext cx="411120" cy="4665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5"/>
          <a:stretch/>
        </p:blipFill>
        <p:spPr>
          <a:xfrm>
            <a:off x="2228760" y="3952800"/>
            <a:ext cx="433440" cy="468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1274760" y="3505320"/>
            <a:ext cx="433440" cy="4683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423720" y="3798720"/>
            <a:ext cx="411480" cy="466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76320" y="4638600"/>
            <a:ext cx="411120" cy="4669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93760" y="5553000"/>
            <a:ext cx="433440" cy="468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5046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35812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1904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42670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8762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49528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5620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56386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2478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63244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9336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70102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76194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76960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3052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83818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429000" y="42670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429000" y="3505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0384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20240" y="3429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7012080" y="31366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325920" y="3182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8880" y="3148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23760" y="38210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8"/>
          <a:stretch/>
        </p:blipFill>
        <p:spPr>
          <a:xfrm>
            <a:off x="7113600" y="330192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9"/>
          <a:stretch/>
        </p:blipFill>
        <p:spPr>
          <a:xfrm>
            <a:off x="5813280" y="2666880"/>
            <a:ext cx="1836720" cy="409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0"/>
          <a:stretch/>
        </p:blipFill>
        <p:spPr>
          <a:xfrm>
            <a:off x="1338120" y="5938920"/>
            <a:ext cx="411480" cy="4665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1"/>
          <a:stretch/>
        </p:blipFill>
        <p:spPr>
          <a:xfrm>
            <a:off x="4419720" y="3300480"/>
            <a:ext cx="1838160" cy="411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2"/>
          <a:stretch/>
        </p:blipFill>
        <p:spPr>
          <a:xfrm>
            <a:off x="5818320" y="3984480"/>
            <a:ext cx="185400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7080" y="99072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n N different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572000" y="1114560"/>
            <a:ext cx="3156120" cy="2714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09240" y="1828800"/>
            <a:ext cx="83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e define the following N new numbers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2990880" y="2666880"/>
            <a:ext cx="3181320" cy="7779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04920" y="45561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an see how to go from the hats back to the non ha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2940120" y="3733920"/>
            <a:ext cx="3155760" cy="3110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948040" y="5153040"/>
            <a:ext cx="33764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429160" y="2057400"/>
            <a:ext cx="3181320" cy="7779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357120" y="2057400"/>
            <a:ext cx="3376800" cy="7779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304920" y="4076640"/>
            <a:ext cx="8708760" cy="8114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6576840" y="5369040"/>
            <a:ext cx="1805040" cy="3283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5400000">
            <a:off x="7124400" y="4228920"/>
            <a:ext cx="609480" cy="1752840"/>
          </a:xfrm>
          <a:custGeom>
            <a:avLst/>
            <a:gdLst>
              <a:gd name="textAreaLeft" fmla="*/ 0 w 609480"/>
              <a:gd name="textAreaRight" fmla="*/ 219960 w 6094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838080" y="5445000"/>
            <a:ext cx="3129120" cy="803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26440" y="35053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rks!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380880" y="1066680"/>
            <a:ext cx="3156120" cy="2714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5410080" y="1066680"/>
            <a:ext cx="315612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148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752480" y="1201680"/>
            <a:ext cx="846360" cy="203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715000" y="1143000"/>
            <a:ext cx="3181320" cy="777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2359080" y="4500720"/>
            <a:ext cx="4248000" cy="626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528480" y="2052720"/>
            <a:ext cx="5888160" cy="639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536400" y="2813040"/>
            <a:ext cx="5888160" cy="639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536400" y="3579840"/>
            <a:ext cx="5888160" cy="639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"/>
          <a:stretch/>
        </p:blipFill>
        <p:spPr>
          <a:xfrm>
            <a:off x="2286000" y="5257800"/>
            <a:ext cx="4935600" cy="6271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286000" y="6012000"/>
            <a:ext cx="493560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248360" cy="6271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365200" y="1976400"/>
            <a:ext cx="4935600" cy="6271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365200" y="2730600"/>
            <a:ext cx="4935600" cy="627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685800" y="4038480"/>
            <a:ext cx="3662280" cy="2714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685800" y="5029200"/>
            <a:ext cx="7913520" cy="6397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3148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6360" y="44956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transformed coeffic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920" y="76320"/>
            <a:ext cx="83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ity &amp; 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059280" cy="789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2185920" cy="2858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2595600" y="2286000"/>
            <a:ext cx="6167520" cy="6397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14960" y="19051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4114800" y="3124080"/>
            <a:ext cx="2936880" cy="639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1693800" y="4191120"/>
            <a:ext cx="1201680" cy="2714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1697040" y="4648320"/>
            <a:ext cx="1187280" cy="2714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4443480" y="3886200"/>
            <a:ext cx="1805040" cy="639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tretch/>
        </p:blipFill>
        <p:spPr>
          <a:xfrm>
            <a:off x="4475160" y="4572000"/>
            <a:ext cx="1747800" cy="63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"/>
          <a:stretch/>
        </p:blipFill>
        <p:spPr>
          <a:xfrm>
            <a:off x="1073160" y="5638680"/>
            <a:ext cx="2279520" cy="2984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0"/>
          <a:stretch/>
        </p:blipFill>
        <p:spPr>
          <a:xfrm>
            <a:off x="5111640" y="5638680"/>
            <a:ext cx="2279880" cy="3286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1"/>
          <a:stretch/>
        </p:blipFill>
        <p:spPr>
          <a:xfrm>
            <a:off x="3587760" y="5638680"/>
            <a:ext cx="1241280" cy="358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13800" y="6248520"/>
            <a:ext cx="77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mplitudes are Fourier transform of old amplitud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583000" y="1617840"/>
            <a:ext cx="4046400" cy="8204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05640" y="106668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um Fourier trans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9360" y="27432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t in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1371600" y="3581280"/>
            <a:ext cx="4741920" cy="820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6130800" y="2819520"/>
            <a:ext cx="1641600" cy="2984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1360440" y="4495680"/>
            <a:ext cx="6564240" cy="8334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083040" y="2583000"/>
            <a:ext cx="224136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46760" cy="8204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53360" y="106668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um Fourier trans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0040" y="25909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it unit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4767120" y="1673280"/>
            <a:ext cx="4224600" cy="8208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8188200" cy="8604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1371600" y="3962520"/>
            <a:ext cx="4730760" cy="8460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1314360" y="4876920"/>
            <a:ext cx="4552920" cy="846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1371600" y="5788080"/>
            <a:ext cx="4610160" cy="8460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781680" y="5867280"/>
            <a:ext cx="20653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280" y="10666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bout that inverse Q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24600" cy="820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3075120" y="2567160"/>
            <a:ext cx="2241360" cy="777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1355760" y="3575160"/>
            <a:ext cx="4741920" cy="820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1262160" y="4498920"/>
            <a:ext cx="6754680" cy="8352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5257800" y="5410080"/>
            <a:ext cx="3376440" cy="7779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94560" y="632448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erforms the inverse Fourier transform on the amplitud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8344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8160" y="214488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92556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4276800" cy="3973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6933600" y="925560"/>
            <a:ext cx="228600" cy="3276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296120" y="2441520"/>
            <a:ext cx="266760" cy="219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49440" y="5105520"/>
            <a:ext cx="42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-Jozsa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se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830600" y="76320"/>
            <a:ext cx="549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443320" y="152280"/>
            <a:ext cx="426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Period Findin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18240" y="271944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718240" y="30243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15000" y="1873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13560" y="203364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13560" y="2330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562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95880" y="1800360"/>
            <a:ext cx="762120" cy="137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323040" y="239076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560920" y="17971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236720" y="17971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5486400" y="3316320"/>
            <a:ext cx="2136600" cy="2649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5565600" y="249084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273800" y="249084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5229360" y="1962000"/>
            <a:ext cx="307800" cy="2811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5224320" y="2633760"/>
            <a:ext cx="308160" cy="2808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>
            <a:off x="7464600" y="1952640"/>
            <a:ext cx="307800" cy="2808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>
            <a:off x="7462800" y="2619360"/>
            <a:ext cx="1285920" cy="295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685800" y="1173240"/>
            <a:ext cx="1501920" cy="317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838080" y="1554120"/>
            <a:ext cx="9907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8"/>
          <a:stretch/>
        </p:blipFill>
        <p:spPr>
          <a:xfrm>
            <a:off x="2590920" y="1165320"/>
            <a:ext cx="1644480" cy="3506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819520" y="1554120"/>
            <a:ext cx="99036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9"/>
          <a:stretch/>
        </p:blipFill>
        <p:spPr>
          <a:xfrm>
            <a:off x="2133720" y="1859040"/>
            <a:ext cx="357120" cy="5634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 flipV="1">
            <a:off x="1371600" y="1935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371600" y="223992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371600" y="22399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17827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0"/>
          <a:stretch/>
        </p:blipFill>
        <p:spPr>
          <a:xfrm>
            <a:off x="685800" y="3154320"/>
            <a:ext cx="3208320" cy="420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794200" y="990720"/>
            <a:ext cx="136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1"/>
          <a:stretch/>
        </p:blipFill>
        <p:spPr>
          <a:xfrm>
            <a:off x="2432160" y="3833640"/>
            <a:ext cx="82440" cy="2383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10200" y="3733920"/>
            <a:ext cx="34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find   in as f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ries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2440" y="4648320"/>
            <a:ext cx="36187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 Find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031000" y="3733920"/>
            <a:ext cx="358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in as few uses of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um oracle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67280" y="2100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867280" y="2786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72200" y="2786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58160" y="20858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61760" y="4648320"/>
            <a:ext cx="28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 symmetric problem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010280" y="228600"/>
            <a:ext cx="1905120" cy="442800"/>
            <a:chOff x="7010280" y="228600"/>
            <a:chExt cx="1905120" cy="442800"/>
          </a:xfrm>
        </p:grpSpPr>
        <p:sp>
          <p:nvSpPr>
            <p:cNvPr id="629" name=""/>
            <p:cNvSpPr/>
            <p:nvPr/>
          </p:nvSpPr>
          <p:spPr>
            <a:xfrm flipV="1">
              <a:off x="7010280" y="22860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10280" y="6714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705456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884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4708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19568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25400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30800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3688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40880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45344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50168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755028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6082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66224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2308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78140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82568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87428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92252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9808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803484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809568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5796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20224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25084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29944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35740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841140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4722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851652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856080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60940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865800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871596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876996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883116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97360" y="286200"/>
              <a:ext cx="376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497360" y="24192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874280" y="24192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04920" y="304920"/>
            <a:ext cx="1904760" cy="442800"/>
            <a:chOff x="304920" y="304920"/>
            <a:chExt cx="1904760" cy="442800"/>
          </a:xfrm>
        </p:grpSpPr>
        <p:sp>
          <p:nvSpPr>
            <p:cNvPr id="670" name=""/>
            <p:cNvSpPr/>
            <p:nvPr/>
          </p:nvSpPr>
          <p:spPr>
            <a:xfrm flipV="1">
              <a:off x="304920" y="30492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920" y="7477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4920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39348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4172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9032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4864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0264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6348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70344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4772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9632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84456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90288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95688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0177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107604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12032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16856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21716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2751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132912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3903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45224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49688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154512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59372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65168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170568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17665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81116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185544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90368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95228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201024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06424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212544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2000" y="362520"/>
              <a:ext cx="376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92000" y="31824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1168560" y="31824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24240" y="0"/>
            <a:ext cx="4008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Fouri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o the Rescu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4145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51128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511280" y="4572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508040" y="342108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06600" y="3581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06600" y="3878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08040" y="4110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89280" y="3348000"/>
            <a:ext cx="761760" cy="137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2116080" y="39387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353960" y="334476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59000" y="40384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1143000" cy="57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974880" y="4181400"/>
            <a:ext cx="322200" cy="2811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200400" y="3343320"/>
            <a:ext cx="762120" cy="61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3230640" y="4221000"/>
            <a:ext cx="731880" cy="2509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H="1">
            <a:off x="3047400" y="40291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6"/>
          <a:stretch/>
        </p:blipFill>
        <p:spPr>
          <a:xfrm>
            <a:off x="4568760" y="3276720"/>
            <a:ext cx="4575240" cy="7650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67652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67652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954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89548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670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7"/>
          <a:stretch/>
        </p:blipFill>
        <p:spPr>
          <a:xfrm>
            <a:off x="1308240" y="2362320"/>
            <a:ext cx="3492360" cy="76824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8"/>
          <a:stretch/>
        </p:blipFill>
        <p:spPr>
          <a:xfrm>
            <a:off x="4419720" y="4191120"/>
            <a:ext cx="3284280" cy="7207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 flipV="1">
            <a:off x="1763640" y="5028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63640" y="617220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0040" y="5410080"/>
            <a:ext cx="145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9"/>
          <a:stretch/>
        </p:blipFill>
        <p:spPr>
          <a:xfrm>
            <a:off x="8381880" y="6095880"/>
            <a:ext cx="217440" cy="2523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 flipV="1">
            <a:off x="2730600" y="53802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645000" y="5365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559400" y="53802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483160" y="53625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97560" y="53478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311960" y="53625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816200" y="53625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0"/>
          <a:stretch/>
        </p:blipFill>
        <p:spPr>
          <a:xfrm>
            <a:off x="1706400" y="6203880"/>
            <a:ext cx="198720" cy="2732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11"/>
          <a:stretch/>
        </p:blipFill>
        <p:spPr>
          <a:xfrm>
            <a:off x="2590920" y="6248520"/>
            <a:ext cx="317520" cy="4348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12"/>
          <a:stretch/>
        </p:blipFill>
        <p:spPr>
          <a:xfrm>
            <a:off x="3408480" y="6246720"/>
            <a:ext cx="498240" cy="4366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4294080" y="6246720"/>
            <a:ext cx="498600" cy="4366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14"/>
          <a:stretch/>
        </p:blipFill>
        <p:spPr>
          <a:xfrm>
            <a:off x="5181480" y="6248520"/>
            <a:ext cx="498600" cy="4363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6705720" y="64771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5"/>
          <a:stretch/>
        </p:blipFill>
        <p:spPr>
          <a:xfrm>
            <a:off x="6087960" y="6267600"/>
            <a:ext cx="498600" cy="43632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2819520" y="32004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6"/>
          <a:stretch/>
        </p:blipFill>
        <p:spPr>
          <a:xfrm>
            <a:off x="611280" y="1581120"/>
            <a:ext cx="4098960" cy="69840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17"/>
          <a:stretch/>
        </p:blipFill>
        <p:spPr>
          <a:xfrm>
            <a:off x="3290760" y="3546360"/>
            <a:ext cx="56988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22172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4920" y="11430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actor N on a quantum comp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11320" y="1752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rim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3211560" y="3048120"/>
            <a:ext cx="2351160" cy="28548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067760" y="251460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quantum computer to find the peri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66320" y="3597120"/>
            <a:ext cx="66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rd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pute possible factors of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y work.  If not re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3640" y="4648320"/>
            <a:ext cx="60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?  How many quantum g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911320" y="76320"/>
            <a:ext cx="329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FT over 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135000" y="1219320"/>
            <a:ext cx="8856720" cy="19414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2514600" cy="6494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5334120" y="3670200"/>
            <a:ext cx="2411280" cy="5320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303560" y="4572000"/>
            <a:ext cx="63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rcuit requires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“elementary” g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041120" y="563868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FTs for all other Ns can similarly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24240" y="0"/>
            <a:ext cx="4008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Fouri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o the Rescu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4145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51128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511280" y="4572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508040" y="342108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506600" y="3581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06600" y="3878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08040" y="4110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889280" y="3348000"/>
            <a:ext cx="761760" cy="137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2116080" y="39387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353960" y="334476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59000" y="40384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1143000" cy="5749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974880" y="4181400"/>
            <a:ext cx="322200" cy="28116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3200400" y="3343320"/>
            <a:ext cx="762120" cy="61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5"/>
          <a:stretch/>
        </p:blipFill>
        <p:spPr>
          <a:xfrm>
            <a:off x="3230640" y="4221000"/>
            <a:ext cx="731880" cy="2509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 flipH="1">
            <a:off x="3047400" y="40291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6"/>
          <a:stretch/>
        </p:blipFill>
        <p:spPr>
          <a:xfrm>
            <a:off x="4568760" y="3276720"/>
            <a:ext cx="4575240" cy="7650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67652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7652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9548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2670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1308240" y="2362320"/>
            <a:ext cx="3492360" cy="7682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8"/>
          <a:stretch/>
        </p:blipFill>
        <p:spPr>
          <a:xfrm>
            <a:off x="4419720" y="4191120"/>
            <a:ext cx="3284280" cy="7207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819520" y="32004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9"/>
          <a:stretch/>
        </p:blipFill>
        <p:spPr>
          <a:xfrm>
            <a:off x="611280" y="1581120"/>
            <a:ext cx="4098960" cy="6984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3290760" y="3546360"/>
            <a:ext cx="569880" cy="2365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11"/>
          <a:stretch/>
        </p:blipFill>
        <p:spPr>
          <a:xfrm>
            <a:off x="1219320" y="4800600"/>
            <a:ext cx="2350800" cy="2858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769680" y="548640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“elementary”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295280" y="51055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39160" y="60199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expon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2172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4920" y="11430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actor N on a quantum comp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111320" y="1752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rim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211560" y="3048120"/>
            <a:ext cx="2351160" cy="28548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067760" y="251460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quantum computer to find the peri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6320" y="3597120"/>
            <a:ext cx="66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rd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pute possible factors of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y work.  If not re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7600" y="464832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: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133720" y="1371600"/>
            <a:ext cx="51814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206079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38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972394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3794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27007633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54853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06504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30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96716199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212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2213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1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93076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3832200"/>
            <a:ext cx="335304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27721461074353025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7197304822463291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02097116459852171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07112563635903975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3832200"/>
            <a:ext cx="3352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0750864240649373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0055038649119906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425267084063851895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6388957261768583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9568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449532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47360" y="542592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lassic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032800" y="54259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’s quantum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2330280" y="5869080"/>
            <a:ext cx="1703520" cy="3142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4419720" y="33386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19720" y="3505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022400" cy="15336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04920" y="2895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993600" y="3048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6627960" y="5886360"/>
            <a:ext cx="140004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2080800" y="76320"/>
            <a:ext cx="507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Grover’s Proble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678120" y="2241720"/>
            <a:ext cx="144720" cy="257040"/>
          </a:xfrm>
          <a:custGeom>
            <a:avLst/>
            <a:gdLst>
              <a:gd name="textAreaLeft" fmla="*/ 92520 w 144720"/>
              <a:gd name="textAreaRight" fmla="*/ 145080 w 144720"/>
              <a:gd name="textAreaTop" fmla="*/ 6480 h 257040"/>
              <a:gd name="textAreaBottom" fmla="*/ 250560 h 2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353920" y="2243160"/>
            <a:ext cx="74520" cy="331920"/>
          </a:xfrm>
          <a:custGeom>
            <a:avLst/>
            <a:gdLst>
              <a:gd name="textAreaLeft" fmla="*/ 47160 w 74520"/>
              <a:gd name="textAreaRight" fmla="*/ 74520 w 74520"/>
              <a:gd name="textAreaTop" fmla="*/ 8640 h 331920"/>
              <a:gd name="textAreaBottom" fmla="*/ 323280 h 3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2428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822840" y="18288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2284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824280" y="23652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205160" y="1603440"/>
            <a:ext cx="762120" cy="89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432320" y="196524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70200" y="16002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346000" y="16002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3173400" y="175248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3173400" y="227016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4"/>
          <a:stretch/>
        </p:blipFill>
        <p:spPr>
          <a:xfrm>
            <a:off x="5611680" y="175248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5"/>
          <a:stretch/>
        </p:blipFill>
        <p:spPr>
          <a:xfrm>
            <a:off x="5575320" y="2243160"/>
            <a:ext cx="1359000" cy="3319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7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58760" y="2209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09600" y="89064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a 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06720" y="26668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6"/>
          <a:stretch/>
        </p:blipFill>
        <p:spPr>
          <a:xfrm>
            <a:off x="1447920" y="3657600"/>
            <a:ext cx="2608200" cy="2998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7"/>
          <a:stretch/>
        </p:blipFill>
        <p:spPr>
          <a:xfrm>
            <a:off x="1447920" y="3200400"/>
            <a:ext cx="1430280" cy="2998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03840" y="419112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        with as few queries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8"/>
          <a:stretch/>
        </p:blipFill>
        <p:spPr>
          <a:xfrm>
            <a:off x="2495520" y="4343400"/>
            <a:ext cx="390600" cy="2602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9"/>
          <a:stretch/>
        </p:blipFill>
        <p:spPr>
          <a:xfrm>
            <a:off x="3124080" y="4724280"/>
            <a:ext cx="28958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833480" y="76320"/>
            <a:ext cx="5499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Grover’s Algorith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78120" y="2317680"/>
            <a:ext cx="144720" cy="257400"/>
          </a:xfrm>
          <a:custGeom>
            <a:avLst/>
            <a:gdLst>
              <a:gd name="textAreaLeft" fmla="*/ 92520 w 144720"/>
              <a:gd name="textAreaRight" fmla="*/ 145080 w 144720"/>
              <a:gd name="textAreaTop" fmla="*/ 6480 h 257400"/>
              <a:gd name="textAreaBottom" fmla="*/ 250920 h 2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5353920" y="2319480"/>
            <a:ext cx="74520" cy="331560"/>
          </a:xfrm>
          <a:custGeom>
            <a:avLst/>
            <a:gdLst>
              <a:gd name="textAreaLeft" fmla="*/ 47160 w 74520"/>
              <a:gd name="textAreaRight" fmla="*/ 74520 w 74520"/>
              <a:gd name="textAreaTop" fmla="*/ 8640 h 331560"/>
              <a:gd name="textAreaBottom" fmla="*/ 322920 h 33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24280" y="1752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2284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22840" y="2209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24280" y="2441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05160" y="1679400"/>
            <a:ext cx="762120" cy="8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4432320" y="20415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3670200" y="16765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5346000" y="16765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3173400" y="1828800"/>
            <a:ext cx="392040" cy="37476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1907640" y="175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2920" y="990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black box in a particula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2209680" y="2286000"/>
            <a:ext cx="1284480" cy="46368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4"/>
          <a:stretch/>
        </p:blipFill>
        <p:spPr>
          <a:xfrm>
            <a:off x="5562720" y="2286000"/>
            <a:ext cx="1284120" cy="46368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5"/>
          <a:stretch/>
        </p:blipFill>
        <p:spPr>
          <a:xfrm>
            <a:off x="5562720" y="1752480"/>
            <a:ext cx="1523880" cy="3826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254400" cy="8650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306360" y="29718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 ora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0080" y="480060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Grover oracle to find                   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7"/>
          <a:stretch/>
        </p:blipFill>
        <p:spPr>
          <a:xfrm>
            <a:off x="5037120" y="4890960"/>
            <a:ext cx="143028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29440" y="7632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1676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90680" y="8380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: 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1371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88320" y="1400040"/>
            <a:ext cx="1103400" cy="371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3800" y="190512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962840" y="2014560"/>
            <a:ext cx="671400" cy="285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75880" y="243828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exponential s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0560" y="312408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419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172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363760" y="3968640"/>
            <a:ext cx="3198960" cy="298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200400" y="5410080"/>
            <a:ext cx="4925880" cy="27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862520" y="6310440"/>
            <a:ext cx="790560" cy="2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417680" y="497376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986840" y="76320"/>
            <a:ext cx="5208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2529000" y="1371600"/>
            <a:ext cx="4100400" cy="23274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840600" y="2286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33720" y="144792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3254400" cy="86544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4643280" y="4267080"/>
            <a:ext cx="34340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986840" y="76320"/>
            <a:ext cx="5208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2529000" y="990720"/>
            <a:ext cx="4100400" cy="232704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840600" y="1905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33720" y="1066680"/>
            <a:ext cx="228600" cy="2210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1486080" y="3429000"/>
            <a:ext cx="5448240" cy="86508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3"/>
          <a:stretch/>
        </p:blipFill>
        <p:spPr>
          <a:xfrm>
            <a:off x="930240" y="4572000"/>
            <a:ext cx="6689880" cy="3589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4"/>
          <a:stretch/>
        </p:blipFill>
        <p:spPr>
          <a:xfrm>
            <a:off x="5486400" y="5105520"/>
            <a:ext cx="2627280" cy="87768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5"/>
          <a:stretch/>
        </p:blipFill>
        <p:spPr>
          <a:xfrm>
            <a:off x="2770200" y="6110280"/>
            <a:ext cx="2806560" cy="32688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58640" y="60199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’s 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149840" y="76320"/>
            <a:ext cx="6796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 in 2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571680" y="1270080"/>
            <a:ext cx="4076640" cy="93960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57280" y="2870280"/>
            <a:ext cx="4091040" cy="78732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3"/>
          <a:stretch/>
        </p:blipFill>
        <p:spPr>
          <a:xfrm>
            <a:off x="5265720" y="1495440"/>
            <a:ext cx="525600" cy="33336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800" y="9144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thonormal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9200" y="2438280"/>
            <a:ext cx="69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the equal superposition in terms 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35080" y="3809880"/>
            <a:ext cx="86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ver iterate will preserve this two dimensional sub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4"/>
          <a:stretch/>
        </p:blipFill>
        <p:spPr>
          <a:xfrm>
            <a:off x="762120" y="4343400"/>
            <a:ext cx="3254400" cy="86508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5"/>
          <a:stretch/>
        </p:blipFill>
        <p:spPr>
          <a:xfrm>
            <a:off x="4876920" y="4343400"/>
            <a:ext cx="1490400" cy="31104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6"/>
          <a:stretch/>
        </p:blipFill>
        <p:spPr>
          <a:xfrm>
            <a:off x="4648320" y="4797360"/>
            <a:ext cx="2014560" cy="3110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7"/>
          <a:stretch/>
        </p:blipFill>
        <p:spPr>
          <a:xfrm>
            <a:off x="127080" y="5421240"/>
            <a:ext cx="8877240" cy="75096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8"/>
          <a:stretch/>
        </p:blipFill>
        <p:spPr>
          <a:xfrm>
            <a:off x="6858000" y="83808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149840" y="76320"/>
            <a:ext cx="6796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 in 2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877240" cy="75096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714240" y="1359000"/>
            <a:ext cx="2028960" cy="77472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7899480" cy="98568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791320" y="4191120"/>
            <a:ext cx="2297160" cy="69840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-720" y="83808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d over the two dimensional sub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609480" y="5105520"/>
            <a:ext cx="4880160" cy="77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230400" y="601992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’s iterate is just a rotation in this 2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528840" y="76320"/>
            <a:ext cx="7997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Repeatedly Bang Your Hea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2200" y="990720"/>
            <a:ext cx="58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application of the Grover 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3757680" cy="149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941400" y="3581280"/>
            <a:ext cx="6450120" cy="7876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380880" y="4572000"/>
            <a:ext cx="816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’s algorith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rt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peatedly apply Grover’s iterate to rotate to 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3048120" y="4724280"/>
            <a:ext cx="2627280" cy="8780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4"/>
          <a:stretch/>
        </p:blipFill>
        <p:spPr>
          <a:xfrm>
            <a:off x="8458200" y="5718240"/>
            <a:ext cx="4748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528840" y="76320"/>
            <a:ext cx="7997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Repeatedly Bang Your Hea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941400" y="1219320"/>
            <a:ext cx="6450120" cy="78732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309240" y="335268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mplitude in “bad” part of Hilber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4091040" cy="787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 flipH="1" flipV="1">
            <a:off x="281916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297160" cy="69840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3507480" y="40384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5002200" y="3900600"/>
            <a:ext cx="2846520" cy="744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061360" y="5029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5"/>
          <a:stretch/>
        </p:blipFill>
        <p:spPr>
          <a:xfrm>
            <a:off x="838080" y="5025960"/>
            <a:ext cx="1000080" cy="5652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6"/>
          <a:stretch/>
        </p:blipFill>
        <p:spPr>
          <a:xfrm>
            <a:off x="3352680" y="4876920"/>
            <a:ext cx="2178000" cy="7747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7"/>
          <a:stretch/>
        </p:blipFill>
        <p:spPr>
          <a:xfrm>
            <a:off x="6019920" y="5029200"/>
            <a:ext cx="1433520" cy="56520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458280" y="5791320"/>
            <a:ext cx="819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the repeated iterate to initial state rotates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all amplitud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3581280" y="6172200"/>
            <a:ext cx="5256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885680" y="0"/>
            <a:ext cx="5272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Gover’s Algorith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4680" y="990720"/>
            <a:ext cx="82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identified marked item using only               quer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6350040" y="1052640"/>
            <a:ext cx="1117440" cy="3729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photo"/>
          <p:cNvPicPr/>
          <p:nvPr/>
        </p:nvPicPr>
        <p:blipFill>
          <a:blip r:embed="rId2"/>
          <a:stretch/>
        </p:blipFill>
        <p:spPr>
          <a:xfrm>
            <a:off x="5335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photo"/>
          <p:cNvPicPr/>
          <p:nvPr/>
        </p:nvPicPr>
        <p:blipFill>
          <a:blip r:embed="rId3"/>
          <a:stretch/>
        </p:blipFill>
        <p:spPr>
          <a:xfrm>
            <a:off x="23623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photo"/>
          <p:cNvPicPr/>
          <p:nvPr/>
        </p:nvPicPr>
        <p:blipFill>
          <a:blip r:embed="rId4"/>
          <a:stretch/>
        </p:blipFill>
        <p:spPr>
          <a:xfrm>
            <a:off x="4038480" y="1676520"/>
            <a:ext cx="1243080" cy="15048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photo"/>
          <p:cNvPicPr/>
          <p:nvPr/>
        </p:nvPicPr>
        <p:blipFill>
          <a:blip r:embed="rId5"/>
          <a:stretch/>
        </p:blipFill>
        <p:spPr>
          <a:xfrm>
            <a:off x="57913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photo"/>
          <p:cNvPicPr/>
          <p:nvPr/>
        </p:nvPicPr>
        <p:blipFill>
          <a:blip r:embed="rId6"/>
          <a:stretch/>
        </p:blipFill>
        <p:spPr>
          <a:xfrm>
            <a:off x="73915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photo"/>
          <p:cNvPicPr/>
          <p:nvPr/>
        </p:nvPicPr>
        <p:blipFill>
          <a:blip r:embed="rId7"/>
          <a:stretch/>
        </p:blipFill>
        <p:spPr>
          <a:xfrm>
            <a:off x="5335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photo"/>
          <p:cNvPicPr/>
          <p:nvPr/>
        </p:nvPicPr>
        <p:blipFill>
          <a:blip r:embed="rId8"/>
          <a:stretch/>
        </p:blipFill>
        <p:spPr>
          <a:xfrm>
            <a:off x="23623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photo"/>
          <p:cNvPicPr/>
          <p:nvPr/>
        </p:nvPicPr>
        <p:blipFill>
          <a:blip r:embed="rId9"/>
          <a:stretch/>
        </p:blipFill>
        <p:spPr>
          <a:xfrm>
            <a:off x="4038480" y="3371760"/>
            <a:ext cx="1243080" cy="150516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photo"/>
          <p:cNvPicPr/>
          <p:nvPr/>
        </p:nvPicPr>
        <p:blipFill>
          <a:blip r:embed="rId10"/>
          <a:stretch/>
        </p:blipFill>
        <p:spPr>
          <a:xfrm>
            <a:off x="57913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photo"/>
          <p:cNvPicPr/>
          <p:nvPr/>
        </p:nvPicPr>
        <p:blipFill>
          <a:blip r:embed="rId11"/>
          <a:stretch/>
        </p:blipFill>
        <p:spPr>
          <a:xfrm>
            <a:off x="73915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photo"/>
          <p:cNvPicPr/>
          <p:nvPr/>
        </p:nvPicPr>
        <p:blipFill>
          <a:blip r:embed="rId12"/>
          <a:stretch/>
        </p:blipFill>
        <p:spPr>
          <a:xfrm>
            <a:off x="5097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photo"/>
          <p:cNvPicPr/>
          <p:nvPr/>
        </p:nvPicPr>
        <p:blipFill>
          <a:blip r:embed="rId13"/>
          <a:stretch/>
        </p:blipFill>
        <p:spPr>
          <a:xfrm>
            <a:off x="23385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photo"/>
          <p:cNvPicPr/>
          <p:nvPr/>
        </p:nvPicPr>
        <p:blipFill>
          <a:blip r:embed="rId14"/>
          <a:stretch/>
        </p:blipFill>
        <p:spPr>
          <a:xfrm>
            <a:off x="57675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photo"/>
          <p:cNvPicPr/>
          <p:nvPr/>
        </p:nvPicPr>
        <p:blipFill>
          <a:blip r:embed="rId15"/>
          <a:stretch/>
        </p:blipFill>
        <p:spPr>
          <a:xfrm>
            <a:off x="73677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6"/>
          <a:stretch/>
        </p:blipFill>
        <p:spPr>
          <a:xfrm>
            <a:off x="4191120" y="5105520"/>
            <a:ext cx="880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464040" y="76320"/>
            <a:ext cx="8160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Complexity Theor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5280" y="106668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P (Bounded-error Probabilistic Polynomial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bability less than some fixed constant &lt; 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0492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P (Bounded-error Quantum Polynomial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bability less than some fixed constant &lt; 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114800" y="4191120"/>
            <a:ext cx="10666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344840" y="4267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09880" y="38862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237920" y="4952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438280" y="2971800"/>
            <a:ext cx="4191120" cy="198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45920" y="3124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505320" y="3505320"/>
            <a:ext cx="2286000" cy="2895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268880" y="5867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0880" y="2895480"/>
            <a:ext cx="8153640" cy="3810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1228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1551960" y="44280"/>
            <a:ext cx="5987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4800" y="91440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can quantum computers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1280" y="1447920"/>
            <a:ext cx="929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, discrete log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Shor 9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ructured search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Grover 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hidden subgroup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Long Lis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l’s equation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Hallgren 0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shift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van Dam, Hallgren, Ip 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raversal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CCDFGS 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search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AA 03, CG 03/04, AKR 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distinctnes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Ambainis 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graph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DHHM 04, MSS 03,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matrix multiplication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Buhrman,Špalek 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subgroup problem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Bacon, Childs, van Dam 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hidden shift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Childs, van Dam 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379440" y="5218200"/>
            <a:ext cx="106344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551960" y="44280"/>
            <a:ext cx="5987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54800" y="9144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might quantum computer be abl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886200" y="1523880"/>
            <a:ext cx="28954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10080" y="1828800"/>
            <a:ext cx="106704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91120" y="1828800"/>
            <a:ext cx="106668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414400" y="22096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0800" y="22096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54680" y="2895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90920" y="1447920"/>
            <a:ext cx="518148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820960" y="2286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5200" y="1676520"/>
            <a:ext cx="15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06720" y="3809880"/>
            <a:ext cx="734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problems not NPC but possibly in BQ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shortest vector in a latti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ash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29440" y="7632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3040" y="3886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447200" y="1219320"/>
            <a:ext cx="685800" cy="1981080"/>
          </a:xfrm>
          <a:custGeom>
            <a:avLst/>
            <a:gdLst>
              <a:gd name="textAreaLeft" fmla="*/ -360 w 685800"/>
              <a:gd name="textAreaRight" fmla="*/ 24732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447200" y="3276720"/>
            <a:ext cx="685800" cy="1752480"/>
          </a:xfrm>
          <a:custGeom>
            <a:avLst/>
            <a:gdLst>
              <a:gd name="textAreaLeft" fmla="*/ -360 w 685800"/>
              <a:gd name="textAreaRight" fmla="*/ 247320 w 6858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01840" y="1104840"/>
            <a:ext cx="4861080" cy="407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57280" y="56386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490840" cy="311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52160" y="62485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runs to 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552320" y="44280"/>
            <a:ext cx="5888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Simul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58040" y="91440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the least well studied and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0948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06668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0948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06668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0020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05740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0020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05740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3808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3808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29528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82880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28600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666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5238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6668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146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183480" y="2286000"/>
            <a:ext cx="59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quantum many body system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computationally very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4920" y="4572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computers allow one to perform these simulation without having to engineer entirely new physic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11760" y="579132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materials?  Understanding High-T Supercondu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4120" y="2590920"/>
            <a:ext cx="272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83640" y="0"/>
            <a:ext cx="42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e Time P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295280"/>
          <a:ext cx="7146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14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76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1280" y="12952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01011110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560" y="76212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 bit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5800" y="40384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100111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7840" y="36576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’s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1280" y="12952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01011110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3840" y="51055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2840" y="4753080"/>
            <a:ext cx="276120" cy="27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5800" y="53341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011100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15160" y="55627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867280" y="5210280"/>
            <a:ext cx="276480" cy="276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03080" y="57150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100111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560" y="420696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6880" y="420696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6960" y="56386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3480" y="61722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learn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8208E-006 L -0.31702 0.46612 E">
                                      <p:cBhvr>
                                        <p:cTn id="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8208E-006 L 0.32465 0.46612 E">
                                      <p:cBhvr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104E-006 L 0.64132 -0.05549 E">
                                      <p:cBhvr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39400" y="0"/>
            <a:ext cx="68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160" y="914400"/>
            <a:ext cx="90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mes “known in public” where put fort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e and Hellman in 1976 (key exchange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st, Shamir and Adleman in 1978 (encryption algorith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ased on work by Merkle in 1974, published 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80" y="3492360"/>
            <a:ext cx="88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now appears that the British researchers wor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intelligence (GCHQ) were actually the first to dis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rotocols, but their work was classified at the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fford Cooks in 1973 (encryption algorith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Williamson in ~1973 (key ex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ased on work by James Ellis in the late 196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0:25:11Z</dcterms:created>
  <dc:creator>Dave Bacon</dc:creator>
  <dc:description/>
  <dc:language>en-US</dc:language>
  <cp:lastModifiedBy>Dave Bacon</cp:lastModifiedBy>
  <dcterms:modified xsi:type="dcterms:W3CDTF">2005-08-03T16:01:14Z</dcterms:modified>
  <cp:revision>53</cp:revision>
  <dc:subject/>
  <dc:title>Slide 1</dc:title>
</cp:coreProperties>
</file>