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94.png" ContentType="image/png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90.png" ContentType="image/png"/>
  <Override PartName="/ppt/media/image121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1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103.jpeg" ContentType="image/jpeg"/>
  <Override PartName="/ppt/media/image2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94.png" ContentType="image/png"/>
  <Override PartName="/ppt/media/image26.png" ContentType="image/png"/>
  <Override PartName="/ppt/media/image23.png" ContentType="image/png"/>
  <Override PartName="/ppt/media/image91.png" ContentType="image/png"/>
  <Override PartName="/ppt/media/image119.png" ContentType="image/png"/>
  <Override PartName="/ppt/media/image187.png" ContentType="image/png"/>
  <Override PartName="/ppt/media/image22.png" ContentType="image/png"/>
  <Override PartName="/ppt/media/image90.png" ContentType="image/png"/>
  <Override PartName="/ppt/media/image110.png" ContentType="image/png"/>
  <Override PartName="/ppt/media/image59.png" ContentType="image/png"/>
  <Override PartName="/ppt/media/image118.png" ContentType="image/png"/>
  <Override PartName="/ppt/media/image186.png" ContentType="image/png"/>
  <Override PartName="/ppt/media/image21.png" ContentType="image/png"/>
  <Override PartName="/ppt/media/image58.png" ContentType="image/png"/>
  <Override PartName="/ppt/media/image117.png" ContentType="image/png"/>
  <Override PartName="/ppt/media/image185.png" ContentType="image/png"/>
  <Override PartName="/ppt/media/image20.png" ContentType="image/png"/>
  <Override PartName="/ppt/media/image57.png" ContentType="image/png"/>
  <Override PartName="/ppt/media/image83.png" ContentType="image/png"/>
  <Override PartName="/ppt/media/image15.png" ContentType="image/png"/>
  <Override PartName="/ppt/media/image18.png" ContentType="image/png"/>
  <Override PartName="/ppt/media/image86.png" ContentType="image/png"/>
  <Override PartName="/ppt/media/image71.png" ContentType="image/png"/>
  <Override PartName="/ppt/media/image6.jpeg" ContentType="image/jpeg"/>
  <Override PartName="/ppt/media/image24.png" ContentType="image/png"/>
  <Override PartName="/ppt/media/image92.png" ContentType="image/png"/>
  <Override PartName="/ppt/media/image31.png" ContentType="image/png"/>
  <Override PartName="/ppt/media/image9.png" ContentType="image/png"/>
  <Override PartName="/ppt/media/image25.png" ContentType="image/png"/>
  <Override PartName="/ppt/media/image93.png" ContentType="image/png"/>
  <Override PartName="/ppt/media/image14.png" ContentType="image/png"/>
  <Override PartName="/ppt/media/image82.png" ContentType="image/png"/>
  <Override PartName="/ppt/media/image2.png" ContentType="image/png"/>
  <Override PartName="/ppt/media/image154.png" ContentType="image/png"/>
  <Override PartName="/ppt/media/image32.png" ContentType="image/png"/>
  <Override PartName="/ppt/media/image112.jpeg" ContentType="image/jpeg"/>
  <Override PartName="/ppt/media/image37.png" ContentType="image/png"/>
  <Override PartName="/ppt/media/image80.png" ContentType="image/png"/>
  <Override PartName="/ppt/media/image12.png" ContentType="image/png"/>
  <Override PartName="/ppt/media/image3.png" ContentType="image/png"/>
  <Override PartName="/ppt/media/image155.png" ContentType="image/png"/>
  <Override PartName="/ppt/media/image33.png" ContentType="image/png"/>
  <Override PartName="/ppt/media/image81.png" ContentType="image/png"/>
  <Override PartName="/ppt/media/image13.png" ContentType="image/png"/>
  <Override PartName="/ppt/media/image16.png" ContentType="image/png"/>
  <Override PartName="/ppt/media/image84.png" ContentType="image/png"/>
  <Override PartName="/ppt/media/image4.png" ContentType="image/png"/>
  <Override PartName="/ppt/media/image156.png" ContentType="image/png"/>
  <Override PartName="/ppt/media/image34.png" ContentType="image/png"/>
  <Override PartName="/ppt/media/image17.png" ContentType="image/png"/>
  <Override PartName="/ppt/media/image85.png" ContentType="image/png"/>
  <Override PartName="/ppt/media/image5.png" ContentType="image/png"/>
  <Override PartName="/ppt/media/image157.png" ContentType="image/png"/>
  <Override PartName="/ppt/media/image35.png" ContentType="image/png"/>
  <Override PartName="/ppt/media/image107.png" ContentType="image/png"/>
  <Override PartName="/ppt/media/image175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178.png" ContentType="image/png"/>
  <Override PartName="/ppt/media/image179.png" ContentType="image/png"/>
  <Override PartName="/ppt/media/image203.png" ContentType="image/png"/>
  <Override PartName="/ppt/media/image188.png" ContentType="image/png"/>
  <Override PartName="/ppt/media/image204.png" ContentType="image/png"/>
  <Override PartName="/ppt/media/image48.png" ContentType="image/png"/>
  <Override PartName="/ppt/media/image189.png" ContentType="image/png"/>
  <Override PartName="/ppt/media/image205.png" ContentType="image/png"/>
  <Override PartName="/ppt/media/image49.png" ContentType="image/png"/>
  <Override PartName="/ppt/media/image100.png" ContentType="image/png"/>
  <Override PartName="/ppt/media/image206.png" ContentType="image/png"/>
  <Override PartName="/ppt/media/image207.png" ContentType="image/png"/>
  <Override PartName="/ppt/media/image213.png" ContentType="image/png"/>
  <Override PartName="/ppt/media/image198.png" ContentType="image/png"/>
  <Override PartName="/ppt/media/image36.png" ContentType="image/png"/>
  <Override PartName="/ppt/media/image214.png" ContentType="image/png"/>
  <Override PartName="/ppt/media/image199.png" ContentType="image/png"/>
  <Override PartName="/ppt/media/image215.png" ContentType="image/png"/>
  <Override PartName="/ppt/media/image216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0.png" ContentType="image/png"/>
  <Override PartName="/ppt/media/image221.png" ContentType="image/png"/>
  <Override PartName="/ppt/media/image222.png" ContentType="image/png"/>
  <Override PartName="/ppt/media/image241.png" ContentType="image/png"/>
  <Override PartName="/ppt/media/image202.png" ContentType="image/png"/>
  <Override PartName="/ppt/media/image46.png" ContentType="image/png"/>
  <Override PartName="/ppt/media/image239.png" ContentType="image/png"/>
  <Override PartName="/ppt/media/image134.png" ContentType="image/png"/>
  <Override PartName="/ppt/media/image242.png" ContentType="image/png"/>
  <Override PartName="/ppt/media/image243.png" ContentType="image/png"/>
  <Override PartName="/ppt/media/image244.png" ContentType="image/png"/>
  <Override PartName="/ppt/media/image245.png" ContentType="image/png"/>
  <Override PartName="/ppt/media/image140.png" ContentType="image/png"/>
  <Override PartName="/ppt/media/image246.png" ContentType="image/png"/>
  <Override PartName="/ppt/media/image141.png" ContentType="image/png"/>
  <Override PartName="/ppt/media/image210.png" ContentType="image/png"/>
  <Override PartName="/ppt/media/image54.png" ContentType="image/png"/>
  <Override PartName="/ppt/media/image247.png" ContentType="image/png"/>
  <Override PartName="/ppt/media/image142.png" ContentType="image/png"/>
  <Override PartName="/ppt/media/image211.png" ContentType="image/png"/>
  <Override PartName="/ppt/media/image55.png" ContentType="image/png"/>
  <Override PartName="/ppt/media/image248.png" ContentType="image/png"/>
  <Override PartName="/ppt/media/image143.png" ContentType="image/png"/>
  <Override PartName="/ppt/media/image208.png" ContentType="image/png"/>
  <Override PartName="/ppt/media/image250.png" ContentType="image/png"/>
  <Override PartName="/ppt/media/image212.png" ContentType="image/png"/>
  <Override PartName="/ppt/media/image56.png" ContentType="image/png"/>
  <Override PartName="/ppt/media/image249.png" ContentType="image/png"/>
  <Override PartName="/ppt/media/image144.png" ContentType="image/png"/>
  <Override PartName="/ppt/media/image209.png" ContentType="image/png"/>
  <Override PartName="/ppt/media/image251.png" ContentType="image/png"/>
  <Override PartName="/ppt/media/image240.png" ContentType="image/png"/>
  <Override PartName="/ppt/media/image201.png" ContentType="image/png"/>
  <Override PartName="/ppt/media/image45.png" ContentType="image/png"/>
  <Override PartName="/ppt/media/image238.png" ContentType="image/png"/>
  <Override PartName="/ppt/media/image133.png" ContentType="image/png"/>
  <Override PartName="/ppt/media/image252.png" ContentType="image/png"/>
  <Override PartName="/ppt/media/image200.png" ContentType="image/png"/>
  <Override PartName="/ppt/media/image44.png" ContentType="image/png"/>
  <Override PartName="/ppt/media/image237.png" ContentType="image/png"/>
  <Override PartName="/ppt/media/image132.png" ContentType="image/png"/>
  <Override PartName="/ppt/media/image236.png" ContentType="image/png"/>
  <Override PartName="/ppt/media/image131.png" ContentType="image/png"/>
  <Override PartName="/ppt/media/image235.png" ContentType="image/png"/>
  <Override PartName="/ppt/media/image130.png" ContentType="image/png"/>
  <Override PartName="/ppt/media/image234.png" ContentType="image/png"/>
  <Override PartName="/ppt/media/image180.png" ContentType="image/png"/>
  <Override PartName="/ppt/media/image233.png" ContentType="image/png"/>
  <Override PartName="/ppt/media/image232.png" ContentType="image/png"/>
  <Override PartName="/ppt/media/image231.png" ContentType="image/png"/>
  <Override PartName="/ppt/media/image229.png" ContentType="image/png"/>
  <Override PartName="/ppt/media/image230.png" ContentType="image/png"/>
  <Override PartName="/ppt/media/image227.png" ContentType="image/png"/>
  <Override PartName="/ppt/media/image226.png" ContentType="image/png"/>
  <Override PartName="/ppt/media/image225.png" ContentType="image/png"/>
  <Override PartName="/ppt/media/image224.png" ContentType="image/png"/>
  <Override PartName="/ppt/media/image223.png" ContentType="image/png"/>
  <Override PartName="/ppt/media/image171.png" ContentType="image/png"/>
  <Override PartName="/ppt/media/image169.png" ContentType="image/png"/>
  <Override PartName="/ppt/media/image168.png" ContentType="image/png"/>
  <Override PartName="/ppt/media/image167.png" ContentType="image/png"/>
  <Override PartName="/ppt/media/image166.png" ContentType="image/png"/>
  <Override PartName="/ppt/media/image165.png" ContentType="image/png"/>
  <Override PartName="/ppt/media/image164.png" ContentType="image/png"/>
  <Override PartName="/ppt/media/image163.png" ContentType="image/png"/>
  <Override PartName="/ppt/media/image162.png" ContentType="image/png"/>
  <Override PartName="/ppt/media/image161.png" ContentType="image/png"/>
  <Override PartName="/ppt/media/image160.png" ContentType="image/png"/>
  <Override PartName="/ppt/media/image158.png" ContentType="image/png"/>
  <Override PartName="/ppt/media/image151.png" ContentType="image/png"/>
  <Override PartName="/ppt/media/image150.png" ContentType="image/png"/>
  <Override PartName="/ppt/media/image149.png" ContentType="image/png"/>
  <Override PartName="/ppt/media/image52.png" ContentType="image/png"/>
  <Override PartName="/ppt/media/image148.png" ContentType="image/pn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39.png" ContentType="image/png"/>
  <Override PartName="/ppt/media/image42.png" ContentType="image/png"/>
  <Override PartName="/ppt/media/image138.png" ContentType="image/png"/>
  <Override PartName="/ppt/media/image41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197.png" ContentType="image/png"/>
  <Override PartName="/ppt/media/image129.png" ContentType="image/png"/>
  <Override PartName="/ppt/media/image196.png" ContentType="image/png"/>
  <Override PartName="/ppt/media/image128.png" ContentType="image/png"/>
  <Override PartName="/ppt/media/image53.png" ContentType="image/png"/>
  <Override PartName="/ppt/media/image51.png" ContentType="image/png"/>
  <Override PartName="/ppt/media/image152.jpeg" ContentType="image/jpeg"/>
  <Override PartName="/ppt/media/image43.png" ContentType="image/png"/>
  <Override PartName="/ppt/media/image195.png" ContentType="image/png"/>
  <Override PartName="/ppt/media/image127.png" ContentType="image/png"/>
  <Override PartName="/ppt/media/image11.png" ContentType="image/png"/>
  <Override PartName="/ppt/media/image108.png" ContentType="image/png"/>
  <Override PartName="/ppt/media/image176.png" ContentType="image/png"/>
  <Override PartName="/ppt/media/image39.png" ContentType="image/png"/>
  <Override PartName="/ppt/media/image177.png" ContentType="image/png"/>
  <Override PartName="/ppt/media/image109.png" ContentType="image/png"/>
  <Override PartName="/ppt/media/image7.png" ContentType="image/png"/>
  <Override PartName="/ppt/media/image159.png" ContentType="image/png"/>
  <Override PartName="/ppt/media/image1.png" ContentType="image/png"/>
  <Override PartName="/ppt/media/image15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93E-90EC-40AB-A63E-D2814823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D64-8EB4-49BE-A6C4-5967E6A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2F8-C937-48CB-A611-EC2792E7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618-7887-40F8-8445-07B5C015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7A1-64C5-4ABC-B5CF-336E14E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4B5-FCB2-4A75-9272-768338D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EBC-F469-4295-BB6C-1FAE0A8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640-59DE-44D1-80C3-4FD10DA0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5B6-6422-4173-B528-4448891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81A-C927-43FE-95DD-3FCF473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314-C6D8-4F97-8D26-57E3290D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284-DDF3-43BF-85E9-58A0F09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ACC7-D57F-4E01-8B1D-2A823BAD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images.google.com/imgres?imgurl=http://www.cs.yale.edu/admin/shor.gif&amp;imgrefurl=http://www.cs.yale.edu/admin/colloquium2001.html&amp;h=300&amp;w=200&amp;sz=41&amp;tbnid=GV2NS59IOXQJ:&amp;tbnh=111&amp;tbnw=74&amp;hl=en&amp;start=4&amp;prev=/images%3Fq%3Dpeter%2Bshor%26svnum%3D10%26hl%3Den%26lr%3D%26c2coff%3D1%26safe%3Doff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48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6.png"/><Relationship Id="rId16" Type="http://schemas.openxmlformats.org/officeDocument/2006/relationships/image" Target="../media/image65.pn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image" Target="../media/image75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76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5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94.png"/><Relationship Id="rId6" Type="http://schemas.openxmlformats.org/officeDocument/2006/relationships/image" Target="../media/image78.png"/><Relationship Id="rId7" Type="http://schemas.openxmlformats.org/officeDocument/2006/relationships/image" Target="../media/image7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image" Target="../media/image81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3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48.png"/><Relationship Id="rId3" Type="http://schemas.openxmlformats.org/officeDocument/2006/relationships/image" Target="../media/image99.png"/><Relationship Id="rId4" Type="http://schemas.openxmlformats.org/officeDocument/2006/relationships/image" Target="../media/image48.png"/><Relationship Id="rId5" Type="http://schemas.openxmlformats.org/officeDocument/2006/relationships/image" Target="../media/image72.png"/><Relationship Id="rId6" Type="http://schemas.openxmlformats.org/officeDocument/2006/relationships/image" Target="../media/image100.png"/><Relationship Id="rId7" Type="http://schemas.openxmlformats.org/officeDocument/2006/relationships/image" Target="../media/image73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48.png"/><Relationship Id="rId11" Type="http://schemas.openxmlformats.org/officeDocument/2006/relationships/image" Target="../media/image103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image" Target="../media/image112.jpeg"/><Relationship Id="rId10" Type="http://schemas.openxmlformats.org/officeDocument/2006/relationships/image" Target="../media/image112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2.jpeg"/><Relationship Id="rId5" Type="http://schemas.openxmlformats.org/officeDocument/2006/relationships/image" Target="../media/image103.jpeg"/><Relationship Id="rId6" Type="http://schemas.openxmlformats.org/officeDocument/2006/relationships/image" Target="../media/image11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2.jpeg"/><Relationship Id="rId6" Type="http://schemas.openxmlformats.org/officeDocument/2006/relationships/image" Target="../media/image103.jpeg"/><Relationship Id="rId7" Type="http://schemas.openxmlformats.org/officeDocument/2006/relationships/image" Target="../media/image11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111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111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82.png"/><Relationship Id="rId8" Type="http://schemas.openxmlformats.org/officeDocument/2006/relationships/image" Target="../media/image94.png"/><Relationship Id="rId9" Type="http://schemas.openxmlformats.org/officeDocument/2006/relationships/image" Target="../media/image128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29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image" Target="../media/image133.png"/><Relationship Id="rId5" Type="http://schemas.openxmlformats.org/officeDocument/2006/relationships/image" Target="../media/image134.png"/><Relationship Id="rId6" Type="http://schemas.openxmlformats.org/officeDocument/2006/relationships/image" Target="../media/image135.png"/><Relationship Id="rId7" Type="http://schemas.openxmlformats.org/officeDocument/2006/relationships/image" Target="../media/image136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37.png"/><Relationship Id="rId3" Type="http://schemas.openxmlformats.org/officeDocument/2006/relationships/image" Target="../media/image13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8.png"/><Relationship Id="rId2" Type="http://schemas.openxmlformats.org/officeDocument/2006/relationships/image" Target="../media/image139.png"/><Relationship Id="rId3" Type="http://schemas.openxmlformats.org/officeDocument/2006/relationships/image" Target="../media/image140.png"/><Relationship Id="rId4" Type="http://schemas.openxmlformats.org/officeDocument/2006/relationships/image" Target="../media/image140.png"/><Relationship Id="rId5" Type="http://schemas.openxmlformats.org/officeDocument/2006/relationships/image" Target="../media/image76.png"/><Relationship Id="rId6" Type="http://schemas.openxmlformats.org/officeDocument/2006/relationships/image" Target="../media/image141.png"/><Relationship Id="rId7" Type="http://schemas.openxmlformats.org/officeDocument/2006/relationships/image" Target="../media/image142.png"/><Relationship Id="rId8" Type="http://schemas.openxmlformats.org/officeDocument/2006/relationships/image" Target="../media/image95.png"/><Relationship Id="rId9" Type="http://schemas.openxmlformats.org/officeDocument/2006/relationships/image" Target="../media/image143.png"/><Relationship Id="rId10" Type="http://schemas.openxmlformats.org/officeDocument/2006/relationships/image" Target="../media/image144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146.png"/><Relationship Id="rId3" Type="http://schemas.openxmlformats.org/officeDocument/2006/relationships/image" Target="../media/image147.png"/><Relationship Id="rId4" Type="http://schemas.openxmlformats.org/officeDocument/2006/relationships/image" Target="../media/image148.png"/><Relationship Id="rId5" Type="http://schemas.openxmlformats.org/officeDocument/2006/relationships/image" Target="../media/image149.png"/><Relationship Id="rId6" Type="http://schemas.openxmlformats.org/officeDocument/2006/relationships/image" Target="../media/image139.png"/><Relationship Id="rId7" Type="http://schemas.openxmlformats.org/officeDocument/2006/relationships/image" Target="../media/image150.png"/><Relationship Id="rId8" Type="http://schemas.openxmlformats.org/officeDocument/2006/relationships/image" Target="../media/image151.png"/><Relationship Id="rId9" Type="http://schemas.openxmlformats.org/officeDocument/2006/relationships/image" Target="../media/image14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image" Target="../media/image152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5.png"/><Relationship Id="rId2" Type="http://schemas.openxmlformats.org/officeDocument/2006/relationships/image" Target="../media/image156.png"/><Relationship Id="rId3" Type="http://schemas.openxmlformats.org/officeDocument/2006/relationships/image" Target="../media/image157.png"/><Relationship Id="rId4" Type="http://schemas.openxmlformats.org/officeDocument/2006/relationships/image" Target="../media/image14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6.png"/><Relationship Id="rId3" Type="http://schemas.openxmlformats.org/officeDocument/2006/relationships/image" Target="../media/image50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6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11.png"/><Relationship Id="rId3" Type="http://schemas.openxmlformats.org/officeDocument/2006/relationships/image" Target="../media/image162.png"/><Relationship Id="rId4" Type="http://schemas.openxmlformats.org/officeDocument/2006/relationships/image" Target="../media/image163.png"/><Relationship Id="rId5" Type="http://schemas.openxmlformats.org/officeDocument/2006/relationships/image" Target="../media/image164.png"/><Relationship Id="rId6" Type="http://schemas.openxmlformats.org/officeDocument/2006/relationships/image" Target="../media/image165.png"/><Relationship Id="rId7" Type="http://schemas.openxmlformats.org/officeDocument/2006/relationships/image" Target="../media/image166.png"/><Relationship Id="rId8" Type="http://schemas.openxmlformats.org/officeDocument/2006/relationships/image" Target="../media/image167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69.png"/><Relationship Id="rId4" Type="http://schemas.openxmlformats.org/officeDocument/2006/relationships/image" Target="../media/image170.png"/><Relationship Id="rId5" Type="http://schemas.openxmlformats.org/officeDocument/2006/relationships/image" Target="../media/image170.png"/><Relationship Id="rId6" Type="http://schemas.openxmlformats.org/officeDocument/2006/relationships/image" Target="../media/image165.png"/><Relationship Id="rId7" Type="http://schemas.openxmlformats.org/officeDocument/2006/relationships/image" Target="../media/image171.png"/><Relationship Id="rId8" Type="http://schemas.openxmlformats.org/officeDocument/2006/relationships/image" Target="../media/image172.png"/><Relationship Id="rId9" Type="http://schemas.openxmlformats.org/officeDocument/2006/relationships/image" Target="../media/image173.png"/><Relationship Id="rId10" Type="http://schemas.openxmlformats.org/officeDocument/2006/relationships/image" Target="../media/image174.png"/><Relationship Id="rId11" Type="http://schemas.openxmlformats.org/officeDocument/2006/relationships/image" Target="../media/image175.png"/><Relationship Id="rId12" Type="http://schemas.openxmlformats.org/officeDocument/2006/relationships/image" Target="../media/image165.png"/><Relationship Id="rId13" Type="http://schemas.openxmlformats.org/officeDocument/2006/relationships/image" Target="../media/image176.png"/><Relationship Id="rId14" Type="http://schemas.openxmlformats.org/officeDocument/2006/relationships/image" Target="../media/image177.png"/><Relationship Id="rId15" Type="http://schemas.openxmlformats.org/officeDocument/2006/relationships/image" Target="../media/image178.png"/><Relationship Id="rId16" Type="http://schemas.openxmlformats.org/officeDocument/2006/relationships/image" Target="../media/image167.png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79.png"/><Relationship Id="rId3" Type="http://schemas.openxmlformats.org/officeDocument/2006/relationships/image" Target="../media/image180.png"/><Relationship Id="rId4" Type="http://schemas.openxmlformats.org/officeDocument/2006/relationships/image" Target="../media/image181.png"/><Relationship Id="rId5" Type="http://schemas.openxmlformats.org/officeDocument/2006/relationships/image" Target="../media/image180.png"/><Relationship Id="rId6" Type="http://schemas.openxmlformats.org/officeDocument/2006/relationships/image" Target="../media/image24.png"/><Relationship Id="rId7" Type="http://schemas.openxmlformats.org/officeDocument/2006/relationships/image" Target="../media/image182.png"/><Relationship Id="rId8" Type="http://schemas.openxmlformats.org/officeDocument/2006/relationships/image" Target="../media/image183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4.png"/><Relationship Id="rId2" Type="http://schemas.openxmlformats.org/officeDocument/2006/relationships/image" Target="../media/image185.png"/><Relationship Id="rId3" Type="http://schemas.openxmlformats.org/officeDocument/2006/relationships/image" Target="../media/image186.png"/><Relationship Id="rId4" Type="http://schemas.openxmlformats.org/officeDocument/2006/relationships/image" Target="../media/image187.png"/><Relationship Id="rId5" Type="http://schemas.openxmlformats.org/officeDocument/2006/relationships/image" Target="../media/image188.png"/><Relationship Id="rId6" Type="http://schemas.openxmlformats.org/officeDocument/2006/relationships/image" Target="../media/image189.png"/><Relationship Id="rId7" Type="http://schemas.openxmlformats.org/officeDocument/2006/relationships/image" Target="../media/image184.png"/><Relationship Id="rId8" Type="http://schemas.openxmlformats.org/officeDocument/2006/relationships/image" Target="../media/image190.png"/><Relationship Id="rId9" Type="http://schemas.openxmlformats.org/officeDocument/2006/relationships/image" Target="../media/image191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92.png"/><Relationship Id="rId4" Type="http://schemas.openxmlformats.org/officeDocument/2006/relationships/image" Target="../media/image193.png"/><Relationship Id="rId5" Type="http://schemas.openxmlformats.org/officeDocument/2006/relationships/image" Target="../media/image194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9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96.png"/><Relationship Id="rId4" Type="http://schemas.openxmlformats.org/officeDocument/2006/relationships/image" Target="../media/image197.png"/><Relationship Id="rId5" Type="http://schemas.openxmlformats.org/officeDocument/2006/relationships/image" Target="../media/image198.png"/><Relationship Id="rId6" Type="http://schemas.openxmlformats.org/officeDocument/2006/relationships/image" Target="../media/image199.png"/><Relationship Id="rId7" Type="http://schemas.openxmlformats.org/officeDocument/2006/relationships/image" Target="../media/image200.png"/><Relationship Id="rId8" Type="http://schemas.openxmlformats.org/officeDocument/2006/relationships/image" Target="../media/image201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202.png"/><Relationship Id="rId4" Type="http://schemas.openxmlformats.org/officeDocument/2006/relationships/image" Target="../media/image203.png"/><Relationship Id="rId5" Type="http://schemas.openxmlformats.org/officeDocument/2006/relationships/image" Target="../media/image204.png"/><Relationship Id="rId6" Type="http://schemas.openxmlformats.org/officeDocument/2006/relationships/image" Target="../media/image205.png"/><Relationship Id="rId7" Type="http://schemas.openxmlformats.org/officeDocument/2006/relationships/image" Target="../media/image206.png"/><Relationship Id="rId8" Type="http://schemas.openxmlformats.org/officeDocument/2006/relationships/image" Target="../media/image207.png"/><Relationship Id="rId9" Type="http://schemas.openxmlformats.org/officeDocument/2006/relationships/image" Target="../media/image208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202.png"/><Relationship Id="rId4" Type="http://schemas.openxmlformats.org/officeDocument/2006/relationships/image" Target="../media/image209.png"/><Relationship Id="rId5" Type="http://schemas.openxmlformats.org/officeDocument/2006/relationships/image" Target="../media/image210.png"/><Relationship Id="rId6" Type="http://schemas.openxmlformats.org/officeDocument/2006/relationships/image" Target="../media/image211.png"/><Relationship Id="rId7" Type="http://schemas.openxmlformats.org/officeDocument/2006/relationships/image" Target="../media/image210.png"/><Relationship Id="rId8" Type="http://schemas.openxmlformats.org/officeDocument/2006/relationships/image" Target="../media/image211.png"/><Relationship Id="rId9" Type="http://schemas.openxmlformats.org/officeDocument/2006/relationships/image" Target="../media/image212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9.png"/><Relationship Id="rId3" Type="http://schemas.openxmlformats.org/officeDocument/2006/relationships/image" Target="../media/image213.png"/><Relationship Id="rId4" Type="http://schemas.openxmlformats.org/officeDocument/2006/relationships/image" Target="../media/image169.png"/><Relationship Id="rId5" Type="http://schemas.openxmlformats.org/officeDocument/2006/relationships/image" Target="../media/image214.png"/><Relationship Id="rId6" Type="http://schemas.openxmlformats.org/officeDocument/2006/relationships/image" Target="../media/image215.png"/><Relationship Id="rId7" Type="http://schemas.openxmlformats.org/officeDocument/2006/relationships/image" Target="../media/image216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7.png"/><Relationship Id="rId2" Type="http://schemas.openxmlformats.org/officeDocument/2006/relationships/image" Target="../media/image218.png"/><Relationship Id="rId3" Type="http://schemas.openxmlformats.org/officeDocument/2006/relationships/image" Target="../media/image219.png"/><Relationship Id="rId4" Type="http://schemas.openxmlformats.org/officeDocument/2006/relationships/image" Target="../media/image220.png"/><Relationship Id="rId5" Type="http://schemas.openxmlformats.org/officeDocument/2006/relationships/image" Target="../media/image167.png"/><Relationship Id="rId6" Type="http://schemas.openxmlformats.org/officeDocument/2006/relationships/image" Target="../media/image221.png"/><Relationship Id="rId7" Type="http://schemas.openxmlformats.org/officeDocument/2006/relationships/image" Target="../media/image22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3.png"/><Relationship Id="rId2" Type="http://schemas.openxmlformats.org/officeDocument/2006/relationships/image" Target="../media/image215.png"/><Relationship Id="rId3" Type="http://schemas.openxmlformats.org/officeDocument/2006/relationships/image" Target="../media/image216.png"/><Relationship Id="rId4" Type="http://schemas.openxmlformats.org/officeDocument/2006/relationships/image" Target="../media/image224.png"/><Relationship Id="rId5" Type="http://schemas.openxmlformats.org/officeDocument/2006/relationships/image" Target="../media/image225.png"/><Relationship Id="rId6" Type="http://schemas.openxmlformats.org/officeDocument/2006/relationships/image" Target="../media/image226.pn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4.png"/><Relationship Id="rId2" Type="http://schemas.openxmlformats.org/officeDocument/2006/relationships/image" Target="../media/image225.png"/><Relationship Id="rId3" Type="http://schemas.openxmlformats.org/officeDocument/2006/relationships/image" Target="../media/image116.png"/><Relationship Id="rId4" Type="http://schemas.openxmlformats.org/officeDocument/2006/relationships/image" Target="../media/image227.png"/><Relationship Id="rId5" Type="http://schemas.openxmlformats.org/officeDocument/2006/relationships/image" Target="../media/image170.png"/><Relationship Id="rId6" Type="http://schemas.openxmlformats.org/officeDocument/2006/relationships/image" Target="../media/image228.png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9.png"/><Relationship Id="rId2" Type="http://schemas.openxmlformats.org/officeDocument/2006/relationships/image" Target="../media/image230.png"/><Relationship Id="rId3" Type="http://schemas.openxmlformats.org/officeDocument/2006/relationships/image" Target="../media/image231.png"/><Relationship Id="rId4" Type="http://schemas.openxmlformats.org/officeDocument/2006/relationships/image" Target="../media/image170.png"/><Relationship Id="rId5" Type="http://schemas.openxmlformats.org/officeDocument/2006/relationships/image" Target="../media/image17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2.png"/><Relationship Id="rId2" Type="http://schemas.openxmlformats.org/officeDocument/2006/relationships/image" Target="../media/image233.png"/><Relationship Id="rId3" Type="http://schemas.openxmlformats.org/officeDocument/2006/relationships/image" Target="../media/image215.png"/><Relationship Id="rId4" Type="http://schemas.openxmlformats.org/officeDocument/2006/relationships/image" Target="../media/image234.png"/><Relationship Id="rId5" Type="http://schemas.openxmlformats.org/officeDocument/2006/relationships/image" Target="../media/image216.png"/><Relationship Id="rId6" Type="http://schemas.openxmlformats.org/officeDocument/2006/relationships/image" Target="../media/image235.png"/><Relationship Id="rId7" Type="http://schemas.openxmlformats.org/officeDocument/2006/relationships/image" Target="../media/image236.png"/><Relationship Id="rId8" Type="http://schemas.openxmlformats.org/officeDocument/2006/relationships/image" Target="../media/image237.png"/><Relationship Id="rId9" Type="http://schemas.openxmlformats.org/officeDocument/2006/relationships/image" Target="../media/image238.png"/><Relationship Id="rId10" Type="http://schemas.openxmlformats.org/officeDocument/2006/relationships/image" Target="../media/image234.png"/><Relationship Id="rId11" Type="http://schemas.openxmlformats.org/officeDocument/2006/relationships/image" Target="../media/image239.png"/><Relationship Id="rId12" Type="http://schemas.openxmlformats.org/officeDocument/2006/relationships/image" Target="../media/image240.png"/><Relationship Id="rId13" Type="http://schemas.openxmlformats.org/officeDocument/2006/relationships/image" Target="../media/image241.png"/><Relationship Id="rId14" Type="http://schemas.openxmlformats.org/officeDocument/2006/relationships/image" Target="../media/image242.png"/><Relationship Id="rId15" Type="http://schemas.openxmlformats.org/officeDocument/2006/relationships/image" Target="../media/image238.png"/><Relationship Id="rId16" Type="http://schemas.openxmlformats.org/officeDocument/2006/relationships/image" Target="../media/image243.png"/><Relationship Id="rId17" Type="http://schemas.openxmlformats.org/officeDocument/2006/relationships/image" Target="../media/image244.png"/><Relationship Id="rId1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9.png"/><Relationship Id="rId3" Type="http://schemas.openxmlformats.org/officeDocument/2006/relationships/image" Target="../media/image245.png"/><Relationship Id="rId4" Type="http://schemas.openxmlformats.org/officeDocument/2006/relationships/image" Target="../media/image215.png"/><Relationship Id="rId5" Type="http://schemas.openxmlformats.org/officeDocument/2006/relationships/image" Target="../media/image213.png"/><Relationship Id="rId6" Type="http://schemas.openxmlformats.org/officeDocument/2006/relationships/image" Target="../media/image169.png"/><Relationship Id="rId7" Type="http://schemas.openxmlformats.org/officeDocument/2006/relationships/image" Target="../media/image169.png"/><Relationship Id="rId8" Type="http://schemas.openxmlformats.org/officeDocument/2006/relationships/image" Target="../media/image246.png"/><Relationship Id="rId9" Type="http://schemas.openxmlformats.org/officeDocument/2006/relationships/image" Target="../media/image247.png"/><Relationship Id="rId10" Type="http://schemas.openxmlformats.org/officeDocument/2006/relationships/image" Target="../media/image169.png"/><Relationship Id="rId11" Type="http://schemas.openxmlformats.org/officeDocument/2006/relationships/image" Target="../media/image248.png"/><Relationship Id="rId12" Type="http://schemas.openxmlformats.org/officeDocument/2006/relationships/image" Target="../media/image249.pn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8.png"/><Relationship Id="rId2" Type="http://schemas.openxmlformats.org/officeDocument/2006/relationships/image" Target="../media/image214.png"/><Relationship Id="rId3" Type="http://schemas.openxmlformats.org/officeDocument/2006/relationships/image" Target="../media/image250.png"/><Relationship Id="rId4" Type="http://schemas.openxmlformats.org/officeDocument/2006/relationships/image" Target="../media/image251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2.png"/><Relationship Id="rId2" Type="http://schemas.openxmlformats.org/officeDocument/2006/relationships/image" Target="../media/image25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5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000" y="76320"/>
            <a:ext cx="918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SEP 590tv: 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9160" y="838080"/>
            <a:ext cx="25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7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63880" y="1905120"/>
            <a:ext cx="239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day’s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7880" y="45720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7880" y="52578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7200" y="2590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ministr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7520" y="388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-Jozsa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8600" y="32767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1440" y="594360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 Shor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15080" y="91440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74600" y="205740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72080" y="91440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42000" y="20574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24640" y="274320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244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2743200"/>
            <a:ext cx="90036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7242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00800" y="5562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620120" y="4921200"/>
            <a:ext cx="704880" cy="1057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43800" y="6064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200" y="8380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transform is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7080" y="3124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361960" cy="912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6324480" cy="1049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5881680" cy="928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47920" y="4648320"/>
            <a:ext cx="6858000" cy="90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415880" y="5637240"/>
            <a:ext cx="3384720" cy="868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36280" y="579132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ly when f(x)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to 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88960" y="1144440"/>
            <a:ext cx="158760" cy="219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0120" y="1547640"/>
            <a:ext cx="131760" cy="206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8600" y="2724120"/>
            <a:ext cx="871560" cy="249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006720" y="1144440"/>
            <a:ext cx="158760" cy="219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017880" y="1547640"/>
            <a:ext cx="131760" cy="206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2646360" y="2724120"/>
            <a:ext cx="871560" cy="249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63400" y="1927080"/>
            <a:ext cx="160560" cy="20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009960" y="1906560"/>
            <a:ext cx="160200" cy="20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9600" y="2211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" y="2516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" y="2363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2211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7880" y="2516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17880" y="2363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84160" y="122076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4160" y="1677960"/>
            <a:ext cx="1981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84160" y="160164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84160" y="2363400"/>
            <a:ext cx="7621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1200" y="251604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411120" y="79524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2793960" y="762120"/>
            <a:ext cx="558720" cy="272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06400" y="16765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240" y="3276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4038480" y="3352680"/>
            <a:ext cx="1270080" cy="2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77960" y="327672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one to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5638680" y="3352680"/>
            <a:ext cx="1359000" cy="308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1143000" y="4876920"/>
            <a:ext cx="3255840" cy="57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143000" y="5562720"/>
            <a:ext cx="6718320" cy="590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5"/>
          <a:stretch/>
        </p:blipFill>
        <p:spPr>
          <a:xfrm>
            <a:off x="2139840" y="6265800"/>
            <a:ext cx="6318360" cy="363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"/>
          <a:stretch/>
        </p:blipFill>
        <p:spPr>
          <a:xfrm>
            <a:off x="1135080" y="3809880"/>
            <a:ext cx="5933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686560" y="2514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86560" y="2819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33920" y="2286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209720" y="22860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27040" y="0"/>
            <a:ext cx="62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 Asid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78640" y="18288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7864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0080" y="2365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60960" y="1603440"/>
            <a:ext cx="76212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288120" y="219384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526000" y="16002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201800" y="16002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15000" y="3581280"/>
            <a:ext cx="1407960" cy="300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257800" y="3048120"/>
            <a:ext cx="2362320" cy="396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029200" y="237492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7467480" y="17524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480440" y="2362320"/>
            <a:ext cx="1358640" cy="331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660120" y="1676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59760" y="22860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34800" y="2770200"/>
            <a:ext cx="3170520" cy="353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5280" y="1844640"/>
            <a:ext cx="27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from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4419720" y="4071960"/>
            <a:ext cx="1177920" cy="299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659200" y="39625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80" y="914400"/>
            <a:ext cx="82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ically we can compute a non-reversible func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tr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38680" y="6477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38680" y="6781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86040" y="62485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61840" y="62485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32200" y="5638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30760" y="5791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30760" y="6095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32200" y="6327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5565600"/>
            <a:ext cx="76212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4440240" y="6156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78120" y="55627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353920" y="55627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3181320" y="571500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>
            <a:off x="5619600" y="571500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>
            <a:off x="3179880" y="6330960"/>
            <a:ext cx="385560" cy="36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>
            <a:off x="5584680" y="6324480"/>
            <a:ext cx="816120" cy="330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06720" y="5032440"/>
            <a:ext cx="64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, with proper input we can calculate 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14960" y="625140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c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2048040" y="4567320"/>
            <a:ext cx="701964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686560" y="20574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86560" y="2362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33920" y="18288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209720" y="18288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27040" y="0"/>
            <a:ext cx="62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 Aside 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080" y="1219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78640" y="1371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7864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80080" y="1908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60960" y="1146240"/>
            <a:ext cx="76212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288120" y="173664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526000" y="1143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201800" y="114300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407960" cy="300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5257800" y="2590920"/>
            <a:ext cx="2362320" cy="39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029200" y="191772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7467480" y="129528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7480440" y="1905120"/>
            <a:ext cx="1358640" cy="331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660120" y="1219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760" y="1828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334800" y="2084400"/>
            <a:ext cx="3170520" cy="3538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5280" y="1185840"/>
            <a:ext cx="27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from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4419720" y="3614760"/>
            <a:ext cx="1177920" cy="299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659200" y="350532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0"/>
          <a:stretch/>
        </p:blipFill>
        <p:spPr>
          <a:xfrm>
            <a:off x="228600" y="2743200"/>
            <a:ext cx="4195800" cy="93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1"/>
          <a:stretch/>
        </p:blipFill>
        <p:spPr>
          <a:xfrm>
            <a:off x="152280" y="3809880"/>
            <a:ext cx="4211640" cy="935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2"/>
          <a:stretch/>
        </p:blipFill>
        <p:spPr>
          <a:xfrm>
            <a:off x="169920" y="4765680"/>
            <a:ext cx="8288280" cy="949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3"/>
          <a:stretch/>
        </p:blipFill>
        <p:spPr>
          <a:xfrm>
            <a:off x="1066680" y="5791320"/>
            <a:ext cx="54514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26040" y="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om Thi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115092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34960" y="15667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4960" y="204948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41440" y="2481120"/>
            <a:ext cx="1438200" cy="252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2598840" y="11430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2600280" y="15588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7"/>
          <a:stretch/>
        </p:blipFill>
        <p:spPr>
          <a:xfrm>
            <a:off x="2590920" y="204156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2597040" y="247320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9"/>
          <a:stretch/>
        </p:blipFill>
        <p:spPr>
          <a:xfrm>
            <a:off x="4952880" y="11509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0"/>
          <a:stretch/>
        </p:blipFill>
        <p:spPr>
          <a:xfrm>
            <a:off x="4954680" y="156672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1"/>
          <a:stretch/>
        </p:blipFill>
        <p:spPr>
          <a:xfrm>
            <a:off x="4962600" y="2057400"/>
            <a:ext cx="1438200" cy="271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2"/>
          <a:stretch/>
        </p:blipFill>
        <p:spPr>
          <a:xfrm>
            <a:off x="4968720" y="2479680"/>
            <a:ext cx="1438560" cy="271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3"/>
          <a:stretch/>
        </p:blipFill>
        <p:spPr>
          <a:xfrm>
            <a:off x="7088040" y="1143000"/>
            <a:ext cx="1471680" cy="270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4"/>
          <a:stretch/>
        </p:blipFill>
        <p:spPr>
          <a:xfrm>
            <a:off x="7093080" y="1542960"/>
            <a:ext cx="1471320" cy="270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5"/>
          <a:stretch/>
        </p:blipFill>
        <p:spPr>
          <a:xfrm>
            <a:off x="7094520" y="2481120"/>
            <a:ext cx="1438200" cy="252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6"/>
          <a:stretch/>
        </p:blipFill>
        <p:spPr>
          <a:xfrm>
            <a:off x="7072200" y="2033640"/>
            <a:ext cx="1438560" cy="271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11640" y="29034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29360" y="290340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5240" y="290340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85280" y="274320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led-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NO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7"/>
          <a:stretch/>
        </p:blipFill>
        <p:spPr>
          <a:xfrm>
            <a:off x="3048120" y="3573360"/>
            <a:ext cx="3012840" cy="846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8"/>
          <a:stretch/>
        </p:blipFill>
        <p:spPr>
          <a:xfrm>
            <a:off x="685800" y="4724280"/>
            <a:ext cx="1174680" cy="271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2714760" y="4716360"/>
            <a:ext cx="1162080" cy="271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0"/>
          <a:stretch/>
        </p:blipFill>
        <p:spPr>
          <a:xfrm>
            <a:off x="4873680" y="4716360"/>
            <a:ext cx="1174680" cy="271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1"/>
          <a:stretch/>
        </p:blipFill>
        <p:spPr>
          <a:xfrm>
            <a:off x="7083360" y="4724280"/>
            <a:ext cx="1174680" cy="2714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145160" y="55627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5562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lanc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2094840" y="3238200"/>
            <a:ext cx="609840" cy="4038840"/>
          </a:xfrm>
          <a:custGeom>
            <a:avLst/>
            <a:gdLst>
              <a:gd name="textAreaLeft" fmla="*/ 0 w 609840"/>
              <a:gd name="textAreaRight" fmla="*/ 220320 w 6098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6476400" y="3047760"/>
            <a:ext cx="609840" cy="4419720"/>
          </a:xfrm>
          <a:custGeom>
            <a:avLst/>
            <a:gdLst>
              <a:gd name="textAreaLeft" fmla="*/ 0 w 609840"/>
              <a:gd name="textAreaRight" fmla="*/ 220320 w 60984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280" y="6248520"/>
            <a:ext cx="81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utsch’s problem is to distinguish constant from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05400" y="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ry Complex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18280" y="1981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1828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65640" y="17524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41440" y="1752480"/>
            <a:ext cx="152280" cy="60984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11800" y="1143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10360" y="1295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10360" y="16002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11800" y="183204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92680" y="1069920"/>
            <a:ext cx="76212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919840" y="1660680"/>
            <a:ext cx="288720" cy="244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57720" y="10666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833520" y="1066680"/>
            <a:ext cx="152280" cy="60984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660920" y="1219320"/>
            <a:ext cx="392040" cy="374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660920" y="184140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7099200" y="1219320"/>
            <a:ext cx="392040" cy="3744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7175520" y="182880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49600" y="593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560" y="304812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360" y="403848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560" y="502920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914400" y="1660680"/>
            <a:ext cx="3170160" cy="353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6320" y="59594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0320" y="24382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3873600" y="3352680"/>
            <a:ext cx="195120" cy="268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8"/>
          <a:stretch/>
        </p:blipFill>
        <p:spPr>
          <a:xfrm>
            <a:off x="3873600" y="5218200"/>
            <a:ext cx="195120" cy="268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019920" y="366084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algorithms are allowed to fail with a bounded probability of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3763800" y="4114800"/>
            <a:ext cx="427320" cy="528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3687840" y="6019920"/>
            <a:ext cx="426960" cy="5284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49528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50960" y="7632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19440" cy="1143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83400" y="21337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36800" cy="1143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450800" y="2133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1752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2209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666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6781680" y="180828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08680" y="2819520"/>
            <a:ext cx="125640" cy="1998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596680" y="396252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04720" y="411480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4920" y="5105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1447920" y="411480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219320" y="5105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66880" y="4800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6688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668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6885000" y="58672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8"/>
          <a:stretch/>
        </p:blipFill>
        <p:spPr>
          <a:xfrm>
            <a:off x="6810480" y="491976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9"/>
          <a:stretch/>
        </p:blipFill>
        <p:spPr>
          <a:xfrm>
            <a:off x="7939080" y="2340000"/>
            <a:ext cx="622440" cy="27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0"/>
          <a:stretch/>
        </p:blipFill>
        <p:spPr>
          <a:xfrm>
            <a:off x="8010360" y="538956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650960" y="76320"/>
            <a:ext cx="573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44400" y="91440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4720" y="106668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4920" y="2057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219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1828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7939080" y="1843200"/>
            <a:ext cx="1162080" cy="3142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781680" y="2467080"/>
            <a:ext cx="1393920" cy="285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824200" y="28954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super-polynom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1066680" y="373392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4572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90680" y="373392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426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7888320" y="4295880"/>
            <a:ext cx="1103400" cy="371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593800" y="48006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7962840" y="4910040"/>
            <a:ext cx="671400" cy="285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823480" y="54864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8080" y="5943600"/>
            <a:ext cx="85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ing Simon’s algorithm, in 1994, Peter Shor was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rive an algorithm for efficiently factoring and discrete lo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4960" y="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The Factoring Firest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914400"/>
            <a:ext cx="51814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206079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38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972394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3794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27007633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54853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06504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30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96716199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2120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2213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1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93076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3375000"/>
            <a:ext cx="33526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27721461074353025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71973048224632914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02097116459852171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07112563635903975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375000"/>
            <a:ext cx="335304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0750864240649373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00550386491199064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425267084063851895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63889572617685833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3908520"/>
            <a:ext cx="3045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419720" y="3908520"/>
            <a:ext cx="30456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040" y="496872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lassic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6480" y="4968720"/>
            <a:ext cx="373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’s quantum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54320" y="5411880"/>
            <a:ext cx="1703160" cy="314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553080" y="5425920"/>
            <a:ext cx="1400400" cy="298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311120" y="59594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fficient algorithm for factor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A public key crypt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8814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048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1022400" cy="1533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28600" y="2438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7280" y="2590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96360" y="76320"/>
            <a:ext cx="651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utsch-Jozs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2209680" y="19810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will be a non-reversible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either constant or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73040" y="30481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948120" y="3176640"/>
            <a:ext cx="2873520" cy="299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89960" y="3629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038480" y="3753000"/>
            <a:ext cx="4597560" cy="285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038480" y="4114800"/>
            <a:ext cx="3119400" cy="3538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990720" y="55497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2193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3860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6765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8288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9954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1337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2860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4382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60496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7432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8954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0481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21480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35268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505320" y="5168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990720" y="5092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685800" y="480060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3751200" y="566568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105520" y="5473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3341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5008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7913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1102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71976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85800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701028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620120" y="50922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05520" y="5016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8"/>
          <a:stretch/>
        </p:blipFill>
        <p:spPr>
          <a:xfrm>
            <a:off x="7866000" y="558972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V="1">
            <a:off x="59436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24852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008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55308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16292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31520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467480" y="5409720"/>
            <a:ext cx="0" cy="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54280" y="4572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01960" y="45720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3240" y="601992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76600" y="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9320" y="8380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 in HW #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680" y="16002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ck up HW #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6019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3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501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8824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960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933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0776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7280" y="60958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638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6483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05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181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5334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720" y="365760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297080" y="7632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8320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295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619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6002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7524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9051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0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3623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5146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6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195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9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1240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907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4290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5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066680" y="137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62120" y="10825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27520" y="194796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5181480" y="1755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410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57676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7150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8672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1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7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93432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0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81480" y="129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876920" y="100656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7942320" y="187164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 flipV="1">
            <a:off x="60199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3244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4771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6294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2388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3915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5438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30600" y="853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77920" y="8539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9560" y="230184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8240" y="3505320"/>
            <a:ext cx="81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ailure allow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need to query in the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    to distinguish between constan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3470400" y="3962520"/>
            <a:ext cx="187200" cy="295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676520" y="52578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6"/>
          <a:stretch/>
        </p:blipFill>
        <p:spPr>
          <a:xfrm>
            <a:off x="5838840" y="531972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7"/>
          <a:stretch/>
        </p:blipFill>
        <p:spPr>
          <a:xfrm>
            <a:off x="762120" y="3962520"/>
            <a:ext cx="124776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297080" y="7632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8320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295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4619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6002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7524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9051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0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3623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5146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6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81952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9718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1240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29076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42900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581280" y="1450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1066680" y="137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62120" y="10825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827520" y="194796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181480" y="1755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410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57676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7150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8672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1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93432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08660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96080" y="1374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181480" y="129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4876920" y="100656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7942320" y="187164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 flipV="1">
            <a:off x="60199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3244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4771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6294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23888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39152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543800" y="1692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30600" y="8539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77920" y="8539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9560" y="230184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ether the function is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7600" y="3276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5160" y="3276720"/>
            <a:ext cx="51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two different random valu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are equal, guess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guess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25480" y="6172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7074000" y="6302520"/>
            <a:ext cx="622080" cy="2696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2604960" y="5178600"/>
            <a:ext cx="3527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7080" y="76320"/>
            <a:ext cx="67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7120" y="914400"/>
            <a:ext cx="85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antum gate on n+1 qubits strings which calc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mised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048120" y="175896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449520" y="3003480"/>
            <a:ext cx="144720" cy="257400"/>
          </a:xfrm>
          <a:custGeom>
            <a:avLst/>
            <a:gdLst>
              <a:gd name="textAreaLeft" fmla="*/ 92520 w 144720"/>
              <a:gd name="textAreaRight" fmla="*/ 145080 w 144720"/>
              <a:gd name="textAreaTop" fmla="*/ 6480 h 257400"/>
              <a:gd name="textAreaBottom" fmla="*/ 250920 h 2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5125320" y="3005280"/>
            <a:ext cx="74520" cy="331560"/>
          </a:xfrm>
          <a:custGeom>
            <a:avLst/>
            <a:gdLst>
              <a:gd name="textAreaLeft" fmla="*/ 47160 w 74520"/>
              <a:gd name="textAreaRight" fmla="*/ 74520 w 74520"/>
              <a:gd name="textAreaTop" fmla="*/ 8640 h 331560"/>
              <a:gd name="textAreaBottom" fmla="*/ 322920 h 33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9568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594240" y="2590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59424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595680" y="31273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76560" y="2365200"/>
            <a:ext cx="762120" cy="89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4203720" y="2727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441600" y="236232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117400" y="2362320"/>
            <a:ext cx="152280" cy="609480"/>
          </a:xfrm>
          <a:custGeom>
            <a:avLst/>
            <a:gdLst>
              <a:gd name="textAreaLeft" fmla="*/ 96840 w 152280"/>
              <a:gd name="textAreaRight" fmla="*/ 1522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3782880" y="3962520"/>
            <a:ext cx="1408320" cy="2998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2944800" y="251460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2944800" y="303228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383080" y="2514600"/>
            <a:ext cx="392400" cy="3747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5346720" y="3005280"/>
            <a:ext cx="1359000" cy="3315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"/>
          <a:stretch/>
        </p:blipFill>
        <p:spPr>
          <a:xfrm>
            <a:off x="3792600" y="3529080"/>
            <a:ext cx="2190600" cy="3348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679040" y="24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30160" y="29718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u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9"/>
          <a:stretch/>
        </p:blipFill>
        <p:spPr>
          <a:xfrm>
            <a:off x="2666880" y="5046840"/>
            <a:ext cx="4572000" cy="3952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0"/>
          <a:stretch/>
        </p:blipFill>
        <p:spPr>
          <a:xfrm>
            <a:off x="4114800" y="4800600"/>
            <a:ext cx="3808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145520" y="7632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 1: Phase Kick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514600" y="1236600"/>
            <a:ext cx="4572000" cy="3952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380880" cy="3222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358920" y="2657520"/>
            <a:ext cx="8251560" cy="8478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80880" cy="3225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79560" y="205740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 superposition over second regi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>
            <a:off x="3711600" y="3886200"/>
            <a:ext cx="1317600" cy="30492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5383080" y="3581280"/>
            <a:ext cx="3227400" cy="8319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3724200" y="4648320"/>
            <a:ext cx="1305000" cy="3045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"/>
          <a:stretch/>
        </p:blipFill>
        <p:spPr>
          <a:xfrm>
            <a:off x="5132520" y="4495680"/>
            <a:ext cx="3554280" cy="8319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345960" y="5786280"/>
            <a:ext cx="8417160" cy="84780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3581280" y="5715000"/>
            <a:ext cx="381240" cy="3222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68400" y="52578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is computed into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7926480" y="0"/>
            <a:ext cx="121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710280" y="76320"/>
            <a:ext cx="78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 2: Hadamarding Qu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8952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8952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8952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651120" y="2003400"/>
            <a:ext cx="1911600" cy="17305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3657600" y="4451400"/>
            <a:ext cx="1981080" cy="3920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334800" y="3352680"/>
            <a:ext cx="2713320" cy="2955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200400" y="198108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2359080" y="1219320"/>
            <a:ext cx="4422600" cy="4316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 flipH="1">
            <a:off x="5637960" y="1981080"/>
            <a:ext cx="304920" cy="3048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6102360" y="3119400"/>
            <a:ext cx="2628720" cy="87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230400" y="5562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1179360" y="5715000"/>
            <a:ext cx="3087720" cy="8762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5218200" y="5715000"/>
            <a:ext cx="3087720" cy="8762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4422240" y="5867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8"/>
          <a:stretch/>
        </p:blipFill>
        <p:spPr>
          <a:xfrm>
            <a:off x="4314960" y="519264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9"/>
          <a:stretch/>
        </p:blipFill>
        <p:spPr>
          <a:xfrm>
            <a:off x="7162920" y="838080"/>
            <a:ext cx="1807920" cy="21718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0"/>
          <a:stretch/>
        </p:blipFill>
        <p:spPr>
          <a:xfrm>
            <a:off x="304920" y="838080"/>
            <a:ext cx="1807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313280" y="7632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s 1 and 2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2846160" cy="36687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533520" y="5181480"/>
            <a:ext cx="5933880" cy="8654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flipV="1">
            <a:off x="278604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4344840" y="2552760"/>
            <a:ext cx="4646880" cy="876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 flipH="1">
            <a:off x="4037760" y="1143000"/>
            <a:ext cx="228600" cy="3733920"/>
          </a:xfrm>
          <a:custGeom>
            <a:avLst/>
            <a:gdLst>
              <a:gd name="textAreaLeft" fmla="*/ 145800 w 228600"/>
              <a:gd name="textAreaRight" fmla="*/ 22860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5029200" y="990720"/>
            <a:ext cx="1173240" cy="14097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6705720" y="990720"/>
            <a:ext cx="1001520" cy="14097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6324480" y="1523880"/>
            <a:ext cx="255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313280" y="76320"/>
            <a:ext cx="64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cks 1 and 2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631880" y="1219320"/>
            <a:ext cx="2846520" cy="36687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7884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2732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923760" y="5181480"/>
            <a:ext cx="5934240" cy="865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 flipV="1">
            <a:off x="319896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450680" y="1143000"/>
            <a:ext cx="228600" cy="3124080"/>
          </a:xfrm>
          <a:custGeom>
            <a:avLst/>
            <a:gdLst>
              <a:gd name="textAreaLeft" fmla="*/ 145800 w 228600"/>
              <a:gd name="textAreaRight" fmla="*/ 22860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4984920" y="2286000"/>
            <a:ext cx="2787480" cy="87624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4603680" y="434340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6237360" y="762120"/>
            <a:ext cx="1173240" cy="140976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7913520" y="762120"/>
            <a:ext cx="1001880" cy="14097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7"/>
          <a:stretch/>
        </p:blipFill>
        <p:spPr>
          <a:xfrm>
            <a:off x="7532640" y="1295280"/>
            <a:ext cx="255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313280" y="7632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 in the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2787480" cy="876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973080" y="2703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201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3683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066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6588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8111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782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1160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683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24210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87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7255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8782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30304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19716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33540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487680" y="232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973080" y="224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668160" y="1954080"/>
            <a:ext cx="273240" cy="430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245880" cy="2016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990720" y="3797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9320" y="379728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3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6765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28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95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33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60496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95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48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2148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526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5053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990720" y="334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272880" cy="4302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3751200" y="391320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5392800" y="34653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621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78808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9259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786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2308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9756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5358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6880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68403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007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14528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29756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45020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61688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54760" y="34574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07400" y="30844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392800" y="3008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087880" y="2716200"/>
            <a:ext cx="273240" cy="430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8153280" y="3581280"/>
            <a:ext cx="246240" cy="20160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1447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19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8"/>
          <a:stretch/>
        </p:blipFill>
        <p:spPr>
          <a:xfrm>
            <a:off x="923760" y="5245200"/>
            <a:ext cx="22766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313280" y="7632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 in the 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487520" y="1600200"/>
            <a:ext cx="5294160" cy="8906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06000" y="99072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unction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8520" y="266688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unc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1420920" y="3276720"/>
            <a:ext cx="7494480" cy="8906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374480" y="441972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 in zero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1447920" y="5029200"/>
            <a:ext cx="7451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312920" y="76320"/>
            <a:ext cx="67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1430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 flipH="1">
            <a:off x="5714280" y="114300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6095880" y="2666880"/>
            <a:ext cx="243000" cy="21924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4166640" y="510552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unction is constant, r is always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unction is balanced, r is never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12120" y="624852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constant from balanced using one quantum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080" y="60948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telepor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20760" y="1741320"/>
            <a:ext cx="6288120" cy="176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01600" y="3581280"/>
            <a:ext cx="1841760" cy="54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01600" y="2438280"/>
            <a:ext cx="18288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360" y="17524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88360" y="25146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% 0, 50 %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6720" y="1523880"/>
            <a:ext cx="2438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3840" y="9907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7400" y="30481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21320" y="15238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20960" y="1523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1160" y="12952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3784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9200" y="13716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4952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649116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71400" y="4572000"/>
          <a:ext cx="29844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4572000"/>
                    <a:ext cx="2984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33520" y="5867280"/>
            <a:ext cx="612720" cy="814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467676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114800" y="4419720"/>
            <a:ext cx="1176480" cy="371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95280" y="494028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295280" y="4559400"/>
            <a:ext cx="300240" cy="317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495680" y="4952880"/>
            <a:ext cx="1600200" cy="13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0080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6095880"/>
            <a:ext cx="5335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9120" y="573084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l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6705720" y="5867280"/>
            <a:ext cx="279360" cy="31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6705720" y="6172200"/>
            <a:ext cx="2998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533520" y="1371600"/>
          <a:ext cx="417240" cy="106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1371600"/>
                    <a:ext cx="4172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13"/>
          <a:stretch/>
        </p:blipFill>
        <p:spPr>
          <a:xfrm>
            <a:off x="7848720" y="3124080"/>
            <a:ext cx="669960" cy="890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4"/>
          <a:stretch/>
        </p:blipFill>
        <p:spPr>
          <a:xfrm>
            <a:off x="304920" y="5334120"/>
            <a:ext cx="1841400" cy="54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0" y="411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um superdense 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501640" y="76320"/>
            <a:ext cx="41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utsch-Joz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919080" cy="1143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36040" y="26668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036440" cy="114300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1603080" y="266688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z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19520" y="1523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: Deutsch-Jozsa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43200" y="2286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2743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200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6934320" y="2341440"/>
            <a:ext cx="1247760" cy="3254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6961320" y="3352680"/>
            <a:ext cx="125280" cy="2001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8091360" y="2873520"/>
            <a:ext cx="62244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15120" y="76320"/>
            <a:ext cx="748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rnstein-Vazirani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362320" y="168264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53352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3270240" y="342900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"/>
          <a:stretch/>
        </p:blipFill>
        <p:spPr>
          <a:xfrm>
            <a:off x="2254320" y="2803680"/>
            <a:ext cx="2281320" cy="2714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4"/>
          <a:stretch/>
        </p:blipFill>
        <p:spPr>
          <a:xfrm>
            <a:off x="5767560" y="2746440"/>
            <a:ext cx="1393560" cy="2984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5"/>
          <a:stretch/>
        </p:blipFill>
        <p:spPr>
          <a:xfrm>
            <a:off x="7566120" y="2752560"/>
            <a:ext cx="1199880" cy="285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533520" y="3886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4695840" y="405144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87240" y="76320"/>
            <a:ext cx="767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4240" y="91440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362320" y="1682640"/>
            <a:ext cx="3035160" cy="29844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53352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270240" y="3429000"/>
            <a:ext cx="4197240" cy="2318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54320" y="2803680"/>
            <a:ext cx="2281320" cy="2714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5767560" y="2746440"/>
            <a:ext cx="1393560" cy="2984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7566120" y="2752560"/>
            <a:ext cx="1199880" cy="28584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533520" y="3886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4695840" y="4051440"/>
            <a:ext cx="228600" cy="187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534960" y="472428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querying      yields a single bit of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need n bits of information to describe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0964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7024680" y="6053040"/>
            <a:ext cx="671400" cy="2858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8"/>
          <a:stretch/>
        </p:blipFill>
        <p:spPr>
          <a:xfrm>
            <a:off x="3962520" y="4780080"/>
            <a:ext cx="253800" cy="4014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9"/>
          <a:stretch/>
        </p:blipFill>
        <p:spPr>
          <a:xfrm>
            <a:off x="6781680" y="525780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6880" y="7632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631880" y="1219320"/>
            <a:ext cx="2846520" cy="36687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8840" y="2362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327320" y="114300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923760" y="5181480"/>
            <a:ext cx="5934240" cy="86544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 flipV="1">
            <a:off x="319896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450680" y="1143000"/>
            <a:ext cx="228600" cy="3124080"/>
          </a:xfrm>
          <a:custGeom>
            <a:avLst/>
            <a:gdLst>
              <a:gd name="textAreaLeft" fmla="*/ 145800 w 228600"/>
              <a:gd name="textAreaRight" fmla="*/ 22860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4984920" y="2286000"/>
            <a:ext cx="2787480" cy="8762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4603680" y="434340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5"/>
          <a:stretch/>
        </p:blipFill>
        <p:spPr>
          <a:xfrm>
            <a:off x="5389560" y="3270240"/>
            <a:ext cx="3297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68320" y="76320"/>
            <a:ext cx="359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adamard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28600" y="861840"/>
            <a:ext cx="8272440" cy="89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4913280" cy="89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363600" y="5479920"/>
            <a:ext cx="4589280" cy="3096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380880" y="5938920"/>
            <a:ext cx="8244000" cy="89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485640" y="2819520"/>
            <a:ext cx="8174160" cy="86364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693720" y="3873600"/>
            <a:ext cx="6799320" cy="649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7"/>
          <a:stretch/>
        </p:blipFill>
        <p:spPr>
          <a:xfrm>
            <a:off x="76320" y="4721400"/>
            <a:ext cx="89643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915480" y="7632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8840" y="236232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11430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4276800" cy="397368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 flipH="1">
            <a:off x="5714280" y="1143000"/>
            <a:ext cx="228600" cy="3276720"/>
          </a:xfrm>
          <a:custGeom>
            <a:avLst/>
            <a:gdLst>
              <a:gd name="textAreaLeft" fmla="*/ 145800 w 228600"/>
              <a:gd name="textAreaRight" fmla="*/ 22860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66360" y="579132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etermine     using only a single quantum que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6076800" y="2658960"/>
            <a:ext cx="266760" cy="2192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3316320" y="5946840"/>
            <a:ext cx="2286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058120" y="7632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rnstein-Vazi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96680" y="1371600"/>
            <a:ext cx="48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3: Bernstein-Vazirani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recur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304920" y="2514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zi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900000" cy="9144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2193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s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6688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3124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ct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6885000" y="3276720"/>
            <a:ext cx="125280" cy="1998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6810480" y="2328840"/>
            <a:ext cx="318960" cy="2365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"/>
          <a:stretch/>
        </p:blipFill>
        <p:spPr>
          <a:xfrm>
            <a:off x="8010360" y="2798640"/>
            <a:ext cx="6717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059200" y="76320"/>
            <a:ext cx="549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13516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4240" y="990720"/>
            <a:ext cx="79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ction with n bit strings as input and one bi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3520" y="2286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3520" y="4038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2287440" y="1835280"/>
            <a:ext cx="3198960" cy="29844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4926240" cy="27144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384280" y="5257800"/>
            <a:ext cx="99072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65720" y="5257800"/>
            <a:ext cx="9903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71800" y="548640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563868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71800" y="579132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971800" y="5943600"/>
            <a:ext cx="174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71800" y="6095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62440" y="6248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876920"/>
            <a:ext cx="885600" cy="2998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4495680" y="4876920"/>
            <a:ext cx="885960" cy="29988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5"/>
          <a:stretch/>
        </p:blipFill>
        <p:spPr>
          <a:xfrm>
            <a:off x="2743200" y="5334120"/>
            <a:ext cx="176040" cy="24264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6"/>
          <a:stretch/>
        </p:blipFill>
        <p:spPr>
          <a:xfrm>
            <a:off x="2757600" y="5595840"/>
            <a:ext cx="128520" cy="144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7"/>
          <a:stretch/>
        </p:blipFill>
        <p:spPr>
          <a:xfrm>
            <a:off x="2438280" y="6172200"/>
            <a:ext cx="533520" cy="1699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8"/>
          <a:stretch/>
        </p:blipFill>
        <p:spPr>
          <a:xfrm>
            <a:off x="2760840" y="5985000"/>
            <a:ext cx="134640" cy="1108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448720" y="6858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s that nobody does what Simon s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9"/>
          <a:stretch/>
        </p:blipFill>
        <p:spPr>
          <a:xfrm>
            <a:off x="4786200" y="4176720"/>
            <a:ext cx="790560" cy="290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0"/>
          <a:stretch/>
        </p:blipFill>
        <p:spPr>
          <a:xfrm>
            <a:off x="1341360" y="284004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992880" y="76320"/>
            <a:ext cx="732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088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is guaranteed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088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start querying the function and build up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057400" y="2548080"/>
            <a:ext cx="1420920" cy="2714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34160" y="3200400"/>
            <a:ext cx="85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find                such that                         then we solv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1905120" y="3284640"/>
            <a:ext cx="1049040" cy="31104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4448160" y="3287880"/>
            <a:ext cx="1900080" cy="3283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908520" cy="32868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5"/>
          <a:stretch/>
        </p:blipFill>
        <p:spPr>
          <a:xfrm>
            <a:off x="3881520" y="4572000"/>
            <a:ext cx="1528560" cy="27144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394560" y="487692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uppose we start querying the function m time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6"/>
          <a:stretch/>
        </p:blipFill>
        <p:spPr>
          <a:xfrm>
            <a:off x="3200400" y="1752480"/>
            <a:ext cx="4925880" cy="2714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993240" y="556272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getting a matching pai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7"/>
          <a:stretch/>
        </p:blipFill>
        <p:spPr>
          <a:xfrm>
            <a:off x="5624640" y="6284880"/>
            <a:ext cx="1530360" cy="44928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993960" y="624852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 error query complex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8"/>
          <a:stretch/>
        </p:blipFill>
        <p:spPr>
          <a:xfrm>
            <a:off x="6095880" y="5357880"/>
            <a:ext cx="2570400" cy="7380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1417680" y="131616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280" y="762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75632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41560" y="18907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828800" y="1890720"/>
            <a:ext cx="1816200" cy="38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10960" y="1828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41560" y="25765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833480" y="2576520"/>
            <a:ext cx="3881520" cy="38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6960" y="3124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143000" y="36576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5257800" y="365760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5520" y="4876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Hadam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066680" y="5486400"/>
            <a:ext cx="4792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84560" y="23781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84560" y="2682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32280" y="21495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708440" y="214956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78080" y="1539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76640" y="16923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76640" y="1996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178080" y="222876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59320" y="1467000"/>
            <a:ext cx="761760" cy="12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3786120" y="205740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24360" y="146376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4700520" y="146376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2527200" y="161604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2527200" y="2238480"/>
            <a:ext cx="385920" cy="3682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4965840" y="1616040"/>
            <a:ext cx="392040" cy="3747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5"/>
          <a:stretch/>
        </p:blipFill>
        <p:spPr>
          <a:xfrm>
            <a:off x="5041800" y="2225520"/>
            <a:ext cx="1359000" cy="3319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3216240" y="9907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12120" y="304812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revious problems, we can’t use the phase kick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because there is no structure in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18360" y="50292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ah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6"/>
          <a:stretch/>
        </p:blipFill>
        <p:spPr>
          <a:xfrm>
            <a:off x="3505320" y="419112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438280" y="1432080"/>
            <a:ext cx="2846520" cy="34416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2590920" y="5562720"/>
            <a:ext cx="2311200" cy="8031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 flipV="1">
            <a:off x="39625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6105600" y="2819520"/>
            <a:ext cx="2733480" cy="8031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5419800" y="1295280"/>
            <a:ext cx="609480" cy="3657600"/>
          </a:xfrm>
          <a:custGeom>
            <a:avLst/>
            <a:gdLst>
              <a:gd name="textAreaLeft" fmla="*/ 0 w 609480"/>
              <a:gd name="textAreaRight" fmla="*/ 219960 w 6094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268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9392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82808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182808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2733840" cy="8031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7440" y="99072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he secon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8160" y="25146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promise o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1600" y="358128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ies that after we measure, we have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60080" y="487692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ndom uniformly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1920" y="6019920"/>
            <a:ext cx="71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 at this time does us no goo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5106960" y="4981680"/>
            <a:ext cx="1432080" cy="3031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2019240" y="4021200"/>
            <a:ext cx="3390840" cy="62712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540720" y="54100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ly distributed = all strings equally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1782720" y="3032280"/>
            <a:ext cx="41036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55760" cy="6271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6720" y="1752480"/>
            <a:ext cx="816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 in the computational basis at this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us no good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98160" y="281952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andom uniformly distribu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5045040" y="2924280"/>
            <a:ext cx="1432080" cy="30312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035080" y="4259160"/>
            <a:ext cx="327240" cy="31284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84120" y="3657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yields ei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3009960" y="4270320"/>
            <a:ext cx="799920" cy="28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2441520" y="4157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" y="472428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don’t know x, so we can’t use this to find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268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93920" y="3886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qu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1828080" y="1219320"/>
            <a:ext cx="685800" cy="1981080"/>
          </a:xfrm>
          <a:custGeom>
            <a:avLst/>
            <a:gdLst>
              <a:gd name="textAreaLeft" fmla="*/ -360 w 685800"/>
              <a:gd name="textAreaRight" fmla="*/ 24732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828080" y="3276720"/>
            <a:ext cx="685800" cy="1752480"/>
          </a:xfrm>
          <a:custGeom>
            <a:avLst/>
            <a:gdLst>
              <a:gd name="textAreaLeft" fmla="*/ -360 w 685800"/>
              <a:gd name="textAreaRight" fmla="*/ 247320 w 6858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2743200" y="1236600"/>
            <a:ext cx="3846600" cy="382104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376200" y="5641920"/>
            <a:ext cx="798660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986600" cy="8352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197600" cy="23148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5032080" cy="83520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232920" y="4419720"/>
            <a:ext cx="83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this state, we obtain uniformly distributed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of     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1752480" y="4952880"/>
            <a:ext cx="162000" cy="2286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99520" y="579132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   we have eliminated the possible values of     by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5"/>
          <a:stretch/>
        </p:blipFill>
        <p:spPr>
          <a:xfrm>
            <a:off x="762120" y="5910120"/>
            <a:ext cx="885600" cy="3114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6"/>
          <a:stretch/>
        </p:blipFill>
        <p:spPr>
          <a:xfrm>
            <a:off x="7500960" y="5915160"/>
            <a:ext cx="198360" cy="2221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7"/>
          <a:stretch/>
        </p:blipFill>
        <p:spPr>
          <a:xfrm>
            <a:off x="415800" y="2771640"/>
            <a:ext cx="8578800" cy="2764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8"/>
          <a:stretch/>
        </p:blipFill>
        <p:spPr>
          <a:xfrm>
            <a:off x="3060720" y="5327640"/>
            <a:ext cx="24908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273320" y="1828800"/>
            <a:ext cx="4670280" cy="2635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302040" y="2438280"/>
            <a:ext cx="68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values of       which are 0, this doesn’t restr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2286000" y="2595600"/>
            <a:ext cx="260280" cy="2268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300240" y="3048120"/>
            <a:ext cx="79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values of       which are 1, the corresponding      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 to 0.   This restricts the set of possible     ‘s by ha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2286000" y="3205080"/>
            <a:ext cx="260280" cy="2271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4"/>
          <a:stretch/>
        </p:blipFill>
        <p:spPr>
          <a:xfrm>
            <a:off x="7091280" y="2619360"/>
            <a:ext cx="244440" cy="2286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6981840" y="3214800"/>
            <a:ext cx="244440" cy="2286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6"/>
          <a:stretch/>
        </p:blipFill>
        <p:spPr>
          <a:xfrm>
            <a:off x="6431040" y="3548160"/>
            <a:ext cx="169920" cy="1904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7"/>
          <a:stretch/>
        </p:blipFill>
        <p:spPr>
          <a:xfrm>
            <a:off x="1676520" y="4172040"/>
            <a:ext cx="914400" cy="2476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8"/>
          <a:stretch/>
        </p:blipFill>
        <p:spPr>
          <a:xfrm>
            <a:off x="1676520" y="4565520"/>
            <a:ext cx="2523960" cy="3114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9"/>
          <a:stretch/>
        </p:blipFill>
        <p:spPr>
          <a:xfrm>
            <a:off x="2819520" y="5029200"/>
            <a:ext cx="498132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10"/>
          <a:stretch/>
        </p:blipFill>
        <p:spPr>
          <a:xfrm>
            <a:off x="2895480" y="5486400"/>
            <a:ext cx="1787760" cy="31104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47240" y="40384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1"/>
          <a:stretch/>
        </p:blipFill>
        <p:spPr>
          <a:xfrm>
            <a:off x="4876920" y="6232680"/>
            <a:ext cx="590400" cy="24444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819880" y="60958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   ‘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2"/>
          <a:stretch/>
        </p:blipFill>
        <p:spPr>
          <a:xfrm>
            <a:off x="4233960" y="6248520"/>
            <a:ext cx="169920" cy="19044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13"/>
          <a:stretch/>
        </p:blipFill>
        <p:spPr>
          <a:xfrm>
            <a:off x="5722920" y="6224760"/>
            <a:ext cx="569880" cy="24444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14"/>
          <a:stretch/>
        </p:blipFill>
        <p:spPr>
          <a:xfrm>
            <a:off x="6624720" y="6224760"/>
            <a:ext cx="569880" cy="24444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15"/>
          <a:stretch/>
        </p:blipFill>
        <p:spPr>
          <a:xfrm>
            <a:off x="7661160" y="6234120"/>
            <a:ext cx="555840" cy="22716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16"/>
          <a:stretch/>
        </p:blipFill>
        <p:spPr>
          <a:xfrm>
            <a:off x="3060720" y="987480"/>
            <a:ext cx="249084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2400" y="175248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248520" y="180504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09960" y="9144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ngle run eliminates half, multiple runs….how to sol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900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1994040" y="2643120"/>
            <a:ext cx="444240" cy="4050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475200" y="380988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dd thes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3"/>
          <a:stretch/>
        </p:blipFill>
        <p:spPr>
          <a:xfrm>
            <a:off x="1133640" y="3200400"/>
            <a:ext cx="3144600" cy="3380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4"/>
          <a:stretch/>
        </p:blipFill>
        <p:spPr>
          <a:xfrm>
            <a:off x="5029200" y="3200400"/>
            <a:ext cx="1682640" cy="35568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5"/>
          <a:stretch/>
        </p:blipFill>
        <p:spPr>
          <a:xfrm>
            <a:off x="1057320" y="4419720"/>
            <a:ext cx="3144960" cy="33804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6"/>
          <a:stretch/>
        </p:blipFill>
        <p:spPr>
          <a:xfrm>
            <a:off x="4006800" y="1906560"/>
            <a:ext cx="243000" cy="20016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7"/>
          <a:stretch/>
        </p:blipFill>
        <p:spPr>
          <a:xfrm>
            <a:off x="1066680" y="4919760"/>
            <a:ext cx="3063960" cy="33804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8"/>
          <a:stretch/>
        </p:blipFill>
        <p:spPr>
          <a:xfrm>
            <a:off x="1009800" y="5559480"/>
            <a:ext cx="6381720" cy="33804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997200" y="617220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ll additions are done modu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0" y="838080"/>
            <a:ext cx="9144000" cy="2438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1143000" y="1566720"/>
            <a:ext cx="2349360" cy="3384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349360" cy="33804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3"/>
          <a:stretch/>
        </p:blipFill>
        <p:spPr>
          <a:xfrm>
            <a:off x="1152360" y="2666880"/>
            <a:ext cx="7915320" cy="33840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2880" y="9907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30040" y="350532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ultiply these vectors by a scalar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4"/>
          <a:stretch/>
        </p:blipFill>
        <p:spPr>
          <a:xfrm>
            <a:off x="6411960" y="3591000"/>
            <a:ext cx="420480" cy="35064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5"/>
          <a:stretch/>
        </p:blipFill>
        <p:spPr>
          <a:xfrm>
            <a:off x="1068480" y="4191120"/>
            <a:ext cx="3757680" cy="33804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6"/>
          <a:stretch/>
        </p:blipFill>
        <p:spPr>
          <a:xfrm>
            <a:off x="5243400" y="4191120"/>
            <a:ext cx="2662200" cy="38556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7"/>
          <a:stretch/>
        </p:blipFill>
        <p:spPr>
          <a:xfrm>
            <a:off x="990720" y="5713560"/>
            <a:ext cx="2349360" cy="30636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2880" y="4724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8"/>
          <a:stretch/>
        </p:blipFill>
        <p:spPr>
          <a:xfrm>
            <a:off x="990720" y="5257800"/>
            <a:ext cx="93960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9"/>
          <a:stretch/>
        </p:blipFill>
        <p:spPr>
          <a:xfrm>
            <a:off x="928800" y="6215040"/>
            <a:ext cx="250020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05280" y="91440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product of 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80988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1152360" y="2130480"/>
            <a:ext cx="3130560" cy="33804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4"/>
          <a:stretch/>
        </p:blipFill>
        <p:spPr>
          <a:xfrm>
            <a:off x="1066680" y="2743200"/>
            <a:ext cx="6553440" cy="32400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1112760" y="3352680"/>
            <a:ext cx="1478160" cy="32400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0920" y="4114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6"/>
          <a:stretch/>
        </p:blipFill>
        <p:spPr>
          <a:xfrm>
            <a:off x="914400" y="4648320"/>
            <a:ext cx="2349360" cy="33804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7"/>
          <a:stretch/>
        </p:blipFill>
        <p:spPr>
          <a:xfrm>
            <a:off x="914400" y="5138640"/>
            <a:ext cx="2349360" cy="33840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8"/>
          <a:stretch/>
        </p:blipFill>
        <p:spPr>
          <a:xfrm>
            <a:off x="849240" y="5797440"/>
            <a:ext cx="79138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3280" y="7621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4756320" cy="36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1560" y="18907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28800" y="1890720"/>
            <a:ext cx="1816200" cy="382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10960" y="1828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bit 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41560" y="2576520"/>
            <a:ext cx="38232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833480" y="2576520"/>
            <a:ext cx="3881520" cy="38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6960" y="312408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computational qubit wav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43000" y="3657600"/>
            <a:ext cx="2624040" cy="102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257800" y="3657600"/>
            <a:ext cx="2327400" cy="1028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5520" y="4876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qubit Hadam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1066680" y="5486400"/>
            <a:ext cx="4792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09600" y="22096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ba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1177920" y="2743200"/>
            <a:ext cx="2774880" cy="33804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1181160" y="3270240"/>
            <a:ext cx="2774880" cy="33804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1209600" y="4191120"/>
            <a:ext cx="2789280" cy="33804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2860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150840" y="4933800"/>
            <a:ext cx="4849920" cy="324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471600" y="6089760"/>
            <a:ext cx="7985160" cy="3380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8"/>
          <a:stretch/>
        </p:blipFill>
        <p:spPr>
          <a:xfrm>
            <a:off x="455760" y="5486400"/>
            <a:ext cx="8611920" cy="3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304920" y="22096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expand in about a different set of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31480" y="3505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968400" y="2732040"/>
            <a:ext cx="2278080" cy="2365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1828800" y="3654360"/>
            <a:ext cx="914400" cy="2304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812880" y="4114800"/>
            <a:ext cx="1812960" cy="33012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6"/>
          <a:stretch/>
        </p:blipFill>
        <p:spPr>
          <a:xfrm>
            <a:off x="838080" y="4622760"/>
            <a:ext cx="1812960" cy="3301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7715160" cy="3304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8"/>
          <a:stretch/>
        </p:blipFill>
        <p:spPr>
          <a:xfrm>
            <a:off x="1314360" y="5791320"/>
            <a:ext cx="7448760" cy="3301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9"/>
          <a:stretch/>
        </p:blipFill>
        <p:spPr>
          <a:xfrm>
            <a:off x="1295280" y="6324480"/>
            <a:ext cx="16131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06720" y="9144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1"/>
          <a:stretch/>
        </p:blipFill>
        <p:spPr>
          <a:xfrm>
            <a:off x="1841400" y="966960"/>
            <a:ext cx="444600" cy="40464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22480" y="1523880"/>
            <a:ext cx="3144600" cy="3384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304920" y="22096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expand in about a different set of v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968400" y="2732040"/>
            <a:ext cx="2278080" cy="2365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386640" y="335268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se n vectors are linear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8780760" cy="3236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flipV="1">
            <a:off x="2066760" y="525744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60956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6858000" y="49528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248160" y="56386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5"/>
          <a:stretch/>
        </p:blipFill>
        <p:spPr>
          <a:xfrm>
            <a:off x="2448000" y="5638680"/>
            <a:ext cx="407880" cy="23652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6"/>
          <a:stretch/>
        </p:blipFill>
        <p:spPr>
          <a:xfrm>
            <a:off x="1371600" y="5330880"/>
            <a:ext cx="425520" cy="23652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7"/>
          <a:stretch/>
        </p:blipFill>
        <p:spPr>
          <a:xfrm>
            <a:off x="7162920" y="5334120"/>
            <a:ext cx="407880" cy="2365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8"/>
          <a:stretch/>
        </p:blipFill>
        <p:spPr>
          <a:xfrm>
            <a:off x="6620040" y="5940360"/>
            <a:ext cx="425160" cy="2365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768960" y="609588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263560" y="617220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l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9"/>
          <a:stretch/>
        </p:blipFill>
        <p:spPr>
          <a:xfrm>
            <a:off x="4768920" y="5029200"/>
            <a:ext cx="20890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02400" y="9144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77840" cy="2001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6248520" y="96696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285480" y="160020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uns of the quantum algorithm yield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3"/>
          <a:stretch/>
        </p:blipFill>
        <p:spPr>
          <a:xfrm>
            <a:off x="3354480" y="3427560"/>
            <a:ext cx="1546200" cy="3348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962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98040" y="22860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4"/>
          <a:stretch/>
        </p:blipFill>
        <p:spPr>
          <a:xfrm>
            <a:off x="6477120" y="3124080"/>
            <a:ext cx="279360" cy="24444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251640" y="3886200"/>
            <a:ext cx="86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obtain             linearly independent equations of this fo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n 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5"/>
          <a:stretch/>
        </p:blipFill>
        <p:spPr>
          <a:xfrm>
            <a:off x="2057400" y="4038480"/>
            <a:ext cx="696960" cy="21132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6"/>
          <a:stretch/>
        </p:blipFill>
        <p:spPr>
          <a:xfrm>
            <a:off x="3308400" y="213192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7"/>
          <a:stretch/>
        </p:blipFill>
        <p:spPr>
          <a:xfrm>
            <a:off x="3301920" y="2557440"/>
            <a:ext cx="156204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846880" y="0"/>
            <a:ext cx="3478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0" y="1523880"/>
            <a:ext cx="66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f y is one of vectors with only on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2867040" y="3276720"/>
            <a:ext cx="1019160" cy="33480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3611160" y="27147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3517920" y="2819520"/>
            <a:ext cx="122040" cy="24264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460080" y="32004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imp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57560" y="4114800"/>
            <a:ext cx="73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if y is one of vectors with only one two 1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0920" y="541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is implies                       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3"/>
          <a:stretch/>
        </p:blipFill>
        <p:spPr>
          <a:xfrm>
            <a:off x="2895480" y="5484960"/>
            <a:ext cx="190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4" name="" descr=""/>
          <p:cNvPicPr/>
          <p:nvPr/>
        </p:nvPicPr>
        <p:blipFill>
          <a:blip r:embed="rId4"/>
          <a:stretch/>
        </p:blipFill>
        <p:spPr>
          <a:xfrm>
            <a:off x="5357880" y="5546880"/>
            <a:ext cx="1195200" cy="24444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5"/>
          <a:stretch/>
        </p:blipFill>
        <p:spPr>
          <a:xfrm>
            <a:off x="3019320" y="912960"/>
            <a:ext cx="2673360" cy="33480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6"/>
          <a:stretch/>
        </p:blipFill>
        <p:spPr>
          <a:xfrm>
            <a:off x="1398600" y="2289240"/>
            <a:ext cx="5332320" cy="34920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7"/>
          <a:stretch/>
        </p:blipFill>
        <p:spPr>
          <a:xfrm>
            <a:off x="1481040" y="4734000"/>
            <a:ext cx="62517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403880" y="1677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403880" y="1830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403880" y="1982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3578400" y="2198520"/>
            <a:ext cx="1984320" cy="31752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3749760" y="83808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3743280" y="126360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685800" y="3124080"/>
            <a:ext cx="7759800" cy="3492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679320" y="3736800"/>
            <a:ext cx="7759800" cy="34956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326880" y="4952880"/>
            <a:ext cx="8466120" cy="36684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44956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9568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956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54800" y="2590920"/>
            <a:ext cx="62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ivalent to (remember, we know the y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698400" y="1295280"/>
            <a:ext cx="7759800" cy="34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698400" y="1981080"/>
            <a:ext cx="7759800" cy="34920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152280" y="25146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31752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76320" y="2720880"/>
            <a:ext cx="8839080" cy="2588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155160" y="312408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dd rows together to get new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54440" y="373392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lways relabel the         and corresponding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5"/>
          <a:stretch/>
        </p:blipFill>
        <p:spPr>
          <a:xfrm>
            <a:off x="4022640" y="3886200"/>
            <a:ext cx="262080" cy="24444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6"/>
          <a:stretch/>
        </p:blipFill>
        <p:spPr>
          <a:xfrm>
            <a:off x="7461360" y="3762360"/>
            <a:ext cx="7570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760" y="990720"/>
            <a:ext cx="808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se two techniques it is always possibl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s to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046840" cy="42228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1592280" y="2658960"/>
            <a:ext cx="5046480" cy="42228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3"/>
          <a:stretch/>
        </p:blipFill>
        <p:spPr>
          <a:xfrm>
            <a:off x="1114560" y="3429000"/>
            <a:ext cx="6352920" cy="42228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262080" cy="2444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97560" y="426708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ime indicates that the       may have been permu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56960" y="510552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v’s this allows us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6553080" y="5272200"/>
            <a:ext cx="26208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247760" y="0"/>
            <a:ext cx="71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Z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Gaussian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80" y="12193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602080" cy="34920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828720" y="2400480"/>
            <a:ext cx="2601720" cy="34920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5410080" y="1066680"/>
            <a:ext cx="1562400" cy="335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4611600" y="1523880"/>
            <a:ext cx="3273480" cy="33516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5410080" y="2133720"/>
            <a:ext cx="1562400" cy="3348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6"/>
          <a:stretch/>
        </p:blipFill>
        <p:spPr>
          <a:xfrm>
            <a:off x="3657600" y="2666880"/>
            <a:ext cx="4995720" cy="33516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7"/>
          <a:stretch/>
        </p:blipFill>
        <p:spPr>
          <a:xfrm>
            <a:off x="824040" y="2981160"/>
            <a:ext cx="2601720" cy="34956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/>
          <p:cNvPicPr/>
          <p:nvPr/>
        </p:nvPicPr>
        <p:blipFill>
          <a:blip r:embed="rId8"/>
          <a:stretch/>
        </p:blipFill>
        <p:spPr>
          <a:xfrm>
            <a:off x="5524560" y="3198960"/>
            <a:ext cx="1562040" cy="3348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9"/>
          <a:stretch/>
        </p:blipFill>
        <p:spPr>
          <a:xfrm>
            <a:off x="4815000" y="3703680"/>
            <a:ext cx="3273480" cy="33480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0"/>
          <a:stretch/>
        </p:blipFill>
        <p:spPr>
          <a:xfrm>
            <a:off x="380880" y="4267080"/>
            <a:ext cx="3273480" cy="3351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963600" y="41911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in correc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1"/>
          <a:stretch/>
        </p:blipFill>
        <p:spPr>
          <a:xfrm>
            <a:off x="8501040" y="1066680"/>
            <a:ext cx="490680" cy="34920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12"/>
          <a:stretch/>
        </p:blipFill>
        <p:spPr>
          <a:xfrm>
            <a:off x="8534520" y="2133720"/>
            <a:ext cx="490320" cy="34920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13"/>
          <a:stretch/>
        </p:blipFill>
        <p:spPr>
          <a:xfrm>
            <a:off x="8531280" y="3279600"/>
            <a:ext cx="490320" cy="34956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14"/>
          <a:stretch/>
        </p:blipFill>
        <p:spPr>
          <a:xfrm>
            <a:off x="385920" y="4950000"/>
            <a:ext cx="3273120" cy="3348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3967200" y="48769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ll thre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5"/>
          <a:stretch/>
        </p:blipFill>
        <p:spPr>
          <a:xfrm>
            <a:off x="384120" y="5608800"/>
            <a:ext cx="3273480" cy="33480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4039920" y="54864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in correc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4120" y="61722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6"/>
          <a:stretch/>
        </p:blipFill>
        <p:spPr>
          <a:xfrm>
            <a:off x="2228760" y="6019920"/>
            <a:ext cx="409572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7"/>
          <a:stretch/>
        </p:blipFill>
        <p:spPr>
          <a:xfrm>
            <a:off x="2206800" y="6480000"/>
            <a:ext cx="409572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1906920" y="7632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 Class Probl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59400" y="76320"/>
            <a:ext cx="18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5440" y="762120"/>
            <a:ext cx="51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damard orthogonality relation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88160" cy="1022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7824960" cy="1022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2680" y="2514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400" y="9144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he bit strings      as vectors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177840" cy="20016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6248520" y="966960"/>
            <a:ext cx="444240" cy="40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85480" y="160020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uns of the quantum algorithm yield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3314880" y="2133720"/>
            <a:ext cx="1562040" cy="33480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3308400" y="2558880"/>
            <a:ext cx="1562040" cy="33516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3354480" y="3427560"/>
            <a:ext cx="1546200" cy="33480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39625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8040" y="22860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6"/>
          <a:stretch/>
        </p:blipFill>
        <p:spPr>
          <a:xfrm>
            <a:off x="6477120" y="3124080"/>
            <a:ext cx="2793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255960" y="3886200"/>
            <a:ext cx="79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obtain     linearly independent equations of this fo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n (Gaussian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03120" y="4800600"/>
            <a:ext cx="877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   linearly independent      ‘s.  What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that            is linearly independent of previous     ‘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" descr=""/>
          <p:cNvPicPr/>
          <p:nvPr/>
        </p:nvPicPr>
        <p:blipFill>
          <a:blip r:embed="rId7"/>
          <a:stretch/>
        </p:blipFill>
        <p:spPr>
          <a:xfrm>
            <a:off x="6002280" y="4933800"/>
            <a:ext cx="279360" cy="2448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8"/>
          <a:stretch/>
        </p:blipFill>
        <p:spPr>
          <a:xfrm>
            <a:off x="2519280" y="5281560"/>
            <a:ext cx="790560" cy="2952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9"/>
          <a:stretch/>
        </p:blipFill>
        <p:spPr>
          <a:xfrm>
            <a:off x="2881440" y="4900680"/>
            <a:ext cx="172800" cy="24300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0"/>
          <a:stretch/>
        </p:blipFill>
        <p:spPr>
          <a:xfrm>
            <a:off x="8082000" y="5281560"/>
            <a:ext cx="279360" cy="24444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11"/>
          <a:stretch/>
        </p:blipFill>
        <p:spPr>
          <a:xfrm>
            <a:off x="1981080" y="5638680"/>
            <a:ext cx="4330800" cy="84456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2"/>
          <a:stretch/>
        </p:blipFill>
        <p:spPr>
          <a:xfrm>
            <a:off x="2009880" y="4044960"/>
            <a:ext cx="215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916200" y="7632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330800" cy="84456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379080" y="1752480"/>
            <a:ext cx="83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our             equations are lin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91320" y="5181480"/>
            <a:ext cx="852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stant probability we obtain linearly independenc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solve Simon’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2"/>
          <a:stretch/>
        </p:blipFill>
        <p:spPr>
          <a:xfrm>
            <a:off x="4738680" y="1846440"/>
            <a:ext cx="838080" cy="25380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3"/>
          <a:stretch/>
        </p:blipFill>
        <p:spPr>
          <a:xfrm>
            <a:off x="666720" y="2728800"/>
            <a:ext cx="7567560" cy="773280"/>
          </a:xfrm>
          <a:prstGeom prst="rect">
            <a:avLst/>
          </a:prstGeom>
          <a:ln w="0">
            <a:noFill/>
          </a:ln>
        </p:spPr>
      </p:pic>
      <p:pic>
        <p:nvPicPr>
          <p:cNvPr id="1143" name="" descr=""/>
          <p:cNvPicPr/>
          <p:nvPr/>
        </p:nvPicPr>
        <p:blipFill>
          <a:blip r:embed="rId4"/>
          <a:stretch/>
        </p:blipFill>
        <p:spPr>
          <a:xfrm>
            <a:off x="985680" y="3805200"/>
            <a:ext cx="73202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762120" y="19810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38400" y="114300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Simon’s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43828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classical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7736040" y="1704960"/>
            <a:ext cx="1103040" cy="37152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441160" y="22096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ed error quantum q.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7810560" y="2319480"/>
            <a:ext cx="671400" cy="28548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2670120" y="28954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irst exponential separ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84480" y="76320"/>
            <a:ext cx="474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mo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2850480" y="76320"/>
            <a:ext cx="35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oh-Poo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36520" y="990720"/>
            <a:ext cx="83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like to pooh-pooh these early problems because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olve problems which are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31480" y="2286000"/>
            <a:ext cx="785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silly.  These results show that treating a devic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 or as quantum show amazing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2352600" cy="282888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2"/>
          <a:stretch/>
        </p:blipFill>
        <p:spPr>
          <a:xfrm>
            <a:off x="4876920" y="3648240"/>
            <a:ext cx="2352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10760" y="84240"/>
            <a:ext cx="6513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Classical Promise Problem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3400" y="1219320"/>
            <a:ext cx="70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lack box which computes som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1280" y="1670040"/>
            <a:ext cx="1457280" cy="1409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2290680"/>
            <a:ext cx="304560" cy="25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878040" cy="428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4120" y="25909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1160" y="25909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2200" y="5425920"/>
            <a:ext cx="89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black box in order to determine which subset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8320" y="30481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4290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805360" y="35193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2680" y="44197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187800" y="45100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482760" y="49068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80" y="15228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antum Promise Query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6280" y="914400"/>
            <a:ext cx="87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antum gate which, when used as a classic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s a reversib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9920" y="24447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1880" y="24447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560" y="565452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inimal number of times we hav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query) the quantum gate in order to determine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t       the function belongs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8320" y="3124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657600"/>
            <a:ext cx="812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longs to a set     which is a sub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ll possib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05360" y="3747960"/>
            <a:ext cx="231840" cy="26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2680" y="4648320"/>
            <a:ext cx="792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    can be divided into disjoin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87800" y="4738680"/>
            <a:ext cx="23184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2760" y="5135400"/>
            <a:ext cx="2184120" cy="317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587600" y="64771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276720" y="215280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486400" y="214488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857760" y="1746360"/>
            <a:ext cx="14349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02200" y="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6360" y="8380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u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3600" y="20700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920" y="20700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qubi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0" y="27496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00400" y="1778040"/>
            <a:ext cx="380880" cy="361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10080" y="1770120"/>
            <a:ext cx="914400" cy="36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781440" y="1371600"/>
            <a:ext cx="1434960" cy="1409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1600" y="2971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uter product form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43200" y="3429000"/>
            <a:ext cx="3184560" cy="102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1960" y="4343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912960" y="4797360"/>
            <a:ext cx="74707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7:43:59Z</dcterms:created>
  <dc:creator>Dave Bacon</dc:creator>
  <dc:description/>
  <dc:language>en-US</dc:language>
  <cp:lastModifiedBy>Dave Bacon</cp:lastModifiedBy>
  <dcterms:modified xsi:type="dcterms:W3CDTF">2005-07-29T00:07:24Z</dcterms:modified>
  <cp:revision>54</cp:revision>
  <dc:subject/>
  <dc:title>Slide 1</dc:title>
</cp:coreProperties>
</file>