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127.png" ContentType="image/png"/>
  <Override PartName="/ppt/media/image36.png" ContentType="image/png"/>
  <Override PartName="/ppt/media/image51.png" ContentType="image/png"/>
  <Override PartName="/ppt/media/image4.jpeg" ContentType="image/jpe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8.png" ContentType="image/png"/>
  <Override PartName="/ppt/media/image129.png" ContentType="image/png"/>
  <Override PartName="/ppt/media/image32.png" ContentType="image/png"/>
  <Override PartName="/ppt/media/image10.png" ContentType="image/png"/>
  <Override PartName="/ppt/media/image107.png" ContentType="image/png"/>
  <Override PartName="/ppt/media/image47.png" ContentType="image/png"/>
  <Override PartName="/ppt/media/image133.png" ContentType="image/png"/>
  <Override PartName="/ppt/media/image11.png" ContentType="image/png"/>
  <Override PartName="/ppt/media/image108.png" ContentType="image/png"/>
  <Override PartName="/ppt/media/image48.png" ContentType="image/png"/>
  <Override PartName="/ppt/media/image134.png" ContentType="image/png"/>
  <Override PartName="/ppt/media/image135.png" ContentType="image/png"/>
  <Override PartName="/ppt/media/image35.png" ContentType="image/png"/>
  <Override PartName="/ppt/media/image158.png" ContentType="image/png"/>
  <Override PartName="/ppt/media/image5.jpeg" ContentType="image/jpeg"/>
  <Override PartName="/ppt/media/image61.png" ContentType="image/png"/>
  <Override PartName="/ppt/media/image160.png" ContentType="image/png"/>
  <Override PartName="/ppt/media/image161.png" ContentType="image/png"/>
  <Override PartName="/ppt/media/image162.png" ContentType="image/png"/>
  <Override PartName="/ppt/media/image163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3.png" ContentType="image/png"/>
  <Override PartName="/ppt/media/image166.png" ContentType="image/png"/>
  <Override PartName="/ppt/media/image44.png" ContentType="image/png"/>
  <Override PartName="/ppt/media/image130.png" ContentType="image/png"/>
  <Override PartName="/ppt/media/image167.png" ContentType="image/png"/>
  <Override PartName="/ppt/media/image156.png" ContentType="image/png"/>
  <Override PartName="/ppt/media/image45.png" ContentType="image/png"/>
  <Override PartName="/ppt/media/image131.png" ContentType="image/png"/>
  <Override PartName="/ppt/media/image168.png" ContentType="image/png"/>
  <Override PartName="/ppt/media/image34.png" ContentType="image/png"/>
  <Override PartName="/ppt/media/image157.png" ContentType="image/png"/>
  <Override PartName="/ppt/media/image60.png" ContentType="image/png"/>
  <Override PartName="/ppt/media/image46.png" ContentType="image/png"/>
  <Override PartName="/ppt/media/image132.png" ContentType="image/png"/>
  <Override PartName="/ppt/media/image169.png" ContentType="image/png"/>
  <Override PartName="/ppt/media/image152.png" ContentType="image/png"/>
  <Override PartName="/ppt/media/image151.png" ContentType="image/png"/>
  <Override PartName="/ppt/media/image150.png" ContentType="image/png"/>
  <Override PartName="/ppt/media/image147.png" ContentType="image/png"/>
  <Override PartName="/ppt/media/image50.png" ContentType="image/png"/>
  <Override PartName="/ppt/media/image146.png" ContentType="image/png"/>
  <Override PartName="/ppt/media/image145.png" ContentType="image/png"/>
  <Override PartName="/ppt/media/image143.png" ContentType="image/png"/>
  <Override PartName="/ppt/media/image56.png" ContentType="image/png"/>
  <Override PartName="/ppt/media/image142.png" ContentType="image/png"/>
  <Override PartName="/ppt/media/image55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37.png" ContentType="image/png"/>
  <Override PartName="/ppt/media/image40.png" ContentType="image/png"/>
  <Override PartName="/ppt/media/image136.png" ContentType="image/png"/>
  <Override PartName="/ppt/media/image39.png" ContentType="image/png"/>
  <Override PartName="/ppt/media/image144.png" ContentType="image/png"/>
  <Override PartName="/ppt/media/image6.gif" ContentType="image/gif"/>
  <Override PartName="/ppt/media/image31.png" ContentType="image/png"/>
  <Override PartName="/ppt/media/image9.png" ContentType="image/png"/>
  <Override PartName="/ppt/media/image153.png" ContentType="image/png"/>
  <Override PartName="/ppt/media/image1.png" ContentType="image/png"/>
  <Override PartName="/ppt/media/image38.png" ContentType="image/png"/>
  <Override PartName="/ppt/media/image30.png" ContentType="image/png"/>
  <Override PartName="/ppt/media/image8.png" ContentType="image/png"/>
  <Override PartName="/ppt/media/image49.png" ContentType="image/png"/>
  <Override PartName="/ppt/media/image100.png" ContentType="image/png"/>
  <Override PartName="/ppt/media/image109.png" ContentType="image/png"/>
  <Override PartName="/ppt/media/image37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154.png" ContentType="image/png"/>
  <Override PartName="/ppt/media/image2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12.png" ContentType="image/png"/>
  <Override PartName="/ppt/media/image80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86.png" ContentType="image/png"/>
  <Override PartName="/ppt/media/image18.png" ContentType="image/png"/>
  <Override PartName="/ppt/media/image15.png" ContentType="image/png"/>
  <Override PartName="/ppt/media/image8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25.png" ContentType="image/png"/>
  <Override PartName="/ppt/media/image93.png" ContentType="image/png"/>
  <Override PartName="/ppt/media/image26.png" ContentType="image/png"/>
  <Override PartName="/ppt/media/image94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513-FF02-45BC-99B6-C0B3508F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69B-0434-40FE-A13C-0287FED5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1DC-238A-4502-9EDA-3F17DB59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F43-22ED-4DC7-AD1D-3C0D28E9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8EF-C917-48D2-BEC1-10348877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7E0-A8DF-48BD-B98A-F974760F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19B-395C-495F-A8AD-CDD80D92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105-0AFF-46CD-81D7-9599E9BC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99E-3F9B-45C1-A50E-2542FA86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F46-139A-4CB4-A437-A426D46E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C7E-1EAC-4346-8BE0-46BC2F78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396-5816-4EF0-A2A3-F73236A5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A8A3-8BDA-4850-9454-3FBC32EDD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18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8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31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8.png"/><Relationship Id="rId4" Type="http://schemas.openxmlformats.org/officeDocument/2006/relationships/image" Target="../media/image31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8.png"/><Relationship Id="rId4" Type="http://schemas.openxmlformats.org/officeDocument/2006/relationships/image" Target="../media/image31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image" Target="../media/image58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21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84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png"/><Relationship Id="rId8" Type="http://schemas.openxmlformats.org/officeDocument/2006/relationships/image" Target="../media/image94.png"/><Relationship Id="rId9" Type="http://schemas.openxmlformats.org/officeDocument/2006/relationships/image" Target="../media/image95.png"/><Relationship Id="rId10" Type="http://schemas.openxmlformats.org/officeDocument/2006/relationships/image" Target="../media/image96.png"/><Relationship Id="rId11" Type="http://schemas.openxmlformats.org/officeDocument/2006/relationships/image" Target="../media/image97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84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1.png"/><Relationship Id="rId6" Type="http://schemas.openxmlformats.org/officeDocument/2006/relationships/image" Target="../media/image102.png"/><Relationship Id="rId7" Type="http://schemas.openxmlformats.org/officeDocument/2006/relationships/image" Target="../media/image103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image" Target="../media/image109.png"/><Relationship Id="rId7" Type="http://schemas.openxmlformats.org/officeDocument/2006/relationships/image" Target="../media/image110.png"/><Relationship Id="rId8" Type="http://schemas.openxmlformats.org/officeDocument/2006/relationships/image" Target="../media/image111.png"/><Relationship Id="rId9" Type="http://schemas.openxmlformats.org/officeDocument/2006/relationships/image" Target="../media/image104.png"/><Relationship Id="rId10" Type="http://schemas.openxmlformats.org/officeDocument/2006/relationships/image" Target="../media/image105.png"/><Relationship Id="rId11" Type="http://schemas.openxmlformats.org/officeDocument/2006/relationships/image" Target="../media/image110.png"/><Relationship Id="rId12" Type="http://schemas.openxmlformats.org/officeDocument/2006/relationships/image" Target="../media/image111.png"/><Relationship Id="rId13" Type="http://schemas.openxmlformats.org/officeDocument/2006/relationships/image" Target="../media/image108.png"/><Relationship Id="rId14" Type="http://schemas.openxmlformats.org/officeDocument/2006/relationships/image" Target="../media/image109.png"/><Relationship Id="rId15" Type="http://schemas.openxmlformats.org/officeDocument/2006/relationships/image" Target="../media/image107.png"/><Relationship Id="rId16" Type="http://schemas.openxmlformats.org/officeDocument/2006/relationships/image" Target="../media/image106.png"/><Relationship Id="rId17" Type="http://schemas.openxmlformats.org/officeDocument/2006/relationships/image" Target="../media/image112.png"/><Relationship Id="rId18" Type="http://schemas.openxmlformats.org/officeDocument/2006/relationships/image" Target="../media/image113.png"/><Relationship Id="rId19" Type="http://schemas.openxmlformats.org/officeDocument/2006/relationships/image" Target="../media/image114.png"/><Relationship Id="rId2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15.png"/><Relationship Id="rId6" Type="http://schemas.openxmlformats.org/officeDocument/2006/relationships/image" Target="../media/image116.png"/><Relationship Id="rId7" Type="http://schemas.openxmlformats.org/officeDocument/2006/relationships/image" Target="../media/image11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image" Target="../media/image120.png"/><Relationship Id="rId4" Type="http://schemas.openxmlformats.org/officeDocument/2006/relationships/image" Target="../media/image115.png"/><Relationship Id="rId5" Type="http://schemas.openxmlformats.org/officeDocument/2006/relationships/image" Target="../media/image121.png"/><Relationship Id="rId6" Type="http://schemas.openxmlformats.org/officeDocument/2006/relationships/image" Target="../media/image115.png"/><Relationship Id="rId7" Type="http://schemas.openxmlformats.org/officeDocument/2006/relationships/image" Target="../media/image12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3.png"/><Relationship Id="rId3" Type="http://schemas.openxmlformats.org/officeDocument/2006/relationships/image" Target="../media/image124.png"/><Relationship Id="rId4" Type="http://schemas.openxmlformats.org/officeDocument/2006/relationships/image" Target="../media/image125.png"/><Relationship Id="rId5" Type="http://schemas.openxmlformats.org/officeDocument/2006/relationships/image" Target="../media/image123.png"/><Relationship Id="rId6" Type="http://schemas.openxmlformats.org/officeDocument/2006/relationships/image" Target="../media/image126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7.png"/><Relationship Id="rId3" Type="http://schemas.openxmlformats.org/officeDocument/2006/relationships/image" Target="../media/image128.png"/><Relationship Id="rId4" Type="http://schemas.openxmlformats.org/officeDocument/2006/relationships/image" Target="../media/image129.png"/><Relationship Id="rId5" Type="http://schemas.openxmlformats.org/officeDocument/2006/relationships/image" Target="../media/image130.png"/><Relationship Id="rId6" Type="http://schemas.openxmlformats.org/officeDocument/2006/relationships/image" Target="../media/image131.png"/><Relationship Id="rId7" Type="http://schemas.openxmlformats.org/officeDocument/2006/relationships/image" Target="../media/image132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3.png"/><Relationship Id="rId2" Type="http://schemas.openxmlformats.org/officeDocument/2006/relationships/image" Target="../media/image134.png"/><Relationship Id="rId3" Type="http://schemas.openxmlformats.org/officeDocument/2006/relationships/image" Target="../media/image13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38.png"/><Relationship Id="rId4" Type="http://schemas.openxmlformats.org/officeDocument/2006/relationships/image" Target="../media/image139.png"/><Relationship Id="rId5" Type="http://schemas.openxmlformats.org/officeDocument/2006/relationships/image" Target="../media/image140.png"/><Relationship Id="rId6" Type="http://schemas.openxmlformats.org/officeDocument/2006/relationships/image" Target="../media/image141.png"/><Relationship Id="rId7" Type="http://schemas.openxmlformats.org/officeDocument/2006/relationships/image" Target="../media/image142.pn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image" Target="../media/image133.png"/><Relationship Id="rId3" Type="http://schemas.openxmlformats.org/officeDocument/2006/relationships/image" Target="../media/image143.png"/><Relationship Id="rId4" Type="http://schemas.openxmlformats.org/officeDocument/2006/relationships/image" Target="../media/image115.png"/><Relationship Id="rId5" Type="http://schemas.openxmlformats.org/officeDocument/2006/relationships/image" Target="../media/image144.png"/><Relationship Id="rId6" Type="http://schemas.openxmlformats.org/officeDocument/2006/relationships/image" Target="../media/image145.png"/><Relationship Id="rId7" Type="http://schemas.openxmlformats.org/officeDocument/2006/relationships/image" Target="../media/image146.pn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5.png"/><Relationship Id="rId3" Type="http://schemas.openxmlformats.org/officeDocument/2006/relationships/image" Target="../media/image147.png"/><Relationship Id="rId4" Type="http://schemas.openxmlformats.org/officeDocument/2006/relationships/image" Target="../media/image133.png"/><Relationship Id="rId5" Type="http://schemas.openxmlformats.org/officeDocument/2006/relationships/image" Target="../media/image148.png"/><Relationship Id="rId6" Type="http://schemas.openxmlformats.org/officeDocument/2006/relationships/image" Target="../media/image149.pn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0.png"/><Relationship Id="rId2" Type="http://schemas.openxmlformats.org/officeDocument/2006/relationships/image" Target="../media/image151.png"/><Relationship Id="rId3" Type="http://schemas.openxmlformats.org/officeDocument/2006/relationships/image" Target="../media/image152.png"/><Relationship Id="rId4" Type="http://schemas.openxmlformats.org/officeDocument/2006/relationships/image" Target="../media/image153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image" Target="../media/image153.png"/><Relationship Id="rId3" Type="http://schemas.openxmlformats.org/officeDocument/2006/relationships/image" Target="../media/image155.png"/><Relationship Id="rId4" Type="http://schemas.openxmlformats.org/officeDocument/2006/relationships/image" Target="../media/image156.png"/><Relationship Id="rId5" Type="http://schemas.openxmlformats.org/officeDocument/2006/relationships/image" Target="../media/image157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8.png"/><Relationship Id="rId2" Type="http://schemas.openxmlformats.org/officeDocument/2006/relationships/image" Target="../media/image154.png"/><Relationship Id="rId3" Type="http://schemas.openxmlformats.org/officeDocument/2006/relationships/image" Target="../media/image159.png"/><Relationship Id="rId4" Type="http://schemas.openxmlformats.org/officeDocument/2006/relationships/image" Target="../media/image160.png"/><Relationship Id="rId5" Type="http://schemas.openxmlformats.org/officeDocument/2006/relationships/image" Target="../media/image161.pn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6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2.png"/><Relationship Id="rId2" Type="http://schemas.openxmlformats.org/officeDocument/2006/relationships/image" Target="../media/image16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3.png"/><Relationship Id="rId2" Type="http://schemas.openxmlformats.org/officeDocument/2006/relationships/image" Target="../media/image164.png"/><Relationship Id="rId3" Type="http://schemas.openxmlformats.org/officeDocument/2006/relationships/image" Target="../media/image165.png"/><Relationship Id="rId4" Type="http://schemas.openxmlformats.org/officeDocument/2006/relationships/image" Target="../media/image166.png"/><Relationship Id="rId5" Type="http://schemas.openxmlformats.org/officeDocument/2006/relationships/image" Target="../media/image16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6.png"/><Relationship Id="rId2" Type="http://schemas.openxmlformats.org/officeDocument/2006/relationships/image" Target="../media/image168.png"/><Relationship Id="rId3" Type="http://schemas.openxmlformats.org/officeDocument/2006/relationships/image" Target="../media/image169.png"/><Relationship Id="rId4" Type="http://schemas.openxmlformats.org/officeDocument/2006/relationships/image" Target="../media/image154.png"/><Relationship Id="rId5" Type="http://schemas.openxmlformats.org/officeDocument/2006/relationships/image" Target="../media/image170.png"/><Relationship Id="rId6" Type="http://schemas.openxmlformats.org/officeDocument/2006/relationships/image" Target="../media/image171.png"/><Relationship Id="rId7" Type="http://schemas.openxmlformats.org/officeDocument/2006/relationships/image" Target="../media/image172.png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5000" y="76320"/>
            <a:ext cx="91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SEP 590tv: 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69160" y="838080"/>
            <a:ext cx="259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0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440" y="1905120"/>
            <a:ext cx="239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day’s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24120" y="457200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27720" y="525780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 Quantum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7760" y="25909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ministri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30240" y="388620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erdense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9160" y="327672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ish Tele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149960" y="213372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927000" cy="175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" y="2057400"/>
            <a:ext cx="161280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14400" y="2895480"/>
            <a:ext cx="746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11111E-006 C 0.00157 -0.00069 0.00313 -0.00208 0.00486 -0.00208 C 0.0066 -0.00208 0.01146 -1.11111E-006 0.00973 -1.11111E-006 C 0.00486 -1.11111E-006 -4.9999999999998E-006 -0.00139 -0.00487 -0.00208 C -0.00331 -0.00139 -0.00157 -0.00069 -5E-006 -1.11111E-006 C 0.00209 0.0007 0.00643 -0.00092 0.00643 0.00209 C 0.00643 0.00509 0.00226 0.00417 -5E-006 0.00417 C -0.00174 0.00417 0.0033 0.00278 0.00486 0.00209 C 0.0033 0.00139 -5E-006 0.00232 -5E-006 -1.11111E-006 C -5E-006 -0.00231 0.00486 -0.00208 0.00486 -0.00208 C -0.00157 0.0007 -0.00157 -0.00069 0.00486 0.00209 C 0.01146 0.00486 0.01181 0.00579 0.0033 0.00209 C 0.00209 0.00162 0.00104 0.0007 -5E-006 -1.11111E-006 Z">
                                      <p:cBhvr>
                                        <p:cTn id="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xit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7.03704E-006 C 0.00209 0.00069 0.00643 -0.00093 0.00643 0.00208 C 0.00643 0.00509 5.27778E-006 0.00717 5.27778E-006 0.00416 C 5.27778E-006 0.00277 5.27778E-006 0.00138 5.27778E-006 -7.03704E-006 Z">
                                      <p:cBhvr>
                                        <p:cTn id="17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xit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3400" y="0"/>
            <a:ext cx="841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eparable, Entangled, 3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35360" y="762120"/>
            <a:ext cx="3184560" cy="703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5160" y="1523880"/>
            <a:ext cx="89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consider qubit 1 as one subsystem and qubits 2 and 3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subsystem, then the state is separable across this div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438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we consider qubits 1 and 2 as one system and qubits 3 as one subsystem, then the state is entangled across this div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2280" y="3695760"/>
            <a:ext cx="8915400" cy="592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36560" y="4572000"/>
            <a:ext cx="6745320" cy="264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" y="548640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548640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548640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541008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4680" y="64008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548640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43800" y="548640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41008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6120" y="64008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64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0532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2464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08480" y="502920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51480" y="502920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47120" y="50292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3400" y="0"/>
            <a:ext cx="841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eparable, Entangled, 3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7360" y="838080"/>
            <a:ext cx="72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we will deal with entangled states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adjacent qu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2438280"/>
            <a:ext cx="83844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2438280"/>
            <a:ext cx="83844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2438280"/>
            <a:ext cx="83808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4038480" y="2286000"/>
            <a:ext cx="533520" cy="2362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00400" y="3649680"/>
            <a:ext cx="2286000" cy="677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 flipV="1" rot="5400000">
            <a:off x="3962520" y="1980000"/>
            <a:ext cx="533160" cy="838440"/>
          </a:xfrm>
          <a:custGeom>
            <a:avLst/>
            <a:gdLst>
              <a:gd name="textAreaLeft" fmla="*/ 340560 w 533160"/>
              <a:gd name="textAreaRight" fmla="*/ 533520 w 53316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038480" y="1708200"/>
            <a:ext cx="2743200" cy="349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08520" y="449568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even “write”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093680" y="4944960"/>
            <a:ext cx="4011840" cy="703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11400" y="5715000"/>
            <a:ext cx="75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pt denotes which qubit(s) you are talking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3400" y="0"/>
            <a:ext cx="841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eparable, Entangled, 3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213372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213372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213372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392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576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7692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48320" y="4630680"/>
            <a:ext cx="4011480" cy="703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489276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489276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489276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1904760" y="4740120"/>
            <a:ext cx="533520" cy="2361960"/>
          </a:xfrm>
          <a:custGeom>
            <a:avLst/>
            <a:gdLst>
              <a:gd name="textAreaLeft" fmla="*/ 340920 w 533520"/>
              <a:gd name="textAreaRight" fmla="*/ 533880 w 5335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066680" y="6103800"/>
            <a:ext cx="2286000" cy="677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V="1" rot="5400000">
            <a:off x="1828800" y="4435560"/>
            <a:ext cx="533520" cy="8380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905120" y="4162320"/>
            <a:ext cx="2743200" cy="349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40240" y="4587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33920" y="4587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53240" y="4587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5400000">
            <a:off x="762120" y="1522800"/>
            <a:ext cx="533160" cy="838440"/>
          </a:xfrm>
          <a:custGeom>
            <a:avLst/>
            <a:gdLst>
              <a:gd name="textAreaLeft" fmla="*/ 340560 w 533160"/>
              <a:gd name="textAreaRight" fmla="*/ 533520 w 53316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838080" y="1251000"/>
            <a:ext cx="2743200" cy="349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1752480" y="3284640"/>
            <a:ext cx="2286000" cy="677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rot="16200000">
            <a:off x="2590920" y="2057040"/>
            <a:ext cx="533160" cy="2057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573440" y="1973160"/>
            <a:ext cx="401184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3400" y="0"/>
            <a:ext cx="841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eparable, Entangled, 3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5543640" cy="703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7620120" cy="65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143000" y="2438280"/>
            <a:ext cx="6629400" cy="700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152280" y="3398760"/>
            <a:ext cx="5699160" cy="716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1143000" y="4135320"/>
            <a:ext cx="7696080" cy="665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1143000" y="4946760"/>
            <a:ext cx="6629400" cy="699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49400" y="5791320"/>
            <a:ext cx="83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don’t write subscripts we mean “standard order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544120" y="-61920"/>
            <a:ext cx="403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Telepor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53080" y="1523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685800"/>
          <a:ext cx="8269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269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7531200" y="533520"/>
            <a:ext cx="1612800" cy="2057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00100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1523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3200400" y="1600200"/>
            <a:ext cx="2743200" cy="812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3520" y="3124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1447920" y="3352680"/>
            <a:ext cx="3260520" cy="4143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08880" y="4191120"/>
            <a:ext cx="62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three qubits whose wave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1235160" y="4700520"/>
            <a:ext cx="3184560" cy="7034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31160" y="571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12920" y="571500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 2 and qubi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1143000" y="5181480"/>
            <a:ext cx="533520" cy="533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4160" y="274320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does not know the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2971800" y="4267080"/>
            <a:ext cx="533520" cy="2362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09520" y="1512720"/>
            <a:ext cx="6288120" cy="17686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90720" y="349236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90720" y="220968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77480" y="15238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77480" y="2286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1295280"/>
            <a:ext cx="243864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42600" y="762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2819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295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410080" y="1295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70280" y="1066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6600" y="3200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7960" y="1143000"/>
            <a:ext cx="0" cy="29718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789120" y="4267080"/>
            <a:ext cx="4011480" cy="703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1676520" y="5105520"/>
            <a:ext cx="66294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3233880" cy="6332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88880" y="4854600"/>
            <a:ext cx="3164040" cy="6332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74840" y="5538960"/>
            <a:ext cx="3259080" cy="633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495360" y="6148440"/>
            <a:ext cx="3176640" cy="633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5029200" y="4191120"/>
            <a:ext cx="3330720" cy="6332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5029200" y="4853160"/>
            <a:ext cx="3370320" cy="6332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5029200" y="5514840"/>
            <a:ext cx="3287880" cy="6336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5029200" y="6148440"/>
            <a:ext cx="3287880" cy="6332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223280" y="363384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9160" y="363384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ation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9"/>
          <a:stretch/>
        </p:blipFill>
        <p:spPr>
          <a:xfrm>
            <a:off x="1752480" y="1662120"/>
            <a:ext cx="6629400" cy="700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0"/>
          <a:stretch/>
        </p:blipFill>
        <p:spPr>
          <a:xfrm>
            <a:off x="228600" y="914400"/>
            <a:ext cx="4011480" cy="703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90320" y="2666880"/>
            <a:ext cx="80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ress this state in terms of Bell basis for first two qu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243080"/>
            <a:ext cx="3233880" cy="633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88880" y="1906560"/>
            <a:ext cx="3164040" cy="6336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474840" y="2590920"/>
            <a:ext cx="3259080" cy="633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495360" y="3200400"/>
            <a:ext cx="3176640" cy="6332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5029200" y="1243080"/>
            <a:ext cx="3330720" cy="6332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5029200" y="1905120"/>
            <a:ext cx="3370320" cy="6332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223280" y="6858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9160" y="68580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ation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304920" y="3886200"/>
            <a:ext cx="6256080" cy="700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5024520" y="2568600"/>
            <a:ext cx="3287520" cy="6332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9"/>
          <a:stretch/>
        </p:blipFill>
        <p:spPr>
          <a:xfrm>
            <a:off x="5000760" y="3203640"/>
            <a:ext cx="3330360" cy="633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0"/>
          <a:stretch/>
        </p:blipFill>
        <p:spPr>
          <a:xfrm>
            <a:off x="1781280" y="5626080"/>
            <a:ext cx="6526080" cy="10540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1"/>
          <a:stretch/>
        </p:blipFill>
        <p:spPr>
          <a:xfrm>
            <a:off x="1824120" y="4633920"/>
            <a:ext cx="67402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109520" y="1512720"/>
            <a:ext cx="6288120" cy="17686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990720" y="349236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90720" y="220968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7480" y="15238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77480" y="2286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95480" y="1295280"/>
            <a:ext cx="243864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42600" y="762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2819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1295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410080" y="1295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70280" y="1066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6600" y="3200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47960" y="1143000"/>
            <a:ext cx="0" cy="29718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789120" y="4114800"/>
            <a:ext cx="4011480" cy="7034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1676520" y="4876920"/>
            <a:ext cx="6629400" cy="6998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1739880" y="5632560"/>
            <a:ext cx="69832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91800" y="76320"/>
            <a:ext cx="800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ropping The Tensor 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1280" y="4876920"/>
            <a:ext cx="843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we will just “drop” the tensor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ext” lets us know that there is an implicit tensor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371600" y="3587760"/>
            <a:ext cx="5927760" cy="1054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80880" y="1212840"/>
            <a:ext cx="6045480" cy="1054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1434960" y="2432160"/>
            <a:ext cx="69836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76600" y="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00" y="838080"/>
            <a:ext cx="880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rn in HW #3.  It was meant to be harder than HWs #1 and #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9320" y="1828800"/>
            <a:ext cx="6721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ck up HW #4.  It should be easier than HW #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W#2 solutions available o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e is my 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28800" y="37335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62485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2360" y="6324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50160" y="6324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88240" y="6324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9600" y="6324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3360" y="6324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07760" y="6324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7280" y="6324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5867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5029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5715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5486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5486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6720" y="388620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109520" y="1512720"/>
            <a:ext cx="6288120" cy="17686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990720" y="349236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990720" y="220968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77480" y="15238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77480" y="2286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1295280"/>
            <a:ext cx="243864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42600" y="762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76520" y="2819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1295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410080" y="1295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70280" y="1066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26600" y="3200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47960" y="1143000"/>
            <a:ext cx="0" cy="29718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789120" y="4114800"/>
            <a:ext cx="4011480" cy="7034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1676520" y="4876920"/>
            <a:ext cx="6629400" cy="6998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1700280" y="5638680"/>
            <a:ext cx="70628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6720" y="0"/>
            <a:ext cx="661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ll Basis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80880" y="1881360"/>
            <a:ext cx="4229280" cy="6332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43080" y="2643120"/>
            <a:ext cx="4228920" cy="6336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4876920" y="1909800"/>
            <a:ext cx="4144680" cy="6332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4819680" y="2568600"/>
            <a:ext cx="4172040" cy="633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3352680" y="762120"/>
            <a:ext cx="22194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191120" y="4495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1216080" y="3435480"/>
            <a:ext cx="6502320" cy="1054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7"/>
          <a:stretch/>
        </p:blipFill>
        <p:spPr>
          <a:xfrm>
            <a:off x="1346040" y="4944960"/>
            <a:ext cx="625032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109520" y="1512720"/>
            <a:ext cx="6288120" cy="17686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990720" y="349236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990720" y="220968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77480" y="15238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77480" y="2286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1295280"/>
            <a:ext cx="243864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42600" y="762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76520" y="2819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295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410080" y="1295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70280" y="1066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26600" y="3200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47960" y="1143000"/>
            <a:ext cx="0" cy="29718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5680" y="1143000"/>
            <a:ext cx="0" cy="4572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266760" y="4108320"/>
            <a:ext cx="6502320" cy="10540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1422360" y="5707080"/>
            <a:ext cx="62499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31120" y="9144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the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7800" y="236232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 the first two qubits in the computation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914400" y="2921040"/>
            <a:ext cx="2482920" cy="279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892680" y="2895480"/>
            <a:ext cx="2482560" cy="2793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920880" y="3378240"/>
            <a:ext cx="2482560" cy="279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3889440" y="3352680"/>
            <a:ext cx="2482920" cy="279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07800" y="3809880"/>
            <a:ext cx="83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al ¼ probability for all four outcomes and new stat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990720" y="4343400"/>
            <a:ext cx="3082680" cy="2919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6"/>
          <a:stretch/>
        </p:blipFill>
        <p:spPr>
          <a:xfrm>
            <a:off x="993600" y="5346720"/>
            <a:ext cx="3044880" cy="2919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7"/>
          <a:stretch/>
        </p:blipFill>
        <p:spPr>
          <a:xfrm>
            <a:off x="985680" y="4813200"/>
            <a:ext cx="3083040" cy="2923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990720" y="5791320"/>
            <a:ext cx="3044880" cy="2919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9"/>
          <a:stretch/>
        </p:blipFill>
        <p:spPr>
          <a:xfrm>
            <a:off x="706320" y="1287360"/>
            <a:ext cx="62499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109520" y="1512720"/>
            <a:ext cx="6288120" cy="17686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990720" y="349236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990720" y="220968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477480" y="15238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477480" y="2286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1295280"/>
            <a:ext cx="243864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42600" y="762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76520" y="2819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1295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5410080" y="1295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70280" y="1066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26600" y="3200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1143000"/>
            <a:ext cx="0" cy="4572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5491080" y="3416400"/>
            <a:ext cx="3083040" cy="291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5494320" y="4419720"/>
            <a:ext cx="3044880" cy="2919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>
            <a:off x="5486400" y="3886200"/>
            <a:ext cx="3083040" cy="2919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5491080" y="4863960"/>
            <a:ext cx="3044880" cy="292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334120" y="1143000"/>
            <a:ext cx="0" cy="4572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7"/>
          <a:stretch/>
        </p:blipFill>
        <p:spPr>
          <a:xfrm>
            <a:off x="325440" y="5707080"/>
            <a:ext cx="62499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7800" y="914400"/>
            <a:ext cx="70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bits sent from Alice to Bob are 00, 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1200" y="1828800"/>
            <a:ext cx="74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bits sent from Alice to Bob are 01, apply a bit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890640" y="2438280"/>
            <a:ext cx="7262640" cy="279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52280" y="3276720"/>
            <a:ext cx="79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bits sent from Alice to Bob are 10, apply a phase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927000" y="3809880"/>
            <a:ext cx="6769080" cy="279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1224000" y="1447920"/>
            <a:ext cx="5167440" cy="2793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4651200" y="2971800"/>
            <a:ext cx="1974960" cy="2793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4575240" y="4191120"/>
            <a:ext cx="1974960" cy="279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51560" y="4495680"/>
            <a:ext cx="86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bits sent from Alice to Bob are 11, apply a bit &amp; phase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109440" y="5257800"/>
            <a:ext cx="8958240" cy="279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4876920" y="5791320"/>
            <a:ext cx="3429000" cy="2919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4956120" y="6400800"/>
            <a:ext cx="19749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109520" y="1512720"/>
            <a:ext cx="6288120" cy="17686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990720" y="349236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990720" y="220968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77480" y="15238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77480" y="2286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1295280"/>
            <a:ext cx="243864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442600" y="762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76520" y="2819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410080" y="1295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410080" y="1295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70280" y="1066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126600" y="3200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5491080" y="3416400"/>
            <a:ext cx="3083040" cy="2919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5494320" y="4419720"/>
            <a:ext cx="3044880" cy="2919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5486400" y="3886200"/>
            <a:ext cx="3083040" cy="2919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6"/>
          <a:stretch/>
        </p:blipFill>
        <p:spPr>
          <a:xfrm>
            <a:off x="5491080" y="4863960"/>
            <a:ext cx="3044880" cy="292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5334120" y="1143000"/>
            <a:ext cx="0" cy="4572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 flipH="1">
            <a:off x="6095520" y="21956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04920" y="4267080"/>
          <a:ext cx="595080" cy="15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267080"/>
                    <a:ext cx="59508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6400800" y="4176720"/>
            <a:ext cx="380880" cy="3808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781320" y="4176720"/>
            <a:ext cx="381240" cy="3808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400800" y="3795840"/>
            <a:ext cx="0" cy="3808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3338640"/>
            <a:ext cx="1295280" cy="457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638680" y="3795840"/>
            <a:ext cx="0" cy="13716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162920" y="1280880"/>
            <a:ext cx="0" cy="28954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943240" y="2119320"/>
            <a:ext cx="1219320" cy="1219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934320" y="2133720"/>
            <a:ext cx="457200" cy="457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5486400" y="2424240"/>
            <a:ext cx="1036800" cy="276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543800" y="2271600"/>
            <a:ext cx="762120" cy="2430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3809880" y="3029040"/>
            <a:ext cx="2210040" cy="2476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4572000" y="2666880"/>
            <a:ext cx="609480" cy="2620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5410080" y="5315040"/>
            <a:ext cx="462240" cy="3855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8"/>
          <a:stretch/>
        </p:blipFill>
        <p:spPr>
          <a:xfrm>
            <a:off x="6934320" y="985680"/>
            <a:ext cx="461880" cy="3859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 flipV="1">
            <a:off x="6781680" y="823680"/>
            <a:ext cx="0" cy="5638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05720" y="45576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800600" y="6110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391520" y="6110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143000" y="3886200"/>
            <a:ext cx="0" cy="13716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143000" y="2971800"/>
            <a:ext cx="914400" cy="914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057400" y="1371240"/>
            <a:ext cx="0" cy="16002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600200" y="838080"/>
            <a:ext cx="0" cy="5639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60339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981080" y="6095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9"/>
          <a:stretch/>
        </p:blipFill>
        <p:spPr>
          <a:xfrm>
            <a:off x="3276720" y="3429000"/>
            <a:ext cx="541080" cy="4190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0"/>
          <a:stretch/>
        </p:blipFill>
        <p:spPr>
          <a:xfrm>
            <a:off x="5772240" y="4633920"/>
            <a:ext cx="2019240" cy="4316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1"/>
          <a:stretch/>
        </p:blipFill>
        <p:spPr>
          <a:xfrm>
            <a:off x="1828800" y="4267080"/>
            <a:ext cx="1071720" cy="14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4572000" y="4267080"/>
          <a:ext cx="595440" cy="152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0" y="4267080"/>
                    <a:ext cx="59544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2" name="" descr=""/>
          <p:cNvPicPr/>
          <p:nvPr/>
        </p:nvPicPr>
        <p:blipFill>
          <a:blip r:embed="rId14"/>
          <a:stretch/>
        </p:blipFill>
        <p:spPr>
          <a:xfrm>
            <a:off x="7924680" y="4267080"/>
            <a:ext cx="1071720" cy="14241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2668680" y="15228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668680" y="15228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09600" y="1371600"/>
            <a:ext cx="3267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qubit = 1 ebit + 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065600" y="2362320"/>
            <a:ext cx="746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eportation says we can replace transmitting a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a shared entangled pair of qubits plus two bi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ical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00240" y="5638680"/>
            <a:ext cx="3267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bits = 1 qubit + 1 e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19320" y="5029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t we will see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29880" y="4038480"/>
            <a:ext cx="54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dense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829880" y="76320"/>
            <a:ext cx="54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dense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233520" cy="6332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36520" y="1006560"/>
            <a:ext cx="79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Alice and Bob each have one qubit and the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qubit wave function is the entangl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3920" y="26668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 wants to send two bits to Bob.  Call these bits      and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7343640" y="2743200"/>
            <a:ext cx="279360" cy="3175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8305920" y="2738520"/>
            <a:ext cx="299880" cy="3175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270000" y="32767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 applies the following operator to her qub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6360" y="396252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 then sends her qubit to Bo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08160" y="4648320"/>
            <a:ext cx="84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 then measures in the Bell basis to determine the two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6872400" y="3247920"/>
            <a:ext cx="1176120" cy="3715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3000240" y="5562720"/>
            <a:ext cx="3267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bits = 1 qubit + 1 e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7523280" y="3962520"/>
            <a:ext cx="1315800" cy="353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522120" y="39765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76600" y="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3280" y="990720"/>
            <a:ext cx="76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ly 20: multi qubit registers, begin quantum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ly 27: quantum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g 3: quantum entang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g 10: quantum error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g 17: post-final lecture on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830600" y="76320"/>
            <a:ext cx="51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125880" y="76320"/>
            <a:ext cx="285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ll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233520" cy="6332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31480" y="777960"/>
            <a:ext cx="766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our Bell states can be turned into each other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ions on only one of the qu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60520" y="2438280"/>
            <a:ext cx="7821360" cy="5940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587520" y="3211560"/>
            <a:ext cx="7643520" cy="5936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368280" y="4033800"/>
            <a:ext cx="83948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829880" y="76320"/>
            <a:ext cx="54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dense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3233880" cy="6332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422280" y="19051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 applies the following operator to her qub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6977160" y="1900080"/>
            <a:ext cx="1176120" cy="3715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460080" y="12193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609480" y="3579840"/>
            <a:ext cx="2210040" cy="3142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609480" y="4138560"/>
            <a:ext cx="2210040" cy="3142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5"/>
          <a:stretch/>
        </p:blipFill>
        <p:spPr>
          <a:xfrm>
            <a:off x="3124080" y="2513160"/>
            <a:ext cx="2971800" cy="4870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6"/>
          <a:stretch/>
        </p:blipFill>
        <p:spPr>
          <a:xfrm>
            <a:off x="3571920" y="4114800"/>
            <a:ext cx="3390840" cy="3985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7"/>
          <a:stretch/>
        </p:blipFill>
        <p:spPr>
          <a:xfrm>
            <a:off x="6200640" y="3505320"/>
            <a:ext cx="766800" cy="3967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8"/>
          <a:stretch/>
        </p:blipFill>
        <p:spPr>
          <a:xfrm>
            <a:off x="609480" y="4724280"/>
            <a:ext cx="2210040" cy="31428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9"/>
          <a:stretch/>
        </p:blipFill>
        <p:spPr>
          <a:xfrm>
            <a:off x="3514680" y="4764240"/>
            <a:ext cx="3495600" cy="3981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10"/>
          <a:stretch/>
        </p:blipFill>
        <p:spPr>
          <a:xfrm>
            <a:off x="609480" y="5319720"/>
            <a:ext cx="2210040" cy="3142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11"/>
          <a:stretch/>
        </p:blipFill>
        <p:spPr>
          <a:xfrm>
            <a:off x="3255840" y="5308560"/>
            <a:ext cx="3740400" cy="3985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537480" y="5943600"/>
            <a:ext cx="81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 can uniquely determine which of the four states he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us figure out Alice’s two bi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829880" y="76320"/>
            <a:ext cx="54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dense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04920" y="3081240"/>
            <a:ext cx="2286000" cy="4478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281952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4267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762120" y="1066680"/>
          <a:ext cx="595080" cy="152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066680"/>
                    <a:ext cx="59508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1" name="" descr=""/>
          <p:cNvPicPr/>
          <p:nvPr/>
        </p:nvPicPr>
        <p:blipFill>
          <a:blip r:embed="rId4"/>
          <a:stretch/>
        </p:blipFill>
        <p:spPr>
          <a:xfrm>
            <a:off x="609480" y="4572000"/>
            <a:ext cx="1071720" cy="14241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733920" y="2162160"/>
            <a:ext cx="5331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3581280" y="1676520"/>
            <a:ext cx="1176480" cy="3715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6"/>
          <a:stretch/>
        </p:blipFill>
        <p:spPr>
          <a:xfrm>
            <a:off x="1628640" y="1224000"/>
            <a:ext cx="279360" cy="31752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7"/>
          <a:stretch/>
        </p:blipFill>
        <p:spPr>
          <a:xfrm>
            <a:off x="1600200" y="1676520"/>
            <a:ext cx="299880" cy="3175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4862520" y="2424240"/>
            <a:ext cx="1614600" cy="161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66880" y="3276720"/>
            <a:ext cx="594360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3871800"/>
            <a:ext cx="5331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27000" y="464832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8"/>
          <a:stretch/>
        </p:blipFill>
        <p:spPr>
          <a:xfrm>
            <a:off x="7953480" y="4043520"/>
            <a:ext cx="279360" cy="3175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9"/>
          <a:stretch/>
        </p:blipFill>
        <p:spPr>
          <a:xfrm>
            <a:off x="7924680" y="4495680"/>
            <a:ext cx="30024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668680" y="15228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09600" y="1371600"/>
            <a:ext cx="3267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qubit = 1 ebit + 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65600" y="2362320"/>
            <a:ext cx="746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eportation says we can replace transmitting a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a shared entangled pair of qubits plus two bi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ical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52720" y="4648320"/>
            <a:ext cx="3267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bits = 1 qubit + 1 e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14400" y="55180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send two bits of classical information if we share an entangled state and can communicate one qubit of quantum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29880" y="3733920"/>
            <a:ext cx="54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dense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677960" y="3200400"/>
            <a:ext cx="573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310760" y="84240"/>
            <a:ext cx="65131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Classical Promise Problem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Query Complex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3400" y="1219320"/>
            <a:ext cx="70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lack box which computes som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3851280" y="1670040"/>
            <a:ext cx="1457280" cy="140976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3276720" y="2290680"/>
            <a:ext cx="304560" cy="2509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5410080" y="2133720"/>
            <a:ext cx="878040" cy="4284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2364120" y="25909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11160" y="25909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bi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12200" y="5425920"/>
            <a:ext cx="894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inimal number of times we hav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(query) the black box in order to determine which subset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belongs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38320" y="30481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0880" y="3429000"/>
            <a:ext cx="812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belongs to a set     which is a sub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ll possibl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5805360" y="3519360"/>
            <a:ext cx="231840" cy="265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82680" y="4419720"/>
            <a:ext cx="792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    can be divided into disjoint sub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5"/>
          <a:stretch/>
        </p:blipFill>
        <p:spPr>
          <a:xfrm>
            <a:off x="3187800" y="4510080"/>
            <a:ext cx="231840" cy="2649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6"/>
          <a:stretch/>
        </p:blipFill>
        <p:spPr>
          <a:xfrm>
            <a:off x="482760" y="4906800"/>
            <a:ext cx="2184120" cy="31752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7"/>
          <a:stretch/>
        </p:blipFill>
        <p:spPr>
          <a:xfrm>
            <a:off x="533520" y="62485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384720" y="0"/>
            <a:ext cx="248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0600" y="685800"/>
            <a:ext cx="81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you are given a black box which computes on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ollowing four reversible classical g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533520" y="2378160"/>
            <a:ext cx="1471320" cy="2696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534960" y="279396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534960" y="3276720"/>
            <a:ext cx="1438200" cy="2714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541440" y="3708360"/>
            <a:ext cx="1438200" cy="252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2598840" y="2370240"/>
            <a:ext cx="1471680" cy="2696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2600280" y="278604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7"/>
          <a:stretch/>
        </p:blipFill>
        <p:spPr>
          <a:xfrm>
            <a:off x="2590920" y="3268800"/>
            <a:ext cx="1438200" cy="2714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8"/>
          <a:stretch/>
        </p:blipFill>
        <p:spPr>
          <a:xfrm>
            <a:off x="2597040" y="3700440"/>
            <a:ext cx="1438560" cy="2714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9"/>
          <a:stretch/>
        </p:blipFill>
        <p:spPr>
          <a:xfrm>
            <a:off x="4952880" y="2378160"/>
            <a:ext cx="1471680" cy="2696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10"/>
          <a:stretch/>
        </p:blipFill>
        <p:spPr>
          <a:xfrm>
            <a:off x="4954680" y="279396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11"/>
          <a:stretch/>
        </p:blipFill>
        <p:spPr>
          <a:xfrm>
            <a:off x="4962600" y="3284640"/>
            <a:ext cx="1438200" cy="2714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12"/>
          <a:stretch/>
        </p:blipFill>
        <p:spPr>
          <a:xfrm>
            <a:off x="4968720" y="3706920"/>
            <a:ext cx="1438560" cy="2714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3"/>
          <a:stretch/>
        </p:blipFill>
        <p:spPr>
          <a:xfrm>
            <a:off x="7088040" y="2370240"/>
            <a:ext cx="1471680" cy="2696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14"/>
          <a:stretch/>
        </p:blipFill>
        <p:spPr>
          <a:xfrm>
            <a:off x="7093080" y="2770200"/>
            <a:ext cx="1471320" cy="2700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15"/>
          <a:stretch/>
        </p:blipFill>
        <p:spPr>
          <a:xfrm>
            <a:off x="7094520" y="3708360"/>
            <a:ext cx="1438200" cy="2523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16"/>
          <a:stretch/>
        </p:blipFill>
        <p:spPr>
          <a:xfrm>
            <a:off x="7072200" y="3260880"/>
            <a:ext cx="1438560" cy="27144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611640" y="404964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29360" y="4049640"/>
            <a:ext cx="16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5240" y="404964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85280" y="3902040"/>
            <a:ext cx="22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NO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52280" y="55180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utsch’s (Classical) 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minimal number of times we have to use this black box to determine whether we are given one of the first two or the second two fun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7"/>
          <a:stretch/>
        </p:blipFill>
        <p:spPr>
          <a:xfrm>
            <a:off x="3835440" y="1455840"/>
            <a:ext cx="1338120" cy="8460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2135880" y="16192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bit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35560" y="1619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bits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8"/>
          <a:stretch/>
        </p:blipFill>
        <p:spPr>
          <a:xfrm>
            <a:off x="2286000" y="5016600"/>
            <a:ext cx="365040" cy="3175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19"/>
          <a:stretch/>
        </p:blipFill>
        <p:spPr>
          <a:xfrm>
            <a:off x="6541920" y="5092560"/>
            <a:ext cx="379440" cy="3175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 rot="5400000">
            <a:off x="2095200" y="2615760"/>
            <a:ext cx="609480" cy="4038840"/>
          </a:xfrm>
          <a:custGeom>
            <a:avLst/>
            <a:gdLst>
              <a:gd name="textAreaLeft" fmla="*/ 0 w 609480"/>
              <a:gd name="textAreaRight" fmla="*/ 219960 w 60948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6476760" y="2514240"/>
            <a:ext cx="609480" cy="4419720"/>
          </a:xfrm>
          <a:custGeom>
            <a:avLst/>
            <a:gdLst>
              <a:gd name="textAreaLeft" fmla="*/ 0 w 609480"/>
              <a:gd name="textAreaRight" fmla="*/ 219960 w 60948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83880" y="152280"/>
            <a:ext cx="90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uantum Promise Query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6280" y="914400"/>
            <a:ext cx="873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quantum gate which, when used as a classical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s a reversibl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059920" y="244476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qu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244476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qubi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12560" y="5654520"/>
            <a:ext cx="81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inimal number of times we hav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(query) the quantum gate in order to determine wh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t       the function belongs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38320" y="3124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0880" y="3657600"/>
            <a:ext cx="812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belongs to a set     which is a sub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ll possibl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5805360" y="3747960"/>
            <a:ext cx="231840" cy="2653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382680" y="4648320"/>
            <a:ext cx="792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    can be divided into disjoint sub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3187800" y="4738680"/>
            <a:ext cx="231840" cy="2649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482760" y="5135400"/>
            <a:ext cx="2184120" cy="3175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4"/>
          <a:stretch/>
        </p:blipFill>
        <p:spPr>
          <a:xfrm>
            <a:off x="1587600" y="647712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5"/>
          <a:stretch/>
        </p:blipFill>
        <p:spPr>
          <a:xfrm>
            <a:off x="3276720" y="2152800"/>
            <a:ext cx="380880" cy="36180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6"/>
          <a:stretch/>
        </p:blipFill>
        <p:spPr>
          <a:xfrm>
            <a:off x="5486400" y="2144880"/>
            <a:ext cx="914400" cy="3697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7"/>
          <a:stretch/>
        </p:blipFill>
        <p:spPr>
          <a:xfrm>
            <a:off x="3857760" y="1746360"/>
            <a:ext cx="14349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287800" y="76320"/>
            <a:ext cx="483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 Qubit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1480" y="1066680"/>
            <a:ext cx="761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p until now, we have dealt with only 1,2,3, or 4 qu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w we will deal with n qubits at a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990720" y="3884760"/>
            <a:ext cx="4755960" cy="3650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1295280" y="2133720"/>
            <a:ext cx="50292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90512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51460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5760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71500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974320" y="27432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28148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49568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72428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6960" y="33512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ation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990720" y="4565520"/>
            <a:ext cx="2901960" cy="3654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6324480" y="3884760"/>
            <a:ext cx="1730520" cy="3650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4"/>
          <a:stretch/>
        </p:blipFill>
        <p:spPr>
          <a:xfrm>
            <a:off x="988920" y="5180040"/>
            <a:ext cx="382680" cy="3650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5"/>
          <a:stretch/>
        </p:blipFill>
        <p:spPr>
          <a:xfrm>
            <a:off x="1676520" y="5180040"/>
            <a:ext cx="1815840" cy="3826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658680" y="5118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bit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988920" y="5865840"/>
            <a:ext cx="382680" cy="3650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7"/>
          <a:stretch/>
        </p:blipFill>
        <p:spPr>
          <a:xfrm>
            <a:off x="1681200" y="5865840"/>
            <a:ext cx="388152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0"/>
            <a:ext cx="72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uttling Around a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47800" y="838080"/>
            <a:ext cx="3267000" cy="2438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79600" y="586728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ctures snatched from Chris Monroe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Michiga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3248280" cy="2438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352680" y="3505320"/>
            <a:ext cx="228600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288160" y="76320"/>
            <a:ext cx="396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 Qubit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19680" y="1066680"/>
            <a:ext cx="79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s have a wave function with       complex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82680" cy="27792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05280" y="1828800"/>
            <a:ext cx="85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ing      complex numbers down, and keeping track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n a naïve manner) is very computationally in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382320" cy="2775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308160" y="2895480"/>
            <a:ext cx="81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one of the first indications that simulating a qua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on a classical computer might be very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2557440" y="3886200"/>
            <a:ext cx="2624040" cy="102708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4"/>
          <a:stretch/>
        </p:blipFill>
        <p:spPr>
          <a:xfrm>
            <a:off x="2590920" y="5257800"/>
            <a:ext cx="347400" cy="2095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2971080" y="505764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      complex nu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5"/>
          <a:stretch/>
        </p:blipFill>
        <p:spPr>
          <a:xfrm>
            <a:off x="3629160" y="5153040"/>
            <a:ext cx="382320" cy="2779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6"/>
          <a:stretch/>
        </p:blipFill>
        <p:spPr>
          <a:xfrm>
            <a:off x="5749920" y="5595840"/>
            <a:ext cx="2327400" cy="102888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2518920" y="586728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normaliz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657880" y="0"/>
            <a:ext cx="396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 Qubit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414440" y="990720"/>
            <a:ext cx="2624040" cy="102708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4267080" y="990720"/>
            <a:ext cx="1679760" cy="80316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4237200" y="1943280"/>
            <a:ext cx="4144680" cy="10285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tretch/>
        </p:blipFill>
        <p:spPr>
          <a:xfrm>
            <a:off x="152280" y="3048120"/>
            <a:ext cx="962280" cy="26028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914400" y="3505320"/>
            <a:ext cx="2901960" cy="99540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6"/>
          <a:stretch/>
        </p:blipFill>
        <p:spPr>
          <a:xfrm>
            <a:off x="76320" y="4572000"/>
            <a:ext cx="8115120" cy="81756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1223640" y="228600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normaliz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80" y="7621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7"/>
          <a:stretch/>
        </p:blipFill>
        <p:spPr>
          <a:xfrm>
            <a:off x="61920" y="5562720"/>
            <a:ext cx="9067680" cy="6699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1842120" y="6400800"/>
            <a:ext cx="54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how compact this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tation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982880" y="76320"/>
            <a:ext cx="50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 Qubit Hadam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1492200" cy="35161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3200400" y="2830680"/>
            <a:ext cx="2362320" cy="34621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5560" y="91440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damard all 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3657600" y="914400"/>
            <a:ext cx="4056120" cy="3826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1874160" y="411156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643720" y="41259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3"/>
          <a:stretch/>
        </p:blipFill>
        <p:spPr>
          <a:xfrm>
            <a:off x="3048120" y="1523880"/>
            <a:ext cx="304308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1982880" y="76320"/>
            <a:ext cx="50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 Qubit Hadam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2800" y="914400"/>
            <a:ext cx="61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damard one qubit in computation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1560" y="2362320"/>
            <a:ext cx="59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damard n qubits in computation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708120" y="2895480"/>
            <a:ext cx="8130960" cy="4194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2049480" y="3505320"/>
            <a:ext cx="6103800" cy="3823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8839080" cy="61596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4"/>
          <a:stretch/>
        </p:blipFill>
        <p:spPr>
          <a:xfrm>
            <a:off x="228600" y="4624560"/>
            <a:ext cx="8771040" cy="101412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5"/>
          <a:stretch/>
        </p:blipFill>
        <p:spPr>
          <a:xfrm>
            <a:off x="492120" y="1533600"/>
            <a:ext cx="8042400" cy="86976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6"/>
          <a:stretch/>
        </p:blipFill>
        <p:spPr>
          <a:xfrm>
            <a:off x="195120" y="5715000"/>
            <a:ext cx="3538800" cy="103824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7"/>
          <a:stretch/>
        </p:blipFill>
        <p:spPr>
          <a:xfrm>
            <a:off x="4237200" y="5638680"/>
            <a:ext cx="4906800" cy="3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982880" y="76320"/>
            <a:ext cx="50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 Qubit Hadam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906800" cy="29988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1682640" y="3733920"/>
            <a:ext cx="1197000" cy="281916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41640" y="838080"/>
            <a:ext cx="4792680" cy="10368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4"/>
          <a:stretch/>
        </p:blipFill>
        <p:spPr>
          <a:xfrm>
            <a:off x="920880" y="4927680"/>
            <a:ext cx="345960" cy="33012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371600" y="3581280"/>
            <a:ext cx="1676520" cy="31244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5"/>
          <a:stretch/>
        </p:blipFill>
        <p:spPr>
          <a:xfrm>
            <a:off x="3206880" y="4648320"/>
            <a:ext cx="3117600" cy="103644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539280" y="2209680"/>
            <a:ext cx="80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 can be done modulo 2 (turns plus to exclusive-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6"/>
          <a:stretch/>
        </p:blipFill>
        <p:spPr>
          <a:xfrm>
            <a:off x="2270160" y="2782800"/>
            <a:ext cx="4782960" cy="2653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7"/>
          <a:stretch/>
        </p:blipFill>
        <p:spPr>
          <a:xfrm>
            <a:off x="5105520" y="3143160"/>
            <a:ext cx="3646440" cy="81936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4804200" y="5791320"/>
            <a:ext cx="407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ain notice compactnes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531800" y="76320"/>
            <a:ext cx="623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position Over 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792680" cy="103680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4783320" cy="26496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2671920" y="3352680"/>
            <a:ext cx="3652560" cy="10368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230040" y="2514600"/>
            <a:ext cx="82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start in the zero bitstring, then Hadmarding all 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s a superposition over all possible bit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3809880" y="4648320"/>
            <a:ext cx="873360" cy="20574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3624120" y="4476600"/>
            <a:ext cx="1219320" cy="22860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5"/>
          <a:stretch/>
        </p:blipFill>
        <p:spPr>
          <a:xfrm>
            <a:off x="3116160" y="5410080"/>
            <a:ext cx="346320" cy="3304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6"/>
          <a:stretch/>
        </p:blipFill>
        <p:spPr>
          <a:xfrm>
            <a:off x="4975200" y="5029200"/>
            <a:ext cx="19591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531800" y="76320"/>
            <a:ext cx="623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position Over 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10320" y="838080"/>
            <a:ext cx="64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damarding the superposition over all st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582480" y="1447920"/>
            <a:ext cx="6504120" cy="10540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4574880" cy="105408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3"/>
          <a:stretch/>
        </p:blipFill>
        <p:spPr>
          <a:xfrm>
            <a:off x="3962520" y="2592360"/>
            <a:ext cx="5078160" cy="103824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4"/>
          <a:stretch/>
        </p:blipFill>
        <p:spPr>
          <a:xfrm>
            <a:off x="673200" y="5222880"/>
            <a:ext cx="7645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531800" y="76320"/>
            <a:ext cx="623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position Over 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568440" y="5486400"/>
            <a:ext cx="6670440" cy="10224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216000" y="911160"/>
            <a:ext cx="7645320" cy="10224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755640" y="1973160"/>
            <a:ext cx="7074000" cy="100656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603360" y="3044880"/>
            <a:ext cx="8243640" cy="92232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1801800" y="4175280"/>
            <a:ext cx="700560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531800" y="76320"/>
            <a:ext cx="623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position Over 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609480" y="907920"/>
            <a:ext cx="7964640" cy="105408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1177920" y="2279520"/>
            <a:ext cx="6670800" cy="102240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3"/>
          <a:stretch/>
        </p:blipFill>
        <p:spPr>
          <a:xfrm>
            <a:off x="1066680" y="3581280"/>
            <a:ext cx="6516720" cy="105408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35440" y="480060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ld have found in easier fashion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4"/>
          <a:stretch/>
        </p:blipFill>
        <p:spPr>
          <a:xfrm>
            <a:off x="2255760" y="5410080"/>
            <a:ext cx="4525920" cy="4194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5"/>
          <a:stretch/>
        </p:blipFill>
        <p:spPr>
          <a:xfrm>
            <a:off x="6796080" y="4572000"/>
            <a:ext cx="1444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762840" y="0"/>
            <a:ext cx="76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rom Comp. Basis to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792680" cy="10368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4892400" cy="10368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229320" y="838080"/>
            <a:ext cx="82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effect of the Hadamard on the computation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1680" y="2743200"/>
            <a:ext cx="82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deduce the form of the matrix in outer product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583080" y="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080" y="83808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rices in outer product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377120" cy="1111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6720" y="27432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981080" y="2843280"/>
            <a:ext cx="1424160" cy="314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6720" y="33973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 oper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886200" y="3495600"/>
            <a:ext cx="1755720" cy="314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119480" y="4067280"/>
            <a:ext cx="23716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267080" y="4464000"/>
            <a:ext cx="1963800" cy="870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78600" y="396252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outcome 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6520" y="457200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state if outcome is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486400"/>
            <a:ext cx="75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ing first of two qubits.  Measurement oper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7877160" y="5591160"/>
            <a:ext cx="1006560" cy="2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7848720" y="6019920"/>
            <a:ext cx="1006200" cy="285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1066680" y="5943600"/>
            <a:ext cx="1938600" cy="70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3336840" y="6019920"/>
            <a:ext cx="3063960" cy="32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3336840" y="6456240"/>
            <a:ext cx="3063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763920" y="0"/>
            <a:ext cx="720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damard Basis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1905120" y="1706400"/>
            <a:ext cx="4892400" cy="10368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380880" y="838080"/>
            <a:ext cx="66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all that the columns of a matrix form a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is basis for the Hadam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1981080" y="3611520"/>
            <a:ext cx="4224600" cy="103680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459360" y="3048120"/>
            <a:ext cx="57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asis elements for the Hadmar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763920" y="0"/>
            <a:ext cx="720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damard Basis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224240" cy="103644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307800" y="106668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ck orthonorma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5934240" cy="105408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3"/>
          <a:stretch/>
        </p:blipFill>
        <p:spPr>
          <a:xfrm>
            <a:off x="7391520" y="3505320"/>
            <a:ext cx="620640" cy="4032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 flipH="1">
            <a:off x="6477120" y="373392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4"/>
          <a:stretch/>
        </p:blipFill>
        <p:spPr>
          <a:xfrm>
            <a:off x="534960" y="4602240"/>
            <a:ext cx="4875120" cy="103644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5"/>
          <a:stretch/>
        </p:blipFill>
        <p:spPr>
          <a:xfrm>
            <a:off x="268200" y="2279520"/>
            <a:ext cx="82263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763920" y="0"/>
            <a:ext cx="720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damard Basis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4875480" cy="10368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135000" y="2135160"/>
            <a:ext cx="8856720" cy="37944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1523880" y="2743200"/>
            <a:ext cx="7340760" cy="37944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304920" y="4952880"/>
            <a:ext cx="6670440" cy="10224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5"/>
          <a:stretch/>
        </p:blipFill>
        <p:spPr>
          <a:xfrm>
            <a:off x="2057400" y="3200400"/>
            <a:ext cx="4875120" cy="103680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6"/>
          <a:stretch/>
        </p:blipFill>
        <p:spPr>
          <a:xfrm>
            <a:off x="2935440" y="4419720"/>
            <a:ext cx="5903640" cy="3794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7"/>
          <a:stretch/>
        </p:blipFill>
        <p:spPr>
          <a:xfrm>
            <a:off x="2195640" y="6210360"/>
            <a:ext cx="39002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2129040" y="0"/>
            <a:ext cx="51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3080" y="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560" y="838080"/>
            <a:ext cx="745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utsch’s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inguishing between constant and 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94280" y="1828800"/>
            <a:ext cx="266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classical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quantum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720" y="28195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telepor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4114800"/>
            <a:ext cx="6288120" cy="1768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23840" y="6094440"/>
            <a:ext cx="1841760" cy="546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23840" y="481176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0600" y="412596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0600" y="48880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28960" y="3897360"/>
            <a:ext cx="243828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76080" y="336384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09640" y="542124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43560" y="38973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43200" y="38973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03400" y="366876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60080" y="5802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3745080"/>
            <a:ext cx="0" cy="29718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09520" y="1512720"/>
            <a:ext cx="6288120" cy="1768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90720" y="349236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90720" y="220968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480" y="15238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7480" y="2286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1295280"/>
            <a:ext cx="243864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42600" y="762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819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1295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410080" y="1295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0280" y="1066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6600" y="3200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1143000"/>
            <a:ext cx="0" cy="29718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47920" y="4894200"/>
            <a:ext cx="4114800" cy="897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715000" y="5046840"/>
            <a:ext cx="1841400" cy="545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5160" y="4191120"/>
            <a:ext cx="88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step is that Alice and Bob should share the entangled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44120" y="-61920"/>
            <a:ext cx="403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Telepor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160020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4920" y="685800"/>
          <a:ext cx="8269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269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531200" y="533520"/>
            <a:ext cx="1612800" cy="2057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00100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7016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41240" y="2514600"/>
            <a:ext cx="22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Interact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1600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441972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and Bob each have a qubit, and the wave function of their two qubit is entangled.  This means that we can’t think of Alice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 as having a particular wave function.  We have to talk about the “global” two qubit wav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523880" y="3276720"/>
            <a:ext cx="4114800" cy="896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791320" y="342900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735720" y="18288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Sepa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2914560" y="6019920"/>
            <a:ext cx="310536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89017E-007 C -0.01458 0.00647 -0.02951 0.00416 -0.04444 0.00185 C -0.04444 0.00185 -0.04027 -0.01064 -0.04444 -0.01064 C -0.04618 -0.01064 -0.04496 -0.00601 -0.046 -0.00439 C -0.04774 -0.00139 -0.05729 0.00809 -0.06006 0.0104 C -0.05954 0.01803 -0.06128 0.02705 -0.0585 0.03376 C -0.05729 0.03653 -0.05381 0.03214 -0.05225 0.02936 C -0.0493 0.02474 -0.046 0.01248 -0.046 0.01248 C -0.04409 0.00185 -0.04062 -0.00671 -0.03802 -0.01688 C -0.02361 -0.0141 -0.02812 -0.01942 -0.02378 -0.00208 C -0.02256 0.00277 -0.01736 0.0104 -0.01736 0.0104 C -0.01684 0.01341 -0.01788 0.0178 -0.01579 0.01896 C -0.01128 0.02104 -0.01232 0.00925 -0.01423 0.00624 C -0.02309 -0.00856 -0.02152 -0.00694 -0.03003 -0.01064 C -0.03697 -0.01017 -0.04375 -0.00971 -0.05069 -0.00856 C -0.05347 -0.00832 -0.05729 -0.00948 -0.0585 -0.00647 C -0.05937 -0.0037 -0.05434 -0.00509 -0.05225 -0.00439 C -0.04565 -0.00139 -0.03993 0.003 -0.03333 0.00624 C -0.01371 0.00277 -0.02482 0.00485 -4.72222E-006 -2.89017E-007 Z">
                                      <p:cBhvr>
                                        <p:cTn id="31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1.15607E-006 C 0.01198 -0.00324 0.01996 -0.0037 0.02795 -0.00624 C 0.03298 -0.01572 0.03715 -0.01942 0.04548 -0.02312 C 0.05399 -0.01942 0.05816 -0.01642 0.06458 -0.00832 C 0.06736 0.00647 0.06823 0.00763 0.05659 0.01063 C 0.05295 0.00994 0.04843 0.01156 0.04548 0.00855 C 0.04392 0.00694 0.04705 0.0037 0.04861 0.00231 C 0.05052 0.00069 0.05295 0.00069 0.05503 1.15607E-006 C 0.05816 0.00069 0.06336 0.00624 0.06458 0.00231 C 0.0717 -0.02197 0.06684 -0.02382 0.05816 -0.03168 C 0.05243 -0.03098 0.04496 -0.03515 0.0408 -0.0296 C 0.03663 -0.02405 0.04357 -0.0111 0.03906 -0.00624 C 0.03333 1.15607000000014E-006 0.0243 -0.00486 0.01684 -0.00416 C 0.0085 -0.00139 0.01267 -0.00278 0.00416 1.15607E-006 Z">
                                      <p:cBhvr>
                                        <p:cTn id="3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5607E-006 L 0.17917 1.15607E-006 E">
                                      <p:cBhvr>
                                        <p:cTn id="3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1.15607E-006 L -0.2 1.15607E-006 E">
                                      <p:cBhvr>
                                        <p:cTn id="40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44120" y="-61920"/>
            <a:ext cx="403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Telepor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523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685800"/>
          <a:ext cx="8269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269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531200" y="533520"/>
            <a:ext cx="1612800" cy="2057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00100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1523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200400" y="1600200"/>
            <a:ext cx="2743200" cy="812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3520" y="3124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447920" y="3352680"/>
            <a:ext cx="3260520" cy="414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08880" y="4191120"/>
            <a:ext cx="62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three qubits whose wave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235160" y="4700520"/>
            <a:ext cx="3184560" cy="703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31160" y="571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12920" y="571500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 2 and qubi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1143000" y="5181480"/>
            <a:ext cx="533520" cy="533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4160" y="274320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does not know the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2971800" y="4267080"/>
            <a:ext cx="533520" cy="2362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18:10:16Z</dcterms:created>
  <dc:creator>Dave Bacon</dc:creator>
  <dc:description/>
  <dc:language>en-US</dc:language>
  <cp:lastModifiedBy>Dave Bacon</cp:lastModifiedBy>
  <dcterms:modified xsi:type="dcterms:W3CDTF">2005-07-22T17:44:15Z</dcterms:modified>
  <cp:revision>21</cp:revision>
  <dc:subject/>
  <dc:title>Slide 1</dc:title>
</cp:coreProperties>
</file>