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127.png" ContentType="image/png"/>
  <Override PartName="/ppt/media/image36.png" ContentType="image/png"/>
  <Override PartName="/ppt/media/image51.png" ContentType="image/png"/>
  <Override PartName="/ppt/media/image4.jpeg" ContentType="image/jpe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10.png" ContentType="image/png"/>
  <Override PartName="/ppt/media/image107.png" ContentType="image/png"/>
  <Override PartName="/ppt/media/image47.png" ContentType="image/png"/>
  <Override PartName="/ppt/media/image133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134.png" ContentType="image/png"/>
  <Override PartName="/ppt/media/image135.png" ContentType="image/png"/>
  <Override PartName="/ppt/media/image35.png" ContentType="image/png"/>
  <Override PartName="/ppt/media/image158.png" ContentType="image/png"/>
  <Override PartName="/ppt/media/image5.jpeg" ContentType="image/jpeg"/>
  <Override PartName="/ppt/media/image61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163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156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34.png" ContentType="image/png"/>
  <Override PartName="/ppt/media/image157.png" ContentType="image/png"/>
  <Override PartName="/ppt/media/image60.png" ContentType="image/png"/>
  <Override PartName="/ppt/media/image46.png" ContentType="image/png"/>
  <Override PartName="/ppt/media/image132.png" ContentType="image/png"/>
  <Override PartName="/ppt/media/image169.png" ContentType="image/png"/>
  <Override PartName="/ppt/media/image152.png" ContentType="image/png"/>
  <Override PartName="/ppt/media/image151.png" ContentType="image/png"/>
  <Override PartName="/ppt/media/image150.png" ContentType="image/pn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39.png" ContentType="image/png"/>
  <Override PartName="/ppt/media/image144.png" ContentType="image/png"/>
  <Override PartName="/ppt/media/image6.gif" ContentType="image/gif"/>
  <Override PartName="/ppt/media/image31.png" ContentType="image/png"/>
  <Override PartName="/ppt/media/image9.png" ContentType="image/png"/>
  <Override PartName="/ppt/media/image153.png" ContentType="image/png"/>
  <Override PartName="/ppt/media/image1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09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54.png" ContentType="image/png"/>
  <Override PartName="/ppt/media/image2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12.png" ContentType="image/png"/>
  <Override PartName="/ppt/media/image80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25.png" ContentType="image/png"/>
  <Override PartName="/ppt/media/image93.png" ContentType="image/png"/>
  <Override PartName="/ppt/media/image26.png" ContentType="image/png"/>
  <Override PartName="/ppt/media/image94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E01-0594-46B8-8EDD-53F066F8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496-71DB-4642-8C3E-ACAC4CBB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598-DED6-453D-8F4E-AD591310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A5F-2EC9-4500-9E0D-DF9C1C3A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67F-7C77-4DA3-8191-DBB84A8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0F0-83DD-4CDC-B65D-39D5E67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A53-7E8D-475C-9333-3CA7C655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1F6-965B-4CB2-8EC5-041B08CD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9E5-7433-4CBB-9213-EE6B383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96C-9315-4092-A3E6-CEF9FB6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5A1-5A81-4E0A-9E00-CD748313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7CB-B757-47FE-9A81-AA20016D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7579-3B96-4612-8771-536A39CC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31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31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3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58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4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image" Target="../media/image95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4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image" Target="../media/image111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10.png"/><Relationship Id="rId12" Type="http://schemas.openxmlformats.org/officeDocument/2006/relationships/image" Target="../media/image111.png"/><Relationship Id="rId13" Type="http://schemas.openxmlformats.org/officeDocument/2006/relationships/image" Target="../media/image108.png"/><Relationship Id="rId14" Type="http://schemas.openxmlformats.org/officeDocument/2006/relationships/image" Target="../media/image109.png"/><Relationship Id="rId15" Type="http://schemas.openxmlformats.org/officeDocument/2006/relationships/image" Target="../media/image107.png"/><Relationship Id="rId16" Type="http://schemas.openxmlformats.org/officeDocument/2006/relationships/image" Target="../media/image106.png"/><Relationship Id="rId17" Type="http://schemas.openxmlformats.org/officeDocument/2006/relationships/image" Target="../media/image112.png"/><Relationship Id="rId18" Type="http://schemas.openxmlformats.org/officeDocument/2006/relationships/image" Target="../media/image113.png"/><Relationship Id="rId19" Type="http://schemas.openxmlformats.org/officeDocument/2006/relationships/image" Target="../media/image114.png"/><Relationship Id="rId2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15.png"/><Relationship Id="rId6" Type="http://schemas.openxmlformats.org/officeDocument/2006/relationships/image" Target="../media/image116.png"/><Relationship Id="rId7" Type="http://schemas.openxmlformats.org/officeDocument/2006/relationships/image" Target="../media/image11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120.png"/><Relationship Id="rId4" Type="http://schemas.openxmlformats.org/officeDocument/2006/relationships/image" Target="../media/image115.png"/><Relationship Id="rId5" Type="http://schemas.openxmlformats.org/officeDocument/2006/relationships/image" Target="../media/image121.png"/><Relationship Id="rId6" Type="http://schemas.openxmlformats.org/officeDocument/2006/relationships/image" Target="../media/image115.png"/><Relationship Id="rId7" Type="http://schemas.openxmlformats.org/officeDocument/2006/relationships/image" Target="../media/image12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3.png"/><Relationship Id="rId6" Type="http://schemas.openxmlformats.org/officeDocument/2006/relationships/image" Target="../media/image126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image" Target="../media/image130.png"/><Relationship Id="rId6" Type="http://schemas.openxmlformats.org/officeDocument/2006/relationships/image" Target="../media/image131.png"/><Relationship Id="rId7" Type="http://schemas.openxmlformats.org/officeDocument/2006/relationships/image" Target="../media/image132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image" Target="../media/image140.png"/><Relationship Id="rId6" Type="http://schemas.openxmlformats.org/officeDocument/2006/relationships/image" Target="../media/image141.png"/><Relationship Id="rId7" Type="http://schemas.openxmlformats.org/officeDocument/2006/relationships/image" Target="../media/image142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33.png"/><Relationship Id="rId3" Type="http://schemas.openxmlformats.org/officeDocument/2006/relationships/image" Target="../media/image143.png"/><Relationship Id="rId4" Type="http://schemas.openxmlformats.org/officeDocument/2006/relationships/image" Target="../media/image115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46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5.png"/><Relationship Id="rId3" Type="http://schemas.openxmlformats.org/officeDocument/2006/relationships/image" Target="../media/image147.png"/><Relationship Id="rId4" Type="http://schemas.openxmlformats.org/officeDocument/2006/relationships/image" Target="../media/image133.png"/><Relationship Id="rId5" Type="http://schemas.openxmlformats.org/officeDocument/2006/relationships/image" Target="../media/image148.png"/><Relationship Id="rId6" Type="http://schemas.openxmlformats.org/officeDocument/2006/relationships/image" Target="../media/image149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image" Target="../media/image151.png"/><Relationship Id="rId3" Type="http://schemas.openxmlformats.org/officeDocument/2006/relationships/image" Target="../media/image152.png"/><Relationship Id="rId4" Type="http://schemas.openxmlformats.org/officeDocument/2006/relationships/image" Target="../media/image15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53.png"/><Relationship Id="rId3" Type="http://schemas.openxmlformats.org/officeDocument/2006/relationships/image" Target="../media/image155.png"/><Relationship Id="rId4" Type="http://schemas.openxmlformats.org/officeDocument/2006/relationships/image" Target="../media/image156.png"/><Relationship Id="rId5" Type="http://schemas.openxmlformats.org/officeDocument/2006/relationships/image" Target="../media/image157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4.png"/><Relationship Id="rId3" Type="http://schemas.openxmlformats.org/officeDocument/2006/relationships/image" Target="../media/image159.png"/><Relationship Id="rId4" Type="http://schemas.openxmlformats.org/officeDocument/2006/relationships/image" Target="../media/image160.png"/><Relationship Id="rId5" Type="http://schemas.openxmlformats.org/officeDocument/2006/relationships/image" Target="../media/image161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6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16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164.png"/><Relationship Id="rId3" Type="http://schemas.openxmlformats.org/officeDocument/2006/relationships/image" Target="../media/image165.png"/><Relationship Id="rId4" Type="http://schemas.openxmlformats.org/officeDocument/2006/relationships/image" Target="../media/image166.png"/><Relationship Id="rId5" Type="http://schemas.openxmlformats.org/officeDocument/2006/relationships/image" Target="../media/image16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image" Target="../media/image168.png"/><Relationship Id="rId3" Type="http://schemas.openxmlformats.org/officeDocument/2006/relationships/image" Target="../media/image169.png"/><Relationship Id="rId4" Type="http://schemas.openxmlformats.org/officeDocument/2006/relationships/image" Target="../media/image154.png"/><Relationship Id="rId5" Type="http://schemas.openxmlformats.org/officeDocument/2006/relationships/image" Target="../media/image170.png"/><Relationship Id="rId6" Type="http://schemas.openxmlformats.org/officeDocument/2006/relationships/image" Target="../media/image171.png"/><Relationship Id="rId7" Type="http://schemas.openxmlformats.org/officeDocument/2006/relationships/image" Target="../media/image172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9160" y="838080"/>
            <a:ext cx="259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44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24120" y="45720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7720" y="525780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Quantum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7760" y="2590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30240" y="38862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dens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9160" y="32767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sh Tele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49960" y="213372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92700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057400"/>
            <a:ext cx="161280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14400" y="2895480"/>
            <a:ext cx="746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C 0.00157 -0.00069 0.00313 -0.00208 0.00486 -0.00208 C 0.0066 -0.00208 0.01146 -1.11111E-006 0.00973 -1.11111E-006 C 0.00486 -1.11111E-006 -4.9999999999998E-006 -0.00139 -0.00487 -0.00208 C -0.00331 -0.00139 -0.00157 -0.00069 -5E-006 -1.11111E-006 C 0.00209 0.0007 0.00643 -0.00092 0.00643 0.00209 C 0.00643 0.00509 0.00226 0.00417 -5E-006 0.00417 C -0.00174 0.00417 0.0033 0.00278 0.00486 0.00209 C 0.0033 0.00139 -5E-006 0.00232 -5E-006 -1.11111E-006 C -5E-006 -0.00231 0.00486 -0.00208 0.00486 -0.00208 C -0.00157 0.0007 -0.00157 -0.00069 0.00486 0.00209 C 0.01146 0.00486 0.01181 0.00579 0.0033 0.00209 C 0.00209 0.00162 0.00104 0.0007 -5E-006 -1.11111E-006 Z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C 0.00209 0.00069 0.00643 -0.00093 0.00643 0.00208 C 0.00643 0.00509 5.27778E-006 0.00717 5.27778E-006 0.00416 C 5.27778E-006 0.00277 5.27778E-006 0.00138 5.27778E-006 -7.03704E-006 Z">
                                      <p:cBhvr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xit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35360" y="762120"/>
            <a:ext cx="3184560" cy="703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5160" y="1523880"/>
            <a:ext cx="89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onsider qubit 1 as one subsystem and qubits 2 and 3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ubsystem, then the state is separable across this 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438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we consider qubits 1 and 2 as one system and qubits 3 as one subsystem, then the state is entangled across this 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8915400" cy="592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36560" y="4572000"/>
            <a:ext cx="6745320" cy="264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4100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4680" y="6400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54864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4100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6120" y="64008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64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0532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2464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08480" y="50292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51480" y="502920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502920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7360" y="838080"/>
            <a:ext cx="72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 will deal with entangled state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djacent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24382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4382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2438280"/>
            <a:ext cx="83808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4038480" y="2286000"/>
            <a:ext cx="533520" cy="2362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00400" y="364968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V="1" rot="5400000">
            <a:off x="3962520" y="1980000"/>
            <a:ext cx="533160" cy="838440"/>
          </a:xfrm>
          <a:custGeom>
            <a:avLst/>
            <a:gdLst>
              <a:gd name="textAreaLeft" fmla="*/ 340560 w 533160"/>
              <a:gd name="textAreaRight" fmla="*/ 533520 w 5331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038480" y="1708200"/>
            <a:ext cx="2743200" cy="349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8520" y="449568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even “write”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093680" y="4944960"/>
            <a:ext cx="4011840" cy="703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11400" y="5715000"/>
            <a:ext cx="75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 denotes which qubit(s) you are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133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1337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213372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92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576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7692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8320" y="4630680"/>
            <a:ext cx="4011480" cy="703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489276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489276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489276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1904760" y="4740120"/>
            <a:ext cx="533520" cy="236196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066680" y="610380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 rot="5400000">
            <a:off x="1828800" y="443556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905120" y="4162320"/>
            <a:ext cx="2743200" cy="349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40240" y="458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33920" y="458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53240" y="458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400000">
            <a:off x="762120" y="1522800"/>
            <a:ext cx="533160" cy="838440"/>
          </a:xfrm>
          <a:custGeom>
            <a:avLst/>
            <a:gdLst>
              <a:gd name="textAreaLeft" fmla="*/ 340560 w 533160"/>
              <a:gd name="textAreaRight" fmla="*/ 533520 w 5331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838080" y="1251000"/>
            <a:ext cx="2743200" cy="34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752480" y="328464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16200000">
            <a:off x="2590920" y="2057040"/>
            <a:ext cx="533160" cy="2057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4573440" y="1973160"/>
            <a:ext cx="40118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3400" y="0"/>
            <a:ext cx="841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, Entangled, 3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5543640" cy="703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7620120" cy="6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143000" y="2438280"/>
            <a:ext cx="6629400" cy="700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52280" y="3398760"/>
            <a:ext cx="5699160" cy="716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143000" y="4135320"/>
            <a:ext cx="7696080" cy="66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143000" y="4946760"/>
            <a:ext cx="6629400" cy="699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9400" y="5791320"/>
            <a:ext cx="83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write subscripts we mean “standard order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44120" y="-619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68580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531200" y="53352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0010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200400" y="1600200"/>
            <a:ext cx="2743200" cy="812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1447920" y="3352680"/>
            <a:ext cx="3260520" cy="414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08880" y="4191120"/>
            <a:ext cx="62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three qubits whose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1235160" y="4700520"/>
            <a:ext cx="3184560" cy="703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3116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12920" y="57150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2 and qubi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1143000" y="5181480"/>
            <a:ext cx="533520" cy="533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4160" y="27432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does not know 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2971800" y="4267080"/>
            <a:ext cx="533520" cy="2362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89120" y="4267080"/>
            <a:ext cx="4011480" cy="703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6629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233880" cy="633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88880" y="4854600"/>
            <a:ext cx="3164040" cy="633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4840" y="5538960"/>
            <a:ext cx="3259080" cy="633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95360" y="6148440"/>
            <a:ext cx="3176640" cy="633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5029200" y="4191120"/>
            <a:ext cx="3330720" cy="633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5029200" y="4853160"/>
            <a:ext cx="3370320" cy="633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5029200" y="5514840"/>
            <a:ext cx="3287880" cy="633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5029200" y="6148440"/>
            <a:ext cx="3287880" cy="633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23280" y="363384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9160" y="36338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1752480" y="1662120"/>
            <a:ext cx="6629400" cy="700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0"/>
          <a:stretch/>
        </p:blipFill>
        <p:spPr>
          <a:xfrm>
            <a:off x="228600" y="914400"/>
            <a:ext cx="4011480" cy="703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90320" y="2666880"/>
            <a:ext cx="80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ress this state in terms of Bell basis for first two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243080"/>
            <a:ext cx="3233880" cy="63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88880" y="1906560"/>
            <a:ext cx="3164040" cy="633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474840" y="2590920"/>
            <a:ext cx="3259080" cy="633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95360" y="3200400"/>
            <a:ext cx="3176640" cy="633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5029200" y="1243080"/>
            <a:ext cx="3330720" cy="633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5029200" y="1905120"/>
            <a:ext cx="3370320" cy="633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223280" y="6858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9160" y="6858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304920" y="3886200"/>
            <a:ext cx="6256080" cy="700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5024520" y="2568600"/>
            <a:ext cx="3287520" cy="6332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5000760" y="3203640"/>
            <a:ext cx="3330360" cy="633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0"/>
          <a:stretch/>
        </p:blipFill>
        <p:spPr>
          <a:xfrm>
            <a:off x="1781280" y="5626080"/>
            <a:ext cx="6526080" cy="1054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1"/>
          <a:stretch/>
        </p:blipFill>
        <p:spPr>
          <a:xfrm>
            <a:off x="1824120" y="4633920"/>
            <a:ext cx="6740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789120" y="4114800"/>
            <a:ext cx="4011480" cy="703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6629400" cy="6998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1739880" y="5632560"/>
            <a:ext cx="69832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1800" y="76320"/>
            <a:ext cx="800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ropping The Tensor 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1280" y="4876920"/>
            <a:ext cx="843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we will just “drop” the tensor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xt” lets us know that there is an implicit tensor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371600" y="3587760"/>
            <a:ext cx="5927760" cy="105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80880" y="1212840"/>
            <a:ext cx="6045480" cy="1054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434960" y="2432160"/>
            <a:ext cx="69836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7660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00" y="838080"/>
            <a:ext cx="88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 in HW #3.  It was meant to be harder than HWs #1 and #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320" y="1828800"/>
            <a:ext cx="672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k up HW #4.  It should be easier than HW #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W#2 solutions available o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my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37335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62485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23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501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8824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960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33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07760" y="632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7280" y="6324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867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5029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5715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5486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6720" y="388620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89120" y="4114800"/>
            <a:ext cx="4011480" cy="703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6629400" cy="699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1700280" y="5638680"/>
            <a:ext cx="70628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6720" y="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 Basis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80880" y="1881360"/>
            <a:ext cx="4229280" cy="6332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43080" y="2643120"/>
            <a:ext cx="4228920" cy="6336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4876920" y="1909800"/>
            <a:ext cx="4144680" cy="633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819680" y="2568600"/>
            <a:ext cx="4172040" cy="633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3352680" y="762120"/>
            <a:ext cx="22194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19112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1216080" y="3435480"/>
            <a:ext cx="6502320" cy="1054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1346040" y="4944960"/>
            <a:ext cx="62503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568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266760" y="4108320"/>
            <a:ext cx="6502320" cy="1054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422360" y="5707080"/>
            <a:ext cx="62499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31120" y="9144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7800" y="2362320"/>
            <a:ext cx="75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 the first two qubits in the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914400" y="2921040"/>
            <a:ext cx="2482920" cy="279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92680" y="2895480"/>
            <a:ext cx="2482560" cy="279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920880" y="3378240"/>
            <a:ext cx="2482560" cy="279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889440" y="3352680"/>
            <a:ext cx="2482920" cy="279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07800" y="3809880"/>
            <a:ext cx="83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al ¼ probability for all four outcomes and new stat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990720" y="4343400"/>
            <a:ext cx="3082680" cy="2919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6"/>
          <a:stretch/>
        </p:blipFill>
        <p:spPr>
          <a:xfrm>
            <a:off x="993600" y="53467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985680" y="4813200"/>
            <a:ext cx="3083040" cy="2923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990720" y="57913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706320" y="1287360"/>
            <a:ext cx="62499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491080" y="34164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494320" y="44197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5491080" y="4863960"/>
            <a:ext cx="3044880" cy="292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33412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7"/>
          <a:stretch/>
        </p:blipFill>
        <p:spPr>
          <a:xfrm>
            <a:off x="325440" y="5707080"/>
            <a:ext cx="62499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7800" y="914400"/>
            <a:ext cx="70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00, 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1200" y="1828800"/>
            <a:ext cx="74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01, apply a bi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90640" y="2438280"/>
            <a:ext cx="7262640" cy="279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2280" y="3276720"/>
            <a:ext cx="79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10, apply a phase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927000" y="3809880"/>
            <a:ext cx="6769080" cy="27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224000" y="1447920"/>
            <a:ext cx="5167440" cy="2793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tretch/>
        </p:blipFill>
        <p:spPr>
          <a:xfrm>
            <a:off x="4651200" y="2971800"/>
            <a:ext cx="1974960" cy="2793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5"/>
          <a:stretch/>
        </p:blipFill>
        <p:spPr>
          <a:xfrm>
            <a:off x="4575240" y="4191120"/>
            <a:ext cx="1974960" cy="279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51560" y="449568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bits sent from Alice to Bob are 11, apply a bit &amp; phase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09440" y="5257800"/>
            <a:ext cx="8958240" cy="279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876920" y="5791320"/>
            <a:ext cx="3429000" cy="2919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4956120" y="6400800"/>
            <a:ext cx="19749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5491080" y="34164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5494320" y="4419720"/>
            <a:ext cx="3044880" cy="2919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3083040" cy="2919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5491080" y="4863960"/>
            <a:ext cx="3044880" cy="292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5334120" y="114300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flipH="1">
            <a:off x="6095520" y="219564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04920" y="4267080"/>
          <a:ext cx="59508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59508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6400800" y="4176720"/>
            <a:ext cx="38088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781320" y="4176720"/>
            <a:ext cx="38124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400800" y="3795840"/>
            <a:ext cx="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338640"/>
            <a:ext cx="129528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638680" y="3795840"/>
            <a:ext cx="0" cy="1371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162920" y="1280880"/>
            <a:ext cx="0" cy="28954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943240" y="2119320"/>
            <a:ext cx="1219320" cy="1219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934320" y="2133720"/>
            <a:ext cx="457200" cy="457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5486400" y="2424240"/>
            <a:ext cx="1036800" cy="276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543800" y="2271600"/>
            <a:ext cx="762120" cy="243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3809880" y="3029040"/>
            <a:ext cx="2210040" cy="2476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4572000" y="2666880"/>
            <a:ext cx="609480" cy="2620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5410080" y="5315040"/>
            <a:ext cx="462240" cy="385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8"/>
          <a:stretch/>
        </p:blipFill>
        <p:spPr>
          <a:xfrm>
            <a:off x="6934320" y="985680"/>
            <a:ext cx="461880" cy="385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 flipV="1">
            <a:off x="6781680" y="823680"/>
            <a:ext cx="0" cy="5638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4557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6110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91520" y="6110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143000" y="3886200"/>
            <a:ext cx="0" cy="1371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143000" y="2971800"/>
            <a:ext cx="914400" cy="914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057400" y="1371240"/>
            <a:ext cx="0" cy="1600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00200" y="838080"/>
            <a:ext cx="0" cy="5639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60339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9"/>
          <a:stretch/>
        </p:blipFill>
        <p:spPr>
          <a:xfrm>
            <a:off x="3276720" y="3429000"/>
            <a:ext cx="54108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0"/>
          <a:stretch/>
        </p:blipFill>
        <p:spPr>
          <a:xfrm>
            <a:off x="5772240" y="4633920"/>
            <a:ext cx="2019240" cy="431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1"/>
          <a:stretch/>
        </p:blipFill>
        <p:spPr>
          <a:xfrm>
            <a:off x="1828800" y="4267080"/>
            <a:ext cx="1071720" cy="14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4572000" y="4267080"/>
          <a:ext cx="595440" cy="152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0" y="4267080"/>
                    <a:ext cx="59544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2" name="" descr=""/>
          <p:cNvPicPr/>
          <p:nvPr/>
        </p:nvPicPr>
        <p:blipFill>
          <a:blip r:embed="rId14"/>
          <a:stretch/>
        </p:blipFill>
        <p:spPr>
          <a:xfrm>
            <a:off x="7924680" y="4267080"/>
            <a:ext cx="1071720" cy="1424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668680" y="152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668680" y="152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09600" y="137160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qubit = 1 ebit + 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65600" y="2362320"/>
            <a:ext cx="74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portation says we can replace transmitting a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shared entangled pair of qubits plus two bi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cal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00240" y="563868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= 1 qubit + 1 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we will se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29880" y="403848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829880" y="763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233520" cy="6332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520" y="1006560"/>
            <a:ext cx="79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each have one qubit and the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 wave function is the entangl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3920" y="26668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wants to send two bits to Bob.  Call these bits      and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343640" y="274320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8305920" y="2738520"/>
            <a:ext cx="299880" cy="317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70000" y="32767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applies the following operator to her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6360" y="396252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then sends her qubit to Bo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08160" y="4648320"/>
            <a:ext cx="84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then measures in the Bell basis to determine the two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6872400" y="3247920"/>
            <a:ext cx="1176120" cy="3715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000240" y="556272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= 1 qubit + 1 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7523280" y="3962520"/>
            <a:ext cx="1315800" cy="353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522120" y="39765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7660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3280" y="990720"/>
            <a:ext cx="76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ly 20: multi qubit registers, begin quantum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ly 27: quantum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 3: quantum 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 10: quantum error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g 17: post-final lecture o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830600" y="76320"/>
            <a:ext cx="51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125880" y="76320"/>
            <a:ext cx="285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233520" cy="633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31480" y="777960"/>
            <a:ext cx="76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ur Bell states can be turned into each other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tions on only one of the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60520" y="2438280"/>
            <a:ext cx="7821360" cy="594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587520" y="3211560"/>
            <a:ext cx="7643520" cy="593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368280" y="4033800"/>
            <a:ext cx="83948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829880" y="763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3233880" cy="6332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22280" y="19051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applies the following operator to her qub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6977160" y="1900080"/>
            <a:ext cx="1176120" cy="3715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60080" y="12193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609480" y="357984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09480" y="413856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3124080" y="2513160"/>
            <a:ext cx="2971800" cy="4870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6"/>
          <a:stretch/>
        </p:blipFill>
        <p:spPr>
          <a:xfrm>
            <a:off x="3571920" y="4114800"/>
            <a:ext cx="3390840" cy="398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7"/>
          <a:stretch/>
        </p:blipFill>
        <p:spPr>
          <a:xfrm>
            <a:off x="6200640" y="3505320"/>
            <a:ext cx="766800" cy="396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8"/>
          <a:stretch/>
        </p:blipFill>
        <p:spPr>
          <a:xfrm>
            <a:off x="609480" y="472428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9"/>
          <a:stretch/>
        </p:blipFill>
        <p:spPr>
          <a:xfrm>
            <a:off x="3514680" y="4764240"/>
            <a:ext cx="3495600" cy="3981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0"/>
          <a:stretch/>
        </p:blipFill>
        <p:spPr>
          <a:xfrm>
            <a:off x="609480" y="5319720"/>
            <a:ext cx="2210040" cy="3142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1"/>
          <a:stretch/>
        </p:blipFill>
        <p:spPr>
          <a:xfrm>
            <a:off x="3255840" y="5308560"/>
            <a:ext cx="3740400" cy="398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37480" y="594360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can uniquely determine which of the four states h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us figure out Alice’s two b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829880" y="763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04920" y="3081240"/>
            <a:ext cx="2286000" cy="4478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81952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4267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762120" y="1066680"/>
          <a:ext cx="595080" cy="152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59508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609480" y="4572000"/>
            <a:ext cx="1071720" cy="14241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733920" y="2162160"/>
            <a:ext cx="533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3581280" y="1676520"/>
            <a:ext cx="1176480" cy="3715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1628640" y="122400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7"/>
          <a:stretch/>
        </p:blipFill>
        <p:spPr>
          <a:xfrm>
            <a:off x="1600200" y="1676520"/>
            <a:ext cx="299880" cy="317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4862520" y="2424240"/>
            <a:ext cx="1614600" cy="16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327672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3871800"/>
            <a:ext cx="533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27000" y="464832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8"/>
          <a:stretch/>
        </p:blipFill>
        <p:spPr>
          <a:xfrm>
            <a:off x="7953480" y="404352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7924680" y="4495680"/>
            <a:ext cx="3002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668680" y="15228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09600" y="137160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qubit = 1 ebit + 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65600" y="2362320"/>
            <a:ext cx="74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portation says we can replace transmitting a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shared entangled pair of qubits plus two bi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cal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52720" y="4648320"/>
            <a:ext cx="32670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= 1 qubit + 1 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55180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send two bits of classical information if we share an entangled state and can communicate one qubit of quantum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29880" y="3733920"/>
            <a:ext cx="546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dense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677960" y="3200400"/>
            <a:ext cx="573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310760" y="84240"/>
            <a:ext cx="6513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lassical Promise Problem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Query Complex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3400" y="121932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lack box which computes som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851280" y="1670040"/>
            <a:ext cx="1457280" cy="14097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3276720" y="2290680"/>
            <a:ext cx="304560" cy="2509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878040" cy="428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364120" y="2590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160" y="25909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2200" y="5425920"/>
            <a:ext cx="89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black box in order to determine which subset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38320" y="30481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880" y="34290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805360" y="35193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82680" y="44197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3187800" y="45100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482760" y="49068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"/>
          <a:stretch/>
        </p:blipFill>
        <p:spPr>
          <a:xfrm>
            <a:off x="533520" y="62485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84720" y="0"/>
            <a:ext cx="248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0600" y="685800"/>
            <a:ext cx="81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you are given a black box which computes on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four reversible classical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33520" y="2378160"/>
            <a:ext cx="1471320" cy="269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34960" y="279396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534960" y="327672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541440" y="3708360"/>
            <a:ext cx="1438200" cy="25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598840" y="2370240"/>
            <a:ext cx="1471680" cy="2696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2600280" y="278604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2590920" y="326880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597040" y="370044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tretch/>
        </p:blipFill>
        <p:spPr>
          <a:xfrm>
            <a:off x="4952880" y="2378160"/>
            <a:ext cx="1471680" cy="2696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10"/>
          <a:stretch/>
        </p:blipFill>
        <p:spPr>
          <a:xfrm>
            <a:off x="4954680" y="279396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1"/>
          <a:stretch/>
        </p:blipFill>
        <p:spPr>
          <a:xfrm>
            <a:off x="4962600" y="328464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2"/>
          <a:stretch/>
        </p:blipFill>
        <p:spPr>
          <a:xfrm>
            <a:off x="4968720" y="370692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3"/>
          <a:stretch/>
        </p:blipFill>
        <p:spPr>
          <a:xfrm>
            <a:off x="7088040" y="2370240"/>
            <a:ext cx="1471680" cy="269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14"/>
          <a:stretch/>
        </p:blipFill>
        <p:spPr>
          <a:xfrm>
            <a:off x="7093080" y="2770200"/>
            <a:ext cx="1471320" cy="2700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15"/>
          <a:stretch/>
        </p:blipFill>
        <p:spPr>
          <a:xfrm>
            <a:off x="7094520" y="3708360"/>
            <a:ext cx="1438200" cy="2523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16"/>
          <a:stretch/>
        </p:blipFill>
        <p:spPr>
          <a:xfrm>
            <a:off x="7072200" y="3260880"/>
            <a:ext cx="1438560" cy="2714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11640" y="4049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29360" y="404964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5240" y="4049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85280" y="390204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2280" y="55180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(Classical) 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minimal number of times we have to use this black box to determine whether we are given one of the first two or the second two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7"/>
          <a:stretch/>
        </p:blipFill>
        <p:spPr>
          <a:xfrm>
            <a:off x="3835440" y="1455840"/>
            <a:ext cx="1338120" cy="846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2135880" y="1619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35560" y="1619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bits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8"/>
          <a:stretch/>
        </p:blipFill>
        <p:spPr>
          <a:xfrm>
            <a:off x="2286000" y="5016600"/>
            <a:ext cx="365040" cy="317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9"/>
          <a:stretch/>
        </p:blipFill>
        <p:spPr>
          <a:xfrm>
            <a:off x="6541920" y="5092560"/>
            <a:ext cx="379440" cy="3175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5400000">
            <a:off x="2095200" y="2615760"/>
            <a:ext cx="609480" cy="4038840"/>
          </a:xfrm>
          <a:custGeom>
            <a:avLst/>
            <a:gdLst>
              <a:gd name="textAreaLeft" fmla="*/ 0 w 609480"/>
              <a:gd name="textAreaRight" fmla="*/ 219960 w 60948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6476760" y="2514240"/>
            <a:ext cx="609480" cy="4419720"/>
          </a:xfrm>
          <a:custGeom>
            <a:avLst/>
            <a:gdLst>
              <a:gd name="textAreaLeft" fmla="*/ 0 w 609480"/>
              <a:gd name="textAreaRight" fmla="*/ 219960 w 60948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83880" y="152280"/>
            <a:ext cx="90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uantum Promise Query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6280" y="914400"/>
            <a:ext cx="87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quantum gate which, when used as a classical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s a reversibl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9920" y="24447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24447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2560" y="565452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quantum gate in order to determine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t       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3832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0880" y="36576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805360" y="37479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382680" y="46483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3187800" y="47386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482760" y="51354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4"/>
          <a:stretch/>
        </p:blipFill>
        <p:spPr>
          <a:xfrm>
            <a:off x="1587600" y="64771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5"/>
          <a:stretch/>
        </p:blipFill>
        <p:spPr>
          <a:xfrm>
            <a:off x="3276720" y="215280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5486400" y="2144880"/>
            <a:ext cx="914400" cy="3697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7"/>
          <a:stretch/>
        </p:blipFill>
        <p:spPr>
          <a:xfrm>
            <a:off x="3857760" y="1746360"/>
            <a:ext cx="14349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87800" y="76320"/>
            <a:ext cx="483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1480" y="1066680"/>
            <a:ext cx="761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 until now, we have dealt with only 1,2,3, or 4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we will deal with n qubits at a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990720" y="3884760"/>
            <a:ext cx="4755960" cy="36504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295280" y="2133720"/>
            <a:ext cx="50292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146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576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1500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74320" y="2743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81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4956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6960" y="33512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990720" y="4565520"/>
            <a:ext cx="2901960" cy="3654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6324480" y="3884760"/>
            <a:ext cx="1730520" cy="365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988920" y="518004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5"/>
          <a:stretch/>
        </p:blipFill>
        <p:spPr>
          <a:xfrm>
            <a:off x="1676520" y="5180040"/>
            <a:ext cx="1815840" cy="3826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658680" y="5118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988920" y="586584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1681200" y="5865840"/>
            <a:ext cx="388152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0"/>
            <a:ext cx="72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uttling Around a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47800" y="838080"/>
            <a:ext cx="326700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9600" y="586728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tures snatched from Chris Monroe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Michiga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248280" cy="243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352680" y="3505320"/>
            <a:ext cx="22860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2288160" y="76320"/>
            <a:ext cx="396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19680" y="106668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 have a wave function with       complex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82680" cy="2779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05280" y="1828800"/>
            <a:ext cx="85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     complex numbers down, and keeping track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a naïve manner) is very computationally in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382320" cy="2775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308160" y="28954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one of the first indications that simulating a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on a classical computer might be very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2557440" y="388620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4"/>
          <a:stretch/>
        </p:blipFill>
        <p:spPr>
          <a:xfrm>
            <a:off x="2590920" y="5257800"/>
            <a:ext cx="347400" cy="2095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2971080" y="505764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      complex nu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3629160" y="5153040"/>
            <a:ext cx="382320" cy="2779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5749920" y="5595840"/>
            <a:ext cx="2327400" cy="10288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2518920" y="586728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normali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657880" y="0"/>
            <a:ext cx="396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414440" y="99072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1679760" cy="8031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4237200" y="1943280"/>
            <a:ext cx="4144680" cy="10285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152280" y="3048120"/>
            <a:ext cx="962280" cy="2602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914400" y="3505320"/>
            <a:ext cx="2901960" cy="9954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76320" y="4572000"/>
            <a:ext cx="8115120" cy="8175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1223640" y="22860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normali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80" y="7621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7"/>
          <a:stretch/>
        </p:blipFill>
        <p:spPr>
          <a:xfrm>
            <a:off x="61920" y="5562720"/>
            <a:ext cx="9067680" cy="6699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842120" y="6400800"/>
            <a:ext cx="54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how compact thi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tation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982880" y="7632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Hada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492200" cy="3516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3200400" y="2830680"/>
            <a:ext cx="2362320" cy="34621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5560" y="9144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all 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3657600" y="914400"/>
            <a:ext cx="4056120" cy="3826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874160" y="411156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643720" y="41259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3048120" y="1523880"/>
            <a:ext cx="30430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982880" y="7632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Hada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800" y="91440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one qubit in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1560" y="236232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n qubits in computational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08120" y="2895480"/>
            <a:ext cx="8130960" cy="419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2049480" y="3505320"/>
            <a:ext cx="6103800" cy="3823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8839080" cy="61596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228600" y="4624560"/>
            <a:ext cx="8771040" cy="10141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492120" y="1533600"/>
            <a:ext cx="8042400" cy="8697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195120" y="5715000"/>
            <a:ext cx="3538800" cy="10382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4237200" y="5638680"/>
            <a:ext cx="490680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982880" y="7632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 Qubit Hada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906800" cy="2998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1682640" y="3733920"/>
            <a:ext cx="1197000" cy="28191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41640" y="838080"/>
            <a:ext cx="4792680" cy="10368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920880" y="4927680"/>
            <a:ext cx="345960" cy="3301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371600" y="3581280"/>
            <a:ext cx="1676520" cy="31244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5"/>
          <a:stretch/>
        </p:blipFill>
        <p:spPr>
          <a:xfrm>
            <a:off x="3206880" y="4648320"/>
            <a:ext cx="3117600" cy="10364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539280" y="2209680"/>
            <a:ext cx="80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 can be done modulo 2 (turns plus to exclusive-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70160" y="2782800"/>
            <a:ext cx="4782960" cy="2653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5105520" y="3143160"/>
            <a:ext cx="3646440" cy="8193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4804200" y="5791320"/>
            <a:ext cx="40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 notice compactnes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792680" cy="10368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4783320" cy="2649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2671920" y="3352680"/>
            <a:ext cx="3652560" cy="10368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0040" y="251460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start in the zero bitstring, then Hadmarding all 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s a superposition over all possible bit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3809880" y="4648320"/>
            <a:ext cx="873360" cy="20574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3624120" y="4476600"/>
            <a:ext cx="1219320" cy="22860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5"/>
          <a:stretch/>
        </p:blipFill>
        <p:spPr>
          <a:xfrm>
            <a:off x="3116160" y="5410080"/>
            <a:ext cx="346320" cy="3304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6"/>
          <a:stretch/>
        </p:blipFill>
        <p:spPr>
          <a:xfrm>
            <a:off x="4975200" y="5029200"/>
            <a:ext cx="1959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0320" y="83808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ing the superposition over all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582480" y="1447920"/>
            <a:ext cx="6504120" cy="10540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4574880" cy="105408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3962520" y="2592360"/>
            <a:ext cx="5078160" cy="103824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4"/>
          <a:stretch/>
        </p:blipFill>
        <p:spPr>
          <a:xfrm>
            <a:off x="673200" y="5222880"/>
            <a:ext cx="7645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568440" y="5486400"/>
            <a:ext cx="6670440" cy="10224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216000" y="911160"/>
            <a:ext cx="7645320" cy="1022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755640" y="1973160"/>
            <a:ext cx="7074000" cy="10065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603360" y="3044880"/>
            <a:ext cx="8243640" cy="9223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801800" y="4175280"/>
            <a:ext cx="70056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31800" y="76320"/>
            <a:ext cx="623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erposition Over 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609480" y="907920"/>
            <a:ext cx="7964640" cy="10540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1177920" y="2279520"/>
            <a:ext cx="6670800" cy="10224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1066680" y="3581280"/>
            <a:ext cx="6516720" cy="10540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35440" y="480060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ld have found in easier fashion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4"/>
          <a:stretch/>
        </p:blipFill>
        <p:spPr>
          <a:xfrm>
            <a:off x="2255760" y="5410080"/>
            <a:ext cx="4525920" cy="4194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6796080" y="4572000"/>
            <a:ext cx="1444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62840" y="0"/>
            <a:ext cx="76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om Comp. Basis to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92680" cy="10368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4892400" cy="10368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229320" y="838080"/>
            <a:ext cx="82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effect of the Hadamard on the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1680" y="274320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deduce the form of the matrix in outer produc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8308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080" y="83808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rices in outer product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377120" cy="1111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6720" y="27432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81080" y="2843280"/>
            <a:ext cx="1424160" cy="31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6720" y="33973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86200" y="3495600"/>
            <a:ext cx="1755720" cy="314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119480" y="4067280"/>
            <a:ext cx="23716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267080" y="4464000"/>
            <a:ext cx="1963800" cy="870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600" y="396252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outcome 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6520" y="457200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state if outcome is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48640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ing first of two qubits.  Measurement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877160" y="5591160"/>
            <a:ext cx="1006560" cy="2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848720" y="6019920"/>
            <a:ext cx="1006200" cy="285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1066680" y="5943600"/>
            <a:ext cx="1938600" cy="700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336840" y="6019920"/>
            <a:ext cx="3063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3336840" y="6456240"/>
            <a:ext cx="3063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763920" y="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Basis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905120" y="1706400"/>
            <a:ext cx="4892400" cy="10368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380880" y="838080"/>
            <a:ext cx="66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 that the columns of a matrix form a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is basis for the Hadam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1981080" y="3611520"/>
            <a:ext cx="4224600" cy="10368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459360" y="30481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asis elements for the Hadmar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63920" y="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Basis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224240" cy="10364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307800" y="106668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ck orthonorm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5934240" cy="10540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>
            <a:off x="7391520" y="3505320"/>
            <a:ext cx="620640" cy="4032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 flipH="1">
            <a:off x="6477120" y="373392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4"/>
          <a:stretch/>
        </p:blipFill>
        <p:spPr>
          <a:xfrm>
            <a:off x="534960" y="4602240"/>
            <a:ext cx="4875120" cy="1036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5"/>
          <a:stretch/>
        </p:blipFill>
        <p:spPr>
          <a:xfrm>
            <a:off x="268200" y="2279520"/>
            <a:ext cx="82263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763920" y="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Basis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4875480" cy="10368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135000" y="2135160"/>
            <a:ext cx="8856720" cy="37944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1523880" y="2743200"/>
            <a:ext cx="7340760" cy="3794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6670440" cy="10224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2057400" y="3200400"/>
            <a:ext cx="4875120" cy="1036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6"/>
          <a:stretch/>
        </p:blipFill>
        <p:spPr>
          <a:xfrm>
            <a:off x="2935440" y="4419720"/>
            <a:ext cx="5903640" cy="3794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7"/>
          <a:stretch/>
        </p:blipFill>
        <p:spPr>
          <a:xfrm>
            <a:off x="2195640" y="6210360"/>
            <a:ext cx="39002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129040" y="0"/>
            <a:ext cx="51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3080" y="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560" y="838080"/>
            <a:ext cx="74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inguishing between constant and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94280" y="1828800"/>
            <a:ext cx="26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class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quantum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720" y="28195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ele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6288120" cy="176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23840" y="6094440"/>
            <a:ext cx="1841760" cy="54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23840" y="481176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0600" y="412596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0600" y="48880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28960" y="3897360"/>
            <a:ext cx="2438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76080" y="336384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09640" y="542124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43560" y="38973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43200" y="38973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3400" y="36687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60080" y="5802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374508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09520" y="1512720"/>
            <a:ext cx="6288120" cy="1768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68680" y="763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le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90720" y="349236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22096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480" y="15238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480" y="2286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1295280"/>
            <a:ext cx="243864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42600" y="762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819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95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410080" y="12952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0280" y="10666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6600" y="3200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1143000"/>
            <a:ext cx="0" cy="29718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47920" y="4894200"/>
            <a:ext cx="4114800" cy="897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715000" y="5046840"/>
            <a:ext cx="1841400" cy="545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5160" y="4191120"/>
            <a:ext cx="88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step is that Alice and Bob should share the entangled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44120" y="-619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160020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68580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531200" y="53352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010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701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41240" y="251460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Interac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1600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441972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and Bob each have a qubit, and the wave function of their two qubit is entangled.  This means that we can’t think of Alice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as having a particular wave function.  We have to talk about the “global” two qubit wav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523880" y="3276720"/>
            <a:ext cx="4114800" cy="896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791320" y="342900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35720" y="18288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914560" y="6019920"/>
            <a:ext cx="31053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89017E-007 C -0.01458 0.00647 -0.02951 0.00416 -0.04444 0.00185 C -0.04444 0.00185 -0.04027 -0.01064 -0.04444 -0.01064 C -0.04618 -0.01064 -0.04496 -0.00601 -0.046 -0.00439 C -0.04774 -0.00139 -0.05729 0.00809 -0.06006 0.0104 C -0.05954 0.01803 -0.06128 0.02705 -0.0585 0.03376 C -0.05729 0.03653 -0.05381 0.03214 -0.05225 0.02936 C -0.0493 0.02474 -0.046 0.01248 -0.046 0.01248 C -0.04409 0.00185 -0.04062 -0.00671 -0.03802 -0.01688 C -0.02361 -0.0141 -0.02812 -0.01942 -0.02378 -0.00208 C -0.02256 0.00277 -0.01736 0.0104 -0.01736 0.0104 C -0.01684 0.01341 -0.01788 0.0178 -0.01579 0.01896 C -0.01128 0.02104 -0.01232 0.00925 -0.01423 0.00624 C -0.02309 -0.00856 -0.02152 -0.00694 -0.03003 -0.01064 C -0.03697 -0.01017 -0.04375 -0.00971 -0.05069 -0.00856 C -0.05347 -0.00832 -0.05729 -0.00948 -0.0585 -0.00647 C -0.05937 -0.0037 -0.05434 -0.00509 -0.05225 -0.00439 C -0.04565 -0.00139 -0.03993 0.003 -0.03333 0.00624 C -0.01371 0.00277 -0.02482 0.00485 -4.72222E-006 -2.89017E-007 Z">
                                      <p:cBhvr>
                                        <p:cTn id="3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1.15607E-006 C 0.01198 -0.00324 0.01996 -0.0037 0.02795 -0.00624 C 0.03298 -0.01572 0.03715 -0.01942 0.04548 -0.02312 C 0.05399 -0.01942 0.05816 -0.01642 0.06458 -0.00832 C 0.06736 0.00647 0.06823 0.00763 0.05659 0.01063 C 0.05295 0.00994 0.04843 0.01156 0.04548 0.00855 C 0.04392 0.00694 0.04705 0.0037 0.04861 0.00231 C 0.05052 0.00069 0.05295 0.00069 0.05503 1.15607E-006 C 0.05816 0.00069 0.06336 0.00624 0.06458 0.00231 C 0.0717 -0.02197 0.06684 -0.02382 0.05816 -0.03168 C 0.05243 -0.03098 0.04496 -0.03515 0.0408 -0.0296 C 0.03663 -0.02405 0.04357 -0.0111 0.03906 -0.00624 C 0.03333 1.15607000000014E-006 0.0243 -0.00486 0.01684 -0.00416 C 0.0085 -0.00139 0.01267 -0.00278 0.00416 1.15607E-006 Z">
                                      <p:cBhvr>
                                        <p:cTn id="3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5607E-006 L 0.17917 1.15607E-006 E">
                                      <p:cBhvr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1.15607E-006 L -0.2 1.15607E-006 E">
                                      <p:cBhvr>
                                        <p:cTn id="4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44120" y="-61920"/>
            <a:ext cx="40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68580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31200" y="53352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00100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1523880"/>
            <a:ext cx="83844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200400" y="1600200"/>
            <a:ext cx="2743200" cy="81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3124080"/>
            <a:ext cx="83808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447920" y="3352680"/>
            <a:ext cx="3260520" cy="41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8880" y="4191120"/>
            <a:ext cx="62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three qubits whose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235160" y="4700520"/>
            <a:ext cx="3184560" cy="703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3116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12920" y="57150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 2 and qubi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1143000" y="5181480"/>
            <a:ext cx="533520" cy="533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4160" y="27432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does not know the 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2971800" y="4267080"/>
            <a:ext cx="533520" cy="2362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8:10:16Z</dcterms:created>
  <dc:creator>Dave Bacon</dc:creator>
  <dc:description/>
  <dc:language>en-US</dc:language>
  <cp:lastModifiedBy>Dave Bacon</cp:lastModifiedBy>
  <dcterms:modified xsi:type="dcterms:W3CDTF">2005-07-22T17:44:15Z</dcterms:modified>
  <cp:revision>21</cp:revision>
  <dc:subject/>
  <dc:title>Slide 1</dc:title>
</cp:coreProperties>
</file>