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png" ContentType="image/png"/>
  <Override PartName="/ppt/media/image92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93.png" ContentType="image/png"/>
  <Override PartName="/ppt/media/image25.png" ContentType="image/png"/>
  <Override PartName="/ppt/media/image82.png" ContentType="image/png"/>
  <Override PartName="/ppt/media/image14.png" ContentType="image/png"/>
  <Override PartName="/ppt/media/image17.png" ContentType="image/png"/>
  <Override PartName="/ppt/media/image85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47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26.png" ContentType="image/png"/>
  <Override PartName="/ppt/media/image94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50.png" ContentType="image/png"/>
  <Override PartName="/ppt/media/image148.png" ContentType="image/png"/>
  <Override PartName="/ppt/media/image51.png" ContentType="image/png"/>
  <Override PartName="/ppt/media/image149.png" ContentType="image/png"/>
  <Override PartName="/ppt/media/image52.png" ContentType="image/png"/>
  <Override PartName="/ppt/media/image167.png" ContentType="image/png"/>
  <Override PartName="/ppt/media/image168.png" ContentType="image/png"/>
  <Override PartName="/ppt/media/image169.png" ContentType="image/png"/>
  <Override PartName="/ppt/media/image178.png" ContentType="image/png"/>
  <Override PartName="/ppt/media/image142.png" ContentType="image/png"/>
  <Override PartName="/ppt/media/image179.png" ContentType="image/png"/>
  <Override PartName="/ppt/media/image200.png" ContentType="image/png"/>
  <Override PartName="/ppt/media/image44.png" ContentType="image/png"/>
  <Override PartName="/ppt/media/image201.png" ContentType="image/png"/>
  <Override PartName="/ppt/media/image45.png" ContentType="image/png"/>
  <Override PartName="/ppt/media/image165.png" ContentType="image/png"/>
  <Override PartName="/ppt/media/image218.png" ContentType="image/png"/>
  <Override PartName="/ppt/media/image220.png" ContentType="image/png"/>
  <Override PartName="/ppt/media/image221.png" ContentType="image/png"/>
  <Override PartName="/ppt/media/image166.png" ContentType="image/png"/>
  <Override PartName="/ppt/media/image219.png" ContentType="image/png"/>
  <Override PartName="/ppt/media/image222.png" ContentType="image/png"/>
  <Override PartName="/ppt/media/image223.png" ContentType="image/png"/>
  <Override PartName="/ppt/media/image224.png" ContentType="image/png"/>
  <Override PartName="/ppt/media/image225.png" ContentType="image/png"/>
  <Override PartName="/ppt/media/image226.png" ContentType="image/png"/>
  <Override PartName="/ppt/media/image227.png" ContentType="image/png"/>
  <Override PartName="/ppt/media/image228.png" ContentType="image/png"/>
  <Override PartName="/ppt/media/image230.png" ContentType="image/png"/>
  <Override PartName="/ppt/media/image229.png" ContentType="image/png"/>
  <Override PartName="/ppt/media/image164.png" ContentType="image/png"/>
  <Override PartName="/ppt/media/image217.png" ContentType="image/png"/>
  <Override PartName="/ppt/media/image163.png" ContentType="image/png"/>
  <Override PartName="/ppt/media/image216.png" ContentType="image/png"/>
  <Override PartName="/ppt/media/image162.png" ContentType="image/png"/>
  <Override PartName="/ppt/media/image199.png" ContentType="image/png"/>
  <Override PartName="/ppt/media/image37.png" ContentType="image/png"/>
  <Override PartName="/ppt/media/image215.png" ContentType="image/png"/>
  <Override PartName="/ppt/media/image161.png" ContentType="image/png"/>
  <Override PartName="/ppt/media/image198.png" ContentType="image/png"/>
  <Override PartName="/ppt/media/image36.png" ContentType="image/png"/>
  <Override PartName="/ppt/media/image214.png" ContentType="image/png"/>
  <Override PartName="/ppt/media/image160.png" ContentType="image/png"/>
  <Override PartName="/ppt/media/image213.png" ContentType="image/png"/>
  <Override PartName="/ppt/media/image212.png" ContentType="image/png"/>
  <Override PartName="/ppt/media/image56.png" ContentType="image/png"/>
  <Override PartName="/ppt/media/image211.png" ContentType="image/png"/>
  <Override PartName="/ppt/media/image55.png" ContentType="image/png"/>
  <Override PartName="/ppt/media/image209.png" ContentType="image/png"/>
  <Override PartName="/ppt/media/image210.png" ContentType="image/png"/>
  <Override PartName="/ppt/media/image54.png" ContentType="image/png"/>
  <Override PartName="/ppt/media/image208.png" ContentType="image/png"/>
  <Override PartName="/ppt/media/image207.png" ContentType="image/png"/>
  <Override PartName="/ppt/media/image153.png" ContentType="image/png"/>
  <Override PartName="/ppt/media/image206.png" ContentType="image/png"/>
  <Override PartName="/ppt/media/image152.png" ContentType="image/png"/>
  <Override PartName="/ppt/media/image189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151.png" ContentType="image/png"/>
  <Override PartName="/ppt/media/image188.png" ContentType="image/png"/>
  <Override PartName="/ppt/media/image204.png" ContentType="image/png"/>
  <Override PartName="/ppt/media/image48.png" ContentType="image/png"/>
  <Override PartName="/ppt/media/image150.png" ContentType="image/png"/>
  <Override PartName="/ppt/media/image203.png" ContentType="image/png"/>
  <Override PartName="/ppt/media/image202.png" ContentType="image/png"/>
  <Override PartName="/ppt/media/image46.png" ContentType="image/png"/>
  <Override PartName="/ppt/media/image141.png" ContentType="image/png"/>
  <Override PartName="/ppt/media/image140.png" ContentType="image/png"/>
  <Override PartName="/ppt/media/image139.png" ContentType="image/png"/>
  <Override PartName="/ppt/media/image42.png" ContentType="image/png"/>
  <Override PartName="/ppt/media/image138.png" ContentType="image/png"/>
  <Override PartName="/ppt/media/image41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134.png" ContentType="image/png"/>
  <Override PartName="/ppt/media/image133.png" ContentType="image/png"/>
  <Override PartName="/ppt/media/image132.png" ContentType="image/png"/>
  <Override PartName="/ppt/media/image131.png" ContentType="image/png"/>
  <Override PartName="/ppt/media/image130.png" ContentType="image/png"/>
  <Override PartName="/ppt/media/image197.png" ContentType="image/png"/>
  <Override PartName="/ppt/media/image129.png" ContentType="image/png"/>
  <Override PartName="/ppt/media/image34.png" ContentType="image/png"/>
  <Override PartName="/ppt/media/image196.png" ContentType="image/png"/>
  <Override PartName="/ppt/media/image128.png" ContentType="image/png"/>
  <Override PartName="/ppt/media/image53.png" ContentType="image/png"/>
  <Override PartName="/ppt/media/image43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39.png" ContentType="image/png"/>
  <Override PartName="/ppt/media/image31.png" ContentType="image/png"/>
  <Override PartName="/ppt/media/image9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59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15.png" ContentType="image/png"/>
  <Override PartName="/ppt/media/image83.png" ContentType="image/png"/>
  <Override PartName="/ppt/media/image4.png" ContentType="image/png"/>
  <Override PartName="/ppt/media/image156.png" ContentType="image/png"/>
  <Override PartName="/ppt/media/image81.png" ContentType="image/png"/>
  <Override PartName="/ppt/media/image13.png" ContentType="image/png"/>
  <Override PartName="/ppt/media/image3.png" ContentType="image/png"/>
  <Override PartName="/ppt/media/image15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69F-BFAD-4A21-884B-E13B1724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464-EBEE-4302-B182-1013481F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2DF-06BF-41B4-B9A5-DED286D8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972-37A9-4FFF-A32B-B34B4DA4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410-F978-4BBC-A597-CB12A3D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CAC-25EB-473F-9F90-8889A160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9EE-480B-4EAB-B766-8FB0A453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433-C940-4F09-A4D1-5023FBB1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6B9-79D0-42B8-A7F2-B86A8FC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DA6-834D-43DB-B1FA-1AE5C08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002-D4B4-4F5D-9232-4306229B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662-A3F6-4DA5-8133-BF4C8822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6E3C-F598-456B-86A0-F62EE378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4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image" Target="../media/image9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80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image" Target="../media/image11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19.png"/><Relationship Id="rId9" Type="http://schemas.openxmlformats.org/officeDocument/2006/relationships/image" Target="../media/image120.png"/><Relationship Id="rId10" Type="http://schemas.openxmlformats.org/officeDocument/2006/relationships/image" Target="../media/image121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12.png"/><Relationship Id="rId6" Type="http://schemas.openxmlformats.org/officeDocument/2006/relationships/image" Target="../media/image122.png"/><Relationship Id="rId7" Type="http://schemas.openxmlformats.org/officeDocument/2006/relationships/image" Target="../media/image123.png"/><Relationship Id="rId8" Type="http://schemas.openxmlformats.org/officeDocument/2006/relationships/image" Target="../media/image124.png"/><Relationship Id="rId9" Type="http://schemas.openxmlformats.org/officeDocument/2006/relationships/image" Target="../media/image12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70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image" Target="../media/image130.png"/><Relationship Id="rId9" Type="http://schemas.openxmlformats.org/officeDocument/2006/relationships/image" Target="../media/image131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image" Target="../media/image139.png"/><Relationship Id="rId6" Type="http://schemas.openxmlformats.org/officeDocument/2006/relationships/image" Target="../media/image140.png"/><Relationship Id="rId7" Type="http://schemas.openxmlformats.org/officeDocument/2006/relationships/image" Target="../media/image14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image" Target="../media/image146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image" Target="../media/image141.png"/><Relationship Id="rId6" Type="http://schemas.openxmlformats.org/officeDocument/2006/relationships/image" Target="../media/image147.png"/><Relationship Id="rId7" Type="http://schemas.openxmlformats.org/officeDocument/2006/relationships/image" Target="../media/image148.png"/><Relationship Id="rId8" Type="http://schemas.openxmlformats.org/officeDocument/2006/relationships/image" Target="../media/image149.png"/><Relationship Id="rId9" Type="http://schemas.openxmlformats.org/officeDocument/2006/relationships/image" Target="../media/image150.png"/><Relationship Id="rId10" Type="http://schemas.openxmlformats.org/officeDocument/2006/relationships/image" Target="../media/image151.png"/><Relationship Id="rId11" Type="http://schemas.openxmlformats.org/officeDocument/2006/relationships/image" Target="../media/image152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53.png"/><Relationship Id="rId3" Type="http://schemas.openxmlformats.org/officeDocument/2006/relationships/image" Target="../media/image154.png"/><Relationship Id="rId4" Type="http://schemas.openxmlformats.org/officeDocument/2006/relationships/image" Target="../media/image155.png"/><Relationship Id="rId5" Type="http://schemas.openxmlformats.org/officeDocument/2006/relationships/image" Target="../media/image156.png"/><Relationship Id="rId6" Type="http://schemas.openxmlformats.org/officeDocument/2006/relationships/image" Target="../media/image157.png"/><Relationship Id="rId7" Type="http://schemas.openxmlformats.org/officeDocument/2006/relationships/image" Target="../media/image158.png"/><Relationship Id="rId8" Type="http://schemas.openxmlformats.org/officeDocument/2006/relationships/image" Target="../media/image159.png"/><Relationship Id="rId9" Type="http://schemas.openxmlformats.org/officeDocument/2006/relationships/image" Target="../media/image160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163.png"/><Relationship Id="rId4" Type="http://schemas.openxmlformats.org/officeDocument/2006/relationships/image" Target="../media/image164.png"/><Relationship Id="rId5" Type="http://schemas.openxmlformats.org/officeDocument/2006/relationships/image" Target="../media/image16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image" Target="../media/image152.png"/><Relationship Id="rId3" Type="http://schemas.openxmlformats.org/officeDocument/2006/relationships/image" Target="../media/image7.png"/><Relationship Id="rId4" Type="http://schemas.openxmlformats.org/officeDocument/2006/relationships/image" Target="../media/image166.png"/><Relationship Id="rId5" Type="http://schemas.openxmlformats.org/officeDocument/2006/relationships/image" Target="../media/image167.png"/><Relationship Id="rId6" Type="http://schemas.openxmlformats.org/officeDocument/2006/relationships/image" Target="../media/image168.png"/><Relationship Id="rId7" Type="http://schemas.openxmlformats.org/officeDocument/2006/relationships/image" Target="../media/image7.png"/><Relationship Id="rId8" Type="http://schemas.openxmlformats.org/officeDocument/2006/relationships/image" Target="../media/image169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9.png"/><Relationship Id="rId2" Type="http://schemas.openxmlformats.org/officeDocument/2006/relationships/image" Target="../media/image170.png"/><Relationship Id="rId3" Type="http://schemas.openxmlformats.org/officeDocument/2006/relationships/image" Target="../media/image134.png"/><Relationship Id="rId4" Type="http://schemas.openxmlformats.org/officeDocument/2006/relationships/image" Target="../media/image17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image" Target="../media/image176.png"/><Relationship Id="rId3" Type="http://schemas.openxmlformats.org/officeDocument/2006/relationships/image" Target="../media/image177.png"/><Relationship Id="rId4" Type="http://schemas.openxmlformats.org/officeDocument/2006/relationships/image" Target="../media/image178.png"/><Relationship Id="rId5" Type="http://schemas.openxmlformats.org/officeDocument/2006/relationships/image" Target="../media/image179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7.png"/><Relationship Id="rId2" Type="http://schemas.openxmlformats.org/officeDocument/2006/relationships/image" Target="../media/image179.png"/><Relationship Id="rId3" Type="http://schemas.openxmlformats.org/officeDocument/2006/relationships/image" Target="../media/image180.png"/><Relationship Id="rId4" Type="http://schemas.openxmlformats.org/officeDocument/2006/relationships/image" Target="../media/image181.png"/><Relationship Id="rId5" Type="http://schemas.openxmlformats.org/officeDocument/2006/relationships/image" Target="../media/image182.png"/><Relationship Id="rId6" Type="http://schemas.openxmlformats.org/officeDocument/2006/relationships/image" Target="../media/image183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84.png"/><Relationship Id="rId6" Type="http://schemas.openxmlformats.org/officeDocument/2006/relationships/image" Target="../media/image185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73.png"/><Relationship Id="rId3" Type="http://schemas.openxmlformats.org/officeDocument/2006/relationships/image" Target="../media/image186.png"/><Relationship Id="rId4" Type="http://schemas.openxmlformats.org/officeDocument/2006/relationships/image" Target="../media/image187.png"/><Relationship Id="rId5" Type="http://schemas.openxmlformats.org/officeDocument/2006/relationships/image" Target="../media/image188.png"/><Relationship Id="rId6" Type="http://schemas.openxmlformats.org/officeDocument/2006/relationships/image" Target="../media/image189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73.png"/><Relationship Id="rId3" Type="http://schemas.openxmlformats.org/officeDocument/2006/relationships/image" Target="../media/image186.png"/><Relationship Id="rId4" Type="http://schemas.openxmlformats.org/officeDocument/2006/relationships/image" Target="../media/image187.png"/><Relationship Id="rId5" Type="http://schemas.openxmlformats.org/officeDocument/2006/relationships/image" Target="../media/image188.png"/><Relationship Id="rId6" Type="http://schemas.openxmlformats.org/officeDocument/2006/relationships/image" Target="../media/image189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0.png"/><Relationship Id="rId2" Type="http://schemas.openxmlformats.org/officeDocument/2006/relationships/image" Target="../media/image7.png"/><Relationship Id="rId3" Type="http://schemas.openxmlformats.org/officeDocument/2006/relationships/image" Target="../media/image191.png"/><Relationship Id="rId4" Type="http://schemas.openxmlformats.org/officeDocument/2006/relationships/image" Target="../media/image192.png"/><Relationship Id="rId5" Type="http://schemas.openxmlformats.org/officeDocument/2006/relationships/image" Target="../media/image193.png"/><Relationship Id="rId6" Type="http://schemas.openxmlformats.org/officeDocument/2006/relationships/image" Target="../media/image194.png"/><Relationship Id="rId7" Type="http://schemas.openxmlformats.org/officeDocument/2006/relationships/image" Target="../media/image195.png"/><Relationship Id="rId8" Type="http://schemas.openxmlformats.org/officeDocument/2006/relationships/image" Target="../media/image196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7.png"/><Relationship Id="rId2" Type="http://schemas.openxmlformats.org/officeDocument/2006/relationships/image" Target="../media/image198.png"/><Relationship Id="rId3" Type="http://schemas.openxmlformats.org/officeDocument/2006/relationships/image" Target="../media/image199.png"/><Relationship Id="rId4" Type="http://schemas.openxmlformats.org/officeDocument/2006/relationships/image" Target="../media/image200.png"/><Relationship Id="rId5" Type="http://schemas.openxmlformats.org/officeDocument/2006/relationships/image" Target="../media/image201.png"/><Relationship Id="rId6" Type="http://schemas.openxmlformats.org/officeDocument/2006/relationships/image" Target="../media/image202.pn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7.png"/><Relationship Id="rId2" Type="http://schemas.openxmlformats.org/officeDocument/2006/relationships/image" Target="../media/image169.png"/><Relationship Id="rId3" Type="http://schemas.openxmlformats.org/officeDocument/2006/relationships/image" Target="../media/image203.png"/><Relationship Id="rId4" Type="http://schemas.openxmlformats.org/officeDocument/2006/relationships/image" Target="../media/image204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0.png"/><Relationship Id="rId2" Type="http://schemas.openxmlformats.org/officeDocument/2006/relationships/image" Target="../media/image205.png"/><Relationship Id="rId3" Type="http://schemas.openxmlformats.org/officeDocument/2006/relationships/image" Target="../media/image20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image" Target="../media/image207.png"/><Relationship Id="rId3" Type="http://schemas.openxmlformats.org/officeDocument/2006/relationships/image" Target="../media/image208.png"/><Relationship Id="rId4" Type="http://schemas.openxmlformats.org/officeDocument/2006/relationships/image" Target="../media/image209.png"/><Relationship Id="rId5" Type="http://schemas.openxmlformats.org/officeDocument/2006/relationships/image" Target="../media/image210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image" Target="../media/image211.png"/><Relationship Id="rId3" Type="http://schemas.openxmlformats.org/officeDocument/2006/relationships/image" Target="../media/image212.png"/><Relationship Id="rId4" Type="http://schemas.openxmlformats.org/officeDocument/2006/relationships/image" Target="../media/image213.png"/><Relationship Id="rId5" Type="http://schemas.openxmlformats.org/officeDocument/2006/relationships/image" Target="../media/image214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7.png"/><Relationship Id="rId2" Type="http://schemas.openxmlformats.org/officeDocument/2006/relationships/image" Target="../media/image198.png"/><Relationship Id="rId3" Type="http://schemas.openxmlformats.org/officeDocument/2006/relationships/image" Target="../media/image215.png"/><Relationship Id="rId4" Type="http://schemas.openxmlformats.org/officeDocument/2006/relationships/image" Target="../media/image216.png"/><Relationship Id="rId5" Type="http://schemas.openxmlformats.org/officeDocument/2006/relationships/image" Target="../media/image217.png"/><Relationship Id="rId6" Type="http://schemas.openxmlformats.org/officeDocument/2006/relationships/image" Target="../media/image218.png"/><Relationship Id="rId7" Type="http://schemas.openxmlformats.org/officeDocument/2006/relationships/image" Target="../media/image219.png"/><Relationship Id="rId8" Type="http://schemas.openxmlformats.org/officeDocument/2006/relationships/image" Target="../media/image220.pn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1.png"/><Relationship Id="rId2" Type="http://schemas.openxmlformats.org/officeDocument/2006/relationships/image" Target="../media/image222.png"/><Relationship Id="rId3" Type="http://schemas.openxmlformats.org/officeDocument/2006/relationships/image" Target="../media/image223.png"/><Relationship Id="rId4" Type="http://schemas.openxmlformats.org/officeDocument/2006/relationships/image" Target="../media/image224.png"/><Relationship Id="rId5" Type="http://schemas.openxmlformats.org/officeDocument/2006/relationships/image" Target="../media/image225.png"/><Relationship Id="rId6" Type="http://schemas.openxmlformats.org/officeDocument/2006/relationships/image" Target="../media/image226.png"/><Relationship Id="rId7" Type="http://schemas.openxmlformats.org/officeDocument/2006/relationships/image" Target="../media/image227.png"/><Relationship Id="rId8" Type="http://schemas.openxmlformats.org/officeDocument/2006/relationships/image" Target="../media/image228.png"/><Relationship Id="rId9" Type="http://schemas.openxmlformats.org/officeDocument/2006/relationships/image" Target="../media/image229.png"/><Relationship Id="rId10" Type="http://schemas.openxmlformats.org/officeDocument/2006/relationships/image" Target="../media/image230.png"/><Relationship Id="rId1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0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9240" y="0"/>
            <a:ext cx="19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zz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2200" y="914400"/>
            <a:ext cx="83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in primes are two prime numbers whose difference is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120" y="175248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, 17 and 19 are twin pr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6360" y="2590920"/>
            <a:ext cx="85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zzle: Prove that for every twin prime with one prime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6, the number in between the two twin prime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isible by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960" y="396252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, the number between 17 and 19 is 18 whic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isible by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54280" y="0"/>
            <a:ext cx="574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14400" y="134784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08280" y="188280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446120" y="2871720"/>
            <a:ext cx="1068480" cy="328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90720" y="23385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90720" y="2490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0720" y="2643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1360" y="7621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13120" y="83808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n orthonorm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505320" y="1523880"/>
            <a:ext cx="4281480" cy="814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194360" y="25909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onecker 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320" y="3505320"/>
            <a:ext cx="878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 is important because when w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r quantum computer (a qubit, two qubits, etc.) 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utcome corresponding to these basis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ere are all sorts of other basis which we could use to, sa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and our vector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Different Qubit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different orthonorm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6480" y="1447920"/>
            <a:ext cx="3243240" cy="722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50760" y="2209680"/>
            <a:ext cx="3164040" cy="722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3880" y="3051000"/>
            <a:ext cx="4253040" cy="911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1523880" y="5049720"/>
            <a:ext cx="5386680" cy="817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523880" y="4041720"/>
            <a:ext cx="4157640" cy="911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5520" y="5883120"/>
            <a:ext cx="90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rthonormal basis is complete if the number of basis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equal to the dimension of the complex vecto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anging Your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2770200" cy="328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9040" y="762120"/>
            <a:ext cx="475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 the qubit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orthonormal complet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5800" y="20574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other words find component 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680" y="4800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84080" y="2590920"/>
            <a:ext cx="2644920" cy="328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14400" y="3952800"/>
            <a:ext cx="7924680" cy="355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914400" y="4406760"/>
            <a:ext cx="8001000" cy="362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1120" y="35053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inne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150920" y="5288040"/>
            <a:ext cx="3997440" cy="344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806400" y="1677960"/>
            <a:ext cx="851040" cy="328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7360" y="57913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ing these inner products allows us to expres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t in a new b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ample Bas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5410080" cy="760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38080" y="1030320"/>
            <a:ext cx="3243240" cy="722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724280" y="1030320"/>
            <a:ext cx="3164040" cy="722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9051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                                    in this ba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983200" y="1981080"/>
            <a:ext cx="3084480" cy="358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55480" y="2590920"/>
            <a:ext cx="8359920" cy="476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609480" y="3173400"/>
            <a:ext cx="8293320" cy="484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776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771480" y="3809880"/>
            <a:ext cx="4486320" cy="344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1636560" y="5105520"/>
            <a:ext cx="5373720" cy="765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636560" y="6059520"/>
            <a:ext cx="4535640" cy="722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1314360" y="1981080"/>
            <a:ext cx="277020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plicit Bas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8080" y="1030320"/>
            <a:ext cx="3243240" cy="72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724280" y="1030320"/>
            <a:ext cx="3164040" cy="722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800" y="1905120"/>
            <a:ext cx="45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                  in this ba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3084480" cy="358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22400" y="3962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038480" y="2971800"/>
            <a:ext cx="4486320" cy="344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371600" y="1982880"/>
            <a:ext cx="1228680" cy="328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895320" y="2440080"/>
            <a:ext cx="1716120" cy="684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826920" y="3271680"/>
            <a:ext cx="1700280" cy="696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808200" y="4419720"/>
            <a:ext cx="3306600" cy="722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676440" y="5410080"/>
            <a:ext cx="67150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6000" y="914400"/>
            <a:ext cx="83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expand any vector in terms of an orthonorm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5981760" cy="3934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1527120" cy="423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5640" y="3048120"/>
            <a:ext cx="75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does this matter?  Because, as we shall see nex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can be thought of as either rotating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 or as a “change of basi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724280"/>
            <a:ext cx="809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understand this, we first note that unitary matrice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thonormal basis already hiding within the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Row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710400" cy="819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2305080"/>
            <a:ext cx="8031240" cy="81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880" y="18288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914400" y="3827520"/>
            <a:ext cx="3273480" cy="363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914400" y="4361040"/>
            <a:ext cx="3273480" cy="363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400" y="327672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y the row vectors, are an orthonorm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914400" y="5334120"/>
            <a:ext cx="6939000" cy="861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4080" y="48006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Column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80" y="18288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120" y="3200400"/>
            <a:ext cx="68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y the column vectors, are an orthonorm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080" y="48006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46120" y="987480"/>
            <a:ext cx="6710400" cy="819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6600" y="2298600"/>
            <a:ext cx="8030880" cy="819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915840" y="3824280"/>
            <a:ext cx="3273480" cy="363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915840" y="4357800"/>
            <a:ext cx="3273480" cy="363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912960" y="5335560"/>
            <a:ext cx="6938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Row &amp; Colu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428920" cy="106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38080" y="3038400"/>
            <a:ext cx="3029040" cy="695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724280" y="3038400"/>
            <a:ext cx="3029040" cy="6955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21320" y="25909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w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640" y="3809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85800" y="4343400"/>
            <a:ext cx="6423120" cy="800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5727600" cy="636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516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1447920" y="6095880"/>
            <a:ext cx="20588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 as “Rot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1143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914040" y="23623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133720" y="1752480"/>
            <a:ext cx="0" cy="609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492280" y="249084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670040" y="167796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2652480" cy="785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3962520" y="1066680"/>
            <a:ext cx="3706560" cy="35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3963960" y="1598760"/>
            <a:ext cx="3706920" cy="358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138400" y="38862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9187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8400" y="48765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909440" y="4572000"/>
            <a:ext cx="228600" cy="5335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2671920" y="4529160"/>
            <a:ext cx="1900080" cy="271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152280" y="4106880"/>
            <a:ext cx="1900440" cy="271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955400" y="441972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ations” of the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308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6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7600" y="175248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044800"/>
            <a:ext cx="3809880" cy="207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4330800"/>
            <a:ext cx="3809880" cy="207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23120" y="38098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25280" y="44956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26000" y="51814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 Quantum Telepor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01600" y="26668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51200" y="32004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 as “Rot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11430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040" y="23623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2362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133720" y="1752480"/>
            <a:ext cx="0" cy="609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492280" y="249084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670040" y="167796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967280" y="2209680"/>
            <a:ext cx="2652840" cy="785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4599000" y="1066680"/>
            <a:ext cx="3706920" cy="358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4599000" y="1598760"/>
            <a:ext cx="3706920" cy="358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138400" y="388620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187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138400" y="48765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909440" y="4572000"/>
            <a:ext cx="228600" cy="5335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743200" y="4724280"/>
            <a:ext cx="1900080" cy="271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152280" y="4106880"/>
            <a:ext cx="1900440" cy="271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803120" y="5105520"/>
            <a:ext cx="375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ations” of the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133720" y="20570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2347920" y="1652760"/>
            <a:ext cx="1919160" cy="328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V="1">
            <a:off x="2133720" y="46483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2209680" y="4313160"/>
            <a:ext cx="6172200" cy="3351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3200400" y="525780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1"/>
          <a:stretch/>
        </p:blipFill>
        <p:spPr>
          <a:xfrm>
            <a:off x="1676520" y="365760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2"/>
          <a:stretch/>
        </p:blipFill>
        <p:spPr>
          <a:xfrm>
            <a:off x="3276720" y="2514600"/>
            <a:ext cx="344520" cy="328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3"/>
          <a:stretch/>
        </p:blipFill>
        <p:spPr>
          <a:xfrm>
            <a:off x="1676520" y="990720"/>
            <a:ext cx="34452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otations and Dot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990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represent “rotations” of the complex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259092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142640" y="3809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920" y="175248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: rotations of real vectors preserve angles between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preserve lengths of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362320" y="30481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362320" y="30481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261936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486040" y="38386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5866920" y="2771640"/>
            <a:ext cx="8384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791320" y="3457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226800" cy="2271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237960" cy="227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590920" y="3352680"/>
            <a:ext cx="118800" cy="1796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021360" y="2514600"/>
            <a:ext cx="227160" cy="2872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5481720" y="3352680"/>
            <a:ext cx="237960" cy="287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040640" y="30481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350532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119160" cy="179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3181320" y="4724280"/>
            <a:ext cx="2779920" cy="4604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3186000" y="5256360"/>
            <a:ext cx="2760840" cy="4600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9"/>
          <a:stretch/>
        </p:blipFill>
        <p:spPr>
          <a:xfrm>
            <a:off x="3240000" y="5789520"/>
            <a:ext cx="2779920" cy="460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66080" y="632448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corresponding condition for unitary matr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Inner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990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ces preserve the inner product of two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434960" y="1905120"/>
            <a:ext cx="1994040" cy="4204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441440" y="2514600"/>
            <a:ext cx="1994040" cy="4190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87000" y="304812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oint-ing rule: reverse order and adjoint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447920" y="3967200"/>
            <a:ext cx="6240240" cy="4525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0760" y="44956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ner product is preser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447920" y="3433680"/>
            <a:ext cx="6240240" cy="452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1365120" y="4952880"/>
            <a:ext cx="7169400" cy="4525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371600" y="6095880"/>
            <a:ext cx="7169040" cy="452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7"/>
          <a:stretch/>
        </p:blipFill>
        <p:spPr>
          <a:xfrm>
            <a:off x="1368360" y="5562720"/>
            <a:ext cx="716904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Back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652840" cy="7858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3706560" cy="358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447920" y="1622520"/>
            <a:ext cx="3706560" cy="358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1312920" y="2895480"/>
            <a:ext cx="3716280" cy="358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1312920" y="3375000"/>
            <a:ext cx="3716280" cy="358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34000" y="2057400"/>
            <a:ext cx="85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also ask what input vectors given 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ctors as their 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76320" y="3886200"/>
            <a:ext cx="894240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/>
          <a:stretch/>
        </p:blipFill>
        <p:spPr>
          <a:xfrm>
            <a:off x="909720" y="5257800"/>
            <a:ext cx="6710400" cy="819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800" y="47242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of unit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Matrices, Bas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652840" cy="7858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3716280" cy="3585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3716280" cy="358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1052640" y="2567160"/>
            <a:ext cx="1919160" cy="328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28600" y="19810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express a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1069920" y="3570120"/>
            <a:ext cx="3273480" cy="3924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4879800" y="3562200"/>
            <a:ext cx="3273480" cy="392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05640" y="304812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row vector basi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1309680" y="4103640"/>
            <a:ext cx="1919160" cy="37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06000" y="40384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9680" y="4648320"/>
            <a:ext cx="52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the unitary changes this stat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1295280" y="5181480"/>
            <a:ext cx="1919520" cy="358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5715000" y="2117880"/>
            <a:ext cx="2771640" cy="819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0"/>
          <a:stretch/>
        </p:blipFill>
        <p:spPr>
          <a:xfrm>
            <a:off x="3906720" y="3095640"/>
            <a:ext cx="331920" cy="331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251280" y="5715000"/>
            <a:ext cx="88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we can think of unitary matrices as enacting a “basis chang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ement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3280" y="990720"/>
            <a:ext cx="82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 that if we measure a qubit in the computational bas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the two outcomes 0 and 1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0760" y="3352680"/>
            <a:ext cx="69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express is in a different notation, by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1614600" cy="503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30760" y="4876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2844720" y="2741760"/>
            <a:ext cx="2449440" cy="2840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46920" y="2058840"/>
            <a:ext cx="1780920" cy="352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6045120" y="2592360"/>
            <a:ext cx="1781280" cy="3524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1039680" y="3889440"/>
            <a:ext cx="4065840" cy="298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1050840" y="4425840"/>
            <a:ext cx="4054680" cy="2984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990720" y="5337000"/>
            <a:ext cx="3170160" cy="3524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984240" y="5870520"/>
            <a:ext cx="317016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y and Measur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8760" y="8380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perform a unitary evolution followed by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in the 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278160" y="1676520"/>
            <a:ext cx="2513160" cy="504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V="1">
            <a:off x="4940280" y="2034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0400" y="29718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probabilities of the two outcomes, 0 and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2463840" cy="352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724280" y="4448160"/>
            <a:ext cx="2463840" cy="3524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39040" y="38862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we can expres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920880" y="5257800"/>
            <a:ext cx="1414440" cy="352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2743200" y="5257800"/>
            <a:ext cx="1414440" cy="3524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08520" y="480060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new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912960" y="604836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4772160" y="6048360"/>
            <a:ext cx="2162160" cy="352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86640" y="563868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express the probabilitie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8"/>
          <a:stretch/>
        </p:blipFill>
        <p:spPr>
          <a:xfrm>
            <a:off x="905040" y="3508200"/>
            <a:ext cx="3249360" cy="352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9"/>
          <a:stretch/>
        </p:blipFill>
        <p:spPr>
          <a:xfrm>
            <a:off x="4702320" y="3508200"/>
            <a:ext cx="3249360" cy="352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0"/>
          <a:stretch/>
        </p:blipFill>
        <p:spPr>
          <a:xfrm>
            <a:off x="3220920" y="2473200"/>
            <a:ext cx="353700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ement in a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3767040" y="2514600"/>
            <a:ext cx="1414440" cy="35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3767040" y="2971800"/>
            <a:ext cx="1414440" cy="352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2971800" y="942840"/>
            <a:ext cx="2513160" cy="5050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29680" y="1676520"/>
            <a:ext cx="81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nitary transform allows to “perform a measuremen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sis differing from the computational basi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4200" y="3505320"/>
            <a:ext cx="870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                               is a complete basis.  Then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 a measurement in this basis” and obtain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abilitie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1662120" y="3606840"/>
            <a:ext cx="2395440" cy="3096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7"/>
          <a:stretch/>
        </p:blipFill>
        <p:spPr>
          <a:xfrm>
            <a:off x="3549600" y="480060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8"/>
          <a:stretch/>
        </p:blipFill>
        <p:spPr>
          <a:xfrm>
            <a:off x="3549600" y="521172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9"/>
          <a:stretch/>
        </p:blipFill>
        <p:spPr>
          <a:xfrm>
            <a:off x="2936880" y="5972040"/>
            <a:ext cx="3387600" cy="3524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40240" y="5562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40240" y="5715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40240" y="5867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ement in a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638680" y="152712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638680" y="1908000"/>
            <a:ext cx="2162160" cy="352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685800" y="2489040"/>
            <a:ext cx="2428920" cy="1062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3962520" y="2494080"/>
            <a:ext cx="2555640" cy="1062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655560" y="3936960"/>
            <a:ext cx="3840120" cy="6256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4846680" y="3921120"/>
            <a:ext cx="3840120" cy="625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723960" y="1530360"/>
            <a:ext cx="4610160" cy="5032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781200" y="4775040"/>
            <a:ext cx="7524720" cy="7876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730080" y="5689440"/>
            <a:ext cx="7728120" cy="7876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88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52920" y="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920" y="106668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 in Homework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4840" y="24382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k up Homework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4480" y="380988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nyone not on the mailing l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8380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bits can be in one of four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14400" y="16002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9200" y="1785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0" y="16002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40800" y="1785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16002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64680" y="1785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57800" y="16002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12600" y="1785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7080" y="266688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ilarly two qubits have four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1960" y="4343400"/>
            <a:ext cx="82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 for two qubits thus has fou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371600" y="4827600"/>
            <a:ext cx="7467480" cy="1420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 flipV="1">
            <a:off x="3809880" y="5790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381120" y="6400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4572000" y="57909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27880" y="6400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4316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00360" y="16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1956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815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32004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69200" y="33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0" y="32004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40800" y="33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09880" y="32004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64680" y="33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7800" y="32004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12600" y="338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4316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00360" y="32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1956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815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2280" y="510552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636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456840" y="563832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0" y="6400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837720" y="55627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75200" y="6400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1120" y="12193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752480" y="5181480"/>
            <a:ext cx="2791080" cy="15051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4857840" cy="17128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1752480" y="1135080"/>
            <a:ext cx="5131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en Two Qubits Ar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60" y="99072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 for two qubits has fou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1619280"/>
            <a:ext cx="7907040" cy="15048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5160" y="329256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we can write the wave function of two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he “tensor product” of two one qubit wav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20680" cy="33516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2853000" cy="334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4572000" y="4770360"/>
            <a:ext cx="2755800" cy="3351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5"/>
          <a:stretch/>
        </p:blipFill>
        <p:spPr>
          <a:xfrm>
            <a:off x="228600" y="5410080"/>
            <a:ext cx="5837400" cy="351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647640" y="5943600"/>
            <a:ext cx="8420040" cy="3348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7"/>
          <a:stretch/>
        </p:blipFill>
        <p:spPr>
          <a:xfrm>
            <a:off x="633240" y="6400800"/>
            <a:ext cx="6910560" cy="3348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594520" y="41911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Separ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2021040" cy="3351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1647720" y="1847880"/>
            <a:ext cx="2903760" cy="7491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4975200" y="1822320"/>
            <a:ext cx="3140280" cy="7351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380880" y="2895480"/>
            <a:ext cx="7893000" cy="846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222120" y="4200480"/>
            <a:ext cx="8775720" cy="7682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228600" y="5254560"/>
            <a:ext cx="629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Entang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31480" y="990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4857840" cy="1712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2020680" cy="3348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2852640" cy="3348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6172200" y="2971800"/>
            <a:ext cx="2755800" cy="3348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685800" y="3581280"/>
            <a:ext cx="6910560" cy="3351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304920" y="4114800"/>
            <a:ext cx="1347840" cy="3049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1371600" y="4952880"/>
            <a:ext cx="1025640" cy="3049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8"/>
          <a:stretch/>
        </p:blipFill>
        <p:spPr>
          <a:xfrm>
            <a:off x="1371600" y="5791320"/>
            <a:ext cx="993600" cy="304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840600" y="4495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3734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46440" y="4876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9"/>
          <a:stretch/>
        </p:blipFill>
        <p:spPr>
          <a:xfrm>
            <a:off x="4976640" y="4952880"/>
            <a:ext cx="1347840" cy="3049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746440" y="56386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976640" y="5715000"/>
            <a:ext cx="1347840" cy="3049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480360" y="5181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a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0400" y="2514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78360" y="624852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     is not a separable state.  It is entan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1"/>
          <a:stretch/>
        </p:blipFill>
        <p:spPr>
          <a:xfrm>
            <a:off x="914400" y="6294600"/>
            <a:ext cx="351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asuring Two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1840" y="1066680"/>
            <a:ext cx="85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measure both qubits in the computational basis, then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one of four outcomes: 00, 01, 10, and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533520" y="2381400"/>
            <a:ext cx="7907040" cy="15048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228240" y="1981080"/>
            <a:ext cx="55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wave function for the two qubit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" y="40384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3276720" y="4038480"/>
            <a:ext cx="815760" cy="4143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6400" y="4572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1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6400" y="51055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36400" y="56386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1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3274920" y="4568760"/>
            <a:ext cx="816120" cy="414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3274920" y="5102280"/>
            <a:ext cx="816120" cy="414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274920" y="5635800"/>
            <a:ext cx="816120" cy="414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651560" y="4038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7772400" y="4114800"/>
            <a:ext cx="557280" cy="334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4627800" y="45720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27800" y="51055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27800" y="56386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wav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7"/>
          <a:stretch/>
        </p:blipFill>
        <p:spPr>
          <a:xfrm>
            <a:off x="7750080" y="4646520"/>
            <a:ext cx="557280" cy="3351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8"/>
          <a:stretch/>
        </p:blipFill>
        <p:spPr>
          <a:xfrm>
            <a:off x="7750080" y="5180040"/>
            <a:ext cx="557280" cy="3348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9"/>
          <a:stretch/>
        </p:blipFill>
        <p:spPr>
          <a:xfrm>
            <a:off x="7750080" y="5713560"/>
            <a:ext cx="55728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Meas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776160" y="1825560"/>
            <a:ext cx="6767640" cy="7682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688680" y="31240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8680" y="41148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1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8680" y="51055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0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8680" y="60958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1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3429000" y="2819520"/>
            <a:ext cx="3333600" cy="928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3429000" y="3809880"/>
            <a:ext cx="2933640" cy="9288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3448080" y="4848120"/>
            <a:ext cx="3333600" cy="9432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67160" y="5867280"/>
            <a:ext cx="29336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 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01240" y="930240"/>
            <a:ext cx="876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wave function of a N dimensional quantum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olves in time according to a unitary matrix     .  If the w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initially is       then after the evolution correspon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ew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6434280" y="1442880"/>
            <a:ext cx="225360" cy="225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792520" y="1774800"/>
            <a:ext cx="331560" cy="3160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3733920" y="2090880"/>
            <a:ext cx="1482480" cy="3632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8410680" y="177012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457200" y="2813040"/>
            <a:ext cx="5635800" cy="14540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6705720" y="2760840"/>
            <a:ext cx="1904760" cy="15062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304920" y="4572000"/>
            <a:ext cx="1482480" cy="3636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228600" y="5105520"/>
            <a:ext cx="88059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 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8805960" cy="15400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149640" cy="17431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3886200" y="990720"/>
            <a:ext cx="4857840" cy="17128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198360" y="4495680"/>
            <a:ext cx="76503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4952880"/>
            <a:ext cx="9144000" cy="1447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43200"/>
            <a:ext cx="9144000" cy="1447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nipulations of Two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8380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bits can be in one of four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1840" y="22096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manipulate thes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26280" y="2743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26280" y="3048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2628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26280" y="3733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92960" y="2743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92960" y="3048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9296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92960" y="3733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336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336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3360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336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29680" y="4191120"/>
            <a:ext cx="84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this can be thought of as just operating on on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its (for example, flip the second bi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9288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880" y="5257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92880" y="5562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92880" y="5943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59560" y="4952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059560" y="5257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59560" y="5562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59560" y="5943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6002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0020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0020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0040" y="6400800"/>
            <a:ext cx="78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sometimes we cannot (as in the first example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66680" y="13716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221480" y="155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38280" y="13716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93080" y="155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137160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6960" y="155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10080" y="1371600"/>
            <a:ext cx="83844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564880" y="155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48104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52640" y="13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7184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834160" y="1371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49600" y="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320" y="685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escription of a quantum system is a complex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181240" cy="147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7000" y="2514600"/>
            <a:ext cx="78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in computational basis gives outcom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equal to modulus of component squ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401652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2052360" cy="406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3809880"/>
            <a:ext cx="2052720" cy="40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98560" y="4648320"/>
            <a:ext cx="2241360" cy="40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4267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518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olution between measurements is described by a un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066680" y="6095880"/>
            <a:ext cx="153540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394080" y="6058080"/>
            <a:ext cx="23972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anipulations of Two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1040" y="838080"/>
            <a:ext cx="82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ilarly, we can apply unitary operations on only on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s at a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1905120"/>
            <a:ext cx="8380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3368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8240" y="3657600"/>
            <a:ext cx="65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operator that acts only on the first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1371240" y="2285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5840" y="30481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1752120" y="2209320"/>
            <a:ext cx="12193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89600" y="30481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498320" cy="253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32920" y="472428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dimens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3716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590560" y="434304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4572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dimens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5816520" y="4343400"/>
            <a:ext cx="1727280" cy="7858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1498320" cy="2538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306360" y="56386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operator that acts only on the second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2605320" cy="78588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5853240" y="1068480"/>
            <a:ext cx="2925720" cy="7858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671400" y="1447920"/>
            <a:ext cx="1681200" cy="2538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"/>
          <a:stretch/>
        </p:blipFill>
        <p:spPr>
          <a:xfrm>
            <a:off x="609480" y="2133720"/>
            <a:ext cx="5151600" cy="785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5"/>
          <a:stretch/>
        </p:blipFill>
        <p:spPr>
          <a:xfrm>
            <a:off x="609480" y="3276720"/>
            <a:ext cx="704556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609480" y="1346040"/>
            <a:ext cx="1681200" cy="2541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5943600" cy="12254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2971800" y="838080"/>
            <a:ext cx="2057400" cy="8938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5257800" y="838080"/>
            <a:ext cx="2271600" cy="8985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533520" y="3124080"/>
            <a:ext cx="5333760" cy="17100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2880" y="838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6"/>
          <a:stretch/>
        </p:blipFill>
        <p:spPr>
          <a:xfrm>
            <a:off x="503280" y="4952880"/>
            <a:ext cx="780264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943600" cy="12254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2057400" cy="8938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2880" y="838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698400" y="1346040"/>
            <a:ext cx="1498680" cy="254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73880" y="912960"/>
            <a:ext cx="1630080" cy="7412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5"/>
          <a:stretch/>
        </p:blipFill>
        <p:spPr>
          <a:xfrm>
            <a:off x="609480" y="3121200"/>
            <a:ext cx="3633840" cy="17096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609480" y="4913280"/>
            <a:ext cx="30146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943600" cy="122544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880" y="838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1630440" cy="74124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5222880" y="836640"/>
            <a:ext cx="2127240" cy="89388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4"/>
          <a:stretch/>
        </p:blipFill>
        <p:spPr>
          <a:xfrm>
            <a:off x="654120" y="1346040"/>
            <a:ext cx="1589040" cy="2541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5"/>
          <a:stretch/>
        </p:blipFill>
        <p:spPr>
          <a:xfrm>
            <a:off x="533520" y="3124080"/>
            <a:ext cx="3665520" cy="172404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6"/>
          <a:stretch/>
        </p:blipFill>
        <p:spPr>
          <a:xfrm>
            <a:off x="609480" y="4954680"/>
            <a:ext cx="3040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nsor Product of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5943600" cy="12254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2880" y="838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1630440" cy="74124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22880" y="836640"/>
            <a:ext cx="2127240" cy="8938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54120" y="1346040"/>
            <a:ext cx="1589040" cy="25416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533520" y="3124080"/>
            <a:ext cx="3665520" cy="17240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609480" y="4954680"/>
            <a:ext cx="3040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186000" y="838080"/>
            <a:ext cx="2452680" cy="1062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7432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two qubit unitar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6172200" y="1160640"/>
            <a:ext cx="1482840" cy="3632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31840" y="274320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the input our output is known to be seper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1022400" y="3276720"/>
            <a:ext cx="2330280" cy="10620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3798720" y="3581280"/>
            <a:ext cx="2525760" cy="3636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08160" y="44197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we act only one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5"/>
          <a:stretch/>
        </p:blipFill>
        <p:spPr>
          <a:xfrm>
            <a:off x="1033560" y="4876920"/>
            <a:ext cx="2319120" cy="8618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1447920" y="5867280"/>
            <a:ext cx="2330280" cy="363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5072040" y="4800600"/>
            <a:ext cx="2319480" cy="8730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8"/>
          <a:stretch/>
        </p:blipFill>
        <p:spPr>
          <a:xfrm>
            <a:off x="5518080" y="5791320"/>
            <a:ext cx="233064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me Two Qubit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1076040" cy="621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3203640" y="1371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1752840" cy="10638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764640" y="106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90200" y="1600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3773520" y="2436840"/>
            <a:ext cx="1407960" cy="2779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3768840" y="2971800"/>
            <a:ext cx="1407960" cy="2779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>
            <a:off x="3768840" y="4065480"/>
            <a:ext cx="1407960" cy="2779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3768840" y="3505320"/>
            <a:ext cx="1407960" cy="277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793800" y="464832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itional on the first bit, the gate flips the second 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4920" y="763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Basis and Unit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635800" cy="145404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8805960" cy="15397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6575400" y="1538280"/>
            <a:ext cx="1844640" cy="15066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380880" y="3446640"/>
            <a:ext cx="7315200" cy="36324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99000" y="5883120"/>
            <a:ext cx="90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by examining the unitary evolution of all compu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s states, we can explicitly determine what the unitary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3186000" y="990720"/>
            <a:ext cx="2452680" cy="10620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6716880" cy="3351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257040" y="3200400"/>
            <a:ext cx="8582040" cy="385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158040" y="3809880"/>
            <a:ext cx="86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act on each computational basis state and then re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7600" y="4495680"/>
            <a:ext cx="55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simplifies calculations conside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549600" y="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1960" y="685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2565360"/>
            <a:ext cx="2052720" cy="40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2052720" cy="40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4141800" cy="81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7800" y="20574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a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365760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evolution of a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265284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990720" y="5334120"/>
            <a:ext cx="731988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31480" y="1295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49640" cy="17431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496800" y="3962520"/>
            <a:ext cx="5065920" cy="7491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4775040" y="2368440"/>
            <a:ext cx="3302280" cy="7495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2146320" y="4862520"/>
            <a:ext cx="5435640" cy="8460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2141640" y="5877000"/>
            <a:ext cx="51004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31480" y="1295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49640" cy="17431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775040" y="2362320"/>
            <a:ext cx="3302280" cy="74916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492120" y="3956040"/>
            <a:ext cx="5065560" cy="749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1066680" y="4865760"/>
            <a:ext cx="7871040" cy="846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1066680" y="5861160"/>
            <a:ext cx="44434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me Two Qubit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1076040" cy="6210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203640" y="13716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5638680" y="1066680"/>
            <a:ext cx="1752840" cy="106380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764640" y="106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90200" y="1600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1900080" y="2755800"/>
            <a:ext cx="1219320" cy="7286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840600" y="251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66520" y="3048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80680" y="28195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4"/>
          <a:stretch/>
        </p:blipFill>
        <p:spPr>
          <a:xfrm>
            <a:off x="5181480" y="2514600"/>
            <a:ext cx="2286000" cy="10638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3222720" y="4189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5"/>
          <a:stretch/>
        </p:blipFill>
        <p:spPr>
          <a:xfrm>
            <a:off x="5673600" y="3886200"/>
            <a:ext cx="1946520" cy="10638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1981080" y="4151160"/>
            <a:ext cx="955800" cy="52560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1992240" y="5295960"/>
            <a:ext cx="836640" cy="4316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203280" y="5257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8"/>
          <a:stretch/>
        </p:blipFill>
        <p:spPr>
          <a:xfrm>
            <a:off x="4267080" y="5032440"/>
            <a:ext cx="175284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2209680"/>
            <a:ext cx="9144000" cy="4648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38400" y="0"/>
            <a:ext cx="48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51880" y="11430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1241640" cy="7286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2286000" cy="13017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567160" y="2514600"/>
            <a:ext cx="1684080" cy="7891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4"/>
          <a:stretch/>
        </p:blipFill>
        <p:spPr>
          <a:xfrm>
            <a:off x="304920" y="2438280"/>
            <a:ext cx="1969920" cy="10638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5"/>
          <a:stretch/>
        </p:blipFill>
        <p:spPr>
          <a:xfrm>
            <a:off x="4861080" y="3657600"/>
            <a:ext cx="3292200" cy="13017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6"/>
          <a:stretch/>
        </p:blipFill>
        <p:spPr>
          <a:xfrm>
            <a:off x="4464000" y="2286000"/>
            <a:ext cx="3292560" cy="13017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7"/>
          <a:stretch/>
        </p:blipFill>
        <p:spPr>
          <a:xfrm>
            <a:off x="1084320" y="5257800"/>
            <a:ext cx="2628720" cy="11336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3868560" y="510552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8"/>
          <a:stretch/>
        </p:blipFill>
        <p:spPr>
          <a:xfrm>
            <a:off x="6380280" y="5029200"/>
            <a:ext cx="1108080" cy="65556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3868560" y="5867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9"/>
          <a:stretch/>
        </p:blipFill>
        <p:spPr>
          <a:xfrm>
            <a:off x="6380280" y="5745240"/>
            <a:ext cx="1108080" cy="65556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3892320" y="640080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00 and 0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0"/>
          <a:stretch/>
        </p:blipFill>
        <p:spPr>
          <a:xfrm>
            <a:off x="7370640" y="6489720"/>
            <a:ext cx="85896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04320" y="0"/>
            <a:ext cx="558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oal of This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440" y="1600200"/>
            <a:ext cx="681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ish off single qubits.  Discuss change of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qubits.  Tensor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240" y="41911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 end of this lecture you will be ready to emb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studying quantum protocols….like quantum tele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46720" y="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9144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48120" y="213372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267080" y="15238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155520" cy="26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169920" cy="345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4267080" y="1066680"/>
            <a:ext cx="175284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81480" y="685800"/>
            <a:ext cx="1762200" cy="344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1880" y="26668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coordinate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32767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440" y="44956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733920" y="4038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191120" y="3428640"/>
            <a:ext cx="175248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05520" y="3048120"/>
            <a:ext cx="1761840" cy="34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V="1">
            <a:off x="4191120" y="4038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227560" y="4038480"/>
            <a:ext cx="2392560" cy="722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3657600"/>
            <a:ext cx="2328840" cy="72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473040" y="4952880"/>
            <a:ext cx="8442360" cy="830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3517920"/>
            <a:ext cx="609480" cy="596880"/>
          </a:xfrm>
          <a:custGeom>
            <a:avLst/>
            <a:gdLst/>
            <a:ahLst/>
            <a:rect l="l" t="t" r="r" b="b"/>
            <a:pathLst>
              <a:path w="384" h="376">
                <a:moveTo>
                  <a:pt x="0" y="136"/>
                </a:moveTo>
                <a:cubicBezTo>
                  <a:pt x="88" y="68"/>
                  <a:pt x="176" y="0"/>
                  <a:pt x="240" y="40"/>
                </a:cubicBezTo>
                <a:cubicBezTo>
                  <a:pt x="304" y="80"/>
                  <a:pt x="344" y="228"/>
                  <a:pt x="384" y="37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191120"/>
            <a:ext cx="990720" cy="7596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240"/>
                </a:moveTo>
                <a:cubicBezTo>
                  <a:pt x="236" y="164"/>
                  <a:pt x="232" y="88"/>
                  <a:pt x="192" y="48"/>
                </a:cubicBezTo>
                <a:cubicBezTo>
                  <a:pt x="152" y="8"/>
                  <a:pt x="76" y="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833560" y="5943600"/>
            <a:ext cx="379584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6560" y="0"/>
            <a:ext cx="52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solving a 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362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169920" cy="23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978120" cy="33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4419720" y="1371600"/>
            <a:ext cx="1752480" cy="99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189000" cy="23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5409720" y="1371600"/>
            <a:ext cx="7621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419360" y="23623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525800">
            <a:off x="5243040" y="2562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16280" y="16765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7828400">
            <a:off x="4282920" y="2459160"/>
            <a:ext cx="822240" cy="1066680"/>
          </a:xfrm>
          <a:custGeom>
            <a:avLst/>
            <a:gdLst>
              <a:gd name="textAreaLeft" fmla="*/ 525240 w 822240"/>
              <a:gd name="textAreaRight" fmla="*/ 822600 w 822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191120" y="3505320"/>
            <a:ext cx="598320" cy="23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3120" y="68580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dot product to get the component of a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ong a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733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wo orthogonal unit vectors in 2D to write in new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54799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564000" y="5632560"/>
            <a:ext cx="169920" cy="234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505320" y="4489200"/>
            <a:ext cx="1752480" cy="990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648320" y="4413240"/>
            <a:ext cx="188640" cy="23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495320" y="4489560"/>
            <a:ext cx="762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504960" y="54799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525800">
            <a:off x="4328640" y="568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7828400">
            <a:off x="3368520" y="5577120"/>
            <a:ext cx="822240" cy="1066680"/>
          </a:xfrm>
          <a:custGeom>
            <a:avLst/>
            <a:gdLst>
              <a:gd name="textAreaLeft" fmla="*/ 525240 w 822240"/>
              <a:gd name="textAreaRight" fmla="*/ 822600 w 822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6553080"/>
            <a:ext cx="598320" cy="23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3505320" y="50292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838080" y="5232240"/>
            <a:ext cx="978120" cy="330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8280" y="434340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839880" y="5638680"/>
            <a:ext cx="963360" cy="330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596880" y="6095880"/>
            <a:ext cx="1231920" cy="250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rot="12397800">
            <a:off x="4843440" y="4598280"/>
            <a:ext cx="822240" cy="1600200"/>
          </a:xfrm>
          <a:custGeom>
            <a:avLst/>
            <a:gdLst>
              <a:gd name="textAreaLeft" fmla="*/ 525240 w 822240"/>
              <a:gd name="textAreaRight" fmla="*/ 822600 w 822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1"/>
          <a:stretch/>
        </p:blipFill>
        <p:spPr>
          <a:xfrm>
            <a:off x="5486400" y="5635800"/>
            <a:ext cx="584280" cy="23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3425760" y="4950000"/>
            <a:ext cx="155520" cy="23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3"/>
          <a:stretch/>
        </p:blipFill>
        <p:spPr>
          <a:xfrm>
            <a:off x="5105520" y="6257880"/>
            <a:ext cx="316224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4280" y="0"/>
            <a:ext cx="74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pressing In a New 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9144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48120" y="2133720"/>
            <a:ext cx="2590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267080" y="15238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155520" cy="26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169920" cy="346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4267080" y="1066680"/>
            <a:ext cx="175284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181480" y="685800"/>
            <a:ext cx="1762200" cy="344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880" y="26668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coordinate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27672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71440" y="44956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733920" y="4038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191120" y="3428640"/>
            <a:ext cx="175248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105520" y="3048120"/>
            <a:ext cx="1761840" cy="344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4191120" y="4038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227560" y="4038480"/>
            <a:ext cx="2392560" cy="722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1066680" y="3657600"/>
            <a:ext cx="2328840" cy="722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3517920"/>
            <a:ext cx="609480" cy="596880"/>
          </a:xfrm>
          <a:custGeom>
            <a:avLst/>
            <a:gdLst/>
            <a:ahLst/>
            <a:rect l="l" t="t" r="r" b="b"/>
            <a:pathLst>
              <a:path w="384" h="376">
                <a:moveTo>
                  <a:pt x="0" y="136"/>
                </a:moveTo>
                <a:cubicBezTo>
                  <a:pt x="88" y="68"/>
                  <a:pt x="176" y="0"/>
                  <a:pt x="240" y="40"/>
                </a:cubicBezTo>
                <a:cubicBezTo>
                  <a:pt x="304" y="80"/>
                  <a:pt x="344" y="228"/>
                  <a:pt x="384" y="37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4191120"/>
            <a:ext cx="990720" cy="7596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240"/>
                </a:moveTo>
                <a:cubicBezTo>
                  <a:pt x="236" y="164"/>
                  <a:pt x="232" y="88"/>
                  <a:pt x="192" y="48"/>
                </a:cubicBezTo>
                <a:cubicBezTo>
                  <a:pt x="152" y="8"/>
                  <a:pt x="76" y="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380880" y="5068800"/>
            <a:ext cx="4535640" cy="722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414360" y="5830920"/>
            <a:ext cx="4456080" cy="722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715000" y="5410080"/>
            <a:ext cx="245736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23:31:03Z</dcterms:created>
  <dc:creator>Dave Bacon</dc:creator>
  <dc:description/>
  <dc:language>en-US</dc:language>
  <cp:lastModifiedBy>Dave Bacon</cp:lastModifiedBy>
  <dcterms:modified xsi:type="dcterms:W3CDTF">2005-07-08T00:23:51Z</dcterms:modified>
  <cp:revision>65</cp:revision>
  <dc:subject/>
  <dc:title>Slide 1</dc:title>
</cp:coreProperties>
</file>