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94.png" ContentType="image/png"/>
  <Override PartName="/ppt/media/image125.png" ContentType="image/png"/>
  <Override PartName="/ppt/media/image193.png" ContentType="image/png"/>
  <Override PartName="/ppt/media/image124.png" ContentType="image/png"/>
  <Override PartName="/ppt/media/image192.png" ContentType="image/png"/>
  <Override PartName="/ppt/media/image123.png" ContentType="image/png"/>
  <Override PartName="/ppt/media/image191.png" ContentType="image/png"/>
  <Override PartName="/ppt/media/image122.png" ContentType="image/png"/>
  <Override PartName="/ppt/media/image190.png" ContentType="image/png"/>
  <Override PartName="/ppt/media/image121.png" ContentType="image/png"/>
  <Override PartName="/ppt/media/image116.png" ContentType="image/png"/>
  <Override PartName="/ppt/media/image184.png" ContentType="image/png"/>
  <Override PartName="/ppt/media/image115.png" ContentType="image/png"/>
  <Override PartName="/ppt/media/image183.png" ContentType="image/png"/>
  <Override PartName="/ppt/media/image114.png" ContentType="image/png"/>
  <Override PartName="/ppt/media/image182.png" ContentType="image/png"/>
  <Override PartName="/ppt/media/image113.png" ContentType="image/png"/>
  <Override PartName="/ppt/media/image181.png" ContentType="image/png"/>
  <Override PartName="/ppt/media/image112.png" ContentType="image/png"/>
  <Override PartName="/ppt/media/image180.png" ContentType="image/png"/>
  <Override PartName="/ppt/media/image111.png" ContentType="image/png"/>
  <Override PartName="/ppt/media/image106.png" ContentType="image/png"/>
  <Override PartName="/ppt/media/image174.png" ContentType="image/png"/>
  <Override PartName="/ppt/media/image105.png" ContentType="image/png"/>
  <Override PartName="/ppt/media/image173.png" ContentType="image/png"/>
  <Override PartName="/ppt/media/image104.png" ContentType="image/png"/>
  <Override PartName="/ppt/media/image172.png" ContentType="image/png"/>
  <Override PartName="/ppt/media/image103.png" ContentType="image/png"/>
  <Override PartName="/ppt/media/image171.png" ContentType="image/png"/>
  <Override PartName="/ppt/media/image102.png" ContentType="image/png"/>
  <Override PartName="/ppt/media/image170.png" ContentType="image/png"/>
  <Override PartName="/ppt/media/image101.png" ContentType="image/png"/>
  <Override PartName="/ppt/media/image99.png" ContentType="image/png"/>
  <Override PartName="/ppt/media/image98.png" ContentType="image/png"/>
  <Override PartName="/ppt/media/image1.jpeg" ContentType="image/jpeg"/>
  <Override PartName="/ppt/media/image97.png" ContentType="image/png"/>
  <Override PartName="/ppt/media/image29.png" ContentType="image/png"/>
  <Override PartName="/ppt/media/image96.png" ContentType="image/png"/>
  <Override PartName="/ppt/media/image28.png" ContentType="image/png"/>
  <Override PartName="/ppt/media/image95.png" ContentType="image/png"/>
  <Override PartName="/ppt/media/image27.png" ContentType="image/png"/>
  <Override PartName="/ppt/media/image89.png" ContentType="image/png"/>
  <Override PartName="/ppt/media/image88.png" ContentType="image/png"/>
  <Override PartName="/ppt/media/image87.png" ContentType="image/png"/>
  <Override PartName="/ppt/media/image19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70.png" ContentType="image/png"/>
  <Override PartName="/ppt/media/image120.png" ContentType="image/png"/>
  <Override PartName="/ppt/media/image69.png" ContentType="image/png"/>
  <Override PartName="/ppt/media/image68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62.png" ContentType="image/png"/>
  <Override PartName="/ppt/media/image61.png" ContentType="image/png"/>
  <Override PartName="/ppt/media/image60.png" ContentType="image/png"/>
  <Override PartName="/ppt/media/image24.png" ContentType="image/png"/>
  <Override PartName="/ppt/media/image92.png" ContentType="image/png"/>
  <Override PartName="/ppt/media/image23.png" ContentType="image/png"/>
  <Override PartName="/ppt/media/image91.png" ContentType="image/png"/>
  <Override PartName="/ppt/media/image119.png" ContentType="image/png"/>
  <Override PartName="/ppt/media/image187.png" ContentType="image/png"/>
  <Override PartName="/ppt/media/image22.png" ContentType="image/png"/>
  <Override PartName="/ppt/media/image90.png" ContentType="image/png"/>
  <Override PartName="/ppt/media/image110.png" ContentType="image/png"/>
  <Override PartName="/ppt/media/image59.png" ContentType="image/png"/>
  <Override PartName="/ppt/media/image58.png" ContentType="image/png"/>
  <Override PartName="/ppt/media/image117.png" ContentType="image/png"/>
  <Override PartName="/ppt/media/image185.png" ContentType="image/png"/>
  <Override PartName="/ppt/media/image20.png" ContentType="image/png"/>
  <Override PartName="/ppt/media/image57.png" ContentType="image/png"/>
  <Override PartName="/ppt/media/image93.png" ContentType="image/png"/>
  <Override PartName="/ppt/media/image25.png" ContentType="image/png"/>
  <Override PartName="/ppt/media/image82.png" ContentType="image/png"/>
  <Override PartName="/ppt/media/image14.png" ContentType="image/png"/>
  <Override PartName="/ppt/media/image17.png" ContentType="image/png"/>
  <Override PartName="/ppt/media/image85.png" ContentType="image/png"/>
  <Override PartName="/ppt/media/image5.png" ContentType="image/png"/>
  <Override PartName="/ppt/media/image157.png" ContentType="image/png"/>
  <Override PartName="/ppt/media/image35.png" ContentType="image/png"/>
  <Override PartName="/ppt/media/image107.png" ContentType="image/png"/>
  <Override PartName="/ppt/media/image175.png" ContentType="image/png"/>
  <Override PartName="/ppt/media/image10.png" ContentType="image/png"/>
  <Override PartName="/ppt/media/image118.png" ContentType="image/png"/>
  <Override PartName="/ppt/media/image186.png" ContentType="image/png"/>
  <Override PartName="/ppt/media/image21.png" ContentType="image/png"/>
  <Override PartName="/ppt/media/image47.png" ContentType="image/png"/>
  <Override PartName="/ppt/media/image2.png" ContentType="image/png"/>
  <Override PartName="/ppt/media/image154.png" ContentType="image/png"/>
  <Override PartName="/ppt/media/image32.png" ContentType="image/png"/>
  <Override PartName="/ppt/media/image26.png" ContentType="image/png"/>
  <Override PartName="/ppt/media/image94.png" ContentType="image/png"/>
  <Override PartName="/ppt/media/image143.png" ContentType="image/png"/>
  <Override PartName="/ppt/media/image144.png" ContentType="image/png"/>
  <Override PartName="/ppt/media/image145.png" ContentType="image/png"/>
  <Override PartName="/ppt/media/image146.png" ContentType="image/png"/>
  <Override PartName="/ppt/media/image147.png" ContentType="image/png"/>
  <Override PartName="/ppt/media/image50.png" ContentType="image/png"/>
  <Override PartName="/ppt/media/image148.png" ContentType="image/png"/>
  <Override PartName="/ppt/media/image51.png" ContentType="image/png"/>
  <Override PartName="/ppt/media/image149.png" ContentType="image/png"/>
  <Override PartName="/ppt/media/image52.png" ContentType="image/png"/>
  <Override PartName="/ppt/media/image167.png" ContentType="image/png"/>
  <Override PartName="/ppt/media/image168.png" ContentType="image/png"/>
  <Override PartName="/ppt/media/image169.png" ContentType="image/png"/>
  <Override PartName="/ppt/media/image178.png" ContentType="image/png"/>
  <Override PartName="/ppt/media/image142.png" ContentType="image/png"/>
  <Override PartName="/ppt/media/image179.png" ContentType="image/png"/>
  <Override PartName="/ppt/media/image200.png" ContentType="image/png"/>
  <Override PartName="/ppt/media/image44.png" ContentType="image/png"/>
  <Override PartName="/ppt/media/image201.png" ContentType="image/png"/>
  <Override PartName="/ppt/media/image45.png" ContentType="image/png"/>
  <Override PartName="/ppt/media/image165.png" ContentType="image/png"/>
  <Override PartName="/ppt/media/image218.png" ContentType="image/png"/>
  <Override PartName="/ppt/media/image220.png" ContentType="image/png"/>
  <Override PartName="/ppt/media/image221.png" ContentType="image/png"/>
  <Override PartName="/ppt/media/image166.png" ContentType="image/png"/>
  <Override PartName="/ppt/media/image219.png" ContentType="image/png"/>
  <Override PartName="/ppt/media/image222.png" ContentType="image/png"/>
  <Override PartName="/ppt/media/image223.png" ContentType="image/png"/>
  <Override PartName="/ppt/media/image224.png" ContentType="image/png"/>
  <Override PartName="/ppt/media/image225.png" ContentType="image/png"/>
  <Override PartName="/ppt/media/image226.png" ContentType="image/png"/>
  <Override PartName="/ppt/media/image227.png" ContentType="image/png"/>
  <Override PartName="/ppt/media/image228.png" ContentType="image/png"/>
  <Override PartName="/ppt/media/image230.png" ContentType="image/png"/>
  <Override PartName="/ppt/media/image229.png" ContentType="image/png"/>
  <Override PartName="/ppt/media/image164.png" ContentType="image/png"/>
  <Override PartName="/ppt/media/image217.png" ContentType="image/png"/>
  <Override PartName="/ppt/media/image163.png" ContentType="image/png"/>
  <Override PartName="/ppt/media/image216.png" ContentType="image/png"/>
  <Override PartName="/ppt/media/image162.png" ContentType="image/png"/>
  <Override PartName="/ppt/media/image199.png" ContentType="image/png"/>
  <Override PartName="/ppt/media/image37.png" ContentType="image/png"/>
  <Override PartName="/ppt/media/image215.png" ContentType="image/png"/>
  <Override PartName="/ppt/media/image161.png" ContentType="image/png"/>
  <Override PartName="/ppt/media/image198.png" ContentType="image/png"/>
  <Override PartName="/ppt/media/image36.png" ContentType="image/png"/>
  <Override PartName="/ppt/media/image214.png" ContentType="image/png"/>
  <Override PartName="/ppt/media/image160.png" ContentType="image/png"/>
  <Override PartName="/ppt/media/image213.png" ContentType="image/png"/>
  <Override PartName="/ppt/media/image212.png" ContentType="image/png"/>
  <Override PartName="/ppt/media/image56.png" ContentType="image/png"/>
  <Override PartName="/ppt/media/image211.png" ContentType="image/png"/>
  <Override PartName="/ppt/media/image55.png" ContentType="image/png"/>
  <Override PartName="/ppt/media/image209.png" ContentType="image/png"/>
  <Override PartName="/ppt/media/image210.png" ContentType="image/png"/>
  <Override PartName="/ppt/media/image54.png" ContentType="image/png"/>
  <Override PartName="/ppt/media/image208.png" ContentType="image/png"/>
  <Override PartName="/ppt/media/image207.png" ContentType="image/png"/>
  <Override PartName="/ppt/media/image153.png" ContentType="image/png"/>
  <Override PartName="/ppt/media/image206.png" ContentType="image/png"/>
  <Override PartName="/ppt/media/image152.png" ContentType="image/png"/>
  <Override PartName="/ppt/media/image189.png" ContentType="image/png"/>
  <Override PartName="/ppt/media/image205.png" ContentType="image/png"/>
  <Override PartName="/ppt/media/image49.png" ContentType="image/png"/>
  <Override PartName="/ppt/media/image100.png" ContentType="image/png"/>
  <Override PartName="/ppt/media/image151.png" ContentType="image/png"/>
  <Override PartName="/ppt/media/image188.png" ContentType="image/png"/>
  <Override PartName="/ppt/media/image204.png" ContentType="image/png"/>
  <Override PartName="/ppt/media/image48.png" ContentType="image/png"/>
  <Override PartName="/ppt/media/image150.png" ContentType="image/png"/>
  <Override PartName="/ppt/media/image203.png" ContentType="image/png"/>
  <Override PartName="/ppt/media/image202.png" ContentType="image/png"/>
  <Override PartName="/ppt/media/image46.png" ContentType="image/png"/>
  <Override PartName="/ppt/media/image141.png" ContentType="image/png"/>
  <Override PartName="/ppt/media/image140.png" ContentType="image/png"/>
  <Override PartName="/ppt/media/image139.png" ContentType="image/png"/>
  <Override PartName="/ppt/media/image42.png" ContentType="image/png"/>
  <Override PartName="/ppt/media/image138.png" ContentType="image/png"/>
  <Override PartName="/ppt/media/image41.png" ContentType="image/png"/>
  <Override PartName="/ppt/media/image137.png" ContentType="image/png"/>
  <Override PartName="/ppt/media/image40.png" ContentType="image/png"/>
  <Override PartName="/ppt/media/image136.png" ContentType="image/png"/>
  <Override PartName="/ppt/media/image135.png" ContentType="image/png"/>
  <Override PartName="/ppt/media/image134.png" ContentType="image/png"/>
  <Override PartName="/ppt/media/image133.png" ContentType="image/png"/>
  <Override PartName="/ppt/media/image132.png" ContentType="image/png"/>
  <Override PartName="/ppt/media/image131.png" ContentType="image/png"/>
  <Override PartName="/ppt/media/image130.png" ContentType="image/png"/>
  <Override PartName="/ppt/media/image197.png" ContentType="image/png"/>
  <Override PartName="/ppt/media/image129.png" ContentType="image/png"/>
  <Override PartName="/ppt/media/image34.png" ContentType="image/png"/>
  <Override PartName="/ppt/media/image196.png" ContentType="image/png"/>
  <Override PartName="/ppt/media/image128.png" ContentType="image/png"/>
  <Override PartName="/ppt/media/image53.png" ContentType="image/png"/>
  <Override PartName="/ppt/media/image43.png" ContentType="image/png"/>
  <Override PartName="/ppt/media/image33.png" ContentType="image/png"/>
  <Override PartName="/ppt/media/image195.png" ContentType="image/png"/>
  <Override PartName="/ppt/media/image127.png" ContentType="image/png"/>
  <Override PartName="/ppt/media/image39.png" ContentType="image/png"/>
  <Override PartName="/ppt/media/image31.png" ContentType="image/png"/>
  <Override PartName="/ppt/media/image9.png" ContentType="image/png"/>
  <Override PartName="/ppt/media/image38.png" ContentType="image/png"/>
  <Override PartName="/ppt/media/image30.png" ContentType="image/png"/>
  <Override PartName="/ppt/media/image8.png" ContentType="image/png"/>
  <Override PartName="/ppt/media/image177.png" ContentType="image/png"/>
  <Override PartName="/ppt/media/image109.png" ContentType="image/png"/>
  <Override PartName="/ppt/media/image80.png" ContentType="image/png"/>
  <Override PartName="/ppt/media/image12.png" ContentType="image/png"/>
  <Override PartName="/ppt/media/image159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11.png" ContentType="image/png"/>
  <Override PartName="/ppt/media/image108.png" ContentType="image/png"/>
  <Override PartName="/ppt/media/image176.png" ContentType="image/png"/>
  <Override PartName="/ppt/media/image158.png" ContentType="image/png"/>
  <Override PartName="/ppt/media/image6.png" ContentType="image/png"/>
  <Override PartName="/ppt/media/image86.png" ContentType="image/png"/>
  <Override PartName="/ppt/media/image18.png" ContentType="image/png"/>
  <Override PartName="/ppt/media/image15.png" ContentType="image/png"/>
  <Override PartName="/ppt/media/image83.png" ContentType="image/png"/>
  <Override PartName="/ppt/media/image4.png" ContentType="image/png"/>
  <Override PartName="/ppt/media/image156.png" ContentType="image/png"/>
  <Override PartName="/ppt/media/image81.png" ContentType="image/png"/>
  <Override PartName="/ppt/media/image13.png" ContentType="image/png"/>
  <Override PartName="/ppt/media/image3.png" ContentType="image/png"/>
  <Override PartName="/ppt/media/image15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D12E-72DD-45DF-B3EA-B35C01B32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F994-4853-4F9C-AE97-7D683412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52A7-0339-4BEB-AB45-1F4BF270E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F1AB-C631-4C10-AF7D-1F7560CDB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2921-2A2C-4CEA-979D-8A7768A5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8C16-40A5-4FC5-901D-FB75A54E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8093-CC55-4398-B71A-60AFB484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80C3-0C9E-43CA-8FA5-15E5350F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3387-1F2C-4A56-B4DF-C39A64C3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8FCF-2E9E-48DA-971D-E27ABB94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ADA8-D902-4699-8227-87E041AC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168B-0B30-4033-9704-C1F754A3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27EC-ED19-43D6-A054-4F7D8FE54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52.png"/><Relationship Id="rId10" Type="http://schemas.openxmlformats.org/officeDocument/2006/relationships/image" Target="../media/image40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47.png"/><Relationship Id="rId4" Type="http://schemas.openxmlformats.org/officeDocument/2006/relationships/image" Target="../media/image50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0.png"/><Relationship Id="rId4" Type="http://schemas.openxmlformats.org/officeDocument/2006/relationships/image" Target="../media/image76.png"/><Relationship Id="rId5" Type="http://schemas.openxmlformats.org/officeDocument/2006/relationships/image" Target="../media/image77.png"/><Relationship Id="rId6" Type="http://schemas.openxmlformats.org/officeDocument/2006/relationships/image" Target="../media/image78.png"/><Relationship Id="rId7" Type="http://schemas.openxmlformats.org/officeDocument/2006/relationships/image" Target="../media/image79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0.png"/><Relationship Id="rId4" Type="http://schemas.openxmlformats.org/officeDocument/2006/relationships/image" Target="../media/image76.png"/><Relationship Id="rId5" Type="http://schemas.openxmlformats.org/officeDocument/2006/relationships/image" Target="../media/image77.png"/><Relationship Id="rId6" Type="http://schemas.openxmlformats.org/officeDocument/2006/relationships/image" Target="../media/image78.png"/><Relationship Id="rId7" Type="http://schemas.openxmlformats.org/officeDocument/2006/relationships/image" Target="../media/image79.png"/><Relationship Id="rId8" Type="http://schemas.openxmlformats.org/officeDocument/2006/relationships/image" Target="../media/image80.png"/><Relationship Id="rId9" Type="http://schemas.openxmlformats.org/officeDocument/2006/relationships/image" Target="../media/image81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86.png"/><Relationship Id="rId6" Type="http://schemas.openxmlformats.org/officeDocument/2006/relationships/image" Target="../media/image84.png"/><Relationship Id="rId7" Type="http://schemas.openxmlformats.org/officeDocument/2006/relationships/image" Target="../media/image87.png"/><Relationship Id="rId8" Type="http://schemas.openxmlformats.org/officeDocument/2006/relationships/image" Target="../media/image88.png"/><Relationship Id="rId9" Type="http://schemas.openxmlformats.org/officeDocument/2006/relationships/image" Target="../media/image89.pn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image" Target="../media/image93.png"/><Relationship Id="rId5" Type="http://schemas.openxmlformats.org/officeDocument/2006/relationships/image" Target="../media/image94.png"/><Relationship Id="rId6" Type="http://schemas.openxmlformats.org/officeDocument/2006/relationships/image" Target="../media/image95.png"/><Relationship Id="rId7" Type="http://schemas.openxmlformats.org/officeDocument/2006/relationships/image" Target="../media/image96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image" Target="../media/image97.png"/><Relationship Id="rId5" Type="http://schemas.openxmlformats.org/officeDocument/2006/relationships/image" Target="../media/image98.png"/><Relationship Id="rId6" Type="http://schemas.openxmlformats.org/officeDocument/2006/relationships/image" Target="../media/image99.png"/><Relationship Id="rId7" Type="http://schemas.openxmlformats.org/officeDocument/2006/relationships/image" Target="../media/image60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image" Target="../media/image80.png"/><Relationship Id="rId5" Type="http://schemas.openxmlformats.org/officeDocument/2006/relationships/image" Target="../media/image100.png"/><Relationship Id="rId6" Type="http://schemas.openxmlformats.org/officeDocument/2006/relationships/image" Target="../media/image101.png"/><Relationship Id="rId7" Type="http://schemas.openxmlformats.org/officeDocument/2006/relationships/image" Target="../media/image102.png"/><Relationship Id="rId8" Type="http://schemas.openxmlformats.org/officeDocument/2006/relationships/image" Target="../media/image103.png"/><Relationship Id="rId9" Type="http://schemas.openxmlformats.org/officeDocument/2006/relationships/image" Target="../media/image104.png"/><Relationship Id="rId10" Type="http://schemas.openxmlformats.org/officeDocument/2006/relationships/image" Target="../media/image105.png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107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08.png"/><Relationship Id="rId6" Type="http://schemas.openxmlformats.org/officeDocument/2006/relationships/image" Target="../media/image109.png"/><Relationship Id="rId7" Type="http://schemas.openxmlformats.org/officeDocument/2006/relationships/image" Target="../media/image110.png"/><Relationship Id="rId8" Type="http://schemas.openxmlformats.org/officeDocument/2006/relationships/image" Target="../media/image111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2.png"/><Relationship Id="rId2" Type="http://schemas.openxmlformats.org/officeDocument/2006/relationships/image" Target="../media/image113.png"/><Relationship Id="rId3" Type="http://schemas.openxmlformats.org/officeDocument/2006/relationships/image" Target="../media/image114.png"/><Relationship Id="rId4" Type="http://schemas.openxmlformats.org/officeDocument/2006/relationships/image" Target="../media/image115.png"/><Relationship Id="rId5" Type="http://schemas.openxmlformats.org/officeDocument/2006/relationships/image" Target="../media/image116.png"/><Relationship Id="rId6" Type="http://schemas.openxmlformats.org/officeDocument/2006/relationships/image" Target="../media/image117.png"/><Relationship Id="rId7" Type="http://schemas.openxmlformats.org/officeDocument/2006/relationships/image" Target="../media/image118.png"/><Relationship Id="rId8" Type="http://schemas.openxmlformats.org/officeDocument/2006/relationships/image" Target="../media/image119.png"/><Relationship Id="rId9" Type="http://schemas.openxmlformats.org/officeDocument/2006/relationships/image" Target="../media/image120.png"/><Relationship Id="rId10" Type="http://schemas.openxmlformats.org/officeDocument/2006/relationships/image" Target="../media/image121.png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7.png"/><Relationship Id="rId2" Type="http://schemas.openxmlformats.org/officeDocument/2006/relationships/image" Target="../media/image118.png"/><Relationship Id="rId3" Type="http://schemas.openxmlformats.org/officeDocument/2006/relationships/image" Target="../media/image115.png"/><Relationship Id="rId4" Type="http://schemas.openxmlformats.org/officeDocument/2006/relationships/image" Target="../media/image116.png"/><Relationship Id="rId5" Type="http://schemas.openxmlformats.org/officeDocument/2006/relationships/image" Target="../media/image112.png"/><Relationship Id="rId6" Type="http://schemas.openxmlformats.org/officeDocument/2006/relationships/image" Target="../media/image122.png"/><Relationship Id="rId7" Type="http://schemas.openxmlformats.org/officeDocument/2006/relationships/image" Target="../media/image123.png"/><Relationship Id="rId8" Type="http://schemas.openxmlformats.org/officeDocument/2006/relationships/image" Target="../media/image124.png"/><Relationship Id="rId9" Type="http://schemas.openxmlformats.org/officeDocument/2006/relationships/image" Target="../media/image125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7.png"/><Relationship Id="rId2" Type="http://schemas.openxmlformats.org/officeDocument/2006/relationships/image" Target="../media/image118.png"/><Relationship Id="rId3" Type="http://schemas.openxmlformats.org/officeDocument/2006/relationships/image" Target="../media/image70.png"/><Relationship Id="rId4" Type="http://schemas.openxmlformats.org/officeDocument/2006/relationships/image" Target="../media/image126.png"/><Relationship Id="rId5" Type="http://schemas.openxmlformats.org/officeDocument/2006/relationships/image" Target="../media/image127.png"/><Relationship Id="rId6" Type="http://schemas.openxmlformats.org/officeDocument/2006/relationships/image" Target="../media/image128.png"/><Relationship Id="rId7" Type="http://schemas.openxmlformats.org/officeDocument/2006/relationships/image" Target="../media/image129.png"/><Relationship Id="rId8" Type="http://schemas.openxmlformats.org/officeDocument/2006/relationships/image" Target="../media/image130.png"/><Relationship Id="rId9" Type="http://schemas.openxmlformats.org/officeDocument/2006/relationships/image" Target="../media/image131.png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3.png"/><Relationship Id="rId2" Type="http://schemas.openxmlformats.org/officeDocument/2006/relationships/image" Target="../media/image134.png"/><Relationship Id="rId3" Type="http://schemas.openxmlformats.org/officeDocument/2006/relationships/image" Target="../media/image135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2.png"/><Relationship Id="rId2" Type="http://schemas.openxmlformats.org/officeDocument/2006/relationships/image" Target="../media/image136.png"/><Relationship Id="rId3" Type="http://schemas.openxmlformats.org/officeDocument/2006/relationships/image" Target="../media/image137.png"/><Relationship Id="rId4" Type="http://schemas.openxmlformats.org/officeDocument/2006/relationships/image" Target="../media/image138.png"/><Relationship Id="rId5" Type="http://schemas.openxmlformats.org/officeDocument/2006/relationships/image" Target="../media/image139.png"/><Relationship Id="rId6" Type="http://schemas.openxmlformats.org/officeDocument/2006/relationships/image" Target="../media/image140.png"/><Relationship Id="rId7" Type="http://schemas.openxmlformats.org/officeDocument/2006/relationships/image" Target="../media/image141.pn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6.png"/><Relationship Id="rId2" Type="http://schemas.openxmlformats.org/officeDocument/2006/relationships/image" Target="../media/image142.png"/><Relationship Id="rId3" Type="http://schemas.openxmlformats.org/officeDocument/2006/relationships/image" Target="../media/image143.png"/><Relationship Id="rId4" Type="http://schemas.openxmlformats.org/officeDocument/2006/relationships/image" Target="../media/image144.png"/><Relationship Id="rId5" Type="http://schemas.openxmlformats.org/officeDocument/2006/relationships/image" Target="../media/image145.png"/><Relationship Id="rId6" Type="http://schemas.openxmlformats.org/officeDocument/2006/relationships/image" Target="../media/image146.pn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4.png"/><Relationship Id="rId2" Type="http://schemas.openxmlformats.org/officeDocument/2006/relationships/image" Target="../media/image136.png"/><Relationship Id="rId3" Type="http://schemas.openxmlformats.org/officeDocument/2006/relationships/image" Target="../media/image137.png"/><Relationship Id="rId4" Type="http://schemas.openxmlformats.org/officeDocument/2006/relationships/image" Target="../media/image138.png"/><Relationship Id="rId5" Type="http://schemas.openxmlformats.org/officeDocument/2006/relationships/image" Target="../media/image141.png"/><Relationship Id="rId6" Type="http://schemas.openxmlformats.org/officeDocument/2006/relationships/image" Target="../media/image147.png"/><Relationship Id="rId7" Type="http://schemas.openxmlformats.org/officeDocument/2006/relationships/image" Target="../media/image148.png"/><Relationship Id="rId8" Type="http://schemas.openxmlformats.org/officeDocument/2006/relationships/image" Target="../media/image149.png"/><Relationship Id="rId9" Type="http://schemas.openxmlformats.org/officeDocument/2006/relationships/image" Target="../media/image150.png"/><Relationship Id="rId10" Type="http://schemas.openxmlformats.org/officeDocument/2006/relationships/image" Target="../media/image151.png"/><Relationship Id="rId11" Type="http://schemas.openxmlformats.org/officeDocument/2006/relationships/image" Target="../media/image152.png"/><Relationship Id="rId1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2.png"/><Relationship Id="rId2" Type="http://schemas.openxmlformats.org/officeDocument/2006/relationships/image" Target="../media/image153.png"/><Relationship Id="rId3" Type="http://schemas.openxmlformats.org/officeDocument/2006/relationships/image" Target="../media/image154.png"/><Relationship Id="rId4" Type="http://schemas.openxmlformats.org/officeDocument/2006/relationships/image" Target="../media/image155.png"/><Relationship Id="rId5" Type="http://schemas.openxmlformats.org/officeDocument/2006/relationships/image" Target="../media/image156.png"/><Relationship Id="rId6" Type="http://schemas.openxmlformats.org/officeDocument/2006/relationships/image" Target="../media/image157.png"/><Relationship Id="rId7" Type="http://schemas.openxmlformats.org/officeDocument/2006/relationships/image" Target="../media/image158.png"/><Relationship Id="rId8" Type="http://schemas.openxmlformats.org/officeDocument/2006/relationships/image" Target="../media/image159.png"/><Relationship Id="rId9" Type="http://schemas.openxmlformats.org/officeDocument/2006/relationships/image" Target="../media/image160.png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1.png"/><Relationship Id="rId2" Type="http://schemas.openxmlformats.org/officeDocument/2006/relationships/image" Target="../media/image162.png"/><Relationship Id="rId3" Type="http://schemas.openxmlformats.org/officeDocument/2006/relationships/image" Target="../media/image163.png"/><Relationship Id="rId4" Type="http://schemas.openxmlformats.org/officeDocument/2006/relationships/image" Target="../media/image164.png"/><Relationship Id="rId5" Type="http://schemas.openxmlformats.org/officeDocument/2006/relationships/image" Target="../media/image165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6.png"/><Relationship Id="rId2" Type="http://schemas.openxmlformats.org/officeDocument/2006/relationships/image" Target="../media/image152.png"/><Relationship Id="rId3" Type="http://schemas.openxmlformats.org/officeDocument/2006/relationships/image" Target="../media/image7.png"/><Relationship Id="rId4" Type="http://schemas.openxmlformats.org/officeDocument/2006/relationships/image" Target="../media/image166.png"/><Relationship Id="rId5" Type="http://schemas.openxmlformats.org/officeDocument/2006/relationships/image" Target="../media/image167.png"/><Relationship Id="rId6" Type="http://schemas.openxmlformats.org/officeDocument/2006/relationships/image" Target="../media/image168.png"/><Relationship Id="rId7" Type="http://schemas.openxmlformats.org/officeDocument/2006/relationships/image" Target="../media/image7.png"/><Relationship Id="rId8" Type="http://schemas.openxmlformats.org/officeDocument/2006/relationships/image" Target="../media/image169.pn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9.png"/><Relationship Id="rId2" Type="http://schemas.openxmlformats.org/officeDocument/2006/relationships/image" Target="../media/image170.png"/><Relationship Id="rId3" Type="http://schemas.openxmlformats.org/officeDocument/2006/relationships/image" Target="../media/image134.png"/><Relationship Id="rId4" Type="http://schemas.openxmlformats.org/officeDocument/2006/relationships/image" Target="../media/image171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2.png"/><Relationship Id="rId2" Type="http://schemas.openxmlformats.org/officeDocument/2006/relationships/image" Target="../media/image173.png"/><Relationship Id="rId3" Type="http://schemas.openxmlformats.org/officeDocument/2006/relationships/image" Target="../media/image174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5.png"/><Relationship Id="rId2" Type="http://schemas.openxmlformats.org/officeDocument/2006/relationships/image" Target="../media/image176.png"/><Relationship Id="rId3" Type="http://schemas.openxmlformats.org/officeDocument/2006/relationships/image" Target="../media/image177.png"/><Relationship Id="rId4" Type="http://schemas.openxmlformats.org/officeDocument/2006/relationships/image" Target="../media/image178.png"/><Relationship Id="rId5" Type="http://schemas.openxmlformats.org/officeDocument/2006/relationships/image" Target="../media/image179.pn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7.png"/><Relationship Id="rId2" Type="http://schemas.openxmlformats.org/officeDocument/2006/relationships/image" Target="../media/image179.png"/><Relationship Id="rId3" Type="http://schemas.openxmlformats.org/officeDocument/2006/relationships/image" Target="../media/image180.png"/><Relationship Id="rId4" Type="http://schemas.openxmlformats.org/officeDocument/2006/relationships/image" Target="../media/image181.png"/><Relationship Id="rId5" Type="http://schemas.openxmlformats.org/officeDocument/2006/relationships/image" Target="../media/image182.png"/><Relationship Id="rId6" Type="http://schemas.openxmlformats.org/officeDocument/2006/relationships/image" Target="../media/image183.png"/><Relationship Id="rId7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9.png"/><Relationship Id="rId2" Type="http://schemas.openxmlformats.org/officeDocument/2006/relationships/image" Target="../media/image180.png"/><Relationship Id="rId3" Type="http://schemas.openxmlformats.org/officeDocument/2006/relationships/image" Target="../media/image172.png"/><Relationship Id="rId4" Type="http://schemas.openxmlformats.org/officeDocument/2006/relationships/image" Target="../media/image173.png"/><Relationship Id="rId5" Type="http://schemas.openxmlformats.org/officeDocument/2006/relationships/image" Target="../media/image184.png"/><Relationship Id="rId6" Type="http://schemas.openxmlformats.org/officeDocument/2006/relationships/image" Target="../media/image185.png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9.png"/><Relationship Id="rId2" Type="http://schemas.openxmlformats.org/officeDocument/2006/relationships/image" Target="../media/image173.png"/><Relationship Id="rId3" Type="http://schemas.openxmlformats.org/officeDocument/2006/relationships/image" Target="../media/image186.png"/><Relationship Id="rId4" Type="http://schemas.openxmlformats.org/officeDocument/2006/relationships/image" Target="../media/image187.png"/><Relationship Id="rId5" Type="http://schemas.openxmlformats.org/officeDocument/2006/relationships/image" Target="../media/image188.png"/><Relationship Id="rId6" Type="http://schemas.openxmlformats.org/officeDocument/2006/relationships/image" Target="../media/image189.png"/><Relationship Id="rId7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9.png"/><Relationship Id="rId2" Type="http://schemas.openxmlformats.org/officeDocument/2006/relationships/image" Target="../media/image173.png"/><Relationship Id="rId3" Type="http://schemas.openxmlformats.org/officeDocument/2006/relationships/image" Target="../media/image186.png"/><Relationship Id="rId4" Type="http://schemas.openxmlformats.org/officeDocument/2006/relationships/image" Target="../media/image187.png"/><Relationship Id="rId5" Type="http://schemas.openxmlformats.org/officeDocument/2006/relationships/image" Target="../media/image188.png"/><Relationship Id="rId6" Type="http://schemas.openxmlformats.org/officeDocument/2006/relationships/image" Target="../media/image189.png"/><Relationship Id="rId7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0.png"/><Relationship Id="rId2" Type="http://schemas.openxmlformats.org/officeDocument/2006/relationships/image" Target="../media/image7.png"/><Relationship Id="rId3" Type="http://schemas.openxmlformats.org/officeDocument/2006/relationships/image" Target="../media/image191.png"/><Relationship Id="rId4" Type="http://schemas.openxmlformats.org/officeDocument/2006/relationships/image" Target="../media/image192.png"/><Relationship Id="rId5" Type="http://schemas.openxmlformats.org/officeDocument/2006/relationships/image" Target="../media/image193.png"/><Relationship Id="rId6" Type="http://schemas.openxmlformats.org/officeDocument/2006/relationships/image" Target="../media/image194.png"/><Relationship Id="rId7" Type="http://schemas.openxmlformats.org/officeDocument/2006/relationships/image" Target="../media/image195.png"/><Relationship Id="rId8" Type="http://schemas.openxmlformats.org/officeDocument/2006/relationships/image" Target="../media/image196.png"/><Relationship Id="rId9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7.png"/><Relationship Id="rId2" Type="http://schemas.openxmlformats.org/officeDocument/2006/relationships/image" Target="../media/image198.png"/><Relationship Id="rId3" Type="http://schemas.openxmlformats.org/officeDocument/2006/relationships/image" Target="../media/image199.png"/><Relationship Id="rId4" Type="http://schemas.openxmlformats.org/officeDocument/2006/relationships/image" Target="../media/image200.png"/><Relationship Id="rId5" Type="http://schemas.openxmlformats.org/officeDocument/2006/relationships/image" Target="../media/image201.png"/><Relationship Id="rId6" Type="http://schemas.openxmlformats.org/officeDocument/2006/relationships/image" Target="../media/image202.png"/><Relationship Id="rId7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7.png"/><Relationship Id="rId2" Type="http://schemas.openxmlformats.org/officeDocument/2006/relationships/image" Target="../media/image169.png"/><Relationship Id="rId3" Type="http://schemas.openxmlformats.org/officeDocument/2006/relationships/image" Target="../media/image203.png"/><Relationship Id="rId4" Type="http://schemas.openxmlformats.org/officeDocument/2006/relationships/image" Target="../media/image204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0.png"/><Relationship Id="rId2" Type="http://schemas.openxmlformats.org/officeDocument/2006/relationships/image" Target="../media/image205.png"/><Relationship Id="rId3" Type="http://schemas.openxmlformats.org/officeDocument/2006/relationships/image" Target="../media/image20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70.png"/><Relationship Id="rId2" Type="http://schemas.openxmlformats.org/officeDocument/2006/relationships/image" Target="../media/image207.png"/><Relationship Id="rId3" Type="http://schemas.openxmlformats.org/officeDocument/2006/relationships/image" Target="../media/image208.png"/><Relationship Id="rId4" Type="http://schemas.openxmlformats.org/officeDocument/2006/relationships/image" Target="../media/image209.png"/><Relationship Id="rId5" Type="http://schemas.openxmlformats.org/officeDocument/2006/relationships/image" Target="../media/image210.pn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0.png"/><Relationship Id="rId2" Type="http://schemas.openxmlformats.org/officeDocument/2006/relationships/image" Target="../media/image211.png"/><Relationship Id="rId3" Type="http://schemas.openxmlformats.org/officeDocument/2006/relationships/image" Target="../media/image212.png"/><Relationship Id="rId4" Type="http://schemas.openxmlformats.org/officeDocument/2006/relationships/image" Target="../media/image213.png"/><Relationship Id="rId5" Type="http://schemas.openxmlformats.org/officeDocument/2006/relationships/image" Target="../media/image214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97.png"/><Relationship Id="rId2" Type="http://schemas.openxmlformats.org/officeDocument/2006/relationships/image" Target="../media/image198.png"/><Relationship Id="rId3" Type="http://schemas.openxmlformats.org/officeDocument/2006/relationships/image" Target="../media/image215.png"/><Relationship Id="rId4" Type="http://schemas.openxmlformats.org/officeDocument/2006/relationships/image" Target="../media/image216.png"/><Relationship Id="rId5" Type="http://schemas.openxmlformats.org/officeDocument/2006/relationships/image" Target="../media/image217.png"/><Relationship Id="rId6" Type="http://schemas.openxmlformats.org/officeDocument/2006/relationships/image" Target="../media/image218.png"/><Relationship Id="rId7" Type="http://schemas.openxmlformats.org/officeDocument/2006/relationships/image" Target="../media/image219.png"/><Relationship Id="rId8" Type="http://schemas.openxmlformats.org/officeDocument/2006/relationships/image" Target="../media/image220.png"/><Relationship Id="rId9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1.png"/><Relationship Id="rId2" Type="http://schemas.openxmlformats.org/officeDocument/2006/relationships/image" Target="../media/image222.png"/><Relationship Id="rId3" Type="http://schemas.openxmlformats.org/officeDocument/2006/relationships/image" Target="../media/image223.png"/><Relationship Id="rId4" Type="http://schemas.openxmlformats.org/officeDocument/2006/relationships/image" Target="../media/image224.png"/><Relationship Id="rId5" Type="http://schemas.openxmlformats.org/officeDocument/2006/relationships/image" Target="../media/image225.png"/><Relationship Id="rId6" Type="http://schemas.openxmlformats.org/officeDocument/2006/relationships/image" Target="../media/image226.png"/><Relationship Id="rId7" Type="http://schemas.openxmlformats.org/officeDocument/2006/relationships/image" Target="../media/image227.png"/><Relationship Id="rId8" Type="http://schemas.openxmlformats.org/officeDocument/2006/relationships/image" Target="../media/image228.png"/><Relationship Id="rId9" Type="http://schemas.openxmlformats.org/officeDocument/2006/relationships/image" Target="../media/image229.png"/><Relationship Id="rId10" Type="http://schemas.openxmlformats.org/officeDocument/2006/relationships/image" Target="../media/image230.png"/><Relationship Id="rId1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19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0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9240" y="0"/>
            <a:ext cx="192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uzz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2200" y="914400"/>
            <a:ext cx="836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in primes are two prime numbers whose difference is tw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1120" y="1752480"/>
            <a:ext cx="563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example, 17 and 19 are twin pr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6360" y="2590920"/>
            <a:ext cx="851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zzle: Prove that for every twin prime with one prime gr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n 6, the number in between the two twin primes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visible by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9960" y="3962520"/>
            <a:ext cx="815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example, the number between 17 and 19 is 18 which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visible by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754280" y="0"/>
            <a:ext cx="574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mputational B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814400" y="1347840"/>
            <a:ext cx="344520" cy="3286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808280" y="1882800"/>
            <a:ext cx="344520" cy="328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1446120" y="2871720"/>
            <a:ext cx="1068480" cy="328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890720" y="23385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90720" y="2490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90720" y="26431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1360" y="76212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ational ba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13120" y="838080"/>
            <a:ext cx="34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an orthonormal ba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3505320" y="1523880"/>
            <a:ext cx="4281480" cy="8146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194360" y="259092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ronecker de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9320" y="3505320"/>
            <a:ext cx="878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ational basis is important because when we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r quantum computer (a qubit, two qubits, etc.) we 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outcome corresponding to these basis ve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there are all sorts of other basis which we could use to, sa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and our vector ab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Different Qubit B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different orthonormal ba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06480" y="1447920"/>
            <a:ext cx="3243240" cy="7221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950760" y="2209680"/>
            <a:ext cx="3164040" cy="7225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523880" y="3051000"/>
            <a:ext cx="4253040" cy="9115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1523880" y="5049720"/>
            <a:ext cx="5386680" cy="8175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1523880" y="4041720"/>
            <a:ext cx="4157640" cy="9111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55520" y="5883120"/>
            <a:ext cx="909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orthonormal basis is complete if the number of basis ele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equal to the dimension of the complex vector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hanging Your B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800600" y="838080"/>
            <a:ext cx="2770200" cy="3286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39040" y="762120"/>
            <a:ext cx="475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ress the qubit wav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e orthonormal complete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5800" y="2057400"/>
            <a:ext cx="46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other words find component o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680" y="4800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784080" y="2590920"/>
            <a:ext cx="2644920" cy="3283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914400" y="3952800"/>
            <a:ext cx="7924680" cy="3556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914400" y="4406760"/>
            <a:ext cx="8001000" cy="362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31120" y="350532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inner prod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1150920" y="5288040"/>
            <a:ext cx="3997440" cy="3445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806400" y="1677960"/>
            <a:ext cx="851040" cy="3286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87360" y="5791320"/>
            <a:ext cx="78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lculating these inner products allows us to express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t in a new ba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xample Bas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676520" y="4267080"/>
            <a:ext cx="5410080" cy="7606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838080" y="1030320"/>
            <a:ext cx="3243240" cy="7221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4724280" y="1030320"/>
            <a:ext cx="3164040" cy="7221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0" y="1905120"/>
            <a:ext cx="61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ress                                    in this bas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5983200" y="1981080"/>
            <a:ext cx="3084480" cy="3589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555480" y="2590920"/>
            <a:ext cx="8359920" cy="476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6"/>
          <a:stretch/>
        </p:blipFill>
        <p:spPr>
          <a:xfrm>
            <a:off x="609480" y="3173400"/>
            <a:ext cx="8293320" cy="484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77760" y="38098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7"/>
          <a:stretch/>
        </p:blipFill>
        <p:spPr>
          <a:xfrm>
            <a:off x="771480" y="3809880"/>
            <a:ext cx="4486320" cy="3445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8"/>
          <a:stretch/>
        </p:blipFill>
        <p:spPr>
          <a:xfrm>
            <a:off x="1636560" y="5105520"/>
            <a:ext cx="5373720" cy="765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9"/>
          <a:stretch/>
        </p:blipFill>
        <p:spPr>
          <a:xfrm>
            <a:off x="1636560" y="6059520"/>
            <a:ext cx="4535640" cy="7221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0"/>
          <a:stretch/>
        </p:blipFill>
        <p:spPr>
          <a:xfrm>
            <a:off x="1314360" y="1981080"/>
            <a:ext cx="277020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xplicit Bas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838080" y="1030320"/>
            <a:ext cx="3243240" cy="7221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724280" y="1030320"/>
            <a:ext cx="3164040" cy="7221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0800" y="1905120"/>
            <a:ext cx="45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ress                  in this bas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495680" y="1981080"/>
            <a:ext cx="3084480" cy="3589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22400" y="39625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4038480" y="2971800"/>
            <a:ext cx="4486320" cy="3445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1371600" y="1982880"/>
            <a:ext cx="1228680" cy="3286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6"/>
          <a:stretch/>
        </p:blipFill>
        <p:spPr>
          <a:xfrm>
            <a:off x="895320" y="2440080"/>
            <a:ext cx="1716120" cy="684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7"/>
          <a:stretch/>
        </p:blipFill>
        <p:spPr>
          <a:xfrm>
            <a:off x="826920" y="3271680"/>
            <a:ext cx="1700280" cy="6969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8"/>
          <a:stretch/>
        </p:blipFill>
        <p:spPr>
          <a:xfrm>
            <a:off x="808200" y="4419720"/>
            <a:ext cx="3306600" cy="7221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9"/>
          <a:stretch/>
        </p:blipFill>
        <p:spPr>
          <a:xfrm>
            <a:off x="676440" y="5410080"/>
            <a:ext cx="671508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6000" y="914400"/>
            <a:ext cx="83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can expand any vector in terms of an orthonormal ba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5981760" cy="3934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143000" y="2362320"/>
            <a:ext cx="1527120" cy="423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05640" y="3048120"/>
            <a:ext cx="756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y does this matter?  Because, as we shall see nex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ary matrices can be thought of as either rotating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ctor or as a “change of basi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724280"/>
            <a:ext cx="809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understand this, we first note that unitary matrices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thonormal basis already hiding within them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52280" y="76320"/>
            <a:ext cx="883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Unitary Matrices, Row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6710400" cy="819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09480" y="2305080"/>
            <a:ext cx="8031240" cy="819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880" y="18288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ur eq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914400" y="3827520"/>
            <a:ext cx="3273480" cy="3636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914400" y="4361040"/>
            <a:ext cx="3273480" cy="3632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68400" y="3276720"/>
            <a:ext cx="64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y the row vectors, are an orthonormal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914400" y="5334120"/>
            <a:ext cx="6939000" cy="8618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54080" y="480060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76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Unitary Matrices, Column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880" y="18288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ur eq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120" y="3200400"/>
            <a:ext cx="68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y the column vectors, are an orthonormal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4080" y="480060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446120" y="987480"/>
            <a:ext cx="6710400" cy="8190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606600" y="2298600"/>
            <a:ext cx="8030880" cy="8193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915840" y="3824280"/>
            <a:ext cx="3273480" cy="3636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915840" y="4357800"/>
            <a:ext cx="3273480" cy="3636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5"/>
          <a:stretch/>
        </p:blipFill>
        <p:spPr>
          <a:xfrm>
            <a:off x="912960" y="5335560"/>
            <a:ext cx="693864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76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Unitary Matrices, Row &amp; Colum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2428920" cy="1062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838080" y="3038400"/>
            <a:ext cx="3029040" cy="6955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4724280" y="3038400"/>
            <a:ext cx="3029040" cy="6955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21320" y="25909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w 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9640" y="38098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orthog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685800" y="4343400"/>
            <a:ext cx="6423120" cy="8002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5"/>
          <a:stretch/>
        </p:blipFill>
        <p:spPr>
          <a:xfrm>
            <a:off x="1447920" y="5257800"/>
            <a:ext cx="5727600" cy="6364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55160" y="10666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6"/>
          <a:stretch/>
        </p:blipFill>
        <p:spPr>
          <a:xfrm>
            <a:off x="1447920" y="6095880"/>
            <a:ext cx="205884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52280" y="76320"/>
            <a:ext cx="883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Unitary Matrices as “Rotation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33720" y="1143000"/>
            <a:ext cx="0" cy="2362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914040" y="236232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133720" y="23623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133720" y="1752480"/>
            <a:ext cx="0" cy="60984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492280" y="2490840"/>
            <a:ext cx="344520" cy="3286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670040" y="1677960"/>
            <a:ext cx="344520" cy="3286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4419720" y="2209680"/>
            <a:ext cx="2652480" cy="7858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3962520" y="1066680"/>
            <a:ext cx="3706560" cy="3589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3963960" y="1598760"/>
            <a:ext cx="3706920" cy="3585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2138400" y="3886200"/>
            <a:ext cx="0" cy="2362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918720" y="510552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8400" y="4876560"/>
            <a:ext cx="5335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909440" y="4572000"/>
            <a:ext cx="228600" cy="53352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6"/>
          <a:stretch/>
        </p:blipFill>
        <p:spPr>
          <a:xfrm>
            <a:off x="2671920" y="4529160"/>
            <a:ext cx="1900080" cy="2714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7"/>
          <a:stretch/>
        </p:blipFill>
        <p:spPr>
          <a:xfrm>
            <a:off x="152280" y="4106880"/>
            <a:ext cx="1900440" cy="2714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955400" y="4419720"/>
            <a:ext cx="375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ary matrices re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tations” of the comple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45000" y="76320"/>
            <a:ext cx="918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SEP 590tv: Quantum Comp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13080" y="838080"/>
            <a:ext cx="250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ve Ba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6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637600" y="1752480"/>
            <a:ext cx="239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Today’s Me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2044800"/>
            <a:ext cx="3809880" cy="2070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8600" y="4330800"/>
            <a:ext cx="3809880" cy="2070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23120" y="380988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25280" y="449568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utsch’s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26000" y="5181480"/>
            <a:ext cx="43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gin Quantum Teleport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01600" y="266688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ministri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51200" y="320040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52280" y="76320"/>
            <a:ext cx="883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Unitary Matrices as “Rotation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133720" y="1143000"/>
            <a:ext cx="0" cy="2362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914040" y="236232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33720" y="23623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133720" y="1752480"/>
            <a:ext cx="0" cy="60984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492280" y="2490840"/>
            <a:ext cx="344520" cy="3286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1670040" y="1677960"/>
            <a:ext cx="344520" cy="3286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4967280" y="2209680"/>
            <a:ext cx="2652840" cy="785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4599000" y="1066680"/>
            <a:ext cx="3706920" cy="3589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5"/>
          <a:stretch/>
        </p:blipFill>
        <p:spPr>
          <a:xfrm>
            <a:off x="4599000" y="1598760"/>
            <a:ext cx="3706920" cy="3585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138400" y="3886200"/>
            <a:ext cx="0" cy="2362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918720" y="510552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138400" y="4876560"/>
            <a:ext cx="5335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1909440" y="4572000"/>
            <a:ext cx="228600" cy="53352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6"/>
          <a:stretch/>
        </p:blipFill>
        <p:spPr>
          <a:xfrm>
            <a:off x="2743200" y="4724280"/>
            <a:ext cx="1900080" cy="2714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7"/>
          <a:stretch/>
        </p:blipFill>
        <p:spPr>
          <a:xfrm>
            <a:off x="152280" y="4106880"/>
            <a:ext cx="1900440" cy="2714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4803120" y="5105520"/>
            <a:ext cx="375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ary matrices re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tations” of the comple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133720" y="205704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8"/>
          <a:stretch/>
        </p:blipFill>
        <p:spPr>
          <a:xfrm>
            <a:off x="2347920" y="1652760"/>
            <a:ext cx="1919160" cy="3283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 flipV="1">
            <a:off x="2133720" y="464832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9"/>
          <a:stretch/>
        </p:blipFill>
        <p:spPr>
          <a:xfrm>
            <a:off x="2209680" y="4313160"/>
            <a:ext cx="6172200" cy="3351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10"/>
          <a:stretch/>
        </p:blipFill>
        <p:spPr>
          <a:xfrm>
            <a:off x="3200400" y="5257800"/>
            <a:ext cx="344520" cy="3286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11"/>
          <a:stretch/>
        </p:blipFill>
        <p:spPr>
          <a:xfrm>
            <a:off x="1676520" y="3657600"/>
            <a:ext cx="344520" cy="3286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12"/>
          <a:stretch/>
        </p:blipFill>
        <p:spPr>
          <a:xfrm>
            <a:off x="3276720" y="2514600"/>
            <a:ext cx="344520" cy="3286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3"/>
          <a:stretch/>
        </p:blipFill>
        <p:spPr>
          <a:xfrm>
            <a:off x="1676520" y="990720"/>
            <a:ext cx="34452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otations and Dot Produ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28600" y="9907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ary matrices represent “rotations” of the complex 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62320" y="2590920"/>
            <a:ext cx="0" cy="2361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1142640" y="380988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9920" y="1752480"/>
            <a:ext cx="900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all: rotations of real vectors preserve angles between 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preserve lengths of ve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2362320" y="30481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2362320" y="3048120"/>
            <a:ext cx="3045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705720" y="2619360"/>
            <a:ext cx="0" cy="2362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5486040" y="383868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5866920" y="2771640"/>
            <a:ext cx="83844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5791320" y="345708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3505320" y="3124080"/>
            <a:ext cx="226800" cy="2271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2743200" y="2895480"/>
            <a:ext cx="237960" cy="2271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2590920" y="3352680"/>
            <a:ext cx="118800" cy="17964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>
            <a:off x="6021360" y="2514600"/>
            <a:ext cx="227160" cy="2872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5"/>
          <a:stretch/>
        </p:blipFill>
        <p:spPr>
          <a:xfrm>
            <a:off x="5481720" y="3352680"/>
            <a:ext cx="237960" cy="2872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4040640" y="304812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114800" y="350532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6"/>
          <a:stretch/>
        </p:blipFill>
        <p:spPr>
          <a:xfrm>
            <a:off x="6172200" y="3352680"/>
            <a:ext cx="119160" cy="1796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7"/>
          <a:stretch/>
        </p:blipFill>
        <p:spPr>
          <a:xfrm>
            <a:off x="3181320" y="4724280"/>
            <a:ext cx="2779920" cy="4604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8"/>
          <a:stretch/>
        </p:blipFill>
        <p:spPr>
          <a:xfrm>
            <a:off x="3186000" y="5256360"/>
            <a:ext cx="2760840" cy="46008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9"/>
          <a:stretch/>
        </p:blipFill>
        <p:spPr>
          <a:xfrm>
            <a:off x="3240000" y="5789520"/>
            <a:ext cx="2779920" cy="4604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766080" y="6324480"/>
            <a:ext cx="78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the corresponding condition for unitary matri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52280" y="76320"/>
            <a:ext cx="883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Unitary Matrices, Inner Produ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8600" y="9907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ary matrices preserve the inner product of two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c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1434960" y="1905120"/>
            <a:ext cx="1994040" cy="42048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1441440" y="2514600"/>
            <a:ext cx="1994040" cy="4190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87000" y="3048120"/>
            <a:ext cx="71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joint-ing rule: reverse order and adjoint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1447920" y="3967200"/>
            <a:ext cx="6240240" cy="4525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20760" y="4495680"/>
            <a:ext cx="380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ner product is preserv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4"/>
          <a:stretch/>
        </p:blipFill>
        <p:spPr>
          <a:xfrm>
            <a:off x="1447920" y="3433680"/>
            <a:ext cx="6240240" cy="4525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5"/>
          <a:stretch/>
        </p:blipFill>
        <p:spPr>
          <a:xfrm>
            <a:off x="1365120" y="4952880"/>
            <a:ext cx="7169400" cy="4525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6"/>
          <a:stretch/>
        </p:blipFill>
        <p:spPr>
          <a:xfrm>
            <a:off x="1371600" y="6095880"/>
            <a:ext cx="7169040" cy="4525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7"/>
          <a:stretch/>
        </p:blipFill>
        <p:spPr>
          <a:xfrm>
            <a:off x="1368360" y="5562720"/>
            <a:ext cx="7169040" cy="45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76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Unitary Matrices, Backw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652840" cy="7858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1447920" y="1066680"/>
            <a:ext cx="3706560" cy="3589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1447920" y="1622520"/>
            <a:ext cx="3706560" cy="3585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1312920" y="2895480"/>
            <a:ext cx="3716280" cy="3589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5"/>
          <a:stretch/>
        </p:blipFill>
        <p:spPr>
          <a:xfrm>
            <a:off x="1312920" y="3375000"/>
            <a:ext cx="3716280" cy="3589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234000" y="2057400"/>
            <a:ext cx="854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can also ask what input vectors given computational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ctors as their 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6"/>
          <a:stretch/>
        </p:blipFill>
        <p:spPr>
          <a:xfrm>
            <a:off x="76320" y="3886200"/>
            <a:ext cx="8942400" cy="8049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7"/>
          <a:stretch/>
        </p:blipFill>
        <p:spPr>
          <a:xfrm>
            <a:off x="909720" y="5257800"/>
            <a:ext cx="6710400" cy="8190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1800" y="472428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cause of unitar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76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Unitary Matrices, Bas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652840" cy="78588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1295280" y="990720"/>
            <a:ext cx="3716280" cy="3585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1295280" y="1447920"/>
            <a:ext cx="3716280" cy="3585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1052640" y="2567160"/>
            <a:ext cx="1919160" cy="3283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228600" y="1981080"/>
            <a:ext cx="297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we express a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5"/>
          <a:stretch/>
        </p:blipFill>
        <p:spPr>
          <a:xfrm>
            <a:off x="1069920" y="3570120"/>
            <a:ext cx="3273480" cy="3924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6"/>
          <a:stretch/>
        </p:blipFill>
        <p:spPr>
          <a:xfrm>
            <a:off x="4879800" y="3562200"/>
            <a:ext cx="3273480" cy="3924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305640" y="3048120"/>
            <a:ext cx="36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e row vector basi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7"/>
          <a:stretch/>
        </p:blipFill>
        <p:spPr>
          <a:xfrm>
            <a:off x="1309680" y="4103640"/>
            <a:ext cx="1919160" cy="3780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306000" y="40384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.e.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29680" y="4648320"/>
            <a:ext cx="526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n the unitary changes this stat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8"/>
          <a:stretch/>
        </p:blipFill>
        <p:spPr>
          <a:xfrm>
            <a:off x="1295280" y="5181480"/>
            <a:ext cx="1919520" cy="3589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9"/>
          <a:stretch/>
        </p:blipFill>
        <p:spPr>
          <a:xfrm>
            <a:off x="5715000" y="2117880"/>
            <a:ext cx="2771640" cy="81900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10"/>
          <a:stretch/>
        </p:blipFill>
        <p:spPr>
          <a:xfrm>
            <a:off x="3906720" y="3095640"/>
            <a:ext cx="331920" cy="3319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251280" y="5715000"/>
            <a:ext cx="88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 we can think of unitary matrices as enacting a “basis chang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easurement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33280" y="990720"/>
            <a:ext cx="82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all that if we measure a qubit in the computational basi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of the two outcomes 0 and 1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30760" y="3352680"/>
            <a:ext cx="69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can express is in a different notation, by 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2971800" y="1981080"/>
            <a:ext cx="1614600" cy="50328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230760" y="48769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2844720" y="2741760"/>
            <a:ext cx="2449440" cy="28404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46920" y="2058840"/>
            <a:ext cx="1780920" cy="352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6045120" y="2592360"/>
            <a:ext cx="1781280" cy="35244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5"/>
          <a:stretch/>
        </p:blipFill>
        <p:spPr>
          <a:xfrm>
            <a:off x="1039680" y="3889440"/>
            <a:ext cx="4065840" cy="29844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6"/>
          <a:stretch/>
        </p:blipFill>
        <p:spPr>
          <a:xfrm>
            <a:off x="1050840" y="4425840"/>
            <a:ext cx="4054680" cy="29844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7"/>
          <a:stretch/>
        </p:blipFill>
        <p:spPr>
          <a:xfrm>
            <a:off x="990720" y="5337000"/>
            <a:ext cx="3170160" cy="35244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8"/>
          <a:stretch/>
        </p:blipFill>
        <p:spPr>
          <a:xfrm>
            <a:off x="984240" y="5870520"/>
            <a:ext cx="317016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Unitary and Measure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58760" y="83808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we perform a unitary evolution followed by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surement in the computational ba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3278160" y="1676520"/>
            <a:ext cx="2513160" cy="5047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 flipV="1">
            <a:off x="4940280" y="2034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30400" y="2971800"/>
            <a:ext cx="78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are the probabilities of the two outcomes, 0 and 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838080" y="4419720"/>
            <a:ext cx="2463840" cy="3524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4724280" y="4448160"/>
            <a:ext cx="2463840" cy="35244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239040" y="3886200"/>
            <a:ext cx="35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ch we can express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4"/>
          <a:stretch/>
        </p:blipFill>
        <p:spPr>
          <a:xfrm>
            <a:off x="920880" y="5257800"/>
            <a:ext cx="1414440" cy="35244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5"/>
          <a:stretch/>
        </p:blipFill>
        <p:spPr>
          <a:xfrm>
            <a:off x="2743200" y="5257800"/>
            <a:ext cx="1414440" cy="35244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308520" y="4800600"/>
            <a:ext cx="30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the new ba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6"/>
          <a:stretch/>
        </p:blipFill>
        <p:spPr>
          <a:xfrm>
            <a:off x="912960" y="6048360"/>
            <a:ext cx="2162160" cy="35244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7"/>
          <a:stretch/>
        </p:blipFill>
        <p:spPr>
          <a:xfrm>
            <a:off x="4772160" y="6048360"/>
            <a:ext cx="2162160" cy="3524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386640" y="5638680"/>
            <a:ext cx="57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n we can express the probabilities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8"/>
          <a:stretch/>
        </p:blipFill>
        <p:spPr>
          <a:xfrm>
            <a:off x="905040" y="3508200"/>
            <a:ext cx="3249360" cy="35244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9"/>
          <a:stretch/>
        </p:blipFill>
        <p:spPr>
          <a:xfrm>
            <a:off x="4702320" y="3508200"/>
            <a:ext cx="3249360" cy="3524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10"/>
          <a:stretch/>
        </p:blipFill>
        <p:spPr>
          <a:xfrm>
            <a:off x="3220920" y="2473200"/>
            <a:ext cx="3537000" cy="3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easurement in a B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5791320" y="838080"/>
            <a:ext cx="2162160" cy="35244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5791320" y="1219320"/>
            <a:ext cx="2162160" cy="3524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3767040" y="2514600"/>
            <a:ext cx="1414440" cy="3524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4"/>
          <a:stretch/>
        </p:blipFill>
        <p:spPr>
          <a:xfrm>
            <a:off x="3767040" y="2971800"/>
            <a:ext cx="1414440" cy="35244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5"/>
          <a:stretch/>
        </p:blipFill>
        <p:spPr>
          <a:xfrm>
            <a:off x="2971800" y="942840"/>
            <a:ext cx="2513160" cy="50508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229680" y="1676520"/>
            <a:ext cx="811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nitary transform allows to “perform a measurement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basis differing from the computational basis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14200" y="3505320"/>
            <a:ext cx="870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                               is a complete basis.  Then we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form a measurement in this basis” and obtain outco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probabilities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6"/>
          <a:stretch/>
        </p:blipFill>
        <p:spPr>
          <a:xfrm>
            <a:off x="1662120" y="3606840"/>
            <a:ext cx="2395440" cy="30960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7"/>
          <a:stretch/>
        </p:blipFill>
        <p:spPr>
          <a:xfrm>
            <a:off x="3549600" y="4800600"/>
            <a:ext cx="2162160" cy="35244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8"/>
          <a:stretch/>
        </p:blipFill>
        <p:spPr>
          <a:xfrm>
            <a:off x="3549600" y="5211720"/>
            <a:ext cx="2162160" cy="35244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9"/>
          <a:stretch/>
        </p:blipFill>
        <p:spPr>
          <a:xfrm>
            <a:off x="2936880" y="5972040"/>
            <a:ext cx="3387600" cy="3524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4440240" y="5562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440240" y="5715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440240" y="5867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easurement in a B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5638680" y="1527120"/>
            <a:ext cx="2162160" cy="35244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5638680" y="1908000"/>
            <a:ext cx="2162160" cy="35244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3"/>
          <a:stretch/>
        </p:blipFill>
        <p:spPr>
          <a:xfrm>
            <a:off x="685800" y="2489040"/>
            <a:ext cx="2428920" cy="106236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4"/>
          <a:stretch/>
        </p:blipFill>
        <p:spPr>
          <a:xfrm>
            <a:off x="3962520" y="2494080"/>
            <a:ext cx="2555640" cy="106200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5"/>
          <a:stretch/>
        </p:blipFill>
        <p:spPr>
          <a:xfrm>
            <a:off x="655560" y="3936960"/>
            <a:ext cx="3840120" cy="6256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6"/>
          <a:stretch/>
        </p:blipFill>
        <p:spPr>
          <a:xfrm>
            <a:off x="4846680" y="3921120"/>
            <a:ext cx="3840120" cy="6253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7"/>
          <a:stretch/>
        </p:blipFill>
        <p:spPr>
          <a:xfrm>
            <a:off x="723960" y="1530360"/>
            <a:ext cx="4610160" cy="5032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8"/>
          <a:stretch/>
        </p:blipFill>
        <p:spPr>
          <a:xfrm>
            <a:off x="781200" y="4775040"/>
            <a:ext cx="7524720" cy="78768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9"/>
          <a:stretch/>
        </p:blipFill>
        <p:spPr>
          <a:xfrm>
            <a:off x="730080" y="5689440"/>
            <a:ext cx="7728120" cy="78768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2880" y="10666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 Class Problem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752920" y="0"/>
            <a:ext cx="372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dministriv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5920" y="1066680"/>
            <a:ext cx="31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nd in Homework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4840" y="2438280"/>
            <a:ext cx="31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ick up Homework 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4480" y="3809880"/>
            <a:ext cx="46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anyone not on the mailing li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wo Qu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04920" y="838080"/>
            <a:ext cx="626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bits can be in one of four different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914400" y="1600200"/>
            <a:ext cx="8380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069200" y="17859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286000" y="1600200"/>
            <a:ext cx="8380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440800" y="17859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809880" y="1600200"/>
            <a:ext cx="83844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964680" y="17859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57800" y="1600200"/>
            <a:ext cx="8380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412600" y="17859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07080" y="2666880"/>
            <a:ext cx="62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milarly two qubits have four different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81960" y="4343400"/>
            <a:ext cx="82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wave function for two qubits thus has four compon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1371600" y="4827600"/>
            <a:ext cx="7467480" cy="14209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 flipV="1">
            <a:off x="3809880" y="579096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381120" y="640080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rst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4572000" y="579096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727880" y="640080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cond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343160" y="1600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700360" y="1614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219560" y="1600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681520" y="1600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914400" y="3200400"/>
            <a:ext cx="8380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069200" y="33861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0" y="3200400"/>
            <a:ext cx="8380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440800" y="33861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809880" y="3200400"/>
            <a:ext cx="83844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64680" y="33861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257800" y="3200400"/>
            <a:ext cx="8380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412600" y="33861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34316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700360" y="32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21956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6815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52280" y="5105520"/>
            <a:ext cx="83844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7636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456840" y="563832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440" y="640080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rst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 flipV="1">
            <a:off x="837720" y="5562720"/>
            <a:ext cx="1219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375200" y="640080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cond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wo Qu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31120" y="121932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1752480" y="5181480"/>
            <a:ext cx="2791080" cy="15051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1752480" y="3200400"/>
            <a:ext cx="4857840" cy="171288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3"/>
          <a:stretch/>
        </p:blipFill>
        <p:spPr>
          <a:xfrm>
            <a:off x="1752480" y="1135080"/>
            <a:ext cx="51310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When Two Qubits Are Tw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7760" y="990720"/>
            <a:ext cx="75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wave function for two qubits has four compon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533520" y="1619280"/>
            <a:ext cx="7907040" cy="150480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55160" y="3292560"/>
            <a:ext cx="773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times we can write the wave function of two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the “tensor product” of two one qubit wave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304920" y="4267080"/>
            <a:ext cx="2020680" cy="33516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3"/>
          <a:stretch/>
        </p:blipFill>
        <p:spPr>
          <a:xfrm>
            <a:off x="1066680" y="4800600"/>
            <a:ext cx="2853000" cy="33480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4"/>
          <a:stretch/>
        </p:blipFill>
        <p:spPr>
          <a:xfrm>
            <a:off x="4572000" y="4770360"/>
            <a:ext cx="2755800" cy="33516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5"/>
          <a:stretch/>
        </p:blipFill>
        <p:spPr>
          <a:xfrm>
            <a:off x="228600" y="5410080"/>
            <a:ext cx="5837400" cy="3510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6"/>
          <a:stretch/>
        </p:blipFill>
        <p:spPr>
          <a:xfrm>
            <a:off x="647640" y="5943600"/>
            <a:ext cx="8420040" cy="33480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7"/>
          <a:stretch/>
        </p:blipFill>
        <p:spPr>
          <a:xfrm>
            <a:off x="633240" y="6400800"/>
            <a:ext cx="6910560" cy="3348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2594520" y="419112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wo Qubits, Separ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31480" y="12193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2021040" cy="33516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1647720" y="1847880"/>
            <a:ext cx="2903760" cy="74916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3"/>
          <a:stretch/>
        </p:blipFill>
        <p:spPr>
          <a:xfrm>
            <a:off x="4975200" y="1822320"/>
            <a:ext cx="3140280" cy="73512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4"/>
          <a:stretch/>
        </p:blipFill>
        <p:spPr>
          <a:xfrm>
            <a:off x="380880" y="2895480"/>
            <a:ext cx="7893000" cy="84636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5"/>
          <a:stretch/>
        </p:blipFill>
        <p:spPr>
          <a:xfrm>
            <a:off x="222120" y="4200480"/>
            <a:ext cx="8775720" cy="76824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6"/>
          <a:stretch/>
        </p:blipFill>
        <p:spPr>
          <a:xfrm>
            <a:off x="228600" y="5254560"/>
            <a:ext cx="629928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838080"/>
            <a:ext cx="9144000" cy="6019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wo Qubits, Entang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31480" y="9907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1828800" y="914400"/>
            <a:ext cx="4857840" cy="171288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304920" y="3048120"/>
            <a:ext cx="2020680" cy="33480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3"/>
          <a:stretch/>
        </p:blipFill>
        <p:spPr>
          <a:xfrm>
            <a:off x="3048120" y="2971800"/>
            <a:ext cx="2852640" cy="33480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4"/>
          <a:stretch/>
        </p:blipFill>
        <p:spPr>
          <a:xfrm>
            <a:off x="6172200" y="2971800"/>
            <a:ext cx="2755800" cy="33480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5"/>
          <a:stretch/>
        </p:blipFill>
        <p:spPr>
          <a:xfrm>
            <a:off x="685800" y="3581280"/>
            <a:ext cx="6910560" cy="33516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6"/>
          <a:stretch/>
        </p:blipFill>
        <p:spPr>
          <a:xfrm>
            <a:off x="304920" y="4114800"/>
            <a:ext cx="1347840" cy="30492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7"/>
          <a:stretch/>
        </p:blipFill>
        <p:spPr>
          <a:xfrm>
            <a:off x="1371600" y="4952880"/>
            <a:ext cx="1025640" cy="30492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8"/>
          <a:stretch/>
        </p:blipFill>
        <p:spPr>
          <a:xfrm>
            <a:off x="1371600" y="5791320"/>
            <a:ext cx="993600" cy="30456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840600" y="44956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i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373400" y="53341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746440" y="487692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this im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9"/>
          <a:stretch/>
        </p:blipFill>
        <p:spPr>
          <a:xfrm>
            <a:off x="4976640" y="4952880"/>
            <a:ext cx="1347840" cy="30492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2746440" y="563868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this im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0"/>
          <a:stretch/>
        </p:blipFill>
        <p:spPr>
          <a:xfrm>
            <a:off x="4976640" y="5715000"/>
            <a:ext cx="1347840" cy="30492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6480360" y="518148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ad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0400" y="251460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u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78360" y="6248520"/>
            <a:ext cx="64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      is not a separable state.  It is entang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1"/>
          <a:stretch/>
        </p:blipFill>
        <p:spPr>
          <a:xfrm>
            <a:off x="914400" y="6294600"/>
            <a:ext cx="351000" cy="3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easuring Two Qu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31840" y="1066680"/>
            <a:ext cx="851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we measure both qubits in the computational basis, then 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t one of four outcomes: 00, 01, 10, and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533520" y="2381400"/>
            <a:ext cx="7907040" cy="150480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228240" y="1981080"/>
            <a:ext cx="55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wave function for the two qubits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36400" y="403848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of 00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3276720" y="4038480"/>
            <a:ext cx="815760" cy="41436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536400" y="457200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of 01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36400" y="510552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of 10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36400" y="563868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of 11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3"/>
          <a:stretch/>
        </p:blipFill>
        <p:spPr>
          <a:xfrm>
            <a:off x="3274920" y="4568760"/>
            <a:ext cx="816120" cy="41436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4"/>
          <a:stretch/>
        </p:blipFill>
        <p:spPr>
          <a:xfrm>
            <a:off x="3274920" y="5102280"/>
            <a:ext cx="816120" cy="41436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5"/>
          <a:stretch/>
        </p:blipFill>
        <p:spPr>
          <a:xfrm>
            <a:off x="3274920" y="5635800"/>
            <a:ext cx="816120" cy="41400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4651560" y="403848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wave function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6"/>
          <a:stretch/>
        </p:blipFill>
        <p:spPr>
          <a:xfrm>
            <a:off x="7772400" y="4114800"/>
            <a:ext cx="557280" cy="33480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4627800" y="457200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wave function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627800" y="510552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wave function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27800" y="563868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wave function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7"/>
          <a:stretch/>
        </p:blipFill>
        <p:spPr>
          <a:xfrm>
            <a:off x="7750080" y="4646520"/>
            <a:ext cx="557280" cy="33516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8"/>
          <a:stretch/>
        </p:blipFill>
        <p:spPr>
          <a:xfrm>
            <a:off x="7750080" y="5180040"/>
            <a:ext cx="557280" cy="33480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9"/>
          <a:stretch/>
        </p:blipFill>
        <p:spPr>
          <a:xfrm>
            <a:off x="7750080" y="5713560"/>
            <a:ext cx="557280" cy="3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wo Qubits, Measu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31480" y="12193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776160" y="1825560"/>
            <a:ext cx="6767640" cy="76824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688680" y="312408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of 00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88680" y="411480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of 01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88680" y="510552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of 10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88680" y="609588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of 11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3429000" y="2819520"/>
            <a:ext cx="3333600" cy="92844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3"/>
          <a:stretch/>
        </p:blipFill>
        <p:spPr>
          <a:xfrm>
            <a:off x="3429000" y="3809880"/>
            <a:ext cx="2933640" cy="92880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4"/>
          <a:stretch/>
        </p:blipFill>
        <p:spPr>
          <a:xfrm>
            <a:off x="3448080" y="4848120"/>
            <a:ext cx="3333600" cy="94320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5"/>
          <a:stretch/>
        </p:blipFill>
        <p:spPr>
          <a:xfrm>
            <a:off x="3467160" y="5867280"/>
            <a:ext cx="293364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wo Qubit Ev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01240" y="930240"/>
            <a:ext cx="876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ule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e wave function of a N dimensional quantum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olves in time according to a unitary matrix     .  If the wa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 initially is       then after the evolution correspond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new wave function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6434280" y="1442880"/>
            <a:ext cx="225360" cy="22572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2792520" y="1774800"/>
            <a:ext cx="331560" cy="31608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3"/>
          <a:stretch/>
        </p:blipFill>
        <p:spPr>
          <a:xfrm>
            <a:off x="3733920" y="2090880"/>
            <a:ext cx="1482480" cy="36324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4"/>
          <a:stretch/>
        </p:blipFill>
        <p:spPr>
          <a:xfrm>
            <a:off x="8410680" y="1770120"/>
            <a:ext cx="225360" cy="22536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5"/>
          <a:stretch/>
        </p:blipFill>
        <p:spPr>
          <a:xfrm>
            <a:off x="457200" y="2813040"/>
            <a:ext cx="5635800" cy="145404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6"/>
          <a:stretch/>
        </p:blipFill>
        <p:spPr>
          <a:xfrm>
            <a:off x="6705720" y="2760840"/>
            <a:ext cx="1904760" cy="150624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7"/>
          <a:stretch/>
        </p:blipFill>
        <p:spPr>
          <a:xfrm>
            <a:off x="304920" y="4572000"/>
            <a:ext cx="1482480" cy="36360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8"/>
          <a:stretch/>
        </p:blipFill>
        <p:spPr>
          <a:xfrm>
            <a:off x="228600" y="5105520"/>
            <a:ext cx="880596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0" y="762120"/>
            <a:ext cx="9144000" cy="6095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wo Qubit Ev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152280" y="2895480"/>
            <a:ext cx="8805960" cy="154008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3149640" cy="174312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3"/>
          <a:stretch/>
        </p:blipFill>
        <p:spPr>
          <a:xfrm>
            <a:off x="3886200" y="990720"/>
            <a:ext cx="4857840" cy="171288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4"/>
          <a:stretch/>
        </p:blipFill>
        <p:spPr>
          <a:xfrm>
            <a:off x="198360" y="4495680"/>
            <a:ext cx="765036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4952880"/>
            <a:ext cx="9144000" cy="1447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2743200"/>
            <a:ext cx="9144000" cy="1447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anipulations of Two 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04920" y="838080"/>
            <a:ext cx="626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bits can be in one of four different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31840" y="2209680"/>
            <a:ext cx="41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can manipulate these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926280" y="27432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26280" y="30481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926280" y="33526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926280" y="37339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92960" y="27432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992960" y="30481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992960" y="33526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992960" y="37339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53360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53360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53360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53360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29680" y="4191120"/>
            <a:ext cx="846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times this can be thought of as just operating on on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bits (for example, flip the second bi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992880" y="4952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880" y="5257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992880" y="5562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992880" y="59436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059560" y="4952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059560" y="5257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059560" y="5562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059560" y="59436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60020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600200" y="5486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60020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600200" y="6095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30040" y="6400800"/>
            <a:ext cx="784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sometimes we cannot (as in the first example abo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066680" y="1371600"/>
            <a:ext cx="83844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221480" y="1557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438280" y="1371600"/>
            <a:ext cx="83844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593080" y="1557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962520" y="1371600"/>
            <a:ext cx="8380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116960" y="1557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410080" y="1371600"/>
            <a:ext cx="83844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564880" y="1557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481040" y="1371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852640" y="1386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371840" y="1371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834160" y="1371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549600" y="0"/>
            <a:ext cx="185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2320" y="685800"/>
            <a:ext cx="78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description of a quantum system is a complex 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181240" cy="1473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7000" y="2514600"/>
            <a:ext cx="781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surement in computational basis gives outcome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equal to modulus of component squa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886200" y="1600200"/>
            <a:ext cx="4016520" cy="500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990720" y="3352680"/>
            <a:ext cx="2052360" cy="406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993600" y="3809880"/>
            <a:ext cx="2052720" cy="406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898560" y="4648320"/>
            <a:ext cx="2241360" cy="406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057400" y="4267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4572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1040" y="5181480"/>
            <a:ext cx="814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olution between measurements is described by a un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tr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1066680" y="6095880"/>
            <a:ext cx="1535400" cy="376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3394080" y="6058080"/>
            <a:ext cx="239724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anipulations of Two Qu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11040" y="838080"/>
            <a:ext cx="829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milarly, we can apply unitary operations on only one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bits at a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219320" y="1905120"/>
            <a:ext cx="8380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633680" y="1905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8240" y="3657600"/>
            <a:ext cx="65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ary operator that acts only on the first qub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H="1" flipV="1">
            <a:off x="1371240" y="2285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915840" y="304812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rst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H="1" flipV="1">
            <a:off x="1752120" y="2209320"/>
            <a:ext cx="12193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289600" y="304812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cond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990720" y="4191120"/>
            <a:ext cx="1498320" cy="2538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232920" y="4724280"/>
            <a:ext cx="24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dimens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ary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1371600" y="44197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590560" y="434304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048120" y="45720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dimens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ty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2"/>
          <a:stretch/>
        </p:blipFill>
        <p:spPr>
          <a:xfrm>
            <a:off x="5816520" y="4343400"/>
            <a:ext cx="1727280" cy="78588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3"/>
          <a:stretch/>
        </p:blipFill>
        <p:spPr>
          <a:xfrm>
            <a:off x="990720" y="6248520"/>
            <a:ext cx="1498320" cy="25380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306360" y="563868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ary operator that acts only on the second qub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ensor Product of Mat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2895480" y="1066680"/>
            <a:ext cx="2605320" cy="78588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2"/>
          <a:stretch/>
        </p:blipFill>
        <p:spPr>
          <a:xfrm>
            <a:off x="5853240" y="1068480"/>
            <a:ext cx="2925720" cy="78588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3"/>
          <a:stretch/>
        </p:blipFill>
        <p:spPr>
          <a:xfrm>
            <a:off x="671400" y="1447920"/>
            <a:ext cx="1681200" cy="25380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4"/>
          <a:stretch/>
        </p:blipFill>
        <p:spPr>
          <a:xfrm>
            <a:off x="609480" y="2133720"/>
            <a:ext cx="5151600" cy="78552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5"/>
          <a:stretch/>
        </p:blipFill>
        <p:spPr>
          <a:xfrm>
            <a:off x="609480" y="3276720"/>
            <a:ext cx="704556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0" y="762120"/>
            <a:ext cx="9144000" cy="6095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ensor Product of Mat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609480" y="1346040"/>
            <a:ext cx="1681200" cy="25416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5943600" cy="122544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3"/>
          <a:stretch/>
        </p:blipFill>
        <p:spPr>
          <a:xfrm>
            <a:off x="2971800" y="838080"/>
            <a:ext cx="2057400" cy="89388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4"/>
          <a:stretch/>
        </p:blipFill>
        <p:spPr>
          <a:xfrm>
            <a:off x="5257800" y="838080"/>
            <a:ext cx="2271600" cy="89856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5"/>
          <a:stretch/>
        </p:blipFill>
        <p:spPr>
          <a:xfrm>
            <a:off x="533520" y="3124080"/>
            <a:ext cx="5333760" cy="171000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2880" y="8380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6"/>
          <a:stretch/>
        </p:blipFill>
        <p:spPr>
          <a:xfrm>
            <a:off x="503280" y="4952880"/>
            <a:ext cx="7802640" cy="18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0" y="762120"/>
            <a:ext cx="9144000" cy="6095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ensor Product of Mat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5943600" cy="12254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2971800" y="838080"/>
            <a:ext cx="2057400" cy="89388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2880" y="8380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3"/>
          <a:stretch/>
        </p:blipFill>
        <p:spPr>
          <a:xfrm>
            <a:off x="698400" y="1346040"/>
            <a:ext cx="1498680" cy="25416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4"/>
          <a:stretch/>
        </p:blipFill>
        <p:spPr>
          <a:xfrm>
            <a:off x="5573880" y="912960"/>
            <a:ext cx="1630080" cy="74124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5"/>
          <a:stretch/>
        </p:blipFill>
        <p:spPr>
          <a:xfrm>
            <a:off x="609480" y="3121200"/>
            <a:ext cx="3633840" cy="170964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6"/>
          <a:stretch/>
        </p:blipFill>
        <p:spPr>
          <a:xfrm>
            <a:off x="609480" y="4913280"/>
            <a:ext cx="30146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0" y="762120"/>
            <a:ext cx="9144000" cy="6095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ensor Product of Mat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5943600" cy="122544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2880" y="8380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2"/>
          <a:stretch/>
        </p:blipFill>
        <p:spPr>
          <a:xfrm>
            <a:off x="2895480" y="914400"/>
            <a:ext cx="1630440" cy="74124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3"/>
          <a:stretch/>
        </p:blipFill>
        <p:spPr>
          <a:xfrm>
            <a:off x="5222880" y="836640"/>
            <a:ext cx="2127240" cy="89388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4"/>
          <a:stretch/>
        </p:blipFill>
        <p:spPr>
          <a:xfrm>
            <a:off x="654120" y="1346040"/>
            <a:ext cx="1589040" cy="25416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5"/>
          <a:stretch/>
        </p:blipFill>
        <p:spPr>
          <a:xfrm>
            <a:off x="533520" y="3124080"/>
            <a:ext cx="3665520" cy="172404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6"/>
          <a:stretch/>
        </p:blipFill>
        <p:spPr>
          <a:xfrm>
            <a:off x="609480" y="4954680"/>
            <a:ext cx="30402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0" y="762120"/>
            <a:ext cx="9144000" cy="6095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ensor Product of Mat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5943600" cy="1225440"/>
          </a:xfrm>
          <a:prstGeom prst="rect">
            <a:avLst/>
          </a:prstGeom>
          <a:ln w="0">
            <a:noFill/>
          </a:ln>
        </p:spPr>
      </p:pic>
      <p:sp>
        <p:nvSpPr>
          <p:cNvPr id="647" name=""/>
          <p:cNvSpPr/>
          <p:nvPr/>
        </p:nvSpPr>
        <p:spPr>
          <a:xfrm>
            <a:off x="2880" y="8380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2895480" y="914400"/>
            <a:ext cx="1630440" cy="74124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5222880" y="836640"/>
            <a:ext cx="2127240" cy="89388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4"/>
          <a:stretch/>
        </p:blipFill>
        <p:spPr>
          <a:xfrm>
            <a:off x="654120" y="1346040"/>
            <a:ext cx="1589040" cy="25416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5"/>
          <a:stretch/>
        </p:blipFill>
        <p:spPr>
          <a:xfrm>
            <a:off x="533520" y="3124080"/>
            <a:ext cx="3665520" cy="172404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6"/>
          <a:stretch/>
        </p:blipFill>
        <p:spPr>
          <a:xfrm>
            <a:off x="609480" y="4954680"/>
            <a:ext cx="30402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wo Qubit Quantum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186000" y="838080"/>
            <a:ext cx="2452680" cy="106200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274320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two qubit unitary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2"/>
          <a:stretch/>
        </p:blipFill>
        <p:spPr>
          <a:xfrm>
            <a:off x="6172200" y="1160640"/>
            <a:ext cx="1482840" cy="36324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231840" y="2743200"/>
            <a:ext cx="79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times the input our output is known to be seper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3"/>
          <a:stretch/>
        </p:blipFill>
        <p:spPr>
          <a:xfrm>
            <a:off x="1022400" y="3276720"/>
            <a:ext cx="2330280" cy="106200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4"/>
          <a:stretch/>
        </p:blipFill>
        <p:spPr>
          <a:xfrm>
            <a:off x="3798720" y="3581280"/>
            <a:ext cx="2525760" cy="36360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308160" y="4419720"/>
            <a:ext cx="46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times we act only one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5"/>
          <a:stretch/>
        </p:blipFill>
        <p:spPr>
          <a:xfrm>
            <a:off x="1033560" y="4876920"/>
            <a:ext cx="2319120" cy="86184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6"/>
          <a:stretch/>
        </p:blipFill>
        <p:spPr>
          <a:xfrm>
            <a:off x="1447920" y="5867280"/>
            <a:ext cx="2330280" cy="36360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7"/>
          <a:stretch/>
        </p:blipFill>
        <p:spPr>
          <a:xfrm>
            <a:off x="5072040" y="4800600"/>
            <a:ext cx="2319480" cy="873000"/>
          </a:xfrm>
          <a:prstGeom prst="rect">
            <a:avLst/>
          </a:prstGeom>
          <a:ln w="0">
            <a:noFill/>
          </a:ln>
        </p:spPr>
      </p:pic>
      <p:pic>
        <p:nvPicPr>
          <p:cNvPr id="664" name="" descr=""/>
          <p:cNvPicPr/>
          <p:nvPr/>
        </p:nvPicPr>
        <p:blipFill>
          <a:blip r:embed="rId8"/>
          <a:stretch/>
        </p:blipFill>
        <p:spPr>
          <a:xfrm>
            <a:off x="5518080" y="5791320"/>
            <a:ext cx="2330640" cy="36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ome Two Qubit G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1076040" cy="62100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/>
          <p:nvPr/>
        </p:nvSpPr>
        <p:spPr>
          <a:xfrm>
            <a:off x="3203640" y="137160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olled-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2"/>
          <a:stretch/>
        </p:blipFill>
        <p:spPr>
          <a:xfrm>
            <a:off x="5638680" y="1066680"/>
            <a:ext cx="1752840" cy="106380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764640" y="1066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90200" y="1600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3"/>
          <a:stretch/>
        </p:blipFill>
        <p:spPr>
          <a:xfrm>
            <a:off x="3773520" y="2436840"/>
            <a:ext cx="1407960" cy="27792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4"/>
          <a:stretch/>
        </p:blipFill>
        <p:spPr>
          <a:xfrm>
            <a:off x="3768840" y="2971800"/>
            <a:ext cx="1407960" cy="27792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5"/>
          <a:stretch/>
        </p:blipFill>
        <p:spPr>
          <a:xfrm>
            <a:off x="3768840" y="4065480"/>
            <a:ext cx="1407960" cy="27792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6"/>
          <a:stretch/>
        </p:blipFill>
        <p:spPr>
          <a:xfrm>
            <a:off x="3768840" y="3505320"/>
            <a:ext cx="1407960" cy="27756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793800" y="4648320"/>
            <a:ext cx="75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ditional on the first bit, the gate flips the second b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304920" y="76320"/>
            <a:ext cx="853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mputational Basis and Unit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635800" cy="145404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/>
          <p:cNvPicPr/>
          <p:nvPr/>
        </p:nvPicPr>
        <p:blipFill>
          <a:blip r:embed="rId2"/>
          <a:stretch/>
        </p:blipFill>
        <p:spPr>
          <a:xfrm>
            <a:off x="228600" y="4114800"/>
            <a:ext cx="8805960" cy="1539720"/>
          </a:xfrm>
          <a:prstGeom prst="rect">
            <a:avLst/>
          </a:prstGeom>
          <a:ln w="0">
            <a:noFill/>
          </a:ln>
        </p:spPr>
      </p:pic>
      <p:pic>
        <p:nvPicPr>
          <p:cNvPr id="679" name="" descr=""/>
          <p:cNvPicPr/>
          <p:nvPr/>
        </p:nvPicPr>
        <p:blipFill>
          <a:blip r:embed="rId3"/>
          <a:stretch/>
        </p:blipFill>
        <p:spPr>
          <a:xfrm>
            <a:off x="6575400" y="1538280"/>
            <a:ext cx="1844640" cy="1506600"/>
          </a:xfrm>
          <a:prstGeom prst="rect">
            <a:avLst/>
          </a:prstGeom>
          <a:ln w="0">
            <a:noFill/>
          </a:ln>
        </p:spPr>
      </p:pic>
      <p:pic>
        <p:nvPicPr>
          <p:cNvPr id="680" name="" descr=""/>
          <p:cNvPicPr/>
          <p:nvPr/>
        </p:nvPicPr>
        <p:blipFill>
          <a:blip r:embed="rId4"/>
          <a:stretch/>
        </p:blipFill>
        <p:spPr>
          <a:xfrm>
            <a:off x="380880" y="3446640"/>
            <a:ext cx="7315200" cy="36324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>
            <a:off x="99000" y="5883120"/>
            <a:ext cx="90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ice that by examining the unitary evolution of all comput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sis states, we can explicitly determine what the unitary matr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Line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3186000" y="990720"/>
            <a:ext cx="2452680" cy="106200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2"/>
          <a:stretch/>
        </p:blipFill>
        <p:spPr>
          <a:xfrm>
            <a:off x="1143000" y="2438280"/>
            <a:ext cx="6716880" cy="33516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3"/>
          <a:stretch/>
        </p:blipFill>
        <p:spPr>
          <a:xfrm>
            <a:off x="257040" y="3200400"/>
            <a:ext cx="8582040" cy="38592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158040" y="3809880"/>
            <a:ext cx="86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can act on each computational basis state and then res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37600" y="4495680"/>
            <a:ext cx="55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simplifies calculations considera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549600" y="0"/>
            <a:ext cx="185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1960" y="68580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b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66680" y="2565360"/>
            <a:ext cx="2052720" cy="406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2052720" cy="406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143000" y="1143000"/>
            <a:ext cx="4141800" cy="814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07800" y="205740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suring a qub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3657600"/>
            <a:ext cx="38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ary evolution of a qub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066680" y="4267080"/>
            <a:ext cx="2652840" cy="785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990720" y="5334120"/>
            <a:ext cx="731988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Line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231480" y="12952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3149640" cy="174312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>
            <a:off x="496800" y="3962520"/>
            <a:ext cx="5065920" cy="74916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3"/>
          <a:stretch/>
        </p:blipFill>
        <p:spPr>
          <a:xfrm>
            <a:off x="4775040" y="2368440"/>
            <a:ext cx="3302280" cy="74952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4"/>
          <a:stretch/>
        </p:blipFill>
        <p:spPr>
          <a:xfrm>
            <a:off x="2146320" y="4862520"/>
            <a:ext cx="5435640" cy="84600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5"/>
          <a:stretch/>
        </p:blipFill>
        <p:spPr>
          <a:xfrm>
            <a:off x="2141640" y="5877000"/>
            <a:ext cx="510048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Line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31480" y="12952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3149640" cy="174312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4775040" y="2362320"/>
            <a:ext cx="3302280" cy="74916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492120" y="3956040"/>
            <a:ext cx="5065560" cy="74916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4"/>
          <a:stretch/>
        </p:blipFill>
        <p:spPr>
          <a:xfrm>
            <a:off x="1066680" y="4865760"/>
            <a:ext cx="7871040" cy="84600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5"/>
          <a:stretch/>
        </p:blipFill>
        <p:spPr>
          <a:xfrm>
            <a:off x="1066680" y="5861160"/>
            <a:ext cx="444348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ome Two Qubit G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1076040" cy="62100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3203640" y="137160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olled-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2"/>
          <a:stretch/>
        </p:blipFill>
        <p:spPr>
          <a:xfrm>
            <a:off x="5638680" y="1066680"/>
            <a:ext cx="1752840" cy="1063800"/>
          </a:xfrm>
          <a:prstGeom prst="rect">
            <a:avLst/>
          </a:prstGeom>
          <a:ln w="0">
            <a:noFill/>
          </a:ln>
        </p:spPr>
      </p:pic>
      <p:sp>
        <p:nvSpPr>
          <p:cNvPr id="708" name=""/>
          <p:cNvSpPr/>
          <p:nvPr/>
        </p:nvSpPr>
        <p:spPr>
          <a:xfrm>
            <a:off x="764640" y="1066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90200" y="1600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3"/>
          <a:stretch/>
        </p:blipFill>
        <p:spPr>
          <a:xfrm>
            <a:off x="1900080" y="2755800"/>
            <a:ext cx="1219320" cy="72864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840600" y="2514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866520" y="30481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280680" y="281952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olled-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4"/>
          <a:stretch/>
        </p:blipFill>
        <p:spPr>
          <a:xfrm>
            <a:off x="5181480" y="2514600"/>
            <a:ext cx="2286000" cy="106380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3222720" y="41893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olled-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5"/>
          <a:stretch/>
        </p:blipFill>
        <p:spPr>
          <a:xfrm>
            <a:off x="5673600" y="3886200"/>
            <a:ext cx="1946520" cy="106380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/>
          <p:cNvPicPr/>
          <p:nvPr/>
        </p:nvPicPr>
        <p:blipFill>
          <a:blip r:embed="rId6"/>
          <a:stretch/>
        </p:blipFill>
        <p:spPr>
          <a:xfrm>
            <a:off x="1981080" y="4151160"/>
            <a:ext cx="955800" cy="525600"/>
          </a:xfrm>
          <a:prstGeom prst="rect">
            <a:avLst/>
          </a:prstGeom>
          <a:ln w="0">
            <a:noFill/>
          </a:ln>
        </p:spPr>
      </p:pic>
      <p:pic>
        <p:nvPicPr>
          <p:cNvPr id="718" name="" descr=""/>
          <p:cNvPicPr/>
          <p:nvPr/>
        </p:nvPicPr>
        <p:blipFill>
          <a:blip r:embed="rId7"/>
          <a:stretch/>
        </p:blipFill>
        <p:spPr>
          <a:xfrm>
            <a:off x="1992240" y="5295960"/>
            <a:ext cx="836640" cy="43164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3203280" y="525780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8"/>
          <a:stretch/>
        </p:blipFill>
        <p:spPr>
          <a:xfrm>
            <a:off x="4267080" y="5032440"/>
            <a:ext cx="1752840" cy="10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0" y="2209680"/>
            <a:ext cx="9144000" cy="4648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138400" y="0"/>
            <a:ext cx="487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451880" y="114300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olled-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" descr=""/>
          <p:cNvPicPr/>
          <p:nvPr/>
        </p:nvPicPr>
        <p:blipFill>
          <a:blip r:embed="rId1"/>
          <a:stretch/>
        </p:blipFill>
        <p:spPr>
          <a:xfrm>
            <a:off x="3581280" y="1066680"/>
            <a:ext cx="1241640" cy="728640"/>
          </a:xfrm>
          <a:prstGeom prst="rect">
            <a:avLst/>
          </a:prstGeom>
          <a:ln w="0">
            <a:noFill/>
          </a:ln>
        </p:spPr>
      </p:pic>
      <p:pic>
        <p:nvPicPr>
          <p:cNvPr id="725" name="" descr=""/>
          <p:cNvPicPr/>
          <p:nvPr/>
        </p:nvPicPr>
        <p:blipFill>
          <a:blip r:embed="rId2"/>
          <a:stretch/>
        </p:blipFill>
        <p:spPr>
          <a:xfrm>
            <a:off x="5029200" y="762120"/>
            <a:ext cx="2286000" cy="130176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3"/>
          <a:stretch/>
        </p:blipFill>
        <p:spPr>
          <a:xfrm>
            <a:off x="2567160" y="2514600"/>
            <a:ext cx="1684080" cy="78912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4"/>
          <a:stretch/>
        </p:blipFill>
        <p:spPr>
          <a:xfrm>
            <a:off x="304920" y="2438280"/>
            <a:ext cx="1969920" cy="106380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5"/>
          <a:stretch/>
        </p:blipFill>
        <p:spPr>
          <a:xfrm>
            <a:off x="4861080" y="3657600"/>
            <a:ext cx="3292200" cy="130176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6"/>
          <a:stretch/>
        </p:blipFill>
        <p:spPr>
          <a:xfrm>
            <a:off x="4464000" y="2286000"/>
            <a:ext cx="3292560" cy="130176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7"/>
          <a:stretch/>
        </p:blipFill>
        <p:spPr>
          <a:xfrm>
            <a:off x="1084320" y="5257800"/>
            <a:ext cx="2628720" cy="113364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/>
          <p:nvPr/>
        </p:nvSpPr>
        <p:spPr>
          <a:xfrm>
            <a:off x="3868560" y="510552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of 1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8"/>
          <a:stretch/>
        </p:blipFill>
        <p:spPr>
          <a:xfrm>
            <a:off x="6380280" y="5029200"/>
            <a:ext cx="1108080" cy="65556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3868560" y="586728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of 1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9"/>
          <a:stretch/>
        </p:blipFill>
        <p:spPr>
          <a:xfrm>
            <a:off x="6380280" y="5745240"/>
            <a:ext cx="1108080" cy="65556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/>
          <p:nvPr/>
        </p:nvSpPr>
        <p:spPr>
          <a:xfrm>
            <a:off x="3892320" y="6400800"/>
            <a:ext cx="35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of 00 and 01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0"/>
          <a:stretch/>
        </p:blipFill>
        <p:spPr>
          <a:xfrm>
            <a:off x="7370640" y="6489720"/>
            <a:ext cx="85896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 Class Problem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804320" y="0"/>
            <a:ext cx="558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Goal of This L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6440" y="1600200"/>
            <a:ext cx="6819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ish off single qubits.  Discuss change of ba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qubits.  Tensor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utsch’s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8240" y="419112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 the end of this lecture you will be ready to emb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 studying quantum protocols….like quantum telepor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546720" y="0"/>
            <a:ext cx="201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as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91440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48120" y="2133720"/>
            <a:ext cx="25905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13372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267080" y="15238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62520" y="1447920"/>
            <a:ext cx="155520" cy="263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724280" y="2286000"/>
            <a:ext cx="169920" cy="3459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 flipV="1">
            <a:off x="4267080" y="1066680"/>
            <a:ext cx="1752840" cy="10670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181480" y="685800"/>
            <a:ext cx="1762200" cy="344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01880" y="2666880"/>
            <a:ext cx="37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ther coordinate syste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91120" y="3276720"/>
            <a:ext cx="0" cy="1676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971440" y="449568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733920" y="4038480"/>
            <a:ext cx="4572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191120" y="3428640"/>
            <a:ext cx="1752480" cy="10666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105520" y="3048120"/>
            <a:ext cx="1761840" cy="344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 flipV="1">
            <a:off x="4191120" y="4038480"/>
            <a:ext cx="4572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5227560" y="4038480"/>
            <a:ext cx="2392560" cy="722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066680" y="3657600"/>
            <a:ext cx="2328840" cy="722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473040" y="4952880"/>
            <a:ext cx="8442360" cy="830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76720" y="3517920"/>
            <a:ext cx="609480" cy="596880"/>
          </a:xfrm>
          <a:custGeom>
            <a:avLst/>
            <a:gdLst/>
            <a:ahLst/>
            <a:rect l="l" t="t" r="r" b="b"/>
            <a:pathLst>
              <a:path w="384" h="376">
                <a:moveTo>
                  <a:pt x="0" y="136"/>
                </a:moveTo>
                <a:cubicBezTo>
                  <a:pt x="88" y="68"/>
                  <a:pt x="176" y="0"/>
                  <a:pt x="240" y="40"/>
                </a:cubicBezTo>
                <a:cubicBezTo>
                  <a:pt x="304" y="80"/>
                  <a:pt x="344" y="228"/>
                  <a:pt x="384" y="37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4191120"/>
            <a:ext cx="990720" cy="7596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240" y="240"/>
                </a:moveTo>
                <a:cubicBezTo>
                  <a:pt x="236" y="164"/>
                  <a:pt x="232" y="88"/>
                  <a:pt x="192" y="48"/>
                </a:cubicBezTo>
                <a:cubicBezTo>
                  <a:pt x="152" y="8"/>
                  <a:pt x="76" y="4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2833560" y="5943600"/>
            <a:ext cx="379584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06560" y="0"/>
            <a:ext cx="52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esolving a V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236232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419720" y="2514600"/>
            <a:ext cx="169920" cy="235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209680" y="2133720"/>
            <a:ext cx="978120" cy="330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V="1">
            <a:off x="4419720" y="1371600"/>
            <a:ext cx="1752480" cy="9907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638680" y="1219320"/>
            <a:ext cx="189000" cy="234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flipH="1">
            <a:off x="5409720" y="1371600"/>
            <a:ext cx="76212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419360" y="236232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525800">
            <a:off x="5243040" y="2562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16280" y="167652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 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7828400">
            <a:off x="4282920" y="2459160"/>
            <a:ext cx="822240" cy="1066680"/>
          </a:xfrm>
          <a:custGeom>
            <a:avLst/>
            <a:gdLst>
              <a:gd name="textAreaLeft" fmla="*/ 525240 w 822240"/>
              <a:gd name="textAreaRight" fmla="*/ 822600 w 8222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191120" y="3505320"/>
            <a:ext cx="598320" cy="234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03120" y="685800"/>
            <a:ext cx="725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the dot product to get the component of a 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ong a dir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37339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two orthogonal unit vectors in 2D to write in new ba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05320" y="547992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3564000" y="5632560"/>
            <a:ext cx="169920" cy="234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3505320" y="4489200"/>
            <a:ext cx="1752480" cy="990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4648320" y="4413240"/>
            <a:ext cx="188640" cy="235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H="1">
            <a:off x="4495320" y="4489560"/>
            <a:ext cx="76212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3504960" y="547992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525800">
            <a:off x="4328640" y="56800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7828400">
            <a:off x="3368520" y="5577120"/>
            <a:ext cx="822240" cy="1066680"/>
          </a:xfrm>
          <a:custGeom>
            <a:avLst/>
            <a:gdLst>
              <a:gd name="textAreaLeft" fmla="*/ 525240 w 822240"/>
              <a:gd name="textAreaRight" fmla="*/ 822600 w 8222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3276720" y="6553080"/>
            <a:ext cx="598320" cy="235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 flipV="1">
            <a:off x="3505320" y="5029200"/>
            <a:ext cx="2286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8"/>
          <a:stretch/>
        </p:blipFill>
        <p:spPr>
          <a:xfrm>
            <a:off x="838080" y="5232240"/>
            <a:ext cx="978120" cy="330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58280" y="4343400"/>
            <a:ext cx="182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thog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 vec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9"/>
          <a:stretch/>
        </p:blipFill>
        <p:spPr>
          <a:xfrm>
            <a:off x="839880" y="5638680"/>
            <a:ext cx="963360" cy="330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0"/>
          <a:stretch/>
        </p:blipFill>
        <p:spPr>
          <a:xfrm>
            <a:off x="596880" y="6095880"/>
            <a:ext cx="1231920" cy="250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rot="12397800">
            <a:off x="4843440" y="4598280"/>
            <a:ext cx="822240" cy="1600200"/>
          </a:xfrm>
          <a:custGeom>
            <a:avLst/>
            <a:gdLst>
              <a:gd name="textAreaLeft" fmla="*/ 525240 w 822240"/>
              <a:gd name="textAreaRight" fmla="*/ 822600 w 8222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1"/>
          <a:stretch/>
        </p:blipFill>
        <p:spPr>
          <a:xfrm>
            <a:off x="5486400" y="5635800"/>
            <a:ext cx="584280" cy="234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2"/>
          <a:stretch/>
        </p:blipFill>
        <p:spPr>
          <a:xfrm>
            <a:off x="3425760" y="4950000"/>
            <a:ext cx="155520" cy="234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3"/>
          <a:stretch/>
        </p:blipFill>
        <p:spPr>
          <a:xfrm>
            <a:off x="5105520" y="6257880"/>
            <a:ext cx="316224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64280" y="0"/>
            <a:ext cx="742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xpressing In a New  B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91440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048120" y="2133720"/>
            <a:ext cx="25905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213372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267080" y="15238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962520" y="1447920"/>
            <a:ext cx="155520" cy="263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724280" y="2209680"/>
            <a:ext cx="169920" cy="3463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V="1">
            <a:off x="4267080" y="1066680"/>
            <a:ext cx="1752840" cy="10670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181480" y="685800"/>
            <a:ext cx="1762200" cy="3445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01880" y="2666880"/>
            <a:ext cx="37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ther coordinate syste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3276720"/>
            <a:ext cx="0" cy="1676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971440" y="449568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733920" y="4038480"/>
            <a:ext cx="4572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191120" y="3428640"/>
            <a:ext cx="1752480" cy="10666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5105520" y="3048120"/>
            <a:ext cx="1761840" cy="3445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V="1">
            <a:off x="4191120" y="4038480"/>
            <a:ext cx="4572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5227560" y="4038480"/>
            <a:ext cx="2392560" cy="722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1066680" y="3657600"/>
            <a:ext cx="2328840" cy="7221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276720" y="3517920"/>
            <a:ext cx="609480" cy="596880"/>
          </a:xfrm>
          <a:custGeom>
            <a:avLst/>
            <a:gdLst/>
            <a:ahLst/>
            <a:rect l="l" t="t" r="r" b="b"/>
            <a:pathLst>
              <a:path w="384" h="376">
                <a:moveTo>
                  <a:pt x="0" y="136"/>
                </a:moveTo>
                <a:cubicBezTo>
                  <a:pt x="88" y="68"/>
                  <a:pt x="176" y="0"/>
                  <a:pt x="240" y="40"/>
                </a:cubicBezTo>
                <a:cubicBezTo>
                  <a:pt x="304" y="80"/>
                  <a:pt x="344" y="228"/>
                  <a:pt x="384" y="37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95680" y="4191120"/>
            <a:ext cx="990720" cy="7596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240" y="240"/>
                </a:moveTo>
                <a:cubicBezTo>
                  <a:pt x="236" y="164"/>
                  <a:pt x="232" y="88"/>
                  <a:pt x="192" y="48"/>
                </a:cubicBezTo>
                <a:cubicBezTo>
                  <a:pt x="152" y="8"/>
                  <a:pt x="76" y="4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380880" y="5068800"/>
            <a:ext cx="4535640" cy="7225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414360" y="5830920"/>
            <a:ext cx="4456080" cy="7221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5715000" y="5410080"/>
            <a:ext cx="2457360" cy="7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23:31:03Z</dcterms:created>
  <dc:creator>Dave Bacon</dc:creator>
  <dc:description/>
  <dc:language>en-US</dc:language>
  <cp:lastModifiedBy>Dave Bacon</cp:lastModifiedBy>
  <dcterms:modified xsi:type="dcterms:W3CDTF">2005-07-08T00:23:51Z</dcterms:modified>
  <cp:revision>65</cp:revision>
  <dc:subject/>
  <dc:title>Slide 1</dc:title>
</cp:coreProperties>
</file>