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png" ContentType="image/png"/>
  <Override PartName="/ppt/media/image92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93.png" ContentType="image/png"/>
  <Override PartName="/ppt/media/image25.png" ContentType="image/png"/>
  <Override PartName="/ppt/media/image82.png" ContentType="image/png"/>
  <Override PartName="/ppt/media/image14.png" ContentType="image/png"/>
  <Override PartName="/ppt/media/image17.png" ContentType="image/png"/>
  <Override PartName="/ppt/media/image85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47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26.png" ContentType="image/png"/>
  <Override PartName="/ppt/media/image94.png" ContentType="image/png"/>
  <Override PartName="/ppt/media/image80.png" ContentType="image/png"/>
  <Override PartName="/ppt/media/image12.png" ContentType="image/png"/>
  <Override PartName="/ppt/media/image15.png" ContentType="image/png"/>
  <Override PartName="/ppt/media/image83.png" ContentType="image/png"/>
  <Override PartName="/ppt/media/image3.png" ContentType="image/png"/>
  <Override PartName="/ppt/media/image155.png" ContentType="image/png"/>
  <Override PartName="/ppt/media/image33.png" ContentType="image/png"/>
  <Override PartName="/ppt/media/image81.png" ContentType="image/png"/>
  <Override PartName="/ppt/media/image13.png" ContentType="image/png"/>
  <Override PartName="/ppt/media/image16.png" ContentType="image/png"/>
  <Override PartName="/ppt/media/image84.png" ContentType="image/png"/>
  <Override PartName="/ppt/media/image4.png" ContentType="image/png"/>
  <Override PartName="/ppt/media/image156.png" ContentType="image/png"/>
  <Override PartName="/ppt/media/image34.png" ContentType="image/png"/>
  <Override PartName="/ppt/media/image18.png" ContentType="image/png"/>
  <Override PartName="/ppt/media/image86.png" ContentType="image/png"/>
  <Override PartName="/ppt/media/image6.png" ContentType="image/png"/>
  <Override PartName="/ppt/media/image158.png" ContentType="image/png"/>
  <Override PartName="/ppt/media/image167.png" ContentType="image/png"/>
  <Override PartName="/ppt/media/image168.png" ContentType="image/png"/>
  <Override PartName="/ppt/media/image169.png" ContentType="image/png"/>
  <Override PartName="/ppt/media/image178.png" ContentType="image/png"/>
  <Override PartName="/ppt/media/image179.png" ContentType="image/png"/>
  <Override PartName="/ppt/media/image203.png" ContentType="image/png"/>
  <Override PartName="/ppt/media/image188.png" ContentType="image/png"/>
  <Override PartName="/ppt/media/image204.png" ContentType="image/png"/>
  <Override PartName="/ppt/media/image48.png" ContentType="image/png"/>
  <Override PartName="/ppt/media/image189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206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2.png" ContentType="image/png"/>
  <Override PartName="/ppt/media/image56.png" ContentType="image/png"/>
  <Override PartName="/ppt/media/image213.png" ContentType="image/png"/>
  <Override PartName="/ppt/media/image198.png" ContentType="image/png"/>
  <Override PartName="/ppt/media/image36.png" ContentType="image/png"/>
  <Override PartName="/ppt/media/image214.png" ContentType="image/png"/>
  <Override PartName="/ppt/media/image199.png" ContentType="image/png"/>
  <Override PartName="/ppt/media/image37.png" ContentType="image/png"/>
  <Override PartName="/ppt/media/image215.png" ContentType="image/png"/>
  <Override PartName="/ppt/media/image216.png" ContentType="image/png"/>
  <Override PartName="/ppt/media/image217.png" ContentType="image/png"/>
  <Override PartName="/ppt/media/image218.png" ContentType="image/png"/>
  <Override PartName="/ppt/media/image166.png" ContentType="image/png"/>
  <Override PartName="/ppt/media/image219.png" ContentType="image/png"/>
  <Override PartName="/ppt/media/image200.png" ContentType="image/png"/>
  <Override PartName="/ppt/media/image44.png" ContentType="image/png"/>
  <Override PartName="/ppt/media/image237.png" ContentType="image/png"/>
  <Override PartName="/ppt/media/image132.png" ContentType="image/png"/>
  <Override PartName="/ppt/media/image201.png" ContentType="image/png"/>
  <Override PartName="/ppt/media/image45.png" ContentType="image/png"/>
  <Override PartName="/ppt/media/image238.png" ContentType="image/png"/>
  <Override PartName="/ppt/media/image133.png" ContentType="image/png"/>
  <Override PartName="/ppt/media/image240.png" ContentType="image/png"/>
  <Override PartName="/ppt/media/image202.png" ContentType="image/png"/>
  <Override PartName="/ppt/media/image46.png" ContentType="image/png"/>
  <Override PartName="/ppt/media/image239.png" ContentType="image/png"/>
  <Override PartName="/ppt/media/image134.png" ContentType="image/png"/>
  <Override PartName="/ppt/media/image241.png" ContentType="image/png"/>
  <Override PartName="/ppt/media/image242.png" ContentType="image/png"/>
  <Override PartName="/ppt/media/image243.png" ContentType="image/png"/>
  <Override PartName="/ppt/media/image244.png" ContentType="image/png"/>
  <Override PartName="/ppt/media/image245.png" ContentType="image/png"/>
  <Override PartName="/ppt/media/image140.png" ContentType="image/png"/>
  <Override PartName="/ppt/media/image246.png" ContentType="image/png"/>
  <Override PartName="/ppt/media/image141.png" ContentType="image/png"/>
  <Override PartName="/ppt/media/image210.png" ContentType="image/png"/>
  <Override PartName="/ppt/media/image54.png" ContentType="image/png"/>
  <Override PartName="/ppt/media/image247.png" ContentType="image/png"/>
  <Override PartName="/ppt/media/image142.png" ContentType="image/png"/>
  <Override PartName="/ppt/media/image236.png" ContentType="image/png"/>
  <Override PartName="/ppt/media/image131.png" ContentType="image/png"/>
  <Override PartName="/ppt/media/image211.png" ContentType="image/png"/>
  <Override PartName="/ppt/media/image55.png" ContentType="image/png"/>
  <Override PartName="/ppt/media/image248.png" ContentType="image/png"/>
  <Override PartName="/ppt/media/image143.png" ContentType="image/png"/>
  <Override PartName="/ppt/media/image235.png" ContentType="image/png"/>
  <Override PartName="/ppt/media/image130.png" ContentType="image/png"/>
  <Override PartName="/ppt/media/image234.png" ContentType="image/png"/>
  <Override PartName="/ppt/media/image233.png" ContentType="image/png"/>
  <Override PartName="/ppt/media/image232.png" ContentType="image/png"/>
  <Override PartName="/ppt/media/image231.png" ContentType="image/png"/>
  <Override PartName="/ppt/media/image229.png" ContentType="image/png"/>
  <Override PartName="/ppt/media/image230.png" ContentType="image/png"/>
  <Override PartName="/ppt/media/image228.png" ContentType="image/png"/>
  <Override PartName="/ppt/media/image227.png" ContentType="image/png"/>
  <Override PartName="/ppt/media/image226.png" ContentType="image/png"/>
  <Override PartName="/ppt/media/image225.png" ContentType="image/png"/>
  <Override PartName="/ppt/media/image224.png" ContentType="image/png"/>
  <Override PartName="/ppt/media/image223.png" ContentType="image/png"/>
  <Override PartName="/ppt/media/image222.png" ContentType="image/png"/>
  <Override PartName="/ppt/media/image221.png" ContentType="image/png"/>
  <Override PartName="/ppt/media/image220.png" ContentType="image/png"/>
  <Override PartName="/ppt/media/image165.png" ContentType="image/png"/>
  <Override PartName="/ppt/media/image164.png" ContentType="image/png"/>
  <Override PartName="/ppt/media/image163.png" ContentType="image/png"/>
  <Override PartName="/ppt/media/image162.png" ContentType="image/png"/>
  <Override PartName="/ppt/media/image161.png" ContentType="image/png"/>
  <Override PartName="/ppt/media/image160.png" ContentType="image/png"/>
  <Override PartName="/ppt/media/image153.png" ContentType="image/png"/>
  <Override PartName="/ppt/media/image152.png" ContentType="image/png"/>
  <Override PartName="/ppt/media/image151.png" ContentType="image/png"/>
  <Override PartName="/ppt/media/image150.png" ContentType="image/png"/>
  <Override PartName="/ppt/media/image149.png" ContentType="image/png"/>
  <Override PartName="/ppt/media/image52.png" ContentType="image/png"/>
  <Override PartName="/ppt/media/image148.png" ContentType="image/png"/>
  <Override PartName="/ppt/media/image51.png" ContentType="image/pn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39.png" ContentType="image/png"/>
  <Override PartName="/ppt/media/image42.png" ContentType="image/png"/>
  <Override PartName="/ppt/media/image138.png" ContentType="image/png"/>
  <Override PartName="/ppt/media/image41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197.png" ContentType="image/png"/>
  <Override PartName="/ppt/media/image129.png" ContentType="image/png"/>
  <Override PartName="/ppt/media/image196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3.png" ContentType="image/png"/>
  <Override PartName="/ppt/media/image43.png" ContentType="image/png"/>
  <Override PartName="/ppt/media/image195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9.png" ContentType="image/png"/>
  <Override PartName="/ppt/media/image38.png" ContentType="image/png"/>
  <Override PartName="/ppt/media/image177.png" ContentType="image/png"/>
  <Override PartName="/ppt/media/image109.png" ContentType="image/png"/>
  <Override PartName="/ppt/media/image7.png" ContentType="image/png"/>
  <Override PartName="/ppt/media/image159.png" ContentType="image/png"/>
  <Override PartName="/ppt/media/image11.png" ContentType="image/png"/>
  <Override PartName="/ppt/media/image108.png" ContentType="image/png"/>
  <Override PartName="/ppt/media/image17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309-0BC9-4F09-9E0F-BADEDAF3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B1E-6ED5-4A17-80C0-4D461BE5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C46-C4A5-4429-8CF9-2A4D800D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DB9-4C75-4B6E-89EA-074B2C7F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C33-C8FC-4B15-AD95-899AEF8B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90C-153A-4754-BDEA-36D38FD3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BC0-6894-4DC2-870A-40360F3A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458-B621-469E-8162-E65C0E1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BB5-B47F-42E0-8C42-510BC2DE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316-8B25-4505-8E3D-DD063AF8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DC4-44BF-4C9C-9BD8-F9362B0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675-9B8D-4ECD-AE1A-2BC1021C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702A-1C39-42D0-92EA-06D22146C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4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2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9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png"/><Relationship Id="rId3" Type="http://schemas.openxmlformats.org/officeDocument/2006/relationships/image" Target="../media/image42.png"/><Relationship Id="rId4" Type="http://schemas.openxmlformats.org/officeDocument/2006/relationships/image" Target="../media/image47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2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0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image" Target="../media/image10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04.png"/><Relationship Id="rId3" Type="http://schemas.openxmlformats.org/officeDocument/2006/relationships/image" Target="../media/image69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04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04.png"/><Relationship Id="rId7" Type="http://schemas.openxmlformats.org/officeDocument/2006/relationships/image" Target="../media/image113.png"/><Relationship Id="rId8" Type="http://schemas.openxmlformats.org/officeDocument/2006/relationships/image" Target="../media/image111.png"/><Relationship Id="rId9" Type="http://schemas.openxmlformats.org/officeDocument/2006/relationships/image" Target="../media/image114.png"/><Relationship Id="rId10" Type="http://schemas.openxmlformats.org/officeDocument/2006/relationships/image" Target="../media/image115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09.png"/><Relationship Id="rId3" Type="http://schemas.openxmlformats.org/officeDocument/2006/relationships/image" Target="../media/image121.png"/><Relationship Id="rId4" Type="http://schemas.openxmlformats.org/officeDocument/2006/relationships/image" Target="../media/image12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3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33.png"/><Relationship Id="rId3" Type="http://schemas.openxmlformats.org/officeDocument/2006/relationships/image" Target="../media/image93.png"/><Relationship Id="rId4" Type="http://schemas.openxmlformats.org/officeDocument/2006/relationships/image" Target="../media/image134.png"/><Relationship Id="rId5" Type="http://schemas.openxmlformats.org/officeDocument/2006/relationships/image" Target="../media/image123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image" Target="../media/image137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39.png"/><Relationship Id="rId3" Type="http://schemas.openxmlformats.org/officeDocument/2006/relationships/image" Target="../media/image135.png"/><Relationship Id="rId4" Type="http://schemas.openxmlformats.org/officeDocument/2006/relationships/image" Target="../media/image140.png"/><Relationship Id="rId5" Type="http://schemas.openxmlformats.org/officeDocument/2006/relationships/image" Target="../media/image141.png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93.png"/><Relationship Id="rId4" Type="http://schemas.openxmlformats.org/officeDocument/2006/relationships/image" Target="../media/image14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png"/><Relationship Id="rId5" Type="http://schemas.openxmlformats.org/officeDocument/2006/relationships/image" Target="../media/image150.png"/><Relationship Id="rId6" Type="http://schemas.openxmlformats.org/officeDocument/2006/relationships/image" Target="../media/image151.png"/><Relationship Id="rId7" Type="http://schemas.openxmlformats.org/officeDocument/2006/relationships/image" Target="../media/image152.png"/><Relationship Id="rId8" Type="http://schemas.openxmlformats.org/officeDocument/2006/relationships/image" Target="../media/image153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image" Target="../media/image160.png"/><Relationship Id="rId5" Type="http://schemas.openxmlformats.org/officeDocument/2006/relationships/image" Target="../media/image16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image" Target="../media/image149.png"/><Relationship Id="rId5" Type="http://schemas.openxmlformats.org/officeDocument/2006/relationships/image" Target="../media/image16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63.png"/><Relationship Id="rId5" Type="http://schemas.openxmlformats.org/officeDocument/2006/relationships/image" Target="../media/image160.png"/><Relationship Id="rId6" Type="http://schemas.openxmlformats.org/officeDocument/2006/relationships/image" Target="../media/image161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49.png"/><Relationship Id="rId3" Type="http://schemas.openxmlformats.org/officeDocument/2006/relationships/image" Target="../media/image150.png"/><Relationship Id="rId4" Type="http://schemas.openxmlformats.org/officeDocument/2006/relationships/image" Target="../media/image164.png"/><Relationship Id="rId5" Type="http://schemas.openxmlformats.org/officeDocument/2006/relationships/image" Target="../media/image165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image" Target="../media/image167.png"/><Relationship Id="rId3" Type="http://schemas.openxmlformats.org/officeDocument/2006/relationships/image" Target="../media/image168.png"/><Relationship Id="rId4" Type="http://schemas.openxmlformats.org/officeDocument/2006/relationships/image" Target="../media/image167.png"/><Relationship Id="rId5" Type="http://schemas.openxmlformats.org/officeDocument/2006/relationships/image" Target="../media/image154.png"/><Relationship Id="rId6" Type="http://schemas.openxmlformats.org/officeDocument/2006/relationships/image" Target="../media/image155.png"/><Relationship Id="rId7" Type="http://schemas.openxmlformats.org/officeDocument/2006/relationships/image" Target="../media/image149.png"/><Relationship Id="rId8" Type="http://schemas.openxmlformats.org/officeDocument/2006/relationships/image" Target="../media/image162.png"/><Relationship Id="rId9" Type="http://schemas.openxmlformats.org/officeDocument/2006/relationships/image" Target="../media/image93.png"/><Relationship Id="rId10" Type="http://schemas.openxmlformats.org/officeDocument/2006/relationships/image" Target="../media/image169.png"/><Relationship Id="rId11" Type="http://schemas.openxmlformats.org/officeDocument/2006/relationships/image" Target="../media/image170.png"/><Relationship Id="rId12" Type="http://schemas.openxmlformats.org/officeDocument/2006/relationships/image" Target="../media/image17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image" Target="../media/image176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7.png"/><Relationship Id="rId3" Type="http://schemas.openxmlformats.org/officeDocument/2006/relationships/image" Target="../media/image178.png"/><Relationship Id="rId4" Type="http://schemas.openxmlformats.org/officeDocument/2006/relationships/image" Target="../media/image179.png"/><Relationship Id="rId5" Type="http://schemas.openxmlformats.org/officeDocument/2006/relationships/image" Target="../media/image180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81.png"/><Relationship Id="rId3" Type="http://schemas.openxmlformats.org/officeDocument/2006/relationships/image" Target="../media/image178.png"/><Relationship Id="rId4" Type="http://schemas.openxmlformats.org/officeDocument/2006/relationships/image" Target="../media/image182.png"/><Relationship Id="rId5" Type="http://schemas.openxmlformats.org/officeDocument/2006/relationships/image" Target="../media/image183.png"/><Relationship Id="rId6" Type="http://schemas.openxmlformats.org/officeDocument/2006/relationships/image" Target="../media/image184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81.png"/><Relationship Id="rId3" Type="http://schemas.openxmlformats.org/officeDocument/2006/relationships/image" Target="../media/image185.png"/><Relationship Id="rId4" Type="http://schemas.openxmlformats.org/officeDocument/2006/relationships/image" Target="../media/image186.png"/><Relationship Id="rId5" Type="http://schemas.openxmlformats.org/officeDocument/2006/relationships/image" Target="../media/image187.png"/><Relationship Id="rId6" Type="http://schemas.openxmlformats.org/officeDocument/2006/relationships/image" Target="../media/image188.png"/><Relationship Id="rId7" Type="http://schemas.openxmlformats.org/officeDocument/2006/relationships/image" Target="../media/image189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image" Target="../media/image183.png"/><Relationship Id="rId3" Type="http://schemas.openxmlformats.org/officeDocument/2006/relationships/image" Target="../media/image190.png"/><Relationship Id="rId4" Type="http://schemas.openxmlformats.org/officeDocument/2006/relationships/image" Target="../media/image191.png"/><Relationship Id="rId5" Type="http://schemas.openxmlformats.org/officeDocument/2006/relationships/image" Target="../media/image192.png"/><Relationship Id="rId6" Type="http://schemas.openxmlformats.org/officeDocument/2006/relationships/image" Target="../media/image193.png"/><Relationship Id="rId7" Type="http://schemas.openxmlformats.org/officeDocument/2006/relationships/image" Target="../media/image194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68.png"/><Relationship Id="rId3" Type="http://schemas.openxmlformats.org/officeDocument/2006/relationships/image" Target="../media/image195.png"/><Relationship Id="rId4" Type="http://schemas.openxmlformats.org/officeDocument/2006/relationships/image" Target="../media/image196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image" Target="../media/image197.png"/><Relationship Id="rId3" Type="http://schemas.openxmlformats.org/officeDocument/2006/relationships/image" Target="../media/image198.png"/><Relationship Id="rId4" Type="http://schemas.openxmlformats.org/officeDocument/2006/relationships/image" Target="../media/image199.png"/><Relationship Id="rId5" Type="http://schemas.openxmlformats.org/officeDocument/2006/relationships/image" Target="../media/image20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09.png"/><Relationship Id="rId3" Type="http://schemas.openxmlformats.org/officeDocument/2006/relationships/image" Target="../media/image201.png"/><Relationship Id="rId4" Type="http://schemas.openxmlformats.org/officeDocument/2006/relationships/image" Target="../media/image202.png"/><Relationship Id="rId5" Type="http://schemas.openxmlformats.org/officeDocument/2006/relationships/image" Target="../media/image203.png"/><Relationship Id="rId6" Type="http://schemas.openxmlformats.org/officeDocument/2006/relationships/image" Target="../media/image204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image" Target="../media/image205.png"/><Relationship Id="rId3" Type="http://schemas.openxmlformats.org/officeDocument/2006/relationships/image" Target="../media/image206.png"/><Relationship Id="rId4" Type="http://schemas.openxmlformats.org/officeDocument/2006/relationships/image" Target="../media/image207.png"/><Relationship Id="rId5" Type="http://schemas.openxmlformats.org/officeDocument/2006/relationships/image" Target="../media/image208.png"/><Relationship Id="rId6" Type="http://schemas.openxmlformats.org/officeDocument/2006/relationships/image" Target="../media/image209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210.png"/><Relationship Id="rId3" Type="http://schemas.openxmlformats.org/officeDocument/2006/relationships/image" Target="../media/image178.png"/><Relationship Id="rId4" Type="http://schemas.openxmlformats.org/officeDocument/2006/relationships/image" Target="../media/image21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8.png"/><Relationship Id="rId3" Type="http://schemas.openxmlformats.org/officeDocument/2006/relationships/image" Target="../media/image212.png"/><Relationship Id="rId4" Type="http://schemas.openxmlformats.org/officeDocument/2006/relationships/image" Target="../media/image21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8.png"/><Relationship Id="rId3" Type="http://schemas.openxmlformats.org/officeDocument/2006/relationships/image" Target="../media/image214.png"/><Relationship Id="rId4" Type="http://schemas.openxmlformats.org/officeDocument/2006/relationships/image" Target="../media/image215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216.png"/><Relationship Id="rId3" Type="http://schemas.openxmlformats.org/officeDocument/2006/relationships/image" Target="../media/image217.png"/><Relationship Id="rId4" Type="http://schemas.openxmlformats.org/officeDocument/2006/relationships/image" Target="../media/image218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9.png"/><Relationship Id="rId2" Type="http://schemas.openxmlformats.org/officeDocument/2006/relationships/image" Target="../media/image220.png"/><Relationship Id="rId3" Type="http://schemas.openxmlformats.org/officeDocument/2006/relationships/image" Target="../media/image221.png"/><Relationship Id="rId4" Type="http://schemas.openxmlformats.org/officeDocument/2006/relationships/image" Target="../media/image222.png"/><Relationship Id="rId5" Type="http://schemas.openxmlformats.org/officeDocument/2006/relationships/image" Target="../media/image222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3.png"/><Relationship Id="rId2" Type="http://schemas.openxmlformats.org/officeDocument/2006/relationships/image" Target="../media/image224.png"/><Relationship Id="rId3" Type="http://schemas.openxmlformats.org/officeDocument/2006/relationships/image" Target="../media/image225.png"/><Relationship Id="rId4" Type="http://schemas.openxmlformats.org/officeDocument/2006/relationships/image" Target="../media/image226.png"/><Relationship Id="rId5" Type="http://schemas.openxmlformats.org/officeDocument/2006/relationships/image" Target="../media/image227.png"/><Relationship Id="rId6" Type="http://schemas.openxmlformats.org/officeDocument/2006/relationships/image" Target="../media/image228.png"/><Relationship Id="rId7" Type="http://schemas.openxmlformats.org/officeDocument/2006/relationships/image" Target="../media/image221.pn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2.png"/><Relationship Id="rId2" Type="http://schemas.openxmlformats.org/officeDocument/2006/relationships/image" Target="../media/image170.png"/><Relationship Id="rId3" Type="http://schemas.openxmlformats.org/officeDocument/2006/relationships/image" Target="../media/image229.png"/><Relationship Id="rId4" Type="http://schemas.openxmlformats.org/officeDocument/2006/relationships/image" Target="../media/image222.png"/><Relationship Id="rId5" Type="http://schemas.openxmlformats.org/officeDocument/2006/relationships/image" Target="../media/image170.png"/><Relationship Id="rId6" Type="http://schemas.openxmlformats.org/officeDocument/2006/relationships/image" Target="../media/image222.png"/><Relationship Id="rId7" Type="http://schemas.openxmlformats.org/officeDocument/2006/relationships/image" Target="../media/image229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9.png"/><Relationship Id="rId2" Type="http://schemas.openxmlformats.org/officeDocument/2006/relationships/image" Target="../media/image230.png"/><Relationship Id="rId3" Type="http://schemas.openxmlformats.org/officeDocument/2006/relationships/image" Target="../media/image231.png"/><Relationship Id="rId4" Type="http://schemas.openxmlformats.org/officeDocument/2006/relationships/image" Target="../media/image232.png"/><Relationship Id="rId5" Type="http://schemas.openxmlformats.org/officeDocument/2006/relationships/image" Target="../media/image233.png"/><Relationship Id="rId6" Type="http://schemas.openxmlformats.org/officeDocument/2006/relationships/image" Target="../media/image234.png"/><Relationship Id="rId7" Type="http://schemas.openxmlformats.org/officeDocument/2006/relationships/image" Target="../media/image22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5.png"/><Relationship Id="rId2" Type="http://schemas.openxmlformats.org/officeDocument/2006/relationships/image" Target="../media/image236.png"/><Relationship Id="rId3" Type="http://schemas.openxmlformats.org/officeDocument/2006/relationships/image" Target="../media/image237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5.png"/><Relationship Id="rId2" Type="http://schemas.openxmlformats.org/officeDocument/2006/relationships/image" Target="../media/image238.png"/><Relationship Id="rId3" Type="http://schemas.openxmlformats.org/officeDocument/2006/relationships/image" Target="../media/image239.png"/><Relationship Id="rId4" Type="http://schemas.openxmlformats.org/officeDocument/2006/relationships/image" Target="../media/image240.png"/><Relationship Id="rId5" Type="http://schemas.openxmlformats.org/officeDocument/2006/relationships/image" Target="../media/image241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2.png"/><Relationship Id="rId2" Type="http://schemas.openxmlformats.org/officeDocument/2006/relationships/image" Target="../media/image170.png"/><Relationship Id="rId3" Type="http://schemas.openxmlformats.org/officeDocument/2006/relationships/image" Target="../media/image243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4.png"/><Relationship Id="rId2" Type="http://schemas.openxmlformats.org/officeDocument/2006/relationships/image" Target="../media/image170.png"/><Relationship Id="rId3" Type="http://schemas.openxmlformats.org/officeDocument/2006/relationships/image" Target="../media/image245.png"/><Relationship Id="rId4" Type="http://schemas.openxmlformats.org/officeDocument/2006/relationships/image" Target="../media/image246.png"/><Relationship Id="rId5" Type="http://schemas.openxmlformats.org/officeDocument/2006/relationships/image" Target="../media/image247.png"/><Relationship Id="rId6" Type="http://schemas.openxmlformats.org/officeDocument/2006/relationships/image" Target="../media/image248.png"/><Relationship Id="rId7" Type="http://schemas.openxmlformats.org/officeDocument/2006/relationships/image" Target="../media/image170.png"/><Relationship Id="rId8" Type="http://schemas.openxmlformats.org/officeDocument/2006/relationships/image" Target="../media/image146.png"/><Relationship Id="rId9" Type="http://schemas.openxmlformats.org/officeDocument/2006/relationships/image" Target="../media/image154.png"/><Relationship Id="rId10" Type="http://schemas.openxmlformats.org/officeDocument/2006/relationships/image" Target="../media/image155.png"/><Relationship Id="rId1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4.png"/><Relationship Id="rId8" Type="http://schemas.openxmlformats.org/officeDocument/2006/relationships/image" Target="../media/image17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19.png"/><Relationship Id="rId4" Type="http://schemas.openxmlformats.org/officeDocument/2006/relationships/image" Target="../media/image27.pn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1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89600" y="838080"/>
            <a:ext cx="27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9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37600" y="199404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9120" y="2635200"/>
            <a:ext cx="227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06960" y="3289320"/>
            <a:ext cx="310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mplex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08040" y="4006800"/>
            <a:ext cx="389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Bra’s Ket’s and All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06240" y="4692600"/>
            <a:ext cx="29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Quantum Circu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044800"/>
            <a:ext cx="3809880" cy="207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4330800"/>
            <a:ext cx="38098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6520" y="0"/>
            <a:ext cx="77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Mod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480" y="27432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us is the length of the complex number in th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2767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895120" y="45720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40040" y="43434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0280" y="5867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572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495680" y="43434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8520" y="3657600"/>
            <a:ext cx="941400" cy="263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95680" y="5029200"/>
            <a:ext cx="189000" cy="235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4114800" y="3962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990960"/>
            <a:ext cx="380880" cy="533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71960" y="5334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292560" y="4187880"/>
            <a:ext cx="284040" cy="21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4114800" y="4038120"/>
            <a:ext cx="838080" cy="5000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048120" y="4870440"/>
            <a:ext cx="549000" cy="235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657600" y="4614840"/>
            <a:ext cx="380880" cy="762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4191120" y="5410080"/>
            <a:ext cx="549000" cy="235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114800" y="4572000"/>
            <a:ext cx="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762120" y="128412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82560" y="1665360"/>
            <a:ext cx="6632640" cy="544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1840" y="7621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5943600" y="3809880"/>
            <a:ext cx="258768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24280" y="4114800"/>
            <a:ext cx="121932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768" y="0"/>
                </a:moveTo>
                <a:cubicBezTo>
                  <a:pt x="688" y="68"/>
                  <a:pt x="608" y="136"/>
                  <a:pt x="480" y="144"/>
                </a:cubicBezTo>
                <a:cubicBezTo>
                  <a:pt x="352" y="152"/>
                  <a:pt x="176" y="100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289480" y="5105520"/>
            <a:ext cx="2102040" cy="500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1249200">
            <a:off x="4038480" y="5168880"/>
            <a:ext cx="121932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768" y="0"/>
                </a:moveTo>
                <a:cubicBezTo>
                  <a:pt x="688" y="68"/>
                  <a:pt x="608" y="136"/>
                  <a:pt x="480" y="144"/>
                </a:cubicBezTo>
                <a:cubicBezTo>
                  <a:pt x="352" y="152"/>
                  <a:pt x="176" y="100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4080" y="0"/>
            <a:ext cx="68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E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880" y="76212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uler’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05120"/>
            <a:ext cx="9144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7440" y="19051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1120" y="35053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ulu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95800" cy="392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838080" y="4033800"/>
            <a:ext cx="7859880" cy="392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143000" y="4648320"/>
            <a:ext cx="5851440" cy="500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647800" y="3505320"/>
            <a:ext cx="3295800" cy="392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143000" y="6019920"/>
            <a:ext cx="1001880" cy="392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2680" y="548640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importa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2705040" y="6073920"/>
            <a:ext cx="1333440" cy="326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4648320" y="6095880"/>
            <a:ext cx="1239840" cy="311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963720" y="2365200"/>
            <a:ext cx="58942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39880" y="0"/>
            <a:ext cx="738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400" y="8380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uler’s formula geomet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295800" cy="392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657600" y="137160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37920" y="266688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82840" y="243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3080" y="396252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038480" y="243828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657600" y="2057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085840"/>
            <a:ext cx="380880" cy="533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657600" y="2133360"/>
            <a:ext cx="838080" cy="5000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2133720"/>
            <a:ext cx="121932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768" y="0"/>
                </a:moveTo>
                <a:cubicBezTo>
                  <a:pt x="688" y="68"/>
                  <a:pt x="608" y="136"/>
                  <a:pt x="480" y="144"/>
                </a:cubicBezTo>
                <a:cubicBezTo>
                  <a:pt x="352" y="152"/>
                  <a:pt x="176" y="100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763800" y="2971800"/>
            <a:ext cx="960480" cy="312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133720" y="2227320"/>
            <a:ext cx="1041120" cy="31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38440" y="164772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7440" y="32004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467320" y="3338640"/>
            <a:ext cx="641520" cy="233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4191120" y="2362320"/>
            <a:ext cx="155520" cy="234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752480" y="4952880"/>
            <a:ext cx="2805120" cy="343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720" y="441972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ying phases is beauti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5800" y="5410080"/>
            <a:ext cx="51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gating phases is also beauti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1636560" y="5929200"/>
            <a:ext cx="727884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5320" y="0"/>
            <a:ext cx="803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2920" y="91440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mplex numbers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310500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43240" y="440064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87800" y="41720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98040" y="569592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00640" y="3790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2200" y="4400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3943080" y="417168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562200" y="37908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05000" y="3819600"/>
            <a:ext cx="381240" cy="533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2200" y="3866760"/>
            <a:ext cx="838440" cy="5000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76600" y="3867120"/>
            <a:ext cx="121932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768" y="0"/>
                </a:moveTo>
                <a:cubicBezTo>
                  <a:pt x="688" y="68"/>
                  <a:pt x="608" y="136"/>
                  <a:pt x="480" y="144"/>
                </a:cubicBezTo>
                <a:cubicBezTo>
                  <a:pt x="352" y="152"/>
                  <a:pt x="176" y="100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52520" y="545796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62400" y="5562720"/>
            <a:ext cx="641520" cy="233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111560" y="4095720"/>
            <a:ext cx="155520" cy="235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960560" y="3956040"/>
            <a:ext cx="1197000" cy="314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570120" y="4702320"/>
            <a:ext cx="1163880" cy="312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733920" y="3638520"/>
            <a:ext cx="241200" cy="217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rot="14245800">
            <a:off x="3738240" y="3547440"/>
            <a:ext cx="266760" cy="876240"/>
          </a:xfrm>
          <a:custGeom>
            <a:avLst/>
            <a:gdLst>
              <a:gd name="textAreaLeft" fmla="*/ 0 w 266760"/>
              <a:gd name="textAreaRight" fmla="*/ 96120 w 26676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178600" y="5135400"/>
            <a:ext cx="641160" cy="169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871240" y="4952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us, 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2270160" y="1442880"/>
            <a:ext cx="4579920" cy="392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2266920" y="2185920"/>
            <a:ext cx="1003320" cy="328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4403880" y="3328920"/>
            <a:ext cx="4579920" cy="392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943440" y="1973160"/>
            <a:ext cx="2228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5320" y="0"/>
            <a:ext cx="803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2920" y="91440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mplex numbers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981080"/>
            <a:ext cx="9144000" cy="205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70160" y="1442880"/>
            <a:ext cx="4579920" cy="392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4724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27200" y="2133720"/>
            <a:ext cx="2259000" cy="718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133720" y="411480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914040" y="541008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58960" y="51814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62280" y="47721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2400120" y="5295600"/>
            <a:ext cx="228600" cy="60984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133720" y="48002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829040"/>
            <a:ext cx="380880" cy="533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33720" y="4800240"/>
            <a:ext cx="685800" cy="576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682720" y="5105520"/>
            <a:ext cx="155880" cy="23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305080" y="4811760"/>
            <a:ext cx="241200" cy="217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4130640" y="2209680"/>
            <a:ext cx="4861080" cy="500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2819520"/>
            <a:ext cx="2352600" cy="1095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3048120" y="4343400"/>
            <a:ext cx="2259000" cy="719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2362320" y="5753160"/>
            <a:ext cx="488880" cy="723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990720" y="4643280"/>
            <a:ext cx="596880" cy="722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004160" y="3089160"/>
            <a:ext cx="876240" cy="594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1670040" y="3200400"/>
            <a:ext cx="12841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4240" y="0"/>
            <a:ext cx="83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2920" y="91440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mplex numbers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90720" y="1442880"/>
            <a:ext cx="4579920" cy="3924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9680" y="2057400"/>
            <a:ext cx="89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easy to multiply complex numbers when they are in this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1506240" cy="392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494160" y="2662200"/>
            <a:ext cx="1522440" cy="39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990720" y="3327480"/>
            <a:ext cx="2805120" cy="406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4038480"/>
            <a:ext cx="9144000" cy="205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240" y="4114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925560" y="4724280"/>
            <a:ext cx="1284120" cy="3924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3048120" y="4711680"/>
            <a:ext cx="1600200" cy="469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911160" y="5364000"/>
            <a:ext cx="44229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11480" y="76320"/>
            <a:ext cx="474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440" y="8380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dimensional complex vector is a list of N complex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840" y="4343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8560" y="480060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dimensional complex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1200" y="3368520"/>
            <a:ext cx="73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start counting at 0 because eventually N will b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wer of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31040" y="137160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 the    th component of th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436920" y="1538280"/>
            <a:ext cx="249120" cy="217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821120" y="1461960"/>
            <a:ext cx="111240" cy="257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505320" y="1981080"/>
            <a:ext cx="3389040" cy="376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449720" y="28954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umn ve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803160" y="1447920"/>
            <a:ext cx="2181240" cy="14731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585720" y="5310360"/>
            <a:ext cx="2335320" cy="1319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3409920" y="5362560"/>
            <a:ext cx="1944720" cy="1146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6054840" y="5330880"/>
            <a:ext cx="1581120" cy="11462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57920" y="2895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7600" y="0"/>
            <a:ext cx="850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Vectors, Scalar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5440" y="99072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can be multiplied by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2616120" cy="1473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942840" y="1676520"/>
            <a:ext cx="2181240" cy="1473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8840" y="4343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1440" y="4800600"/>
            <a:ext cx="85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dimensional complex vector multiplied by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33520" y="5310360"/>
            <a:ext cx="2334960" cy="13190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204840" cy="152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688920" y="322884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3122640" y="5332320"/>
            <a:ext cx="5870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91800" y="76320"/>
            <a:ext cx="732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Vectors,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" y="9907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can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704960" y="1447920"/>
            <a:ext cx="2181240" cy="1473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2320920" cy="14731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146320" y="3048120"/>
            <a:ext cx="4406760" cy="1473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35080" y="457200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 and multiplication by a sca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1627200" y="5232240"/>
            <a:ext cx="52545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26560" y="0"/>
            <a:ext cx="732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Vectors,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1120" y="114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335320" cy="13190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1757520" cy="11462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31960" y="3211560"/>
            <a:ext cx="5949720" cy="1298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806400" y="4875120"/>
            <a:ext cx="6008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8680" y="0"/>
            <a:ext cx="387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0320" y="9144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lowing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000" y="4876920"/>
            <a:ext cx="71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ling li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gn up on sheet being passed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2040" y="2590920"/>
            <a:ext cx="86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lass problem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rdness on the same order of magnit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he homework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0320" y="3505320"/>
            <a:ext cx="844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Set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been posted.  Anyone who didn’t get 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 about the first homework being canceled, please le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 and we will arrang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6280" y="1523880"/>
            <a:ext cx="66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k: Physics without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theory with a minimal of linear alg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4080" y="571500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ice Hou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annis Giotis, 5:30-6:30 Wednesday in 430 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99600" y="76320"/>
            <a:ext cx="48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ectors,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33840" y="15238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314880" y="28195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33840" y="2819520"/>
            <a:ext cx="60984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143680" y="2133360"/>
            <a:ext cx="60948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533840" y="2133360"/>
            <a:ext cx="12193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2120" y="99072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ember adding real vectors looks geometrically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2920" y="4343400"/>
            <a:ext cx="83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should have a similar picture in mind for complex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697280" y="327024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762520" y="2433600"/>
            <a:ext cx="311400" cy="297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951440" y="1768320"/>
            <a:ext cx="1095480" cy="298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30040" y="495288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e components of our vector are now compl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25480" y="76320"/>
            <a:ext cx="57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1120" y="9144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special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1602000" cy="1474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1601640" cy="1474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2306520" cy="1474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814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7080" y="35053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479600" y="4800600"/>
            <a:ext cx="1568520" cy="814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14520" y="4038480"/>
            <a:ext cx="77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dimensional complex vectors (also known as: a qubi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3809880" y="4800600"/>
            <a:ext cx="156852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25480" y="76320"/>
            <a:ext cx="57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9600" y="914400"/>
            <a:ext cx="75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 can be “expanded” in the 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44480" y="1498680"/>
            <a:ext cx="7294680" cy="1473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225440" y="3352680"/>
            <a:ext cx="5480280" cy="327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4440" y="4191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6313320" cy="828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1066680" y="5867280"/>
            <a:ext cx="30765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51840" y="76320"/>
            <a:ext cx="72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60" y="36576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969840" y="1143000"/>
            <a:ext cx="5964480" cy="312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915840" y="1749600"/>
            <a:ext cx="6247080" cy="312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92200" y="2779560"/>
            <a:ext cx="8399520" cy="344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106200" y="2287440"/>
            <a:ext cx="1646280" cy="327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228600" y="4267080"/>
            <a:ext cx="3298680" cy="343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228600" y="4871880"/>
            <a:ext cx="2479680" cy="3286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228600" y="5565600"/>
            <a:ext cx="879480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51840" y="76320"/>
            <a:ext cx="72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60" y="2743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969840" y="1143000"/>
            <a:ext cx="5964480" cy="312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3298680" cy="343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2479680" cy="328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762120" y="1901880"/>
            <a:ext cx="6827760" cy="312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193680" y="4495680"/>
            <a:ext cx="7883640" cy="4064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304920" y="5257800"/>
            <a:ext cx="8497800" cy="3286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7"/>
          <a:stretch/>
        </p:blipFill>
        <p:spPr>
          <a:xfrm>
            <a:off x="5867280" y="5867280"/>
            <a:ext cx="18352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592000" y="7632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ras and 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181240" cy="147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81240" y="762120"/>
            <a:ext cx="80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very “ket,” there is a corresponding “bra” &amp;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222800" y="1905120"/>
            <a:ext cx="3701880" cy="500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4800" y="32767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80880" y="3809880"/>
            <a:ext cx="2335320" cy="13194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3429000" y="3809880"/>
            <a:ext cx="4738680" cy="5000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3886200" y="4419720"/>
            <a:ext cx="3500280" cy="500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331920" y="5748480"/>
            <a:ext cx="3325680" cy="500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3914640" y="5419800"/>
            <a:ext cx="4848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1981080"/>
            <a:ext cx="9144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24800" y="7632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ras,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800600" y="3995640"/>
            <a:ext cx="400068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57680" y="8380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ied by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701880" cy="50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95680" y="1405080"/>
            <a:ext cx="4565880" cy="500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092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1523880" y="2057400"/>
            <a:ext cx="2697120" cy="500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76320" y="2652840"/>
            <a:ext cx="9015120" cy="471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31840" y="3505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533520" y="3962520"/>
            <a:ext cx="3701880" cy="500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500040" y="4681440"/>
            <a:ext cx="75009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920" y="5562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1523880" y="5562720"/>
            <a:ext cx="2697120" cy="5000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4724280" y="5554800"/>
            <a:ext cx="1928880" cy="5000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450720" y="6164280"/>
            <a:ext cx="7607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821960" y="7632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5160" y="838080"/>
            <a:ext cx="54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, but now for b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990720" y="1440000"/>
            <a:ext cx="2854080" cy="50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988920" y="2028960"/>
            <a:ext cx="2854440" cy="500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04920" y="3005280"/>
            <a:ext cx="3544920" cy="5000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5238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238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238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57320" y="3733920"/>
            <a:ext cx="8758080" cy="500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920" y="4648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755640" y="5283360"/>
            <a:ext cx="5932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058840" y="7632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nner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486400" y="1346040"/>
            <a:ext cx="2181240" cy="14734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952560" y="1828800"/>
            <a:ext cx="4000320" cy="500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31120" y="83808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“bra” and a “ket” we can calculate an “inner produ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752400" y="2971800"/>
            <a:ext cx="5724720" cy="1473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1600200" y="4572000"/>
            <a:ext cx="5224320" cy="343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07080" y="5257800"/>
            <a:ext cx="78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a generalization of the dot product for real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8160" y="58672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ult of taking an inner product is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058840" y="7632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nner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523880" y="1014480"/>
            <a:ext cx="6056280" cy="3571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914400" y="2233440"/>
            <a:ext cx="2289240" cy="8146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4191120" y="2309760"/>
            <a:ext cx="1724040" cy="814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168800" y="3276720"/>
            <a:ext cx="2384280" cy="5000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880" y="1676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5457960" y="6257880"/>
            <a:ext cx="2414520" cy="3430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09240" y="617220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conjugate of inner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227160" y="3954600"/>
            <a:ext cx="8854920" cy="82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297000" y="4954680"/>
            <a:ext cx="81961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96280" y="0"/>
            <a:ext cx="29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ast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6240" y="838080"/>
            <a:ext cx="90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st week we saw that there is a big motivation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omputers.  BIG PICTURE: understanding quant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processing machines is the goal of this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301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lso saw that there were there funny postulates describing quantum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040" y="3384720"/>
            <a:ext cx="88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eek we will be slowing down and understanding the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s of quantum theory by understanding one qubit and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440" y="76320"/>
            <a:ext cx="91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nner Product in Comp.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3880" y="1014480"/>
            <a:ext cx="6056280" cy="3571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65200" y="1676520"/>
            <a:ext cx="7969320" cy="14731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50800" y="3327480"/>
            <a:ext cx="7983720" cy="14731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2424240" y="5433840"/>
            <a:ext cx="4281480" cy="8146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975040" y="6248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onecker 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1480" y="495288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er product of computational basis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0" y="76320"/>
            <a:ext cx="91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nner Product in Comp.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1523880" y="1014480"/>
            <a:ext cx="6056280" cy="357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344520" y="1828800"/>
            <a:ext cx="6245280" cy="3571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384120" y="2435400"/>
            <a:ext cx="5964120" cy="3124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355680" y="3124080"/>
            <a:ext cx="7188120" cy="8287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73120" y="4267080"/>
            <a:ext cx="6056280" cy="3574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1600200" y="5181480"/>
            <a:ext cx="2414520" cy="3272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0920" y="5105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4191120" y="5167440"/>
            <a:ext cx="3733560" cy="342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8"/>
          <a:stretch/>
        </p:blipFill>
        <p:spPr>
          <a:xfrm>
            <a:off x="609480" y="5791320"/>
            <a:ext cx="572472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38800" y="76320"/>
            <a:ext cx="56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247480" y="76320"/>
            <a:ext cx="46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orm of a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560" y="91440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 of a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5772240" cy="357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613040" cy="3924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758240" y="33526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is always a positive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2960" y="456084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623960" y="4637160"/>
            <a:ext cx="2414520" cy="3268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522360" y="5246640"/>
            <a:ext cx="3463920" cy="406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1143000" y="1447920"/>
            <a:ext cx="2181240" cy="500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557280" y="5932440"/>
            <a:ext cx="1695240" cy="3920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829880" y="3809880"/>
            <a:ext cx="63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(roughly) the length of the complex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288160" y="0"/>
            <a:ext cx="44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Ru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1240" y="930240"/>
            <a:ext cx="87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wave function of a N dimensional quantum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given  by an N dimensional complex vector with norm eq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1379520" cy="326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920" y="3886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447920" y="4876920"/>
            <a:ext cx="4486320" cy="718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85560" y="4343400"/>
            <a:ext cx="79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valid wave function for a 3 dimensional quantu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1546200" y="2425680"/>
            <a:ext cx="5961240" cy="3110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1190520" y="5705640"/>
            <a:ext cx="798372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583440" y="0"/>
            <a:ext cx="195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5080" y="91440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dimensional quantum systems are called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295280" y="2187720"/>
            <a:ext cx="2759040" cy="3268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33280" y="15238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bit has a wave function which we writ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724280" y="2108160"/>
            <a:ext cx="2448000" cy="4064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2819520"/>
            <a:ext cx="9144000" cy="4038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800" y="28954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008000" y="4724280"/>
            <a:ext cx="3106800" cy="719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1224000" cy="326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2789280" y="3962520"/>
            <a:ext cx="3687840" cy="5000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690480" y="34290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 qubit wav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760" y="5562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alid qubit wav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6"/>
          <a:stretch/>
        </p:blipFill>
        <p:spPr>
          <a:xfrm>
            <a:off x="4422600" y="4541760"/>
            <a:ext cx="4311720" cy="987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7"/>
          <a:stretch/>
        </p:blipFill>
        <p:spPr>
          <a:xfrm>
            <a:off x="1181160" y="6211800"/>
            <a:ext cx="2414520" cy="3272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8"/>
          <a:stretch/>
        </p:blipFill>
        <p:spPr>
          <a:xfrm>
            <a:off x="4273560" y="6095880"/>
            <a:ext cx="41083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106360" y="763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1120" y="99072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it is a classical system with two possible states,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0040" y="160020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bit is a quantum system with two possible states,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29718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8960" y="236232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we observe a qubit, we get the result 0 or the resu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54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0" y="29718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8800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450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9320" y="396252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efore we observe the qubit the wave function of the qub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759040" cy="3268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1120" y="510552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the probability that we observe 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probability that we observe 1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791320" y="5105520"/>
            <a:ext cx="639720" cy="4064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5711760" y="5842080"/>
            <a:ext cx="639720" cy="4064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833840" y="6324480"/>
            <a:ext cx="54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in the computational ba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106360" y="763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228840" cy="8269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08880" y="16002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re given a qubit with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568760" y="2057400"/>
            <a:ext cx="4422960" cy="11444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82320" y="35053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observe the system in the computational basis, then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outcome 0 with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3424320" y="4349880"/>
            <a:ext cx="1535040" cy="9079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57200" y="5334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e get outcome 1 with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84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3363840" y="5864400"/>
            <a:ext cx="16448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839160" y="76320"/>
            <a:ext cx="782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23880" y="13716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8960" y="76212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we observe a qubit, we get the result 0 or the resu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54640" y="152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57600" y="13716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88000" y="152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45000" y="1523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9320" y="236232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efore we observe the qubit the wave function of the qub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2759040" cy="3268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231120" y="3505320"/>
            <a:ext cx="563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the probability that we observe 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probability that we observe 1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639720" cy="406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711760" y="4927680"/>
            <a:ext cx="639720" cy="4064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833840" y="6324480"/>
            <a:ext cx="54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in the computational ba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515280" y="4067280"/>
            <a:ext cx="342720" cy="326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11640" y="396252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new wave function for the qub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7600" y="533412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new wave function for the qub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6585120" y="5440320"/>
            <a:ext cx="34272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839160" y="76320"/>
            <a:ext cx="782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533520" y="3483000"/>
            <a:ext cx="2759040" cy="3268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508040" y="218772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1066680"/>
            <a:ext cx="83808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93120" y="121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562720" y="396252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9312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819520" y="1523520"/>
            <a:ext cx="2514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639720" cy="4064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819520" y="2819520"/>
            <a:ext cx="24382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99800" y="12193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09640" y="28195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4037040" y="3174840"/>
            <a:ext cx="639720" cy="4064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6929280" y="1425600"/>
            <a:ext cx="1224000" cy="3268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6932520" y="4322880"/>
            <a:ext cx="1224000" cy="3268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480720" y="8380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80720" y="388620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50920" y="502920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 is a description of ou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563868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we measure the system we find the system in on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7880" y="6172200"/>
            <a:ext cx="81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happens with probabilities we get from our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2000" y="0"/>
            <a:ext cx="791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Theory’s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0520" y="83808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linear algebra” is the language of 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1523880"/>
            <a:ext cx="553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ay we will go through this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Compl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omplex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Bras, Kets, and all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class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Measuring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Evolving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class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Two qubits: the tensor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Quantum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class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106360" y="763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228840" cy="8269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08880" y="16002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re given a qubit with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568760" y="2057400"/>
            <a:ext cx="4422960" cy="11444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82320" y="35053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observe the system in the computational basis, then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outcome 0 with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3424320" y="4349880"/>
            <a:ext cx="1535040" cy="9079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57200" y="5334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e get outcome 1 with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424320" y="5867280"/>
            <a:ext cx="1535040" cy="908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884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7924680" y="4572000"/>
            <a:ext cx="343080" cy="3268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185440" y="44956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261400" y="60199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7994520" y="6097680"/>
            <a:ext cx="34308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106360" y="763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8880" y="16002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re given a qubit with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30040" y="297180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observe the system in the computational basis, then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outcome 0 with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4800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e get outcome 1 with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84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7772400" y="4038480"/>
            <a:ext cx="343080" cy="3272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5032800" y="3962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1224000" cy="3268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3686040" cy="5000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3429000" y="4038480"/>
            <a:ext cx="1174680" cy="4064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3438360" y="5587920"/>
            <a:ext cx="1190880" cy="40644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182920" y="5562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k.a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288160" y="0"/>
            <a:ext cx="44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Ru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0880" y="838080"/>
            <a:ext cx="84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 we measure a N dimensional quantum system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                                  basis, then the 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ing the system in the state       is        .  After such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, the wave function of the syst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143000" y="2041560"/>
            <a:ext cx="2759040" cy="3268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4870440" y="2400480"/>
            <a:ext cx="311040" cy="3268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5673600" y="2338560"/>
            <a:ext cx="608040" cy="4363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7010280" y="2727360"/>
            <a:ext cx="311400" cy="32688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79440" y="424512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3352680"/>
            <a:ext cx="83808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6452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441972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64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438280" y="3733560"/>
            <a:ext cx="25909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639720" cy="4064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2438280" y="4724280"/>
            <a:ext cx="2590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671200" y="3276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281040" y="4267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3809880" y="4648320"/>
            <a:ext cx="639720" cy="406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6700680" y="3809880"/>
            <a:ext cx="1224000" cy="3272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"/>
          <a:stretch/>
        </p:blipFill>
        <p:spPr>
          <a:xfrm>
            <a:off x="6703920" y="4800600"/>
            <a:ext cx="1224000" cy="3268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252120" y="33526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52120" y="4419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9"/>
          <a:stretch/>
        </p:blipFill>
        <p:spPr>
          <a:xfrm>
            <a:off x="1401840" y="1670040"/>
            <a:ext cx="5960880" cy="3110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438280" y="4724280"/>
            <a:ext cx="266724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34120" y="5867280"/>
            <a:ext cx="83808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12600" y="60199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01440" y="57913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6667560" y="6249960"/>
            <a:ext cx="1942920" cy="3268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86080" y="5257800"/>
            <a:ext cx="342720" cy="3268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823840" y="57150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2"/>
          <a:stretch/>
        </p:blipFill>
        <p:spPr>
          <a:xfrm>
            <a:off x="3122640" y="6103800"/>
            <a:ext cx="1096920" cy="392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5715000" y="5334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150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715000" y="563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40080" y="7632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1480" y="762120"/>
            <a:ext cx="74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 dimensional complex matrix M is an N by N 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complex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582560" y="1828800"/>
            <a:ext cx="5193000" cy="1189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65556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279600" y="3124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compl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7440" y="3962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14520" y="44197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dimensional complex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5357880" y="4981680"/>
            <a:ext cx="1350720" cy="3524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1069920" y="4950000"/>
            <a:ext cx="3475080" cy="11746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5"/>
          <a:stretch/>
        </p:blipFill>
        <p:spPr>
          <a:xfrm>
            <a:off x="5318280" y="5518080"/>
            <a:ext cx="14284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520560" y="76320"/>
            <a:ext cx="801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Multiplied by Sca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193000" cy="1189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9960" y="8380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ces can be multiplied by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5869080" cy="11890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1480" y="4572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2585880" cy="8352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181480" y="4800600"/>
            <a:ext cx="1027080" cy="2239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5"/>
          <a:stretch/>
        </p:blipFill>
        <p:spPr>
          <a:xfrm>
            <a:off x="1203480" y="5562720"/>
            <a:ext cx="70261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2287080" y="76320"/>
            <a:ext cx="44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Ad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495680" cy="10288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308160" y="838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ces can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648320" y="1504800"/>
            <a:ext cx="4343400" cy="10558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31480" y="4267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1905120" y="4343400"/>
            <a:ext cx="2585880" cy="835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4"/>
          <a:stretch/>
        </p:blipFill>
        <p:spPr>
          <a:xfrm>
            <a:off x="357120" y="2819520"/>
            <a:ext cx="8429760" cy="10681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5"/>
          <a:stretch/>
        </p:blipFill>
        <p:spPr>
          <a:xfrm>
            <a:off x="5369040" y="4346640"/>
            <a:ext cx="2668320" cy="834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6"/>
          <a:stretch/>
        </p:blipFill>
        <p:spPr>
          <a:xfrm>
            <a:off x="539640" y="5481720"/>
            <a:ext cx="74329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829880" y="76320"/>
            <a:ext cx="53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495680" cy="10288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80640" y="8380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ces can be multi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4648320" y="1504800"/>
            <a:ext cx="4343400" cy="105588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1600200" y="2819520"/>
            <a:ext cx="5448240" cy="1068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6824520" cy="316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490680" y="4556160"/>
            <a:ext cx="6824520" cy="31572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484200" y="5410080"/>
            <a:ext cx="6737400" cy="3286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358128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8128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812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7"/>
          <a:stretch/>
        </p:blipFill>
        <p:spPr>
          <a:xfrm>
            <a:off x="3255840" y="5945040"/>
            <a:ext cx="26593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829880" y="76320"/>
            <a:ext cx="53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604880" y="1295280"/>
            <a:ext cx="2586240" cy="835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4915080" y="1295280"/>
            <a:ext cx="2668320" cy="835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743040" y="2362320"/>
            <a:ext cx="7638840" cy="84744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2514600" y="3352680"/>
            <a:ext cx="4052880" cy="8352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5"/>
          <a:stretch/>
        </p:blipFill>
        <p:spPr>
          <a:xfrm>
            <a:off x="776160" y="4343400"/>
            <a:ext cx="7605720" cy="84924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2680" y="6324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1357200" y="6399360"/>
            <a:ext cx="1657440" cy="30636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2639880" y="5335560"/>
            <a:ext cx="376416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64600" y="76320"/>
            <a:ext cx="78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 and Ket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685800" y="1638360"/>
            <a:ext cx="4495680" cy="10285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28960" y="990720"/>
            <a:ext cx="51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and a column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5819760" y="1422360"/>
            <a:ext cx="2181240" cy="147312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85920" y="304812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can be multiplied to obtain a new column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855720" y="3543480"/>
            <a:ext cx="6154560" cy="10285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4"/>
          <a:stretch/>
        </p:blipFill>
        <p:spPr>
          <a:xfrm>
            <a:off x="1179360" y="4800600"/>
            <a:ext cx="7736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29680" y="76320"/>
            <a:ext cx="78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 and Ket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752480" y="1255680"/>
            <a:ext cx="2586240" cy="835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4213440" cy="835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1711440" y="3494160"/>
            <a:ext cx="5984640" cy="8492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4"/>
          <a:stretch/>
        </p:blipFill>
        <p:spPr>
          <a:xfrm>
            <a:off x="4776840" y="1251000"/>
            <a:ext cx="4276800" cy="83484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847800" y="4572000"/>
            <a:ext cx="38764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2360" y="0"/>
            <a:ext cx="16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0200" y="91440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hematics as a series of discoveries of objects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first you don’t believe exist, and then after you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they do exist, you discover that they are actually us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438280"/>
            <a:ext cx="2209680" cy="221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29000" y="2437920"/>
            <a:ext cx="22096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469800" cy="32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72200" y="3429000"/>
            <a:ext cx="139680" cy="2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32320" y="5114880"/>
            <a:ext cx="139680" cy="219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2438280"/>
            <a:ext cx="381240" cy="2210040"/>
          </a:xfrm>
          <a:custGeom>
            <a:avLst/>
            <a:gdLst>
              <a:gd name="textAreaLeft" fmla="*/ 0 w 381240"/>
              <a:gd name="textAreaRight" fmla="*/ 13752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343400" y="3733920"/>
            <a:ext cx="380880" cy="2209680"/>
          </a:xfrm>
          <a:custGeom>
            <a:avLst/>
            <a:gdLst>
              <a:gd name="textAreaLeft" fmla="*/ 0 w 380880"/>
              <a:gd name="textAreaRight" fmla="*/ 13752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700000">
            <a:off x="4106520" y="175896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31920" y="29718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64240" y="7632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 and Bra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228600" y="1638360"/>
            <a:ext cx="4495680" cy="10285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52280" y="99072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and a row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0640" y="29718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can be multiplied to obtain a new row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000320" cy="500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8076960" cy="11350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380880" y="4724280"/>
            <a:ext cx="3638520" cy="4892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5"/>
          <a:stretch/>
        </p:blipFill>
        <p:spPr>
          <a:xfrm>
            <a:off x="878040" y="5486400"/>
            <a:ext cx="5141880" cy="3682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6"/>
          <a:stretch/>
        </p:blipFill>
        <p:spPr>
          <a:xfrm>
            <a:off x="457200" y="6337440"/>
            <a:ext cx="6480000" cy="3682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371600" y="5943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6095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6248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64240" y="7632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 and Bra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2585880" cy="8352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4738680" y="1298520"/>
            <a:ext cx="4343400" cy="835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1905120" y="2438280"/>
            <a:ext cx="4537080" cy="513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1324080" y="4191120"/>
            <a:ext cx="553068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457200" y="3200400"/>
            <a:ext cx="4389480" cy="835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1295280" y="4951440"/>
            <a:ext cx="61279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64600" y="76320"/>
            <a:ext cx="80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Complex Conj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876560" cy="1116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153000" y="990720"/>
            <a:ext cx="74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we can form its complex conjugat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gating every 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762120" y="3379680"/>
            <a:ext cx="5029200" cy="12686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2057400" y="5105520"/>
            <a:ext cx="2585880" cy="83484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83760" y="5029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4"/>
          <a:stretch/>
        </p:blipFill>
        <p:spPr>
          <a:xfrm>
            <a:off x="5257800" y="5106960"/>
            <a:ext cx="286236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725480" y="76320"/>
            <a:ext cx="558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Trans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876560" cy="111600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152280" y="99072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we can form it’s transpose by reflecting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a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2057400" y="5105520"/>
            <a:ext cx="2585880" cy="8348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383760" y="5029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731880" y="3429000"/>
            <a:ext cx="5091120" cy="11160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4"/>
          <a:stretch/>
        </p:blipFill>
        <p:spPr>
          <a:xfrm>
            <a:off x="5280120" y="5105520"/>
            <a:ext cx="280008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61800" y="76320"/>
            <a:ext cx="847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Conjugate Trans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876560" cy="11160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152280" y="99072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we can form its conjugate transpos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lecting across the diagonal and conju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2057400" y="5105520"/>
            <a:ext cx="2585880" cy="8348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383760" y="5029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765000" y="3354480"/>
            <a:ext cx="5013360" cy="1268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4"/>
          <a:stretch/>
        </p:blipFill>
        <p:spPr>
          <a:xfrm>
            <a:off x="5246640" y="5106960"/>
            <a:ext cx="286236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77760" y="76320"/>
            <a:ext cx="89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ras, Kets, Conjugate Trans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181240" cy="14731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025640" y="3309840"/>
            <a:ext cx="52228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307440" y="914400"/>
            <a:ext cx="55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ing the conjugate transpose of a 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1160" y="289548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s the corresponding b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3760" y="3886200"/>
            <a:ext cx="83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ilarly we can take the conjugate transpose of a bra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rresponding 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3824280" y="1862280"/>
            <a:ext cx="4392720" cy="50004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4"/>
          <a:stretch/>
        </p:blipFill>
        <p:spPr>
          <a:xfrm>
            <a:off x="1143000" y="4699080"/>
            <a:ext cx="1646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982160" y="76320"/>
            <a:ext cx="453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7040" y="10666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trix     is unitary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45560" y="144792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x 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733560" y="175248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226200" cy="15112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2433600" y="1676520"/>
            <a:ext cx="1222560" cy="330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52280" y="4343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valently a matrix      is unitary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438280" y="4927680"/>
            <a:ext cx="1222560" cy="330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1665360" y="120024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3246480" y="4465800"/>
            <a:ext cx="22536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287440" y="76320"/>
            <a:ext cx="45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5886360" y="990720"/>
            <a:ext cx="2571840" cy="10620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55640" cy="10620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210560" y="9144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g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194720" y="205740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g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576360" y="1143000"/>
            <a:ext cx="2428920" cy="10620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55160" y="28195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4"/>
          <a:stretch/>
        </p:blipFill>
        <p:spPr>
          <a:xfrm>
            <a:off x="762120" y="3352680"/>
            <a:ext cx="4903560" cy="10620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5"/>
          <a:stretch/>
        </p:blipFill>
        <p:spPr>
          <a:xfrm>
            <a:off x="1455840" y="4653000"/>
            <a:ext cx="5630760" cy="10620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1371600" y="5911920"/>
            <a:ext cx="1560600" cy="83484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5410080" y="6172200"/>
            <a:ext cx="1222560" cy="3301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4483440" y="6124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2288160" y="76320"/>
            <a:ext cx="44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Ru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1240" y="930240"/>
            <a:ext cx="876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wave function of a N dimensional quantum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olves in time according to a unitary matrix     .  If the 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initially is       then after the evolution correspon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ew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6434280" y="1442880"/>
            <a:ext cx="225360" cy="22572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2792520" y="1774800"/>
            <a:ext cx="331560" cy="31608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3733920" y="2090880"/>
            <a:ext cx="1482480" cy="36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8410680" y="1770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2209680" y="4560840"/>
            <a:ext cx="331920" cy="31608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1905120" y="349416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395136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349416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4419720" y="364644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248520" y="4484520"/>
            <a:ext cx="1482480" cy="3636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3177000" y="2819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81960" y="76320"/>
            <a:ext cx="85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Evolution and the N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1520" y="114300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1482480" cy="36360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450000" y="2362320"/>
            <a:ext cx="62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happens to the norm            of the 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1498680" y="2971800"/>
            <a:ext cx="3149640" cy="3920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481040" y="3581280"/>
            <a:ext cx="5148360" cy="3924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4281480" y="2379600"/>
            <a:ext cx="785880" cy="36360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536400" y="419112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 does not change the length of the 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90840" y="50292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ized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8280" y="500364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ized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5"/>
          <a:stretch/>
        </p:blipFill>
        <p:spPr>
          <a:xfrm>
            <a:off x="1351080" y="5562720"/>
            <a:ext cx="1544400" cy="4824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6"/>
          <a:stretch/>
        </p:blipFill>
        <p:spPr>
          <a:xfrm>
            <a:off x="5796000" y="5537160"/>
            <a:ext cx="1693800" cy="4827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7"/>
          <a:stretch/>
        </p:blipFill>
        <p:spPr>
          <a:xfrm>
            <a:off x="4038480" y="5791320"/>
            <a:ext cx="1482840" cy="3632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3509280" y="6095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14600"/>
            <a:ext cx="9144000" cy="434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0" y="0"/>
            <a:ext cx="800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1566720" cy="263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3720" y="7621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are number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1320" y="1981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1676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48120" y="175212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37800" y="2057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33840" y="1828800"/>
            <a:ext cx="1333440" cy="32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1190880" cy="326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4840" y="129528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quare root of minus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9720" y="26668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33720" y="2790720"/>
            <a:ext cx="907920" cy="26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133720" y="3276720"/>
            <a:ext cx="2522520" cy="26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209680" y="3773520"/>
            <a:ext cx="658800" cy="32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133720" y="4267080"/>
            <a:ext cx="2165400" cy="34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81080" y="3672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ly re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3680" y="4191120"/>
            <a:ext cx="26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ly imagin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405240" y="4919760"/>
            <a:ext cx="2305080" cy="357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429000" y="5486400"/>
            <a:ext cx="4613400" cy="733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34080" y="48769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Evolution for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14280" y="1066680"/>
            <a:ext cx="77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 will be described by a two dimens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2652480" cy="7858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384480" y="289548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nitial qubit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4141800" cy="8143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383400" y="45720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this evolv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1595520" y="5040360"/>
            <a:ext cx="73198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Evolution for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576360" y="1143000"/>
            <a:ext cx="2428920" cy="106200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081320" y="1219320"/>
            <a:ext cx="4361040" cy="9874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563400" y="2514600"/>
            <a:ext cx="4923000" cy="10620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1204920" y="3854520"/>
            <a:ext cx="5348160" cy="11746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5"/>
          <a:stretch/>
        </p:blipFill>
        <p:spPr>
          <a:xfrm>
            <a:off x="609480" y="5334120"/>
            <a:ext cx="52754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ngle Qubit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33640" y="99072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rcuit diagrams for evolving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048200" y="289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062520" y="3657600"/>
            <a:ext cx="254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line =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983600" y="2209680"/>
            <a:ext cx="124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83800" y="16002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53080" y="22096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4648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11680" y="4724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3751200" y="2592360"/>
            <a:ext cx="1636920" cy="48096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3301920" y="2589120"/>
            <a:ext cx="351000" cy="33516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3"/>
          <a:stretch/>
        </p:blipFill>
        <p:spPr>
          <a:xfrm>
            <a:off x="5581800" y="2590920"/>
            <a:ext cx="62388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ngle Qubit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2560" y="9907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unitary ev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2963880" cy="54288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351000" cy="33480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3206880" y="2817720"/>
            <a:ext cx="750600" cy="3351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 flipV="1">
            <a:off x="35812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5181480" y="2057400"/>
            <a:ext cx="3486240" cy="3510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2209680" y="3970440"/>
            <a:ext cx="1133640" cy="52524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223200" y="342900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in the             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3138480" y="3519360"/>
            <a:ext cx="928800" cy="33516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1600200" y="4114800"/>
            <a:ext cx="351000" cy="3348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762120" y="4800600"/>
            <a:ext cx="2820960" cy="334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7315200" y="4038480"/>
            <a:ext cx="654120" cy="4161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736080" y="40384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outcome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68120" y="45720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outcom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0"/>
          <a:stretch/>
        </p:blipFill>
        <p:spPr>
          <a:xfrm>
            <a:off x="7350120" y="4567320"/>
            <a:ext cx="65412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9000" y="0"/>
            <a:ext cx="803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1566720" cy="263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3720" y="7621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are number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1320" y="1981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0" y="1676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8120" y="175212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37800" y="2057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33840" y="1828800"/>
            <a:ext cx="1333440" cy="32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1190880" cy="32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4840" y="129528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quare root of minus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840" y="27432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pla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2767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95120" y="45720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40040" y="43434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0280" y="5867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572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495680" y="43434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078520" y="3657600"/>
            <a:ext cx="941400" cy="26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495680" y="5029200"/>
            <a:ext cx="189000" cy="235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4114800" y="3962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990960"/>
            <a:ext cx="380880" cy="533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71960" y="5334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92560" y="4187880"/>
            <a:ext cx="284040" cy="21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4114800" y="4038120"/>
            <a:ext cx="838080" cy="500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048120" y="4870440"/>
            <a:ext cx="549000" cy="23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57600" y="4614840"/>
            <a:ext cx="380880" cy="762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4191120" y="5410080"/>
            <a:ext cx="549000" cy="235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4800" y="4572000"/>
            <a:ext cx="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514600"/>
            <a:ext cx="914400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8000" y="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7680" y="7621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can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666880" y="1454040"/>
            <a:ext cx="1551240" cy="298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7309080" cy="311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2743200"/>
            <a:ext cx="1630080" cy="263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7440" y="25909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286160" y="2735280"/>
            <a:ext cx="1581120" cy="298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143000" y="3200400"/>
            <a:ext cx="5910120" cy="311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3640" y="37339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multi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762120" y="426708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2743200" y="4267080"/>
            <a:ext cx="1550880" cy="298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706320" y="4572000"/>
            <a:ext cx="6837480" cy="37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1225440" y="5029200"/>
            <a:ext cx="3651480" cy="311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2133720" y="5638680"/>
            <a:ext cx="1630080" cy="263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7440" y="5486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4286160" y="5638680"/>
            <a:ext cx="1581120" cy="298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62120" y="6095880"/>
            <a:ext cx="7921440" cy="311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1295280" y="6553080"/>
            <a:ext cx="167508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0040" y="0"/>
            <a:ext cx="86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That * 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5160" y="76212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take the complex conjugate of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3483000" cy="327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514600"/>
            <a:ext cx="914400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133720" y="2743200"/>
            <a:ext cx="1630080" cy="263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7440" y="25909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066680" y="3200400"/>
            <a:ext cx="1739880" cy="282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1120" y="388620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find its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990720" y="449568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911160" y="4876920"/>
            <a:ext cx="6632640" cy="54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133720" y="5867280"/>
            <a:ext cx="1630080" cy="263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7440" y="5715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879480" y="6205680"/>
            <a:ext cx="3463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23:29:31Z</dcterms:created>
  <dc:creator>Dave Bacon</dc:creator>
  <dc:description/>
  <dc:language>en-US</dc:language>
  <cp:lastModifiedBy>Dave Bacon</cp:lastModifiedBy>
  <dcterms:modified xsi:type="dcterms:W3CDTF">2005-06-30T20:13:51Z</dcterms:modified>
  <cp:revision>96</cp:revision>
  <dc:subject/>
  <dc:title>Slide 1</dc:title>
</cp:coreProperties>
</file>