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1C09-C886-4BBD-8423-0B31F124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73200" y="399600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A78F-0FF5-4C4C-B1C2-BE1C6202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588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3200" y="39960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5880" y="39960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E797-D3CA-468D-981B-C37BE818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01200" y="14886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28840" y="14886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73200" y="39960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01200" y="39960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28840" y="39960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3AE7-747E-4148-8200-433F6000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E613-672D-40A8-B488-9ADB2541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7D2B-55C3-4DB7-BE1A-96C5EA99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6EB2-D2DF-48CB-9E5B-23B198FC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5880" y="148860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0AC2-C8C4-4853-8069-8681A566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19FD-648E-440E-B1C6-2A998478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79000" y="146160"/>
            <a:ext cx="7488360" cy="43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FD20-E6B2-4CDD-8CAC-7BE21E81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5880" y="148860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3200" y="39960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B0BD-9E49-4EF6-A332-854DA215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6522-C173-4E68-84E7-928277C8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588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5880" y="39960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F973-E6B8-4123-B24B-DC0644A2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588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73200" y="399600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7802-7410-4A05-B69D-C0EFAA29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73200" y="399600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902D-0A98-4F3F-A719-E62BF70F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588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3200" y="39960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5880" y="39960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7397-5FF4-4AF8-8463-916A9864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01200" y="14886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28840" y="14886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73200" y="39960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01200" y="39960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28840" y="39960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7627-7FF7-48CA-86A2-91A122F9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E6BD3-B6C0-4BA1-BD83-A50001C1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DC9A1-7B0D-4F2C-8956-581FFA80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A88C0-8C21-4DCC-A70B-5B137C21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5880" y="148860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D8B32-9FD6-4822-B5A0-42ED4571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84946-0A07-4AC9-84CC-A3F01514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5155-2CC9-47E7-B1B6-15285CDF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79000" y="146160"/>
            <a:ext cx="7488360" cy="43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02990-8604-4D96-9456-F91B7CAC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5880" y="148860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73200" y="39960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AF9E9-5663-4D0E-A33E-C56458B4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588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55880" y="39960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7F76A-57EA-4839-9765-393202CF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588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73200" y="399600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1F6D5-07AE-4BFB-A295-02D2249A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73200" y="399600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8FC5F-8CD6-4BBB-B9B8-B624EE09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5588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73200" y="39960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55880" y="39960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D47D5-704C-4BFB-9B97-F2EE861C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01200" y="14886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28840" y="14886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73200" y="39960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01200" y="39960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28840" y="39960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62B89-9B13-4ACD-9D7E-3A383876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880" y="148860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D106-698D-48D4-B626-9216E178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7480-2FFA-4C6E-BD62-25ABF72A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79000" y="146160"/>
            <a:ext cx="7488360" cy="43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255E-AFE7-4999-9967-FEC60A99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5880" y="148860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3200" y="39960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89A0-69DA-47FB-B11D-B0334E84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588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5880" y="39960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8638-BEF8-467F-B9C1-9803A4AB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588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3200" y="399600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C656-CDF1-4AEB-B91A-1B1E9A14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B9E9-3B91-4A0E-82ED-90CA794771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436680"/>
            <a:ext cx="8529480" cy="1052280"/>
            <a:chOff x="0" y="436680"/>
            <a:chExt cx="8529480" cy="1052280"/>
          </a:xfrm>
        </p:grpSpPr>
        <p:sp>
          <p:nvSpPr>
            <p:cNvPr id="6" name=""/>
            <p:cNvSpPr/>
            <p:nvPr/>
          </p:nvSpPr>
          <p:spPr>
            <a:xfrm>
              <a:off x="0" y="8938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290520" y="436680"/>
              <a:ext cx="8238960" cy="1052280"/>
              <a:chOff x="290520" y="436680"/>
              <a:chExt cx="8238960" cy="1052280"/>
            </a:xfrm>
          </p:grpSpPr>
          <p:sp>
            <p:nvSpPr>
              <p:cNvPr id="8" name=""/>
              <p:cNvSpPr/>
              <p:nvPr/>
            </p:nvSpPr>
            <p:spPr>
              <a:xfrm>
                <a:off x="290520" y="544320"/>
                <a:ext cx="43812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73200" y="54432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14360" y="966600"/>
                <a:ext cx="422280" cy="47484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84080" y="966600"/>
                <a:ext cx="3682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35040" y="436680"/>
                <a:ext cx="31680" cy="10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03120" y="1216080"/>
                <a:ext cx="8226360" cy="31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1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5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80920" y="1169640"/>
            <a:ext cx="7772400" cy="18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0810-C316-4BC9-9980-E8061D64CF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EEB5-F340-4C59-B038-A0BBB5D54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mputational Complexity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assify probl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cording to the amount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putational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d by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est algorith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solv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worst-case running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n algorit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# steps algorithm takes on any input of siz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IM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be the set of al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cision probl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lved by algorithms having worst-case running tim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471C-7B20-4D38-8C22-03131A41F2E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roof of Correctnes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irection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answer to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Vertex-Co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the answer fo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et-Cov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se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tices covers all edges then the collectio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|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W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s covers all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answer to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et-Cov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the answer fo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Vertex-Co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subcollectio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v</a:t>
            </a:r>
            <a:r>
              <a:rPr b="1" lang="en-US" sz="2400" spc="-1" strike="noStrike" baseline="-46000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,…,S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v</a:t>
            </a:r>
            <a:r>
              <a:rPr b="1" lang="en-US" sz="2400" spc="-1" strike="noStrike" baseline="-46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vers all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the se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{v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,…,v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vertex cover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4566-DCA6-4252-815F-2B759169903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ductions by Simple Equivalenc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w: 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Independent-Se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Cl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Independent-Se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graph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(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integer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s there a subset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|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 tw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rtices i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joined by an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qu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graph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(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n integer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s there a subset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|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ery pa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vertices i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joined by an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1A21-D89D-4AB4-BFDD-CBFA3949B0B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Independent-Set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40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Clique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input to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Independent-S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=(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 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G’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G’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=(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E’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the same vertices as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E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ists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is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ose edges that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ges of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independent set in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clique in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G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9D19-60F9-4BE2-8A22-A65E542805B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ore Reduction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: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Independent S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Vertex-C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Vertex-Co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n undirected graph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=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n integer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re a subse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ize at mos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h that every edge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at least one endpoint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 (i.e.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s all edges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Independent-Se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graph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=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integer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s there a subse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|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|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tices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joined by an 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F856-9581-44F2-BCE0-782B123DE3F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duction Idea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ai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 graph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(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independent set iff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vertex 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an independent set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s at most one endpoint of each edge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one endpoint must be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-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-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vertex 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=V-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a vertex cover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not contain both endpoints of any edge (els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miss that ed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independent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C68A-EEC4-4810-B0B8-8094561B00A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duc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 lemma proves correc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ly polynomial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get tha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Vertex-Cover </a:t>
            </a:r>
            <a:r>
              <a:rPr b="1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Independent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6B78-4529-44A6-A58B-528E91B8A70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atisfiability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variables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...,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values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{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}.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false,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...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gical OR of one or more lit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F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gical AND of a bunch of cl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EEC6-B17F-4DFD-A744-00A6CA42A40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atisfiability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F formula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(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is some assignment of 0’s and 1’s to the variables that makes it true then we say the formula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tisf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e above is, the following is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tisfiability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Given a CNF formul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s it satisfi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7567-8034-43E9-A8DC-17E11C788CA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mmon property of these problem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special piece of information,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rt certificate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proof, that allows you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iciently verif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n polynomial-time) that th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swer is correct.  This certificate might be very hard to 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DecisionTSP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tour itself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ndependent-Set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lique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et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atisfiability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assignment that makes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517E-2F3E-4207-A796-6B5A78F9592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he complexity class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sts of all decision problems w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erif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swers efficiently (in polynomial time) given a short (polynomial-size)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ertif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 certific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fool your polynomial time verifier into saying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13FC-B75E-4E00-8DFC-EB4391C24D0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olynomial time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olynomial-time) to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t of al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cision probl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lvable by algorithms whose worst-case running time is bounded by some polynomial in the input siz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IME(n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A07A-96A2-4B09-B40B-0F7F05314AB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ore Precise Definition of 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NP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cision problem is in NP iff there is a polynomial time procedur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erify(.,.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an integer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ch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input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problem that is a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ance there is a certificate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|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|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verif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input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problem that is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ance there doe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ist a</a:t>
            </a:r>
            <a:r>
              <a:rPr b="0" i="1" lang="en-US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|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|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verif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864A-8BE2-4CE4-816F-868A833E311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xample: CLIQUE is in NP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if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well-formed representation of  a grap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an integ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well-formed representation of a vertex subse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iz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lique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output "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output "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'm unconvinc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9230-8C4C-4A9E-B3AC-4E59D32088B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s it correct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very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= (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tains a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lique, there is a certificate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will cause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verify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say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 list of the vertices in such a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l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o certificate can fool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verify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x,</a:t>
            </a:r>
            <a:r>
              <a:rPr b="1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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saying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ei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n't well-formed (the uninteresting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= (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es not have any cliques of size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he interesting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A417-E4F3-46F1-B16C-3B326638DBE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Keys to showing  that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 problem is in NP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's the output?  (must be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ust the input look lik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nputs need a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s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such inputs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puts/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very given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put, is there a certificate that would hel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 if some inputs need no certif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y give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put, is there a fake certificate that would trick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F360-987E-4545-9959-2C7E2C5CA23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olving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blems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ithout hint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vious algorith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most of these problem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ute 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all possible certificates and check each one to see if it 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nentia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uth assignments for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sible TSP tours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 subsets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920960" y="4565520"/>
          <a:ext cx="431640" cy="7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0960" y="4565520"/>
                    <a:ext cx="43164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BF45-4153-4CE5-A662-EABEF505796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at We Know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body knows if all problems i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done in polynomial time, i.e. does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most important open questions in all of sc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e practical i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roblem i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oesn’t even need a certificate for problems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 just ignore any hint you are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roblem i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n exponential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60F0-817E-4936-BDBC-6F5DD88D077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 and NP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657520" y="1467000"/>
            <a:ext cx="2690640" cy="4733640"/>
            <a:chOff x="2657520" y="1467000"/>
            <a:chExt cx="2690640" cy="4733640"/>
          </a:xfrm>
        </p:grpSpPr>
        <p:sp>
          <p:nvSpPr>
            <p:cNvPr id="193" name=""/>
            <p:cNvSpPr/>
            <p:nvPr/>
          </p:nvSpPr>
          <p:spPr>
            <a:xfrm>
              <a:off x="3226320" y="3618360"/>
              <a:ext cx="1494000" cy="2079720"/>
            </a:xfrm>
            <a:prstGeom prst="ellipse">
              <a:avLst/>
            </a:prstGeom>
            <a:noFill/>
            <a:ln w="28440">
              <a:solidFill>
                <a:srgbClr val="00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41920" y="2327400"/>
              <a:ext cx="2063160" cy="3585960"/>
            </a:xfrm>
            <a:prstGeom prst="ellipse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07240" y="2958480"/>
              <a:ext cx="67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Arial"/>
                </a:rPr>
                <a:t>N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70120" y="41061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57520" y="1467000"/>
              <a:ext cx="2690640" cy="4733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62000" y="15519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EX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527800" y="53737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77920" y="4076640"/>
            <a:ext cx="3059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IM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400" spc="-1" strike="noStrike" baseline="50000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F7D2-AE4C-4857-947C-68289AD6927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P-hardness &amp;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P-completenes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roblems in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em 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have looked for efficient algorithms for them for hundreds of years without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body knows how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they are really hard to solve, i.e.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2DA1-9DA3-4F6A-B7DC-6D12FA7983A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roblems in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that seem hard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 in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atisf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Independent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Vertex 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hard to solve; certificates seem to help on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solution to </a:t>
            </a:r>
            <a:r>
              <a:rPr b="0" i="1" lang="en-US" sz="3200" spc="-1" strike="noStrike">
                <a:solidFill>
                  <a:srgbClr val="3366ff"/>
                </a:solidFill>
                <a:latin typeface="Arial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s fast solution to </a:t>
            </a:r>
            <a:r>
              <a:rPr b="0" i="1" lang="en-US" sz="3200" spc="-1" strike="noStrike">
                <a:solidFill>
                  <a:srgbClr val="3366ff"/>
                </a:solidFill>
                <a:latin typeface="Arial"/>
              </a:rPr>
              <a:t>a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8252-5914-4AEA-A646-A7261900769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P-hardness &amp;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P-completenes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approach to proving problems not i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that they are at least as hard as any problem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 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blem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P-h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f it is at least as hard as any problem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blem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P-compl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f it is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5DD3-8C60-4AC9-8EBA-DA4BEC0B428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eyond 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natural, practical problems for which we don’t know any polynomial-time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decisionTS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weighted graph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n integer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oes there exist a tour that visits all vertices i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ing total weight at most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8BBB-B7CF-4878-A24B-56B3AA6B0EC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 and NP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581200" y="1324080"/>
            <a:ext cx="4678200" cy="5104800"/>
            <a:chOff x="2581200" y="1324080"/>
            <a:chExt cx="4678200" cy="5104800"/>
          </a:xfrm>
        </p:grpSpPr>
        <p:sp>
          <p:nvSpPr>
            <p:cNvPr id="209" name=""/>
            <p:cNvSpPr/>
            <p:nvPr/>
          </p:nvSpPr>
          <p:spPr>
            <a:xfrm>
              <a:off x="2885760" y="3990960"/>
              <a:ext cx="1600200" cy="2209320"/>
            </a:xfrm>
            <a:prstGeom prst="ellipse">
              <a:avLst/>
            </a:prstGeom>
            <a:noFill/>
            <a:ln w="28440">
              <a:solidFill>
                <a:srgbClr val="00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81200" y="2619360"/>
              <a:ext cx="2209680" cy="3809520"/>
            </a:xfrm>
            <a:prstGeom prst="ellipse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88280" y="3304440"/>
              <a:ext cx="67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Arial"/>
                </a:rPr>
                <a:t>N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68800" y="45234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85840" y="3057480"/>
              <a:ext cx="1603440" cy="485280"/>
            </a:xfrm>
            <a:custGeom>
              <a:avLst/>
              <a:gdLst/>
              <a:ahLst/>
              <a:rect l="l" t="t" r="r" b="b"/>
              <a:pathLst>
                <a:path w="1010" h="306">
                  <a:moveTo>
                    <a:pt x="0" y="0"/>
                  </a:moveTo>
                  <a:cubicBezTo>
                    <a:pt x="44" y="25"/>
                    <a:pt x="167" y="108"/>
                    <a:pt x="262" y="149"/>
                  </a:cubicBezTo>
                  <a:cubicBezTo>
                    <a:pt x="357" y="190"/>
                    <a:pt x="443" y="220"/>
                    <a:pt x="568" y="246"/>
                  </a:cubicBezTo>
                  <a:cubicBezTo>
                    <a:pt x="693" y="272"/>
                    <a:pt x="918" y="294"/>
                    <a:pt x="1010" y="30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01840" y="3222360"/>
              <a:ext cx="917640" cy="545760"/>
            </a:xfrm>
            <a:custGeom>
              <a:avLst/>
              <a:gdLst/>
              <a:ahLst/>
              <a:rect l="l" t="t" r="r" b="b"/>
              <a:pathLst>
                <a:path w="606" h="344">
                  <a:moveTo>
                    <a:pt x="606" y="344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22720" y="3533040"/>
              <a:ext cx="22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NP-comple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09520" y="1324080"/>
              <a:ext cx="2630520" cy="2209680"/>
            </a:xfrm>
            <a:custGeom>
              <a:avLst/>
              <a:gdLst/>
              <a:ahLst/>
              <a:rect l="l" t="t" r="r" b="b"/>
              <a:pathLst>
                <a:path w="1657" h="1392">
                  <a:moveTo>
                    <a:pt x="70" y="1084"/>
                  </a:moveTo>
                  <a:cubicBezTo>
                    <a:pt x="60" y="1070"/>
                    <a:pt x="12" y="1063"/>
                    <a:pt x="11" y="1002"/>
                  </a:cubicBezTo>
                  <a:cubicBezTo>
                    <a:pt x="10" y="941"/>
                    <a:pt x="0" y="863"/>
                    <a:pt x="65" y="720"/>
                  </a:cubicBezTo>
                  <a:cubicBezTo>
                    <a:pt x="130" y="577"/>
                    <a:pt x="169" y="248"/>
                    <a:pt x="401" y="144"/>
                  </a:cubicBezTo>
                  <a:cubicBezTo>
                    <a:pt x="633" y="40"/>
                    <a:pt x="1257" y="0"/>
                    <a:pt x="1457" y="96"/>
                  </a:cubicBezTo>
                  <a:cubicBezTo>
                    <a:pt x="1657" y="192"/>
                    <a:pt x="1585" y="544"/>
                    <a:pt x="1601" y="720"/>
                  </a:cubicBezTo>
                  <a:cubicBezTo>
                    <a:pt x="1617" y="896"/>
                    <a:pt x="1641" y="1040"/>
                    <a:pt x="1553" y="1152"/>
                  </a:cubicBezTo>
                  <a:cubicBezTo>
                    <a:pt x="1465" y="1264"/>
                    <a:pt x="1269" y="1328"/>
                    <a:pt x="1073" y="139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45840" y="1856520"/>
              <a:ext cx="150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NP-har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6A1-63C6-4E03-AF66-F6E9F802B15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P-hardness &amp;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P-completenes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 problem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P-ha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blem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1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tisfies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L </a:t>
            </a:r>
            <a:r>
              <a:rPr b="1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 problem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P-compl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NP-hard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 </a:t>
            </a:r>
            <a:r>
              <a:rPr b="1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ough we seem to have lots of hard problems i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is not obvious that such super-hard problems even exi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4600-DFF0-4889-9C2E-DEC2FD0B852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ok’s Theorem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orem (Cook 1971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atisfi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F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some assignment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and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to the variables that makes it true then we say the formula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atisfiabil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Given a CNF formul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s i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satisfi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1061-CBB6-4211-BFD6-1956C465C7C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mplications of Cook’s Theorem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t least one interesting super-hard problem in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at such a big d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lots of other problems that can be solved if we had a polynomial-time algorithm for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atisf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these problems are exactly as hard as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atisfi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BE49-6656-4C55-986A-73E7BE6261D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 useful property of polynomial-time reduction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f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L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R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L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roof ide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 the reductio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he reductio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et a new reduction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’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=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eral case is similar and uses the fact that the composition of two polynomials is also a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6E9E-DFF5-46CF-A1BA-5A60EF7D57D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ok’s Theorem &amp; Implication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orem (Cook 1971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atisfi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rollar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hard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atisfiability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ny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mplete problem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of: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hard then every problem i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lynomial-time reduces to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 particular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atisfiability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since it is i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y problem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atisf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o if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atisfiability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hard if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atisfiability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19A8-5954-47FC-8F12-DEA78E17F17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nother NP-complete problem: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atisfiability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ndependent-Se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icky Re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CNF formula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 pai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&lt;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the number of clauses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vertex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each literal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 two vertices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an edge 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respond to literals in the same clause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(green edge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respond to literals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vice versa) for some variabl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red edge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early polynomial-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8D24-C5E4-4CF8-BBA4-E29124032BA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Satisfiabilit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50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ndependent-Se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3920" y="1573920"/>
            <a:ext cx="70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:   (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(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(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29718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0" y="36576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0" y="44197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895480"/>
            <a:ext cx="7596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358128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19720" y="4343400"/>
            <a:ext cx="7596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86600" y="28195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86600" y="35053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86600" y="43434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61600" y="27154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71320" y="3479040"/>
            <a:ext cx="64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81000" y="3479040"/>
            <a:ext cx="64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71920" y="3250440"/>
            <a:ext cx="64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94960" y="27154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162200" y="24883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61600" y="416484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2200" y="416484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1280" y="43171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0" y="3048120"/>
            <a:ext cx="76320" cy="609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62320" y="3733920"/>
            <a:ext cx="0" cy="6858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2971800"/>
            <a:ext cx="76320" cy="609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495680" y="3657600"/>
            <a:ext cx="76320" cy="6858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2895480"/>
            <a:ext cx="0" cy="6098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62920" y="3581280"/>
            <a:ext cx="0" cy="7621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57400" y="297180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1120" y="289548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0" y="289548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62320" y="2260440"/>
            <a:ext cx="4800600" cy="1320840"/>
          </a:xfrm>
          <a:custGeom>
            <a:avLst/>
            <a:gdLst/>
            <a:ahLst/>
            <a:rect l="l" t="t" r="r" b="b"/>
            <a:pathLst>
              <a:path w="3024" h="832">
                <a:moveTo>
                  <a:pt x="0" y="448"/>
                </a:moveTo>
                <a:cubicBezTo>
                  <a:pt x="588" y="224"/>
                  <a:pt x="1176" y="0"/>
                  <a:pt x="1680" y="64"/>
                </a:cubicBezTo>
                <a:cubicBezTo>
                  <a:pt x="2184" y="128"/>
                  <a:pt x="2604" y="480"/>
                  <a:pt x="3024" y="8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3657600"/>
            <a:ext cx="2209680" cy="838080"/>
          </a:xfrm>
          <a:custGeom>
            <a:avLst/>
            <a:gdLst/>
            <a:ahLst/>
            <a:rect l="l" t="t" r="r" b="b"/>
            <a:pathLst>
              <a:path w="1392" h="528">
                <a:moveTo>
                  <a:pt x="0" y="528"/>
                </a:moveTo>
                <a:cubicBezTo>
                  <a:pt x="0" y="528"/>
                  <a:pt x="696" y="264"/>
                  <a:pt x="139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62320" y="3733920"/>
            <a:ext cx="2057400" cy="685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0"/>
                </a:moveTo>
                <a:cubicBezTo>
                  <a:pt x="300" y="132"/>
                  <a:pt x="600" y="264"/>
                  <a:pt x="816" y="336"/>
                </a:cubicBezTo>
                <a:cubicBezTo>
                  <a:pt x="1032" y="408"/>
                  <a:pt x="1164" y="420"/>
                  <a:pt x="1296" y="4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62320" y="3733920"/>
            <a:ext cx="4800600" cy="1244520"/>
          </a:xfrm>
          <a:custGeom>
            <a:avLst/>
            <a:gdLst/>
            <a:ahLst/>
            <a:rect l="l" t="t" r="r" b="b"/>
            <a:pathLst>
              <a:path w="3024" h="784">
                <a:moveTo>
                  <a:pt x="0" y="0"/>
                </a:moveTo>
                <a:cubicBezTo>
                  <a:pt x="304" y="200"/>
                  <a:pt x="608" y="400"/>
                  <a:pt x="912" y="528"/>
                </a:cubicBezTo>
                <a:cubicBezTo>
                  <a:pt x="1216" y="656"/>
                  <a:pt x="1472" y="784"/>
                  <a:pt x="1824" y="768"/>
                </a:cubicBezTo>
                <a:cubicBezTo>
                  <a:pt x="2176" y="752"/>
                  <a:pt x="2600" y="592"/>
                  <a:pt x="3024" y="4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0A65-1F22-43A7-A2A1-79372B79067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Satisfiability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50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ndependent-Se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n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tisf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there is some assignment that satisfies at least one literal in each claus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the set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rresponding to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satisfied literal in each cla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|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|=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only one vertex per clause, no two vertices in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joined by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green 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a truth assignment never satisfies both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contain vertices labeled both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o no vertices in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ed by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 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n independent set,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f size at least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dependent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E9BC-2655-4A8F-8967-BFD23210AA7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Satisfiability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50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ndependent-Se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3920" y="1573920"/>
            <a:ext cx="70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:   (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(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(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0" y="29718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36576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44197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2895480"/>
            <a:ext cx="7596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358128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19720" y="4343400"/>
            <a:ext cx="7596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86600" y="28195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86600" y="35053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86600" y="43434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61600" y="27154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71320" y="3479040"/>
            <a:ext cx="64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81000" y="3479040"/>
            <a:ext cx="64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171920" y="3250440"/>
            <a:ext cx="64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4960" y="27154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162200" y="24883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61600" y="416484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162200" y="416484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1280" y="43171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0" y="3048120"/>
            <a:ext cx="76320" cy="609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3733920"/>
            <a:ext cx="0" cy="6858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95680" y="2971800"/>
            <a:ext cx="76320" cy="609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495680" y="3657600"/>
            <a:ext cx="76320" cy="6858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62920" y="2895480"/>
            <a:ext cx="0" cy="6098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162920" y="3581280"/>
            <a:ext cx="0" cy="7621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57400" y="297180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91120" y="289548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0" y="289548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62320" y="2260440"/>
            <a:ext cx="4800600" cy="1320840"/>
          </a:xfrm>
          <a:custGeom>
            <a:avLst/>
            <a:gdLst/>
            <a:ahLst/>
            <a:rect l="l" t="t" r="r" b="b"/>
            <a:pathLst>
              <a:path w="3024" h="832">
                <a:moveTo>
                  <a:pt x="0" y="448"/>
                </a:moveTo>
                <a:cubicBezTo>
                  <a:pt x="588" y="224"/>
                  <a:pt x="1176" y="0"/>
                  <a:pt x="1680" y="64"/>
                </a:cubicBezTo>
                <a:cubicBezTo>
                  <a:pt x="2184" y="128"/>
                  <a:pt x="2604" y="480"/>
                  <a:pt x="3024" y="8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657600"/>
            <a:ext cx="2209680" cy="838080"/>
          </a:xfrm>
          <a:custGeom>
            <a:avLst/>
            <a:gdLst/>
            <a:ahLst/>
            <a:rect l="l" t="t" r="r" b="b"/>
            <a:pathLst>
              <a:path w="1392" h="528">
                <a:moveTo>
                  <a:pt x="0" y="528"/>
                </a:moveTo>
                <a:cubicBezTo>
                  <a:pt x="0" y="528"/>
                  <a:pt x="696" y="264"/>
                  <a:pt x="139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362320" y="3733920"/>
            <a:ext cx="2057400" cy="685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0"/>
                </a:moveTo>
                <a:cubicBezTo>
                  <a:pt x="300" y="132"/>
                  <a:pt x="600" y="264"/>
                  <a:pt x="816" y="336"/>
                </a:cubicBezTo>
                <a:cubicBezTo>
                  <a:pt x="1032" y="408"/>
                  <a:pt x="1164" y="420"/>
                  <a:pt x="1296" y="4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3733920"/>
            <a:ext cx="4800600" cy="1244520"/>
          </a:xfrm>
          <a:custGeom>
            <a:avLst/>
            <a:gdLst/>
            <a:ahLst/>
            <a:rect l="l" t="t" r="r" b="b"/>
            <a:pathLst>
              <a:path w="3024" h="784">
                <a:moveTo>
                  <a:pt x="0" y="0"/>
                </a:moveTo>
                <a:cubicBezTo>
                  <a:pt x="304" y="200"/>
                  <a:pt x="608" y="400"/>
                  <a:pt x="912" y="528"/>
                </a:cubicBezTo>
                <a:cubicBezTo>
                  <a:pt x="1216" y="656"/>
                  <a:pt x="1472" y="784"/>
                  <a:pt x="1824" y="768"/>
                </a:cubicBezTo>
                <a:cubicBezTo>
                  <a:pt x="2176" y="752"/>
                  <a:pt x="2600" y="592"/>
                  <a:pt x="3024" y="4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9520" y="1294200"/>
            <a:ext cx="66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       0      1         1      0      1         1       0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57400" y="2895480"/>
            <a:ext cx="380880" cy="3034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2741760"/>
            <a:ext cx="380880" cy="3031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91120" y="2819520"/>
            <a:ext cx="380880" cy="3031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99000" y="5213520"/>
            <a:ext cx="5506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ssignment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s circ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60920" y="2818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4486-94F4-4715-9E2E-060F6162D96D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lative Complexity of Problem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a notion that allows us to compare the complexity of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be able to make statements of the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f we could solv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polynomial time then we can solve problem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in polynomial tim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blem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is at least as hard as problem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2C2B-5D31-4C35-8F6F-C71542F2A6A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Satisfiability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50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ndependent-Se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ness continu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dependent-Set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here is a se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es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ing no 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precisely one vertex per clause because of the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green ed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d ed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not contain vertices labeled both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 truth assignmen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makes all literals labeling vertices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ue and for any variable not labeling a vertex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ssigns its truth value arbitrar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onstruction,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tisfies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tisf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28B4-76CC-4DAA-B6AD-A96F5C9B49A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Satisfiability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50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ndependent-Se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3920" y="1573920"/>
            <a:ext cx="70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:   (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(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(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0" y="29718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0" y="36576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0" y="44197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19720" y="2895480"/>
            <a:ext cx="7596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95680" y="358128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4343400"/>
            <a:ext cx="7596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86600" y="28195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86600" y="35053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86600" y="43434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61600" y="27154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71320" y="3479040"/>
            <a:ext cx="64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81000" y="3479040"/>
            <a:ext cx="64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171920" y="3250440"/>
            <a:ext cx="64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94960" y="27154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62200" y="24883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61600" y="416484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162200" y="416484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1280" y="43171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3048120"/>
            <a:ext cx="76320" cy="609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62320" y="3733920"/>
            <a:ext cx="0" cy="6858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95680" y="2971800"/>
            <a:ext cx="76320" cy="609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4495680" y="3657600"/>
            <a:ext cx="76320" cy="6858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162920" y="2895480"/>
            <a:ext cx="0" cy="6098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162920" y="3581280"/>
            <a:ext cx="0" cy="7621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057400" y="297180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91120" y="289548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0" y="289548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62320" y="2260440"/>
            <a:ext cx="4800600" cy="1320840"/>
          </a:xfrm>
          <a:custGeom>
            <a:avLst/>
            <a:gdLst/>
            <a:ahLst/>
            <a:rect l="l" t="t" r="r" b="b"/>
            <a:pathLst>
              <a:path w="3024" h="832">
                <a:moveTo>
                  <a:pt x="0" y="448"/>
                </a:moveTo>
                <a:cubicBezTo>
                  <a:pt x="588" y="224"/>
                  <a:pt x="1176" y="0"/>
                  <a:pt x="1680" y="64"/>
                </a:cubicBezTo>
                <a:cubicBezTo>
                  <a:pt x="2184" y="128"/>
                  <a:pt x="2604" y="480"/>
                  <a:pt x="3024" y="8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0" y="3657600"/>
            <a:ext cx="2209680" cy="838080"/>
          </a:xfrm>
          <a:custGeom>
            <a:avLst/>
            <a:gdLst/>
            <a:ahLst/>
            <a:rect l="l" t="t" r="r" b="b"/>
            <a:pathLst>
              <a:path w="1392" h="528">
                <a:moveTo>
                  <a:pt x="0" y="528"/>
                </a:moveTo>
                <a:cubicBezTo>
                  <a:pt x="0" y="528"/>
                  <a:pt x="696" y="264"/>
                  <a:pt x="139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362320" y="3733920"/>
            <a:ext cx="2057400" cy="685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0"/>
                </a:moveTo>
                <a:cubicBezTo>
                  <a:pt x="300" y="132"/>
                  <a:pt x="600" y="264"/>
                  <a:pt x="816" y="336"/>
                </a:cubicBezTo>
                <a:cubicBezTo>
                  <a:pt x="1032" y="408"/>
                  <a:pt x="1164" y="420"/>
                  <a:pt x="1296" y="4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362320" y="3733920"/>
            <a:ext cx="4800600" cy="1244520"/>
          </a:xfrm>
          <a:custGeom>
            <a:avLst/>
            <a:gdLst/>
            <a:ahLst/>
            <a:rect l="l" t="t" r="r" b="b"/>
            <a:pathLst>
              <a:path w="3024" h="784">
                <a:moveTo>
                  <a:pt x="0" y="0"/>
                </a:moveTo>
                <a:cubicBezTo>
                  <a:pt x="304" y="200"/>
                  <a:pt x="608" y="400"/>
                  <a:pt x="912" y="528"/>
                </a:cubicBezTo>
                <a:cubicBezTo>
                  <a:pt x="1216" y="656"/>
                  <a:pt x="1472" y="784"/>
                  <a:pt x="1824" y="768"/>
                </a:cubicBezTo>
                <a:cubicBezTo>
                  <a:pt x="2176" y="752"/>
                  <a:pt x="2600" y="592"/>
                  <a:pt x="3024" y="4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33720" y="3581280"/>
            <a:ext cx="380880" cy="3034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3505320"/>
            <a:ext cx="380880" cy="3031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34320" y="3354480"/>
            <a:ext cx="380880" cy="3031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91960" y="5061240"/>
            <a:ext cx="5069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atisfying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03840" y="1188360"/>
            <a:ext cx="68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       1     0         ?       1      0         ?       1      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5632-ECA4-478C-8835-A8BF7175388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Independent-Set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is NP-complete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just showed that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ndependent-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P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and we already knew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ndependent-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rollar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l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howed already that                      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ndependent-Set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2400" spc="-1" strike="noStrike" baseline="50000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l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l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662D-E927-49E3-9862-4FBDDF1152C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blems we already know are NP-complet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atisf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Independent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Vertex-C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1000’s of practical problems that are NP-complete, e.g. scheduling, optimal VLSI layout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0C7B-59BC-45A3-9DF9-B1577FB40D84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s NP as bad as it gets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!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mplete problems are frequently encountered, but there's wor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roblems provably require exponential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00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Does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lt o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|x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e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equire                             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f course, some are just plain uncomp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762360" y="4454640"/>
          <a:ext cx="2693880" cy="58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360" y="4454640"/>
                    <a:ext cx="269388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E95A-869D-41C7-9409-065295BE0AE6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teps to Proving Problem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is       NP-complet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hard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:`Reduction is from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Problem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what the map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ue that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olynomial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ue correctness: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wo dir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s for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lies Yes for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vice ver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what hint is and why i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ue that it is polynomial-time to che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685F-5DB7-440A-9075-E4D5BFEA6153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 particularly useful problem for proving NP-completenes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3-SAT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i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CNF formula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cisely 3 variables per claus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.e.,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-CN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is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tisfi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lai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-S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-SAT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is a satisfying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lik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tisf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is polynomial-time to check the certif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2F9D-CD51-4A40-AA5C-9DEE1275C7A6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atisfiability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-S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CNF formula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nother CNF formula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has precisely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s per cla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one or more clauses for each clause of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have extra variables that don’t appear i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claus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re will be a different set of variables that are used only in the clauses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correspond to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B232-D85D-4449-A0E9-9BE6F8D67841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atisfiability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-S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34520" y="1552680"/>
            <a:ext cx="8178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o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signment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original variables makes clause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e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assignment to the extra variables that together with the assignmen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make all new clauses corresponding to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reduction clause-by-cl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ll use variable names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note the extra variables related to a single claus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implify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ality, two different original clauses will not shar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FD54-719C-4AB9-BB98-3A9EB47A24F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atisfiability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-S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clause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,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=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new variabl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ut two clauses i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riginal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under assignment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both new clauses will be true under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ew clauses are both true under some assignmen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the value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help in one of the two clauses so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be true under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0C19-9280-40B4-812B-75DFFC63E71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olynomial Time Reduction 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50000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an algorithm for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‘black box’ (subroutine) that solves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only a polynomial number of ste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s only a polynomial number of calls to a subroutine for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poly time algorithm for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plies poly time algorithm for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only is the number of calls polynomial but the size of the inputs on which the calls are made is polynomia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can prove there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st algorithm for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that proves there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st algorithm for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D5F2-5F2B-4213-91F3-10F7EE6940F1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atisfiability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-S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: e.g.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=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wo new variables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put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w clauses i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(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  (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 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riginal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rue under assignment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all new clauses will be true under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ew clauses are all true under some assignment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the values of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help in one of the 4 clauses so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true under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7AC1-B4D2-4370-9C55-63C7706C94C3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atisfiability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-S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06080" y="1371600"/>
            <a:ext cx="8178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bles: e.g.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=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...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w variables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,...,z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k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u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w clauses i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z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...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k-3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k-2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k-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k-2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k-1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riginal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under assignment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som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for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By setting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ll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&lt;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ll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can extend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make all new clause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ew clauses are all true under some assignmen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som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be true for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cause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...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k-3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z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k-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k-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ot 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C8E9-88FC-4982-94D1-3D82B69B5F5A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raph Colorability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25160" y="162828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ef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n a grap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=(V,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an intege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-color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signment of up to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colors to the vertices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 that the endpoints of each edge have different col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-Color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Given a grap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=(V,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oe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a 3-color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lai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3-Col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roof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3-Col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t is an assignment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vertices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check that each edge is colored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71D9-7D03-484E-AC5C-781C83FE1111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-SA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-Color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to map a 3-CNF formula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 graph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at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3-colorable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f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atisf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72CB-4DEA-4D9B-BA3A-51431CF2D784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-SA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-Color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886200" y="4419720"/>
            <a:ext cx="105732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63560" y="403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98960" y="5180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86600" y="5180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03280" y="58366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se Tri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28960" y="527688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81560" y="439092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76920" y="528624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381D-7E24-4190-B6A1-23B1FF81835B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-SA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-Color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886200" y="4419720"/>
            <a:ext cx="105732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363560" y="403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998960" y="5180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86600" y="5180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133720" y="259092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484440" y="1904760"/>
            <a:ext cx="63036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114920" y="37497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73000" y="463212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406520" y="286524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954160" y="146376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515320" y="1904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029320" y="217944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97720" y="13413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1600200" y="4419720"/>
            <a:ext cx="27828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00200" y="4038480"/>
            <a:ext cx="27828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33720" y="3048120"/>
            <a:ext cx="222876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514600" y="2590920"/>
            <a:ext cx="18478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84440" y="1981080"/>
            <a:ext cx="87804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14800" y="1905120"/>
            <a:ext cx="26820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45200" y="1811160"/>
            <a:ext cx="4797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ariable Par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3-coloring,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s correspon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truth assign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ame color as T or 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81560" y="439092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28960" y="528624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15080" y="530532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571760" y="476244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562040" y="401004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04920" y="300024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67080" y="255276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438360" y="193356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76640" y="183816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D3F7-2594-45F9-868D-789E908952CD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-SA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-Color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4419720"/>
            <a:ext cx="105732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363560" y="403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998960" y="5301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86600" y="5180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2133720" y="259092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3484440" y="1904760"/>
            <a:ext cx="63036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14920" y="37497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73000" y="463212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406520" y="286524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954160" y="146376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15320" y="1904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29320" y="217944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97720" y="13413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1600200" y="4419720"/>
            <a:ext cx="27828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600200" y="4038480"/>
            <a:ext cx="27828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133720" y="3048120"/>
            <a:ext cx="222876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2590920"/>
            <a:ext cx="18478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484440" y="1981080"/>
            <a:ext cx="87804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114800" y="1905120"/>
            <a:ext cx="26820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542680" y="5700240"/>
            <a:ext cx="564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ause Part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dd one 6 vertex gadget per clause  connec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ts ‘outer vertices’ to the literals in the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934320" y="1098720"/>
            <a:ext cx="914400" cy="91440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6171840" y="1098720"/>
            <a:ext cx="76212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629040" y="1981080"/>
            <a:ext cx="304920" cy="44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7086240" y="2013120"/>
            <a:ext cx="762120" cy="88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7086240" y="3048120"/>
            <a:ext cx="1676880" cy="1796400"/>
            <a:chOff x="7086240" y="3048120"/>
            <a:chExt cx="1676880" cy="1796400"/>
          </a:xfrm>
        </p:grpSpPr>
        <p:sp>
          <p:nvSpPr>
            <p:cNvPr id="449" name=""/>
            <p:cNvSpPr/>
            <p:nvPr/>
          </p:nvSpPr>
          <p:spPr>
            <a:xfrm>
              <a:off x="7848720" y="3048120"/>
              <a:ext cx="914400" cy="914040"/>
            </a:xfrm>
            <a:prstGeom prst="rtTriangl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7086240" y="3048120"/>
              <a:ext cx="76212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7543440" y="3930480"/>
              <a:ext cx="304920" cy="44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8000640" y="3962160"/>
              <a:ext cx="762120" cy="88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 flipV="1">
            <a:off x="4943520" y="2012760"/>
            <a:ext cx="1228680" cy="332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943520" y="2423880"/>
            <a:ext cx="1685880" cy="2909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4943520" y="2895480"/>
            <a:ext cx="214308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4943520" y="3930480"/>
            <a:ext cx="214308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997520" y="4373640"/>
            <a:ext cx="2546280" cy="96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997520" y="4844520"/>
            <a:ext cx="3003480" cy="489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2452200">
            <a:off x="7024320" y="887760"/>
            <a:ext cx="187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2340600">
            <a:off x="7583760" y="2700720"/>
            <a:ext cx="166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5367240" y="3779640"/>
            <a:ext cx="1719360" cy="18252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943600" y="4038120"/>
            <a:ext cx="1555920" cy="33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6172200" y="4419360"/>
            <a:ext cx="1828800" cy="42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599840" y="2727360"/>
            <a:ext cx="5638680" cy="20732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2514600" y="2424240"/>
            <a:ext cx="4114800" cy="166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4114440" y="1904760"/>
            <a:ext cx="2057400" cy="7596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81560" y="439092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52680" y="476244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542960" y="401004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95560" y="300996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76440" y="254304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448080" y="195264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086360" y="183816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38680" y="526716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915080" y="528624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96160" y="105732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134040" y="1924200"/>
            <a:ext cx="95400" cy="91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86440" y="196200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791480" y="196200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591240" y="2381400"/>
            <a:ext cx="95400" cy="91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172280" y="268596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058160" y="391464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515360" y="432432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953480" y="480060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781760" y="389556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810560" y="299088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715240" y="392436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4F4D-7782-409E-BDFC-986CB327F621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-SA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-Color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33520" y="5761080"/>
            <a:ext cx="616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y truth assignment satisfying the formu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n be extended to a 3-coloring of th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803920" y="1554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325560" y="20120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46400" y="24231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935760" y="1554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50160" y="1751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540120" y="6404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86200" y="4419720"/>
            <a:ext cx="105732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363560" y="403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98960" y="5301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86600" y="5180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2133720" y="259092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484440" y="1904760"/>
            <a:ext cx="63036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114920" y="37497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73000" y="463212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06520" y="286524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954160" y="146376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515320" y="1904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029320" y="217944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97720" y="13413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600200" y="4419720"/>
            <a:ext cx="27828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00200" y="4038480"/>
            <a:ext cx="27828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133720" y="3048120"/>
            <a:ext cx="222876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514600" y="2590920"/>
            <a:ext cx="18478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84440" y="1981080"/>
            <a:ext cx="87804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14800" y="1905120"/>
            <a:ext cx="26820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934320" y="1098720"/>
            <a:ext cx="914400" cy="91440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6171840" y="1098720"/>
            <a:ext cx="76212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6629040" y="1981080"/>
            <a:ext cx="304920" cy="44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7086240" y="2013120"/>
            <a:ext cx="762120" cy="88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7086240" y="3048120"/>
            <a:ext cx="1676880" cy="1796400"/>
            <a:chOff x="7086240" y="3048120"/>
            <a:chExt cx="1676880" cy="1796400"/>
          </a:xfrm>
        </p:grpSpPr>
        <p:sp>
          <p:nvSpPr>
            <p:cNvPr id="521" name=""/>
            <p:cNvSpPr/>
            <p:nvPr/>
          </p:nvSpPr>
          <p:spPr>
            <a:xfrm>
              <a:off x="7848720" y="3048120"/>
              <a:ext cx="914400" cy="914040"/>
            </a:xfrm>
            <a:prstGeom prst="rtTriangl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7086240" y="3048120"/>
              <a:ext cx="76212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7543440" y="3930480"/>
              <a:ext cx="304920" cy="44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8000640" y="3962160"/>
              <a:ext cx="762120" cy="88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 flipV="1">
            <a:off x="4943520" y="2012760"/>
            <a:ext cx="1228680" cy="332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4943520" y="2423880"/>
            <a:ext cx="1685880" cy="2909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4943520" y="2895480"/>
            <a:ext cx="214308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4943520" y="3930480"/>
            <a:ext cx="214308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997520" y="4373640"/>
            <a:ext cx="2546280" cy="96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997520" y="4844520"/>
            <a:ext cx="3003480" cy="489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rot="2452200">
            <a:off x="7024320" y="887760"/>
            <a:ext cx="187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5367240" y="3779640"/>
            <a:ext cx="1719360" cy="18252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5943600" y="4038120"/>
            <a:ext cx="1555920" cy="33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6172200" y="4419360"/>
            <a:ext cx="1828800" cy="42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1599840" y="2727360"/>
            <a:ext cx="5638680" cy="20732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2514600" y="2424240"/>
            <a:ext cx="4114800" cy="166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 flipV="1">
            <a:off x="4114440" y="1904760"/>
            <a:ext cx="2057400" cy="7596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381560" y="439092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552680" y="476244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542960" y="401004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095560" y="300996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76440" y="254304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448080" y="195264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086360" y="183816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38680" y="526716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15080" y="528624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96160" y="105732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134040" y="1924200"/>
            <a:ext cx="95400" cy="91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886440" y="196200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791480" y="196200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591240" y="2381400"/>
            <a:ext cx="95400" cy="91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172280" y="268596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058160" y="391464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515360" y="432432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953480" y="480060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781760" y="389556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810560" y="299088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715240" y="392436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rot="2673600">
            <a:off x="7630920" y="2824560"/>
            <a:ext cx="166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AA7D-D2C0-471A-BCA8-8B0B3AEA5D77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-SA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-Color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066760" y="5757840"/>
            <a:ext cx="52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y 3-coloring of the graph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ach gadget triangle using each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759080" y="1751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540480" y="640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935760" y="1554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86200" y="4419720"/>
            <a:ext cx="105732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63560" y="403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98960" y="5301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86600" y="5180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2133720" y="259092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484440" y="1904760"/>
            <a:ext cx="63036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114920" y="37497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73000" y="463212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406520" y="286524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954160" y="146376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5320" y="1904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029320" y="217944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97720" y="13413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600200" y="4419720"/>
            <a:ext cx="27828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600200" y="4038480"/>
            <a:ext cx="27828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133720" y="3048120"/>
            <a:ext cx="222876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14600" y="2590920"/>
            <a:ext cx="18478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484440" y="1981080"/>
            <a:ext cx="87804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14800" y="1905120"/>
            <a:ext cx="26820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934320" y="1098720"/>
            <a:ext cx="914400" cy="91440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6171840" y="1098720"/>
            <a:ext cx="76212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6629040" y="1981080"/>
            <a:ext cx="304920" cy="44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7086240" y="2013120"/>
            <a:ext cx="762120" cy="88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7086240" y="3048120"/>
            <a:ext cx="1676880" cy="1796400"/>
            <a:chOff x="7086240" y="3048120"/>
            <a:chExt cx="1676880" cy="1796400"/>
          </a:xfrm>
        </p:grpSpPr>
        <p:sp>
          <p:nvSpPr>
            <p:cNvPr id="590" name=""/>
            <p:cNvSpPr/>
            <p:nvPr/>
          </p:nvSpPr>
          <p:spPr>
            <a:xfrm>
              <a:off x="7848720" y="3048120"/>
              <a:ext cx="914400" cy="914040"/>
            </a:xfrm>
            <a:prstGeom prst="rtTriangl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7086240" y="3048120"/>
              <a:ext cx="76212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7543440" y="3930480"/>
              <a:ext cx="304920" cy="44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8000640" y="3962160"/>
              <a:ext cx="762120" cy="88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 flipV="1">
            <a:off x="4943520" y="2012760"/>
            <a:ext cx="1228680" cy="332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4943520" y="2423880"/>
            <a:ext cx="1685880" cy="2909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943520" y="2895480"/>
            <a:ext cx="214308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943520" y="3930480"/>
            <a:ext cx="214308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4997520" y="4373640"/>
            <a:ext cx="2546280" cy="96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4997520" y="4844520"/>
            <a:ext cx="3003480" cy="489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rot="2452200">
            <a:off x="7024320" y="887760"/>
            <a:ext cx="187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 flipV="1">
            <a:off x="5367240" y="3779640"/>
            <a:ext cx="1719360" cy="18252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 flipV="1">
            <a:off x="5943600" y="4038120"/>
            <a:ext cx="1555920" cy="33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 flipV="1">
            <a:off x="6172200" y="4419360"/>
            <a:ext cx="1828800" cy="42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1599840" y="2727360"/>
            <a:ext cx="5638680" cy="20732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514600" y="2424240"/>
            <a:ext cx="4114800" cy="166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4114440" y="1904760"/>
            <a:ext cx="2057400" cy="7596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381560" y="439092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52680" y="476244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542960" y="401004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095560" y="300996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476440" y="254304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48080" y="195264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086360" y="183816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38680" y="526716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15080" y="528624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96160" y="105732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134040" y="1924200"/>
            <a:ext cx="95400" cy="91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886440" y="196200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791480" y="196200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591240" y="2381400"/>
            <a:ext cx="95400" cy="91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172280" y="268596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058160" y="391464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515360" y="432432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953480" y="480060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781760" y="389556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810560" y="299088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715240" y="392436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2818800">
            <a:off x="7602840" y="2843640"/>
            <a:ext cx="166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0261-43E4-48E3-BFE5-30F117412648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-SA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-Color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886200" y="4419720"/>
            <a:ext cx="105732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363560" y="403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998960" y="5301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486600" y="5180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2133720" y="259092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3484440" y="1904760"/>
            <a:ext cx="63036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114920" y="37497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73000" y="463212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406520" y="286524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954160" y="146376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515320" y="1904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029320" y="217944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97720" y="13413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600200" y="4419720"/>
            <a:ext cx="27828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600200" y="4038480"/>
            <a:ext cx="27828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133720" y="3048120"/>
            <a:ext cx="222876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514600" y="2590920"/>
            <a:ext cx="18478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484440" y="1981080"/>
            <a:ext cx="87804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114800" y="1905120"/>
            <a:ext cx="26820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934320" y="1098720"/>
            <a:ext cx="914400" cy="91440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6171840" y="1098720"/>
            <a:ext cx="76212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6629040" y="1981080"/>
            <a:ext cx="304920" cy="44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7086240" y="2013120"/>
            <a:ext cx="762120" cy="88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7086240" y="3048120"/>
            <a:ext cx="1676880" cy="1796400"/>
            <a:chOff x="7086240" y="3048120"/>
            <a:chExt cx="1676880" cy="1796400"/>
          </a:xfrm>
        </p:grpSpPr>
        <p:sp>
          <p:nvSpPr>
            <p:cNvPr id="655" name=""/>
            <p:cNvSpPr/>
            <p:nvPr/>
          </p:nvSpPr>
          <p:spPr>
            <a:xfrm>
              <a:off x="7848720" y="3048120"/>
              <a:ext cx="914400" cy="914040"/>
            </a:xfrm>
            <a:prstGeom prst="rtTriangl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086240" y="3048120"/>
              <a:ext cx="76212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543440" y="3930480"/>
              <a:ext cx="304920" cy="44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8000640" y="3962160"/>
              <a:ext cx="762120" cy="88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 flipV="1">
            <a:off x="4943520" y="2012760"/>
            <a:ext cx="1228680" cy="332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943520" y="2423880"/>
            <a:ext cx="1685880" cy="2909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4943520" y="2895480"/>
            <a:ext cx="214308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4943520" y="3930480"/>
            <a:ext cx="214308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4997520" y="4373640"/>
            <a:ext cx="2546280" cy="96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4997520" y="4844520"/>
            <a:ext cx="3003480" cy="489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2452200">
            <a:off x="7054200" y="887760"/>
            <a:ext cx="18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2340600">
            <a:off x="7609680" y="2701080"/>
            <a:ext cx="161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 flipV="1">
            <a:off x="5367240" y="3779640"/>
            <a:ext cx="1719360" cy="18252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943600" y="4038120"/>
            <a:ext cx="1555920" cy="33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 flipV="1">
            <a:off x="6172200" y="4419360"/>
            <a:ext cx="1828800" cy="42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1600200" y="2013120"/>
            <a:ext cx="4572000" cy="27874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2514600" y="2424240"/>
            <a:ext cx="4114800" cy="166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 flipV="1">
            <a:off x="4114440" y="1905120"/>
            <a:ext cx="3094200" cy="823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521720" y="5757840"/>
            <a:ext cx="634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y 3-coloring of the graph has an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oppo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color in the triangle of each ga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849800" y="1751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540480" y="640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935760" y="1554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210440" y="2589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D768-BEE6-47FF-8146-25677C8B5075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y the name reduction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ird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 maps an easier problem into a harder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sense as saying Maxwel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u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roblem of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analyzing electricity &amp; magnet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solving partial differential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partial differential equations in general is a much harder problem than solving E&amp;M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C13D-8AC3-4355-9478-CD318420E743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-SA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-Color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886200" y="4419720"/>
            <a:ext cx="105732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363560" y="403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98960" y="5301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486600" y="5180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2133720" y="259092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3484440" y="1904760"/>
            <a:ext cx="63036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114920" y="37497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73000" y="463212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406520" y="286524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54160" y="146376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515320" y="1904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029320" y="217944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97720" y="13413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1600200" y="4419720"/>
            <a:ext cx="27828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00200" y="4038480"/>
            <a:ext cx="27828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133720" y="3048120"/>
            <a:ext cx="222876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514600" y="2590920"/>
            <a:ext cx="18478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484440" y="1981080"/>
            <a:ext cx="87804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114800" y="1905120"/>
            <a:ext cx="26820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934320" y="1098720"/>
            <a:ext cx="914400" cy="91440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6171840" y="1098720"/>
            <a:ext cx="76212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6629040" y="1981080"/>
            <a:ext cx="304920" cy="44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7086240" y="2013120"/>
            <a:ext cx="762120" cy="88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7086240" y="3048120"/>
            <a:ext cx="1676880" cy="1796400"/>
            <a:chOff x="7086240" y="3048120"/>
            <a:chExt cx="1676880" cy="1796400"/>
          </a:xfrm>
        </p:grpSpPr>
        <p:sp>
          <p:nvSpPr>
            <p:cNvPr id="704" name=""/>
            <p:cNvSpPr/>
            <p:nvPr/>
          </p:nvSpPr>
          <p:spPr>
            <a:xfrm>
              <a:off x="7848720" y="3048120"/>
              <a:ext cx="914400" cy="914040"/>
            </a:xfrm>
            <a:prstGeom prst="rtTriangl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7086240" y="3048120"/>
              <a:ext cx="76212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7543440" y="3930480"/>
              <a:ext cx="304920" cy="44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8000640" y="3962160"/>
              <a:ext cx="762120" cy="88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 flipV="1">
            <a:off x="4943520" y="2012760"/>
            <a:ext cx="1228680" cy="332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4943520" y="2423880"/>
            <a:ext cx="1685880" cy="2909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4943520" y="2895480"/>
            <a:ext cx="214308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943520" y="3930480"/>
            <a:ext cx="214308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997520" y="4373640"/>
            <a:ext cx="2546280" cy="96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997520" y="4844520"/>
            <a:ext cx="3003480" cy="489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rot="2452200">
            <a:off x="7054200" y="887760"/>
            <a:ext cx="18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rot="2340600">
            <a:off x="7609680" y="2701080"/>
            <a:ext cx="161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367240" y="3779640"/>
            <a:ext cx="1719360" cy="18252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5943600" y="4038120"/>
            <a:ext cx="1555920" cy="33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 flipV="1">
            <a:off x="6172200" y="4419360"/>
            <a:ext cx="1828800" cy="42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1600200" y="2013120"/>
            <a:ext cx="4572000" cy="27874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2514600" y="2424240"/>
            <a:ext cx="4114800" cy="166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 flipV="1">
            <a:off x="4114440" y="1905120"/>
            <a:ext cx="3094200" cy="823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522440" y="5757840"/>
            <a:ext cx="635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y 3-coloring of the graph has T 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ther end of the blue edge connected to th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849800" y="1751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540480" y="640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935760" y="1554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210440" y="2589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68880" y="1446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07DB-EE66-44D0-8A65-27D06A8A7FB0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-SA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-Color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886200" y="4419720"/>
            <a:ext cx="105732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363560" y="403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998960" y="5301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486600" y="5180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2133720" y="259092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3484440" y="1904760"/>
            <a:ext cx="63036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14920" y="37497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73000" y="463212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406520" y="286524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54160" y="146376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515320" y="1904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029320" y="217944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897720" y="13413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1600200" y="4419720"/>
            <a:ext cx="27828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600200" y="4038480"/>
            <a:ext cx="27828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133720" y="3048120"/>
            <a:ext cx="222876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514600" y="2590920"/>
            <a:ext cx="18478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484440" y="1981080"/>
            <a:ext cx="87804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114800" y="1905120"/>
            <a:ext cx="26820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934320" y="1098720"/>
            <a:ext cx="914400" cy="91440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6171840" y="1098720"/>
            <a:ext cx="76212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629040" y="1981080"/>
            <a:ext cx="304920" cy="44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7086240" y="2013120"/>
            <a:ext cx="762120" cy="88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7086240" y="3048120"/>
            <a:ext cx="1676880" cy="1796400"/>
            <a:chOff x="7086240" y="3048120"/>
            <a:chExt cx="1676880" cy="1796400"/>
          </a:xfrm>
        </p:grpSpPr>
        <p:sp>
          <p:nvSpPr>
            <p:cNvPr id="754" name=""/>
            <p:cNvSpPr/>
            <p:nvPr/>
          </p:nvSpPr>
          <p:spPr>
            <a:xfrm>
              <a:off x="7848720" y="3048120"/>
              <a:ext cx="914400" cy="914040"/>
            </a:xfrm>
            <a:prstGeom prst="rtTriangl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7086240" y="3048120"/>
              <a:ext cx="76212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7543440" y="3930480"/>
              <a:ext cx="304920" cy="44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8000640" y="3962160"/>
              <a:ext cx="762120" cy="88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 flipV="1">
            <a:off x="4943520" y="2012760"/>
            <a:ext cx="1228680" cy="332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4943520" y="2423880"/>
            <a:ext cx="1685880" cy="2909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4943520" y="2895480"/>
            <a:ext cx="214308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4943520" y="3930480"/>
            <a:ext cx="214308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4997520" y="4373640"/>
            <a:ext cx="2546280" cy="96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4997520" y="4844520"/>
            <a:ext cx="3003480" cy="489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rot="2452200">
            <a:off x="7054200" y="887760"/>
            <a:ext cx="18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rot="2340600">
            <a:off x="7609680" y="2701080"/>
            <a:ext cx="161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 flipV="1">
            <a:off x="5367240" y="3779640"/>
            <a:ext cx="1719360" cy="18252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 flipV="1">
            <a:off x="5943600" y="4038120"/>
            <a:ext cx="1555920" cy="33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6172200" y="4419360"/>
            <a:ext cx="1828800" cy="42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1600200" y="2013120"/>
            <a:ext cx="4572000" cy="27874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2514600" y="2424240"/>
            <a:ext cx="4114800" cy="166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4114440" y="1905120"/>
            <a:ext cx="3094200" cy="823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161800" y="5757840"/>
            <a:ext cx="50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y 3-coloring of the graph yield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tisfying assignment to the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849800" y="1751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540480" y="640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935760" y="1554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210440" y="2589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268880" y="1446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0296-F977-4DBE-B047-E9580D9C8D84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ore NP-completenes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ubset-Sum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gers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…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integer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 subset of the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put integers that adds up to exactly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W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lution from dynamic programming but if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each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 long then this is exponential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1BFC-922D-4BD3-BEDD-92BC8496C4CD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3-SAT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ubset-Sum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3-CNF formula with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uses and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creat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+2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umbers that are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+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gits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numbers for each variable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rresponding to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ing true or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ing fal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extra numbers for each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filler variables to handle number of false literals in clause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BF3A-6860-4B31-908F-8C547808B046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3-SAT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ubset-Sum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193480" y="1820880"/>
            <a:ext cx="311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2 3 4 …  n  1 2 3 4 …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955240" y="137304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                 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185200" y="2468520"/>
            <a:ext cx="30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 0 0 0 …  0  0 0 1 0 …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177280" y="2887560"/>
            <a:ext cx="30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 0 0 0 …  0  1 0 0 1 …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196000" y="3287880"/>
            <a:ext cx="30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0 1 0 0 …  0  0 1 0 0 …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24800" y="4449600"/>
            <a:ext cx="30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0 0 0 0 …  0  1 0 0 0 …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15080" y="3706920"/>
            <a:ext cx="30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0 1 0 0 …  0  0 0 1 1 …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228760" y="1657440"/>
            <a:ext cx="0" cy="4076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228760" y="2295360"/>
            <a:ext cx="3381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790640" y="2476440"/>
            <a:ext cx="600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920240" y="3687840"/>
            <a:ext cx="348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91800" y="3306600"/>
            <a:ext cx="348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929960" y="2935440"/>
            <a:ext cx="348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895360" y="162720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=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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x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x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975040" y="410688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…          …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405440" y="443088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v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224800" y="4821120"/>
            <a:ext cx="30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0 0 0 0 …  0  0 1 0 0 …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450080" y="473544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v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098880" y="518328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…          …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243880" y="5754600"/>
            <a:ext cx="30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 1 1 1 …  1  3 3 3 3 …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2228760" y="5724000"/>
            <a:ext cx="3238560" cy="9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99840" y="57164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E5A3-0EA1-4D6E-BCBA-72EA23F9BDA1}" type="slidenum">
              <a:t>64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 geek joke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06080" y="1371600"/>
            <a:ext cx="8178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placed in a kitchen with an empty kettle on the table and told to boil water; she fills the kettle with water, puts it on the stove, turns on the gas and boils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is next confronted with a kettle full of water sitting on the counter and told to boil water; she puts it on the stove, turns on the gas and boils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thematic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placed in a kitchen with an empty kettle on the table and told to boil water; he fills the kettle with water, puts it on the stove, turns on the gas and boils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is next confronted with a kettle full of water sitting on the counter and told to boil water: he empties the kettle in the sink, places the empty kettle on the table and says, 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’ve reduced this to an already solved probl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03C9-9598-4F65-BF8A-4B821B61470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ductions from a Special Case to a General Cas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: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Vertex-Co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Arial"/>
              </a:rPr>
              <a:t>P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t-C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Vertex-Co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n undirected graph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=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n integer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re a subse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ize at mos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h that every edge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at least one endpoint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 (i.e.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s all edges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t-Cov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se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s, a collectio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,…,S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subsets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an integer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oes there exist a collection of at mos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s whose union is equal to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1CE9-7052-4385-866D-304E49829C2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he Simple Reduc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ps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=(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,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…,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k’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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vertex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eate a set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ing all edges that touch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’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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learly polynomial-time to comp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prove that the resulting algorithm gives the right answ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1C7E-69CD-4CD9-8FCB-B652485E8F2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1T02:39:18Z</dcterms:created>
  <dc:creator>Paul Beame</dc:creator>
  <dc:description/>
  <dc:language>en-US</dc:language>
  <cp:lastModifiedBy>beame</cp:lastModifiedBy>
  <cp:lastPrinted>2000-07-01T21:41:59Z</cp:lastPrinted>
  <dcterms:modified xsi:type="dcterms:W3CDTF">2003-11-06T18:46:27Z</dcterms:modified>
  <cp:revision>119</cp:revision>
  <dc:subject/>
  <dc:title>No Slide Title</dc:title>
</cp:coreProperties>
</file>