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EEC-56FA-49C4-9E8F-DFAD8ACD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DEA-52AA-4D20-83CC-22B752E0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FC0-23B8-4A4B-844A-F58B7841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01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2884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73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01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2884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7D4-58CF-4239-9D32-038BAAAA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29D7-B0EC-43EF-9578-6C1B4657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11C0-4B0D-491B-95DE-746173AE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0F82-EED6-4191-B902-575D381E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487F-5A4C-4C8E-9020-AD659B9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3EEC-519B-417A-912B-E5552B3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79000" y="146160"/>
            <a:ext cx="748836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D70-C8B7-46D8-9248-A87796DD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519-FA82-43BA-8DEC-64B0818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AC5-5782-4065-BAA0-F8BA260C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A59A-29CC-4F3D-B47F-9DB76A22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D70E-094D-40C3-B17D-4424278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31B5-11DE-45C4-BCD7-31C76EF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3BE1-67C0-4004-9175-CDD33134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01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2884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73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01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2884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520-F9DC-4F70-A013-7D1C3B27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EF32-6E8C-4EB2-92A0-ED1A8867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3F99-7228-4758-A95D-041C786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CF8C-870F-4404-A571-13F574BB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025B-6437-42C6-AFA2-7085E07F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DBBE-E75E-44BE-BCAC-26D7C77F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5FB-C65F-4523-950D-9CE4E43C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79000" y="146160"/>
            <a:ext cx="748836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B73D-C8C9-4317-9FEF-F745C5E7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48896-6FB7-4F25-9E9E-E0AD7600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85B7-A3CB-49BC-89B8-8150E15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54E5-8CF5-4B84-A542-0709B9A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F346-2CCE-48BB-A66D-7D695AE6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38BF-D9F7-41FF-8EF5-BD86FC5C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0120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28840" y="14886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73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0120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28840" y="399600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2C44-EE0D-4FF7-8230-72E3BC25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93C-09D0-4E92-8936-5B486F27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52D-A9A1-4582-B5D3-A69DCAD9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79000" y="146160"/>
            <a:ext cx="7488360" cy="43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520-3D8E-4F39-A214-72A70CEC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5B9-12E2-4CEB-8F44-584376B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5880" y="39960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00D-74FB-4826-8565-F29BB9E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880" y="148860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3200" y="399600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F88-92BF-41B0-B532-2E2A9D5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198C-46A6-4D00-9822-0093791BF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436680"/>
            <a:ext cx="8529480" cy="1052280"/>
            <a:chOff x="0" y="436680"/>
            <a:chExt cx="8529480" cy="1052280"/>
          </a:xfrm>
        </p:grpSpPr>
        <p:sp>
          <p:nvSpPr>
            <p:cNvPr id="6" name=""/>
            <p:cNvSpPr/>
            <p:nvPr/>
          </p:nvSpPr>
          <p:spPr>
            <a:xfrm>
              <a:off x="0" y="8938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290520" y="436680"/>
              <a:ext cx="8238960" cy="1052280"/>
              <a:chOff x="290520" y="436680"/>
              <a:chExt cx="8238960" cy="1052280"/>
            </a:xfrm>
          </p:grpSpPr>
          <p:sp>
            <p:nvSpPr>
              <p:cNvPr id="8" name=""/>
              <p:cNvSpPr/>
              <p:nvPr/>
            </p:nvSpPr>
            <p:spPr>
              <a:xfrm>
                <a:off x="290520" y="544320"/>
                <a:ext cx="43812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3200" y="54432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4360" y="966600"/>
                <a:ext cx="42228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84080" y="96660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5040" y="436680"/>
                <a:ext cx="31680" cy="10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03120" y="1216080"/>
                <a:ext cx="8226360" cy="31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0920" y="116964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406-32F3-4AB5-9323-0BF0E3D799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7884-BC9B-460D-AC6E-BF912106D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utational Complex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if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ording to the amoun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a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b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st 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ol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rst-case running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steps algorithm takes on any input of siz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he set of 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d by algorithms having worst-case running tim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F30-9C1D-4B1D-9538-9D53FF8BC3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of of Correctne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rec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swer to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Vertex-C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ans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t-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covers all edges then the collecti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{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|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W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covers all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swer to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et-C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answer fo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Vertex-C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ubcolle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400" spc="-1" strike="noStrike" baseline="-46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…,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400" spc="-1" strike="noStrike" baseline="-46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vers all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{v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…,v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tex cover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7E0-344E-4006-8853-7C0616ADC0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ductions by Simple Equivalen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: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Independent-Se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qu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p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vertice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FE9-1BA7-4C6F-A1B4-21E8D63B93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40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nput to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e same vertices a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ose edges that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of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dependent set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ique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D60-EA2D-48A7-B3B4-1FD331DF10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re Reduc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 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re a sub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at mos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every edg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t least one endpoint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(i.e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ll edg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-Se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B66-A930-44DB-9761-61C14E2E54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duction Ide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ndependent set if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n independent set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t most one endpoint of each edg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endpoint must be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tex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=V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vertex cover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contain both endpoints of any edge (el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miss that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depend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3CC-4513-4D7F-8862-4188CEACC15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lemma proves 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get t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Independent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6DC-4CE2-4AE0-A315-ACDA1E1651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atisfi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variable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valu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}.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false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OR of one or more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AND of a bunch of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622-9559-45EE-BD32-D407607C4D3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atisfi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some assignment of 0’s and 1’s to the variables that makes it true then we say the formula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above is, the following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iabil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n a CNF formul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it satisf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4AF-0433-4E40-B073-450617DB648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mon property of these problem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special piece of information,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rt certificat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proof, that allows you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tly 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polynomial-time) that th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 is correct.  This certificate might be very hard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cisionTSP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our it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dependent-Se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ssignment that make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A9B-01E1-447B-A663-C5A86F62114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complexity class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all decision problems 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s efficiently (in polynomial time) given a short (polynomial-size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certif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fool your polynomial time verifier into saying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37F-6D8F-463F-9083-A735F104971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lynomial tim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ynomial-time)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able by algorithms whose worst-case running time is bounded by some polynomial in the input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IME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BAE-1B02-4DD8-88F2-2E08D487EB5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re Precise Definition of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ision problem is in NP iff there is a polynomial time procedur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ify(.,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inp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oblem that is a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 there is a certificat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inp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oblem t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 there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 a</a:t>
            </a: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|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10C-7C6C-406D-A705-BEE1E124733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xample: CLIQUE is in 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ll-formed representation of  a grap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an inte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ll-formed representation of a vertex sub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liqu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output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output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'm unconvi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312-244E-441C-A21E-EE86A2B140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s it correct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= 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s a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lique, there is a certificat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will caus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y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list of the vertices in such 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 certificate can fool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,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saying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ei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't well-formed (the uninteresting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=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have any cliques of siz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interesting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FC0-20E8-4DEC-BA4A-3AC587D78BA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eys to showing  that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problem is in NP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the output?  (must b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ust the input look lik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nputs need a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such inputs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puts/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given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put, is there a certificate that would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 if some inputs need no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giv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put, is there a fake certificate that would tric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1EE-85EF-428D-A8DC-C2B8C5B3FD1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olving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blems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ithout hi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vious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ost of these problem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te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possible certificates and check each one to see if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nenti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th assignments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TSP tour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subset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20960" y="4565520"/>
          <a:ext cx="43164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4565520"/>
                    <a:ext cx="43164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441-D81D-4076-8129-2C0683DF616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e Kno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knows if all problem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one in polynomial time, i.e. doe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important open questions in all of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practical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blem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oesn’t even need a certificate for problem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just ignore any hint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blem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exponent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92A-5AC5-413D-A8F7-36F1B03C1BF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 and 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657520" y="1467000"/>
            <a:ext cx="2690640" cy="4733640"/>
            <a:chOff x="2657520" y="1467000"/>
            <a:chExt cx="2690640" cy="4733640"/>
          </a:xfrm>
        </p:grpSpPr>
        <p:sp>
          <p:nvSpPr>
            <p:cNvPr id="193" name=""/>
            <p:cNvSpPr/>
            <p:nvPr/>
          </p:nvSpPr>
          <p:spPr>
            <a:xfrm>
              <a:off x="3226320" y="3618360"/>
              <a:ext cx="1494000" cy="20797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41920" y="2327400"/>
              <a:ext cx="2063160" cy="358596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7240" y="295848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N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70120" y="4106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7520" y="1467000"/>
              <a:ext cx="2690640" cy="4733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62000" y="15519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EX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27800" y="537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77920" y="4076640"/>
            <a:ext cx="305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 baseline="5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563-C6B4-4AD4-A088-F828CC291CF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hardness &amp;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em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looked for efficient algorithms for them for hundreds of years withou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knows how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y are really hard to solve, i.e.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0D4-AE55-4AC4-B680-D23A9551D0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blems in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that seem har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xamples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Vertex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rd to solve; certificates seem to help o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solution to </a:t>
            </a:r>
            <a:r>
              <a:rPr b="0" i="1" lang="en-US" sz="3200" spc="-1" strike="noStrike">
                <a:solidFill>
                  <a:srgbClr val="3366ff"/>
                </a:solidFill>
                <a:latin typeface="Arial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fast solution to </a:t>
            </a:r>
            <a:r>
              <a:rPr b="0" i="1" lang="en-US" sz="3200" spc="-1" strike="noStrike">
                <a:solidFill>
                  <a:srgbClr val="3366ff"/>
                </a:solidFill>
                <a:latin typeface="Arial"/>
              </a:rPr>
              <a:t>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828-4E17-4250-92E9-669BE6459B5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hardness &amp;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approach to proving problems not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at they are at least as hard as any problem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it is at least as hard as any problem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it is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0B8-CBA9-4657-862D-4CD13BA4E11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yond 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natural, practical problems for which we don’t know any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decisionTS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weighted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there exist a tour that visits all vertice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total weight at mos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DEC-EB12-4B62-B060-2D5A5FD3377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 and N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581200" y="1324080"/>
            <a:ext cx="4678200" cy="5104800"/>
            <a:chOff x="2581200" y="1324080"/>
            <a:chExt cx="4678200" cy="5104800"/>
          </a:xfrm>
        </p:grpSpPr>
        <p:sp>
          <p:nvSpPr>
            <p:cNvPr id="209" name=""/>
            <p:cNvSpPr/>
            <p:nvPr/>
          </p:nvSpPr>
          <p:spPr>
            <a:xfrm>
              <a:off x="2885760" y="3990960"/>
              <a:ext cx="1600200" cy="22093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81200" y="2619360"/>
              <a:ext cx="2209680" cy="38095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8280" y="330444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N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68800" y="45234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85840" y="3057480"/>
              <a:ext cx="1603440" cy="485280"/>
            </a:xfrm>
            <a:custGeom>
              <a:avLst/>
              <a:gdLst/>
              <a:ahLst/>
              <a:rect l="l" t="t" r="r" b="b"/>
              <a:pathLst>
                <a:path w="1010" h="306">
                  <a:moveTo>
                    <a:pt x="0" y="0"/>
                  </a:moveTo>
                  <a:cubicBezTo>
                    <a:pt x="44" y="25"/>
                    <a:pt x="167" y="108"/>
                    <a:pt x="262" y="149"/>
                  </a:cubicBezTo>
                  <a:cubicBezTo>
                    <a:pt x="357" y="190"/>
                    <a:pt x="443" y="220"/>
                    <a:pt x="568" y="246"/>
                  </a:cubicBezTo>
                  <a:cubicBezTo>
                    <a:pt x="693" y="272"/>
                    <a:pt x="918" y="294"/>
                    <a:pt x="1010" y="30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1840" y="3222360"/>
              <a:ext cx="917640" cy="545760"/>
            </a:xfrm>
            <a:custGeom>
              <a:avLst/>
              <a:gdLst/>
              <a:ahLst/>
              <a:rect l="l" t="t" r="r" b="b"/>
              <a:pathLst>
                <a:path w="606" h="344">
                  <a:moveTo>
                    <a:pt x="606" y="34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2720" y="3533040"/>
              <a:ext cx="22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NP-comple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9520" y="1324080"/>
              <a:ext cx="2630520" cy="2209680"/>
            </a:xfrm>
            <a:custGeom>
              <a:avLst/>
              <a:gdLst/>
              <a:ahLst/>
              <a:rect l="l" t="t" r="r" b="b"/>
              <a:pathLst>
                <a:path w="1657" h="1392">
                  <a:moveTo>
                    <a:pt x="70" y="1084"/>
                  </a:moveTo>
                  <a:cubicBezTo>
                    <a:pt x="60" y="1070"/>
                    <a:pt x="12" y="1063"/>
                    <a:pt x="11" y="1002"/>
                  </a:cubicBezTo>
                  <a:cubicBezTo>
                    <a:pt x="10" y="941"/>
                    <a:pt x="0" y="863"/>
                    <a:pt x="65" y="720"/>
                  </a:cubicBezTo>
                  <a:cubicBezTo>
                    <a:pt x="130" y="577"/>
                    <a:pt x="169" y="248"/>
                    <a:pt x="401" y="144"/>
                  </a:cubicBezTo>
                  <a:cubicBezTo>
                    <a:pt x="633" y="40"/>
                    <a:pt x="1257" y="0"/>
                    <a:pt x="1457" y="96"/>
                  </a:cubicBezTo>
                  <a:cubicBezTo>
                    <a:pt x="1657" y="192"/>
                    <a:pt x="1585" y="544"/>
                    <a:pt x="1601" y="720"/>
                  </a:cubicBezTo>
                  <a:cubicBezTo>
                    <a:pt x="1617" y="896"/>
                    <a:pt x="1641" y="1040"/>
                    <a:pt x="1553" y="1152"/>
                  </a:cubicBezTo>
                  <a:cubicBezTo>
                    <a:pt x="1465" y="1264"/>
                    <a:pt x="1269" y="1328"/>
                    <a:pt x="1073" y="139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5840" y="1856520"/>
              <a:ext cx="15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NP-har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9EC-47CD-44B6-B79E-D6C9D89F896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hardness &amp;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P-har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we seem to have lots of hard problem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is not obvious that such super-hard problems even ex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C96-B974-4FEB-AF18-F572EDD8E2C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ok’s Theore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 (Cook 197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F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some assignment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to the variables that makes it true then we say the formula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iven a CNF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satisf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8B1-6C52-47B3-B1CF-46173393974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mplications of Cook’s Theorem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t least one interesting super-hard problem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such a big 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other problems that can be solved if we had a polynomial-time algorithm for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se problems are exactly as hard as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06B-D741-48D7-8A71-0D9591A43D1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useful property of polynomial-time reduction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of ide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 the redu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redu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a new reduction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’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case is similar and uses the fact that the composition of two polynomials is also a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57D-4BF1-4F24-9170-C628922A8B3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ok’s Theorem &amp; Implicat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 (Cook 197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ar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lete problem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ard then every problem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-time reduces to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particular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ince it i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blem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o 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ard if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086-9025-471B-ACAA-E7D2011A78E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other NP-complete problem: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icky Re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CNF formul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pai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the number of claus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ertex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literal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two vertic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n edge 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in the same claus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(green ed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vice versa) for some variabl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red ed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early polynomi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8EE-1640-40DB-9DA8-43B37FFF474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920" y="1573920"/>
            <a:ext cx="70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160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7132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8100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71920" y="32504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496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200" y="2488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16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2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1280" y="4317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769-008C-44A4-8305-D27AAE3BCA5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there is some assignment that satisfies at least one literal in each clau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se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sponding 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satisfied literal in each cl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=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only one vertex per clause, no two vertices i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green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a truth assignment never satisfies both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contain vertices labeled both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no vertic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ed by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dependent set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size at least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dependent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54B-F7DD-42B6-AA5E-21A1F45601F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3920" y="1573920"/>
            <a:ext cx="70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160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7132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8100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71920" y="32504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496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2200" y="2488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16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2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1280" y="4317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9520" y="129420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     0      1         1      0      1         1       0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28954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274176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28195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9000" y="5213520"/>
            <a:ext cx="5506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ssignmen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 circ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0920" y="281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1C7-A09E-4BE1-91EE-D44D62DB486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ative Complexity of Problem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a notion that allows us to compare the complexity of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be able to make statements of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we could solv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polynomial time then we can solve 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n polynomial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s at least as hard as 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04B-5AC3-4B92-AA59-ECB0CB00B6F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ependent-Se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ing no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precisely one vertex per clause because of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een ed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 ed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contain vertices labeled bot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truth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kes all literals labeling 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 and for any variable not labeling a vertex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signs its truth value arbitrar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nstruction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4D7-0116-4002-B244-51A7F2866A6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50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3920" y="1573920"/>
            <a:ext cx="70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160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132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81000" y="34790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71920" y="3250440"/>
            <a:ext cx="64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4960" y="271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200" y="2488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16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200" y="41648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1280" y="43171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812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35053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335448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91960" y="5061240"/>
            <a:ext cx="5069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tisfy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03840" y="1188360"/>
            <a:ext cx="68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       1     0         ?       1      0         ?       1      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ADB-E401-450A-893C-24DEE815630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is NP-complet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showed that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and we already knew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wed already that                    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dependent-Se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 baseline="50000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5DB-25DE-424B-9C75-6F4DD74CA86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blems we already know are NP-complet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atisf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dependent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1000’s of practical problems that are NP-complete, e.g. scheduling, optimal VLSI layout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97C-CFCE-4D23-9E2C-A9EB1DC4071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s NP as bad as it gets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problems are frequently encountered, but there's wo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blems provably require exponentia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oe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t o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|x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quire                             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 course, some are just plain uncom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762360" y="4454640"/>
          <a:ext cx="269388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360" y="4454640"/>
                    <a:ext cx="26938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71A-9CBF-4FA1-8886-E117B6EEBFF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eps to Proving Problem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is       NP-complet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:`Reduction is fro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the map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correctnes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f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Yes f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ice 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int is and why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it is 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81F-8705-44F2-B475-D29A41B23C4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particularly useful problem for proving NP-completene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-SA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isely 3 variables per claus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,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C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s a satisfying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polynomial-time to check the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A3D-6068-4AB9-A835-122B0F2B59B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 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as precisely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per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one or more clauses for each clause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have extra variables that don’t appear i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clau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will be a different set of variables that are used only in the claus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orrespond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623-FCED-4539-9FB1-2F327F6DC35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34520" y="155268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original variables makes claus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assignment to the extra variables that together with the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all new clauses corresponding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eduction clause-by-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use variable nam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note the extra variables related to a single clau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implify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ity, two different original clauses will not shar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E4A-029E-41B1-89AF-C3F805C9E4C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claus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new variabl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two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both new clauses will be true und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both true under some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valu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help in one of the two clauses s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4EA-2B94-41DE-BBCE-4EC337DCEA8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lynomial Time Reduction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an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‘black box’ (subroutine) that solv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only a polynomial number of st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nly a polynomial number of calls to a subroutine for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poly time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lies poly time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nly is the number of calls polynomial but the size of the inputs on which the calls are made is polynomi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prove ther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t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at proves ther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t algorithm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C99-4961-4661-9866-042AAC94E14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: e.g.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=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wo new variable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all new clauses will be true und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he values o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elp in one of the 4 clauses s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0D5-7A59-4137-BD01-9583902D494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s: e.g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variable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...,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-2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-1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om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setting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extend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all new clause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som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fo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z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k-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028-9876-4054-A8BE-5309CA880A5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ph Color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25160" y="162828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f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-colo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of up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lors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the endpoints of each edge have different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a 3-colo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is an assignment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heck that each edge is color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346-E4CC-48F8-A95C-A1567E17DC85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map a 3-CNF formul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grap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3-colorabl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tisf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F51-FFEF-42ED-8D4E-4859410A7BD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3280" y="58366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28960" y="527688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F6B-A877-407E-928F-83BC4A1BC82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5200" y="1811160"/>
            <a:ext cx="479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ar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-coloring,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correspon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uth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me color as T or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28960" y="52862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15080" y="5305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7176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6204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04920" y="30002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67080" y="25527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38360" y="1933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76640" y="18381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4BA-5105-4644-9F9F-17FD1DA72CB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42680" y="5700240"/>
            <a:ext cx="564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ause Par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dd one 6 vertex gadget per clause  connec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s ‘outer vertices’ to the literals in the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449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2452200">
            <a:off x="7024320" y="887760"/>
            <a:ext cx="18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2340600">
            <a:off x="7583760" y="2700720"/>
            <a:ext cx="16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5268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4296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95560" y="30099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76440" y="2543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48080" y="19526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86360" y="1838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38680" y="5267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1508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96160" y="1057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4040" y="19242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8644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9148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91240" y="23814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72280" y="26859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8160" y="39146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15360" y="4324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53480" y="480060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781760" y="3895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810560" y="299088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15240" y="39243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942-29FF-4E4D-A388-8C16634A086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33520" y="5761080"/>
            <a:ext cx="61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truth assignment satisfying the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be extended to a 3-coloring of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0392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25560" y="2012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46400" y="2423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50160" y="17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40120" y="640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521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2452200">
            <a:off x="7024320" y="887760"/>
            <a:ext cx="18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5268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4296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95560" y="30099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76440" y="2543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448080" y="19526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6360" y="1838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38680" y="5267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1508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96160" y="1057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34040" y="19242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8644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9148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91240" y="23814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2280" y="26859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58160" y="39146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15360" y="4324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953480" y="480060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781760" y="3895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810560" y="299088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715240" y="39243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2673600">
            <a:off x="7630920" y="2824560"/>
            <a:ext cx="16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F7A-AE63-4705-B8D0-FDD12348B2A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66760" y="5757840"/>
            <a:ext cx="52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gadget triangle using each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75908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590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452200">
            <a:off x="7024320" y="887760"/>
            <a:ext cx="18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81560" y="43909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52680" y="47624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42960" y="4010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95560" y="30099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76440" y="25430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48080" y="195264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6360" y="1838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38680" y="526716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15080" y="52862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96160" y="1057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34040" y="19242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8644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91480" y="196200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591240" y="2381400"/>
            <a:ext cx="95400" cy="91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72280" y="26859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58160" y="391464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15360" y="432432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953480" y="480060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81760" y="38955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810560" y="2990880"/>
            <a:ext cx="9504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715240" y="3924360"/>
            <a:ext cx="95400" cy="92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818800">
            <a:off x="7602840" y="2843640"/>
            <a:ext cx="16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34E-04E8-43B3-A018-9F954E37802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655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21720" y="5757840"/>
            <a:ext cx="63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an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p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olor in the triangle of each ga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907-7980-4DA0-8721-70130ED5598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y the name reduction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r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maps an easier problem into a hard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ense as saying Maxwe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nalyzing electricity &amp; magnet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olving partial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artial differential equations in general is a much harder problem than solving E&amp;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922-3C81-43FD-B1FA-10847D59DD6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70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440" y="5757840"/>
            <a:ext cx="63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T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 end of the blue edge connected to th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A9C-2866-4232-BA37-DFBF84481A7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-Col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75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61800" y="5757840"/>
            <a:ext cx="50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yield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ying assignment to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F85-7B02-42DE-8CE8-25991986D65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re NP-completenes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ubset-Sum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gers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…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ntege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subset of th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put integers that adds up to exactly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W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 from dynamic programming but if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eac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long then this is exponent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07E-947C-4ECC-B798-8937C28B918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ubset-Sum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3-CNF formula with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and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rea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2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s that ar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+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umbers for each variabl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rresponding to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true or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ing fa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extra numbers for each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filler variables to handle number of false literals in clause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E95-63D3-44E8-AD31-71D8F3AF3F4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3-SA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ubset-Sum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93480" y="1820880"/>
            <a:ext cx="31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2 3 4 …  n  1 2 3 4 …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55240" y="13730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                 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85200" y="24685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 0 0 0 …  0  0 0 1 0 …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77280" y="288756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 0 0 0 …  0  1 0 0 1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96000" y="328788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1 0 0 …  0  0 1 0 0 …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24800" y="44496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0 0 0 …  0  1 0 0 0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15080" y="37069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1 0 0 …  0  0 0 1 1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28760" y="1657440"/>
            <a:ext cx="0" cy="4076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28760" y="2295360"/>
            <a:ext cx="33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90640" y="2476440"/>
            <a:ext cx="60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20240" y="368784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91800" y="330660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29960" y="2935440"/>
            <a:ext cx="34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895360" y="162720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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75040" y="41068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…          …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05440" y="4430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24800" y="48211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0 0 0 0 …  0  0 1 0 0 …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450080" y="473544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98880" y="518328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…          …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43880" y="57546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 1 1 1 …  1  3 3 3 3 …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228760" y="5724000"/>
            <a:ext cx="323856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99840" y="57164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64B-1F48-4F75-8AB0-105D508E7A20}" type="slidenum">
              <a:t>64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 geek jok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s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next confronted with a kettle full of water sitting on the counter and told to boil water; she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next confronted with a kettle full of water sitting on the counter and told to boil water: he empties the kettle in the sink, places the empty kettle on the table and says,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’ve reduced this to an already solved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648-07FC-405D-8033-D23A4C23FC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ductions from a Special Case to a General Ca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t-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Vertex-Co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re a sub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ze at mos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every edge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t least one endpoint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 (i.e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ll edge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t-Cov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, a collectio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,…,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ubsets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es there exist a collection of at mos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whose union is equal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C59-CB9D-40C7-836A-E64077A5A9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9000" y="146160"/>
            <a:ext cx="748836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Simple Reduc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3200" y="14886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…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tex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set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all edges that touch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’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learly polynomial-time to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prove that the resulting algorithm gives the right ans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17D-EDE0-45EA-9A4B-9720A56FFF8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1T02:39:18Z</dcterms:created>
  <dc:creator>Paul Beame</dc:creator>
  <dc:description/>
  <dc:language>en-US</dc:language>
  <cp:lastModifiedBy>beame</cp:lastModifiedBy>
  <cp:lastPrinted>2000-07-01T21:41:59Z</cp:lastPrinted>
  <dcterms:modified xsi:type="dcterms:W3CDTF">2003-11-06T18:46:27Z</dcterms:modified>
  <cp:revision>119</cp:revision>
  <dc:subject/>
  <dc:title>No Slide Title</dc:title>
</cp:coreProperties>
</file>