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8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8.png" ContentType="image/png"/>
  <Override PartName="/ppt/media/image13.png" ContentType="image/png"/>
  <Override PartName="/ppt/media/image25.jpeg" ContentType="image/jpeg"/>
  <Override PartName="/ppt/media/image10.wmf" ContentType="image/x-wmf"/>
  <Override PartName="/ppt/media/image19.jpeg" ContentType="image/jpeg"/>
  <Override PartName="/ppt/media/image11.png" ContentType="image/png"/>
  <Override PartName="/ppt/media/image9.png" ContentType="image/png"/>
  <Override PartName="/ppt/media/image12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26.jpeg" ContentType="image/jpeg"/>
  <Override PartName="/ppt/media/image4.png" ContentType="image/png"/>
  <Override PartName="/ppt/media/image20.png" ContentType="image/png"/>
  <Override PartName="/ppt/media/image2.jpeg" ContentType="image/jpeg"/>
  <Override PartName="/ppt/media/image1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4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er window:  more detail, more no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4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gger window:  less noise, more d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79D2E-29BC-4ACD-987F-8D453D6549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019040"/>
            <a:ext cx="77724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61D84-42B3-468A-BCE5-BE688B1256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1440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1904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01904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4C897-3879-4889-9775-EDD1EAF115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250236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914400"/>
            <a:ext cx="250236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914400"/>
            <a:ext cx="250236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019040"/>
            <a:ext cx="250236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019040"/>
            <a:ext cx="250236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019040"/>
            <a:ext cx="250236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B19C1-14AD-4B08-B602-DC41C8692C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7926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914400"/>
            <a:ext cx="37926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914400"/>
            <a:ext cx="37926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01904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42303-9E67-4BEB-86CE-EE4C29921D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7926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91440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68480" y="401904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91440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019040"/>
            <a:ext cx="77724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85800" y="4019040"/>
            <a:ext cx="77724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91440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1904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68480" y="401904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250236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13800" y="914400"/>
            <a:ext cx="250236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41440" y="914400"/>
            <a:ext cx="250236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85800" y="4019040"/>
            <a:ext cx="250236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13800" y="4019040"/>
            <a:ext cx="250236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41440" y="4019040"/>
            <a:ext cx="250236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833B3-39AC-4634-9F68-94B4B5F8D0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7926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914400"/>
            <a:ext cx="37926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81F8C-ECC0-401E-AD60-5A156DA015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5124B-48CB-494B-8307-F641F4AB70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3D784-CE76-4D26-8B00-48AAC97598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914400"/>
            <a:ext cx="37926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01904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F83BD-6901-4484-9A17-87DF84088D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7926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91440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01904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2B2B4-E019-4103-A5DD-59515A3167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91440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019040"/>
            <a:ext cx="77724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226A7-6C6B-4EA2-B316-90CBEEFB26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9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9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9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9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9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359480" y="6248160"/>
            <a:ext cx="29232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26FD5-CD17-4A4F-9D1F-04FD584DD6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8580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9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9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9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9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9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ai.sri.com/~luong/research/Meta3DViewer/EpipolarGeo.html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esearch.microsoft.com/~zhang/Papers/TR99-21.pdf" TargetMode="External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www.cs.cornell.edu/rdz/Papers/BVZ-iccv99.pdf" TargetMode="External"/><Relationship Id="rId3" Type="http://schemas.openxmlformats.org/officeDocument/2006/relationships/image" Target="../media/image15.png"/><Relationship Id="rId4" Type="http://schemas.openxmlformats.org/officeDocument/2006/relationships/hyperlink" Target="http://vision.middlebury.edu/stereo/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s.chalmers.se/~een/sis/index-en.s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vision.middlebury.edu/MRF/" TargetMode="External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Anaglyph_3D" TargetMode="External"/><Relationship Id="rId2" Type="http://schemas.openxmlformats.org/officeDocument/2006/relationships/hyperlink" Target="http://www.rainbowsymphony.com/freestuff.html" TargetMode="External"/><Relationship Id="rId3" Type="http://schemas.openxmlformats.org/officeDocument/2006/relationships/hyperlink" Target="http://www.rainbowsymphony.com/freestuff.html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2 due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3 out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nnounceme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0" y="7112160"/>
            <a:ext cx="915660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TexPoint fonts used in EMF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Read the TexPoint manual before you delete this box.: 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  <a:ea typeface="ヒラギノ明朝 ProN W3"/>
              </a:rPr>
              <a:t>AAA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2"/>
          <p:cNvSpPr/>
          <p:nvPr/>
        </p:nvSpPr>
        <p:spPr>
          <a:xfrm flipH="1" flipV="1">
            <a:off x="3446640" y="2050560"/>
            <a:ext cx="2116080" cy="122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3"/>
          <p:cNvSpPr/>
          <p:nvPr/>
        </p:nvSpPr>
        <p:spPr>
          <a:xfrm flipV="1">
            <a:off x="2742480" y="1828800"/>
            <a:ext cx="1523880" cy="1371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tere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2209680" y="2286000"/>
            <a:ext cx="1219320" cy="1752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14087"/>
                </a:lnTo>
                <a:lnTo>
                  <a:pt x="21600" y="21600"/>
                </a:lnTo>
                <a:lnTo>
                  <a:pt x="21600" y="7513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"/>
          <p:cNvSpPr/>
          <p:nvPr/>
        </p:nvSpPr>
        <p:spPr>
          <a:xfrm flipH="1">
            <a:off x="4876920" y="2286000"/>
            <a:ext cx="1218960" cy="1752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14087"/>
                </a:lnTo>
                <a:lnTo>
                  <a:pt x="21600" y="21600"/>
                </a:lnTo>
                <a:lnTo>
                  <a:pt x="21600" y="7513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val 7"/>
          <p:cNvSpPr/>
          <p:nvPr/>
        </p:nvSpPr>
        <p:spPr>
          <a:xfrm>
            <a:off x="2057400" y="36576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Oval 8"/>
          <p:cNvSpPr/>
          <p:nvPr/>
        </p:nvSpPr>
        <p:spPr>
          <a:xfrm>
            <a:off x="2666880" y="3200400"/>
            <a:ext cx="76320" cy="76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Oval 9"/>
          <p:cNvSpPr/>
          <p:nvPr/>
        </p:nvSpPr>
        <p:spPr>
          <a:xfrm>
            <a:off x="5562720" y="3276720"/>
            <a:ext cx="75960" cy="759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Oval 10"/>
          <p:cNvSpPr/>
          <p:nvPr/>
        </p:nvSpPr>
        <p:spPr>
          <a:xfrm>
            <a:off x="6153120" y="363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11"/>
          <p:cNvSpPr/>
          <p:nvPr/>
        </p:nvSpPr>
        <p:spPr>
          <a:xfrm>
            <a:off x="3753000" y="2181240"/>
            <a:ext cx="114120" cy="1141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457200" y="4267080"/>
            <a:ext cx="824220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826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Basic Principle: 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Gives reconstruction as intersection of two r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3"/>
          <p:cNvSpPr/>
          <p:nvPr/>
        </p:nvSpPr>
        <p:spPr>
          <a:xfrm>
            <a:off x="457200" y="5105520"/>
            <a:ext cx="824220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7826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Requi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82640" indent="-28584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camera pose (calibr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82640" indent="-28584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old Italic"/>
                <a:ea typeface="ヒラギノ明朝 ProN W3"/>
              </a:rPr>
              <a:t>point correspond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2"/>
          <p:cNvSpPr/>
          <p:nvPr/>
        </p:nvSpPr>
        <p:spPr>
          <a:xfrm flipH="1" flipV="1">
            <a:off x="3276720" y="2057400"/>
            <a:ext cx="2286000" cy="1371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3"/>
          <p:cNvSpPr/>
          <p:nvPr/>
        </p:nvSpPr>
        <p:spPr>
          <a:xfrm>
            <a:off x="2209680" y="2362320"/>
            <a:ext cx="1219320" cy="1752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14087"/>
                </a:lnTo>
                <a:lnTo>
                  <a:pt x="21600" y="21600"/>
                </a:lnTo>
                <a:lnTo>
                  <a:pt x="21600" y="7513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4"/>
          <p:cNvSpPr/>
          <p:nvPr/>
        </p:nvSpPr>
        <p:spPr>
          <a:xfrm flipH="1">
            <a:off x="4876920" y="2362320"/>
            <a:ext cx="1218960" cy="1752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14087"/>
                </a:lnTo>
                <a:lnTo>
                  <a:pt x="21600" y="21600"/>
                </a:lnTo>
                <a:lnTo>
                  <a:pt x="21600" y="7513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5"/>
          <p:cNvSpPr/>
          <p:nvPr/>
        </p:nvSpPr>
        <p:spPr>
          <a:xfrm flipV="1">
            <a:off x="2666160" y="1905120"/>
            <a:ext cx="1676520" cy="1409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tereo corresponden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27655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Pixel Correspo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rs of points that correspond to same scene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8"/>
          <p:cNvSpPr/>
          <p:nvPr/>
        </p:nvSpPr>
        <p:spPr>
          <a:xfrm>
            <a:off x="2019240" y="377208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Oval 9"/>
          <p:cNvSpPr/>
          <p:nvPr/>
        </p:nvSpPr>
        <p:spPr>
          <a:xfrm>
            <a:off x="6210360" y="377208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457200" y="4572000"/>
            <a:ext cx="8242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826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Epipolar Constra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Reduces correspondence problem to 1D search along </a:t>
            </a:r>
            <a:r>
              <a:rPr b="0" lang="en-US" sz="2000" spc="-1" strike="noStrike">
                <a:solidFill>
                  <a:srgbClr val="000000"/>
                </a:solidFill>
                <a:latin typeface="Arial Italic"/>
                <a:ea typeface="ヒラギノ明朝 ProN W3"/>
              </a:rPr>
              <a:t>conjug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Italic"/>
                <a:ea typeface="ヒラギノ明朝 ProN W3"/>
              </a:rPr>
              <a:t>epipolar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Java demo: 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ヒラギノ明朝 ProN W3"/>
                <a:hlinkClick r:id="rId1"/>
              </a:rPr>
              <a:t>http://www.ai.sri.com/~luong/research/Meta3DViewer/EpipolarGeo.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Group 17"/>
          <p:cNvGrpSpPr/>
          <p:nvPr/>
        </p:nvGrpSpPr>
        <p:grpSpPr>
          <a:xfrm>
            <a:off x="2057400" y="2362320"/>
            <a:ext cx="4191120" cy="1447560"/>
            <a:chOff x="2057400" y="2362320"/>
            <a:chExt cx="4191120" cy="1447560"/>
          </a:xfrm>
        </p:grpSpPr>
        <p:grpSp>
          <p:nvGrpSpPr>
            <p:cNvPr id="154" name="Group 15"/>
            <p:cNvGrpSpPr/>
            <p:nvPr/>
          </p:nvGrpSpPr>
          <p:grpSpPr>
            <a:xfrm>
              <a:off x="2057400" y="2362320"/>
              <a:ext cx="4191120" cy="1447560"/>
              <a:chOff x="2057400" y="2362320"/>
              <a:chExt cx="4191120" cy="1447560"/>
            </a:xfrm>
          </p:grpSpPr>
          <p:sp>
            <p:nvSpPr>
              <p:cNvPr id="155" name="AutoShape 11"/>
              <p:cNvSpPr/>
              <p:nvPr/>
            </p:nvSpPr>
            <p:spPr>
              <a:xfrm>
                <a:off x="2057400" y="2362320"/>
                <a:ext cx="4191120" cy="14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21600" y="21600"/>
                    </a:lnTo>
                    <a:lnTo>
                      <a:pt x="9033" y="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Line 12"/>
              <p:cNvSpPr/>
              <p:nvPr/>
            </p:nvSpPr>
            <p:spPr>
              <a:xfrm>
                <a:off x="4876920" y="2971440"/>
                <a:ext cx="1440" cy="685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Line 13"/>
              <p:cNvSpPr/>
              <p:nvPr/>
            </p:nvSpPr>
            <p:spPr>
              <a:xfrm>
                <a:off x="3429000" y="2971440"/>
                <a:ext cx="1440" cy="761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Line 14"/>
              <p:cNvSpPr/>
              <p:nvPr/>
            </p:nvSpPr>
            <p:spPr>
              <a:xfrm flipH="1" flipV="1">
                <a:off x="3123720" y="2819160"/>
                <a:ext cx="304920" cy="151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Rectangle 16"/>
            <p:cNvSpPr/>
            <p:nvPr/>
          </p:nvSpPr>
          <p:spPr>
            <a:xfrm>
              <a:off x="3422520" y="3198600"/>
              <a:ext cx="145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 Bold"/>
                  <a:ea typeface="ヒラギノ明朝 ProN W3"/>
                </a:rPr>
                <a:t>epipolar pla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Group 20"/>
          <p:cNvGrpSpPr/>
          <p:nvPr/>
        </p:nvGrpSpPr>
        <p:grpSpPr>
          <a:xfrm>
            <a:off x="4876920" y="3031560"/>
            <a:ext cx="2706120" cy="625680"/>
            <a:chOff x="4876920" y="3031560"/>
            <a:chExt cx="2706120" cy="625680"/>
          </a:xfrm>
        </p:grpSpPr>
        <p:sp>
          <p:nvSpPr>
            <p:cNvPr id="161" name="Line 18"/>
            <p:cNvSpPr/>
            <p:nvPr/>
          </p:nvSpPr>
          <p:spPr>
            <a:xfrm flipV="1">
              <a:off x="4876920" y="3199320"/>
              <a:ext cx="1218960" cy="45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19"/>
            <p:cNvSpPr/>
            <p:nvPr/>
          </p:nvSpPr>
          <p:spPr>
            <a:xfrm>
              <a:off x="6162480" y="3031560"/>
              <a:ext cx="1420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old"/>
                  <a:ea typeface="Arial Bold"/>
                </a:rPr>
                <a:t>epipolar li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Group 23"/>
          <p:cNvGrpSpPr/>
          <p:nvPr/>
        </p:nvGrpSpPr>
        <p:grpSpPr>
          <a:xfrm>
            <a:off x="727200" y="2955240"/>
            <a:ext cx="2694960" cy="777960"/>
            <a:chOff x="727200" y="2955240"/>
            <a:chExt cx="2694960" cy="777960"/>
          </a:xfrm>
        </p:grpSpPr>
        <p:sp>
          <p:nvSpPr>
            <p:cNvPr id="164" name="Rectangle 21"/>
            <p:cNvSpPr/>
            <p:nvPr/>
          </p:nvSpPr>
          <p:spPr>
            <a:xfrm>
              <a:off x="727200" y="2955240"/>
              <a:ext cx="1420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old"/>
                  <a:ea typeface="Arial Bold"/>
                </a:rPr>
                <a:t>epipolar li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22"/>
            <p:cNvSpPr/>
            <p:nvPr/>
          </p:nvSpPr>
          <p:spPr>
            <a:xfrm flipH="1" flipV="1">
              <a:off x="2208960" y="3045960"/>
              <a:ext cx="1213200" cy="68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Oval 24"/>
          <p:cNvSpPr/>
          <p:nvPr/>
        </p:nvSpPr>
        <p:spPr>
          <a:xfrm>
            <a:off x="5524560" y="3352680"/>
            <a:ext cx="76320" cy="76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25"/>
          <p:cNvSpPr/>
          <p:nvPr/>
        </p:nvSpPr>
        <p:spPr>
          <a:xfrm>
            <a:off x="2638440" y="3267000"/>
            <a:ext cx="76320" cy="76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Oval 26"/>
          <p:cNvSpPr/>
          <p:nvPr/>
        </p:nvSpPr>
        <p:spPr>
          <a:xfrm>
            <a:off x="3753000" y="2286000"/>
            <a:ext cx="114120" cy="1144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reeform 1"/>
          <p:cNvSpPr/>
          <p:nvPr/>
        </p:nvSpPr>
        <p:spPr>
          <a:xfrm>
            <a:off x="6418440" y="685800"/>
            <a:ext cx="1218960" cy="838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00" y="0"/>
                </a:moveTo>
                <a:lnTo>
                  <a:pt x="1800" y="982"/>
                </a:lnTo>
                <a:lnTo>
                  <a:pt x="1800" y="1964"/>
                </a:lnTo>
                <a:lnTo>
                  <a:pt x="1200" y="2945"/>
                </a:lnTo>
                <a:lnTo>
                  <a:pt x="900" y="3927"/>
                </a:lnTo>
                <a:lnTo>
                  <a:pt x="900" y="4909"/>
                </a:lnTo>
                <a:lnTo>
                  <a:pt x="900" y="5891"/>
                </a:lnTo>
                <a:lnTo>
                  <a:pt x="600" y="6873"/>
                </a:lnTo>
                <a:lnTo>
                  <a:pt x="300" y="7855"/>
                </a:lnTo>
                <a:lnTo>
                  <a:pt x="0" y="8836"/>
                </a:lnTo>
                <a:lnTo>
                  <a:pt x="0" y="9818"/>
                </a:lnTo>
                <a:lnTo>
                  <a:pt x="0" y="10800"/>
                </a:lnTo>
                <a:lnTo>
                  <a:pt x="300" y="11782"/>
                </a:lnTo>
                <a:lnTo>
                  <a:pt x="300" y="12764"/>
                </a:lnTo>
                <a:lnTo>
                  <a:pt x="600" y="13745"/>
                </a:lnTo>
                <a:lnTo>
                  <a:pt x="600" y="14727"/>
                </a:lnTo>
                <a:lnTo>
                  <a:pt x="900" y="15709"/>
                </a:lnTo>
                <a:lnTo>
                  <a:pt x="900" y="16691"/>
                </a:lnTo>
                <a:lnTo>
                  <a:pt x="1200" y="17673"/>
                </a:lnTo>
                <a:lnTo>
                  <a:pt x="1500" y="18655"/>
                </a:lnTo>
                <a:lnTo>
                  <a:pt x="21300" y="21600"/>
                </a:lnTo>
                <a:lnTo>
                  <a:pt x="20100" y="19636"/>
                </a:lnTo>
                <a:lnTo>
                  <a:pt x="19800" y="18655"/>
                </a:lnTo>
                <a:lnTo>
                  <a:pt x="19500" y="17182"/>
                </a:lnTo>
                <a:lnTo>
                  <a:pt x="19200" y="16200"/>
                </a:lnTo>
                <a:lnTo>
                  <a:pt x="18900" y="15218"/>
                </a:lnTo>
                <a:lnTo>
                  <a:pt x="18600" y="14236"/>
                </a:lnTo>
                <a:lnTo>
                  <a:pt x="18600" y="13255"/>
                </a:lnTo>
                <a:lnTo>
                  <a:pt x="18600" y="11782"/>
                </a:lnTo>
                <a:lnTo>
                  <a:pt x="18600" y="10800"/>
                </a:lnTo>
                <a:lnTo>
                  <a:pt x="18600" y="9818"/>
                </a:lnTo>
                <a:lnTo>
                  <a:pt x="19200" y="8836"/>
                </a:lnTo>
                <a:lnTo>
                  <a:pt x="19200" y="7855"/>
                </a:lnTo>
                <a:lnTo>
                  <a:pt x="19500" y="6873"/>
                </a:lnTo>
                <a:lnTo>
                  <a:pt x="20100" y="6382"/>
                </a:lnTo>
                <a:lnTo>
                  <a:pt x="20100" y="5400"/>
                </a:lnTo>
                <a:lnTo>
                  <a:pt x="20700" y="4418"/>
                </a:lnTo>
                <a:lnTo>
                  <a:pt x="21300" y="3927"/>
                </a:lnTo>
                <a:lnTo>
                  <a:pt x="21600" y="2945"/>
                </a:lnTo>
                <a:lnTo>
                  <a:pt x="2100" y="0"/>
                </a:lnTo>
              </a:path>
            </a:pathLst>
          </a:custGeom>
          <a:gradFill rotWithShape="0">
            <a:gsLst>
              <a:gs pos="0">
                <a:srgbClr val="012501"/>
              </a:gs>
              <a:gs pos="100000">
                <a:srgbClr val="037c0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2"/>
          <p:cNvSpPr/>
          <p:nvPr/>
        </p:nvSpPr>
        <p:spPr>
          <a:xfrm>
            <a:off x="3827520" y="4038480"/>
            <a:ext cx="325116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3"/>
          <p:cNvSpPr/>
          <p:nvPr/>
        </p:nvSpPr>
        <p:spPr>
          <a:xfrm flipV="1">
            <a:off x="5147640" y="990360"/>
            <a:ext cx="1795320" cy="177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Freeform 4"/>
          <p:cNvSpPr/>
          <p:nvPr/>
        </p:nvSpPr>
        <p:spPr>
          <a:xfrm>
            <a:off x="3759120" y="1447920"/>
            <a:ext cx="1693800" cy="1600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6048" y="12343"/>
                </a:moveTo>
                <a:lnTo>
                  <a:pt x="21600" y="21600"/>
                </a:lnTo>
                <a:lnTo>
                  <a:pt x="15552" y="9257"/>
                </a:lnTo>
                <a:lnTo>
                  <a:pt x="0" y="0"/>
                </a:lnTo>
                <a:lnTo>
                  <a:pt x="6048" y="12343"/>
                </a:lnTo>
              </a:path>
            </a:pathLst>
          </a:custGeom>
          <a:solidFill>
            <a:srgbClr val="919191"/>
          </a:solidFill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5"/>
          <p:cNvSpPr/>
          <p:nvPr/>
        </p:nvSpPr>
        <p:spPr>
          <a:xfrm flipH="1" flipV="1">
            <a:off x="6943320" y="990360"/>
            <a:ext cx="66600" cy="24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6"/>
          <p:cNvSpPr/>
          <p:nvPr/>
        </p:nvSpPr>
        <p:spPr>
          <a:xfrm flipV="1">
            <a:off x="4469760" y="2743200"/>
            <a:ext cx="677880" cy="66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Freeform 7"/>
          <p:cNvSpPr/>
          <p:nvPr/>
        </p:nvSpPr>
        <p:spPr>
          <a:xfrm>
            <a:off x="6537240" y="2743200"/>
            <a:ext cx="1557360" cy="152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4545"/>
                </a:moveTo>
                <a:lnTo>
                  <a:pt x="0" y="21600"/>
                </a:lnTo>
                <a:lnTo>
                  <a:pt x="21600" y="17055"/>
                </a:lnTo>
                <a:lnTo>
                  <a:pt x="21600" y="0"/>
                </a:lnTo>
                <a:lnTo>
                  <a:pt x="0" y="4545"/>
                </a:lnTo>
              </a:path>
            </a:pathLst>
          </a:custGeom>
          <a:solidFill>
            <a:srgbClr val="919191"/>
          </a:solidFill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8"/>
          <p:cNvSpPr/>
          <p:nvPr/>
        </p:nvSpPr>
        <p:spPr>
          <a:xfrm flipH="1" flipV="1">
            <a:off x="7009920" y="3428640"/>
            <a:ext cx="3492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9"/>
          <p:cNvSpPr/>
          <p:nvPr/>
        </p:nvSpPr>
        <p:spPr>
          <a:xfrm flipV="1">
            <a:off x="3827520" y="3409920"/>
            <a:ext cx="642960" cy="62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0"/>
          <p:cNvSpPr/>
          <p:nvPr/>
        </p:nvSpPr>
        <p:spPr>
          <a:xfrm flipH="1" flipV="1">
            <a:off x="7044840" y="4857840"/>
            <a:ext cx="33480" cy="100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Freeform 11"/>
          <p:cNvSpPr/>
          <p:nvPr/>
        </p:nvSpPr>
        <p:spPr>
          <a:xfrm rot="19860000">
            <a:off x="7031160" y="5854320"/>
            <a:ext cx="284040" cy="484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19" y="21600"/>
                </a:moveTo>
                <a:lnTo>
                  <a:pt x="0" y="1558"/>
                </a:lnTo>
                <a:lnTo>
                  <a:pt x="967" y="921"/>
                </a:lnTo>
                <a:lnTo>
                  <a:pt x="1612" y="991"/>
                </a:lnTo>
                <a:lnTo>
                  <a:pt x="2257" y="921"/>
                </a:lnTo>
                <a:lnTo>
                  <a:pt x="2364" y="708"/>
                </a:lnTo>
                <a:lnTo>
                  <a:pt x="2901" y="779"/>
                </a:lnTo>
                <a:lnTo>
                  <a:pt x="3331" y="496"/>
                </a:lnTo>
                <a:lnTo>
                  <a:pt x="3976" y="637"/>
                </a:lnTo>
                <a:lnTo>
                  <a:pt x="4406" y="425"/>
                </a:lnTo>
                <a:lnTo>
                  <a:pt x="4943" y="354"/>
                </a:lnTo>
                <a:lnTo>
                  <a:pt x="5588" y="212"/>
                </a:lnTo>
                <a:lnTo>
                  <a:pt x="6125" y="283"/>
                </a:lnTo>
                <a:lnTo>
                  <a:pt x="6663" y="212"/>
                </a:lnTo>
                <a:lnTo>
                  <a:pt x="7093" y="0"/>
                </a:lnTo>
                <a:lnTo>
                  <a:pt x="7952" y="0"/>
                </a:lnTo>
                <a:lnTo>
                  <a:pt x="8597" y="71"/>
                </a:lnTo>
                <a:lnTo>
                  <a:pt x="8919" y="71"/>
                </a:lnTo>
                <a:lnTo>
                  <a:pt x="9242" y="212"/>
                </a:lnTo>
                <a:lnTo>
                  <a:pt x="9887" y="283"/>
                </a:lnTo>
                <a:lnTo>
                  <a:pt x="10531" y="496"/>
                </a:lnTo>
                <a:lnTo>
                  <a:pt x="11069" y="496"/>
                </a:lnTo>
                <a:lnTo>
                  <a:pt x="11928" y="708"/>
                </a:lnTo>
                <a:lnTo>
                  <a:pt x="12358" y="850"/>
                </a:lnTo>
                <a:lnTo>
                  <a:pt x="13003" y="779"/>
                </a:lnTo>
                <a:lnTo>
                  <a:pt x="13433" y="1133"/>
                </a:lnTo>
                <a:lnTo>
                  <a:pt x="14078" y="1204"/>
                </a:lnTo>
                <a:lnTo>
                  <a:pt x="14507" y="1346"/>
                </a:lnTo>
                <a:lnTo>
                  <a:pt x="15045" y="1487"/>
                </a:lnTo>
                <a:lnTo>
                  <a:pt x="15260" y="1700"/>
                </a:lnTo>
                <a:lnTo>
                  <a:pt x="15690" y="1912"/>
                </a:lnTo>
                <a:lnTo>
                  <a:pt x="16227" y="2195"/>
                </a:lnTo>
                <a:lnTo>
                  <a:pt x="16442" y="2479"/>
                </a:lnTo>
                <a:lnTo>
                  <a:pt x="16764" y="2550"/>
                </a:lnTo>
                <a:lnTo>
                  <a:pt x="17194" y="2904"/>
                </a:lnTo>
                <a:lnTo>
                  <a:pt x="17516" y="3116"/>
                </a:lnTo>
                <a:lnTo>
                  <a:pt x="18054" y="3258"/>
                </a:lnTo>
                <a:lnTo>
                  <a:pt x="18484" y="3541"/>
                </a:lnTo>
                <a:lnTo>
                  <a:pt x="18913" y="3753"/>
                </a:lnTo>
                <a:lnTo>
                  <a:pt x="19128" y="3895"/>
                </a:lnTo>
                <a:lnTo>
                  <a:pt x="19558" y="4178"/>
                </a:lnTo>
                <a:lnTo>
                  <a:pt x="19881" y="4391"/>
                </a:lnTo>
                <a:lnTo>
                  <a:pt x="19988" y="4745"/>
                </a:lnTo>
                <a:lnTo>
                  <a:pt x="20310" y="5170"/>
                </a:lnTo>
                <a:lnTo>
                  <a:pt x="20633" y="5382"/>
                </a:lnTo>
                <a:lnTo>
                  <a:pt x="21063" y="5666"/>
                </a:lnTo>
                <a:lnTo>
                  <a:pt x="21278" y="5949"/>
                </a:lnTo>
                <a:lnTo>
                  <a:pt x="21493" y="6374"/>
                </a:lnTo>
                <a:lnTo>
                  <a:pt x="21600" y="7011"/>
                </a:lnTo>
                <a:lnTo>
                  <a:pt x="1719" y="21600"/>
                </a:lnTo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Freeform 12"/>
          <p:cNvSpPr/>
          <p:nvPr/>
        </p:nvSpPr>
        <p:spPr>
          <a:xfrm rot="18480000">
            <a:off x="6993720" y="5836320"/>
            <a:ext cx="209520" cy="23652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0" y="0"/>
                </a:moveTo>
                <a:cubicBezTo>
                  <a:pt x="48" y="0"/>
                  <a:pt x="95" y="-1"/>
                  <a:pt x="144" y="0"/>
                </a:cubicBezTo>
                <a:cubicBezTo>
                  <a:pt x="11993" y="0"/>
                  <a:pt x="21600" y="9670"/>
                  <a:pt x="21600" y="21599"/>
                </a:cubicBez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3"/>
          <p:cNvSpPr/>
          <p:nvPr/>
        </p:nvSpPr>
        <p:spPr>
          <a:xfrm>
            <a:off x="6845400" y="5818320"/>
            <a:ext cx="341280" cy="549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Oval 14"/>
          <p:cNvSpPr/>
          <p:nvPr/>
        </p:nvSpPr>
        <p:spPr>
          <a:xfrm rot="15900000">
            <a:off x="7037280" y="5838120"/>
            <a:ext cx="112680" cy="1764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5"/>
          <p:cNvSpPr/>
          <p:nvPr/>
        </p:nvSpPr>
        <p:spPr>
          <a:xfrm flipV="1">
            <a:off x="7186680" y="5763960"/>
            <a:ext cx="101520" cy="601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Freeform 16"/>
          <p:cNvSpPr/>
          <p:nvPr/>
        </p:nvSpPr>
        <p:spPr>
          <a:xfrm rot="1139400">
            <a:off x="3566880" y="4025520"/>
            <a:ext cx="284040" cy="484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19" y="21600"/>
                </a:moveTo>
                <a:lnTo>
                  <a:pt x="0" y="1558"/>
                </a:lnTo>
                <a:lnTo>
                  <a:pt x="967" y="921"/>
                </a:lnTo>
                <a:lnTo>
                  <a:pt x="1612" y="991"/>
                </a:lnTo>
                <a:lnTo>
                  <a:pt x="2257" y="921"/>
                </a:lnTo>
                <a:lnTo>
                  <a:pt x="2364" y="708"/>
                </a:lnTo>
                <a:lnTo>
                  <a:pt x="2901" y="779"/>
                </a:lnTo>
                <a:lnTo>
                  <a:pt x="3331" y="496"/>
                </a:lnTo>
                <a:lnTo>
                  <a:pt x="3976" y="637"/>
                </a:lnTo>
                <a:lnTo>
                  <a:pt x="4406" y="425"/>
                </a:lnTo>
                <a:lnTo>
                  <a:pt x="4943" y="354"/>
                </a:lnTo>
                <a:lnTo>
                  <a:pt x="5588" y="212"/>
                </a:lnTo>
                <a:lnTo>
                  <a:pt x="6125" y="283"/>
                </a:lnTo>
                <a:lnTo>
                  <a:pt x="6663" y="212"/>
                </a:lnTo>
                <a:lnTo>
                  <a:pt x="7093" y="0"/>
                </a:lnTo>
                <a:lnTo>
                  <a:pt x="7952" y="0"/>
                </a:lnTo>
                <a:lnTo>
                  <a:pt x="8597" y="71"/>
                </a:lnTo>
                <a:lnTo>
                  <a:pt x="8919" y="71"/>
                </a:lnTo>
                <a:lnTo>
                  <a:pt x="9242" y="212"/>
                </a:lnTo>
                <a:lnTo>
                  <a:pt x="9887" y="283"/>
                </a:lnTo>
                <a:lnTo>
                  <a:pt x="10531" y="496"/>
                </a:lnTo>
                <a:lnTo>
                  <a:pt x="11069" y="496"/>
                </a:lnTo>
                <a:lnTo>
                  <a:pt x="11928" y="708"/>
                </a:lnTo>
                <a:lnTo>
                  <a:pt x="12358" y="850"/>
                </a:lnTo>
                <a:lnTo>
                  <a:pt x="13003" y="779"/>
                </a:lnTo>
                <a:lnTo>
                  <a:pt x="13433" y="1133"/>
                </a:lnTo>
                <a:lnTo>
                  <a:pt x="14078" y="1204"/>
                </a:lnTo>
                <a:lnTo>
                  <a:pt x="14507" y="1346"/>
                </a:lnTo>
                <a:lnTo>
                  <a:pt x="15045" y="1487"/>
                </a:lnTo>
                <a:lnTo>
                  <a:pt x="15260" y="1700"/>
                </a:lnTo>
                <a:lnTo>
                  <a:pt x="15690" y="1912"/>
                </a:lnTo>
                <a:lnTo>
                  <a:pt x="16227" y="2195"/>
                </a:lnTo>
                <a:lnTo>
                  <a:pt x="16442" y="2479"/>
                </a:lnTo>
                <a:lnTo>
                  <a:pt x="16764" y="2550"/>
                </a:lnTo>
                <a:lnTo>
                  <a:pt x="17194" y="2904"/>
                </a:lnTo>
                <a:lnTo>
                  <a:pt x="17516" y="3116"/>
                </a:lnTo>
                <a:lnTo>
                  <a:pt x="18054" y="3258"/>
                </a:lnTo>
                <a:lnTo>
                  <a:pt x="18484" y="3541"/>
                </a:lnTo>
                <a:lnTo>
                  <a:pt x="18913" y="3753"/>
                </a:lnTo>
                <a:lnTo>
                  <a:pt x="19128" y="3895"/>
                </a:lnTo>
                <a:lnTo>
                  <a:pt x="19558" y="4178"/>
                </a:lnTo>
                <a:lnTo>
                  <a:pt x="19881" y="4391"/>
                </a:lnTo>
                <a:lnTo>
                  <a:pt x="19988" y="4745"/>
                </a:lnTo>
                <a:lnTo>
                  <a:pt x="20310" y="5170"/>
                </a:lnTo>
                <a:lnTo>
                  <a:pt x="20633" y="5382"/>
                </a:lnTo>
                <a:lnTo>
                  <a:pt x="21063" y="5666"/>
                </a:lnTo>
                <a:lnTo>
                  <a:pt x="21278" y="5949"/>
                </a:lnTo>
                <a:lnTo>
                  <a:pt x="21493" y="6374"/>
                </a:lnTo>
                <a:lnTo>
                  <a:pt x="21600" y="7011"/>
                </a:lnTo>
                <a:lnTo>
                  <a:pt x="1719" y="21600"/>
                </a:lnTo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Freeform 17"/>
          <p:cNvSpPr/>
          <p:nvPr/>
        </p:nvSpPr>
        <p:spPr>
          <a:xfrm rot="21360000">
            <a:off x="3657600" y="3997080"/>
            <a:ext cx="209520" cy="23652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0" y="0"/>
                </a:moveTo>
                <a:cubicBezTo>
                  <a:pt x="48" y="0"/>
                  <a:pt x="95" y="-1"/>
                  <a:pt x="144" y="0"/>
                </a:cubicBezTo>
                <a:cubicBezTo>
                  <a:pt x="11993" y="0"/>
                  <a:pt x="21600" y="9670"/>
                  <a:pt x="21600" y="21599"/>
                </a:cubicBez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18"/>
          <p:cNvSpPr/>
          <p:nvPr/>
        </p:nvSpPr>
        <p:spPr>
          <a:xfrm flipH="1">
            <a:off x="3517560" y="3835440"/>
            <a:ext cx="181080" cy="620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Oval 19"/>
          <p:cNvSpPr/>
          <p:nvPr/>
        </p:nvSpPr>
        <p:spPr>
          <a:xfrm rot="18780000">
            <a:off x="3722760" y="4008240"/>
            <a:ext cx="112680" cy="1760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20"/>
          <p:cNvSpPr/>
          <p:nvPr/>
        </p:nvSpPr>
        <p:spPr>
          <a:xfrm flipV="1">
            <a:off x="3517200" y="4130280"/>
            <a:ext cx="515880" cy="327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tereo image rectific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22"/>
          <p:cNvSpPr/>
          <p:nvPr/>
        </p:nvSpPr>
        <p:spPr>
          <a:xfrm>
            <a:off x="6983280" y="3397320"/>
            <a:ext cx="55800" cy="63360"/>
          </a:xfrm>
          <a:prstGeom prst="ellipse">
            <a:avLst/>
          </a:prstGeom>
          <a:solidFill>
            <a:srgbClr val="037c0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Oval 23"/>
          <p:cNvSpPr/>
          <p:nvPr/>
        </p:nvSpPr>
        <p:spPr>
          <a:xfrm>
            <a:off x="5119560" y="2730600"/>
            <a:ext cx="57240" cy="63360"/>
          </a:xfrm>
          <a:prstGeom prst="ellipse">
            <a:avLst/>
          </a:prstGeom>
          <a:solidFill>
            <a:srgbClr val="037c0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reeform 1"/>
          <p:cNvSpPr/>
          <p:nvPr/>
        </p:nvSpPr>
        <p:spPr>
          <a:xfrm>
            <a:off x="6418440" y="685800"/>
            <a:ext cx="1218960" cy="838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00" y="0"/>
                </a:moveTo>
                <a:lnTo>
                  <a:pt x="1800" y="982"/>
                </a:lnTo>
                <a:lnTo>
                  <a:pt x="1800" y="1964"/>
                </a:lnTo>
                <a:lnTo>
                  <a:pt x="1200" y="2945"/>
                </a:lnTo>
                <a:lnTo>
                  <a:pt x="900" y="3927"/>
                </a:lnTo>
                <a:lnTo>
                  <a:pt x="900" y="4909"/>
                </a:lnTo>
                <a:lnTo>
                  <a:pt x="900" y="5891"/>
                </a:lnTo>
                <a:lnTo>
                  <a:pt x="600" y="6873"/>
                </a:lnTo>
                <a:lnTo>
                  <a:pt x="300" y="7855"/>
                </a:lnTo>
                <a:lnTo>
                  <a:pt x="0" y="8836"/>
                </a:lnTo>
                <a:lnTo>
                  <a:pt x="0" y="9818"/>
                </a:lnTo>
                <a:lnTo>
                  <a:pt x="0" y="10800"/>
                </a:lnTo>
                <a:lnTo>
                  <a:pt x="300" y="11782"/>
                </a:lnTo>
                <a:lnTo>
                  <a:pt x="300" y="12764"/>
                </a:lnTo>
                <a:lnTo>
                  <a:pt x="600" y="13745"/>
                </a:lnTo>
                <a:lnTo>
                  <a:pt x="600" y="14727"/>
                </a:lnTo>
                <a:lnTo>
                  <a:pt x="900" y="15709"/>
                </a:lnTo>
                <a:lnTo>
                  <a:pt x="900" y="16691"/>
                </a:lnTo>
                <a:lnTo>
                  <a:pt x="1200" y="17673"/>
                </a:lnTo>
                <a:lnTo>
                  <a:pt x="1500" y="18655"/>
                </a:lnTo>
                <a:lnTo>
                  <a:pt x="21300" y="21600"/>
                </a:lnTo>
                <a:lnTo>
                  <a:pt x="20100" y="19636"/>
                </a:lnTo>
                <a:lnTo>
                  <a:pt x="19800" y="18655"/>
                </a:lnTo>
                <a:lnTo>
                  <a:pt x="19500" y="17182"/>
                </a:lnTo>
                <a:lnTo>
                  <a:pt x="19200" y="16200"/>
                </a:lnTo>
                <a:lnTo>
                  <a:pt x="18900" y="15218"/>
                </a:lnTo>
                <a:lnTo>
                  <a:pt x="18600" y="14236"/>
                </a:lnTo>
                <a:lnTo>
                  <a:pt x="18600" y="13255"/>
                </a:lnTo>
                <a:lnTo>
                  <a:pt x="18600" y="11782"/>
                </a:lnTo>
                <a:lnTo>
                  <a:pt x="18600" y="10800"/>
                </a:lnTo>
                <a:lnTo>
                  <a:pt x="18600" y="9818"/>
                </a:lnTo>
                <a:lnTo>
                  <a:pt x="19200" y="8836"/>
                </a:lnTo>
                <a:lnTo>
                  <a:pt x="19200" y="7855"/>
                </a:lnTo>
                <a:lnTo>
                  <a:pt x="19500" y="6873"/>
                </a:lnTo>
                <a:lnTo>
                  <a:pt x="20100" y="6382"/>
                </a:lnTo>
                <a:lnTo>
                  <a:pt x="20100" y="5400"/>
                </a:lnTo>
                <a:lnTo>
                  <a:pt x="20700" y="4418"/>
                </a:lnTo>
                <a:lnTo>
                  <a:pt x="21300" y="3927"/>
                </a:lnTo>
                <a:lnTo>
                  <a:pt x="21600" y="2945"/>
                </a:lnTo>
                <a:lnTo>
                  <a:pt x="2100" y="0"/>
                </a:lnTo>
              </a:path>
            </a:pathLst>
          </a:custGeom>
          <a:gradFill rotWithShape="0">
            <a:gsLst>
              <a:gs pos="0">
                <a:srgbClr val="012501"/>
              </a:gs>
              <a:gs pos="100000">
                <a:srgbClr val="037c0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2"/>
          <p:cNvSpPr/>
          <p:nvPr/>
        </p:nvSpPr>
        <p:spPr>
          <a:xfrm>
            <a:off x="3827520" y="4038480"/>
            <a:ext cx="325116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3"/>
          <p:cNvSpPr/>
          <p:nvPr/>
        </p:nvSpPr>
        <p:spPr>
          <a:xfrm flipV="1">
            <a:off x="5147640" y="990360"/>
            <a:ext cx="1795320" cy="177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Freeform 4"/>
          <p:cNvSpPr/>
          <p:nvPr/>
        </p:nvSpPr>
        <p:spPr>
          <a:xfrm>
            <a:off x="3759120" y="1447920"/>
            <a:ext cx="1693800" cy="1600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6048" y="12343"/>
                </a:moveTo>
                <a:lnTo>
                  <a:pt x="21600" y="21600"/>
                </a:lnTo>
                <a:lnTo>
                  <a:pt x="15552" y="9257"/>
                </a:lnTo>
                <a:lnTo>
                  <a:pt x="0" y="0"/>
                </a:lnTo>
                <a:lnTo>
                  <a:pt x="6048" y="12343"/>
                </a:lnTo>
              </a:path>
            </a:pathLst>
          </a:custGeom>
          <a:solidFill>
            <a:srgbClr val="919191"/>
          </a:solidFill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5"/>
          <p:cNvSpPr/>
          <p:nvPr/>
        </p:nvSpPr>
        <p:spPr>
          <a:xfrm flipH="1" flipV="1">
            <a:off x="6943320" y="990360"/>
            <a:ext cx="66600" cy="24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6"/>
          <p:cNvSpPr/>
          <p:nvPr/>
        </p:nvSpPr>
        <p:spPr>
          <a:xfrm flipV="1">
            <a:off x="4469760" y="2743200"/>
            <a:ext cx="677880" cy="66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Freeform 7"/>
          <p:cNvSpPr/>
          <p:nvPr/>
        </p:nvSpPr>
        <p:spPr>
          <a:xfrm>
            <a:off x="3624120" y="2219400"/>
            <a:ext cx="1219320" cy="2000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4194"/>
                </a:moveTo>
                <a:lnTo>
                  <a:pt x="21600" y="21600"/>
                </a:lnTo>
                <a:lnTo>
                  <a:pt x="21600" y="7097"/>
                </a:lnTo>
                <a:lnTo>
                  <a:pt x="0" y="0"/>
                </a:lnTo>
                <a:lnTo>
                  <a:pt x="0" y="14194"/>
                </a:lnTo>
              </a:path>
            </a:pathLst>
          </a:custGeom>
          <a:solidFill>
            <a:srgbClr val="febf02"/>
          </a:solidFill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Freeform 8"/>
          <p:cNvSpPr/>
          <p:nvPr/>
        </p:nvSpPr>
        <p:spPr>
          <a:xfrm>
            <a:off x="6537240" y="2743200"/>
            <a:ext cx="1557360" cy="152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4545"/>
                </a:moveTo>
                <a:lnTo>
                  <a:pt x="0" y="21600"/>
                </a:lnTo>
                <a:lnTo>
                  <a:pt x="21600" y="17055"/>
                </a:lnTo>
                <a:lnTo>
                  <a:pt x="21600" y="0"/>
                </a:lnTo>
                <a:lnTo>
                  <a:pt x="0" y="4545"/>
                </a:lnTo>
              </a:path>
            </a:pathLst>
          </a:custGeom>
          <a:solidFill>
            <a:srgbClr val="919191"/>
          </a:solidFill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9"/>
          <p:cNvSpPr/>
          <p:nvPr/>
        </p:nvSpPr>
        <p:spPr>
          <a:xfrm flipH="1" flipV="1">
            <a:off x="7009920" y="3428640"/>
            <a:ext cx="3492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Freeform 10"/>
          <p:cNvSpPr/>
          <p:nvPr/>
        </p:nvSpPr>
        <p:spPr>
          <a:xfrm>
            <a:off x="6740640" y="3936960"/>
            <a:ext cx="1218960" cy="2000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4194"/>
                </a:moveTo>
                <a:lnTo>
                  <a:pt x="21600" y="21600"/>
                </a:lnTo>
                <a:lnTo>
                  <a:pt x="21600" y="7097"/>
                </a:lnTo>
                <a:lnTo>
                  <a:pt x="0" y="0"/>
                </a:lnTo>
                <a:lnTo>
                  <a:pt x="0" y="14194"/>
                </a:lnTo>
              </a:path>
            </a:pathLst>
          </a:custGeom>
          <a:solidFill>
            <a:srgbClr val="febf02"/>
          </a:solidFill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1"/>
          <p:cNvSpPr/>
          <p:nvPr/>
        </p:nvSpPr>
        <p:spPr>
          <a:xfrm flipV="1">
            <a:off x="3827520" y="3409920"/>
            <a:ext cx="642960" cy="62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12"/>
          <p:cNvSpPr/>
          <p:nvPr/>
        </p:nvSpPr>
        <p:spPr>
          <a:xfrm flipH="1" flipV="1">
            <a:off x="7044840" y="4857840"/>
            <a:ext cx="33480" cy="100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Oval 13"/>
          <p:cNvSpPr/>
          <p:nvPr/>
        </p:nvSpPr>
        <p:spPr>
          <a:xfrm>
            <a:off x="6983280" y="3397320"/>
            <a:ext cx="55800" cy="63360"/>
          </a:xfrm>
          <a:prstGeom prst="ellipse">
            <a:avLst/>
          </a:prstGeom>
          <a:solidFill>
            <a:srgbClr val="037c0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Oval 14"/>
          <p:cNvSpPr/>
          <p:nvPr/>
        </p:nvSpPr>
        <p:spPr>
          <a:xfrm>
            <a:off x="5119560" y="2730600"/>
            <a:ext cx="57240" cy="63360"/>
          </a:xfrm>
          <a:prstGeom prst="ellipse">
            <a:avLst/>
          </a:prstGeom>
          <a:solidFill>
            <a:srgbClr val="037c0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Freeform 15"/>
          <p:cNvSpPr/>
          <p:nvPr/>
        </p:nvSpPr>
        <p:spPr>
          <a:xfrm rot="720000">
            <a:off x="3669840" y="4003200"/>
            <a:ext cx="211320" cy="23832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0" y="0"/>
                </a:moveTo>
                <a:cubicBezTo>
                  <a:pt x="48" y="0"/>
                  <a:pt x="95" y="-1"/>
                  <a:pt x="144" y="0"/>
                </a:cubicBezTo>
                <a:cubicBezTo>
                  <a:pt x="11993" y="0"/>
                  <a:pt x="21600" y="9670"/>
                  <a:pt x="21600" y="21599"/>
                </a:cubicBez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6"/>
          <p:cNvSpPr/>
          <p:nvPr/>
        </p:nvSpPr>
        <p:spPr>
          <a:xfrm flipH="1">
            <a:off x="3470400" y="3824280"/>
            <a:ext cx="303120" cy="550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Oval 17"/>
          <p:cNvSpPr/>
          <p:nvPr/>
        </p:nvSpPr>
        <p:spPr>
          <a:xfrm rot="19740000">
            <a:off x="3747960" y="4010040"/>
            <a:ext cx="100080" cy="198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8"/>
          <p:cNvSpPr/>
          <p:nvPr/>
        </p:nvSpPr>
        <p:spPr>
          <a:xfrm flipV="1">
            <a:off x="3469680" y="4230360"/>
            <a:ext cx="55548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Freeform 19"/>
          <p:cNvSpPr/>
          <p:nvPr/>
        </p:nvSpPr>
        <p:spPr>
          <a:xfrm rot="720000">
            <a:off x="6921000" y="5832000"/>
            <a:ext cx="211320" cy="23832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0" y="0"/>
                </a:moveTo>
                <a:cubicBezTo>
                  <a:pt x="48" y="0"/>
                  <a:pt x="95" y="-1"/>
                  <a:pt x="144" y="0"/>
                </a:cubicBezTo>
                <a:cubicBezTo>
                  <a:pt x="11993" y="0"/>
                  <a:pt x="21600" y="9670"/>
                  <a:pt x="21600" y="21599"/>
                </a:cubicBez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20"/>
          <p:cNvSpPr/>
          <p:nvPr/>
        </p:nvSpPr>
        <p:spPr>
          <a:xfrm flipH="1">
            <a:off x="6721560" y="5653080"/>
            <a:ext cx="303120" cy="550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Oval 21"/>
          <p:cNvSpPr/>
          <p:nvPr/>
        </p:nvSpPr>
        <p:spPr>
          <a:xfrm rot="19740000">
            <a:off x="6999120" y="5838840"/>
            <a:ext cx="100080" cy="198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22"/>
          <p:cNvSpPr/>
          <p:nvPr/>
        </p:nvSpPr>
        <p:spPr>
          <a:xfrm flipV="1">
            <a:off x="6720840" y="6059160"/>
            <a:ext cx="55548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tereo image rectific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320" y="4754160"/>
            <a:ext cx="5943600" cy="21034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oject image planes onto a comm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e parallel to the line between optical ce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xel motion is horizontal after this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homographies (3x3 transform), one for each input image reproj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 Loop and Z. Zhang.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omputing Rectifying Homographies for Stereo Vis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IEEE Conf. Computer Vision and Pattern Recognition, 199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5"/>
          <p:cNvSpPr/>
          <p:nvPr/>
        </p:nvSpPr>
        <p:spPr>
          <a:xfrm>
            <a:off x="4853160" y="2886120"/>
            <a:ext cx="1893600" cy="1046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26"/>
          <p:cNvSpPr/>
          <p:nvPr/>
        </p:nvSpPr>
        <p:spPr>
          <a:xfrm>
            <a:off x="4844880" y="4216320"/>
            <a:ext cx="1893960" cy="1046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27"/>
          <p:cNvSpPr/>
          <p:nvPr/>
        </p:nvSpPr>
        <p:spPr>
          <a:xfrm>
            <a:off x="3624120" y="2936880"/>
            <a:ext cx="1209960" cy="66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28"/>
          <p:cNvSpPr/>
          <p:nvPr/>
        </p:nvSpPr>
        <p:spPr>
          <a:xfrm>
            <a:off x="6756480" y="4683240"/>
            <a:ext cx="1209600" cy="66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29"/>
          <p:cNvSpPr/>
          <p:nvPr/>
        </p:nvSpPr>
        <p:spPr>
          <a:xfrm>
            <a:off x="4853160" y="3622680"/>
            <a:ext cx="1893600" cy="1046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Oval 30"/>
          <p:cNvSpPr/>
          <p:nvPr/>
        </p:nvSpPr>
        <p:spPr>
          <a:xfrm>
            <a:off x="7016760" y="4809960"/>
            <a:ext cx="57240" cy="63720"/>
          </a:xfrm>
          <a:prstGeom prst="ellipse">
            <a:avLst/>
          </a:prstGeom>
          <a:solidFill>
            <a:srgbClr val="037c0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Oval 31"/>
          <p:cNvSpPr/>
          <p:nvPr/>
        </p:nvSpPr>
        <p:spPr>
          <a:xfrm>
            <a:off x="4441680" y="3378240"/>
            <a:ext cx="57240" cy="63360"/>
          </a:xfrm>
          <a:prstGeom prst="ellipse">
            <a:avLst/>
          </a:prstGeom>
          <a:solidFill>
            <a:srgbClr val="037c0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9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9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19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19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ntr" presetID="19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9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tereo Match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5029200" cy="289872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4"/>
          <p:cNvSpPr/>
          <p:nvPr/>
        </p:nvSpPr>
        <p:spPr>
          <a:xfrm>
            <a:off x="457200" y="4267080"/>
            <a:ext cx="824220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826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Given a pixel in the left image, how to find its matc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Assume the photos have been rectif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Oval 5"/>
          <p:cNvSpPr/>
          <p:nvPr/>
        </p:nvSpPr>
        <p:spPr>
          <a:xfrm>
            <a:off x="3451320" y="3081240"/>
            <a:ext cx="75960" cy="76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Your basic stereo algorith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5029200" cy="2898720"/>
          </a:xfrm>
          <a:prstGeom prst="rect">
            <a:avLst/>
          </a:prstGeom>
          <a:ln w="0">
            <a:noFill/>
          </a:ln>
        </p:spPr>
      </p:pic>
      <p:grpSp>
        <p:nvGrpSpPr>
          <p:cNvPr id="231" name="Group 6"/>
          <p:cNvGrpSpPr/>
          <p:nvPr/>
        </p:nvGrpSpPr>
        <p:grpSpPr>
          <a:xfrm>
            <a:off x="685800" y="3124080"/>
            <a:ext cx="7785000" cy="1447920"/>
            <a:chOff x="685800" y="3124080"/>
            <a:chExt cx="7785000" cy="1447920"/>
          </a:xfrm>
        </p:grpSpPr>
        <p:sp>
          <p:nvSpPr>
            <p:cNvPr id="232" name="Rectangle 4"/>
            <p:cNvSpPr/>
            <p:nvPr/>
          </p:nvSpPr>
          <p:spPr>
            <a:xfrm>
              <a:off x="685800" y="4190760"/>
              <a:ext cx="77850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rmAutofit/>
            </a:bodyPr>
            <a:p>
              <a:pPr marL="496800" indent="-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For each epipolar l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5"/>
            <p:cNvSpPr/>
            <p:nvPr/>
          </p:nvSpPr>
          <p:spPr>
            <a:xfrm>
              <a:off x="2057400" y="3124080"/>
              <a:ext cx="5029200" cy="144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Oval 7"/>
          <p:cNvSpPr/>
          <p:nvPr/>
        </p:nvSpPr>
        <p:spPr>
          <a:xfrm>
            <a:off x="5834160" y="3090960"/>
            <a:ext cx="75960" cy="75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Group 10"/>
          <p:cNvGrpSpPr/>
          <p:nvPr/>
        </p:nvGrpSpPr>
        <p:grpSpPr>
          <a:xfrm>
            <a:off x="685800" y="3081240"/>
            <a:ext cx="7785000" cy="1871640"/>
            <a:chOff x="685800" y="3081240"/>
            <a:chExt cx="7785000" cy="1871640"/>
          </a:xfrm>
        </p:grpSpPr>
        <p:sp>
          <p:nvSpPr>
            <p:cNvPr id="236" name="Oval 8"/>
            <p:cNvSpPr/>
            <p:nvPr/>
          </p:nvSpPr>
          <p:spPr>
            <a:xfrm>
              <a:off x="3451320" y="3081240"/>
              <a:ext cx="7596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Rectangle 9"/>
            <p:cNvSpPr/>
            <p:nvPr/>
          </p:nvSpPr>
          <p:spPr>
            <a:xfrm>
              <a:off x="685800" y="4572000"/>
              <a:ext cx="77850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rmAutofit/>
            </a:bodyPr>
            <a:p>
              <a:pPr marL="496800" indent="-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For each pixel in the left im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Rectangle 11"/>
          <p:cNvSpPr/>
          <p:nvPr/>
        </p:nvSpPr>
        <p:spPr>
          <a:xfrm>
            <a:off x="685800" y="4952880"/>
            <a:ext cx="8470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1258920" indent="-30492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compare with every pixel on same epipolar line in right 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12"/>
          <p:cNvSpPr/>
          <p:nvPr/>
        </p:nvSpPr>
        <p:spPr>
          <a:xfrm>
            <a:off x="685800" y="5334120"/>
            <a:ext cx="84708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1258920" indent="-30492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pick pixel with minimum match 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17"/>
          <p:cNvGrpSpPr/>
          <p:nvPr/>
        </p:nvGrpSpPr>
        <p:grpSpPr>
          <a:xfrm>
            <a:off x="685800" y="2971800"/>
            <a:ext cx="8470800" cy="3454560"/>
            <a:chOff x="685800" y="2971800"/>
            <a:chExt cx="8470800" cy="3454560"/>
          </a:xfrm>
        </p:grpSpPr>
        <p:sp>
          <p:nvSpPr>
            <p:cNvPr id="241" name="Rectangle 13"/>
            <p:cNvSpPr/>
            <p:nvPr/>
          </p:nvSpPr>
          <p:spPr>
            <a:xfrm>
              <a:off x="685800" y="5715000"/>
              <a:ext cx="8470800" cy="71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rmAutofit/>
            </a:bodyPr>
            <a:p>
              <a:pPr marL="496800" indent="-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Improvement:  match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Bold Italic"/>
                  <a:ea typeface="ヒラギノ明朝 ProN W3"/>
                </a:rPr>
                <a:t>window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96800" indent="-457200">
                <a:lnSpc>
                  <a:spcPct val="100000"/>
                </a:lnSpc>
                <a:spcBef>
                  <a:spcPts val="41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This should look familar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2" name="Group 16"/>
            <p:cNvGrpSpPr/>
            <p:nvPr/>
          </p:nvGrpSpPr>
          <p:grpSpPr>
            <a:xfrm>
              <a:off x="3352680" y="2971800"/>
              <a:ext cx="2666880" cy="304920"/>
              <a:chOff x="3352680" y="2971800"/>
              <a:chExt cx="2666880" cy="304920"/>
            </a:xfrm>
          </p:grpSpPr>
          <p:sp>
            <p:nvSpPr>
              <p:cNvPr id="243" name="Rectangle 14"/>
              <p:cNvSpPr/>
              <p:nvPr/>
            </p:nvSpPr>
            <p:spPr>
              <a:xfrm>
                <a:off x="3352680" y="2971800"/>
                <a:ext cx="304920" cy="304920"/>
              </a:xfrm>
              <a:prstGeom prst="rect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Rectangle 15"/>
              <p:cNvSpPr/>
              <p:nvPr/>
            </p:nvSpPr>
            <p:spPr>
              <a:xfrm>
                <a:off x="5715000" y="2971800"/>
                <a:ext cx="304560" cy="304920"/>
              </a:xfrm>
              <a:prstGeom prst="rect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indow siz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33520" y="4419360"/>
            <a:ext cx="259056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er 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r 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4" descr=""/>
          <p:cNvPicPr/>
          <p:nvPr/>
        </p:nvPicPr>
        <p:blipFill>
          <a:blip r:embed="rId1"/>
          <a:stretch/>
        </p:blipFill>
        <p:spPr>
          <a:xfrm>
            <a:off x="533520" y="1057320"/>
            <a:ext cx="2522520" cy="2295360"/>
          </a:xfrm>
          <a:prstGeom prst="rect">
            <a:avLst/>
          </a:prstGeom>
          <a:ln w="0">
            <a:noFill/>
          </a:ln>
        </p:spPr>
      </p:pic>
      <p:grpSp>
        <p:nvGrpSpPr>
          <p:cNvPr id="249" name="Group 8"/>
          <p:cNvGrpSpPr/>
          <p:nvPr/>
        </p:nvGrpSpPr>
        <p:grpSpPr>
          <a:xfrm>
            <a:off x="3352680" y="1012680"/>
            <a:ext cx="5562720" cy="2858400"/>
            <a:chOff x="3352680" y="1012680"/>
            <a:chExt cx="5562720" cy="2858400"/>
          </a:xfrm>
        </p:grpSpPr>
        <p:pic>
          <p:nvPicPr>
            <p:cNvPr id="250" name="Picture 5" descr=""/>
            <p:cNvPicPr/>
            <p:nvPr/>
          </p:nvPicPr>
          <p:blipFill>
            <a:blip r:embed="rId2"/>
            <a:stretch/>
          </p:blipFill>
          <p:spPr>
            <a:xfrm>
              <a:off x="3352680" y="1012680"/>
              <a:ext cx="5562720" cy="25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Rectangle 6"/>
            <p:cNvSpPr/>
            <p:nvPr/>
          </p:nvSpPr>
          <p:spPr>
            <a:xfrm>
              <a:off x="4224240" y="3504960"/>
              <a:ext cx="846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ヒラギノ明朝 ProN W3"/>
                </a:rPr>
                <a:t>W =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Rectangle 7"/>
            <p:cNvSpPr/>
            <p:nvPr/>
          </p:nvSpPr>
          <p:spPr>
            <a:xfrm>
              <a:off x="7010280" y="3504960"/>
              <a:ext cx="998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ヒラギノ明朝 ProN W3"/>
                </a:rPr>
                <a:t>W = 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3" name="Picture 9" descr=""/>
          <p:cNvPicPr/>
          <p:nvPr/>
        </p:nvPicPr>
        <p:blipFill>
          <a:blip r:embed="rId3"/>
          <a:stretch/>
        </p:blipFill>
        <p:spPr>
          <a:xfrm>
            <a:off x="685800" y="1209600"/>
            <a:ext cx="2522520" cy="2295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54" name="Rectangle 10"/>
          <p:cNvSpPr/>
          <p:nvPr/>
        </p:nvSpPr>
        <p:spPr>
          <a:xfrm>
            <a:off x="609480" y="4038480"/>
            <a:ext cx="32133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826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Effect of window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Ink 1" descr=""/>
          <p:cNvPicPr/>
          <p:nvPr/>
        </p:nvPicPr>
        <p:blipFill>
          <a:blip r:embed="rId4"/>
          <a:stretch/>
        </p:blipFill>
        <p:spPr>
          <a:xfrm>
            <a:off x="1712880" y="4719600"/>
            <a:ext cx="1657440" cy="151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tereo resul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4983120" y="2397240"/>
            <a:ext cx="3645000" cy="263988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4"/>
          <p:cNvSpPr/>
          <p:nvPr/>
        </p:nvSpPr>
        <p:spPr>
          <a:xfrm>
            <a:off x="6152040" y="5500800"/>
            <a:ext cx="1666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Ground tru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580040" y="5500800"/>
            <a:ext cx="809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Sc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68680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from University of Tsuku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results on other images without ground tru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7" descr=""/>
          <p:cNvPicPr/>
          <p:nvPr/>
        </p:nvPicPr>
        <p:blipFill>
          <a:blip r:embed="rId2"/>
          <a:stretch/>
        </p:blipFill>
        <p:spPr>
          <a:xfrm>
            <a:off x="423720" y="2209680"/>
            <a:ext cx="4021200" cy="301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sults with window searc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1"/>
          <a:stretch/>
        </p:blipFill>
        <p:spPr>
          <a:xfrm>
            <a:off x="4568760" y="1676520"/>
            <a:ext cx="4422960" cy="320184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4"/>
          <p:cNvSpPr/>
          <p:nvPr/>
        </p:nvSpPr>
        <p:spPr>
          <a:xfrm>
            <a:off x="727920" y="5334120"/>
            <a:ext cx="3141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Window-based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(best window 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Picture 5" descr=""/>
          <p:cNvPicPr/>
          <p:nvPr/>
        </p:nvPicPr>
        <p:blipFill>
          <a:blip r:embed="rId2"/>
          <a:stretch/>
        </p:blipFill>
        <p:spPr>
          <a:xfrm>
            <a:off x="73080" y="1676520"/>
            <a:ext cx="4422600" cy="320184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6"/>
          <p:cNvSpPr/>
          <p:nvPr/>
        </p:nvSpPr>
        <p:spPr>
          <a:xfrm>
            <a:off x="5996520" y="5334120"/>
            <a:ext cx="1666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Ground tru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etter methods exist..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3" descr=""/>
          <p:cNvPicPr/>
          <p:nvPr/>
        </p:nvPicPr>
        <p:blipFill>
          <a:blip r:embed="rId1"/>
          <a:stretch/>
        </p:blipFill>
        <p:spPr>
          <a:xfrm>
            <a:off x="4568760" y="1676520"/>
            <a:ext cx="4422960" cy="320184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4"/>
          <p:cNvSpPr/>
          <p:nvPr/>
        </p:nvSpPr>
        <p:spPr>
          <a:xfrm>
            <a:off x="-331920" y="5334120"/>
            <a:ext cx="575172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State of the art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Boykov et al.,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ea typeface="ヒラギノ明朝 ProN W3"/>
                <a:hlinkClick r:id="rId2"/>
              </a:rPr>
              <a:t>Fast Approximate Energy Minimization via Graph Cut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ctr">
              <a:lnSpc>
                <a:spcPct val="9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International Conference on Computer Vision, September 1999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5996520" y="5334120"/>
            <a:ext cx="1666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Ground tru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6" descr=""/>
          <p:cNvPicPr/>
          <p:nvPr/>
        </p:nvPicPr>
        <p:blipFill>
          <a:blip r:embed="rId3"/>
          <a:stretch/>
        </p:blipFill>
        <p:spPr>
          <a:xfrm>
            <a:off x="380880" y="1676520"/>
            <a:ext cx="4114800" cy="319392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7"/>
          <p:cNvSpPr/>
          <p:nvPr/>
        </p:nvSpPr>
        <p:spPr>
          <a:xfrm>
            <a:off x="80640" y="6337440"/>
            <a:ext cx="87814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954000">
              <a:lnSpc>
                <a:spcPct val="100000"/>
              </a:lnSpc>
              <a:spcBef>
                <a:spcPts val="513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ヒラギノ明朝 ProN W3"/>
              </a:rPr>
              <a:t>For the latest and greatest: 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 Unicode MS"/>
                <a:ea typeface="ヒラギノ明朝 ProN W3"/>
                <a:hlinkClick r:id="rId4"/>
              </a:rPr>
              <a:t>http://vision.middlebury.edu/stereo/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ヒラギノ明朝 ProN W3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tere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5638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eliski, Chapter 10 (through 10.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3385440" y="5364000"/>
            <a:ext cx="280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Single image stereogram, by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ヒラギノ明朝 ProN W3"/>
                <a:hlinkClick r:id="rId1"/>
              </a:rPr>
              <a:t>Niklas 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1600200" y="914400"/>
            <a:ext cx="5943600" cy="44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tereo as energy minimiz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efines a good stereo corresponde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-457200">
              <a:spcBef>
                <a:spcPts val="499"/>
              </a:spcBef>
              <a:buClr>
                <a:srgbClr val="000000"/>
              </a:buClr>
              <a:buSzPct val="99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ch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3960" indent="-457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nt each pixel to find a good match in the other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-457200">
              <a:spcBef>
                <a:spcPts val="499"/>
              </a:spcBef>
              <a:buClr>
                <a:srgbClr val="000000"/>
              </a:buClr>
              <a:buSzPct val="99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ooth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3960" indent="-457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wo pixels are adjacent, they should (usually) move about the same amou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4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5029200" cy="2898720"/>
          </a:xfrm>
          <a:prstGeom prst="rect">
            <a:avLst/>
          </a:prstGeom>
          <a:ln w="0">
            <a:noFill/>
          </a:ln>
        </p:spPr>
      </p:pic>
      <p:sp>
        <p:nvSpPr>
          <p:cNvPr id="280" name="Oval 5"/>
          <p:cNvSpPr/>
          <p:nvPr/>
        </p:nvSpPr>
        <p:spPr>
          <a:xfrm>
            <a:off x="3389400" y="3040200"/>
            <a:ext cx="152280" cy="150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Oval 6"/>
          <p:cNvSpPr/>
          <p:nvPr/>
        </p:nvSpPr>
        <p:spPr>
          <a:xfrm>
            <a:off x="5792760" y="3048120"/>
            <a:ext cx="150840" cy="150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7"/>
          <p:cNvSpPr/>
          <p:nvPr/>
        </p:nvSpPr>
        <p:spPr>
          <a:xfrm flipV="1">
            <a:off x="3580560" y="3124080"/>
            <a:ext cx="2211480" cy="64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Oval 8"/>
          <p:cNvSpPr/>
          <p:nvPr/>
        </p:nvSpPr>
        <p:spPr>
          <a:xfrm>
            <a:off x="3276720" y="2895480"/>
            <a:ext cx="150840" cy="150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Oval 9"/>
          <p:cNvSpPr/>
          <p:nvPr/>
        </p:nvSpPr>
        <p:spPr>
          <a:xfrm>
            <a:off x="5638680" y="2895480"/>
            <a:ext cx="150840" cy="150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0"/>
          <p:cNvSpPr/>
          <p:nvPr/>
        </p:nvSpPr>
        <p:spPr>
          <a:xfrm flipV="1">
            <a:off x="3443400" y="2971800"/>
            <a:ext cx="2209680" cy="79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tereo as global optimiz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sing this mathe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-457200">
              <a:spcBef>
                <a:spcPts val="499"/>
              </a:spcBef>
              <a:buClr>
                <a:srgbClr val="000000"/>
              </a:buClr>
              <a:buSzPct val="99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ch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3960" indent="-457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nt each pixel to find a good match in the other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39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39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-457200">
              <a:spcBef>
                <a:spcPts val="499"/>
              </a:spcBef>
              <a:buClr>
                <a:srgbClr val="000000"/>
              </a:buClr>
              <a:buSzPct val="99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ooth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3960" indent="-457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wo pixels are adjacent, they should (usually) move about the same amou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39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ant to minimize sum of these two cost 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 special type of cost function known as a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F  (Markov Random Fiel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3960" indent="-457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ective and fast algorithms have been recent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11160" indent="-457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ph cuts, belief propagation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811160" indent="-457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more details (and code):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vision.middlebury.edu/MRF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4" descr=""/>
          <p:cNvPicPr/>
          <p:nvPr/>
        </p:nvPicPr>
        <p:blipFill>
          <a:blip r:embed="rId2"/>
          <a:stretch/>
        </p:blipFill>
        <p:spPr>
          <a:xfrm>
            <a:off x="2013120" y="2160720"/>
            <a:ext cx="4644720" cy="5094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5" descr=""/>
          <p:cNvPicPr/>
          <p:nvPr/>
        </p:nvPicPr>
        <p:blipFill>
          <a:blip r:embed="rId3"/>
          <a:stretch/>
        </p:blipFill>
        <p:spPr>
          <a:xfrm>
            <a:off x="2057400" y="3733920"/>
            <a:ext cx="4734000" cy="53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lide Number Placeholder 3"/>
          <p:cNvSpPr/>
          <p:nvPr/>
        </p:nvSpPr>
        <p:spPr>
          <a:xfrm>
            <a:off x="7359480" y="6248520"/>
            <a:ext cx="292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7D177-9606-465E-AE5D-C9B08E4300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iddlebury Stereo Evalu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http://vision.middlebury.edu/stereo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7359480" y="6248520"/>
            <a:ext cx="292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5863D-032D-4097-A022-368423CB68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epth from disparit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27"/>
          <p:cNvGrpSpPr/>
          <p:nvPr/>
        </p:nvGrpSpPr>
        <p:grpSpPr>
          <a:xfrm>
            <a:off x="2741760" y="1450800"/>
            <a:ext cx="3612960" cy="3040200"/>
            <a:chOff x="2741760" y="1450800"/>
            <a:chExt cx="3612960" cy="3040200"/>
          </a:xfrm>
        </p:grpSpPr>
        <p:sp>
          <p:nvSpPr>
            <p:cNvPr id="299" name="Oval 3"/>
            <p:cNvSpPr/>
            <p:nvPr/>
          </p:nvSpPr>
          <p:spPr>
            <a:xfrm>
              <a:off x="3198960" y="40366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Oval 4"/>
            <p:cNvSpPr/>
            <p:nvPr/>
          </p:nvSpPr>
          <p:spPr>
            <a:xfrm>
              <a:off x="5257080" y="40366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Line 5"/>
            <p:cNvSpPr/>
            <p:nvPr/>
          </p:nvSpPr>
          <p:spPr>
            <a:xfrm>
              <a:off x="2741760" y="3503520"/>
              <a:ext cx="99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Line 6"/>
            <p:cNvSpPr/>
            <p:nvPr/>
          </p:nvSpPr>
          <p:spPr>
            <a:xfrm>
              <a:off x="4799880" y="3503520"/>
              <a:ext cx="99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Oval 7"/>
            <p:cNvSpPr/>
            <p:nvPr/>
          </p:nvSpPr>
          <p:spPr>
            <a:xfrm>
              <a:off x="4158000" y="186984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Line 8"/>
            <p:cNvSpPr/>
            <p:nvPr/>
          </p:nvSpPr>
          <p:spPr>
            <a:xfrm flipV="1">
              <a:off x="3274560" y="1903320"/>
              <a:ext cx="914760" cy="213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Line 9"/>
            <p:cNvSpPr/>
            <p:nvPr/>
          </p:nvSpPr>
          <p:spPr>
            <a:xfrm flipH="1" flipV="1">
              <a:off x="4190040" y="1903320"/>
              <a:ext cx="1143360" cy="220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Line 10"/>
            <p:cNvSpPr/>
            <p:nvPr/>
          </p:nvSpPr>
          <p:spPr>
            <a:xfrm flipV="1">
              <a:off x="3242520" y="3503160"/>
              <a:ext cx="18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Rectangle 11"/>
            <p:cNvSpPr/>
            <p:nvPr/>
          </p:nvSpPr>
          <p:spPr>
            <a:xfrm>
              <a:off x="3070080" y="3626280"/>
              <a:ext cx="158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9600" algn="ctr">
                <a:lnSpc>
                  <a:spcPct val="100000"/>
                </a:lnSpc>
                <a:spcBef>
                  <a:spcPts val="5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Oval 12"/>
            <p:cNvSpPr/>
            <p:nvPr/>
          </p:nvSpPr>
          <p:spPr>
            <a:xfrm>
              <a:off x="3471840" y="3460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Oval 13"/>
            <p:cNvSpPr/>
            <p:nvPr/>
          </p:nvSpPr>
          <p:spPr>
            <a:xfrm>
              <a:off x="4985640" y="3460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14"/>
            <p:cNvSpPr/>
            <p:nvPr/>
          </p:nvSpPr>
          <p:spPr>
            <a:xfrm flipV="1">
              <a:off x="5299920" y="3503160"/>
              <a:ext cx="14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15"/>
            <p:cNvSpPr/>
            <p:nvPr/>
          </p:nvSpPr>
          <p:spPr>
            <a:xfrm>
              <a:off x="3198960" y="3427200"/>
              <a:ext cx="30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Rectangle 16"/>
            <p:cNvSpPr/>
            <p:nvPr/>
          </p:nvSpPr>
          <p:spPr>
            <a:xfrm>
              <a:off x="3268440" y="3092760"/>
              <a:ext cx="2210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9600" algn="ctr">
                <a:lnSpc>
                  <a:spcPct val="100000"/>
                </a:lnSpc>
                <a:spcBef>
                  <a:spcPts val="5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17"/>
            <p:cNvSpPr/>
            <p:nvPr/>
          </p:nvSpPr>
          <p:spPr>
            <a:xfrm>
              <a:off x="5028480" y="3427200"/>
              <a:ext cx="2728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Rectangle 18"/>
            <p:cNvSpPr/>
            <p:nvPr/>
          </p:nvSpPr>
          <p:spPr>
            <a:xfrm>
              <a:off x="5035680" y="3092760"/>
              <a:ext cx="2836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9600" algn="ctr">
                <a:lnSpc>
                  <a:spcPct val="100000"/>
                </a:lnSpc>
                <a:spcBef>
                  <a:spcPts val="5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x’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Rectangle 19"/>
            <p:cNvSpPr/>
            <p:nvPr/>
          </p:nvSpPr>
          <p:spPr>
            <a:xfrm>
              <a:off x="3701880" y="4037400"/>
              <a:ext cx="11235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9600" algn="ctr">
                <a:lnSpc>
                  <a:spcPct val="100000"/>
                </a:lnSpc>
                <a:spcBef>
                  <a:spcPts val="5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baselin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20"/>
            <p:cNvSpPr/>
            <p:nvPr/>
          </p:nvSpPr>
          <p:spPr>
            <a:xfrm flipV="1">
              <a:off x="6019560" y="1903320"/>
              <a:ext cx="1440" cy="220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Rectangle 21"/>
            <p:cNvSpPr/>
            <p:nvPr/>
          </p:nvSpPr>
          <p:spPr>
            <a:xfrm>
              <a:off x="6133680" y="2711880"/>
              <a:ext cx="2210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9600" algn="ctr">
                <a:lnSpc>
                  <a:spcPct val="100000"/>
                </a:lnSpc>
                <a:spcBef>
                  <a:spcPts val="5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z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Rectangle 22"/>
            <p:cNvSpPr/>
            <p:nvPr/>
          </p:nvSpPr>
          <p:spPr>
            <a:xfrm>
              <a:off x="2860920" y="4071600"/>
              <a:ext cx="78732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ctr">
              <a:normAutofit/>
            </a:bodyPr>
            <a:p>
              <a:pPr marL="39600" algn="ctr">
                <a:lnSpc>
                  <a:spcPct val="100000"/>
                </a:lnSpc>
                <a:spcBef>
                  <a:spcPts val="5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C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Rectangle 23"/>
            <p:cNvSpPr/>
            <p:nvPr/>
          </p:nvSpPr>
          <p:spPr>
            <a:xfrm>
              <a:off x="4950720" y="4071600"/>
              <a:ext cx="78732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ctr">
              <a:normAutofit/>
            </a:bodyPr>
            <a:p>
              <a:pPr marL="39600" algn="ctr">
                <a:lnSpc>
                  <a:spcPct val="100000"/>
                </a:lnSpc>
                <a:spcBef>
                  <a:spcPts val="5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C’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Rectangle 24"/>
            <p:cNvSpPr/>
            <p:nvPr/>
          </p:nvSpPr>
          <p:spPr>
            <a:xfrm>
              <a:off x="3807360" y="1450800"/>
              <a:ext cx="7873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ctr">
              <a:normAutofit/>
            </a:bodyPr>
            <a:p>
              <a:pPr marL="39600" algn="ctr">
                <a:lnSpc>
                  <a:spcPct val="100000"/>
                </a:lnSpc>
                <a:spcBef>
                  <a:spcPts val="5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Line 25"/>
            <p:cNvSpPr/>
            <p:nvPr/>
          </p:nvSpPr>
          <p:spPr>
            <a:xfrm>
              <a:off x="3319560" y="4070160"/>
              <a:ext cx="1905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Rectangle 26"/>
            <p:cNvSpPr/>
            <p:nvPr/>
          </p:nvSpPr>
          <p:spPr>
            <a:xfrm>
              <a:off x="5313960" y="3626280"/>
              <a:ext cx="158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9600" algn="ctr">
                <a:lnSpc>
                  <a:spcPct val="100000"/>
                </a:lnSpc>
                <a:spcBef>
                  <a:spcPts val="5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3" name="Picture 28" descr=""/>
          <p:cNvPicPr/>
          <p:nvPr/>
        </p:nvPicPr>
        <p:blipFill>
          <a:blip r:embed="rId1"/>
          <a:stretch/>
        </p:blipFill>
        <p:spPr>
          <a:xfrm>
            <a:off x="1828800" y="5257800"/>
            <a:ext cx="578952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al-time stere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5410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robot navigation (and other tas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software-based real-time stereo techniques have been developed (most based on simple discrete sear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4" descr=""/>
          <p:cNvPicPr/>
          <p:nvPr/>
        </p:nvPicPr>
        <p:blipFill>
          <a:blip r:embed="rId1"/>
          <a:stretch/>
        </p:blipFill>
        <p:spPr>
          <a:xfrm>
            <a:off x="2286000" y="1066680"/>
            <a:ext cx="4830840" cy="362448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5"/>
          <p:cNvSpPr/>
          <p:nvPr/>
        </p:nvSpPr>
        <p:spPr>
          <a:xfrm>
            <a:off x="2110680" y="4719600"/>
            <a:ext cx="50540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ea typeface="ヒラギノ明朝 ProN W3"/>
              </a:rPr>
              <a:t>Nomad robo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searches for meteorites in Antar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ea typeface="ヒラギノ明朝 ProN W3"/>
              </a:rPr>
              <a:t>http://www.frc.ri.cmu.edu/projects/meteorobot/index.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2"/>
          <p:cNvSpPr/>
          <p:nvPr/>
        </p:nvSpPr>
        <p:spPr>
          <a:xfrm>
            <a:off x="685800" y="2971800"/>
            <a:ext cx="7861320" cy="25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826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tereo reconstruction pipelin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38480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ibrate came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tify im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disp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dep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5"/>
          <p:cNvSpPr/>
          <p:nvPr/>
        </p:nvSpPr>
        <p:spPr>
          <a:xfrm>
            <a:off x="685800" y="2971800"/>
            <a:ext cx="78613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826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What will cause erro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2"/>
          <p:cNvSpPr/>
          <p:nvPr/>
        </p:nvSpPr>
        <p:spPr>
          <a:xfrm>
            <a:off x="685800" y="2971800"/>
            <a:ext cx="7861320" cy="25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826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Camera calibration err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Poor image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Occlu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Violations of brightness constancy (specular reflecti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Large mo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Low-contrast image reg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tereo reconstruction pipelin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38480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ibrate came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tify im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disp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dep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685800" y="2971800"/>
            <a:ext cx="78613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826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What will cause erro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ctive stereo with structured ligh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5638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“structured” light patterns onto the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fies the correspondence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remove one of the cameras (replace with projec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Group 14"/>
          <p:cNvGrpSpPr/>
          <p:nvPr/>
        </p:nvGrpSpPr>
        <p:grpSpPr>
          <a:xfrm>
            <a:off x="4837680" y="3759120"/>
            <a:ext cx="3696840" cy="1905120"/>
            <a:chOff x="4837680" y="3759120"/>
            <a:chExt cx="3696840" cy="1905120"/>
          </a:xfrm>
        </p:grpSpPr>
        <p:grpSp>
          <p:nvGrpSpPr>
            <p:cNvPr id="343" name="Group 6"/>
            <p:cNvGrpSpPr/>
            <p:nvPr/>
          </p:nvGrpSpPr>
          <p:grpSpPr>
            <a:xfrm>
              <a:off x="6400800" y="4140000"/>
              <a:ext cx="228600" cy="380880"/>
              <a:chOff x="6400800" y="4140000"/>
              <a:chExt cx="228600" cy="380880"/>
            </a:xfrm>
          </p:grpSpPr>
          <p:sp>
            <p:nvSpPr>
              <p:cNvPr id="344" name="Rectangle 4"/>
              <p:cNvSpPr/>
              <p:nvPr/>
            </p:nvSpPr>
            <p:spPr>
              <a:xfrm>
                <a:off x="6477120" y="4292280"/>
                <a:ext cx="152280" cy="76320"/>
              </a:xfrm>
              <a:prstGeom prst="rect">
                <a:avLst/>
              </a:prstGeom>
              <a:solidFill>
                <a:srgbClr val="ff99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Rectangle 5"/>
              <p:cNvSpPr/>
              <p:nvPr/>
            </p:nvSpPr>
            <p:spPr>
              <a:xfrm>
                <a:off x="6400800" y="4140000"/>
                <a:ext cx="152280" cy="380880"/>
              </a:xfrm>
              <a:prstGeom prst="rect">
                <a:avLst/>
              </a:prstGeom>
              <a:solidFill>
                <a:srgbClr val="ff99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6" name="Group 9"/>
            <p:cNvGrpSpPr/>
            <p:nvPr/>
          </p:nvGrpSpPr>
          <p:grpSpPr>
            <a:xfrm>
              <a:off x="5791320" y="4597200"/>
              <a:ext cx="706320" cy="304920"/>
              <a:chOff x="5791320" y="4597200"/>
              <a:chExt cx="706320" cy="304920"/>
            </a:xfrm>
          </p:grpSpPr>
          <p:sp>
            <p:nvSpPr>
              <p:cNvPr id="347" name="Rectangle 7"/>
              <p:cNvSpPr/>
              <p:nvPr/>
            </p:nvSpPr>
            <p:spPr>
              <a:xfrm>
                <a:off x="6269040" y="4717800"/>
                <a:ext cx="228600" cy="763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Rectangle 8"/>
              <p:cNvSpPr/>
              <p:nvPr/>
            </p:nvSpPr>
            <p:spPr>
              <a:xfrm>
                <a:off x="5791320" y="4597200"/>
                <a:ext cx="533520" cy="3049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49" name="Picture 10" descr=""/>
            <p:cNvPicPr/>
            <p:nvPr/>
          </p:nvPicPr>
          <p:blipFill>
            <a:blip r:embed="rId1"/>
            <a:stretch/>
          </p:blipFill>
          <p:spPr>
            <a:xfrm>
              <a:off x="7981920" y="3911400"/>
              <a:ext cx="552600" cy="175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Rectangle 11"/>
            <p:cNvSpPr/>
            <p:nvPr/>
          </p:nvSpPr>
          <p:spPr>
            <a:xfrm>
              <a:off x="5981040" y="3759120"/>
              <a:ext cx="927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camera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Rectangle 12"/>
            <p:cNvSpPr/>
            <p:nvPr/>
          </p:nvSpPr>
          <p:spPr>
            <a:xfrm>
              <a:off x="4837680" y="4565520"/>
              <a:ext cx="870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projec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AutoShape 13"/>
            <p:cNvSpPr/>
            <p:nvPr/>
          </p:nvSpPr>
          <p:spPr>
            <a:xfrm>
              <a:off x="6477120" y="4064040"/>
              <a:ext cx="1523880" cy="1523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972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9720"/>
                  </a:lnTo>
                  <a:close/>
                  <a:moveTo>
                    <a:pt x="0" y="9720"/>
                  </a:moveTo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Rectangle 15"/>
          <p:cNvSpPr/>
          <p:nvPr/>
        </p:nvSpPr>
        <p:spPr>
          <a:xfrm>
            <a:off x="1801440" y="4165560"/>
            <a:ext cx="1483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Microsoft’s Kin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Picture 16" descr=""/>
          <p:cNvPicPr/>
          <p:nvPr/>
        </p:nvPicPr>
        <p:blipFill>
          <a:blip r:embed="rId2"/>
          <a:stretch/>
        </p:blipFill>
        <p:spPr>
          <a:xfrm>
            <a:off x="5396040" y="1244520"/>
            <a:ext cx="2950920" cy="16257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7" descr=""/>
          <p:cNvPicPr/>
          <p:nvPr/>
        </p:nvPicPr>
        <p:blipFill>
          <a:blip r:embed="rId3"/>
          <a:stretch/>
        </p:blipFill>
        <p:spPr>
          <a:xfrm>
            <a:off x="635040" y="1181160"/>
            <a:ext cx="4206960" cy="279396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18"/>
          <p:cNvSpPr/>
          <p:nvPr/>
        </p:nvSpPr>
        <p:spPr>
          <a:xfrm>
            <a:off x="5194440" y="3022560"/>
            <a:ext cx="4012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Times New Roman"/>
                <a:ea typeface="ヒラギノ明朝 ProN W3"/>
              </a:rPr>
              <a:t>http://www.youtube.com/watch?v=7QrnwoO1-8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ctive stereo with structured ligh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4" descr=""/>
          <p:cNvPicPr/>
          <p:nvPr/>
        </p:nvPicPr>
        <p:blipFill>
          <a:blip r:embed="rId1"/>
          <a:stretch/>
        </p:blipFill>
        <p:spPr>
          <a:xfrm>
            <a:off x="1909800" y="1490760"/>
            <a:ext cx="5324400" cy="387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aser scann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51055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cal triang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a single stripe of laser 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 it across the surface of the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very precise version of structured light sc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4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3918240" cy="25909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5" descr=""/>
          <p:cNvPicPr/>
          <p:nvPr/>
        </p:nvPicPr>
        <p:blipFill>
          <a:blip r:embed="rId2"/>
          <a:stretch/>
        </p:blipFill>
        <p:spPr>
          <a:xfrm>
            <a:off x="4830840" y="1352520"/>
            <a:ext cx="3932280" cy="245736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6"/>
          <p:cNvSpPr/>
          <p:nvPr/>
        </p:nvSpPr>
        <p:spPr>
          <a:xfrm>
            <a:off x="5101560" y="3881520"/>
            <a:ext cx="3403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Digital Michelangelo Pro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ea typeface="ヒラギノ明朝 ProN W3"/>
              </a:rPr>
              <a:t>http://graphics.stanford.edu/projects/mich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782040" cy="39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aser scanned model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3" descr=""/>
          <p:cNvPicPr/>
          <p:nvPr/>
        </p:nvPicPr>
        <p:blipFill>
          <a:blip r:embed="rId1"/>
          <a:stretch/>
        </p:blipFill>
        <p:spPr>
          <a:xfrm>
            <a:off x="2208240" y="1023840"/>
            <a:ext cx="4802040" cy="4996080"/>
          </a:xfrm>
          <a:prstGeom prst="rect">
            <a:avLst/>
          </a:prstGeom>
          <a:ln w="0">
            <a:noFill/>
          </a:ln>
        </p:spPr>
      </p:pic>
      <p:sp>
        <p:nvSpPr>
          <p:cNvPr id="370" name="Rectangle 4"/>
          <p:cNvSpPr/>
          <p:nvPr/>
        </p:nvSpPr>
        <p:spPr>
          <a:xfrm>
            <a:off x="2255760" y="6099120"/>
            <a:ext cx="473724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 fontScale="80000"/>
          </a:bodyPr>
          <a:p>
            <a:pPr marL="626040" indent="-2286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Italic"/>
                <a:ea typeface="ヒラギノ明朝 ProN W3"/>
              </a:rPr>
              <a:t>The Digital Michelangelo Projec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, Levoy et 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2"/>
          <p:cNvSpPr/>
          <p:nvPr/>
        </p:nvSpPr>
        <p:spPr>
          <a:xfrm>
            <a:off x="533520" y="762120"/>
            <a:ext cx="8001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aser scanned model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4"/>
          <p:cNvSpPr/>
          <p:nvPr/>
        </p:nvSpPr>
        <p:spPr>
          <a:xfrm>
            <a:off x="2255760" y="6099120"/>
            <a:ext cx="473724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 fontScale="80000"/>
          </a:bodyPr>
          <a:p>
            <a:pPr marL="626040" indent="-2286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Italic"/>
                <a:ea typeface="ヒラギノ明朝 ProN W3"/>
              </a:rPr>
              <a:t>The Digital Michelangelo Projec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, Levoy et 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Picture 5" descr=""/>
          <p:cNvPicPr/>
          <p:nvPr/>
        </p:nvPicPr>
        <p:blipFill>
          <a:blip r:embed="rId1"/>
          <a:stretch/>
        </p:blipFill>
        <p:spPr>
          <a:xfrm>
            <a:off x="2235240" y="846000"/>
            <a:ext cx="4780080" cy="52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aser scanned model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3" descr=""/>
          <p:cNvPicPr/>
          <p:nvPr/>
        </p:nvPicPr>
        <p:blipFill>
          <a:blip r:embed="rId1"/>
          <a:stretch/>
        </p:blipFill>
        <p:spPr>
          <a:xfrm>
            <a:off x="1592280" y="995400"/>
            <a:ext cx="6205680" cy="4976640"/>
          </a:xfrm>
          <a:prstGeom prst="rect">
            <a:avLst/>
          </a:prstGeom>
          <a:ln w="0">
            <a:noFill/>
          </a:ln>
        </p:spPr>
      </p:pic>
      <p:sp>
        <p:nvSpPr>
          <p:cNvPr id="379" name="Rectangle 4"/>
          <p:cNvSpPr/>
          <p:nvPr/>
        </p:nvSpPr>
        <p:spPr>
          <a:xfrm>
            <a:off x="2255760" y="6099120"/>
            <a:ext cx="473724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 fontScale="80000"/>
          </a:bodyPr>
          <a:p>
            <a:pPr marL="626040" indent="-2286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Italic"/>
                <a:ea typeface="ヒラギノ明朝 ProN W3"/>
              </a:rPr>
              <a:t>The Digital Michelangelo Projec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, Levoy et 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2"/>
          <p:cNvSpPr/>
          <p:nvPr/>
        </p:nvSpPr>
        <p:spPr>
          <a:xfrm>
            <a:off x="533520" y="762120"/>
            <a:ext cx="8001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aser scanned model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4" descr=""/>
          <p:cNvPicPr/>
          <p:nvPr/>
        </p:nvPicPr>
        <p:blipFill>
          <a:blip r:embed="rId1"/>
          <a:stretch/>
        </p:blipFill>
        <p:spPr>
          <a:xfrm>
            <a:off x="1138320" y="1657440"/>
            <a:ext cx="7472160" cy="4286160"/>
          </a:xfrm>
          <a:prstGeom prst="rect">
            <a:avLst/>
          </a:prstGeom>
          <a:ln w="0">
            <a:noFill/>
          </a:ln>
        </p:spPr>
      </p:pic>
      <p:sp>
        <p:nvSpPr>
          <p:cNvPr id="384" name="Rectangle 5"/>
          <p:cNvSpPr/>
          <p:nvPr/>
        </p:nvSpPr>
        <p:spPr>
          <a:xfrm>
            <a:off x="2255760" y="6099120"/>
            <a:ext cx="473724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 fontScale="80000"/>
          </a:bodyPr>
          <a:p>
            <a:pPr marL="626040" indent="-2286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Italic"/>
                <a:ea typeface="ヒラギノ明朝 ProN W3"/>
              </a:rPr>
              <a:t>The Digital Michelangelo Projec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, Levoy et 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aser scanned model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1579680" y="1039680"/>
            <a:ext cx="6026040" cy="498492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4"/>
          <p:cNvSpPr/>
          <p:nvPr/>
        </p:nvSpPr>
        <p:spPr>
          <a:xfrm>
            <a:off x="2255760" y="6099120"/>
            <a:ext cx="473724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 fontScale="80000"/>
          </a:bodyPr>
          <a:p>
            <a:pPr marL="626040" indent="-2286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Italic"/>
                <a:ea typeface="ヒラギノ明朝 ProN W3"/>
              </a:rPr>
              <a:t>The Digital Michelangelo Projec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, Levoy et 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2286000" y="533520"/>
            <a:ext cx="4572000" cy="53496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4"/>
          <p:cNvSpPr/>
          <p:nvPr/>
        </p:nvSpPr>
        <p:spPr>
          <a:xfrm>
            <a:off x="-63360" y="6184800"/>
            <a:ext cx="897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rm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old"/>
                <a:ea typeface="ヒラギノ明朝 ProN W3"/>
              </a:rPr>
              <a:t>Public Library, Stereoscopic Looking Room, Chicago, by Phillips, 19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0" y="3594240"/>
            <a:ext cx="915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2"/>
          <a:stretch/>
        </p:blipFill>
        <p:spPr>
          <a:xfrm>
            <a:off x="3352680" y="6477120"/>
            <a:ext cx="2438640" cy="28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2462040" y="343080"/>
            <a:ext cx="4243680" cy="59054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4"/>
          <p:cNvSpPr/>
          <p:nvPr/>
        </p:nvSpPr>
        <p:spPr>
          <a:xfrm>
            <a:off x="12600" y="6235560"/>
            <a:ext cx="9156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rm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old"/>
                <a:ea typeface="ヒラギノ明朝 ProN W3"/>
              </a:rPr>
              <a:t>Teesta suspension bridge-Darjeeling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1981080" y="609480"/>
            <a:ext cx="5110200" cy="54864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2120760" y="6119640"/>
            <a:ext cx="491508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rm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old"/>
                <a:ea typeface="ヒラギノ明朝 ProN W3"/>
              </a:rPr>
              <a:t>Woman getting eye exam during immigration procedure at Ellis Island, c. 1905 - 1920</a:t>
            </a:r>
            <a:r>
              <a:rPr b="0" lang="en-US" sz="1200" spc="-1" strike="noStrike">
                <a:solidFill>
                  <a:srgbClr val="ffffff"/>
                </a:solidFill>
                <a:latin typeface="Georgia Bold"/>
                <a:ea typeface="ヒラギノ明朝 ProN W3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old"/>
                <a:ea typeface="ヒラギノ明朝 ProN W3"/>
              </a:rPr>
              <a:t>, UCR Museum of Ph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2514600" y="457200"/>
            <a:ext cx="4173480" cy="563868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4"/>
          <p:cNvSpPr/>
          <p:nvPr/>
        </p:nvSpPr>
        <p:spPr>
          <a:xfrm>
            <a:off x="1968480" y="6215040"/>
            <a:ext cx="528336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rm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old"/>
                <a:ea typeface="ヒラギノ明朝 ProN W3"/>
              </a:rPr>
              <a:t>Mark Twain at Pool Table", no date, UCR Museum of Phot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naglyphs onlin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used to maintain of list of sites, but too hard to keep up to date.  Instead, see wikipedia p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n.wikipedia.org/wiki/Anaglyph_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355680" y="3505320"/>
            <a:ext cx="8400600" cy="518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A free pair of red-blue stereo glasses can be ordered from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ea typeface="ヒラギノ明朝 ProN W3"/>
                <a:hlinkClick r:id="rId2"/>
              </a:rPr>
              <a:t>Rainbow Symphony I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ヒラギノ明朝 ProN W3"/>
              </a:rPr>
              <a:t>http://www.rainbowsy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ヒラギノ明朝 ProN W3"/>
                <a:hlinkClick r:id="rId3"/>
              </a:rPr>
              <a:t>mphony.com/freestuff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tere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3"/>
          <p:cNvSpPr/>
          <p:nvPr/>
        </p:nvSpPr>
        <p:spPr>
          <a:xfrm>
            <a:off x="2209680" y="2300400"/>
            <a:ext cx="1219320" cy="1752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14087"/>
                </a:lnTo>
                <a:lnTo>
                  <a:pt x="21600" y="21600"/>
                </a:lnTo>
                <a:lnTo>
                  <a:pt x="21600" y="7513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4"/>
          <p:cNvSpPr/>
          <p:nvPr/>
        </p:nvSpPr>
        <p:spPr>
          <a:xfrm flipH="1">
            <a:off x="4876920" y="2300400"/>
            <a:ext cx="1218960" cy="1752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14087"/>
                </a:lnTo>
                <a:lnTo>
                  <a:pt x="21600" y="21600"/>
                </a:lnTo>
                <a:lnTo>
                  <a:pt x="21600" y="7513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Oval 5"/>
          <p:cNvSpPr/>
          <p:nvPr/>
        </p:nvSpPr>
        <p:spPr>
          <a:xfrm>
            <a:off x="2057400" y="367200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6"/>
          <p:cNvSpPr/>
          <p:nvPr/>
        </p:nvSpPr>
        <p:spPr>
          <a:xfrm>
            <a:off x="5562720" y="3290760"/>
            <a:ext cx="609480" cy="3812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7"/>
          <p:cNvSpPr/>
          <p:nvPr/>
        </p:nvSpPr>
        <p:spPr>
          <a:xfrm>
            <a:off x="3809880" y="2300400"/>
            <a:ext cx="1752840" cy="99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8"/>
          <p:cNvSpPr/>
          <p:nvPr/>
        </p:nvSpPr>
        <p:spPr>
          <a:xfrm flipV="1">
            <a:off x="2742480" y="2300400"/>
            <a:ext cx="106668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9"/>
          <p:cNvSpPr/>
          <p:nvPr/>
        </p:nvSpPr>
        <p:spPr>
          <a:xfrm flipV="1">
            <a:off x="2133000" y="3214800"/>
            <a:ext cx="609480" cy="4572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10"/>
          <p:cNvSpPr/>
          <p:nvPr/>
        </p:nvSpPr>
        <p:spPr>
          <a:xfrm>
            <a:off x="2666880" y="3214800"/>
            <a:ext cx="76320" cy="759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Oval 11"/>
          <p:cNvSpPr/>
          <p:nvPr/>
        </p:nvSpPr>
        <p:spPr>
          <a:xfrm>
            <a:off x="5562720" y="3290760"/>
            <a:ext cx="75960" cy="76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Oval 12"/>
          <p:cNvSpPr/>
          <p:nvPr/>
        </p:nvSpPr>
        <p:spPr>
          <a:xfrm>
            <a:off x="6153120" y="365292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13"/>
          <p:cNvSpPr/>
          <p:nvPr/>
        </p:nvSpPr>
        <p:spPr>
          <a:xfrm>
            <a:off x="3772080" y="2224080"/>
            <a:ext cx="114120" cy="1144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4"/>
          <p:cNvSpPr/>
          <p:nvPr/>
        </p:nvSpPr>
        <p:spPr>
          <a:xfrm>
            <a:off x="3207960" y="1888200"/>
            <a:ext cx="132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old"/>
                <a:ea typeface="Arial Bold"/>
              </a:rPr>
              <a:t>scene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5"/>
          <p:cNvSpPr/>
          <p:nvPr/>
        </p:nvSpPr>
        <p:spPr>
          <a:xfrm>
            <a:off x="1191600" y="3869280"/>
            <a:ext cx="1545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old"/>
                <a:ea typeface="Arial Bold"/>
              </a:rPr>
              <a:t>optical c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2720160" y="3350160"/>
            <a:ext cx="14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old"/>
                <a:ea typeface="Arial Bold"/>
              </a:rPr>
              <a:t>image pl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eve Seitz</dc:creator>
  <dc:description/>
  <cp:keywords/>
  <dc:language>en-US</dc:language>
  <cp:lastModifiedBy>seitz</cp:lastModifiedBy>
  <dcterms:modified xsi:type="dcterms:W3CDTF">2015-05-14T02:12:45Z</dcterms:modified>
  <cp:revision>8</cp:revision>
  <dc:subject/>
  <dc:title>Computer Vision:  Stereo</dc:title>
</cp:coreProperties>
</file>