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3.jpeg" ContentType="image/jpeg"/>
  <Override PartName="/ppt/media/image10.png" ContentType="image/png"/>
  <Override PartName="/ppt/media/image8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13.wmf" ContentType="image/x-wmf"/>
  <Override PartName="/ppt/media/image11.png" ContentType="image/png"/>
  <Override PartName="/ppt/media/image12.png" ContentType="image/png"/>
  <Override PartName="/ppt/media/image31.jpeg" ContentType="image/jpeg"/>
  <Override PartName="/ppt/media/image25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6CC4-60BB-4143-BA59-0AC6CBE7E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4D38-D3A7-4C76-9579-D4D9E1440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10A8-294F-449B-9EC1-80B7518CE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C5D5-BD7C-49C6-91E1-1DBFEC31F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5E97-597F-4315-A599-FA8AB391C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6891-C539-4D78-81E6-24FE9308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2A00-4A9E-44BF-87AB-59F601F64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7677-5875-4219-BE37-E395BFD2A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FABC-09E4-46E2-82C2-495921551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937E-A6BE-475B-934E-F9B6AC1AF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FD90-BF2B-4547-B69B-6B2C30FF3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0B03-1367-4E36-8492-C26CB4539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FB4-84B4-42FB-A2C6-6BCB63BDD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Rea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sliski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052800" y="933480"/>
            <a:ext cx="2887560" cy="401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022560" y="4952880"/>
            <a:ext cx="285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Sandlot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nk 1" descr=""/>
          <p:cNvPicPr/>
          <p:nvPr/>
        </p:nvPicPr>
        <p:blipFill>
          <a:blip r:embed="rId1"/>
          <a:stretch/>
        </p:blipFill>
        <p:spPr>
          <a:xfrm>
            <a:off x="3325680" y="2181240"/>
            <a:ext cx="20415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cluste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initialize the cluster centers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cluster centers, determine points in each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oint p, find the closes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Put p into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points in each cluster, solve for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the mean of points in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changed, repeat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 demo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https://miguelmota.com/blog/k-means-clustering-in-javascript/dem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converge to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“local minim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lobal minimum of objectiv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611440" y="6121440"/>
            <a:ext cx="39038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eaning up the res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gram-based segmentation can produce messy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 do not have to b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contain h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se be fix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798240" y="6259680"/>
            <a:ext cx="197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hotoshop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358" descr="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59"/>
          <p:cNvSpPr/>
          <p:nvPr/>
        </p:nvSpPr>
        <p:spPr>
          <a:xfrm>
            <a:off x="304920" y="5105520"/>
            <a:ext cx="862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lation:  does H “overlap” F around [x,y]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[x,y] = 1 if H[u,v] and F[x+u-1,y+v-1] are both 1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ome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60"/>
          <p:cNvSpPr/>
          <p:nvPr/>
        </p:nvSpPr>
        <p:spPr>
          <a:xfrm>
            <a:off x="2743200" y="250020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61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62" descr="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63" descr=""/>
          <p:cNvPicPr/>
          <p:nvPr/>
        </p:nvPicPr>
        <p:blipFill>
          <a:blip r:embed="rId3"/>
          <a:stretch/>
        </p:blipFill>
        <p:spPr>
          <a:xfrm>
            <a:off x="4343400" y="324000"/>
            <a:ext cx="2532240" cy="393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64" descr=""/>
          <p:cNvPicPr/>
          <p:nvPr/>
        </p:nvPicPr>
        <p:blipFill>
          <a:blip r:embed="rId4"/>
          <a:stretch/>
        </p:blipFill>
        <p:spPr>
          <a:xfrm>
            <a:off x="2057400" y="6172200"/>
            <a:ext cx="1709640" cy="2649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65"/>
          <p:cNvSpPr/>
          <p:nvPr/>
        </p:nvSpPr>
        <p:spPr>
          <a:xfrm>
            <a:off x="380880" y="2575080"/>
            <a:ext cx="1765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Assum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binar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bris.ac.uk/~majid/mengine/morp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542960" y="2211480"/>
            <a:ext cx="60580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04920" y="5105520"/>
            <a:ext cx="862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osion:  is H “contained in” F around [x,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[x,y] = 1 if F[x+u-1,y+v-1] is 1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every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hat H[u,v] i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: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359" descr="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60"/>
          <p:cNvSpPr/>
          <p:nvPr/>
        </p:nvSpPr>
        <p:spPr>
          <a:xfrm>
            <a:off x="2743200" y="3490920"/>
            <a:ext cx="1168560" cy="10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61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62" descr="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3" descr=""/>
          <p:cNvPicPr/>
          <p:nvPr/>
        </p:nvPicPr>
        <p:blipFill>
          <a:blip r:embed="rId3"/>
          <a:stretch/>
        </p:blipFill>
        <p:spPr>
          <a:xfrm>
            <a:off x="4335480" y="317520"/>
            <a:ext cx="2531880" cy="39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4" descr=""/>
          <p:cNvPicPr/>
          <p:nvPr/>
        </p:nvPicPr>
        <p:blipFill>
          <a:blip r:embed="rId4"/>
          <a:stretch/>
        </p:blipFill>
        <p:spPr>
          <a:xfrm>
            <a:off x="2054160" y="6172200"/>
            <a:ext cx="170964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bris.ac.uk/~majid/mengine/morp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1573200"/>
            <a:ext cx="915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59000"/>
          </a:bodyPr>
          <a:p>
            <a:pPr marL="2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579680" y="2209680"/>
            <a:ext cx="607032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464832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4191120" y="1752480"/>
            <a:ext cx="3504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464832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685800" y="51055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is the same thing as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2136600" y="5634000"/>
            <a:ext cx="2687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1828800"/>
            <a:ext cx="786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://www.dai.ed.ac.uk/HIPR2/op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685800" y="3048120"/>
            <a:ext cx="7785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clean up binary pictures by applying combinations of dilations and ero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lations, erosions, opening, and closing operations are known as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morpholog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://www.dai.ed.ac.uk/HIPR2/moro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m images to o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947880" y="1447920"/>
            <a:ext cx="3108240" cy="234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079960" y="1447920"/>
            <a:ext cx="3106800" cy="234288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200480" y="2590920"/>
            <a:ext cx="67644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fines an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ive problem, but has been well-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estal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 to formaliz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ity, similarity, continuation, closure, common f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"/>
          <p:cNvSpPr/>
          <p:nvPr/>
        </p:nvSpPr>
        <p:spPr>
          <a:xfrm rot="16200000">
            <a:off x="2476440" y="723600"/>
            <a:ext cx="22860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342900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2590920" y="16765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3429000" y="1676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368160" y="1660680"/>
            <a:ext cx="22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ヒラギノ明朝 ProN W3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 flipV="1">
            <a:off x="2590920" y="167652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 flipH="1" flipV="1">
            <a:off x="175212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 flipH="1">
            <a:off x="1752120" y="251460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 flipH="1">
            <a:off x="1752120" y="2514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2590920" y="2514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Fully-conn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for every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 of pixels, </a:t>
            </a:r>
            <a:r>
              <a:rPr b="0" lang="en-US" sz="2000" spc="-1" strike="noStrike">
                <a:solidFill>
                  <a:srgbClr val="0000ff"/>
                </a:solidFill>
                <a:latin typeface="Arial Bold"/>
                <a:ea typeface="Arial Bol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Arial Bold"/>
                <a:ea typeface="Arial Bold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US" sz="2000" spc="-1" strike="noStrike">
                <a:solidFill>
                  <a:srgbClr val="ff0000"/>
                </a:solidFill>
                <a:latin typeface="Arial Bold"/>
                <a:ea typeface="Arial Bold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 Bold"/>
                <a:ea typeface="Arial Bold"/>
              </a:rPr>
              <a:t>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old"/>
                <a:ea typeface="Arial Bold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old"/>
                <a:ea typeface="Arial Bold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s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ity is </a:t>
            </a: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Arial Italic"/>
              </a:rPr>
              <a:t>inversely propor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fference in color and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9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0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2550600" y="2498760"/>
            <a:ext cx="22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ヒラギノ明朝 ProN W3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895480" y="1965240"/>
            <a:ext cx="69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old"/>
                <a:ea typeface="ヒラギノ明朝 ProN W3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 Bold"/>
                <a:ea typeface="ヒラギノ明朝 ProN W3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1752480" y="1676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1752480" y="251460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1752480" y="33526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2"/>
          <p:cNvSpPr/>
          <p:nvPr/>
        </p:nvSpPr>
        <p:spPr>
          <a:xfrm flipH="1">
            <a:off x="2590920" y="33526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342900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>
            <a:off x="1752480" y="16765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5"/>
          <p:cNvSpPr/>
          <p:nvPr/>
        </p:nvSpPr>
        <p:spPr>
          <a:xfrm>
            <a:off x="175248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6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2590920" y="1600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8"/>
          <p:cNvSpPr/>
          <p:nvPr/>
        </p:nvSpPr>
        <p:spPr>
          <a:xfrm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9"/>
          <p:cNvSpPr/>
          <p:nvPr/>
        </p:nvSpPr>
        <p:spPr>
          <a:xfrm flipV="1">
            <a:off x="175176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0"/>
          <p:cNvSpPr/>
          <p:nvPr/>
        </p:nvSpPr>
        <p:spPr>
          <a:xfrm flipH="1" flipV="1">
            <a:off x="175212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175176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4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43"/>
          <p:cNvSpPr/>
          <p:nvPr/>
        </p:nvSpPr>
        <p:spPr>
          <a:xfrm flipH="1" rot="16200000">
            <a:off x="2475360" y="2628720"/>
            <a:ext cx="22860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4" descr=""/>
          <p:cNvPicPr/>
          <p:nvPr/>
        </p:nvPicPr>
        <p:blipFill>
          <a:blip r:embed="rId1"/>
          <a:stretch/>
        </p:blipFill>
        <p:spPr>
          <a:xfrm>
            <a:off x="5029200" y="1133640"/>
            <a:ext cx="2533680" cy="336204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48"/>
          <p:cNvGrpSpPr/>
          <p:nvPr/>
        </p:nvGrpSpPr>
        <p:grpSpPr>
          <a:xfrm>
            <a:off x="5962680" y="2200320"/>
            <a:ext cx="457200" cy="533520"/>
            <a:chOff x="5962680" y="2200320"/>
            <a:chExt cx="457200" cy="533520"/>
          </a:xfrm>
        </p:grpSpPr>
        <p:sp>
          <p:nvSpPr>
            <p:cNvPr id="292" name="Rectangle 45"/>
            <p:cNvSpPr/>
            <p:nvPr/>
          </p:nvSpPr>
          <p:spPr>
            <a:xfrm>
              <a:off x="5962680" y="2657520"/>
              <a:ext cx="76320" cy="76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6343560" y="2200320"/>
              <a:ext cx="76320" cy="76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 flipV="1">
              <a:off x="6000840" y="2238480"/>
              <a:ext cx="342720" cy="419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49"/>
          <p:cNvSpPr/>
          <p:nvPr/>
        </p:nvSpPr>
        <p:spPr>
          <a:xfrm>
            <a:off x="6114960" y="228600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3429000" y="1676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2590920" y="2514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5909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gmentation by Graph Cu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nt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links that cross between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break links that have low cost (low simi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pixels should be in the sam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ilar pixels should be in different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5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16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7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1752480" y="1676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1752480" y="251460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1752480" y="16765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1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37"/>
          <p:cNvGrpSpPr/>
          <p:nvPr/>
        </p:nvGrpSpPr>
        <p:grpSpPr>
          <a:xfrm>
            <a:off x="5494320" y="1133640"/>
            <a:ext cx="2533680" cy="3362040"/>
            <a:chOff x="5494320" y="1133640"/>
            <a:chExt cx="2533680" cy="3362040"/>
          </a:xfrm>
        </p:grpSpPr>
        <p:pic>
          <p:nvPicPr>
            <p:cNvPr id="319" name="Picture 23" descr=""/>
            <p:cNvPicPr/>
            <p:nvPr/>
          </p:nvPicPr>
          <p:blipFill>
            <a:blip r:embed="rId1"/>
            <a:stretch/>
          </p:blipFill>
          <p:spPr>
            <a:xfrm>
              <a:off x="5494320" y="1133640"/>
              <a:ext cx="253368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Freeform 24"/>
            <p:cNvSpPr/>
            <p:nvPr/>
          </p:nvSpPr>
          <p:spPr>
            <a:xfrm>
              <a:off x="5740560" y="1279440"/>
              <a:ext cx="1434960" cy="2957040"/>
            </a:xfrm>
            <a:custGeom>
              <a:avLst/>
              <a:gdLst/>
              <a:ahLst/>
              <a:rect l="l" t="t" r="r" b="b"/>
              <a:pathLst>
                <a:path w="21253" h="21600">
                  <a:moveTo>
                    <a:pt x="0" y="0"/>
                  </a:moveTo>
                  <a:cubicBezTo>
                    <a:pt x="658" y="858"/>
                    <a:pt x="-141" y="603"/>
                    <a:pt x="2867" y="672"/>
                  </a:cubicBezTo>
                  <a:cubicBezTo>
                    <a:pt x="3784" y="730"/>
                    <a:pt x="4536" y="858"/>
                    <a:pt x="5382" y="986"/>
                  </a:cubicBezTo>
                  <a:cubicBezTo>
                    <a:pt x="6158" y="1241"/>
                    <a:pt x="6722" y="1646"/>
                    <a:pt x="7239" y="2029"/>
                  </a:cubicBezTo>
                  <a:cubicBezTo>
                    <a:pt x="7333" y="2087"/>
                    <a:pt x="7404" y="2157"/>
                    <a:pt x="7498" y="2214"/>
                  </a:cubicBezTo>
                  <a:cubicBezTo>
                    <a:pt x="7568" y="2272"/>
                    <a:pt x="7662" y="2342"/>
                    <a:pt x="7733" y="2400"/>
                  </a:cubicBezTo>
                  <a:cubicBezTo>
                    <a:pt x="7827" y="2458"/>
                    <a:pt x="7991" y="2586"/>
                    <a:pt x="7991" y="2586"/>
                  </a:cubicBezTo>
                  <a:cubicBezTo>
                    <a:pt x="8790" y="3838"/>
                    <a:pt x="8579" y="5159"/>
                    <a:pt x="7122" y="6214"/>
                  </a:cubicBezTo>
                  <a:cubicBezTo>
                    <a:pt x="7004" y="6400"/>
                    <a:pt x="6816" y="6609"/>
                    <a:pt x="6628" y="6771"/>
                  </a:cubicBezTo>
                  <a:cubicBezTo>
                    <a:pt x="6487" y="6899"/>
                    <a:pt x="6111" y="7142"/>
                    <a:pt x="6111" y="7142"/>
                  </a:cubicBezTo>
                  <a:cubicBezTo>
                    <a:pt x="5876" y="7525"/>
                    <a:pt x="5382" y="7849"/>
                    <a:pt x="5124" y="8243"/>
                  </a:cubicBezTo>
                  <a:cubicBezTo>
                    <a:pt x="4983" y="9125"/>
                    <a:pt x="4842" y="9728"/>
                    <a:pt x="5006" y="10643"/>
                  </a:cubicBezTo>
                  <a:cubicBezTo>
                    <a:pt x="5053" y="10933"/>
                    <a:pt x="5406" y="10864"/>
                    <a:pt x="5617" y="11200"/>
                  </a:cubicBezTo>
                  <a:cubicBezTo>
                    <a:pt x="5852" y="11571"/>
                    <a:pt x="6182" y="12000"/>
                    <a:pt x="6628" y="12313"/>
                  </a:cubicBezTo>
                  <a:cubicBezTo>
                    <a:pt x="6887" y="12719"/>
                    <a:pt x="7145" y="13530"/>
                    <a:pt x="6487" y="13843"/>
                  </a:cubicBezTo>
                  <a:cubicBezTo>
                    <a:pt x="5946" y="14110"/>
                    <a:pt x="5312" y="14157"/>
                    <a:pt x="4630" y="14284"/>
                  </a:cubicBezTo>
                  <a:cubicBezTo>
                    <a:pt x="4630" y="14284"/>
                    <a:pt x="4137" y="14597"/>
                    <a:pt x="4254" y="14655"/>
                  </a:cubicBezTo>
                  <a:cubicBezTo>
                    <a:pt x="4395" y="14725"/>
                    <a:pt x="5382" y="14806"/>
                    <a:pt x="5617" y="14829"/>
                  </a:cubicBezTo>
                  <a:cubicBezTo>
                    <a:pt x="6863" y="14806"/>
                    <a:pt x="8132" y="14899"/>
                    <a:pt x="9355" y="14771"/>
                  </a:cubicBezTo>
                  <a:cubicBezTo>
                    <a:pt x="9660" y="14736"/>
                    <a:pt x="9872" y="14400"/>
                    <a:pt x="9872" y="14400"/>
                  </a:cubicBezTo>
                  <a:cubicBezTo>
                    <a:pt x="10060" y="13612"/>
                    <a:pt x="10083" y="12951"/>
                    <a:pt x="9613" y="12186"/>
                  </a:cubicBezTo>
                  <a:cubicBezTo>
                    <a:pt x="10248" y="12081"/>
                    <a:pt x="10060" y="12255"/>
                    <a:pt x="10624" y="12429"/>
                  </a:cubicBezTo>
                  <a:cubicBezTo>
                    <a:pt x="10976" y="12707"/>
                    <a:pt x="11000" y="13101"/>
                    <a:pt x="11352" y="13357"/>
                  </a:cubicBezTo>
                  <a:cubicBezTo>
                    <a:pt x="11611" y="13542"/>
                    <a:pt x="12363" y="13786"/>
                    <a:pt x="12363" y="13786"/>
                  </a:cubicBezTo>
                  <a:lnTo>
                    <a:pt x="12974" y="14342"/>
                  </a:lnTo>
                  <a:cubicBezTo>
                    <a:pt x="13162" y="14597"/>
                    <a:pt x="13256" y="14806"/>
                    <a:pt x="13350" y="15084"/>
                  </a:cubicBezTo>
                  <a:cubicBezTo>
                    <a:pt x="13444" y="15675"/>
                    <a:pt x="13421" y="16000"/>
                    <a:pt x="13726" y="16499"/>
                  </a:cubicBezTo>
                  <a:cubicBezTo>
                    <a:pt x="13797" y="16626"/>
                    <a:pt x="13867" y="16754"/>
                    <a:pt x="13985" y="16870"/>
                  </a:cubicBezTo>
                  <a:cubicBezTo>
                    <a:pt x="14126" y="16997"/>
                    <a:pt x="14478" y="17229"/>
                    <a:pt x="14478" y="17229"/>
                  </a:cubicBezTo>
                  <a:cubicBezTo>
                    <a:pt x="14643" y="17484"/>
                    <a:pt x="14925" y="17751"/>
                    <a:pt x="15230" y="17971"/>
                  </a:cubicBezTo>
                  <a:cubicBezTo>
                    <a:pt x="15395" y="18226"/>
                    <a:pt x="15677" y="18493"/>
                    <a:pt x="15983" y="18713"/>
                  </a:cubicBezTo>
                  <a:cubicBezTo>
                    <a:pt x="16194" y="19038"/>
                    <a:pt x="16030" y="18852"/>
                    <a:pt x="16594" y="19270"/>
                  </a:cubicBezTo>
                  <a:cubicBezTo>
                    <a:pt x="16688" y="19328"/>
                    <a:pt x="16852" y="19455"/>
                    <a:pt x="16852" y="19455"/>
                  </a:cubicBezTo>
                  <a:cubicBezTo>
                    <a:pt x="17017" y="19733"/>
                    <a:pt x="17393" y="19942"/>
                    <a:pt x="17722" y="20186"/>
                  </a:cubicBezTo>
                  <a:cubicBezTo>
                    <a:pt x="18451" y="20730"/>
                    <a:pt x="19250" y="21391"/>
                    <a:pt x="20589" y="21600"/>
                  </a:cubicBezTo>
                  <a:cubicBezTo>
                    <a:pt x="21459" y="21461"/>
                    <a:pt x="21224" y="20626"/>
                    <a:pt x="21224" y="2031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25"/>
            <p:cNvSpPr/>
            <p:nvPr/>
          </p:nvSpPr>
          <p:spPr>
            <a:xfrm>
              <a:off x="7062840" y="3520800"/>
              <a:ext cx="793800" cy="725040"/>
            </a:xfrm>
            <a:custGeom>
              <a:avLst/>
              <a:gdLst/>
              <a:ahLst/>
              <a:rect l="l" t="t" r="r" b="b"/>
              <a:pathLst>
                <a:path w="21227" h="21600">
                  <a:moveTo>
                    <a:pt x="2731" y="15314"/>
                  </a:moveTo>
                  <a:cubicBezTo>
                    <a:pt x="2263" y="14983"/>
                    <a:pt x="1838" y="14652"/>
                    <a:pt x="1370" y="14321"/>
                  </a:cubicBezTo>
                  <a:cubicBezTo>
                    <a:pt x="903" y="13990"/>
                    <a:pt x="435" y="12809"/>
                    <a:pt x="435" y="12809"/>
                  </a:cubicBezTo>
                  <a:cubicBezTo>
                    <a:pt x="-203" y="10493"/>
                    <a:pt x="-373" y="7799"/>
                    <a:pt x="1583" y="6286"/>
                  </a:cubicBezTo>
                  <a:cubicBezTo>
                    <a:pt x="2476" y="4774"/>
                    <a:pt x="3369" y="3261"/>
                    <a:pt x="4304" y="1749"/>
                  </a:cubicBezTo>
                  <a:cubicBezTo>
                    <a:pt x="4899" y="756"/>
                    <a:pt x="6728" y="331"/>
                    <a:pt x="7663" y="0"/>
                  </a:cubicBezTo>
                  <a:cubicBezTo>
                    <a:pt x="9917" y="189"/>
                    <a:pt x="10257" y="0"/>
                    <a:pt x="11958" y="520"/>
                  </a:cubicBezTo>
                  <a:cubicBezTo>
                    <a:pt x="12425" y="662"/>
                    <a:pt x="13318" y="993"/>
                    <a:pt x="13318" y="993"/>
                  </a:cubicBezTo>
                  <a:cubicBezTo>
                    <a:pt x="13786" y="1323"/>
                    <a:pt x="14211" y="1702"/>
                    <a:pt x="14679" y="2032"/>
                  </a:cubicBezTo>
                  <a:cubicBezTo>
                    <a:pt x="14892" y="2174"/>
                    <a:pt x="15359" y="2505"/>
                    <a:pt x="15359" y="2505"/>
                  </a:cubicBezTo>
                  <a:cubicBezTo>
                    <a:pt x="16125" y="3781"/>
                    <a:pt x="17358" y="4443"/>
                    <a:pt x="18506" y="5294"/>
                  </a:cubicBezTo>
                  <a:cubicBezTo>
                    <a:pt x="18973" y="5625"/>
                    <a:pt x="19866" y="6286"/>
                    <a:pt x="19866" y="6286"/>
                  </a:cubicBezTo>
                  <a:cubicBezTo>
                    <a:pt x="20292" y="8649"/>
                    <a:pt x="20759" y="10965"/>
                    <a:pt x="21227" y="13329"/>
                  </a:cubicBezTo>
                  <a:cubicBezTo>
                    <a:pt x="21142" y="14227"/>
                    <a:pt x="21184" y="15172"/>
                    <a:pt x="21014" y="16070"/>
                  </a:cubicBezTo>
                  <a:cubicBezTo>
                    <a:pt x="20844" y="16874"/>
                    <a:pt x="20292" y="16874"/>
                    <a:pt x="19866" y="17346"/>
                  </a:cubicBezTo>
                  <a:cubicBezTo>
                    <a:pt x="19058" y="18244"/>
                    <a:pt x="18591" y="19331"/>
                    <a:pt x="17613" y="20088"/>
                  </a:cubicBezTo>
                  <a:cubicBezTo>
                    <a:pt x="17230" y="21411"/>
                    <a:pt x="16380" y="21175"/>
                    <a:pt x="15359" y="21600"/>
                  </a:cubicBezTo>
                  <a:cubicBezTo>
                    <a:pt x="14594" y="21505"/>
                    <a:pt x="13829" y="21458"/>
                    <a:pt x="13106" y="21316"/>
                  </a:cubicBezTo>
                  <a:cubicBezTo>
                    <a:pt x="12638" y="21222"/>
                    <a:pt x="12213" y="20986"/>
                    <a:pt x="11745" y="20844"/>
                  </a:cubicBezTo>
                  <a:cubicBezTo>
                    <a:pt x="11533" y="20749"/>
                    <a:pt x="11065" y="20607"/>
                    <a:pt x="11065" y="20607"/>
                  </a:cubicBezTo>
                  <a:cubicBezTo>
                    <a:pt x="10257" y="19993"/>
                    <a:pt x="9279" y="19426"/>
                    <a:pt x="8344" y="19095"/>
                  </a:cubicBezTo>
                  <a:cubicBezTo>
                    <a:pt x="7536" y="18481"/>
                    <a:pt x="6600" y="17913"/>
                    <a:pt x="5665" y="17582"/>
                  </a:cubicBezTo>
                  <a:cubicBezTo>
                    <a:pt x="4049" y="16354"/>
                    <a:pt x="4007" y="17110"/>
                    <a:pt x="2731" y="15314"/>
                  </a:cubicBezTo>
                  <a:close/>
                  <a:moveTo>
                    <a:pt x="2731" y="15314"/>
                  </a:move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5749920" y="1236600"/>
              <a:ext cx="1735200" cy="22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1186" y="255"/>
                    <a:pt x="2431" y="270"/>
                    <a:pt x="3656" y="330"/>
                  </a:cubicBezTo>
                  <a:cubicBezTo>
                    <a:pt x="4269" y="435"/>
                    <a:pt x="4782" y="585"/>
                    <a:pt x="5336" y="796"/>
                  </a:cubicBezTo>
                  <a:cubicBezTo>
                    <a:pt x="5632" y="916"/>
                    <a:pt x="6284" y="1036"/>
                    <a:pt x="6284" y="1036"/>
                  </a:cubicBezTo>
                  <a:cubicBezTo>
                    <a:pt x="6502" y="1141"/>
                    <a:pt x="6699" y="1261"/>
                    <a:pt x="6917" y="1366"/>
                  </a:cubicBezTo>
                  <a:cubicBezTo>
                    <a:pt x="7213" y="1531"/>
                    <a:pt x="7352" y="1831"/>
                    <a:pt x="7648" y="1996"/>
                  </a:cubicBezTo>
                  <a:cubicBezTo>
                    <a:pt x="7806" y="2387"/>
                    <a:pt x="8083" y="2837"/>
                    <a:pt x="8379" y="3197"/>
                  </a:cubicBezTo>
                  <a:cubicBezTo>
                    <a:pt x="8537" y="3843"/>
                    <a:pt x="8656" y="4473"/>
                    <a:pt x="8913" y="5104"/>
                  </a:cubicBezTo>
                  <a:cubicBezTo>
                    <a:pt x="8972" y="5269"/>
                    <a:pt x="8893" y="5539"/>
                    <a:pt x="9110" y="5584"/>
                  </a:cubicBezTo>
                  <a:cubicBezTo>
                    <a:pt x="9565" y="5689"/>
                    <a:pt x="9328" y="5644"/>
                    <a:pt x="9861" y="5749"/>
                  </a:cubicBezTo>
                  <a:cubicBezTo>
                    <a:pt x="10573" y="5659"/>
                    <a:pt x="10830" y="5569"/>
                    <a:pt x="11541" y="5659"/>
                  </a:cubicBezTo>
                  <a:cubicBezTo>
                    <a:pt x="11936" y="5779"/>
                    <a:pt x="12015" y="5974"/>
                    <a:pt x="12371" y="6139"/>
                  </a:cubicBezTo>
                  <a:cubicBezTo>
                    <a:pt x="12924" y="6740"/>
                    <a:pt x="13260" y="7310"/>
                    <a:pt x="14150" y="7730"/>
                  </a:cubicBezTo>
                  <a:cubicBezTo>
                    <a:pt x="14466" y="8091"/>
                    <a:pt x="14703" y="8391"/>
                    <a:pt x="15098" y="8691"/>
                  </a:cubicBezTo>
                  <a:cubicBezTo>
                    <a:pt x="15335" y="9261"/>
                    <a:pt x="14999" y="8616"/>
                    <a:pt x="15513" y="9096"/>
                  </a:cubicBezTo>
                  <a:cubicBezTo>
                    <a:pt x="15849" y="9397"/>
                    <a:pt x="15968" y="9922"/>
                    <a:pt x="16146" y="10282"/>
                  </a:cubicBezTo>
                  <a:cubicBezTo>
                    <a:pt x="16343" y="10672"/>
                    <a:pt x="16225" y="10447"/>
                    <a:pt x="16462" y="11003"/>
                  </a:cubicBezTo>
                  <a:cubicBezTo>
                    <a:pt x="16501" y="11078"/>
                    <a:pt x="16561" y="11243"/>
                    <a:pt x="16561" y="11243"/>
                  </a:cubicBezTo>
                  <a:cubicBezTo>
                    <a:pt x="16699" y="12023"/>
                    <a:pt x="16383" y="13810"/>
                    <a:pt x="17193" y="14185"/>
                  </a:cubicBezTo>
                  <a:cubicBezTo>
                    <a:pt x="17470" y="14485"/>
                    <a:pt x="17944" y="14710"/>
                    <a:pt x="18359" y="14905"/>
                  </a:cubicBezTo>
                  <a:cubicBezTo>
                    <a:pt x="18418" y="14980"/>
                    <a:pt x="18478" y="15070"/>
                    <a:pt x="18557" y="15146"/>
                  </a:cubicBezTo>
                  <a:cubicBezTo>
                    <a:pt x="18636" y="15221"/>
                    <a:pt x="18794" y="15236"/>
                    <a:pt x="18873" y="15311"/>
                  </a:cubicBezTo>
                  <a:cubicBezTo>
                    <a:pt x="19268" y="15686"/>
                    <a:pt x="18636" y="15461"/>
                    <a:pt x="19308" y="15626"/>
                  </a:cubicBezTo>
                  <a:cubicBezTo>
                    <a:pt x="19367" y="15701"/>
                    <a:pt x="19387" y="15836"/>
                    <a:pt x="19505" y="15866"/>
                  </a:cubicBezTo>
                  <a:cubicBezTo>
                    <a:pt x="19841" y="15956"/>
                    <a:pt x="20434" y="15686"/>
                    <a:pt x="20553" y="15941"/>
                  </a:cubicBezTo>
                  <a:cubicBezTo>
                    <a:pt x="20908" y="16722"/>
                    <a:pt x="20612" y="17592"/>
                    <a:pt x="20671" y="18418"/>
                  </a:cubicBezTo>
                  <a:cubicBezTo>
                    <a:pt x="20691" y="18688"/>
                    <a:pt x="21185" y="19138"/>
                    <a:pt x="21185" y="19138"/>
                  </a:cubicBezTo>
                  <a:cubicBezTo>
                    <a:pt x="21560" y="20069"/>
                    <a:pt x="21600" y="20564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7"/>
            <p:cNvSpPr/>
            <p:nvPr/>
          </p:nvSpPr>
          <p:spPr>
            <a:xfrm>
              <a:off x="7485120" y="2973240"/>
              <a:ext cx="523800" cy="48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9319"/>
                  </a:moveTo>
                  <a:cubicBezTo>
                    <a:pt x="2029" y="18820"/>
                    <a:pt x="4124" y="19034"/>
                    <a:pt x="5956" y="17822"/>
                  </a:cubicBezTo>
                  <a:cubicBezTo>
                    <a:pt x="6611" y="16681"/>
                    <a:pt x="6938" y="15683"/>
                    <a:pt x="7331" y="14400"/>
                  </a:cubicBezTo>
                  <a:cubicBezTo>
                    <a:pt x="6938" y="9339"/>
                    <a:pt x="5040" y="1853"/>
                    <a:pt x="10473" y="0"/>
                  </a:cubicBezTo>
                  <a:cubicBezTo>
                    <a:pt x="11913" y="1069"/>
                    <a:pt x="11913" y="2424"/>
                    <a:pt x="12502" y="4135"/>
                  </a:cubicBezTo>
                  <a:cubicBezTo>
                    <a:pt x="13876" y="8055"/>
                    <a:pt x="14335" y="12547"/>
                    <a:pt x="16036" y="16253"/>
                  </a:cubicBezTo>
                  <a:cubicBezTo>
                    <a:pt x="16822" y="17893"/>
                    <a:pt x="17018" y="17679"/>
                    <a:pt x="18785" y="18962"/>
                  </a:cubicBezTo>
                  <a:cubicBezTo>
                    <a:pt x="19113" y="19248"/>
                    <a:pt x="19178" y="19747"/>
                    <a:pt x="19505" y="20032"/>
                  </a:cubicBezTo>
                  <a:cubicBezTo>
                    <a:pt x="20160" y="20602"/>
                    <a:pt x="216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8"/>
            <p:cNvSpPr/>
            <p:nvPr/>
          </p:nvSpPr>
          <p:spPr>
            <a:xfrm>
              <a:off x="5521320" y="3190680"/>
              <a:ext cx="506520" cy="1190160"/>
            </a:xfrm>
            <a:custGeom>
              <a:avLst/>
              <a:gdLst/>
              <a:ahLst/>
              <a:rect l="l" t="t" r="r" b="b"/>
              <a:pathLst>
                <a:path w="21600" h="21545">
                  <a:moveTo>
                    <a:pt x="0" y="21545"/>
                  </a:moveTo>
                  <a:cubicBezTo>
                    <a:pt x="1761" y="21257"/>
                    <a:pt x="2641" y="21114"/>
                    <a:pt x="4334" y="20625"/>
                  </a:cubicBezTo>
                  <a:cubicBezTo>
                    <a:pt x="4672" y="20510"/>
                    <a:pt x="5417" y="20308"/>
                    <a:pt x="5417" y="20308"/>
                  </a:cubicBezTo>
                  <a:cubicBezTo>
                    <a:pt x="6162" y="19791"/>
                    <a:pt x="6026" y="19934"/>
                    <a:pt x="6500" y="19388"/>
                  </a:cubicBezTo>
                  <a:cubicBezTo>
                    <a:pt x="6703" y="19100"/>
                    <a:pt x="7177" y="18496"/>
                    <a:pt x="7177" y="18496"/>
                  </a:cubicBezTo>
                  <a:cubicBezTo>
                    <a:pt x="8125" y="13147"/>
                    <a:pt x="7177" y="19560"/>
                    <a:pt x="7177" y="9925"/>
                  </a:cubicBezTo>
                  <a:cubicBezTo>
                    <a:pt x="7177" y="8200"/>
                    <a:pt x="6703" y="7193"/>
                    <a:pt x="8667" y="5956"/>
                  </a:cubicBezTo>
                  <a:cubicBezTo>
                    <a:pt x="9344" y="5036"/>
                    <a:pt x="10089" y="4173"/>
                    <a:pt x="10428" y="3224"/>
                  </a:cubicBezTo>
                  <a:cubicBezTo>
                    <a:pt x="10292" y="2303"/>
                    <a:pt x="10292" y="1383"/>
                    <a:pt x="10089" y="463"/>
                  </a:cubicBezTo>
                  <a:cubicBezTo>
                    <a:pt x="10089" y="290"/>
                    <a:pt x="9412" y="60"/>
                    <a:pt x="9750" y="3"/>
                  </a:cubicBezTo>
                  <a:cubicBezTo>
                    <a:pt x="10021" y="-55"/>
                    <a:pt x="12256" y="980"/>
                    <a:pt x="12594" y="1067"/>
                  </a:cubicBezTo>
                  <a:cubicBezTo>
                    <a:pt x="13610" y="2447"/>
                    <a:pt x="19027" y="2303"/>
                    <a:pt x="21600" y="230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"/>
            <p:cNvSpPr/>
            <p:nvPr/>
          </p:nvSpPr>
          <p:spPr>
            <a:xfrm>
              <a:off x="7080120" y="2038320"/>
              <a:ext cx="903240" cy="35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088" y="21406"/>
                    <a:pt x="4176" y="21406"/>
                    <a:pt x="6264" y="21019"/>
                  </a:cubicBezTo>
                  <a:cubicBezTo>
                    <a:pt x="7478" y="20728"/>
                    <a:pt x="9832" y="17532"/>
                    <a:pt x="11085" y="16466"/>
                  </a:cubicBezTo>
                  <a:cubicBezTo>
                    <a:pt x="12186" y="15595"/>
                    <a:pt x="13135" y="14626"/>
                    <a:pt x="14122" y="13367"/>
                  </a:cubicBezTo>
                  <a:cubicBezTo>
                    <a:pt x="14691" y="12592"/>
                    <a:pt x="15944" y="11817"/>
                    <a:pt x="15944" y="11817"/>
                  </a:cubicBezTo>
                  <a:cubicBezTo>
                    <a:pt x="16134" y="11333"/>
                    <a:pt x="16323" y="10655"/>
                    <a:pt x="16551" y="10267"/>
                  </a:cubicBezTo>
                  <a:cubicBezTo>
                    <a:pt x="16741" y="9977"/>
                    <a:pt x="17007" y="10170"/>
                    <a:pt x="17159" y="9783"/>
                  </a:cubicBezTo>
                  <a:cubicBezTo>
                    <a:pt x="17348" y="9396"/>
                    <a:pt x="17348" y="8621"/>
                    <a:pt x="17538" y="8233"/>
                  </a:cubicBezTo>
                  <a:cubicBezTo>
                    <a:pt x="18335" y="6393"/>
                    <a:pt x="19512" y="4456"/>
                    <a:pt x="20575" y="3584"/>
                  </a:cubicBezTo>
                  <a:cubicBezTo>
                    <a:pt x="21410" y="291"/>
                    <a:pt x="20993" y="1259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30"/>
            <p:cNvSpPr/>
            <p:nvPr/>
          </p:nvSpPr>
          <p:spPr>
            <a:xfrm>
              <a:off x="5580000" y="2476440"/>
              <a:ext cx="488880" cy="69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504" y="21600"/>
                  </a:moveTo>
                  <a:cubicBezTo>
                    <a:pt x="6312" y="19489"/>
                    <a:pt x="5260" y="17624"/>
                    <a:pt x="4488" y="15365"/>
                  </a:cubicBezTo>
                  <a:cubicBezTo>
                    <a:pt x="4348" y="15611"/>
                    <a:pt x="4208" y="15905"/>
                    <a:pt x="4138" y="16151"/>
                  </a:cubicBezTo>
                  <a:cubicBezTo>
                    <a:pt x="3997" y="16593"/>
                    <a:pt x="4348" y="17624"/>
                    <a:pt x="3717" y="17476"/>
                  </a:cubicBezTo>
                  <a:cubicBezTo>
                    <a:pt x="2945" y="17329"/>
                    <a:pt x="3436" y="16347"/>
                    <a:pt x="3016" y="15905"/>
                  </a:cubicBezTo>
                  <a:cubicBezTo>
                    <a:pt x="1332" y="14089"/>
                    <a:pt x="1823" y="14924"/>
                    <a:pt x="1122" y="13549"/>
                  </a:cubicBezTo>
                  <a:cubicBezTo>
                    <a:pt x="982" y="12960"/>
                    <a:pt x="912" y="12322"/>
                    <a:pt x="771" y="11733"/>
                  </a:cubicBezTo>
                  <a:cubicBezTo>
                    <a:pt x="561" y="10751"/>
                    <a:pt x="0" y="8836"/>
                    <a:pt x="0" y="8836"/>
                  </a:cubicBezTo>
                  <a:cubicBezTo>
                    <a:pt x="491" y="7118"/>
                    <a:pt x="421" y="7020"/>
                    <a:pt x="2665" y="6529"/>
                  </a:cubicBezTo>
                  <a:cubicBezTo>
                    <a:pt x="3366" y="6185"/>
                    <a:pt x="4138" y="5793"/>
                    <a:pt x="4839" y="5449"/>
                  </a:cubicBezTo>
                  <a:cubicBezTo>
                    <a:pt x="5470" y="5155"/>
                    <a:pt x="7083" y="4958"/>
                    <a:pt x="7083" y="4958"/>
                  </a:cubicBezTo>
                  <a:cubicBezTo>
                    <a:pt x="9678" y="3731"/>
                    <a:pt x="11782" y="3387"/>
                    <a:pt x="14938" y="3142"/>
                  </a:cubicBezTo>
                  <a:cubicBezTo>
                    <a:pt x="16691" y="2700"/>
                    <a:pt x="17673" y="1718"/>
                    <a:pt x="19356" y="1276"/>
                  </a:cubicBezTo>
                  <a:cubicBezTo>
                    <a:pt x="20408" y="196"/>
                    <a:pt x="20548" y="736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1"/>
            <p:cNvSpPr/>
            <p:nvPr/>
          </p:nvSpPr>
          <p:spPr>
            <a:xfrm>
              <a:off x="6297480" y="1177560"/>
              <a:ext cx="17020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77" y="21263"/>
                    <a:pt x="4554" y="21094"/>
                    <a:pt x="6831" y="20588"/>
                  </a:cubicBezTo>
                  <a:cubicBezTo>
                    <a:pt x="7536" y="20419"/>
                    <a:pt x="8181" y="17381"/>
                    <a:pt x="8866" y="17044"/>
                  </a:cubicBezTo>
                  <a:cubicBezTo>
                    <a:pt x="11042" y="15863"/>
                    <a:pt x="13198" y="14850"/>
                    <a:pt x="15394" y="14344"/>
                  </a:cubicBezTo>
                  <a:cubicBezTo>
                    <a:pt x="16442" y="13669"/>
                    <a:pt x="17530" y="12994"/>
                    <a:pt x="18497" y="8944"/>
                  </a:cubicBezTo>
                  <a:cubicBezTo>
                    <a:pt x="19464" y="4894"/>
                    <a:pt x="20472" y="0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35"/>
            <p:cNvGrpSpPr/>
            <p:nvPr/>
          </p:nvGrpSpPr>
          <p:grpSpPr>
            <a:xfrm>
              <a:off x="6400800" y="2199960"/>
              <a:ext cx="457200" cy="532800"/>
              <a:chOff x="6400800" y="2199960"/>
              <a:chExt cx="457200" cy="532800"/>
            </a:xfrm>
          </p:grpSpPr>
          <p:sp>
            <p:nvSpPr>
              <p:cNvPr id="329" name="Rectangle 32"/>
              <p:cNvSpPr/>
              <p:nvPr/>
            </p:nvSpPr>
            <p:spPr>
              <a:xfrm>
                <a:off x="6400800" y="265680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33"/>
              <p:cNvSpPr/>
              <p:nvPr/>
            </p:nvSpPr>
            <p:spPr>
              <a:xfrm>
                <a:off x="6781680" y="219996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34"/>
              <p:cNvSpPr/>
              <p:nvPr/>
            </p:nvSpPr>
            <p:spPr>
              <a:xfrm flipV="1">
                <a:off x="6438960" y="2237400"/>
                <a:ext cx="342720" cy="418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6"/>
            <p:cNvSpPr/>
            <p:nvPr/>
          </p:nvSpPr>
          <p:spPr>
            <a:xfrm>
              <a:off x="6553080" y="2285640"/>
              <a:ext cx="62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Line 38"/>
          <p:cNvSpPr/>
          <p:nvPr/>
        </p:nvSpPr>
        <p:spPr>
          <a:xfrm flipV="1">
            <a:off x="175176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 flipV="1"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0"/>
          <p:cNvSpPr/>
          <p:nvPr/>
        </p:nvSpPr>
        <p:spPr>
          <a:xfrm>
            <a:off x="1560600" y="3429000"/>
            <a:ext cx="28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1"/>
          <p:cNvSpPr/>
          <p:nvPr/>
        </p:nvSpPr>
        <p:spPr>
          <a:xfrm>
            <a:off x="2621160" y="3429000"/>
            <a:ext cx="28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2"/>
          <p:cNvSpPr/>
          <p:nvPr/>
        </p:nvSpPr>
        <p:spPr>
          <a:xfrm>
            <a:off x="3383280" y="3429000"/>
            <a:ext cx="30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links whose removal makes a graph 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a c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18"/>
          <p:cNvCxnSpPr>
            <a:stCxn id="341" idx="0"/>
            <a:endCxn id="351" idx="0"/>
          </p:cNvCxnSpPr>
          <p:nvPr/>
        </p:nvCxnSpPr>
        <p:spPr>
          <a:xfrm>
            <a:off x="2903400" y="1466640"/>
            <a:ext cx="21528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6" name="AutoShape 19"/>
          <p:cNvCxnSpPr>
            <a:stCxn id="343" idx="0"/>
            <a:endCxn id="351" idx="0"/>
          </p:cNvCxnSpPr>
          <p:nvPr/>
        </p:nvCxnSpPr>
        <p:spPr>
          <a:xfrm flipV="1">
            <a:off x="2794680" y="169488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7" name="AutoShape 20"/>
          <p:cNvCxnSpPr>
            <a:stCxn id="343" idx="0"/>
            <a:endCxn id="348" idx="0"/>
          </p:cNvCxnSpPr>
          <p:nvPr/>
        </p:nvCxnSpPr>
        <p:spPr>
          <a:xfrm>
            <a:off x="2795400" y="192384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41" idx="0"/>
            <a:endCxn id="343" idx="0"/>
          </p:cNvCxnSpPr>
          <p:nvPr/>
        </p:nvCxnSpPr>
        <p:spPr>
          <a:xfrm flipH="1">
            <a:off x="2795040" y="1467000"/>
            <a:ext cx="1083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9" name="AutoShape 22"/>
          <p:cNvCxnSpPr>
            <a:stCxn id="351" idx="0"/>
            <a:endCxn id="348" idx="0"/>
          </p:cNvCxnSpPr>
          <p:nvPr/>
        </p:nvCxnSpPr>
        <p:spPr>
          <a:xfrm>
            <a:off x="3117600" y="1695600"/>
            <a:ext cx="108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0" name="AutoShape 23"/>
          <p:cNvCxnSpPr>
            <a:stCxn id="351" idx="0"/>
            <a:endCxn id="342" idx="0"/>
          </p:cNvCxnSpPr>
          <p:nvPr/>
        </p:nvCxnSpPr>
        <p:spPr>
          <a:xfrm flipV="1">
            <a:off x="3116880" y="1351800"/>
            <a:ext cx="214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1" name="AutoShape 24"/>
          <p:cNvCxnSpPr>
            <a:stCxn id="351" idx="0"/>
            <a:endCxn id="344" idx="0"/>
          </p:cNvCxnSpPr>
          <p:nvPr/>
        </p:nvCxnSpPr>
        <p:spPr>
          <a:xfrm>
            <a:off x="3117600" y="1695600"/>
            <a:ext cx="3229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2" name="AutoShape 25"/>
          <p:cNvCxnSpPr>
            <a:stCxn id="348" idx="0"/>
            <a:endCxn id="344" idx="0"/>
          </p:cNvCxnSpPr>
          <p:nvPr/>
        </p:nvCxnSpPr>
        <p:spPr>
          <a:xfrm flipV="1">
            <a:off x="3116880" y="2037960"/>
            <a:ext cx="322920" cy="115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3" name="AutoShape 26"/>
          <p:cNvCxnSpPr>
            <a:stCxn id="341" idx="0"/>
            <a:endCxn id="349" idx="0"/>
          </p:cNvCxnSpPr>
          <p:nvPr/>
        </p:nvCxnSpPr>
        <p:spPr>
          <a:xfrm flipV="1">
            <a:off x="2903400" y="1123200"/>
            <a:ext cx="322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4" name="AutoShape 27"/>
          <p:cNvCxnSpPr>
            <a:stCxn id="349" idx="0"/>
            <a:endCxn id="342" idx="0"/>
          </p:cNvCxnSpPr>
          <p:nvPr/>
        </p:nvCxnSpPr>
        <p:spPr>
          <a:xfrm>
            <a:off x="3225600" y="1123560"/>
            <a:ext cx="106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5" name="AutoShape 28"/>
          <p:cNvCxnSpPr>
            <a:stCxn id="344" idx="0"/>
            <a:endCxn id="345" idx="0"/>
          </p:cNvCxnSpPr>
          <p:nvPr/>
        </p:nvCxnSpPr>
        <p:spPr>
          <a:xfrm flipV="1">
            <a:off x="3440160" y="1695240"/>
            <a:ext cx="4291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6" name="AutoShape 29"/>
          <p:cNvCxnSpPr>
            <a:stCxn id="349" idx="0"/>
            <a:endCxn id="345" idx="0"/>
          </p:cNvCxnSpPr>
          <p:nvPr/>
        </p:nvCxnSpPr>
        <p:spPr>
          <a:xfrm>
            <a:off x="3225600" y="1123920"/>
            <a:ext cx="643320" cy="5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7" name="AutoShape 30"/>
          <p:cNvCxnSpPr>
            <a:stCxn id="351" idx="0"/>
            <a:endCxn id="345" idx="0"/>
          </p:cNvCxnSpPr>
          <p:nvPr/>
        </p:nvCxnSpPr>
        <p:spPr>
          <a:xfrm flipV="1">
            <a:off x="3116880" y="1694880"/>
            <a:ext cx="751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8" name="AutoShape 31"/>
          <p:cNvCxnSpPr>
            <a:stCxn id="346" idx="0"/>
            <a:endCxn id="353" idx="0"/>
          </p:cNvCxnSpPr>
          <p:nvPr/>
        </p:nvCxnSpPr>
        <p:spPr>
          <a:xfrm flipH="1">
            <a:off x="4725720" y="1581120"/>
            <a:ext cx="1087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9" name="AutoShape 32"/>
          <p:cNvCxnSpPr>
            <a:stCxn id="346" idx="0"/>
            <a:endCxn id="352" idx="0"/>
          </p:cNvCxnSpPr>
          <p:nvPr/>
        </p:nvCxnSpPr>
        <p:spPr>
          <a:xfrm flipV="1">
            <a:off x="4833000" y="135180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0" name="AutoShape 33"/>
          <p:cNvCxnSpPr>
            <a:stCxn id="352" idx="0"/>
            <a:endCxn id="347" idx="0"/>
          </p:cNvCxnSpPr>
          <p:nvPr/>
        </p:nvCxnSpPr>
        <p:spPr>
          <a:xfrm>
            <a:off x="5155920" y="1352160"/>
            <a:ext cx="2149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1" name="AutoShape 34"/>
          <p:cNvCxnSpPr>
            <a:stCxn id="353" idx="0"/>
            <a:endCxn id="347" idx="0"/>
          </p:cNvCxnSpPr>
          <p:nvPr/>
        </p:nvCxnSpPr>
        <p:spPr>
          <a:xfrm flipV="1">
            <a:off x="4726080" y="2037600"/>
            <a:ext cx="6451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2" name="AutoShape 35"/>
          <p:cNvCxnSpPr>
            <a:stCxn id="352" idx="0"/>
            <a:endCxn id="350" idx="0"/>
          </p:cNvCxnSpPr>
          <p:nvPr/>
        </p:nvCxnSpPr>
        <p:spPr>
          <a:xfrm>
            <a:off x="5156280" y="1352160"/>
            <a:ext cx="4291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3" name="AutoShape 36"/>
          <p:cNvCxnSpPr>
            <a:stCxn id="346" idx="0"/>
            <a:endCxn id="347" idx="0"/>
          </p:cNvCxnSpPr>
          <p:nvPr/>
        </p:nvCxnSpPr>
        <p:spPr>
          <a:xfrm>
            <a:off x="4834080" y="1581120"/>
            <a:ext cx="5367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4" name="AutoShape 37"/>
          <p:cNvCxnSpPr>
            <a:stCxn id="350" idx="0"/>
            <a:endCxn id="353" idx="0"/>
          </p:cNvCxnSpPr>
          <p:nvPr/>
        </p:nvCxnSpPr>
        <p:spPr>
          <a:xfrm flipH="1">
            <a:off x="4725360" y="1581120"/>
            <a:ext cx="8593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5" name="AutoShape 38"/>
          <p:cNvCxnSpPr>
            <a:stCxn id="350" idx="0"/>
            <a:endCxn id="354" idx="0"/>
          </p:cNvCxnSpPr>
          <p:nvPr/>
        </p:nvCxnSpPr>
        <p:spPr>
          <a:xfrm flipH="1">
            <a:off x="5477760" y="1580760"/>
            <a:ext cx="106920" cy="801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6" name="AutoShape 39"/>
          <p:cNvCxnSpPr>
            <a:stCxn id="353" idx="0"/>
            <a:endCxn id="354" idx="0"/>
          </p:cNvCxnSpPr>
          <p:nvPr/>
        </p:nvCxnSpPr>
        <p:spPr>
          <a:xfrm>
            <a:off x="4726080" y="2037960"/>
            <a:ext cx="7531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7" name="AutoShape 40"/>
          <p:cNvCxnSpPr>
            <a:stCxn id="345" idx="0"/>
            <a:endCxn id="346" idx="0"/>
          </p:cNvCxnSpPr>
          <p:nvPr/>
        </p:nvCxnSpPr>
        <p:spPr>
          <a:xfrm flipV="1">
            <a:off x="3868560" y="1580760"/>
            <a:ext cx="966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78" name="AutoShape 41"/>
          <p:cNvCxnSpPr>
            <a:stCxn id="344" idx="0"/>
            <a:endCxn id="354" idx="0"/>
          </p:cNvCxnSpPr>
          <p:nvPr/>
        </p:nvCxnSpPr>
        <p:spPr>
          <a:xfrm>
            <a:off x="3440160" y="2037960"/>
            <a:ext cx="203904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79" name="AutoShape 42"/>
          <p:cNvCxnSpPr>
            <a:stCxn id="349" idx="0"/>
            <a:endCxn id="346" idx="0"/>
          </p:cNvCxnSpPr>
          <p:nvPr/>
        </p:nvCxnSpPr>
        <p:spPr>
          <a:xfrm>
            <a:off x="3225600" y="1123920"/>
            <a:ext cx="160884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80" name="AutoShape 43"/>
          <p:cNvCxnSpPr>
            <a:stCxn id="345" idx="0"/>
            <a:endCxn id="353" idx="0"/>
          </p:cNvCxnSpPr>
          <p:nvPr/>
        </p:nvCxnSpPr>
        <p:spPr>
          <a:xfrm>
            <a:off x="3868560" y="1695600"/>
            <a:ext cx="858240" cy="3434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381" name="Rectangle 44"/>
          <p:cNvSpPr/>
          <p:nvPr/>
        </p:nvSpPr>
        <p:spPr>
          <a:xfrm>
            <a:off x="2716200" y="205740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old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5610240" y="1905120"/>
            <a:ext cx="27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old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46" descr=""/>
          <p:cNvPicPr/>
          <p:nvPr/>
        </p:nvPicPr>
        <p:blipFill>
          <a:blip r:embed="rId1"/>
          <a:stretch/>
        </p:blipFill>
        <p:spPr>
          <a:xfrm>
            <a:off x="2854440" y="3809880"/>
            <a:ext cx="269856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47"/>
          <p:cNvSpPr/>
          <p:nvPr/>
        </p:nvSpPr>
        <p:spPr>
          <a:xfrm>
            <a:off x="685800" y="4267080"/>
            <a:ext cx="7785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min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s you a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algorithms exist for doing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min cut is not always the best cu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5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6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AutoShape 17"/>
          <p:cNvCxnSpPr>
            <a:stCxn id="390" idx="0"/>
            <a:endCxn id="400" idx="0"/>
          </p:cNvCxnSpPr>
          <p:nvPr/>
        </p:nvCxnSpPr>
        <p:spPr>
          <a:xfrm>
            <a:off x="2903400" y="1466640"/>
            <a:ext cx="21528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5" name="AutoShape 18"/>
          <p:cNvCxnSpPr>
            <a:stCxn id="392" idx="0"/>
            <a:endCxn id="400" idx="0"/>
          </p:cNvCxnSpPr>
          <p:nvPr/>
        </p:nvCxnSpPr>
        <p:spPr>
          <a:xfrm flipV="1">
            <a:off x="2794680" y="169488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6" name="AutoShape 19"/>
          <p:cNvCxnSpPr>
            <a:stCxn id="392" idx="0"/>
            <a:endCxn id="397" idx="0"/>
          </p:cNvCxnSpPr>
          <p:nvPr/>
        </p:nvCxnSpPr>
        <p:spPr>
          <a:xfrm>
            <a:off x="2795400" y="192384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7" name="AutoShape 20"/>
          <p:cNvCxnSpPr>
            <a:stCxn id="390" idx="0"/>
            <a:endCxn id="392" idx="0"/>
          </p:cNvCxnSpPr>
          <p:nvPr/>
        </p:nvCxnSpPr>
        <p:spPr>
          <a:xfrm flipH="1">
            <a:off x="2795040" y="1467000"/>
            <a:ext cx="1083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8" name="AutoShape 21"/>
          <p:cNvCxnSpPr>
            <a:stCxn id="400" idx="0"/>
            <a:endCxn id="397" idx="0"/>
          </p:cNvCxnSpPr>
          <p:nvPr/>
        </p:nvCxnSpPr>
        <p:spPr>
          <a:xfrm>
            <a:off x="3117600" y="1695600"/>
            <a:ext cx="108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9" name="AutoShape 22"/>
          <p:cNvCxnSpPr>
            <a:stCxn id="400" idx="0"/>
            <a:endCxn id="391" idx="0"/>
          </p:cNvCxnSpPr>
          <p:nvPr/>
        </p:nvCxnSpPr>
        <p:spPr>
          <a:xfrm flipV="1">
            <a:off x="3116880" y="1351800"/>
            <a:ext cx="214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0" name="AutoShape 23"/>
          <p:cNvCxnSpPr>
            <a:stCxn id="400" idx="0"/>
            <a:endCxn id="393" idx="0"/>
          </p:cNvCxnSpPr>
          <p:nvPr/>
        </p:nvCxnSpPr>
        <p:spPr>
          <a:xfrm>
            <a:off x="3117600" y="1695600"/>
            <a:ext cx="3229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1" name="AutoShape 24"/>
          <p:cNvCxnSpPr>
            <a:stCxn id="397" idx="0"/>
            <a:endCxn id="393" idx="0"/>
          </p:cNvCxnSpPr>
          <p:nvPr/>
        </p:nvCxnSpPr>
        <p:spPr>
          <a:xfrm flipV="1">
            <a:off x="3116880" y="2037960"/>
            <a:ext cx="322920" cy="115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2" name="AutoShape 25"/>
          <p:cNvCxnSpPr>
            <a:stCxn id="390" idx="0"/>
            <a:endCxn id="398" idx="0"/>
          </p:cNvCxnSpPr>
          <p:nvPr/>
        </p:nvCxnSpPr>
        <p:spPr>
          <a:xfrm flipV="1">
            <a:off x="2903400" y="1123200"/>
            <a:ext cx="322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3" name="AutoShape 26"/>
          <p:cNvCxnSpPr>
            <a:stCxn id="398" idx="0"/>
            <a:endCxn id="391" idx="0"/>
          </p:cNvCxnSpPr>
          <p:nvPr/>
        </p:nvCxnSpPr>
        <p:spPr>
          <a:xfrm>
            <a:off x="3225600" y="1123560"/>
            <a:ext cx="106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4" name="AutoShape 27"/>
          <p:cNvCxnSpPr>
            <a:stCxn id="393" idx="0"/>
            <a:endCxn id="394" idx="0"/>
          </p:cNvCxnSpPr>
          <p:nvPr/>
        </p:nvCxnSpPr>
        <p:spPr>
          <a:xfrm flipV="1">
            <a:off x="3440160" y="1695240"/>
            <a:ext cx="4291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5" name="AutoShape 28"/>
          <p:cNvCxnSpPr>
            <a:stCxn id="398" idx="0"/>
            <a:endCxn id="394" idx="0"/>
          </p:cNvCxnSpPr>
          <p:nvPr/>
        </p:nvCxnSpPr>
        <p:spPr>
          <a:xfrm>
            <a:off x="3225600" y="1123920"/>
            <a:ext cx="643320" cy="5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6" name="AutoShape 29"/>
          <p:cNvCxnSpPr>
            <a:stCxn id="400" idx="0"/>
            <a:endCxn id="394" idx="0"/>
          </p:cNvCxnSpPr>
          <p:nvPr/>
        </p:nvCxnSpPr>
        <p:spPr>
          <a:xfrm flipV="1">
            <a:off x="3116880" y="1694880"/>
            <a:ext cx="751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7" name="AutoShape 30"/>
          <p:cNvCxnSpPr>
            <a:stCxn id="395" idx="0"/>
            <a:endCxn id="402" idx="0"/>
          </p:cNvCxnSpPr>
          <p:nvPr/>
        </p:nvCxnSpPr>
        <p:spPr>
          <a:xfrm flipH="1">
            <a:off x="4725720" y="1581120"/>
            <a:ext cx="1087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8" name="AutoShape 31"/>
          <p:cNvCxnSpPr>
            <a:stCxn id="395" idx="0"/>
            <a:endCxn id="401" idx="0"/>
          </p:cNvCxnSpPr>
          <p:nvPr/>
        </p:nvCxnSpPr>
        <p:spPr>
          <a:xfrm flipV="1">
            <a:off x="4833000" y="135180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9" name="AutoShape 32"/>
          <p:cNvCxnSpPr>
            <a:stCxn id="401" idx="0"/>
            <a:endCxn id="396" idx="0"/>
          </p:cNvCxnSpPr>
          <p:nvPr/>
        </p:nvCxnSpPr>
        <p:spPr>
          <a:xfrm>
            <a:off x="5155920" y="1352160"/>
            <a:ext cx="2149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0" name="AutoShape 33"/>
          <p:cNvCxnSpPr>
            <a:stCxn id="402" idx="0"/>
            <a:endCxn id="396" idx="0"/>
          </p:cNvCxnSpPr>
          <p:nvPr/>
        </p:nvCxnSpPr>
        <p:spPr>
          <a:xfrm flipV="1">
            <a:off x="4726080" y="2037600"/>
            <a:ext cx="6451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1" name="AutoShape 34"/>
          <p:cNvCxnSpPr>
            <a:stCxn id="401" idx="0"/>
            <a:endCxn id="399" idx="0"/>
          </p:cNvCxnSpPr>
          <p:nvPr/>
        </p:nvCxnSpPr>
        <p:spPr>
          <a:xfrm>
            <a:off x="5156280" y="1352160"/>
            <a:ext cx="4291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2" name="AutoShape 35"/>
          <p:cNvCxnSpPr>
            <a:stCxn id="395" idx="0"/>
            <a:endCxn id="396" idx="0"/>
          </p:cNvCxnSpPr>
          <p:nvPr/>
        </p:nvCxnSpPr>
        <p:spPr>
          <a:xfrm>
            <a:off x="4834080" y="1581120"/>
            <a:ext cx="5367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3" name="AutoShape 36"/>
          <p:cNvCxnSpPr>
            <a:stCxn id="399" idx="0"/>
            <a:endCxn id="402" idx="0"/>
          </p:cNvCxnSpPr>
          <p:nvPr/>
        </p:nvCxnSpPr>
        <p:spPr>
          <a:xfrm flipH="1">
            <a:off x="4725360" y="1581120"/>
            <a:ext cx="8593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4" name="AutoShape 37"/>
          <p:cNvCxnSpPr>
            <a:stCxn id="399" idx="0"/>
            <a:endCxn id="403" idx="0"/>
          </p:cNvCxnSpPr>
          <p:nvPr/>
        </p:nvCxnSpPr>
        <p:spPr>
          <a:xfrm flipH="1">
            <a:off x="5477760" y="1580760"/>
            <a:ext cx="106920" cy="801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5" name="AutoShape 38"/>
          <p:cNvCxnSpPr>
            <a:stCxn id="402" idx="0"/>
            <a:endCxn id="403" idx="0"/>
          </p:cNvCxnSpPr>
          <p:nvPr/>
        </p:nvCxnSpPr>
        <p:spPr>
          <a:xfrm>
            <a:off x="4726080" y="2037960"/>
            <a:ext cx="7531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6" name="AutoShape 39"/>
          <p:cNvCxnSpPr>
            <a:stCxn id="394" idx="0"/>
            <a:endCxn id="395" idx="0"/>
          </p:cNvCxnSpPr>
          <p:nvPr/>
        </p:nvCxnSpPr>
        <p:spPr>
          <a:xfrm flipV="1">
            <a:off x="3868560" y="1580760"/>
            <a:ext cx="966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7" name="AutoShape 40"/>
          <p:cNvCxnSpPr>
            <a:stCxn id="393" idx="0"/>
            <a:endCxn id="403" idx="0"/>
          </p:cNvCxnSpPr>
          <p:nvPr/>
        </p:nvCxnSpPr>
        <p:spPr>
          <a:xfrm>
            <a:off x="3440160" y="2037960"/>
            <a:ext cx="203904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8" name="AutoShape 41"/>
          <p:cNvCxnSpPr>
            <a:stCxn id="398" idx="0"/>
            <a:endCxn id="395" idx="0"/>
          </p:cNvCxnSpPr>
          <p:nvPr/>
        </p:nvCxnSpPr>
        <p:spPr>
          <a:xfrm>
            <a:off x="3225600" y="1123920"/>
            <a:ext cx="160884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9" name="AutoShape 42"/>
          <p:cNvCxnSpPr>
            <a:stCxn id="394" idx="0"/>
            <a:endCxn id="402" idx="0"/>
          </p:cNvCxnSpPr>
          <p:nvPr/>
        </p:nvCxnSpPr>
        <p:spPr>
          <a:xfrm>
            <a:off x="3868560" y="1695600"/>
            <a:ext cx="858240" cy="3434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430" name="Rectangle 43"/>
          <p:cNvSpPr/>
          <p:nvPr/>
        </p:nvSpPr>
        <p:spPr>
          <a:xfrm>
            <a:off x="2716200" y="205740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old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5610240" y="1905120"/>
            <a:ext cx="27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old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5"/>
          <p:cNvSpPr/>
          <p:nvPr/>
        </p:nvSpPr>
        <p:spPr>
          <a:xfrm>
            <a:off x="685800" y="3200400"/>
            <a:ext cx="7785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ut penalizes larg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 by normalizing for size of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me(A) = sum of costs of all edges that touc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46" descr=""/>
          <p:cNvPicPr/>
          <p:nvPr/>
        </p:nvPicPr>
        <p:blipFill>
          <a:blip r:embed="rId1"/>
          <a:stretch/>
        </p:blipFill>
        <p:spPr>
          <a:xfrm>
            <a:off x="1662120" y="4525920"/>
            <a:ext cx="449892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details,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. Shi and J. Malik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Normalized Cuts and Image Segmen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VPR, 199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2806920" cy="1727280"/>
          </a:xfrm>
          <a:prstGeom prst="rect">
            <a:avLst/>
          </a:prstGeom>
          <a:ln w="0">
            <a:noFill/>
          </a:ln>
        </p:spPr>
      </p:pic>
      <p:pic>
        <p:nvPicPr>
          <p:cNvPr id="438" name="nmovie.mpeg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657600" cy="28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11040" y="1981080"/>
            <a:ext cx="3467160" cy="2133720"/>
          </a:xfrm>
          <a:prstGeom prst="rect">
            <a:avLst/>
          </a:prstGeom>
          <a:ln w="0">
            <a:noFill/>
          </a:ln>
        </p:spPr>
      </p:pic>
      <p:pic>
        <p:nvPicPr>
          <p:cNvPr id="442" name="balus_movie.mpg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onsider differ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means clustering (color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Cuts (region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histogr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“orange” pixels ar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of question answered by looking at 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stogram counts the number of occurrences of each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for each color value c (x-axis), plot # of pixels with that color (y-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mension of the histogram of an NxN RGB im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108240" cy="23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727440" y="4800600"/>
            <a:ext cx="2292480" cy="3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3749760" y="5454720"/>
            <a:ext cx="3641760" cy="260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998760" y="6488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histograms look lik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893960" y="1967040"/>
            <a:ext cx="2692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74000"/>
          </a:bodyPr>
          <a:p>
            <a:pPr marL="29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  </a:t>
            </a:r>
            <a:r>
              <a:rPr b="0" lang="en-US" sz="16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9480" y="20131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03640" cy="182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85800" y="5334120"/>
            <a:ext cx="7785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Modes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see, hard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 flipV="1">
            <a:off x="5137920" y="3809520"/>
            <a:ext cx="180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 flipV="1">
            <a:off x="6780960" y="3809520"/>
            <a:ext cx="180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85800" y="6099120"/>
            <a:ext cx="7785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’s what it looks like if we use two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oose the representativ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lustering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19320" y="1981080"/>
            <a:ext cx="236196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4479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9"/>
          <p:cNvSpPr/>
          <p:nvPr/>
        </p:nvSpPr>
        <p:spPr>
          <a:xfrm>
            <a:off x="2819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2743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18288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22096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1600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0"/>
          <p:cNvSpPr/>
          <p:nvPr/>
        </p:nvSpPr>
        <p:spPr>
          <a:xfrm>
            <a:off x="20574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1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20574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5410080" y="1981080"/>
            <a:ext cx="236232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4"/>
          <p:cNvSpPr/>
          <p:nvPr/>
        </p:nvSpPr>
        <p:spPr>
          <a:xfrm>
            <a:off x="5867280" y="2209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5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6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7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8"/>
          <p:cNvSpPr/>
          <p:nvPr/>
        </p:nvSpPr>
        <p:spPr>
          <a:xfrm>
            <a:off x="6934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29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1"/>
          <p:cNvSpPr/>
          <p:nvPr/>
        </p:nvSpPr>
        <p:spPr>
          <a:xfrm>
            <a:off x="71629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3"/>
          <p:cNvSpPr/>
          <p:nvPr/>
        </p:nvSpPr>
        <p:spPr>
          <a:xfrm>
            <a:off x="64771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4"/>
          <p:cNvSpPr/>
          <p:nvPr/>
        </p:nvSpPr>
        <p:spPr>
          <a:xfrm>
            <a:off x="60199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5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6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7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6248520" y="22096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62485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1"/>
          <p:cNvSpPr/>
          <p:nvPr/>
        </p:nvSpPr>
        <p:spPr>
          <a:xfrm>
            <a:off x="3962520" y="2666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85800" y="4267080"/>
            <a:ext cx="824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point should be as close as possible to a cluster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um squared distance of each point to closes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3" descr=""/>
          <p:cNvPicPr/>
          <p:nvPr/>
        </p:nvPicPr>
        <p:blipFill>
          <a:blip r:embed="rId1"/>
          <a:stretch/>
        </p:blipFill>
        <p:spPr>
          <a:xfrm>
            <a:off x="5962680" y="214164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4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301680" cy="22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5" descr=""/>
          <p:cNvPicPr/>
          <p:nvPr/>
        </p:nvPicPr>
        <p:blipFill>
          <a:blip r:embed="rId3"/>
          <a:stretch/>
        </p:blipFill>
        <p:spPr>
          <a:xfrm>
            <a:off x="6103800" y="350532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"/>
          <p:cNvPicPr/>
          <p:nvPr/>
        </p:nvPicPr>
        <p:blipFill>
          <a:blip r:embed="rId4"/>
          <a:stretch/>
        </p:blipFill>
        <p:spPr>
          <a:xfrm>
            <a:off x="2286000" y="5562720"/>
            <a:ext cx="5105520" cy="698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7"/>
          <p:cNvSpPr/>
          <p:nvPr/>
        </p:nvSpPr>
        <p:spPr>
          <a:xfrm>
            <a:off x="6172200" y="3352680"/>
            <a:ext cx="152280" cy="152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7086600" y="259092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5943600" y="2362320"/>
            <a:ext cx="152280" cy="15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0"/>
          <p:cNvSpPr/>
          <p:nvPr/>
        </p:nvSpPr>
        <p:spPr>
          <a:xfrm>
            <a:off x="7010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410080" y="2286000"/>
            <a:ext cx="23623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962680" y="244620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03800" y="380988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301680" cy="222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eak it down into sub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cluster cen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which points to associate with ea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19320" y="2286000"/>
            <a:ext cx="236196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14479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2743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3200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7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1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1752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22096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20574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58672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60199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5943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70102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6934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4"/>
          <p:cNvSpPr/>
          <p:nvPr/>
        </p:nvSpPr>
        <p:spPr>
          <a:xfrm>
            <a:off x="7391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7162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38"/>
          <p:cNvSpPr/>
          <p:nvPr/>
        </p:nvSpPr>
        <p:spPr>
          <a:xfrm>
            <a:off x="6477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6019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1"/>
          <p:cNvSpPr/>
          <p:nvPr/>
        </p:nvSpPr>
        <p:spPr>
          <a:xfrm>
            <a:off x="64008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2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3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6"/>
          <p:cNvSpPr/>
          <p:nvPr/>
        </p:nvSpPr>
        <p:spPr>
          <a:xfrm>
            <a:off x="3962520" y="297180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7"/>
          <p:cNvSpPr/>
          <p:nvPr/>
        </p:nvSpPr>
        <p:spPr>
          <a:xfrm>
            <a:off x="5943600" y="2666880"/>
            <a:ext cx="152280" cy="152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8"/>
          <p:cNvSpPr/>
          <p:nvPr/>
        </p:nvSpPr>
        <p:spPr>
          <a:xfrm>
            <a:off x="7086600" y="2895480"/>
            <a:ext cx="152280" cy="15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9"/>
          <p:cNvSpPr/>
          <p:nvPr/>
        </p:nvSpPr>
        <p:spPr>
          <a:xfrm>
            <a:off x="6172200" y="3657600"/>
            <a:ext cx="152280" cy="1522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0"/>
          <p:cNvSpPr/>
          <p:nvPr/>
        </p:nvSpPr>
        <p:spPr>
          <a:xfrm>
            <a:off x="685800" y="4495680"/>
            <a:ext cx="7785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I tell you the points in each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:  how to determine the cluster cen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Ink 1" descr=""/>
          <p:cNvPicPr/>
          <p:nvPr/>
        </p:nvPicPr>
        <p:blipFill>
          <a:blip r:embed="rId4"/>
          <a:stretch/>
        </p:blipFill>
        <p:spPr>
          <a:xfrm>
            <a:off x="2852640" y="1584360"/>
            <a:ext cx="322920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14T04:22:44Z</dcterms:modified>
  <cp:revision>12</cp:revision>
  <dc:subject/>
  <dc:title>Computer Vision: Segmentation</dc:title>
</cp:coreProperties>
</file>