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9.png" ContentType="image/png"/>
  <Override PartName="/ppt/media/image32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2F4E-954C-45B5-A348-6CA6C13F4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AE91-2630-4C45-B74C-EB24997D6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4EC0-59FD-4ADA-B4CE-5CED0EEAF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8BC7-EA3E-46B6-910E-AAA6C85E97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92EA-873B-4563-ADCF-3552CC3FB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456F-F354-4E63-95CA-3A66EEFBB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30D4-B402-48A0-A121-BBBDEB497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EEC7-D264-4127-96A0-0F7CBC56B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1EB6-A334-4BCA-B556-425786987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3414-CE98-432E-A805-5FE8E7B81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A39E-9B3D-4C68-B9F1-FEEAA7C06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CB13-04F3-4A8B-9BAD-6D42A46ED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AA13-F5AF-4CDF-9EC1-B67D48DE3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ubc.ca/~woodham/papers/Woodham80c.pd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cvc.yale.edu/people/Athos.html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2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7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tometric 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:  Woodham’s original photometric stereo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.ubc.ca/~woodham/papers/Woodham80c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828800" y="914400"/>
            <a:ext cx="5519880" cy="4130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361680" y="4952160"/>
            <a:ext cx="272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Merle Norman Cosmetics, Los Ang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ing the light source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mpu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hence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rom this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just reflect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btain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1446120" y="1905120"/>
            <a:ext cx="183060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971800" y="2133720"/>
            <a:ext cx="7632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2361600" y="2209680"/>
            <a:ext cx="6094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5181480" y="1523880"/>
            <a:ext cx="180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3025800" y="1823760"/>
            <a:ext cx="326880" cy="322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2971800" y="16765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2362320" y="2286000"/>
            <a:ext cx="546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286000" y="278748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3048120" y="2057400"/>
            <a:ext cx="393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060720" y="2166840"/>
            <a:ext cx="210024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2362320" y="2819520"/>
            <a:ext cx="281916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2319480" y="278604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5148360" y="278604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5181480" y="274320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5181480" y="20257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5138640" y="2133720"/>
            <a:ext cx="7632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108440" y="990720"/>
            <a:ext cx="624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hrome sphere that has a highlight at position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in th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4478040" y="4267080"/>
            <a:ext cx="13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1715040" y="3747960"/>
            <a:ext cx="13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phere in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2502000" y="2557440"/>
            <a:ext cx="39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ing the light source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mpute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tudying this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measure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r in th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oose c</a:t>
            </a:r>
            <a:r>
              <a:rPr b="0" lang="en-US" sz="1800" spc="-1" strike="noStrike" baseline="-6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1446120" y="1905120"/>
            <a:ext cx="183060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971800" y="2133720"/>
            <a:ext cx="7632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"/>
          <p:cNvSpPr/>
          <p:nvPr/>
        </p:nvSpPr>
        <p:spPr>
          <a:xfrm flipV="1">
            <a:off x="2361600" y="2209680"/>
            <a:ext cx="60948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5181480" y="1523880"/>
            <a:ext cx="180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8"/>
          <p:cNvSpPr/>
          <p:nvPr/>
        </p:nvSpPr>
        <p:spPr>
          <a:xfrm flipV="1">
            <a:off x="3025800" y="1823760"/>
            <a:ext cx="326880" cy="322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971800" y="16765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666880" y="2438280"/>
            <a:ext cx="546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286000" y="278748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048120" y="2057400"/>
            <a:ext cx="393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060720" y="2166840"/>
            <a:ext cx="210024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2362320" y="2819520"/>
            <a:ext cx="281916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2319480" y="278604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5148360" y="278604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5181480" y="274320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5181480" y="20257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19"/>
          <p:cNvSpPr/>
          <p:nvPr/>
        </p:nvSpPr>
        <p:spPr>
          <a:xfrm>
            <a:off x="5138640" y="2133720"/>
            <a:ext cx="7632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0" descr=""/>
          <p:cNvPicPr/>
          <p:nvPr/>
        </p:nvPicPr>
        <p:blipFill>
          <a:blip r:embed="rId1"/>
          <a:stretch/>
        </p:blipFill>
        <p:spPr>
          <a:xfrm>
            <a:off x="3943440" y="5562720"/>
            <a:ext cx="1695240" cy="296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1" descr=""/>
          <p:cNvPicPr/>
          <p:nvPr/>
        </p:nvPicPr>
        <p:blipFill>
          <a:blip r:embed="rId2"/>
          <a:stretch/>
        </p:blipFill>
        <p:spPr>
          <a:xfrm>
            <a:off x="3311640" y="2203560"/>
            <a:ext cx="955440" cy="164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"/>
          <p:cNvPicPr/>
          <p:nvPr/>
        </p:nvPicPr>
        <p:blipFill>
          <a:blip r:embed="rId3"/>
          <a:stretch/>
        </p:blipFill>
        <p:spPr>
          <a:xfrm>
            <a:off x="5486400" y="2190600"/>
            <a:ext cx="722160" cy="165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"/>
          <p:cNvPicPr/>
          <p:nvPr/>
        </p:nvPicPr>
        <p:blipFill>
          <a:blip r:embed="rId4"/>
          <a:stretch/>
        </p:blipFill>
        <p:spPr>
          <a:xfrm>
            <a:off x="2617920" y="2889360"/>
            <a:ext cx="887400" cy="16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"/>
          <p:cNvPicPr/>
          <p:nvPr/>
        </p:nvPicPr>
        <p:blipFill>
          <a:blip r:embed="rId5"/>
          <a:stretch/>
        </p:blipFill>
        <p:spPr>
          <a:xfrm>
            <a:off x="5486400" y="2876400"/>
            <a:ext cx="676440" cy="165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5"/>
          <p:cNvSpPr/>
          <p:nvPr/>
        </p:nvSpPr>
        <p:spPr>
          <a:xfrm>
            <a:off x="1108440" y="990720"/>
            <a:ext cx="624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hrome sphere that has a highlight at position 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in th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4478040" y="4267080"/>
            <a:ext cx="132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1715040" y="3747960"/>
            <a:ext cx="137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phere in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pth from norm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similar equation for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Bold"/>
                <a:ea typeface="Arial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ormal gives us two linear constraints on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z values by solving a matrix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"/>
          <p:cNvSpPr/>
          <p:nvPr/>
        </p:nvSpPr>
        <p:spPr>
          <a:xfrm>
            <a:off x="3540240" y="1219320"/>
            <a:ext cx="1199880" cy="159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0" y="0"/>
                </a:moveTo>
                <a:lnTo>
                  <a:pt x="1800" y="982"/>
                </a:lnTo>
                <a:lnTo>
                  <a:pt x="1800" y="1964"/>
                </a:lnTo>
                <a:lnTo>
                  <a:pt x="1200" y="2945"/>
                </a:lnTo>
                <a:lnTo>
                  <a:pt x="900" y="3927"/>
                </a:lnTo>
                <a:lnTo>
                  <a:pt x="900" y="4909"/>
                </a:lnTo>
                <a:lnTo>
                  <a:pt x="900" y="5891"/>
                </a:lnTo>
                <a:lnTo>
                  <a:pt x="600" y="6873"/>
                </a:lnTo>
                <a:lnTo>
                  <a:pt x="300" y="7855"/>
                </a:lnTo>
                <a:lnTo>
                  <a:pt x="0" y="8836"/>
                </a:lnTo>
                <a:lnTo>
                  <a:pt x="0" y="9818"/>
                </a:lnTo>
                <a:lnTo>
                  <a:pt x="0" y="10800"/>
                </a:lnTo>
                <a:lnTo>
                  <a:pt x="300" y="11782"/>
                </a:lnTo>
                <a:lnTo>
                  <a:pt x="300" y="12764"/>
                </a:lnTo>
                <a:lnTo>
                  <a:pt x="600" y="13745"/>
                </a:lnTo>
                <a:lnTo>
                  <a:pt x="600" y="14727"/>
                </a:lnTo>
                <a:lnTo>
                  <a:pt x="900" y="15709"/>
                </a:lnTo>
                <a:lnTo>
                  <a:pt x="900" y="16691"/>
                </a:lnTo>
                <a:lnTo>
                  <a:pt x="1200" y="17673"/>
                </a:lnTo>
                <a:lnTo>
                  <a:pt x="1500" y="18655"/>
                </a:lnTo>
                <a:lnTo>
                  <a:pt x="21300" y="21600"/>
                </a:lnTo>
                <a:lnTo>
                  <a:pt x="20100" y="19636"/>
                </a:lnTo>
                <a:lnTo>
                  <a:pt x="19800" y="18655"/>
                </a:lnTo>
                <a:lnTo>
                  <a:pt x="19500" y="17182"/>
                </a:lnTo>
                <a:lnTo>
                  <a:pt x="19200" y="16200"/>
                </a:lnTo>
                <a:lnTo>
                  <a:pt x="18900" y="15218"/>
                </a:lnTo>
                <a:lnTo>
                  <a:pt x="18600" y="14236"/>
                </a:lnTo>
                <a:lnTo>
                  <a:pt x="18600" y="13255"/>
                </a:lnTo>
                <a:lnTo>
                  <a:pt x="18600" y="11782"/>
                </a:lnTo>
                <a:lnTo>
                  <a:pt x="18600" y="10800"/>
                </a:lnTo>
                <a:lnTo>
                  <a:pt x="18600" y="9818"/>
                </a:lnTo>
                <a:lnTo>
                  <a:pt x="19200" y="8836"/>
                </a:lnTo>
                <a:lnTo>
                  <a:pt x="19200" y="7855"/>
                </a:lnTo>
                <a:lnTo>
                  <a:pt x="19500" y="6873"/>
                </a:lnTo>
                <a:lnTo>
                  <a:pt x="20100" y="6382"/>
                </a:lnTo>
                <a:lnTo>
                  <a:pt x="20100" y="5400"/>
                </a:lnTo>
                <a:lnTo>
                  <a:pt x="20700" y="4418"/>
                </a:lnTo>
                <a:lnTo>
                  <a:pt x="21300" y="3927"/>
                </a:lnTo>
                <a:lnTo>
                  <a:pt x="21600" y="2945"/>
                </a:lnTo>
                <a:lnTo>
                  <a:pt x="2100" y="0"/>
                </a:lnTo>
              </a:path>
            </a:pathLst>
          </a:custGeom>
          <a:gradFill rotWithShape="0">
            <a:gsLst>
              <a:gs pos="0">
                <a:srgbClr val="434343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"/>
          <p:cNvSpPr/>
          <p:nvPr/>
        </p:nvSpPr>
        <p:spPr>
          <a:xfrm flipV="1">
            <a:off x="2210760" y="1981080"/>
            <a:ext cx="1795320" cy="177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1532880" y="3733920"/>
            <a:ext cx="67788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7"/>
          <p:cNvSpPr/>
          <p:nvPr/>
        </p:nvSpPr>
        <p:spPr>
          <a:xfrm>
            <a:off x="1174680" y="3408480"/>
            <a:ext cx="122076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194"/>
                </a:moveTo>
                <a:lnTo>
                  <a:pt x="21600" y="21600"/>
                </a:lnTo>
                <a:lnTo>
                  <a:pt x="21600" y="7097"/>
                </a:lnTo>
                <a:lnTo>
                  <a:pt x="0" y="0"/>
                </a:lnTo>
                <a:lnTo>
                  <a:pt x="0" y="14194"/>
                </a:lnTo>
              </a:path>
            </a:pathLst>
          </a:custGeom>
          <a:solidFill>
            <a:srgbClr val="febf02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890640" y="4400640"/>
            <a:ext cx="64296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1504800" y="4368960"/>
            <a:ext cx="5724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0"/>
          <p:cNvSpPr/>
          <p:nvPr/>
        </p:nvSpPr>
        <p:spPr>
          <a:xfrm rot="720000">
            <a:off x="732960" y="4993920"/>
            <a:ext cx="211320" cy="23796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533520" y="4815000"/>
            <a:ext cx="303120" cy="55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2"/>
          <p:cNvSpPr/>
          <p:nvPr/>
        </p:nvSpPr>
        <p:spPr>
          <a:xfrm rot="19740000">
            <a:off x="811080" y="5000760"/>
            <a:ext cx="100080" cy="198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 flipV="1">
            <a:off x="532800" y="5221080"/>
            <a:ext cx="5554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16"/>
          <p:cNvGrpSpPr/>
          <p:nvPr/>
        </p:nvGrpSpPr>
        <p:grpSpPr>
          <a:xfrm>
            <a:off x="3892680" y="1628640"/>
            <a:ext cx="457200" cy="552600"/>
            <a:chOff x="3892680" y="1628640"/>
            <a:chExt cx="457200" cy="552600"/>
          </a:xfrm>
        </p:grpSpPr>
        <p:sp>
          <p:nvSpPr>
            <p:cNvPr id="237" name="Oval 14"/>
            <p:cNvSpPr/>
            <p:nvPr/>
          </p:nvSpPr>
          <p:spPr>
            <a:xfrm>
              <a:off x="4292640" y="2117520"/>
              <a:ext cx="5724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15"/>
            <p:cNvSpPr/>
            <p:nvPr/>
          </p:nvSpPr>
          <p:spPr>
            <a:xfrm>
              <a:off x="3892680" y="1628640"/>
              <a:ext cx="5724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23"/>
          <p:cNvGrpSpPr/>
          <p:nvPr/>
        </p:nvGrpSpPr>
        <p:grpSpPr>
          <a:xfrm>
            <a:off x="3657600" y="1630440"/>
            <a:ext cx="771480" cy="515880"/>
            <a:chOff x="3657600" y="1630440"/>
            <a:chExt cx="771480" cy="515880"/>
          </a:xfrm>
        </p:grpSpPr>
        <p:grpSp>
          <p:nvGrpSpPr>
            <p:cNvPr id="240" name="Group 19"/>
            <p:cNvGrpSpPr/>
            <p:nvPr/>
          </p:nvGrpSpPr>
          <p:grpSpPr>
            <a:xfrm>
              <a:off x="3997440" y="1828800"/>
              <a:ext cx="431640" cy="317520"/>
              <a:chOff x="3997440" y="1828800"/>
              <a:chExt cx="431640" cy="317520"/>
            </a:xfrm>
          </p:grpSpPr>
          <p:sp>
            <p:nvSpPr>
              <p:cNvPr id="241" name="Line 17"/>
              <p:cNvSpPr/>
              <p:nvPr/>
            </p:nvSpPr>
            <p:spPr>
              <a:xfrm>
                <a:off x="3997440" y="1981080"/>
                <a:ext cx="304920" cy="1526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18"/>
              <p:cNvSpPr/>
              <p:nvPr/>
            </p:nvSpPr>
            <p:spPr>
              <a:xfrm>
                <a:off x="4073760" y="1828800"/>
                <a:ext cx="35532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rmAutofit/>
              </a:bodyPr>
              <a:p>
                <a:pPr marL="3960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 Bold"/>
                    <a:ea typeface="ヒラギノ明朝 ProN W3"/>
                  </a:rPr>
                  <a:t>V</a:t>
                </a:r>
                <a:r>
                  <a:rPr b="0" lang="en-US" sz="1200" spc="-1" strike="noStrike" baseline="-25000">
                    <a:solidFill>
                      <a:srgbClr val="ffff00"/>
                    </a:solidFill>
                    <a:latin typeface="Arial Bold"/>
                    <a:ea typeface="ヒラギノ明朝 ProN W3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22"/>
            <p:cNvGrpSpPr/>
            <p:nvPr/>
          </p:nvGrpSpPr>
          <p:grpSpPr>
            <a:xfrm>
              <a:off x="3657600" y="1630440"/>
              <a:ext cx="393840" cy="350640"/>
              <a:chOff x="3657600" y="1630440"/>
              <a:chExt cx="393840" cy="350640"/>
            </a:xfrm>
          </p:grpSpPr>
          <p:sp>
            <p:nvSpPr>
              <p:cNvPr id="244" name="Line 20"/>
              <p:cNvSpPr/>
              <p:nvPr/>
            </p:nvSpPr>
            <p:spPr>
              <a:xfrm flipH="1" flipV="1">
                <a:off x="3921120" y="1676160"/>
                <a:ext cx="76320" cy="304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21"/>
              <p:cNvSpPr/>
              <p:nvPr/>
            </p:nvSpPr>
            <p:spPr>
              <a:xfrm>
                <a:off x="3657600" y="1630440"/>
                <a:ext cx="39384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rmAutofit/>
              </a:bodyPr>
              <a:p>
                <a:pPr marL="3960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 Bold"/>
                    <a:ea typeface="ヒラギノ明朝 ProN W3"/>
                  </a:rPr>
                  <a:t>V</a:t>
                </a:r>
                <a:r>
                  <a:rPr b="0" lang="en-US" sz="1200" spc="-1" strike="noStrike" baseline="-25000">
                    <a:solidFill>
                      <a:srgbClr val="ffff00"/>
                    </a:solidFill>
                    <a:latin typeface="Arial Bold"/>
                    <a:ea typeface="ヒラギノ明朝 ProN W3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Group 26"/>
          <p:cNvGrpSpPr/>
          <p:nvPr/>
        </p:nvGrpSpPr>
        <p:grpSpPr>
          <a:xfrm>
            <a:off x="3768480" y="1981080"/>
            <a:ext cx="400320" cy="380880"/>
            <a:chOff x="3768480" y="1981080"/>
            <a:chExt cx="400320" cy="380880"/>
          </a:xfrm>
        </p:grpSpPr>
        <p:sp>
          <p:nvSpPr>
            <p:cNvPr id="247" name="Line 24"/>
            <p:cNvSpPr/>
            <p:nvPr/>
          </p:nvSpPr>
          <p:spPr>
            <a:xfrm flipH="1">
              <a:off x="3768480" y="198108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5"/>
            <p:cNvSpPr/>
            <p:nvPr/>
          </p:nvSpPr>
          <p:spPr>
            <a:xfrm>
              <a:off x="3810240" y="2087280"/>
              <a:ext cx="35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96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Bold"/>
                  <a:ea typeface="ヒラギノ明朝 ProN W3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" name="Picture 27" descr=""/>
          <p:cNvPicPr/>
          <p:nvPr/>
        </p:nvPicPr>
        <p:blipFill>
          <a:blip r:embed="rId1"/>
          <a:stretch/>
        </p:blipFill>
        <p:spPr>
          <a:xfrm>
            <a:off x="1101600" y="4332240"/>
            <a:ext cx="362160" cy="15084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32"/>
          <p:cNvGrpSpPr/>
          <p:nvPr/>
        </p:nvGrpSpPr>
        <p:grpSpPr>
          <a:xfrm>
            <a:off x="887400" y="4033800"/>
            <a:ext cx="1363680" cy="671400"/>
            <a:chOff x="887400" y="4033800"/>
            <a:chExt cx="1363680" cy="671400"/>
          </a:xfrm>
        </p:grpSpPr>
        <p:sp>
          <p:nvSpPr>
            <p:cNvPr id="251" name="Oval 28"/>
            <p:cNvSpPr/>
            <p:nvPr/>
          </p:nvSpPr>
          <p:spPr>
            <a:xfrm>
              <a:off x="1665360" y="4452840"/>
              <a:ext cx="5724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29"/>
            <p:cNvSpPr/>
            <p:nvPr/>
          </p:nvSpPr>
          <p:spPr>
            <a:xfrm>
              <a:off x="1501920" y="4200480"/>
              <a:ext cx="5688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Picture 30" descr=""/>
            <p:cNvPicPr/>
            <p:nvPr/>
          </p:nvPicPr>
          <p:blipFill>
            <a:blip r:embed="rId2"/>
            <a:stretch/>
          </p:blipFill>
          <p:spPr>
            <a:xfrm>
              <a:off x="887400" y="4033800"/>
              <a:ext cx="671400" cy="1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1" descr=""/>
            <p:cNvPicPr/>
            <p:nvPr/>
          </p:nvPicPr>
          <p:blipFill>
            <a:blip r:embed="rId3"/>
            <a:stretch/>
          </p:blipFill>
          <p:spPr>
            <a:xfrm>
              <a:off x="1579680" y="4554360"/>
              <a:ext cx="671400" cy="1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Picture 33" descr=""/>
          <p:cNvPicPr/>
          <p:nvPr/>
        </p:nvPicPr>
        <p:blipFill>
          <a:blip r:embed="rId4"/>
          <a:stretch/>
        </p:blipFill>
        <p:spPr>
          <a:xfrm>
            <a:off x="2666880" y="1898640"/>
            <a:ext cx="655920" cy="165240"/>
          </a:xfrm>
          <a:prstGeom prst="rect">
            <a:avLst/>
          </a:prstGeom>
          <a:ln w="0">
            <a:noFill/>
          </a:ln>
        </p:spPr>
      </p:pic>
      <p:sp>
        <p:nvSpPr>
          <p:cNvPr id="256" name="Oval 34"/>
          <p:cNvSpPr/>
          <p:nvPr/>
        </p:nvSpPr>
        <p:spPr>
          <a:xfrm>
            <a:off x="3965400" y="1969920"/>
            <a:ext cx="57240" cy="63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5"/>
          <p:cNvSpPr/>
          <p:nvPr/>
        </p:nvSpPr>
        <p:spPr>
          <a:xfrm>
            <a:off x="3352680" y="1981080"/>
            <a:ext cx="6098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36" descr=""/>
          <p:cNvPicPr/>
          <p:nvPr/>
        </p:nvPicPr>
        <p:blipFill>
          <a:blip r:embed="rId5"/>
          <a:stretch/>
        </p:blipFill>
        <p:spPr>
          <a:xfrm>
            <a:off x="4390920" y="3271680"/>
            <a:ext cx="3915000" cy="614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7" descr=""/>
          <p:cNvPicPr/>
          <p:nvPr/>
        </p:nvPicPr>
        <p:blipFill>
          <a:blip r:embed="rId6"/>
          <a:stretch/>
        </p:blipFill>
        <p:spPr>
          <a:xfrm>
            <a:off x="4425840" y="4322880"/>
            <a:ext cx="4025880" cy="936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8"/>
          <p:cNvSpPr/>
          <p:nvPr/>
        </p:nvSpPr>
        <p:spPr>
          <a:xfrm>
            <a:off x="952920" y="1792440"/>
            <a:ext cx="141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rthographi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ults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47760" y="1058760"/>
            <a:ext cx="8491320" cy="27511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671760" y="3773520"/>
            <a:ext cx="931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(1 of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447280" y="3773520"/>
            <a:ext cx="92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4352400" y="3774960"/>
            <a:ext cx="92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143760" y="3774960"/>
            <a:ext cx="104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ha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7667640" y="3774960"/>
            <a:ext cx="1042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Textu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ults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280" y="990720"/>
            <a:ext cx="9001440" cy="37908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2894040" y="4960800"/>
            <a:ext cx="340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from Athos Georghi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2"/>
              </a:rPr>
              <a:t>http://cvc.yale.edu/people/Atho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work for shiny things, semi-transluce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dows, inter-ref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a and lights have to be d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light source directions,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a respon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ick for handling shadow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each equation by the pixel bright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2320920" y="1506600"/>
            <a:ext cx="3317760" cy="3664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5"/>
          <p:cNvSpPr/>
          <p:nvPr/>
        </p:nvSpPr>
        <p:spPr>
          <a:xfrm>
            <a:off x="685800" y="2133720"/>
            <a:ext cx="7785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s weighted least-squares matrix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685800" y="4724280"/>
            <a:ext cx="7785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ve for N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2"/>
          <a:stretch/>
        </p:blipFill>
        <p:spPr>
          <a:xfrm>
            <a:off x="1100160" y="3371760"/>
            <a:ext cx="64850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use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247840" y="2895480"/>
            <a:ext cx="2895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467160" y="3170160"/>
            <a:ext cx="2400120" cy="3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65240" y="1219320"/>
            <a:ext cx="2211480" cy="161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4038480" y="1614600"/>
            <a:ext cx="3657600" cy="976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762120" y="4343400"/>
            <a:ext cx="770868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ifying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 camera response function f is the identity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always achieve this in practice by solving for f and applying 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each pixel in th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1: light source intensity i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achieve this by dividing each pixel in the image by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1033200" y="3705120"/>
            <a:ext cx="4462200" cy="348480"/>
            <a:chOff x="1033200" y="3705120"/>
            <a:chExt cx="4462200" cy="348480"/>
          </a:xfrm>
        </p:grpSpPr>
        <p:pic>
          <p:nvPicPr>
            <p:cNvPr id="52" name="Picture 8" descr=""/>
            <p:cNvPicPr/>
            <p:nvPr/>
          </p:nvPicPr>
          <p:blipFill>
            <a:blip r:embed="rId4"/>
            <a:stretch/>
          </p:blipFill>
          <p:spPr>
            <a:xfrm>
              <a:off x="3695400" y="3705120"/>
              <a:ext cx="180000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9"/>
            <p:cNvSpPr/>
            <p:nvPr/>
          </p:nvSpPr>
          <p:spPr>
            <a:xfrm>
              <a:off x="1033200" y="3809880"/>
              <a:ext cx="184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mage intensity of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V="1">
              <a:off x="2970720" y="3885840"/>
              <a:ext cx="6094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ape from sha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9880" y="990720"/>
            <a:ext cx="4267440" cy="3695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5214960" y="1114560"/>
            <a:ext cx="1033560" cy="3333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8"/>
          <p:cNvGrpSpPr/>
          <p:nvPr/>
        </p:nvGrpSpPr>
        <p:grpSpPr>
          <a:xfrm>
            <a:off x="1066680" y="1219320"/>
            <a:ext cx="2133720" cy="1558800"/>
            <a:chOff x="1066680" y="1219320"/>
            <a:chExt cx="2133720" cy="1558800"/>
          </a:xfrm>
        </p:grpSpPr>
        <p:pic>
          <p:nvPicPr>
            <p:cNvPr id="60" name="Picture 5" descr=""/>
            <p:cNvPicPr/>
            <p:nvPr/>
          </p:nvPicPr>
          <p:blipFill>
            <a:blip r:embed="rId2"/>
            <a:stretch/>
          </p:blipFill>
          <p:spPr>
            <a:xfrm>
              <a:off x="1066680" y="1219320"/>
              <a:ext cx="213372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" descr=""/>
            <p:cNvPicPr/>
            <p:nvPr/>
          </p:nvPicPr>
          <p:blipFill>
            <a:blip r:embed="rId3"/>
            <a:stretch/>
          </p:blipFill>
          <p:spPr>
            <a:xfrm>
              <a:off x="1847880" y="1943280"/>
              <a:ext cx="14112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Freeform 7"/>
            <p:cNvSpPr/>
            <p:nvPr/>
          </p:nvSpPr>
          <p:spPr>
            <a:xfrm>
              <a:off x="1885680" y="2140200"/>
              <a:ext cx="179640" cy="117360"/>
            </a:xfrm>
            <a:custGeom>
              <a:avLst/>
              <a:gdLst/>
              <a:ahLst/>
              <a:rect l="l" t="t" r="r" b="b"/>
              <a:pathLst>
                <a:path w="21600" h="20296">
                  <a:moveTo>
                    <a:pt x="0" y="20296"/>
                  </a:moveTo>
                  <a:cubicBezTo>
                    <a:pt x="2520" y="12582"/>
                    <a:pt x="5040" y="4867"/>
                    <a:pt x="8640" y="1782"/>
                  </a:cubicBezTo>
                  <a:cubicBezTo>
                    <a:pt x="12240" y="-1304"/>
                    <a:pt x="16920" y="239"/>
                    <a:pt x="21600" y="178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4762440" y="1679400"/>
            <a:ext cx="2133720" cy="1366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"/>
          <p:cNvSpPr/>
          <p:nvPr/>
        </p:nvSpPr>
        <p:spPr>
          <a:xfrm>
            <a:off x="762120" y="3581280"/>
            <a:ext cx="77850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directly measure angle between normal and ligh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quite enough information to compute surface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can be if you add some additional info, fo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 a few of the normals are known (e.g., along silhouet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 on neighboring normals—“integrability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rd to get it to work well in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us, how many real objects have constant albe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5"/>
          <a:srcRect l="51381" t="2032" r="2142" b="4493"/>
          <a:stretch/>
        </p:blipFill>
        <p:spPr>
          <a:xfrm>
            <a:off x="7292880" y="947880"/>
            <a:ext cx="170172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tometric 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7"/>
          <p:cNvGrpSpPr/>
          <p:nvPr/>
        </p:nvGrpSpPr>
        <p:grpSpPr>
          <a:xfrm>
            <a:off x="4926240" y="2318760"/>
            <a:ext cx="465120" cy="685440"/>
            <a:chOff x="4926240" y="2318760"/>
            <a:chExt cx="465120" cy="685440"/>
          </a:xfrm>
        </p:grpSpPr>
        <p:sp>
          <p:nvSpPr>
            <p:cNvPr id="69" name="Rectangle 3"/>
            <p:cNvSpPr/>
            <p:nvPr/>
          </p:nvSpPr>
          <p:spPr>
            <a:xfrm flipH="1" rot="15120000">
              <a:off x="4881960" y="2594520"/>
              <a:ext cx="677520" cy="1335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4"/>
            <p:cNvSpPr/>
            <p:nvPr/>
          </p:nvSpPr>
          <p:spPr>
            <a:xfrm flipH="1" rot="12840000">
              <a:off x="5241960" y="2850120"/>
              <a:ext cx="125640" cy="120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 flipH="1" rot="12840000">
              <a:off x="5322600" y="2837880"/>
              <a:ext cx="2772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228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6"/>
            <p:cNvSpPr/>
            <p:nvPr/>
          </p:nvSpPr>
          <p:spPr>
            <a:xfrm flipH="1" rot="12840000">
              <a:off x="5266080" y="2873880"/>
              <a:ext cx="77400" cy="7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228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 flipH="1" rot="15120000">
              <a:off x="5299920" y="2779560"/>
              <a:ext cx="100440" cy="4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31" y="0"/>
                  </a:moveTo>
                  <a:lnTo>
                    <a:pt x="0" y="17712"/>
                  </a:lnTo>
                  <a:lnTo>
                    <a:pt x="1964" y="21600"/>
                  </a:lnTo>
                  <a:lnTo>
                    <a:pt x="21600" y="11664"/>
                  </a:lnTo>
                  <a:lnTo>
                    <a:pt x="15531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8"/>
            <p:cNvSpPr/>
            <p:nvPr/>
          </p:nvSpPr>
          <p:spPr>
            <a:xfrm flipH="1" rot="15120000">
              <a:off x="5215320" y="2792880"/>
              <a:ext cx="52560" cy="507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9"/>
            <p:cNvSpPr/>
            <p:nvPr/>
          </p:nvSpPr>
          <p:spPr>
            <a:xfrm flipH="1" rot="15120000">
              <a:off x="5228640" y="2805120"/>
              <a:ext cx="27720" cy="2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 flipH="1" rot="12420000">
              <a:off x="5081400" y="2346120"/>
              <a:ext cx="109800" cy="113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 flipH="1" rot="12420000">
              <a:off x="5127120" y="2345760"/>
              <a:ext cx="17640" cy="11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27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 flipH="1" rot="15120000">
              <a:off x="4949640" y="2607480"/>
              <a:ext cx="209520" cy="202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 flipH="1" rot="15120000">
              <a:off x="5168160" y="2585880"/>
              <a:ext cx="169560" cy="11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398" y="0"/>
                  </a:moveTo>
                  <a:lnTo>
                    <a:pt x="6202" y="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15398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 flipH="1" rot="15120000">
              <a:off x="5202000" y="2635560"/>
              <a:ext cx="83880" cy="18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135"/>
                  </a:lnTo>
                  <a:lnTo>
                    <a:pt x="12312" y="21600"/>
                  </a:lnTo>
                  <a:lnTo>
                    <a:pt x="21600" y="18888"/>
                  </a:lnTo>
                  <a:lnTo>
                    <a:pt x="21600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 flipH="1" rot="15120000">
              <a:off x="5153400" y="2486160"/>
              <a:ext cx="83880" cy="18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8135"/>
                  </a:lnTo>
                  <a:lnTo>
                    <a:pt x="9196" y="21600"/>
                  </a:lnTo>
                  <a:lnTo>
                    <a:pt x="0" y="1888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 flipH="1" rot="15120000">
              <a:off x="5043600" y="2637360"/>
              <a:ext cx="240480" cy="7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0"/>
                  </a:lnTo>
                  <a:lnTo>
                    <a:pt x="7575" y="21600"/>
                  </a:lnTo>
                  <a:lnTo>
                    <a:pt x="14025" y="21600"/>
                  </a:lnTo>
                  <a:lnTo>
                    <a:pt x="21600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Freeform 18"/>
          <p:cNvSpPr/>
          <p:nvPr/>
        </p:nvSpPr>
        <p:spPr>
          <a:xfrm>
            <a:off x="2438280" y="3200400"/>
            <a:ext cx="20574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67" y="16200"/>
                  <a:pt x="2933" y="10800"/>
                  <a:pt x="4800" y="7200"/>
                </a:cubicBezTo>
                <a:cubicBezTo>
                  <a:pt x="6667" y="3600"/>
                  <a:pt x="9067" y="0"/>
                  <a:pt x="11200" y="0"/>
                </a:cubicBezTo>
                <a:cubicBezTo>
                  <a:pt x="13333" y="0"/>
                  <a:pt x="15867" y="3600"/>
                  <a:pt x="17600" y="7200"/>
                </a:cubicBezTo>
                <a:cubicBezTo>
                  <a:pt x="19333" y="10800"/>
                  <a:pt x="20467" y="16200"/>
                  <a:pt x="21600" y="21600"/>
                </a:cubicBezTo>
              </a:path>
            </a:pathLst>
          </a:custGeom>
          <a:solidFill>
            <a:srgbClr val="b2b2b2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9"/>
          <p:cNvSpPr/>
          <p:nvPr/>
        </p:nvSpPr>
        <p:spPr>
          <a:xfrm>
            <a:off x="3467160" y="3166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3505320" y="2437920"/>
            <a:ext cx="144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3352680" y="2133720"/>
            <a:ext cx="393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1600200" y="1828800"/>
            <a:ext cx="1904400" cy="1371600"/>
            <a:chOff x="1600200" y="1828800"/>
            <a:chExt cx="1904400" cy="1371600"/>
          </a:xfrm>
        </p:grpSpPr>
        <p:sp>
          <p:nvSpPr>
            <p:cNvPr id="88" name="AutoShape 22"/>
            <p:cNvSpPr/>
            <p:nvPr/>
          </p:nvSpPr>
          <p:spPr>
            <a:xfrm>
              <a:off x="1600200" y="1828800"/>
              <a:ext cx="45720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7242" y="9250"/>
                  </a:lnTo>
                  <a:lnTo>
                    <a:pt x="17242" y="12350"/>
                  </a:lnTo>
                  <a:lnTo>
                    <a:pt x="21600" y="10800"/>
                  </a:lnTo>
                  <a:close/>
                  <a:moveTo>
                    <a:pt x="18436" y="3163"/>
                  </a:moveTo>
                  <a:lnTo>
                    <a:pt x="14259" y="5149"/>
                  </a:lnTo>
                  <a:lnTo>
                    <a:pt x="16451" y="7341"/>
                  </a:lnTo>
                  <a:lnTo>
                    <a:pt x="18436" y="3163"/>
                  </a:lnTo>
                  <a:close/>
                  <a:moveTo>
                    <a:pt x="10800" y="0"/>
                  </a:moveTo>
                  <a:lnTo>
                    <a:pt x="9250" y="4358"/>
                  </a:lnTo>
                  <a:lnTo>
                    <a:pt x="12350" y="4358"/>
                  </a:lnTo>
                  <a:lnTo>
                    <a:pt x="10800" y="0"/>
                  </a:lnTo>
                  <a:close/>
                  <a:moveTo>
                    <a:pt x="3163" y="3163"/>
                  </a:moveTo>
                  <a:lnTo>
                    <a:pt x="5149" y="7341"/>
                  </a:lnTo>
                  <a:lnTo>
                    <a:pt x="7341" y="5149"/>
                  </a:lnTo>
                  <a:lnTo>
                    <a:pt x="3163" y="3163"/>
                  </a:lnTo>
                  <a:close/>
                  <a:moveTo>
                    <a:pt x="0" y="10800"/>
                  </a:moveTo>
                  <a:lnTo>
                    <a:pt x="4358" y="12350"/>
                  </a:lnTo>
                  <a:lnTo>
                    <a:pt x="4358" y="9250"/>
                  </a:lnTo>
                  <a:lnTo>
                    <a:pt x="0" y="10800"/>
                  </a:lnTo>
                  <a:close/>
                  <a:moveTo>
                    <a:pt x="3163" y="18436"/>
                  </a:moveTo>
                  <a:lnTo>
                    <a:pt x="7341" y="16451"/>
                  </a:lnTo>
                  <a:lnTo>
                    <a:pt x="5149" y="14259"/>
                  </a:lnTo>
                  <a:lnTo>
                    <a:pt x="3163" y="18436"/>
                  </a:lnTo>
                  <a:close/>
                  <a:moveTo>
                    <a:pt x="10800" y="21600"/>
                  </a:moveTo>
                  <a:lnTo>
                    <a:pt x="12350" y="17242"/>
                  </a:lnTo>
                  <a:lnTo>
                    <a:pt x="9250" y="17242"/>
                  </a:lnTo>
                  <a:lnTo>
                    <a:pt x="10800" y="21600"/>
                  </a:lnTo>
                  <a:close/>
                  <a:moveTo>
                    <a:pt x="18436" y="18436"/>
                  </a:moveTo>
                  <a:lnTo>
                    <a:pt x="16451" y="14259"/>
                  </a:lnTo>
                  <a:lnTo>
                    <a:pt x="14259" y="16451"/>
                  </a:lnTo>
                  <a:lnTo>
                    <a:pt x="18436" y="18436"/>
                  </a:lnTo>
                  <a:close/>
                  <a:moveTo>
                    <a:pt x="10800" y="5400"/>
                  </a:moveTo>
                  <a:cubicBezTo>
                    <a:pt x="7818" y="5400"/>
                    <a:pt x="5400" y="7818"/>
                    <a:pt x="5400" y="10800"/>
                  </a:cubicBez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lose/>
                  <a:moveTo>
                    <a:pt x="10800" y="5400"/>
                  </a:move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25"/>
            <p:cNvGrpSpPr/>
            <p:nvPr/>
          </p:nvGrpSpPr>
          <p:grpSpPr>
            <a:xfrm>
              <a:off x="2666880" y="2727360"/>
              <a:ext cx="837720" cy="473040"/>
              <a:chOff x="2666880" y="2727360"/>
              <a:chExt cx="837720" cy="473040"/>
            </a:xfrm>
          </p:grpSpPr>
          <p:sp>
            <p:nvSpPr>
              <p:cNvPr id="90" name="Line 23"/>
              <p:cNvSpPr/>
              <p:nvPr/>
            </p:nvSpPr>
            <p:spPr>
              <a:xfrm flipH="1" flipV="1">
                <a:off x="2895120" y="2743200"/>
                <a:ext cx="6094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24"/>
              <p:cNvSpPr/>
              <p:nvPr/>
            </p:nvSpPr>
            <p:spPr>
              <a:xfrm>
                <a:off x="2666880" y="27273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t">
                <a:normAutofit/>
              </a:bodyPr>
              <a:p>
                <a:pPr marL="3960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old"/>
                    <a:ea typeface="ヒラギノ明朝 ProN W3"/>
                  </a:rPr>
                  <a:t>L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 Bold"/>
                    <a:ea typeface="ヒラギノ明朝 ProN W3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Group 30"/>
          <p:cNvGrpSpPr/>
          <p:nvPr/>
        </p:nvGrpSpPr>
        <p:grpSpPr>
          <a:xfrm>
            <a:off x="3504600" y="1295280"/>
            <a:ext cx="915120" cy="1904760"/>
            <a:chOff x="3504600" y="1295280"/>
            <a:chExt cx="915120" cy="1904760"/>
          </a:xfrm>
        </p:grpSpPr>
        <p:sp>
          <p:nvSpPr>
            <p:cNvPr id="93" name="AutoShape 27"/>
            <p:cNvSpPr/>
            <p:nvPr/>
          </p:nvSpPr>
          <p:spPr>
            <a:xfrm>
              <a:off x="3962520" y="1295280"/>
              <a:ext cx="45720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7242" y="9250"/>
                  </a:lnTo>
                  <a:lnTo>
                    <a:pt x="17242" y="12350"/>
                  </a:lnTo>
                  <a:lnTo>
                    <a:pt x="21600" y="10800"/>
                  </a:lnTo>
                  <a:close/>
                  <a:moveTo>
                    <a:pt x="18436" y="3163"/>
                  </a:moveTo>
                  <a:lnTo>
                    <a:pt x="14259" y="5149"/>
                  </a:lnTo>
                  <a:lnTo>
                    <a:pt x="16451" y="7341"/>
                  </a:lnTo>
                  <a:lnTo>
                    <a:pt x="18436" y="3163"/>
                  </a:lnTo>
                  <a:close/>
                  <a:moveTo>
                    <a:pt x="10800" y="0"/>
                  </a:moveTo>
                  <a:lnTo>
                    <a:pt x="9250" y="4358"/>
                  </a:lnTo>
                  <a:lnTo>
                    <a:pt x="12350" y="4358"/>
                  </a:lnTo>
                  <a:lnTo>
                    <a:pt x="10800" y="0"/>
                  </a:lnTo>
                  <a:close/>
                  <a:moveTo>
                    <a:pt x="3163" y="3163"/>
                  </a:moveTo>
                  <a:lnTo>
                    <a:pt x="5149" y="7341"/>
                  </a:lnTo>
                  <a:lnTo>
                    <a:pt x="7341" y="5149"/>
                  </a:lnTo>
                  <a:lnTo>
                    <a:pt x="3163" y="3163"/>
                  </a:lnTo>
                  <a:close/>
                  <a:moveTo>
                    <a:pt x="0" y="10800"/>
                  </a:moveTo>
                  <a:lnTo>
                    <a:pt x="4358" y="12350"/>
                  </a:lnTo>
                  <a:lnTo>
                    <a:pt x="4358" y="9250"/>
                  </a:lnTo>
                  <a:lnTo>
                    <a:pt x="0" y="10800"/>
                  </a:lnTo>
                  <a:close/>
                  <a:moveTo>
                    <a:pt x="3163" y="18436"/>
                  </a:moveTo>
                  <a:lnTo>
                    <a:pt x="7341" y="16451"/>
                  </a:lnTo>
                  <a:lnTo>
                    <a:pt x="5149" y="14259"/>
                  </a:lnTo>
                  <a:lnTo>
                    <a:pt x="3163" y="18436"/>
                  </a:lnTo>
                  <a:close/>
                  <a:moveTo>
                    <a:pt x="10800" y="21600"/>
                  </a:moveTo>
                  <a:lnTo>
                    <a:pt x="12350" y="17242"/>
                  </a:lnTo>
                  <a:lnTo>
                    <a:pt x="9250" y="17242"/>
                  </a:lnTo>
                  <a:lnTo>
                    <a:pt x="10800" y="21600"/>
                  </a:lnTo>
                  <a:close/>
                  <a:moveTo>
                    <a:pt x="18436" y="18436"/>
                  </a:moveTo>
                  <a:lnTo>
                    <a:pt x="16451" y="14259"/>
                  </a:lnTo>
                  <a:lnTo>
                    <a:pt x="14259" y="16451"/>
                  </a:lnTo>
                  <a:lnTo>
                    <a:pt x="18436" y="18436"/>
                  </a:lnTo>
                  <a:close/>
                  <a:moveTo>
                    <a:pt x="10800" y="5400"/>
                  </a:moveTo>
                  <a:cubicBezTo>
                    <a:pt x="7818" y="5400"/>
                    <a:pt x="5400" y="7818"/>
                    <a:pt x="5400" y="10800"/>
                  </a:cubicBez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lose/>
                  <a:moveTo>
                    <a:pt x="10800" y="5400"/>
                  </a:move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3504600" y="251424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29"/>
            <p:cNvSpPr/>
            <p:nvPr/>
          </p:nvSpPr>
          <p:spPr>
            <a:xfrm>
              <a:off x="3733920" y="251460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960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 Bold"/>
                  <a:ea typeface="ヒラギノ明朝 ProN W3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Line 31"/>
          <p:cNvSpPr/>
          <p:nvPr/>
        </p:nvSpPr>
        <p:spPr>
          <a:xfrm flipV="1">
            <a:off x="3504600" y="297144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3962520" y="2971800"/>
            <a:ext cx="3934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old"/>
                <a:ea typeface="ヒラギノ明朝 ProN W3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36"/>
          <p:cNvGrpSpPr/>
          <p:nvPr/>
        </p:nvGrpSpPr>
        <p:grpSpPr>
          <a:xfrm>
            <a:off x="2590920" y="1371600"/>
            <a:ext cx="927000" cy="1828440"/>
            <a:chOff x="2590920" y="1371600"/>
            <a:chExt cx="927000" cy="1828440"/>
          </a:xfrm>
        </p:grpSpPr>
        <p:sp>
          <p:nvSpPr>
            <p:cNvPr id="99" name="AutoShape 33"/>
            <p:cNvSpPr/>
            <p:nvPr/>
          </p:nvSpPr>
          <p:spPr>
            <a:xfrm>
              <a:off x="2590920" y="1371600"/>
              <a:ext cx="45720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7242" y="9250"/>
                  </a:lnTo>
                  <a:lnTo>
                    <a:pt x="17242" y="12350"/>
                  </a:lnTo>
                  <a:lnTo>
                    <a:pt x="21600" y="10800"/>
                  </a:lnTo>
                  <a:close/>
                  <a:moveTo>
                    <a:pt x="18436" y="3163"/>
                  </a:moveTo>
                  <a:lnTo>
                    <a:pt x="14259" y="5149"/>
                  </a:lnTo>
                  <a:lnTo>
                    <a:pt x="16451" y="7341"/>
                  </a:lnTo>
                  <a:lnTo>
                    <a:pt x="18436" y="3163"/>
                  </a:lnTo>
                  <a:close/>
                  <a:moveTo>
                    <a:pt x="10800" y="0"/>
                  </a:moveTo>
                  <a:lnTo>
                    <a:pt x="9250" y="4358"/>
                  </a:lnTo>
                  <a:lnTo>
                    <a:pt x="12350" y="4358"/>
                  </a:lnTo>
                  <a:lnTo>
                    <a:pt x="10800" y="0"/>
                  </a:lnTo>
                  <a:close/>
                  <a:moveTo>
                    <a:pt x="3163" y="3163"/>
                  </a:moveTo>
                  <a:lnTo>
                    <a:pt x="5149" y="7341"/>
                  </a:lnTo>
                  <a:lnTo>
                    <a:pt x="7341" y="5149"/>
                  </a:lnTo>
                  <a:lnTo>
                    <a:pt x="3163" y="3163"/>
                  </a:lnTo>
                  <a:close/>
                  <a:moveTo>
                    <a:pt x="0" y="10800"/>
                  </a:moveTo>
                  <a:lnTo>
                    <a:pt x="4358" y="12350"/>
                  </a:lnTo>
                  <a:lnTo>
                    <a:pt x="4358" y="9250"/>
                  </a:lnTo>
                  <a:lnTo>
                    <a:pt x="0" y="10800"/>
                  </a:lnTo>
                  <a:close/>
                  <a:moveTo>
                    <a:pt x="3163" y="18436"/>
                  </a:moveTo>
                  <a:lnTo>
                    <a:pt x="7341" y="16451"/>
                  </a:lnTo>
                  <a:lnTo>
                    <a:pt x="5149" y="14259"/>
                  </a:lnTo>
                  <a:lnTo>
                    <a:pt x="3163" y="18436"/>
                  </a:lnTo>
                  <a:close/>
                  <a:moveTo>
                    <a:pt x="10800" y="21600"/>
                  </a:moveTo>
                  <a:lnTo>
                    <a:pt x="12350" y="17242"/>
                  </a:lnTo>
                  <a:lnTo>
                    <a:pt x="9250" y="17242"/>
                  </a:lnTo>
                  <a:lnTo>
                    <a:pt x="10800" y="21600"/>
                  </a:lnTo>
                  <a:close/>
                  <a:moveTo>
                    <a:pt x="18436" y="18436"/>
                  </a:moveTo>
                  <a:lnTo>
                    <a:pt x="16451" y="14259"/>
                  </a:lnTo>
                  <a:lnTo>
                    <a:pt x="14259" y="16451"/>
                  </a:lnTo>
                  <a:lnTo>
                    <a:pt x="18436" y="18436"/>
                  </a:lnTo>
                  <a:close/>
                  <a:moveTo>
                    <a:pt x="10800" y="5400"/>
                  </a:moveTo>
                  <a:cubicBezTo>
                    <a:pt x="7818" y="5400"/>
                    <a:pt x="5400" y="7818"/>
                    <a:pt x="5400" y="10800"/>
                  </a:cubicBez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lose/>
                  <a:moveTo>
                    <a:pt x="10800" y="5400"/>
                  </a:move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 flipH="1" flipV="1">
              <a:off x="3200040" y="251424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5"/>
            <p:cNvSpPr/>
            <p:nvPr/>
          </p:nvSpPr>
          <p:spPr>
            <a:xfrm>
              <a:off x="2971800" y="251460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3960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 Bold"/>
                  <a:ea typeface="ヒラギノ明朝 ProN W3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Picture 37" descr=""/>
          <p:cNvPicPr/>
          <p:nvPr/>
        </p:nvPicPr>
        <p:blipFill>
          <a:blip r:embed="rId1"/>
          <a:stretch/>
        </p:blipFill>
        <p:spPr>
          <a:xfrm>
            <a:off x="5843520" y="2179800"/>
            <a:ext cx="2400480" cy="33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8" descr=""/>
          <p:cNvPicPr/>
          <p:nvPr/>
        </p:nvPicPr>
        <p:blipFill>
          <a:blip r:embed="rId2"/>
          <a:stretch/>
        </p:blipFill>
        <p:spPr>
          <a:xfrm>
            <a:off x="5848200" y="2701800"/>
            <a:ext cx="2400480" cy="33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9" descr=""/>
          <p:cNvPicPr/>
          <p:nvPr/>
        </p:nvPicPr>
        <p:blipFill>
          <a:blip r:embed="rId3"/>
          <a:stretch/>
        </p:blipFill>
        <p:spPr>
          <a:xfrm>
            <a:off x="5848200" y="3235320"/>
            <a:ext cx="2400480" cy="333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0"/>
          <p:cNvSpPr/>
          <p:nvPr/>
        </p:nvSpPr>
        <p:spPr>
          <a:xfrm>
            <a:off x="762120" y="4038480"/>
            <a:ext cx="7251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write this as a matrix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1" descr=""/>
          <p:cNvPicPr/>
          <p:nvPr/>
        </p:nvPicPr>
        <p:blipFill>
          <a:blip r:embed="rId4"/>
          <a:stretch/>
        </p:blipFill>
        <p:spPr>
          <a:xfrm>
            <a:off x="1509840" y="4916520"/>
            <a:ext cx="56671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ing the equ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9"/>
          <p:cNvGrpSpPr/>
          <p:nvPr/>
        </p:nvGrpSpPr>
        <p:grpSpPr>
          <a:xfrm>
            <a:off x="1523880" y="2209320"/>
            <a:ext cx="5638680" cy="686160"/>
            <a:chOff x="1523880" y="2209320"/>
            <a:chExt cx="5638680" cy="68616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tretch/>
          </p:blipFill>
          <p:spPr>
            <a:xfrm>
              <a:off x="2381040" y="2644560"/>
              <a:ext cx="133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" descr=""/>
            <p:cNvPicPr/>
            <p:nvPr/>
          </p:nvPicPr>
          <p:blipFill>
            <a:blip r:embed="rId2"/>
            <a:stretch/>
          </p:blipFill>
          <p:spPr>
            <a:xfrm>
              <a:off x="4279680" y="2644560"/>
              <a:ext cx="28440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"/>
            <p:cNvPicPr/>
            <p:nvPr/>
          </p:nvPicPr>
          <p:blipFill>
            <a:blip r:embed="rId3"/>
            <a:stretch/>
          </p:blipFill>
          <p:spPr>
            <a:xfrm>
              <a:off x="5962680" y="2628720"/>
              <a:ext cx="23328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Freeform 6"/>
            <p:cNvSpPr/>
            <p:nvPr/>
          </p:nvSpPr>
          <p:spPr>
            <a:xfrm rot="16200000">
              <a:off x="5943240" y="1294920"/>
              <a:ext cx="304920" cy="21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635" y="0"/>
                    <a:pt x="10800" y="806"/>
                    <a:pt x="10800" y="1800"/>
                  </a:cubicBezTo>
                  <a:lnTo>
                    <a:pt x="10800" y="9000"/>
                  </a:lnTo>
                  <a:cubicBezTo>
                    <a:pt x="10800" y="9994"/>
                    <a:pt x="5965" y="10800"/>
                    <a:pt x="0" y="10800"/>
                  </a:cubicBezTo>
                  <a:cubicBezTo>
                    <a:pt x="5965" y="10800"/>
                    <a:pt x="10800" y="11606"/>
                    <a:pt x="10800" y="12600"/>
                  </a:cubicBezTo>
                  <a:lnTo>
                    <a:pt x="10800" y="19800"/>
                  </a:lnTo>
                  <a:cubicBezTo>
                    <a:pt x="10800" y="20794"/>
                    <a:pt x="15635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 rot="16200000">
              <a:off x="4266000" y="1981440"/>
              <a:ext cx="304920" cy="76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635" y="0"/>
                    <a:pt x="10800" y="806"/>
                    <a:pt x="10800" y="1800"/>
                  </a:cubicBezTo>
                  <a:lnTo>
                    <a:pt x="10800" y="9000"/>
                  </a:lnTo>
                  <a:cubicBezTo>
                    <a:pt x="10800" y="9994"/>
                    <a:pt x="5965" y="10800"/>
                    <a:pt x="0" y="10800"/>
                  </a:cubicBezTo>
                  <a:cubicBezTo>
                    <a:pt x="5965" y="10800"/>
                    <a:pt x="10800" y="11606"/>
                    <a:pt x="10800" y="12600"/>
                  </a:cubicBezTo>
                  <a:lnTo>
                    <a:pt x="10800" y="19800"/>
                  </a:lnTo>
                  <a:cubicBezTo>
                    <a:pt x="10800" y="20794"/>
                    <a:pt x="15635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 rot="16200000">
              <a:off x="2323080" y="1410120"/>
              <a:ext cx="304920" cy="190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635" y="0"/>
                    <a:pt x="10800" y="806"/>
                    <a:pt x="10800" y="1800"/>
                  </a:cubicBezTo>
                  <a:lnTo>
                    <a:pt x="10800" y="9000"/>
                  </a:lnTo>
                  <a:cubicBezTo>
                    <a:pt x="10800" y="9994"/>
                    <a:pt x="5965" y="10800"/>
                    <a:pt x="0" y="10800"/>
                  </a:cubicBezTo>
                  <a:cubicBezTo>
                    <a:pt x="5965" y="10800"/>
                    <a:pt x="10800" y="11606"/>
                    <a:pt x="10800" y="12600"/>
                  </a:cubicBezTo>
                  <a:lnTo>
                    <a:pt x="10800" y="19800"/>
                  </a:lnTo>
                  <a:cubicBezTo>
                    <a:pt x="10800" y="20794"/>
                    <a:pt x="15635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3560760" y="3505320"/>
            <a:ext cx="1566720" cy="31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5"/>
          <a:stretch/>
        </p:blipFill>
        <p:spPr>
          <a:xfrm>
            <a:off x="3497400" y="4519440"/>
            <a:ext cx="1466640" cy="351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6"/>
          <a:stretch/>
        </p:blipFill>
        <p:spPr>
          <a:xfrm>
            <a:off x="3537000" y="5029200"/>
            <a:ext cx="1433520" cy="53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7"/>
          <a:stretch/>
        </p:blipFill>
        <p:spPr>
          <a:xfrm>
            <a:off x="1509840" y="1486080"/>
            <a:ext cx="5667120" cy="533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17"/>
          <p:cNvGrpSpPr/>
          <p:nvPr/>
        </p:nvGrpSpPr>
        <p:grpSpPr>
          <a:xfrm>
            <a:off x="2209680" y="2963880"/>
            <a:ext cx="4114800" cy="142920"/>
            <a:chOff x="2209680" y="2963880"/>
            <a:chExt cx="4114800" cy="142920"/>
          </a:xfrm>
        </p:grpSpPr>
        <p:pic>
          <p:nvPicPr>
            <p:cNvPr id="121" name="Picture 14" descr=""/>
            <p:cNvPicPr/>
            <p:nvPr/>
          </p:nvPicPr>
          <p:blipFill>
            <a:blip r:embed="rId8"/>
            <a:stretch/>
          </p:blipFill>
          <p:spPr>
            <a:xfrm>
              <a:off x="4186080" y="2963880"/>
              <a:ext cx="45720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5" descr=""/>
            <p:cNvPicPr/>
            <p:nvPr/>
          </p:nvPicPr>
          <p:blipFill>
            <a:blip r:embed="rId9"/>
            <a:stretch/>
          </p:blipFill>
          <p:spPr>
            <a:xfrm>
              <a:off x="5857920" y="2963880"/>
              <a:ext cx="46656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6" descr=""/>
            <p:cNvPicPr/>
            <p:nvPr/>
          </p:nvPicPr>
          <p:blipFill>
            <a:blip r:embed="rId10"/>
            <a:stretch/>
          </p:blipFill>
          <p:spPr>
            <a:xfrm>
              <a:off x="2209680" y="2963880"/>
              <a:ext cx="457200" cy="142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than three ligh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etter results by using more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7"/>
          <p:cNvGrpSpPr/>
          <p:nvPr/>
        </p:nvGrpSpPr>
        <p:grpSpPr>
          <a:xfrm>
            <a:off x="685800" y="3276720"/>
            <a:ext cx="7785000" cy="2793960"/>
            <a:chOff x="685800" y="3276720"/>
            <a:chExt cx="7785000" cy="2793960"/>
          </a:xfrm>
        </p:grpSpPr>
        <p:sp>
          <p:nvSpPr>
            <p:cNvPr id="128" name="Rectangle 4"/>
            <p:cNvSpPr/>
            <p:nvPr/>
          </p:nvSpPr>
          <p:spPr>
            <a:xfrm>
              <a:off x="685800" y="3276720"/>
              <a:ext cx="7785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t squares 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5" descr=""/>
            <p:cNvPicPr/>
            <p:nvPr/>
          </p:nvPicPr>
          <p:blipFill>
            <a:blip r:embed="rId1"/>
            <a:stretch/>
          </p:blipFill>
          <p:spPr>
            <a:xfrm>
              <a:off x="2427120" y="3902040"/>
              <a:ext cx="378468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6"/>
            <p:cNvSpPr/>
            <p:nvPr/>
          </p:nvSpPr>
          <p:spPr>
            <a:xfrm>
              <a:off x="685800" y="5562720"/>
              <a:ext cx="7785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826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ve for N,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s bef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0"/>
          <p:cNvGrpSpPr/>
          <p:nvPr/>
        </p:nvGrpSpPr>
        <p:grpSpPr>
          <a:xfrm>
            <a:off x="4712760" y="5333760"/>
            <a:ext cx="2388240" cy="884520"/>
            <a:chOff x="4712760" y="5333760"/>
            <a:chExt cx="2388240" cy="884520"/>
          </a:xfrm>
        </p:grpSpPr>
        <p:sp>
          <p:nvSpPr>
            <p:cNvPr id="132" name="Line 8"/>
            <p:cNvSpPr/>
            <p:nvPr/>
          </p:nvSpPr>
          <p:spPr>
            <a:xfrm flipH="1" flipV="1">
              <a:off x="5352840" y="5333760"/>
              <a:ext cx="6091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9"/>
            <p:cNvSpPr/>
            <p:nvPr/>
          </p:nvSpPr>
          <p:spPr>
            <a:xfrm>
              <a:off x="4712760" y="5943600"/>
              <a:ext cx="238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What’s the size of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L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 Bold"/>
                  <a:ea typeface="ヒラギノ明朝 ProN W3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1459080" y="1870200"/>
            <a:ext cx="576720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im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e of RGB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ree sets of equations, one per color chann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olution:  first solve for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on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ubstitute known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above equations to get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814480" y="1879560"/>
            <a:ext cx="2567160" cy="14511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8"/>
          <p:cNvGrpSpPr/>
          <p:nvPr/>
        </p:nvGrpSpPr>
        <p:grpSpPr>
          <a:xfrm>
            <a:off x="4572000" y="1828800"/>
            <a:ext cx="2589480" cy="533520"/>
            <a:chOff x="4572000" y="1828800"/>
            <a:chExt cx="2589480" cy="533520"/>
          </a:xfrm>
        </p:grpSpPr>
        <p:sp>
          <p:nvSpPr>
            <p:cNvPr id="140" name="Oval 5"/>
            <p:cNvSpPr/>
            <p:nvPr/>
          </p:nvSpPr>
          <p:spPr>
            <a:xfrm>
              <a:off x="4572000" y="1828800"/>
              <a:ext cx="83808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5410080" y="2100240"/>
              <a:ext cx="533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6091200" y="1876320"/>
              <a:ext cx="1070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all this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old"/>
                  <a:ea typeface="ヒラギノ明朝 ProN W3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2674800" y="4565520"/>
            <a:ext cx="288468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ing light source dire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:  place a chrome sphere in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tion of the highlight tells you where the light sourc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308240" y="1676520"/>
            <a:ext cx="6362640" cy="17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62120" y="914400"/>
            <a:ext cx="7708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a perfect mirror, light is reflected about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all the rule for specular ref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679840" y="2425680"/>
            <a:ext cx="237960" cy="303120"/>
          </a:xfrm>
          <a:prstGeom prst="rect">
            <a:avLst/>
          </a:prstGeom>
          <a:ln w="0">
            <a:noFill/>
          </a:ln>
        </p:spPr>
      </p:pic>
      <p:sp>
        <p:nvSpPr>
          <p:cNvPr id="152" name="Freeform 5"/>
          <p:cNvSpPr/>
          <p:nvPr/>
        </p:nvSpPr>
        <p:spPr>
          <a:xfrm>
            <a:off x="2711520" y="2733840"/>
            <a:ext cx="345960" cy="258480"/>
          </a:xfrm>
          <a:custGeom>
            <a:avLst/>
            <a:gdLst/>
            <a:ahLst/>
            <a:rect l="l" t="t" r="r" b="b"/>
            <a:pathLst>
              <a:path w="21600" h="20296">
                <a:moveTo>
                  <a:pt x="0" y="20296"/>
                </a:moveTo>
                <a:cubicBezTo>
                  <a:pt x="2520" y="12582"/>
                  <a:pt x="5040" y="4867"/>
                  <a:pt x="8640" y="1782"/>
                </a:cubicBezTo>
                <a:cubicBezTo>
                  <a:pt x="12240" y="-1304"/>
                  <a:pt x="16920" y="239"/>
                  <a:pt x="21600" y="17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3056760" y="2666880"/>
            <a:ext cx="600120" cy="728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1522440" y="3427560"/>
            <a:ext cx="3125520" cy="1042560"/>
            <a:chOff x="1522440" y="3427560"/>
            <a:chExt cx="3125520" cy="1042560"/>
          </a:xfrm>
        </p:grpSpPr>
        <p:sp>
          <p:nvSpPr>
            <p:cNvPr id="155" name="Oval 7"/>
            <p:cNvSpPr/>
            <p:nvPr/>
          </p:nvSpPr>
          <p:spPr>
            <a:xfrm>
              <a:off x="1636920" y="3427560"/>
              <a:ext cx="2895120" cy="926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1522440" y="3889800"/>
              <a:ext cx="3125520" cy="58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Line 10"/>
          <p:cNvSpPr/>
          <p:nvPr/>
        </p:nvSpPr>
        <p:spPr>
          <a:xfrm flipH="1" flipV="1">
            <a:off x="2438280" y="2666520"/>
            <a:ext cx="6192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3056760" y="2387160"/>
            <a:ext cx="1800" cy="104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 flipV="1">
            <a:off x="3057480" y="3048120"/>
            <a:ext cx="828720" cy="3808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3"/>
          <p:cNvSpPr/>
          <p:nvPr/>
        </p:nvSpPr>
        <p:spPr>
          <a:xfrm flipH="1">
            <a:off x="3057480" y="2724120"/>
            <a:ext cx="347760" cy="258840"/>
          </a:xfrm>
          <a:custGeom>
            <a:avLst/>
            <a:gdLst/>
            <a:ahLst/>
            <a:rect l="l" t="t" r="r" b="b"/>
            <a:pathLst>
              <a:path w="21600" h="20296">
                <a:moveTo>
                  <a:pt x="0" y="20296"/>
                </a:moveTo>
                <a:cubicBezTo>
                  <a:pt x="2520" y="12582"/>
                  <a:pt x="5040" y="4867"/>
                  <a:pt x="8640" y="1782"/>
                </a:cubicBezTo>
                <a:cubicBezTo>
                  <a:pt x="12240" y="-1304"/>
                  <a:pt x="16920" y="239"/>
                  <a:pt x="21600" y="17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4" descr=""/>
          <p:cNvPicPr/>
          <p:nvPr/>
        </p:nvPicPr>
        <p:blipFill>
          <a:blip r:embed="rId2"/>
          <a:stretch/>
        </p:blipFill>
        <p:spPr>
          <a:xfrm>
            <a:off x="4044960" y="2770200"/>
            <a:ext cx="317520" cy="263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3"/>
          <a:stretch/>
        </p:blipFill>
        <p:spPr>
          <a:xfrm>
            <a:off x="2949480" y="2044800"/>
            <a:ext cx="297000" cy="263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4"/>
          <a:stretch/>
        </p:blipFill>
        <p:spPr>
          <a:xfrm>
            <a:off x="2057400" y="2276640"/>
            <a:ext cx="230040" cy="261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5"/>
          <a:stretch/>
        </p:blipFill>
        <p:spPr>
          <a:xfrm>
            <a:off x="3808440" y="2286000"/>
            <a:ext cx="29700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"/>
          <p:cNvPicPr/>
          <p:nvPr/>
        </p:nvPicPr>
        <p:blipFill>
          <a:blip r:embed="rId6"/>
          <a:stretch/>
        </p:blipFill>
        <p:spPr>
          <a:xfrm>
            <a:off x="3257640" y="2425680"/>
            <a:ext cx="237960" cy="30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7"/>
          <a:stretch/>
        </p:blipFill>
        <p:spPr>
          <a:xfrm>
            <a:off x="5086440" y="1878120"/>
            <a:ext cx="2895480" cy="10191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0"/>
          <p:cNvSpPr/>
          <p:nvPr/>
        </p:nvSpPr>
        <p:spPr>
          <a:xfrm>
            <a:off x="762120" y="4267080"/>
            <a:ext cx="778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000" tIns="38160" bIns="38160" anchor="t">
            <a:noAutofit/>
          </a:bodyPr>
          <a:p>
            <a:pPr marL="34596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see a highlight when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2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L is given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1"/>
          <p:cNvSpPr/>
          <p:nvPr/>
        </p:nvSpPr>
        <p:spPr>
          <a:xfrm flipH="1" flipV="1">
            <a:off x="3059280" y="2666520"/>
            <a:ext cx="108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2" descr=""/>
          <p:cNvPicPr/>
          <p:nvPr/>
        </p:nvPicPr>
        <p:blipFill>
          <a:blip r:embed="rId8"/>
          <a:stretch/>
        </p:blipFill>
        <p:spPr>
          <a:xfrm>
            <a:off x="2538360" y="5105520"/>
            <a:ext cx="3135240" cy="333360"/>
          </a:xfrm>
          <a:prstGeom prst="rect">
            <a:avLst/>
          </a:prstGeom>
          <a:ln w="0">
            <a:noFill/>
          </a:ln>
        </p:spPr>
      </p:pic>
      <p:sp>
        <p:nvSpPr>
          <p:cNvPr id="170" name="Line 23"/>
          <p:cNvSpPr/>
          <p:nvPr/>
        </p:nvSpPr>
        <p:spPr>
          <a:xfrm flipH="1" flipV="1">
            <a:off x="3047760" y="1905120"/>
            <a:ext cx="1116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4"/>
          <p:cNvSpPr/>
          <p:nvPr/>
        </p:nvSpPr>
        <p:spPr>
          <a:xfrm flipV="1">
            <a:off x="2447280" y="1938240"/>
            <a:ext cx="600120" cy="728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Ink 1" descr=""/>
          <p:cNvPicPr/>
          <p:nvPr/>
        </p:nvPicPr>
        <p:blipFill>
          <a:blip r:embed="rId9"/>
          <a:stretch/>
        </p:blipFill>
        <p:spPr>
          <a:xfrm>
            <a:off x="5078520" y="3417840"/>
            <a:ext cx="246204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0" presetSubtype="1791731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5-07T03:32:12Z</dcterms:modified>
  <cp:revision>4</cp:revision>
  <dc:subject/>
  <dc:title>Computer Vision:  Photometric Stereo</dc:title>
</cp:coreProperties>
</file>