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3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9.png" ContentType="image/png"/>
  <Override PartName="/ppt/media/image31.png" ContentType="image/png"/>
  <Override PartName="/ppt/media/image40.png" ContentType="image/png"/>
  <Override PartName="/ppt/media/image11.jpeg" ContentType="image/jpeg"/>
  <Override PartName="/ppt/media/image24.png" ContentType="image/png"/>
  <Override PartName="/ppt/media/image54.png" ContentType="image/png"/>
  <Override PartName="/ppt/media/image14.jpeg" ContentType="image/jpeg"/>
  <Override PartName="/ppt/media/image27.png" ContentType="image/png"/>
  <Override PartName="/ppt/media/image61.png" ContentType="image/png"/>
  <Override PartName="/ppt/media/image22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55.png" ContentType="image/png"/>
  <Override PartName="/ppt/media/image59.png" ContentType="image/png"/>
  <Override PartName="/ppt/media/image16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2.jpeg" ContentType="image/jpeg"/>
  <Override PartName="/ppt/media/image34.png" ContentType="image/png"/>
  <Override PartName="/ppt/media/image1.png" ContentType="image/png"/>
  <Override PartName="/ppt/media/image13.png" ContentType="image/png"/>
  <Override PartName="/ppt/media/image3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49.png" ContentType="image/png"/>
  <Override PartName="/ppt/media/image50.png" ContentType="image/png"/>
  <Override PartName="/ppt/media/image4.jpeg" ContentType="image/jpe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BEFD-1ABC-44CC-B8CD-6620E022F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CC9B-7497-441F-B5B0-F7DE901FC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05CF-9AC3-486C-80CE-538D6DB3C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9E95-1789-4943-9525-9835A030C7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5722-FFD3-46F4-9E18-A879FFCA00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8588-0CAD-4353-A3F9-C27F87490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79F6-024B-4625-A283-48D032EC2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8B37-CAF7-47F6-80D2-F1456FE63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E9982-D7DE-4C95-A39E-17F3D934A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04F6-03F6-4F66-B36A-2027F21DC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9A9A-2496-44BF-85B8-3110BB7CD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93E8-90AA-4C67-9338-01781B32E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0F79-AD2B-4E7F-92F8-BB4430A6A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adiolab.org/2012/may/21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wm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2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42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lytro.com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graphics.stanford.edu/papers/lfcamera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5041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zeliski, 2.2, 2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diolab podcast on 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133720" y="4449600"/>
            <a:ext cx="475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by Ted Ade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4981320" cy="3200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4038480" y="2816280"/>
            <a:ext cx="92736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5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ligh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2"/>
          <p:cNvGrpSpPr/>
          <p:nvPr/>
        </p:nvGrpSpPr>
        <p:grpSpPr>
          <a:xfrm>
            <a:off x="1696680" y="1564200"/>
            <a:ext cx="4398840" cy="1308600"/>
            <a:chOff x="1696680" y="1564200"/>
            <a:chExt cx="4398840" cy="1308600"/>
          </a:xfrm>
        </p:grpSpPr>
        <p:grpSp>
          <p:nvGrpSpPr>
            <p:cNvPr id="127" name="Group 10"/>
            <p:cNvGrpSpPr/>
            <p:nvPr/>
          </p:nvGrpSpPr>
          <p:grpSpPr>
            <a:xfrm>
              <a:off x="1696680" y="1564200"/>
              <a:ext cx="1233000" cy="1308600"/>
              <a:chOff x="1696680" y="1564200"/>
              <a:chExt cx="1233000" cy="1308600"/>
            </a:xfrm>
          </p:grpSpPr>
          <p:sp>
            <p:nvSpPr>
              <p:cNvPr id="128" name="Freeform 3"/>
              <p:cNvSpPr/>
              <p:nvPr/>
            </p:nvSpPr>
            <p:spPr>
              <a:xfrm rot="4140000">
                <a:off x="1807920" y="1828440"/>
                <a:ext cx="888480" cy="84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719" y="21600"/>
                    </a:moveTo>
                    <a:lnTo>
                      <a:pt x="0" y="1558"/>
                    </a:lnTo>
                    <a:lnTo>
                      <a:pt x="967" y="921"/>
                    </a:lnTo>
                    <a:lnTo>
                      <a:pt x="1612" y="991"/>
                    </a:lnTo>
                    <a:lnTo>
                      <a:pt x="2257" y="921"/>
                    </a:lnTo>
                    <a:lnTo>
                      <a:pt x="2364" y="708"/>
                    </a:lnTo>
                    <a:lnTo>
                      <a:pt x="2901" y="779"/>
                    </a:lnTo>
                    <a:lnTo>
                      <a:pt x="3331" y="496"/>
                    </a:lnTo>
                    <a:lnTo>
                      <a:pt x="3976" y="637"/>
                    </a:lnTo>
                    <a:lnTo>
                      <a:pt x="4406" y="425"/>
                    </a:lnTo>
                    <a:lnTo>
                      <a:pt x="4943" y="354"/>
                    </a:lnTo>
                    <a:lnTo>
                      <a:pt x="5588" y="212"/>
                    </a:lnTo>
                    <a:lnTo>
                      <a:pt x="6125" y="283"/>
                    </a:lnTo>
                    <a:lnTo>
                      <a:pt x="6663" y="212"/>
                    </a:lnTo>
                    <a:lnTo>
                      <a:pt x="7093" y="0"/>
                    </a:lnTo>
                    <a:lnTo>
                      <a:pt x="7952" y="0"/>
                    </a:lnTo>
                    <a:lnTo>
                      <a:pt x="8597" y="71"/>
                    </a:lnTo>
                    <a:lnTo>
                      <a:pt x="8919" y="71"/>
                    </a:lnTo>
                    <a:lnTo>
                      <a:pt x="9242" y="212"/>
                    </a:lnTo>
                    <a:lnTo>
                      <a:pt x="9887" y="283"/>
                    </a:lnTo>
                    <a:lnTo>
                      <a:pt x="10531" y="496"/>
                    </a:lnTo>
                    <a:lnTo>
                      <a:pt x="11069" y="496"/>
                    </a:lnTo>
                    <a:lnTo>
                      <a:pt x="11928" y="708"/>
                    </a:lnTo>
                    <a:lnTo>
                      <a:pt x="12358" y="850"/>
                    </a:lnTo>
                    <a:lnTo>
                      <a:pt x="13003" y="779"/>
                    </a:lnTo>
                    <a:lnTo>
                      <a:pt x="13433" y="1133"/>
                    </a:lnTo>
                    <a:lnTo>
                      <a:pt x="14078" y="1204"/>
                    </a:lnTo>
                    <a:lnTo>
                      <a:pt x="14507" y="1346"/>
                    </a:lnTo>
                    <a:lnTo>
                      <a:pt x="15045" y="1487"/>
                    </a:lnTo>
                    <a:lnTo>
                      <a:pt x="15260" y="1700"/>
                    </a:lnTo>
                    <a:lnTo>
                      <a:pt x="15690" y="1912"/>
                    </a:lnTo>
                    <a:lnTo>
                      <a:pt x="16227" y="2195"/>
                    </a:lnTo>
                    <a:lnTo>
                      <a:pt x="16442" y="2479"/>
                    </a:lnTo>
                    <a:lnTo>
                      <a:pt x="16764" y="2550"/>
                    </a:lnTo>
                    <a:lnTo>
                      <a:pt x="17194" y="2904"/>
                    </a:lnTo>
                    <a:lnTo>
                      <a:pt x="17516" y="3116"/>
                    </a:lnTo>
                    <a:lnTo>
                      <a:pt x="18054" y="3258"/>
                    </a:lnTo>
                    <a:lnTo>
                      <a:pt x="18484" y="3541"/>
                    </a:lnTo>
                    <a:lnTo>
                      <a:pt x="18913" y="3753"/>
                    </a:lnTo>
                    <a:lnTo>
                      <a:pt x="19128" y="3895"/>
                    </a:lnTo>
                    <a:lnTo>
                      <a:pt x="19558" y="4178"/>
                    </a:lnTo>
                    <a:lnTo>
                      <a:pt x="19881" y="4391"/>
                    </a:lnTo>
                    <a:lnTo>
                      <a:pt x="19988" y="4745"/>
                    </a:lnTo>
                    <a:lnTo>
                      <a:pt x="20310" y="5170"/>
                    </a:lnTo>
                    <a:lnTo>
                      <a:pt x="20633" y="5382"/>
                    </a:lnTo>
                    <a:lnTo>
                      <a:pt x="21063" y="5666"/>
                    </a:lnTo>
                    <a:lnTo>
                      <a:pt x="21278" y="5949"/>
                    </a:lnTo>
                    <a:lnTo>
                      <a:pt x="21493" y="6374"/>
                    </a:lnTo>
                    <a:lnTo>
                      <a:pt x="21600" y="7011"/>
                    </a:lnTo>
                    <a:lnTo>
                      <a:pt x="1719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6"/>
              <p:cNvGrpSpPr/>
              <p:nvPr/>
            </p:nvGrpSpPr>
            <p:grpSpPr>
              <a:xfrm>
                <a:off x="2143440" y="1788120"/>
                <a:ext cx="752760" cy="758520"/>
                <a:chOff x="2143440" y="1788120"/>
                <a:chExt cx="752760" cy="758520"/>
              </a:xfrm>
            </p:grpSpPr>
            <p:sp>
              <p:nvSpPr>
                <p:cNvPr id="130" name="Freeform 4"/>
                <p:cNvSpPr/>
                <p:nvPr/>
              </p:nvSpPr>
              <p:spPr>
                <a:xfrm rot="2760000">
                  <a:off x="2192400" y="1960200"/>
                  <a:ext cx="654840" cy="413640"/>
                </a:xfrm>
                <a:custGeom>
                  <a:avLst/>
                  <a:gdLst/>
                  <a:ahLst/>
                  <a:rect l="l" t="t" r="r" b="b"/>
                  <a:pathLst>
                    <a:path w="21600" h="21599">
                      <a:moveTo>
                        <a:pt x="0" y="0"/>
                      </a:moveTo>
                      <a:cubicBezTo>
                        <a:pt x="48" y="0"/>
                        <a:pt x="95" y="-1"/>
                        <a:pt x="144" y="0"/>
                      </a:cubicBezTo>
                      <a:cubicBezTo>
                        <a:pt x="11993" y="0"/>
                        <a:pt x="21600" y="9670"/>
                        <a:pt x="21600" y="21599"/>
                      </a:cubicBez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AutoShape 5"/>
                <p:cNvSpPr/>
                <p:nvPr/>
              </p:nvSpPr>
              <p:spPr>
                <a:xfrm rot="2760000">
                  <a:off x="2192400" y="1960200"/>
                  <a:ext cx="654840" cy="413640"/>
                </a:xfrm>
                <a:custGeom>
                  <a:avLst/>
                  <a:gdLst/>
                  <a:ahLst/>
                  <a:rect l="l" t="t" r="r" b="b"/>
                  <a:pathLst>
                    <a:path w="21600" h="21599">
                      <a:moveTo>
                        <a:pt x="0" y="0"/>
                      </a:moveTo>
                      <a:cubicBezTo>
                        <a:pt x="48" y="0"/>
                        <a:pt x="95" y="-1"/>
                        <a:pt x="144" y="0"/>
                      </a:cubicBezTo>
                      <a:cubicBezTo>
                        <a:pt x="11993" y="0"/>
                        <a:pt x="21600" y="9670"/>
                        <a:pt x="21600" y="21599"/>
                      </a:cubicBezTo>
                      <a:lnTo>
                        <a:pt x="144" y="21599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Line 7"/>
              <p:cNvSpPr/>
              <p:nvPr/>
            </p:nvSpPr>
            <p:spPr>
              <a:xfrm flipH="1">
                <a:off x="1724040" y="1564200"/>
                <a:ext cx="1020600" cy="49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8"/>
              <p:cNvSpPr/>
              <p:nvPr/>
            </p:nvSpPr>
            <p:spPr>
              <a:xfrm rot="180000">
                <a:off x="2471760" y="1898280"/>
                <a:ext cx="197280" cy="54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9"/>
              <p:cNvSpPr/>
              <p:nvPr/>
            </p:nvSpPr>
            <p:spPr>
              <a:xfrm>
                <a:off x="1723320" y="2059560"/>
                <a:ext cx="1206360" cy="813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Line 11"/>
            <p:cNvSpPr/>
            <p:nvPr/>
          </p:nvSpPr>
          <p:spPr>
            <a:xfrm flipH="1">
              <a:off x="3431520" y="2434680"/>
              <a:ext cx="266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85800" y="914400"/>
            <a:ext cx="816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Electromagnetic radiation (EMR) moving along rays in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) is EMR, measured in units of power (wat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s wave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685800" y="2917800"/>
            <a:ext cx="7785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Perceiving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How do we convert radiation into “color”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hat part of the spectrum do we se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visible light spectr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153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“see” electromagnetic radiation in a range of wavel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868480" y="1523880"/>
            <a:ext cx="39132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ght spectr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earance of light depends on its power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uch power (or energy) at each 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715000" cy="2736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2915640" y="4191120"/>
            <a:ext cx="1129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day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218560" y="4191120"/>
            <a:ext cx="1909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ungsten bu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685800" y="4876920"/>
            <a:ext cx="7785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Our visual system converts a light spectrum into “col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is is a rather complex trans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human visual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49528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 hits the retina, which contains photosensitive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4496040" cy="39337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685800" y="5715000"/>
            <a:ext cx="8013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1182600" indent="-228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85800" y="6095880"/>
            <a:ext cx="801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7826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ese cells convert the spectrum into a few discret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Ink 1" descr=""/>
          <p:cNvPicPr/>
          <p:nvPr/>
        </p:nvPicPr>
        <p:blipFill>
          <a:blip r:embed="rId2"/>
          <a:stretch/>
        </p:blipFill>
        <p:spPr>
          <a:xfrm>
            <a:off x="2455920" y="5651640"/>
            <a:ext cx="1755720" cy="33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nsity of rods and c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257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ds and cones are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Arial Italic"/>
              </a:rPr>
              <a:t>non-uniform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tributed on the re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ds responsible for intensity, cones responsible for 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Fove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mall region (1 or 2°) at the center of the visual field containing the highest density of cones (and no rod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visual acuity in the periphery—many rods wired to the same neu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058840" y="982800"/>
            <a:ext cx="4418280" cy="42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monstrations of visual acu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922640" cy="5105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1790640" y="6172200"/>
            <a:ext cx="5842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609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With one eye shut, at the right distance, all of these letters should appear equally legible (Glassner, 1.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monstrations of visual acu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371600" y="5791320"/>
            <a:ext cx="6146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90000"/>
          </a:bodyPr>
          <a:p>
            <a:pPr marL="356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609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With left eye shut, look at the cross on the left.  At the right distance, the circle on the right should disappear (Glassner, 1.8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1981080" y="3352680"/>
            <a:ext cx="304920" cy="304920"/>
            <a:chOff x="1981080" y="3352680"/>
            <a:chExt cx="304920" cy="304920"/>
          </a:xfrm>
        </p:grpSpPr>
        <p:sp>
          <p:nvSpPr>
            <p:cNvPr id="168" name="Line 4"/>
            <p:cNvSpPr/>
            <p:nvPr/>
          </p:nvSpPr>
          <p:spPr>
            <a:xfrm>
              <a:off x="2133360" y="3352680"/>
              <a:ext cx="1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>
              <a:off x="1981080" y="3504960"/>
              <a:ext cx="30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Oval 7"/>
          <p:cNvSpPr/>
          <p:nvPr/>
        </p:nvSpPr>
        <p:spPr>
          <a:xfrm>
            <a:off x="6400800" y="339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ightness contrast and constan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arent brightness depends on the surrounding reg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brightness contr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 constant colored region seem lighter or darker depending on the surrou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28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28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brightness consta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 surface looks the same under widely varying lighting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830240" y="2286000"/>
            <a:ext cx="54849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ght response is nonline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visual system has a large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  <a:ea typeface="Arial Italic"/>
              </a:rPr>
              <a:t>dynami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resolve both light and dark thing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chanism for achieving this is that we sense light intensity on a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Arial Italic"/>
              </a:rPr>
              <a:t>logarithmic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ponential intensity ramp will be seen as a linear ram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mechanism is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Arial Italic"/>
              </a:rPr>
              <a:t>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s and cones adapt to be more sensitive in low light, less sensitive in bright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sual dynamic ran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562040" y="876240"/>
            <a:ext cx="6019920" cy="59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perties of l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li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measur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light propag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light interact with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fter im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d photore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out negative response after a strong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93160" y="3271680"/>
            <a:ext cx="588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ヒラギノ明朝 ProN W3"/>
              </a:rPr>
              <a:t>http://www.michaelbach.de/ot/mot_adaptSpiral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r percep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types of c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s sensitive in a different region of the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regions over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(S) corresponds to b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um (M) corresponds to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(L) corresponds to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ensitivities:  we are more sensitive to green tha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es from person to person (and with 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blindness—deficiency in at least one type of c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2286000" y="1133640"/>
            <a:ext cx="3665520" cy="23716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6059160" y="1676520"/>
            <a:ext cx="183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L respons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 flipH="1">
            <a:off x="5181120" y="190512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r percep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ds and cones act as filters on the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the output of a filter, multiply its response curve by the spectrum, integrate over all wavel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ne yields on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 How can we represent an entire spectrum with 3 numb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1828800" y="1770120"/>
            <a:ext cx="1440" cy="14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1828800" y="3216240"/>
            <a:ext cx="4572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1841400" y="1979640"/>
            <a:ext cx="4572000" cy="121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739"/>
                </a:moveTo>
                <a:lnTo>
                  <a:pt x="240" y="19936"/>
                </a:lnTo>
                <a:lnTo>
                  <a:pt x="420" y="19936"/>
                </a:lnTo>
                <a:lnTo>
                  <a:pt x="600" y="19542"/>
                </a:lnTo>
                <a:lnTo>
                  <a:pt x="780" y="19372"/>
                </a:lnTo>
                <a:lnTo>
                  <a:pt x="960" y="18808"/>
                </a:lnTo>
                <a:lnTo>
                  <a:pt x="1140" y="18244"/>
                </a:lnTo>
                <a:lnTo>
                  <a:pt x="1193" y="18075"/>
                </a:lnTo>
                <a:lnTo>
                  <a:pt x="1313" y="17680"/>
                </a:lnTo>
                <a:lnTo>
                  <a:pt x="1373" y="17314"/>
                </a:lnTo>
                <a:lnTo>
                  <a:pt x="1433" y="16947"/>
                </a:lnTo>
                <a:lnTo>
                  <a:pt x="1493" y="16581"/>
                </a:lnTo>
                <a:lnTo>
                  <a:pt x="1553" y="16214"/>
                </a:lnTo>
                <a:lnTo>
                  <a:pt x="1673" y="15819"/>
                </a:lnTo>
                <a:lnTo>
                  <a:pt x="1733" y="15453"/>
                </a:lnTo>
                <a:lnTo>
                  <a:pt x="1793" y="15086"/>
                </a:lnTo>
                <a:lnTo>
                  <a:pt x="1853" y="14720"/>
                </a:lnTo>
                <a:lnTo>
                  <a:pt x="1913" y="14325"/>
                </a:lnTo>
                <a:lnTo>
                  <a:pt x="1973" y="13958"/>
                </a:lnTo>
                <a:lnTo>
                  <a:pt x="2093" y="13225"/>
                </a:lnTo>
                <a:lnTo>
                  <a:pt x="2213" y="12464"/>
                </a:lnTo>
                <a:lnTo>
                  <a:pt x="2333" y="11928"/>
                </a:lnTo>
                <a:lnTo>
                  <a:pt x="2453" y="11533"/>
                </a:lnTo>
                <a:lnTo>
                  <a:pt x="2513" y="10997"/>
                </a:lnTo>
                <a:lnTo>
                  <a:pt x="2633" y="10800"/>
                </a:lnTo>
                <a:lnTo>
                  <a:pt x="2753" y="10800"/>
                </a:lnTo>
                <a:lnTo>
                  <a:pt x="2873" y="10800"/>
                </a:lnTo>
                <a:lnTo>
                  <a:pt x="2993" y="11167"/>
                </a:lnTo>
                <a:lnTo>
                  <a:pt x="3053" y="11364"/>
                </a:lnTo>
                <a:lnTo>
                  <a:pt x="3113" y="11533"/>
                </a:lnTo>
                <a:lnTo>
                  <a:pt x="3173" y="11928"/>
                </a:lnTo>
                <a:lnTo>
                  <a:pt x="3233" y="12295"/>
                </a:lnTo>
                <a:lnTo>
                  <a:pt x="3293" y="12661"/>
                </a:lnTo>
                <a:lnTo>
                  <a:pt x="3353" y="13225"/>
                </a:lnTo>
                <a:lnTo>
                  <a:pt x="3533" y="13225"/>
                </a:lnTo>
                <a:lnTo>
                  <a:pt x="3653" y="13592"/>
                </a:lnTo>
                <a:lnTo>
                  <a:pt x="3713" y="13958"/>
                </a:lnTo>
                <a:lnTo>
                  <a:pt x="3833" y="14325"/>
                </a:lnTo>
                <a:lnTo>
                  <a:pt x="3893" y="14889"/>
                </a:lnTo>
                <a:lnTo>
                  <a:pt x="3945" y="15284"/>
                </a:lnTo>
                <a:lnTo>
                  <a:pt x="4065" y="15650"/>
                </a:lnTo>
                <a:lnTo>
                  <a:pt x="4125" y="16017"/>
                </a:lnTo>
                <a:lnTo>
                  <a:pt x="4245" y="16214"/>
                </a:lnTo>
                <a:lnTo>
                  <a:pt x="4365" y="16214"/>
                </a:lnTo>
                <a:lnTo>
                  <a:pt x="4485" y="16214"/>
                </a:lnTo>
                <a:lnTo>
                  <a:pt x="4665" y="15650"/>
                </a:lnTo>
                <a:lnTo>
                  <a:pt x="4725" y="15453"/>
                </a:lnTo>
                <a:lnTo>
                  <a:pt x="4785" y="15086"/>
                </a:lnTo>
                <a:lnTo>
                  <a:pt x="4905" y="14720"/>
                </a:lnTo>
                <a:lnTo>
                  <a:pt x="4965" y="14325"/>
                </a:lnTo>
                <a:lnTo>
                  <a:pt x="5025" y="13958"/>
                </a:lnTo>
                <a:lnTo>
                  <a:pt x="5085" y="13394"/>
                </a:lnTo>
                <a:lnTo>
                  <a:pt x="5205" y="13028"/>
                </a:lnTo>
                <a:lnTo>
                  <a:pt x="5265" y="12464"/>
                </a:lnTo>
                <a:lnTo>
                  <a:pt x="5325" y="11928"/>
                </a:lnTo>
                <a:lnTo>
                  <a:pt x="5385" y="11533"/>
                </a:lnTo>
                <a:lnTo>
                  <a:pt x="5505" y="10997"/>
                </a:lnTo>
                <a:lnTo>
                  <a:pt x="5565" y="10603"/>
                </a:lnTo>
                <a:lnTo>
                  <a:pt x="5625" y="10067"/>
                </a:lnTo>
                <a:lnTo>
                  <a:pt x="5745" y="9672"/>
                </a:lnTo>
                <a:lnTo>
                  <a:pt x="5805" y="9305"/>
                </a:lnTo>
                <a:lnTo>
                  <a:pt x="5865" y="8939"/>
                </a:lnTo>
                <a:lnTo>
                  <a:pt x="5985" y="8742"/>
                </a:lnTo>
                <a:lnTo>
                  <a:pt x="6045" y="8572"/>
                </a:lnTo>
                <a:lnTo>
                  <a:pt x="6105" y="8375"/>
                </a:lnTo>
                <a:lnTo>
                  <a:pt x="6225" y="8375"/>
                </a:lnTo>
                <a:lnTo>
                  <a:pt x="6285" y="8572"/>
                </a:lnTo>
                <a:lnTo>
                  <a:pt x="6345" y="8742"/>
                </a:lnTo>
                <a:lnTo>
                  <a:pt x="6465" y="8939"/>
                </a:lnTo>
                <a:lnTo>
                  <a:pt x="6525" y="9503"/>
                </a:lnTo>
                <a:lnTo>
                  <a:pt x="7418" y="8206"/>
                </a:lnTo>
                <a:lnTo>
                  <a:pt x="7478" y="7811"/>
                </a:lnTo>
                <a:lnTo>
                  <a:pt x="7478" y="7444"/>
                </a:lnTo>
                <a:lnTo>
                  <a:pt x="7538" y="7078"/>
                </a:lnTo>
                <a:lnTo>
                  <a:pt x="7598" y="6514"/>
                </a:lnTo>
                <a:lnTo>
                  <a:pt x="7658" y="6147"/>
                </a:lnTo>
                <a:lnTo>
                  <a:pt x="7778" y="5583"/>
                </a:lnTo>
                <a:lnTo>
                  <a:pt x="7838" y="5217"/>
                </a:lnTo>
                <a:lnTo>
                  <a:pt x="7898" y="4653"/>
                </a:lnTo>
                <a:lnTo>
                  <a:pt x="8018" y="4286"/>
                </a:lnTo>
                <a:lnTo>
                  <a:pt x="8078" y="3920"/>
                </a:lnTo>
                <a:lnTo>
                  <a:pt x="8198" y="3356"/>
                </a:lnTo>
                <a:lnTo>
                  <a:pt x="8318" y="2989"/>
                </a:lnTo>
                <a:lnTo>
                  <a:pt x="8378" y="2622"/>
                </a:lnTo>
                <a:lnTo>
                  <a:pt x="8498" y="2228"/>
                </a:lnTo>
                <a:lnTo>
                  <a:pt x="8618" y="1861"/>
                </a:lnTo>
                <a:lnTo>
                  <a:pt x="8738" y="1495"/>
                </a:lnTo>
                <a:lnTo>
                  <a:pt x="8858" y="1128"/>
                </a:lnTo>
                <a:lnTo>
                  <a:pt x="8978" y="931"/>
                </a:lnTo>
                <a:lnTo>
                  <a:pt x="9098" y="564"/>
                </a:lnTo>
                <a:lnTo>
                  <a:pt x="9218" y="367"/>
                </a:lnTo>
                <a:lnTo>
                  <a:pt x="9338" y="197"/>
                </a:lnTo>
                <a:lnTo>
                  <a:pt x="9450" y="0"/>
                </a:lnTo>
                <a:lnTo>
                  <a:pt x="9570" y="0"/>
                </a:lnTo>
                <a:lnTo>
                  <a:pt x="9690" y="0"/>
                </a:lnTo>
                <a:lnTo>
                  <a:pt x="9870" y="564"/>
                </a:lnTo>
                <a:lnTo>
                  <a:pt x="10110" y="1297"/>
                </a:lnTo>
                <a:lnTo>
                  <a:pt x="10290" y="2058"/>
                </a:lnTo>
                <a:lnTo>
                  <a:pt x="10530" y="2792"/>
                </a:lnTo>
                <a:lnTo>
                  <a:pt x="10710" y="3553"/>
                </a:lnTo>
                <a:lnTo>
                  <a:pt x="10950" y="4286"/>
                </a:lnTo>
                <a:lnTo>
                  <a:pt x="11070" y="4653"/>
                </a:lnTo>
                <a:lnTo>
                  <a:pt x="11190" y="4850"/>
                </a:lnTo>
                <a:lnTo>
                  <a:pt x="11310" y="5217"/>
                </a:lnTo>
                <a:lnTo>
                  <a:pt x="11430" y="5583"/>
                </a:lnTo>
                <a:lnTo>
                  <a:pt x="11550" y="5781"/>
                </a:lnTo>
                <a:lnTo>
                  <a:pt x="11670" y="5950"/>
                </a:lnTo>
                <a:lnTo>
                  <a:pt x="11850" y="6147"/>
                </a:lnTo>
                <a:lnTo>
                  <a:pt x="11970" y="6345"/>
                </a:lnTo>
                <a:lnTo>
                  <a:pt x="12090" y="6514"/>
                </a:lnTo>
                <a:lnTo>
                  <a:pt x="12203" y="6514"/>
                </a:lnTo>
                <a:lnTo>
                  <a:pt x="12383" y="6514"/>
                </a:lnTo>
                <a:lnTo>
                  <a:pt x="12503" y="6514"/>
                </a:lnTo>
                <a:lnTo>
                  <a:pt x="12563" y="6147"/>
                </a:lnTo>
                <a:lnTo>
                  <a:pt x="12623" y="5781"/>
                </a:lnTo>
                <a:lnTo>
                  <a:pt x="12683" y="5583"/>
                </a:lnTo>
                <a:lnTo>
                  <a:pt x="12743" y="5414"/>
                </a:lnTo>
                <a:lnTo>
                  <a:pt x="12803" y="5217"/>
                </a:lnTo>
                <a:lnTo>
                  <a:pt x="12863" y="5217"/>
                </a:lnTo>
                <a:lnTo>
                  <a:pt x="12983" y="5019"/>
                </a:lnTo>
                <a:lnTo>
                  <a:pt x="13043" y="5019"/>
                </a:lnTo>
                <a:lnTo>
                  <a:pt x="13163" y="5217"/>
                </a:lnTo>
                <a:lnTo>
                  <a:pt x="13283" y="5583"/>
                </a:lnTo>
                <a:lnTo>
                  <a:pt x="13343" y="5950"/>
                </a:lnTo>
                <a:lnTo>
                  <a:pt x="13463" y="6345"/>
                </a:lnTo>
                <a:lnTo>
                  <a:pt x="13523" y="6711"/>
                </a:lnTo>
                <a:lnTo>
                  <a:pt x="13643" y="7275"/>
                </a:lnTo>
                <a:lnTo>
                  <a:pt x="13703" y="7642"/>
                </a:lnTo>
                <a:lnTo>
                  <a:pt x="13763" y="8375"/>
                </a:lnTo>
                <a:lnTo>
                  <a:pt x="13883" y="9305"/>
                </a:lnTo>
                <a:lnTo>
                  <a:pt x="14063" y="9869"/>
                </a:lnTo>
                <a:lnTo>
                  <a:pt x="14123" y="10236"/>
                </a:lnTo>
                <a:lnTo>
                  <a:pt x="14243" y="10433"/>
                </a:lnTo>
                <a:lnTo>
                  <a:pt x="14363" y="10433"/>
                </a:lnTo>
                <a:lnTo>
                  <a:pt x="14483" y="10433"/>
                </a:lnTo>
                <a:lnTo>
                  <a:pt x="14663" y="10433"/>
                </a:lnTo>
                <a:lnTo>
                  <a:pt x="14783" y="10067"/>
                </a:lnTo>
                <a:lnTo>
                  <a:pt x="16155" y="8572"/>
                </a:lnTo>
                <a:lnTo>
                  <a:pt x="16275" y="8939"/>
                </a:lnTo>
                <a:lnTo>
                  <a:pt x="16395" y="9503"/>
                </a:lnTo>
                <a:lnTo>
                  <a:pt x="16515" y="10067"/>
                </a:lnTo>
                <a:lnTo>
                  <a:pt x="16575" y="10800"/>
                </a:lnTo>
                <a:lnTo>
                  <a:pt x="16695" y="11533"/>
                </a:lnTo>
                <a:lnTo>
                  <a:pt x="16815" y="12295"/>
                </a:lnTo>
                <a:lnTo>
                  <a:pt x="16935" y="13028"/>
                </a:lnTo>
                <a:lnTo>
                  <a:pt x="17055" y="13592"/>
                </a:lnTo>
                <a:lnTo>
                  <a:pt x="17175" y="13789"/>
                </a:lnTo>
                <a:lnTo>
                  <a:pt x="17295" y="13958"/>
                </a:lnTo>
                <a:lnTo>
                  <a:pt x="17475" y="13958"/>
                </a:lnTo>
                <a:lnTo>
                  <a:pt x="17648" y="13394"/>
                </a:lnTo>
                <a:lnTo>
                  <a:pt x="17708" y="13225"/>
                </a:lnTo>
                <a:lnTo>
                  <a:pt x="17828" y="12464"/>
                </a:lnTo>
                <a:lnTo>
                  <a:pt x="17888" y="11928"/>
                </a:lnTo>
                <a:lnTo>
                  <a:pt x="17948" y="11167"/>
                </a:lnTo>
                <a:lnTo>
                  <a:pt x="18008" y="10433"/>
                </a:lnTo>
                <a:lnTo>
                  <a:pt x="18128" y="9672"/>
                </a:lnTo>
                <a:lnTo>
                  <a:pt x="18188" y="8939"/>
                </a:lnTo>
                <a:lnTo>
                  <a:pt x="18308" y="8375"/>
                </a:lnTo>
                <a:lnTo>
                  <a:pt x="18368" y="8206"/>
                </a:lnTo>
                <a:lnTo>
                  <a:pt x="18488" y="8008"/>
                </a:lnTo>
                <a:lnTo>
                  <a:pt x="18608" y="8008"/>
                </a:lnTo>
                <a:lnTo>
                  <a:pt x="18728" y="8742"/>
                </a:lnTo>
                <a:lnTo>
                  <a:pt x="18788" y="8939"/>
                </a:lnTo>
                <a:lnTo>
                  <a:pt x="18848" y="9503"/>
                </a:lnTo>
                <a:lnTo>
                  <a:pt x="19028" y="10236"/>
                </a:lnTo>
                <a:lnTo>
                  <a:pt x="19148" y="10800"/>
                </a:lnTo>
                <a:lnTo>
                  <a:pt x="19268" y="11533"/>
                </a:lnTo>
                <a:lnTo>
                  <a:pt x="19448" y="12295"/>
                </a:lnTo>
                <a:lnTo>
                  <a:pt x="19568" y="12858"/>
                </a:lnTo>
                <a:lnTo>
                  <a:pt x="19748" y="13225"/>
                </a:lnTo>
                <a:lnTo>
                  <a:pt x="19868" y="13225"/>
                </a:lnTo>
                <a:lnTo>
                  <a:pt x="19928" y="13225"/>
                </a:lnTo>
                <a:lnTo>
                  <a:pt x="19988" y="13028"/>
                </a:lnTo>
                <a:lnTo>
                  <a:pt x="19988" y="12858"/>
                </a:lnTo>
                <a:lnTo>
                  <a:pt x="20048" y="12464"/>
                </a:lnTo>
                <a:lnTo>
                  <a:pt x="20048" y="11928"/>
                </a:lnTo>
                <a:lnTo>
                  <a:pt x="20168" y="11364"/>
                </a:lnTo>
                <a:lnTo>
                  <a:pt x="20288" y="11364"/>
                </a:lnTo>
                <a:lnTo>
                  <a:pt x="20460" y="11928"/>
                </a:lnTo>
                <a:lnTo>
                  <a:pt x="20520" y="12295"/>
                </a:lnTo>
                <a:lnTo>
                  <a:pt x="20580" y="12661"/>
                </a:lnTo>
                <a:lnTo>
                  <a:pt x="20700" y="13225"/>
                </a:lnTo>
                <a:lnTo>
                  <a:pt x="20760" y="13592"/>
                </a:lnTo>
                <a:lnTo>
                  <a:pt x="20820" y="14156"/>
                </a:lnTo>
                <a:lnTo>
                  <a:pt x="20940" y="14889"/>
                </a:lnTo>
                <a:lnTo>
                  <a:pt x="21000" y="15453"/>
                </a:lnTo>
                <a:lnTo>
                  <a:pt x="21060" y="16017"/>
                </a:lnTo>
                <a:lnTo>
                  <a:pt x="21120" y="16750"/>
                </a:lnTo>
                <a:lnTo>
                  <a:pt x="21180" y="17314"/>
                </a:lnTo>
                <a:lnTo>
                  <a:pt x="21240" y="18075"/>
                </a:lnTo>
                <a:lnTo>
                  <a:pt x="21300" y="18611"/>
                </a:lnTo>
                <a:lnTo>
                  <a:pt x="21360" y="19175"/>
                </a:lnTo>
                <a:lnTo>
                  <a:pt x="21420" y="19739"/>
                </a:lnTo>
                <a:lnTo>
                  <a:pt x="21480" y="20303"/>
                </a:lnTo>
                <a:lnTo>
                  <a:pt x="21540" y="20867"/>
                </a:lnTo>
                <a:lnTo>
                  <a:pt x="21600" y="21233"/>
                </a:lnTo>
                <a:lnTo>
                  <a:pt x="21600" y="216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9"/>
          <p:cNvGrpSpPr/>
          <p:nvPr/>
        </p:nvGrpSpPr>
        <p:grpSpPr>
          <a:xfrm>
            <a:off x="1828800" y="1941480"/>
            <a:ext cx="2595600" cy="1274760"/>
            <a:chOff x="1828800" y="1941480"/>
            <a:chExt cx="2595600" cy="1274760"/>
          </a:xfrm>
        </p:grpSpPr>
        <p:sp>
          <p:nvSpPr>
            <p:cNvPr id="198" name="Freeform 7"/>
            <p:cNvSpPr/>
            <p:nvPr/>
          </p:nvSpPr>
          <p:spPr>
            <a:xfrm>
              <a:off x="1828800" y="2419200"/>
              <a:ext cx="2595600" cy="797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342"/>
                  </a:moveTo>
                  <a:lnTo>
                    <a:pt x="317" y="21342"/>
                  </a:lnTo>
                  <a:lnTo>
                    <a:pt x="528" y="21041"/>
                  </a:lnTo>
                  <a:lnTo>
                    <a:pt x="740" y="20739"/>
                  </a:lnTo>
                  <a:lnTo>
                    <a:pt x="1057" y="20481"/>
                  </a:lnTo>
                  <a:lnTo>
                    <a:pt x="1268" y="20180"/>
                  </a:lnTo>
                  <a:lnTo>
                    <a:pt x="1480" y="19621"/>
                  </a:lnTo>
                  <a:lnTo>
                    <a:pt x="1691" y="19061"/>
                  </a:lnTo>
                  <a:lnTo>
                    <a:pt x="2008" y="18760"/>
                  </a:lnTo>
                  <a:lnTo>
                    <a:pt x="2206" y="18201"/>
                  </a:lnTo>
                  <a:lnTo>
                    <a:pt x="2418" y="17641"/>
                  </a:lnTo>
                  <a:lnTo>
                    <a:pt x="2629" y="16781"/>
                  </a:lnTo>
                  <a:lnTo>
                    <a:pt x="2735" y="16222"/>
                  </a:lnTo>
                  <a:lnTo>
                    <a:pt x="2946" y="15662"/>
                  </a:lnTo>
                  <a:lnTo>
                    <a:pt x="3157" y="14802"/>
                  </a:lnTo>
                  <a:lnTo>
                    <a:pt x="3369" y="13941"/>
                  </a:lnTo>
                  <a:lnTo>
                    <a:pt x="3580" y="13382"/>
                  </a:lnTo>
                  <a:lnTo>
                    <a:pt x="3792" y="12521"/>
                  </a:lnTo>
                  <a:lnTo>
                    <a:pt x="3897" y="11661"/>
                  </a:lnTo>
                  <a:lnTo>
                    <a:pt x="4109" y="11101"/>
                  </a:lnTo>
                  <a:lnTo>
                    <a:pt x="4320" y="10241"/>
                  </a:lnTo>
                  <a:lnTo>
                    <a:pt x="4426" y="9380"/>
                  </a:lnTo>
                  <a:lnTo>
                    <a:pt x="4637" y="8520"/>
                  </a:lnTo>
                  <a:lnTo>
                    <a:pt x="4848" y="7960"/>
                  </a:lnTo>
                  <a:lnTo>
                    <a:pt x="4954" y="7100"/>
                  </a:lnTo>
                  <a:lnTo>
                    <a:pt x="5166" y="6540"/>
                  </a:lnTo>
                  <a:lnTo>
                    <a:pt x="5377" y="5680"/>
                  </a:lnTo>
                  <a:lnTo>
                    <a:pt x="5483" y="5120"/>
                  </a:lnTo>
                  <a:lnTo>
                    <a:pt x="5694" y="4260"/>
                  </a:lnTo>
                  <a:lnTo>
                    <a:pt x="5905" y="3700"/>
                  </a:lnTo>
                  <a:lnTo>
                    <a:pt x="6011" y="3141"/>
                  </a:lnTo>
                  <a:lnTo>
                    <a:pt x="6434" y="2022"/>
                  </a:lnTo>
                  <a:lnTo>
                    <a:pt x="6751" y="1162"/>
                  </a:lnTo>
                  <a:lnTo>
                    <a:pt x="7055" y="602"/>
                  </a:lnTo>
                  <a:lnTo>
                    <a:pt x="7477" y="301"/>
                  </a:lnTo>
                  <a:lnTo>
                    <a:pt x="7900" y="0"/>
                  </a:lnTo>
                  <a:lnTo>
                    <a:pt x="8323" y="301"/>
                  </a:lnTo>
                  <a:lnTo>
                    <a:pt x="8429" y="602"/>
                  </a:lnTo>
                  <a:lnTo>
                    <a:pt x="8640" y="861"/>
                  </a:lnTo>
                  <a:lnTo>
                    <a:pt x="8957" y="1420"/>
                  </a:lnTo>
                  <a:lnTo>
                    <a:pt x="9168" y="1721"/>
                  </a:lnTo>
                  <a:lnTo>
                    <a:pt x="9380" y="2280"/>
                  </a:lnTo>
                  <a:lnTo>
                    <a:pt x="9591" y="3141"/>
                  </a:lnTo>
                  <a:lnTo>
                    <a:pt x="9908" y="4260"/>
                  </a:lnTo>
                  <a:lnTo>
                    <a:pt x="10225" y="5422"/>
                  </a:lnTo>
                  <a:lnTo>
                    <a:pt x="10648" y="6282"/>
                  </a:lnTo>
                  <a:lnTo>
                    <a:pt x="10965" y="7401"/>
                  </a:lnTo>
                  <a:lnTo>
                    <a:pt x="11282" y="8520"/>
                  </a:lnTo>
                  <a:lnTo>
                    <a:pt x="11599" y="9380"/>
                  </a:lnTo>
                  <a:lnTo>
                    <a:pt x="11903" y="10241"/>
                  </a:lnTo>
                  <a:lnTo>
                    <a:pt x="12220" y="11101"/>
                  </a:lnTo>
                  <a:lnTo>
                    <a:pt x="12537" y="11962"/>
                  </a:lnTo>
                  <a:lnTo>
                    <a:pt x="12854" y="12822"/>
                  </a:lnTo>
                  <a:lnTo>
                    <a:pt x="13171" y="13640"/>
                  </a:lnTo>
                  <a:lnTo>
                    <a:pt x="13488" y="14500"/>
                  </a:lnTo>
                  <a:lnTo>
                    <a:pt x="13911" y="15361"/>
                  </a:lnTo>
                  <a:lnTo>
                    <a:pt x="14228" y="15920"/>
                  </a:lnTo>
                  <a:lnTo>
                    <a:pt x="14545" y="16480"/>
                  </a:lnTo>
                  <a:lnTo>
                    <a:pt x="14968" y="17082"/>
                  </a:lnTo>
                  <a:lnTo>
                    <a:pt x="15285" y="17641"/>
                  </a:lnTo>
                  <a:lnTo>
                    <a:pt x="15708" y="18201"/>
                  </a:lnTo>
                  <a:lnTo>
                    <a:pt x="15919" y="18502"/>
                  </a:lnTo>
                  <a:lnTo>
                    <a:pt x="16131" y="18760"/>
                  </a:lnTo>
                  <a:lnTo>
                    <a:pt x="16342" y="18760"/>
                  </a:lnTo>
                  <a:lnTo>
                    <a:pt x="16553" y="19061"/>
                  </a:lnTo>
                  <a:lnTo>
                    <a:pt x="16752" y="19320"/>
                  </a:lnTo>
                  <a:lnTo>
                    <a:pt x="16963" y="19320"/>
                  </a:lnTo>
                  <a:lnTo>
                    <a:pt x="17174" y="19621"/>
                  </a:lnTo>
                  <a:lnTo>
                    <a:pt x="17491" y="19621"/>
                  </a:lnTo>
                  <a:lnTo>
                    <a:pt x="17703" y="19922"/>
                  </a:lnTo>
                  <a:lnTo>
                    <a:pt x="17914" y="19922"/>
                  </a:lnTo>
                  <a:lnTo>
                    <a:pt x="18231" y="20180"/>
                  </a:lnTo>
                  <a:lnTo>
                    <a:pt x="18443" y="20180"/>
                  </a:lnTo>
                  <a:lnTo>
                    <a:pt x="18760" y="20180"/>
                  </a:lnTo>
                  <a:lnTo>
                    <a:pt x="18971" y="20180"/>
                  </a:lnTo>
                  <a:lnTo>
                    <a:pt x="19182" y="20180"/>
                  </a:lnTo>
                  <a:lnTo>
                    <a:pt x="19499" y="20481"/>
                  </a:lnTo>
                  <a:lnTo>
                    <a:pt x="19711" y="20481"/>
                  </a:lnTo>
                  <a:lnTo>
                    <a:pt x="20028" y="20739"/>
                  </a:lnTo>
                  <a:lnTo>
                    <a:pt x="20239" y="21041"/>
                  </a:lnTo>
                  <a:lnTo>
                    <a:pt x="20556" y="21342"/>
                  </a:lnTo>
                  <a:lnTo>
                    <a:pt x="20768" y="21342"/>
                  </a:lnTo>
                  <a:lnTo>
                    <a:pt x="21085" y="21600"/>
                  </a:lnTo>
                  <a:lnTo>
                    <a:pt x="21296" y="21600"/>
                  </a:lnTo>
                  <a:lnTo>
                    <a:pt x="21600" y="21600"/>
                  </a:lnTo>
                </a:path>
              </a:pathLst>
            </a:custGeom>
            <a:noFill/>
            <a:ln w="507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8"/>
            <p:cNvSpPr/>
            <p:nvPr/>
          </p:nvSpPr>
          <p:spPr>
            <a:xfrm>
              <a:off x="2673000" y="1941480"/>
              <a:ext cx="2271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63360" tIns="25560" bIns="25560" anchor="t">
              <a:spAutoFit/>
            </a:bodyPr>
            <a:p>
              <a:pPr marL="1260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 Bold"/>
                  <a:ea typeface="ヒラギノ明朝 ProN W3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Group 12"/>
          <p:cNvGrpSpPr/>
          <p:nvPr/>
        </p:nvGrpSpPr>
        <p:grpSpPr>
          <a:xfrm>
            <a:off x="1892160" y="990720"/>
            <a:ext cx="3483000" cy="2288520"/>
            <a:chOff x="1892160" y="990720"/>
            <a:chExt cx="3483000" cy="2288520"/>
          </a:xfrm>
        </p:grpSpPr>
        <p:sp>
          <p:nvSpPr>
            <p:cNvPr id="201" name="Freeform 10"/>
            <p:cNvSpPr/>
            <p:nvPr/>
          </p:nvSpPr>
          <p:spPr>
            <a:xfrm>
              <a:off x="1892160" y="1403280"/>
              <a:ext cx="3483000" cy="187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759"/>
                  </a:moveTo>
                  <a:lnTo>
                    <a:pt x="236" y="20759"/>
                  </a:lnTo>
                  <a:lnTo>
                    <a:pt x="394" y="20759"/>
                  </a:lnTo>
                  <a:lnTo>
                    <a:pt x="630" y="20631"/>
                  </a:lnTo>
                  <a:lnTo>
                    <a:pt x="788" y="20631"/>
                  </a:lnTo>
                  <a:lnTo>
                    <a:pt x="1024" y="20631"/>
                  </a:lnTo>
                  <a:lnTo>
                    <a:pt x="1181" y="20631"/>
                  </a:lnTo>
                  <a:lnTo>
                    <a:pt x="1408" y="20504"/>
                  </a:lnTo>
                  <a:lnTo>
                    <a:pt x="1565" y="20504"/>
                  </a:lnTo>
                  <a:lnTo>
                    <a:pt x="1802" y="20394"/>
                  </a:lnTo>
                  <a:lnTo>
                    <a:pt x="1959" y="20394"/>
                  </a:lnTo>
                  <a:lnTo>
                    <a:pt x="2195" y="20266"/>
                  </a:lnTo>
                  <a:lnTo>
                    <a:pt x="2432" y="20266"/>
                  </a:lnTo>
                  <a:lnTo>
                    <a:pt x="2589" y="20156"/>
                  </a:lnTo>
                  <a:lnTo>
                    <a:pt x="2826" y="20156"/>
                  </a:lnTo>
                  <a:lnTo>
                    <a:pt x="2983" y="20028"/>
                  </a:lnTo>
                  <a:lnTo>
                    <a:pt x="3219" y="19901"/>
                  </a:lnTo>
                  <a:lnTo>
                    <a:pt x="3377" y="19791"/>
                  </a:lnTo>
                  <a:lnTo>
                    <a:pt x="3613" y="19791"/>
                  </a:lnTo>
                  <a:lnTo>
                    <a:pt x="3771" y="19663"/>
                  </a:lnTo>
                  <a:lnTo>
                    <a:pt x="4007" y="19553"/>
                  </a:lnTo>
                  <a:lnTo>
                    <a:pt x="4164" y="19425"/>
                  </a:lnTo>
                  <a:lnTo>
                    <a:pt x="4401" y="19297"/>
                  </a:lnTo>
                  <a:lnTo>
                    <a:pt x="4558" y="19188"/>
                  </a:lnTo>
                  <a:lnTo>
                    <a:pt x="4795" y="19060"/>
                  </a:lnTo>
                  <a:lnTo>
                    <a:pt x="4942" y="18950"/>
                  </a:lnTo>
                  <a:lnTo>
                    <a:pt x="5100" y="18822"/>
                  </a:lnTo>
                  <a:lnTo>
                    <a:pt x="5336" y="18694"/>
                  </a:lnTo>
                  <a:lnTo>
                    <a:pt x="5494" y="18585"/>
                  </a:lnTo>
                  <a:lnTo>
                    <a:pt x="5651" y="18347"/>
                  </a:lnTo>
                  <a:lnTo>
                    <a:pt x="5887" y="18219"/>
                  </a:lnTo>
                  <a:lnTo>
                    <a:pt x="6045" y="18091"/>
                  </a:lnTo>
                  <a:lnTo>
                    <a:pt x="6202" y="17854"/>
                  </a:lnTo>
                  <a:lnTo>
                    <a:pt x="6360" y="17744"/>
                  </a:lnTo>
                  <a:lnTo>
                    <a:pt x="6596" y="17616"/>
                  </a:lnTo>
                  <a:lnTo>
                    <a:pt x="6754" y="17379"/>
                  </a:lnTo>
                  <a:lnTo>
                    <a:pt x="6911" y="17251"/>
                  </a:lnTo>
                  <a:lnTo>
                    <a:pt x="7069" y="17013"/>
                  </a:lnTo>
                  <a:lnTo>
                    <a:pt x="7226" y="16776"/>
                  </a:lnTo>
                  <a:lnTo>
                    <a:pt x="7384" y="16648"/>
                  </a:lnTo>
                  <a:lnTo>
                    <a:pt x="7541" y="16410"/>
                  </a:lnTo>
                  <a:lnTo>
                    <a:pt x="7699" y="16173"/>
                  </a:lnTo>
                  <a:lnTo>
                    <a:pt x="7856" y="16045"/>
                  </a:lnTo>
                  <a:lnTo>
                    <a:pt x="8014" y="15807"/>
                  </a:lnTo>
                  <a:lnTo>
                    <a:pt x="8093" y="15570"/>
                  </a:lnTo>
                  <a:lnTo>
                    <a:pt x="8250" y="15314"/>
                  </a:lnTo>
                  <a:lnTo>
                    <a:pt x="8408" y="15076"/>
                  </a:lnTo>
                  <a:lnTo>
                    <a:pt x="8477" y="14839"/>
                  </a:lnTo>
                  <a:lnTo>
                    <a:pt x="8634" y="14601"/>
                  </a:lnTo>
                  <a:lnTo>
                    <a:pt x="8713" y="14363"/>
                  </a:lnTo>
                  <a:lnTo>
                    <a:pt x="8870" y="14108"/>
                  </a:lnTo>
                  <a:lnTo>
                    <a:pt x="9028" y="13760"/>
                  </a:lnTo>
                  <a:lnTo>
                    <a:pt x="9107" y="13505"/>
                  </a:lnTo>
                  <a:lnTo>
                    <a:pt x="9264" y="13157"/>
                  </a:lnTo>
                  <a:lnTo>
                    <a:pt x="9343" y="12792"/>
                  </a:lnTo>
                  <a:lnTo>
                    <a:pt x="9500" y="12426"/>
                  </a:lnTo>
                  <a:lnTo>
                    <a:pt x="9579" y="11951"/>
                  </a:lnTo>
                  <a:lnTo>
                    <a:pt x="9737" y="11586"/>
                  </a:lnTo>
                  <a:lnTo>
                    <a:pt x="9894" y="11092"/>
                  </a:lnTo>
                  <a:lnTo>
                    <a:pt x="9973" y="10745"/>
                  </a:lnTo>
                  <a:lnTo>
                    <a:pt x="10131" y="10252"/>
                  </a:lnTo>
                  <a:lnTo>
                    <a:pt x="10209" y="9777"/>
                  </a:lnTo>
                  <a:lnTo>
                    <a:pt x="10367" y="9283"/>
                  </a:lnTo>
                  <a:lnTo>
                    <a:pt x="10524" y="8936"/>
                  </a:lnTo>
                  <a:lnTo>
                    <a:pt x="10603" y="8443"/>
                  </a:lnTo>
                  <a:lnTo>
                    <a:pt x="10761" y="7968"/>
                  </a:lnTo>
                  <a:lnTo>
                    <a:pt x="10839" y="7474"/>
                  </a:lnTo>
                  <a:lnTo>
                    <a:pt x="10997" y="6999"/>
                  </a:lnTo>
                  <a:lnTo>
                    <a:pt x="11154" y="6524"/>
                  </a:lnTo>
                  <a:lnTo>
                    <a:pt x="11233" y="6030"/>
                  </a:lnTo>
                  <a:lnTo>
                    <a:pt x="11391" y="5555"/>
                  </a:lnTo>
                  <a:lnTo>
                    <a:pt x="11469" y="5190"/>
                  </a:lnTo>
                  <a:lnTo>
                    <a:pt x="11627" y="4696"/>
                  </a:lnTo>
                  <a:lnTo>
                    <a:pt x="11706" y="4221"/>
                  </a:lnTo>
                  <a:lnTo>
                    <a:pt x="11863" y="3856"/>
                  </a:lnTo>
                  <a:lnTo>
                    <a:pt x="11942" y="3490"/>
                  </a:lnTo>
                  <a:lnTo>
                    <a:pt x="12090" y="3015"/>
                  </a:lnTo>
                  <a:lnTo>
                    <a:pt x="12168" y="2650"/>
                  </a:lnTo>
                  <a:lnTo>
                    <a:pt x="12326" y="2284"/>
                  </a:lnTo>
                  <a:lnTo>
                    <a:pt x="12405" y="1937"/>
                  </a:lnTo>
                  <a:lnTo>
                    <a:pt x="12484" y="1681"/>
                  </a:lnTo>
                  <a:lnTo>
                    <a:pt x="12641" y="1334"/>
                  </a:lnTo>
                  <a:lnTo>
                    <a:pt x="12720" y="1078"/>
                  </a:lnTo>
                  <a:lnTo>
                    <a:pt x="12799" y="841"/>
                  </a:lnTo>
                  <a:lnTo>
                    <a:pt x="12956" y="603"/>
                  </a:lnTo>
                  <a:lnTo>
                    <a:pt x="13114" y="238"/>
                  </a:lnTo>
                  <a:lnTo>
                    <a:pt x="13271" y="0"/>
                  </a:lnTo>
                  <a:lnTo>
                    <a:pt x="13429" y="0"/>
                  </a:lnTo>
                  <a:lnTo>
                    <a:pt x="13586" y="0"/>
                  </a:lnTo>
                  <a:lnTo>
                    <a:pt x="13665" y="128"/>
                  </a:lnTo>
                  <a:lnTo>
                    <a:pt x="13665" y="238"/>
                  </a:lnTo>
                  <a:lnTo>
                    <a:pt x="13744" y="365"/>
                  </a:lnTo>
                  <a:lnTo>
                    <a:pt x="13822" y="603"/>
                  </a:lnTo>
                  <a:lnTo>
                    <a:pt x="13901" y="841"/>
                  </a:lnTo>
                  <a:lnTo>
                    <a:pt x="13980" y="1206"/>
                  </a:lnTo>
                  <a:lnTo>
                    <a:pt x="14059" y="1444"/>
                  </a:lnTo>
                  <a:lnTo>
                    <a:pt x="14137" y="1809"/>
                  </a:lnTo>
                  <a:lnTo>
                    <a:pt x="14137" y="2175"/>
                  </a:lnTo>
                  <a:lnTo>
                    <a:pt x="14216" y="2412"/>
                  </a:lnTo>
                  <a:lnTo>
                    <a:pt x="14295" y="2778"/>
                  </a:lnTo>
                  <a:lnTo>
                    <a:pt x="14295" y="3143"/>
                  </a:lnTo>
                  <a:lnTo>
                    <a:pt x="14374" y="3381"/>
                  </a:lnTo>
                  <a:lnTo>
                    <a:pt x="14374" y="3746"/>
                  </a:lnTo>
                  <a:lnTo>
                    <a:pt x="14453" y="3984"/>
                  </a:lnTo>
                  <a:lnTo>
                    <a:pt x="14453" y="4349"/>
                  </a:lnTo>
                  <a:lnTo>
                    <a:pt x="14531" y="4587"/>
                  </a:lnTo>
                  <a:lnTo>
                    <a:pt x="14531" y="4952"/>
                  </a:lnTo>
                  <a:lnTo>
                    <a:pt x="14610" y="5318"/>
                  </a:lnTo>
                  <a:lnTo>
                    <a:pt x="14610" y="5555"/>
                  </a:lnTo>
                  <a:lnTo>
                    <a:pt x="14689" y="5921"/>
                  </a:lnTo>
                  <a:lnTo>
                    <a:pt x="14689" y="6158"/>
                  </a:lnTo>
                  <a:lnTo>
                    <a:pt x="14689" y="6524"/>
                  </a:lnTo>
                  <a:lnTo>
                    <a:pt x="14768" y="6761"/>
                  </a:lnTo>
                  <a:lnTo>
                    <a:pt x="14768" y="7127"/>
                  </a:lnTo>
                  <a:lnTo>
                    <a:pt x="14846" y="7364"/>
                  </a:lnTo>
                  <a:lnTo>
                    <a:pt x="14846" y="7730"/>
                  </a:lnTo>
                  <a:lnTo>
                    <a:pt x="14925" y="7968"/>
                  </a:lnTo>
                  <a:lnTo>
                    <a:pt x="14925" y="8333"/>
                  </a:lnTo>
                  <a:lnTo>
                    <a:pt x="14925" y="8571"/>
                  </a:lnTo>
                  <a:lnTo>
                    <a:pt x="15004" y="8936"/>
                  </a:lnTo>
                  <a:lnTo>
                    <a:pt x="15004" y="9174"/>
                  </a:lnTo>
                  <a:lnTo>
                    <a:pt x="15083" y="9539"/>
                  </a:lnTo>
                  <a:lnTo>
                    <a:pt x="15161" y="9777"/>
                  </a:lnTo>
                  <a:lnTo>
                    <a:pt x="15161" y="10014"/>
                  </a:lnTo>
                  <a:lnTo>
                    <a:pt x="15240" y="10380"/>
                  </a:lnTo>
                  <a:lnTo>
                    <a:pt x="15319" y="10617"/>
                  </a:lnTo>
                  <a:lnTo>
                    <a:pt x="15319" y="10983"/>
                  </a:lnTo>
                  <a:lnTo>
                    <a:pt x="15398" y="11220"/>
                  </a:lnTo>
                  <a:lnTo>
                    <a:pt x="15476" y="11586"/>
                  </a:lnTo>
                  <a:lnTo>
                    <a:pt x="15555" y="11823"/>
                  </a:lnTo>
                  <a:lnTo>
                    <a:pt x="15624" y="12061"/>
                  </a:lnTo>
                  <a:lnTo>
                    <a:pt x="15703" y="12426"/>
                  </a:lnTo>
                  <a:lnTo>
                    <a:pt x="15782" y="12664"/>
                  </a:lnTo>
                  <a:lnTo>
                    <a:pt x="15860" y="12902"/>
                  </a:lnTo>
                  <a:lnTo>
                    <a:pt x="16018" y="13267"/>
                  </a:lnTo>
                  <a:lnTo>
                    <a:pt x="16097" y="13505"/>
                  </a:lnTo>
                  <a:lnTo>
                    <a:pt x="16175" y="13760"/>
                  </a:lnTo>
                  <a:lnTo>
                    <a:pt x="16333" y="14108"/>
                  </a:lnTo>
                  <a:lnTo>
                    <a:pt x="16490" y="14363"/>
                  </a:lnTo>
                  <a:lnTo>
                    <a:pt x="16569" y="14601"/>
                  </a:lnTo>
                  <a:lnTo>
                    <a:pt x="16727" y="14966"/>
                  </a:lnTo>
                  <a:lnTo>
                    <a:pt x="16884" y="15204"/>
                  </a:lnTo>
                  <a:lnTo>
                    <a:pt x="17042" y="15570"/>
                  </a:lnTo>
                  <a:lnTo>
                    <a:pt x="17278" y="15917"/>
                  </a:lnTo>
                  <a:lnTo>
                    <a:pt x="17436" y="16173"/>
                  </a:lnTo>
                  <a:lnTo>
                    <a:pt x="17593" y="16538"/>
                  </a:lnTo>
                  <a:lnTo>
                    <a:pt x="17829" y="16885"/>
                  </a:lnTo>
                  <a:lnTo>
                    <a:pt x="17987" y="17141"/>
                  </a:lnTo>
                  <a:lnTo>
                    <a:pt x="18144" y="17488"/>
                  </a:lnTo>
                  <a:lnTo>
                    <a:pt x="18302" y="17854"/>
                  </a:lnTo>
                  <a:lnTo>
                    <a:pt x="18538" y="18091"/>
                  </a:lnTo>
                  <a:lnTo>
                    <a:pt x="18696" y="18457"/>
                  </a:lnTo>
                  <a:lnTo>
                    <a:pt x="18853" y="18694"/>
                  </a:lnTo>
                  <a:lnTo>
                    <a:pt x="19090" y="18950"/>
                  </a:lnTo>
                  <a:lnTo>
                    <a:pt x="19237" y="19297"/>
                  </a:lnTo>
                  <a:lnTo>
                    <a:pt x="19473" y="19553"/>
                  </a:lnTo>
                  <a:lnTo>
                    <a:pt x="19631" y="19791"/>
                  </a:lnTo>
                  <a:lnTo>
                    <a:pt x="19867" y="20028"/>
                  </a:lnTo>
                  <a:lnTo>
                    <a:pt x="20025" y="20266"/>
                  </a:lnTo>
                  <a:lnTo>
                    <a:pt x="20261" y="20504"/>
                  </a:lnTo>
                  <a:lnTo>
                    <a:pt x="20419" y="20759"/>
                  </a:lnTo>
                  <a:lnTo>
                    <a:pt x="20655" y="20997"/>
                  </a:lnTo>
                  <a:lnTo>
                    <a:pt x="20891" y="21107"/>
                  </a:lnTo>
                  <a:lnTo>
                    <a:pt x="21127" y="21362"/>
                  </a:lnTo>
                  <a:lnTo>
                    <a:pt x="21364" y="21472"/>
                  </a:lnTo>
                  <a:lnTo>
                    <a:pt x="21600" y="21600"/>
                  </a:lnTo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1"/>
            <p:cNvSpPr/>
            <p:nvPr/>
          </p:nvSpPr>
          <p:spPr>
            <a:xfrm>
              <a:off x="3965760" y="990720"/>
              <a:ext cx="3096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63360" tIns="25560" bIns="25560" anchor="t">
              <a:spAutoFit/>
            </a:bodyPr>
            <a:p>
              <a:pPr marL="1260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 Bold"/>
                  <a:ea typeface="ヒラギノ明朝 ProN W3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15"/>
          <p:cNvGrpSpPr/>
          <p:nvPr/>
        </p:nvGrpSpPr>
        <p:grpSpPr>
          <a:xfrm>
            <a:off x="2259000" y="990720"/>
            <a:ext cx="4040280" cy="2256840"/>
            <a:chOff x="2259000" y="990720"/>
            <a:chExt cx="4040280" cy="2256840"/>
          </a:xfrm>
        </p:grpSpPr>
        <p:sp>
          <p:nvSpPr>
            <p:cNvPr id="204" name="Freeform 13"/>
            <p:cNvSpPr/>
            <p:nvPr/>
          </p:nvSpPr>
          <p:spPr>
            <a:xfrm>
              <a:off x="2259000" y="1503000"/>
              <a:ext cx="4040280" cy="174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235"/>
                  </a:moveTo>
                  <a:lnTo>
                    <a:pt x="204" y="21235"/>
                  </a:lnTo>
                  <a:lnTo>
                    <a:pt x="407" y="21235"/>
                  </a:lnTo>
                  <a:lnTo>
                    <a:pt x="611" y="21235"/>
                  </a:lnTo>
                  <a:lnTo>
                    <a:pt x="747" y="21235"/>
                  </a:lnTo>
                  <a:lnTo>
                    <a:pt x="951" y="21235"/>
                  </a:lnTo>
                  <a:lnTo>
                    <a:pt x="1154" y="21235"/>
                  </a:lnTo>
                  <a:lnTo>
                    <a:pt x="1358" y="21235"/>
                  </a:lnTo>
                  <a:lnTo>
                    <a:pt x="1494" y="21235"/>
                  </a:lnTo>
                  <a:lnTo>
                    <a:pt x="1697" y="21235"/>
                  </a:lnTo>
                  <a:lnTo>
                    <a:pt x="1901" y="21235"/>
                  </a:lnTo>
                  <a:lnTo>
                    <a:pt x="2037" y="21125"/>
                  </a:lnTo>
                  <a:lnTo>
                    <a:pt x="2232" y="21125"/>
                  </a:lnTo>
                  <a:lnTo>
                    <a:pt x="2436" y="21125"/>
                  </a:lnTo>
                  <a:lnTo>
                    <a:pt x="2572" y="20997"/>
                  </a:lnTo>
                  <a:lnTo>
                    <a:pt x="2775" y="20997"/>
                  </a:lnTo>
                  <a:lnTo>
                    <a:pt x="2979" y="20869"/>
                  </a:lnTo>
                  <a:lnTo>
                    <a:pt x="3115" y="20869"/>
                  </a:lnTo>
                  <a:lnTo>
                    <a:pt x="3319" y="20759"/>
                  </a:lnTo>
                  <a:lnTo>
                    <a:pt x="3454" y="20631"/>
                  </a:lnTo>
                  <a:lnTo>
                    <a:pt x="3658" y="20631"/>
                  </a:lnTo>
                  <a:lnTo>
                    <a:pt x="3794" y="20522"/>
                  </a:lnTo>
                  <a:lnTo>
                    <a:pt x="3997" y="20394"/>
                  </a:lnTo>
                  <a:lnTo>
                    <a:pt x="4133" y="20266"/>
                  </a:lnTo>
                  <a:lnTo>
                    <a:pt x="4337" y="20156"/>
                  </a:lnTo>
                  <a:lnTo>
                    <a:pt x="4473" y="20028"/>
                  </a:lnTo>
                  <a:lnTo>
                    <a:pt x="4676" y="20028"/>
                  </a:lnTo>
                  <a:lnTo>
                    <a:pt x="4812" y="19919"/>
                  </a:lnTo>
                  <a:lnTo>
                    <a:pt x="5016" y="19791"/>
                  </a:lnTo>
                  <a:lnTo>
                    <a:pt x="5152" y="19553"/>
                  </a:lnTo>
                  <a:lnTo>
                    <a:pt x="5288" y="19425"/>
                  </a:lnTo>
                  <a:lnTo>
                    <a:pt x="5483" y="19316"/>
                  </a:lnTo>
                  <a:lnTo>
                    <a:pt x="5619" y="19188"/>
                  </a:lnTo>
                  <a:lnTo>
                    <a:pt x="5822" y="19060"/>
                  </a:lnTo>
                  <a:lnTo>
                    <a:pt x="5958" y="18950"/>
                  </a:lnTo>
                  <a:lnTo>
                    <a:pt x="6094" y="18713"/>
                  </a:lnTo>
                  <a:lnTo>
                    <a:pt x="6298" y="18585"/>
                  </a:lnTo>
                  <a:lnTo>
                    <a:pt x="6433" y="18457"/>
                  </a:lnTo>
                  <a:lnTo>
                    <a:pt x="6569" y="18219"/>
                  </a:lnTo>
                  <a:lnTo>
                    <a:pt x="6773" y="18110"/>
                  </a:lnTo>
                  <a:lnTo>
                    <a:pt x="6909" y="17854"/>
                  </a:lnTo>
                  <a:lnTo>
                    <a:pt x="7044" y="17744"/>
                  </a:lnTo>
                  <a:lnTo>
                    <a:pt x="7180" y="17507"/>
                  </a:lnTo>
                  <a:lnTo>
                    <a:pt x="7384" y="17379"/>
                  </a:lnTo>
                  <a:lnTo>
                    <a:pt x="7520" y="17141"/>
                  </a:lnTo>
                  <a:lnTo>
                    <a:pt x="7655" y="16904"/>
                  </a:lnTo>
                  <a:lnTo>
                    <a:pt x="7791" y="16776"/>
                  </a:lnTo>
                  <a:lnTo>
                    <a:pt x="7995" y="16538"/>
                  </a:lnTo>
                  <a:lnTo>
                    <a:pt x="8131" y="16282"/>
                  </a:lnTo>
                  <a:lnTo>
                    <a:pt x="8267" y="16045"/>
                  </a:lnTo>
                  <a:lnTo>
                    <a:pt x="8462" y="15807"/>
                  </a:lnTo>
                  <a:lnTo>
                    <a:pt x="8598" y="15442"/>
                  </a:lnTo>
                  <a:lnTo>
                    <a:pt x="8733" y="15076"/>
                  </a:lnTo>
                  <a:lnTo>
                    <a:pt x="8869" y="14729"/>
                  </a:lnTo>
                  <a:lnTo>
                    <a:pt x="9073" y="14363"/>
                  </a:lnTo>
                  <a:lnTo>
                    <a:pt x="9209" y="13870"/>
                  </a:lnTo>
                  <a:lnTo>
                    <a:pt x="9344" y="13523"/>
                  </a:lnTo>
                  <a:lnTo>
                    <a:pt x="9480" y="13029"/>
                  </a:lnTo>
                  <a:lnTo>
                    <a:pt x="9548" y="12792"/>
                  </a:lnTo>
                  <a:lnTo>
                    <a:pt x="9616" y="12554"/>
                  </a:lnTo>
                  <a:lnTo>
                    <a:pt x="9684" y="12317"/>
                  </a:lnTo>
                  <a:lnTo>
                    <a:pt x="9752" y="12061"/>
                  </a:lnTo>
                  <a:lnTo>
                    <a:pt x="9820" y="11823"/>
                  </a:lnTo>
                  <a:lnTo>
                    <a:pt x="9888" y="11586"/>
                  </a:lnTo>
                  <a:lnTo>
                    <a:pt x="9956" y="11348"/>
                  </a:lnTo>
                  <a:lnTo>
                    <a:pt x="10023" y="11111"/>
                  </a:lnTo>
                  <a:lnTo>
                    <a:pt x="10091" y="10745"/>
                  </a:lnTo>
                  <a:lnTo>
                    <a:pt x="10091" y="10508"/>
                  </a:lnTo>
                  <a:lnTo>
                    <a:pt x="10159" y="10252"/>
                  </a:lnTo>
                  <a:lnTo>
                    <a:pt x="10227" y="10014"/>
                  </a:lnTo>
                  <a:lnTo>
                    <a:pt x="10295" y="9777"/>
                  </a:lnTo>
                  <a:lnTo>
                    <a:pt x="10363" y="9411"/>
                  </a:lnTo>
                  <a:lnTo>
                    <a:pt x="10431" y="9174"/>
                  </a:lnTo>
                  <a:lnTo>
                    <a:pt x="10499" y="8936"/>
                  </a:lnTo>
                  <a:lnTo>
                    <a:pt x="10567" y="8698"/>
                  </a:lnTo>
                  <a:lnTo>
                    <a:pt x="10567" y="8443"/>
                  </a:lnTo>
                  <a:lnTo>
                    <a:pt x="10634" y="8095"/>
                  </a:lnTo>
                  <a:lnTo>
                    <a:pt x="10702" y="7840"/>
                  </a:lnTo>
                  <a:lnTo>
                    <a:pt x="10770" y="7602"/>
                  </a:lnTo>
                  <a:lnTo>
                    <a:pt x="10838" y="7364"/>
                  </a:lnTo>
                  <a:lnTo>
                    <a:pt x="10906" y="6999"/>
                  </a:lnTo>
                  <a:lnTo>
                    <a:pt x="10906" y="6761"/>
                  </a:lnTo>
                  <a:lnTo>
                    <a:pt x="10974" y="6524"/>
                  </a:lnTo>
                  <a:lnTo>
                    <a:pt x="11042" y="6286"/>
                  </a:lnTo>
                  <a:lnTo>
                    <a:pt x="11110" y="6030"/>
                  </a:lnTo>
                  <a:lnTo>
                    <a:pt x="11110" y="5793"/>
                  </a:lnTo>
                  <a:lnTo>
                    <a:pt x="11178" y="5427"/>
                  </a:lnTo>
                  <a:lnTo>
                    <a:pt x="11246" y="5190"/>
                  </a:lnTo>
                  <a:lnTo>
                    <a:pt x="11313" y="4952"/>
                  </a:lnTo>
                  <a:lnTo>
                    <a:pt x="11313" y="4715"/>
                  </a:lnTo>
                  <a:lnTo>
                    <a:pt x="11381" y="4459"/>
                  </a:lnTo>
                  <a:lnTo>
                    <a:pt x="11449" y="4221"/>
                  </a:lnTo>
                  <a:lnTo>
                    <a:pt x="11509" y="3984"/>
                  </a:lnTo>
                  <a:lnTo>
                    <a:pt x="11509" y="3746"/>
                  </a:lnTo>
                  <a:lnTo>
                    <a:pt x="11644" y="3381"/>
                  </a:lnTo>
                  <a:lnTo>
                    <a:pt x="11712" y="2906"/>
                  </a:lnTo>
                  <a:lnTo>
                    <a:pt x="11848" y="2540"/>
                  </a:lnTo>
                  <a:lnTo>
                    <a:pt x="11916" y="2047"/>
                  </a:lnTo>
                  <a:lnTo>
                    <a:pt x="11984" y="1809"/>
                  </a:lnTo>
                  <a:lnTo>
                    <a:pt x="12120" y="1444"/>
                  </a:lnTo>
                  <a:lnTo>
                    <a:pt x="12188" y="1096"/>
                  </a:lnTo>
                  <a:lnTo>
                    <a:pt x="12256" y="841"/>
                  </a:lnTo>
                  <a:lnTo>
                    <a:pt x="12391" y="603"/>
                  </a:lnTo>
                  <a:lnTo>
                    <a:pt x="12527" y="238"/>
                  </a:lnTo>
                  <a:lnTo>
                    <a:pt x="12731" y="0"/>
                  </a:lnTo>
                  <a:lnTo>
                    <a:pt x="12867" y="128"/>
                  </a:lnTo>
                  <a:lnTo>
                    <a:pt x="12935" y="128"/>
                  </a:lnTo>
                  <a:lnTo>
                    <a:pt x="13002" y="238"/>
                  </a:lnTo>
                  <a:lnTo>
                    <a:pt x="13070" y="365"/>
                  </a:lnTo>
                  <a:lnTo>
                    <a:pt x="13206" y="603"/>
                  </a:lnTo>
                  <a:lnTo>
                    <a:pt x="13274" y="841"/>
                  </a:lnTo>
                  <a:lnTo>
                    <a:pt x="13342" y="1206"/>
                  </a:lnTo>
                  <a:lnTo>
                    <a:pt x="13410" y="1572"/>
                  </a:lnTo>
                  <a:lnTo>
                    <a:pt x="13546" y="2047"/>
                  </a:lnTo>
                  <a:lnTo>
                    <a:pt x="13614" y="2540"/>
                  </a:lnTo>
                  <a:lnTo>
                    <a:pt x="13681" y="2906"/>
                  </a:lnTo>
                  <a:lnTo>
                    <a:pt x="13749" y="3381"/>
                  </a:lnTo>
                  <a:lnTo>
                    <a:pt x="13817" y="3856"/>
                  </a:lnTo>
                  <a:lnTo>
                    <a:pt x="13885" y="4349"/>
                  </a:lnTo>
                  <a:lnTo>
                    <a:pt x="14021" y="4715"/>
                  </a:lnTo>
                  <a:lnTo>
                    <a:pt x="14089" y="5190"/>
                  </a:lnTo>
                  <a:lnTo>
                    <a:pt x="14157" y="5683"/>
                  </a:lnTo>
                  <a:lnTo>
                    <a:pt x="14225" y="6158"/>
                  </a:lnTo>
                  <a:lnTo>
                    <a:pt x="14292" y="6634"/>
                  </a:lnTo>
                  <a:lnTo>
                    <a:pt x="14360" y="7127"/>
                  </a:lnTo>
                  <a:lnTo>
                    <a:pt x="14428" y="7602"/>
                  </a:lnTo>
                  <a:lnTo>
                    <a:pt x="14496" y="8095"/>
                  </a:lnTo>
                  <a:lnTo>
                    <a:pt x="14556" y="8571"/>
                  </a:lnTo>
                  <a:lnTo>
                    <a:pt x="14623" y="9046"/>
                  </a:lnTo>
                  <a:lnTo>
                    <a:pt x="14691" y="9539"/>
                  </a:lnTo>
                  <a:lnTo>
                    <a:pt x="14759" y="10014"/>
                  </a:lnTo>
                  <a:lnTo>
                    <a:pt x="14827" y="10508"/>
                  </a:lnTo>
                  <a:lnTo>
                    <a:pt x="14895" y="10983"/>
                  </a:lnTo>
                  <a:lnTo>
                    <a:pt x="14963" y="11458"/>
                  </a:lnTo>
                  <a:lnTo>
                    <a:pt x="15031" y="11951"/>
                  </a:lnTo>
                  <a:lnTo>
                    <a:pt x="15099" y="12317"/>
                  </a:lnTo>
                  <a:lnTo>
                    <a:pt x="15235" y="12792"/>
                  </a:lnTo>
                  <a:lnTo>
                    <a:pt x="15302" y="13267"/>
                  </a:lnTo>
                  <a:lnTo>
                    <a:pt x="15370" y="13760"/>
                  </a:lnTo>
                  <a:lnTo>
                    <a:pt x="15506" y="14126"/>
                  </a:lnTo>
                  <a:lnTo>
                    <a:pt x="15574" y="14601"/>
                  </a:lnTo>
                  <a:lnTo>
                    <a:pt x="15710" y="14966"/>
                  </a:lnTo>
                  <a:lnTo>
                    <a:pt x="15778" y="15442"/>
                  </a:lnTo>
                  <a:lnTo>
                    <a:pt x="15914" y="15807"/>
                  </a:lnTo>
                  <a:lnTo>
                    <a:pt x="16049" y="16282"/>
                  </a:lnTo>
                  <a:lnTo>
                    <a:pt x="16117" y="16648"/>
                  </a:lnTo>
                  <a:lnTo>
                    <a:pt x="16253" y="17013"/>
                  </a:lnTo>
                  <a:lnTo>
                    <a:pt x="16389" y="17379"/>
                  </a:lnTo>
                  <a:lnTo>
                    <a:pt x="16525" y="17744"/>
                  </a:lnTo>
                  <a:lnTo>
                    <a:pt x="16660" y="18110"/>
                  </a:lnTo>
                  <a:lnTo>
                    <a:pt x="16864" y="18457"/>
                  </a:lnTo>
                  <a:lnTo>
                    <a:pt x="17000" y="18822"/>
                  </a:lnTo>
                  <a:lnTo>
                    <a:pt x="17136" y="19060"/>
                  </a:lnTo>
                  <a:lnTo>
                    <a:pt x="17339" y="19425"/>
                  </a:lnTo>
                  <a:lnTo>
                    <a:pt x="17543" y="19663"/>
                  </a:lnTo>
                  <a:lnTo>
                    <a:pt x="17738" y="19919"/>
                  </a:lnTo>
                  <a:lnTo>
                    <a:pt x="17874" y="20156"/>
                  </a:lnTo>
                  <a:lnTo>
                    <a:pt x="18078" y="20522"/>
                  </a:lnTo>
                  <a:lnTo>
                    <a:pt x="18349" y="20631"/>
                  </a:lnTo>
                  <a:lnTo>
                    <a:pt x="18553" y="20869"/>
                  </a:lnTo>
                  <a:lnTo>
                    <a:pt x="18825" y="21125"/>
                  </a:lnTo>
                  <a:lnTo>
                    <a:pt x="19028" y="21235"/>
                  </a:lnTo>
                  <a:lnTo>
                    <a:pt x="19300" y="21235"/>
                  </a:lnTo>
                  <a:lnTo>
                    <a:pt x="19572" y="21235"/>
                  </a:lnTo>
                  <a:lnTo>
                    <a:pt x="19843" y="21235"/>
                  </a:lnTo>
                  <a:lnTo>
                    <a:pt x="20115" y="21235"/>
                  </a:lnTo>
                  <a:lnTo>
                    <a:pt x="20318" y="21235"/>
                  </a:lnTo>
                  <a:lnTo>
                    <a:pt x="20590" y="21235"/>
                  </a:lnTo>
                  <a:lnTo>
                    <a:pt x="20853" y="21235"/>
                  </a:lnTo>
                  <a:lnTo>
                    <a:pt x="21125" y="21235"/>
                  </a:lnTo>
                  <a:lnTo>
                    <a:pt x="21396" y="21362"/>
                  </a:lnTo>
                  <a:lnTo>
                    <a:pt x="21600" y="21600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4"/>
            <p:cNvSpPr/>
            <p:nvPr/>
          </p:nvSpPr>
          <p:spPr>
            <a:xfrm>
              <a:off x="4568040" y="990720"/>
              <a:ext cx="222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63360" tIns="25560" bIns="25560" anchor="t">
              <a:spAutoFit/>
            </a:bodyPr>
            <a:p>
              <a:pPr marL="1260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 Bold"/>
                  <a:ea typeface="ヒラギノ明朝 ProN W3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6"/>
          <p:cNvSpPr/>
          <p:nvPr/>
        </p:nvSpPr>
        <p:spPr>
          <a:xfrm>
            <a:off x="6603480" y="3103560"/>
            <a:ext cx="1383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63360" tIns="25560" bIns="25560" anchor="t">
            <a:spAutoFit/>
          </a:bodyPr>
          <a:p>
            <a:pPr marL="1260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871640" y="1433520"/>
            <a:ext cx="1258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63360" tIns="25560" bIns="25560" anchor="t">
            <a:spAutoFit/>
          </a:bodyPr>
          <a:p>
            <a:pPr marL="1260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Power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8"/>
          <p:cNvSpPr/>
          <p:nvPr/>
        </p:nvSpPr>
        <p:spPr>
          <a:xfrm>
            <a:off x="685800" y="5410080"/>
            <a:ext cx="82422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7826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A:  We can’t!  Most of the information is lo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As a result, two different spectra may appear indistinguish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uch spectra are known as </a:t>
            </a: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meta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ヒラギノ明朝 ProN W3"/>
              </a:rPr>
              <a:t>http://www.cs.brown.edu/exploratories/freeSoftware/repository/edu/brown/cs/exploratories/applets/spectrum/metamers_guide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ception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pping from radiance to perceived color is quite complex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throw away most of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pply a loga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ness affected by pupil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ness contrast and constanc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mera response 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how about the mapping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Arial Italic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radiance to pixe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also complex, but better underst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pping     known as the film or camera </a:t>
            </a:r>
            <a:r>
              <a:rPr b="0" lang="en-US" sz="1800" spc="-1" strike="noStrike">
                <a:solidFill>
                  <a:srgbClr val="000000"/>
                </a:solidFill>
                <a:latin typeface="Arial Italic"/>
                <a:ea typeface="Arial Italic"/>
              </a:rPr>
              <a:t>respons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52280" y="2117880"/>
            <a:ext cx="8763120" cy="13111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685800" y="3581280"/>
            <a:ext cx="7785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How can we recover radiance values given pixel valu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85800" y="4038480"/>
            <a:ext cx="7785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hy should we c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685800" y="4419720"/>
            <a:ext cx="7785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Useful if we want to estimate material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hape from shading requires rad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Enables creating high dynamic range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8" descr=""/>
          <p:cNvPicPr/>
          <p:nvPr/>
        </p:nvPicPr>
        <p:blipFill>
          <a:blip r:embed="rId2"/>
          <a:stretch/>
        </p:blipFill>
        <p:spPr>
          <a:xfrm>
            <a:off x="4038480" y="990720"/>
            <a:ext cx="154080" cy="269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"/>
          <p:cNvPicPr/>
          <p:nvPr/>
        </p:nvPicPr>
        <p:blipFill>
          <a:blip r:embed="rId3"/>
          <a:stretch/>
        </p:blipFill>
        <p:spPr>
          <a:xfrm>
            <a:off x="2970360" y="1676520"/>
            <a:ext cx="153720" cy="2696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0"/>
          <p:cNvSpPr/>
          <p:nvPr/>
        </p:nvSpPr>
        <p:spPr>
          <a:xfrm>
            <a:off x="685800" y="5486400"/>
            <a:ext cx="778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hat does the response function depend 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11" descr=""/>
          <p:cNvPicPr/>
          <p:nvPr/>
        </p:nvPicPr>
        <p:blipFill>
          <a:blip r:embed="rId4"/>
          <a:stretch/>
        </p:blipFill>
        <p:spPr>
          <a:xfrm>
            <a:off x="1303200" y="5943600"/>
            <a:ext cx="6088320" cy="2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2"/>
          <p:cNvSpPr/>
          <p:nvPr/>
        </p:nvSpPr>
        <p:spPr>
          <a:xfrm>
            <a:off x="2286000" y="4495680"/>
            <a:ext cx="259092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276" y="20880"/>
                  <a:pt x="4553" y="20160"/>
                  <a:pt x="6353" y="18720"/>
                </a:cubicBezTo>
                <a:cubicBezTo>
                  <a:pt x="8153" y="17280"/>
                  <a:pt x="9741" y="15600"/>
                  <a:pt x="10800" y="12960"/>
                </a:cubicBezTo>
                <a:cubicBezTo>
                  <a:pt x="11859" y="10320"/>
                  <a:pt x="10906" y="5040"/>
                  <a:pt x="12706" y="2880"/>
                </a:cubicBezTo>
                <a:cubicBezTo>
                  <a:pt x="14506" y="720"/>
                  <a:pt x="18053" y="360"/>
                  <a:pt x="216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covering the camera respon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fully model every step in the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aperture, model film, digitize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*really* hard to get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e (estimate) the respons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several objects with known rad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the pixe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 a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inverse:           maps pixel intensity to rad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1828800" y="5791320"/>
            <a:ext cx="3429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"/>
          <p:cNvSpPr/>
          <p:nvPr/>
        </p:nvSpPr>
        <p:spPr>
          <a:xfrm flipV="1">
            <a:off x="2286000" y="441972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2514600" y="5562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2895480" y="5486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3276720" y="5334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657600" y="5029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1"/>
          <p:cNvSpPr/>
          <p:nvPr/>
        </p:nvSpPr>
        <p:spPr>
          <a:xfrm>
            <a:off x="380988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2"/>
          <p:cNvSpPr/>
          <p:nvPr/>
        </p:nvSpPr>
        <p:spPr>
          <a:xfrm>
            <a:off x="4038480" y="4495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3"/>
          <p:cNvSpPr/>
          <p:nvPr/>
        </p:nvSpPr>
        <p:spPr>
          <a:xfrm>
            <a:off x="4419720" y="4495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4"/>
          <p:cNvSpPr/>
          <p:nvPr/>
        </p:nvSpPr>
        <p:spPr>
          <a:xfrm>
            <a:off x="4800600" y="4495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5429880" y="5649840"/>
            <a:ext cx="76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adi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912600" y="4343400"/>
            <a:ext cx="1155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pixel inten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=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7" descr=""/>
          <p:cNvPicPr/>
          <p:nvPr/>
        </p:nvPicPr>
        <p:blipFill>
          <a:blip r:embed="rId1"/>
          <a:stretch/>
        </p:blipFill>
        <p:spPr>
          <a:xfrm>
            <a:off x="1219320" y="4632480"/>
            <a:ext cx="541080" cy="239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8" descr=""/>
          <p:cNvPicPr/>
          <p:nvPr/>
        </p:nvPicPr>
        <p:blipFill>
          <a:blip r:embed="rId2"/>
          <a:stretch/>
        </p:blipFill>
        <p:spPr>
          <a:xfrm>
            <a:off x="6248520" y="5719680"/>
            <a:ext cx="183960" cy="1699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9"/>
          <p:cNvSpPr/>
          <p:nvPr/>
        </p:nvSpPr>
        <p:spPr>
          <a:xfrm>
            <a:off x="4986360" y="4343400"/>
            <a:ext cx="1303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esponse cu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0" descr=""/>
          <p:cNvPicPr/>
          <p:nvPr/>
        </p:nvPicPr>
        <p:blipFill>
          <a:blip r:embed="rId3"/>
          <a:stretch/>
        </p:blipFill>
        <p:spPr>
          <a:xfrm>
            <a:off x="3821040" y="6323040"/>
            <a:ext cx="370080" cy="25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covering the camera respon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e the response function from several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aking images with shutter speeds 1/1000, 1/100, 1/10, an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:  What is the relationship between the radiance or pixel values in consecutive ima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 10 times as much rad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this to recover the camera response func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5800" y="5638680"/>
            <a:ext cx="78613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For more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P. E. Debevec and J. Malik.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Italic"/>
                <a:ea typeface="ヒラギノ明朝 ProN W3"/>
              </a:rPr>
              <a:t>Recovering High Dynamic Range Radiance Maps from Photograph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. In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Italic"/>
                <a:ea typeface="ヒラギノ明朝 ProN W3"/>
              </a:rPr>
              <a:t>SIGGRAPH 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, August 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21"/>
          <p:cNvGrpSpPr/>
          <p:nvPr/>
        </p:nvGrpSpPr>
        <p:grpSpPr>
          <a:xfrm>
            <a:off x="911880" y="3809880"/>
            <a:ext cx="5925600" cy="2077920"/>
            <a:chOff x="911880" y="3809880"/>
            <a:chExt cx="5925600" cy="2077920"/>
          </a:xfrm>
        </p:grpSpPr>
        <p:sp>
          <p:nvSpPr>
            <p:cNvPr id="248" name="Freeform 5"/>
            <p:cNvSpPr/>
            <p:nvPr/>
          </p:nvSpPr>
          <p:spPr>
            <a:xfrm>
              <a:off x="2284560" y="4038480"/>
              <a:ext cx="2590920" cy="11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2276" y="20880"/>
                    <a:pt x="4553" y="20160"/>
                    <a:pt x="6353" y="18720"/>
                  </a:cubicBezTo>
                  <a:cubicBezTo>
                    <a:pt x="8153" y="17280"/>
                    <a:pt x="9741" y="15600"/>
                    <a:pt x="10800" y="12960"/>
                  </a:cubicBezTo>
                  <a:cubicBezTo>
                    <a:pt x="11859" y="10320"/>
                    <a:pt x="10906" y="5040"/>
                    <a:pt x="12706" y="2880"/>
                  </a:cubicBezTo>
                  <a:cubicBezTo>
                    <a:pt x="14506" y="720"/>
                    <a:pt x="18053" y="360"/>
                    <a:pt x="2160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>
              <a:off x="1827360" y="5333760"/>
              <a:ext cx="342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7"/>
            <p:cNvSpPr/>
            <p:nvPr/>
          </p:nvSpPr>
          <p:spPr>
            <a:xfrm flipV="1">
              <a:off x="2284560" y="3809880"/>
              <a:ext cx="144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Oval 8"/>
            <p:cNvSpPr/>
            <p:nvPr/>
          </p:nvSpPr>
          <p:spPr>
            <a:xfrm>
              <a:off x="2513520" y="510516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2894400" y="502920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Oval 10"/>
            <p:cNvSpPr/>
            <p:nvPr/>
          </p:nvSpPr>
          <p:spPr>
            <a:xfrm>
              <a:off x="3275280" y="487656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Oval 11"/>
            <p:cNvSpPr/>
            <p:nvPr/>
          </p:nvSpPr>
          <p:spPr>
            <a:xfrm>
              <a:off x="3656520" y="457200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12"/>
            <p:cNvSpPr/>
            <p:nvPr/>
          </p:nvSpPr>
          <p:spPr>
            <a:xfrm>
              <a:off x="3808800" y="419076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13"/>
            <p:cNvSpPr/>
            <p:nvPr/>
          </p:nvSpPr>
          <p:spPr>
            <a:xfrm>
              <a:off x="4037760" y="40384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14"/>
            <p:cNvSpPr/>
            <p:nvPr/>
          </p:nvSpPr>
          <p:spPr>
            <a:xfrm>
              <a:off x="4418640" y="40384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Oval 15"/>
            <p:cNvSpPr/>
            <p:nvPr/>
          </p:nvSpPr>
          <p:spPr>
            <a:xfrm>
              <a:off x="4799880" y="40384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5103000" y="3860640"/>
              <a:ext cx="1303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response cur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7"/>
            <p:cNvSpPr/>
            <p:nvPr/>
          </p:nvSpPr>
          <p:spPr>
            <a:xfrm>
              <a:off x="5372640" y="5213160"/>
              <a:ext cx="1464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exposur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 radiance * 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Picture 18" descr=""/>
            <p:cNvPicPr/>
            <p:nvPr/>
          </p:nvPicPr>
          <p:blipFill>
            <a:blip r:embed="rId1"/>
            <a:stretch/>
          </p:blipFill>
          <p:spPr>
            <a:xfrm>
              <a:off x="5644800" y="5716440"/>
              <a:ext cx="52704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19"/>
            <p:cNvSpPr/>
            <p:nvPr/>
          </p:nvSpPr>
          <p:spPr>
            <a:xfrm>
              <a:off x="911880" y="3809880"/>
              <a:ext cx="1155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pixel inten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=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3" name="Picture 20" descr=""/>
            <p:cNvPicPr/>
            <p:nvPr/>
          </p:nvPicPr>
          <p:blipFill>
            <a:blip r:embed="rId2"/>
            <a:stretch/>
          </p:blipFill>
          <p:spPr>
            <a:xfrm>
              <a:off x="1173240" y="4103640"/>
              <a:ext cx="882720" cy="239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gh dynamic range imag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vec: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http://www.debevec.org/Research/HD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bia: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http://www.cs.columbia.edu/CAVE/software/rascal/rrgallery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01520" y="914400"/>
            <a:ext cx="894240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ght transpor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2139840" y="16066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ght sour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al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int source that is infinitely far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ion of point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ene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ght field can describe *any* distribution of ligh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ligh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1696680" y="1564200"/>
            <a:ext cx="4398840" cy="1308600"/>
            <a:chOff x="1696680" y="1564200"/>
            <a:chExt cx="4398840" cy="1308600"/>
          </a:xfrm>
        </p:grpSpPr>
        <p:grpSp>
          <p:nvGrpSpPr>
            <p:cNvPr id="51" name="Group 10"/>
            <p:cNvGrpSpPr/>
            <p:nvPr/>
          </p:nvGrpSpPr>
          <p:grpSpPr>
            <a:xfrm>
              <a:off x="1696680" y="1564200"/>
              <a:ext cx="1233000" cy="1308600"/>
              <a:chOff x="1696680" y="1564200"/>
              <a:chExt cx="1233000" cy="1308600"/>
            </a:xfrm>
          </p:grpSpPr>
          <p:sp>
            <p:nvSpPr>
              <p:cNvPr id="52" name="Freeform 3"/>
              <p:cNvSpPr/>
              <p:nvPr/>
            </p:nvSpPr>
            <p:spPr>
              <a:xfrm rot="4140000">
                <a:off x="1807920" y="1828440"/>
                <a:ext cx="888480" cy="84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719" y="21600"/>
                    </a:moveTo>
                    <a:lnTo>
                      <a:pt x="0" y="1558"/>
                    </a:lnTo>
                    <a:lnTo>
                      <a:pt x="967" y="921"/>
                    </a:lnTo>
                    <a:lnTo>
                      <a:pt x="1612" y="991"/>
                    </a:lnTo>
                    <a:lnTo>
                      <a:pt x="2257" y="921"/>
                    </a:lnTo>
                    <a:lnTo>
                      <a:pt x="2364" y="708"/>
                    </a:lnTo>
                    <a:lnTo>
                      <a:pt x="2901" y="779"/>
                    </a:lnTo>
                    <a:lnTo>
                      <a:pt x="3331" y="496"/>
                    </a:lnTo>
                    <a:lnTo>
                      <a:pt x="3976" y="637"/>
                    </a:lnTo>
                    <a:lnTo>
                      <a:pt x="4406" y="425"/>
                    </a:lnTo>
                    <a:lnTo>
                      <a:pt x="4943" y="354"/>
                    </a:lnTo>
                    <a:lnTo>
                      <a:pt x="5588" y="212"/>
                    </a:lnTo>
                    <a:lnTo>
                      <a:pt x="6125" y="283"/>
                    </a:lnTo>
                    <a:lnTo>
                      <a:pt x="6663" y="212"/>
                    </a:lnTo>
                    <a:lnTo>
                      <a:pt x="7093" y="0"/>
                    </a:lnTo>
                    <a:lnTo>
                      <a:pt x="7952" y="0"/>
                    </a:lnTo>
                    <a:lnTo>
                      <a:pt x="8597" y="71"/>
                    </a:lnTo>
                    <a:lnTo>
                      <a:pt x="8919" y="71"/>
                    </a:lnTo>
                    <a:lnTo>
                      <a:pt x="9242" y="212"/>
                    </a:lnTo>
                    <a:lnTo>
                      <a:pt x="9887" y="283"/>
                    </a:lnTo>
                    <a:lnTo>
                      <a:pt x="10531" y="496"/>
                    </a:lnTo>
                    <a:lnTo>
                      <a:pt x="11069" y="496"/>
                    </a:lnTo>
                    <a:lnTo>
                      <a:pt x="11928" y="708"/>
                    </a:lnTo>
                    <a:lnTo>
                      <a:pt x="12358" y="850"/>
                    </a:lnTo>
                    <a:lnTo>
                      <a:pt x="13003" y="779"/>
                    </a:lnTo>
                    <a:lnTo>
                      <a:pt x="13433" y="1133"/>
                    </a:lnTo>
                    <a:lnTo>
                      <a:pt x="14078" y="1204"/>
                    </a:lnTo>
                    <a:lnTo>
                      <a:pt x="14507" y="1346"/>
                    </a:lnTo>
                    <a:lnTo>
                      <a:pt x="15045" y="1487"/>
                    </a:lnTo>
                    <a:lnTo>
                      <a:pt x="15260" y="1700"/>
                    </a:lnTo>
                    <a:lnTo>
                      <a:pt x="15690" y="1912"/>
                    </a:lnTo>
                    <a:lnTo>
                      <a:pt x="16227" y="2195"/>
                    </a:lnTo>
                    <a:lnTo>
                      <a:pt x="16442" y="2479"/>
                    </a:lnTo>
                    <a:lnTo>
                      <a:pt x="16764" y="2550"/>
                    </a:lnTo>
                    <a:lnTo>
                      <a:pt x="17194" y="2904"/>
                    </a:lnTo>
                    <a:lnTo>
                      <a:pt x="17516" y="3116"/>
                    </a:lnTo>
                    <a:lnTo>
                      <a:pt x="18054" y="3258"/>
                    </a:lnTo>
                    <a:lnTo>
                      <a:pt x="18484" y="3541"/>
                    </a:lnTo>
                    <a:lnTo>
                      <a:pt x="18913" y="3753"/>
                    </a:lnTo>
                    <a:lnTo>
                      <a:pt x="19128" y="3895"/>
                    </a:lnTo>
                    <a:lnTo>
                      <a:pt x="19558" y="4178"/>
                    </a:lnTo>
                    <a:lnTo>
                      <a:pt x="19881" y="4391"/>
                    </a:lnTo>
                    <a:lnTo>
                      <a:pt x="19988" y="4745"/>
                    </a:lnTo>
                    <a:lnTo>
                      <a:pt x="20310" y="5170"/>
                    </a:lnTo>
                    <a:lnTo>
                      <a:pt x="20633" y="5382"/>
                    </a:lnTo>
                    <a:lnTo>
                      <a:pt x="21063" y="5666"/>
                    </a:lnTo>
                    <a:lnTo>
                      <a:pt x="21278" y="5949"/>
                    </a:lnTo>
                    <a:lnTo>
                      <a:pt x="21493" y="6374"/>
                    </a:lnTo>
                    <a:lnTo>
                      <a:pt x="21600" y="7011"/>
                    </a:lnTo>
                    <a:lnTo>
                      <a:pt x="1719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Group 6"/>
              <p:cNvGrpSpPr/>
              <p:nvPr/>
            </p:nvGrpSpPr>
            <p:grpSpPr>
              <a:xfrm>
                <a:off x="2143440" y="1788120"/>
                <a:ext cx="752760" cy="758520"/>
                <a:chOff x="2143440" y="1788120"/>
                <a:chExt cx="752760" cy="758520"/>
              </a:xfrm>
            </p:grpSpPr>
            <p:sp>
              <p:nvSpPr>
                <p:cNvPr id="54" name="Freeform 4"/>
                <p:cNvSpPr/>
                <p:nvPr/>
              </p:nvSpPr>
              <p:spPr>
                <a:xfrm rot="2760000">
                  <a:off x="2192400" y="1960200"/>
                  <a:ext cx="654840" cy="413640"/>
                </a:xfrm>
                <a:custGeom>
                  <a:avLst/>
                  <a:gdLst/>
                  <a:ahLst/>
                  <a:rect l="l" t="t" r="r" b="b"/>
                  <a:pathLst>
                    <a:path w="21600" h="21599">
                      <a:moveTo>
                        <a:pt x="0" y="0"/>
                      </a:moveTo>
                      <a:cubicBezTo>
                        <a:pt x="48" y="0"/>
                        <a:pt x="95" y="-1"/>
                        <a:pt x="144" y="0"/>
                      </a:cubicBezTo>
                      <a:cubicBezTo>
                        <a:pt x="11993" y="0"/>
                        <a:pt x="21600" y="9670"/>
                        <a:pt x="21600" y="21599"/>
                      </a:cubicBez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AutoShape 5"/>
                <p:cNvSpPr/>
                <p:nvPr/>
              </p:nvSpPr>
              <p:spPr>
                <a:xfrm rot="2760000">
                  <a:off x="2192400" y="1960200"/>
                  <a:ext cx="654840" cy="413640"/>
                </a:xfrm>
                <a:custGeom>
                  <a:avLst/>
                  <a:gdLst/>
                  <a:ahLst/>
                  <a:rect l="l" t="t" r="r" b="b"/>
                  <a:pathLst>
                    <a:path w="21600" h="21599">
                      <a:moveTo>
                        <a:pt x="0" y="0"/>
                      </a:moveTo>
                      <a:cubicBezTo>
                        <a:pt x="48" y="0"/>
                        <a:pt x="95" y="-1"/>
                        <a:pt x="144" y="0"/>
                      </a:cubicBezTo>
                      <a:cubicBezTo>
                        <a:pt x="11993" y="0"/>
                        <a:pt x="21600" y="9670"/>
                        <a:pt x="21600" y="21599"/>
                      </a:cubicBezTo>
                      <a:lnTo>
                        <a:pt x="144" y="21599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Line 7"/>
              <p:cNvSpPr/>
              <p:nvPr/>
            </p:nvSpPr>
            <p:spPr>
              <a:xfrm flipH="1">
                <a:off x="1724040" y="1564200"/>
                <a:ext cx="1020600" cy="49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Oval 8"/>
              <p:cNvSpPr/>
              <p:nvPr/>
            </p:nvSpPr>
            <p:spPr>
              <a:xfrm rot="180000">
                <a:off x="2471760" y="1898280"/>
                <a:ext cx="197280" cy="54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9"/>
              <p:cNvSpPr/>
              <p:nvPr/>
            </p:nvSpPr>
            <p:spPr>
              <a:xfrm>
                <a:off x="1723320" y="2059560"/>
                <a:ext cx="1206360" cy="813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Line 11"/>
            <p:cNvSpPr/>
            <p:nvPr/>
          </p:nvSpPr>
          <p:spPr>
            <a:xfrm flipH="1">
              <a:off x="3431520" y="2434680"/>
              <a:ext cx="266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Rectangle 13"/>
          <p:cNvSpPr/>
          <p:nvPr/>
        </p:nvSpPr>
        <p:spPr>
          <a:xfrm>
            <a:off x="685800" y="914400"/>
            <a:ext cx="816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Electromagnetic radiation (EMR) moving along rays in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) is EMR, measured in units of power (wat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s wave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685800" y="2917800"/>
            <a:ext cx="7785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Light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e can describe all of the light in the scene by specifying the radiation (or 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“radian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along all light rays) arriving at every point in space and from every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5" descr=""/>
          <p:cNvPicPr/>
          <p:nvPr/>
        </p:nvPicPr>
        <p:blipFill>
          <a:blip r:embed="rId1"/>
          <a:stretch/>
        </p:blipFill>
        <p:spPr>
          <a:xfrm>
            <a:off x="3111480" y="5965920"/>
            <a:ext cx="2527200" cy="282600"/>
          </a:xfrm>
          <a:prstGeom prst="rect">
            <a:avLst/>
          </a:prstGeom>
          <a:ln w="0">
            <a:noFill/>
          </a:ln>
        </p:spPr>
      </p:pic>
      <p:sp>
        <p:nvSpPr>
          <p:cNvPr id="63" name="Oval 16"/>
          <p:cNvSpPr/>
          <p:nvPr/>
        </p:nvSpPr>
        <p:spPr>
          <a:xfrm>
            <a:off x="3352680" y="49435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3473280" y="43657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H="1">
            <a:off x="3472920" y="49752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9"/>
          <p:cNvSpPr/>
          <p:nvPr/>
        </p:nvSpPr>
        <p:spPr>
          <a:xfrm flipH="1" flipV="1">
            <a:off x="4235400" y="459396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0"/>
          <p:cNvSpPr/>
          <p:nvPr/>
        </p:nvSpPr>
        <p:spPr>
          <a:xfrm flipV="1">
            <a:off x="4844880" y="44416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1"/>
          <p:cNvSpPr/>
          <p:nvPr/>
        </p:nvSpPr>
        <p:spPr>
          <a:xfrm flipV="1">
            <a:off x="4768200" y="428904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2"/>
          <p:cNvSpPr/>
          <p:nvPr/>
        </p:nvSpPr>
        <p:spPr>
          <a:xfrm flipH="1" flipV="1">
            <a:off x="4387320" y="4365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3"/>
          <p:cNvSpPr/>
          <p:nvPr/>
        </p:nvSpPr>
        <p:spPr>
          <a:xfrm flipH="1">
            <a:off x="4082760" y="5051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4"/>
          <p:cNvSpPr/>
          <p:nvPr/>
        </p:nvSpPr>
        <p:spPr>
          <a:xfrm flipH="1">
            <a:off x="4615920" y="53560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5"/>
          <p:cNvSpPr/>
          <p:nvPr/>
        </p:nvSpPr>
        <p:spPr>
          <a:xfrm>
            <a:off x="4921200" y="5127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6"/>
          <p:cNvSpPr/>
          <p:nvPr/>
        </p:nvSpPr>
        <p:spPr>
          <a:xfrm flipV="1">
            <a:off x="2819520" y="5051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6673680" y="112680"/>
            <a:ext cx="232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ヒラギノ明朝 ProN W3"/>
              </a:rPr>
              <a:t>from Steve Marsch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6673680" y="112680"/>
            <a:ext cx="232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ヒラギノ明朝 ProN W3"/>
              </a:rPr>
              <a:t>from Steve Marsch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interaction of light and mat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a light ray hits a point on an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 light gets absor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ed to other forms of energy (e.g., he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ets transmitted through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y bent, through “refrac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ets ref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we saw before, it could be reflected in multiple directions at o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consider the case of reflection in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most general case, a single incoming ray could be reflected in all directions.  How can we describe the amount of light reflected in each dire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BRD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idirectional Reflection Distributio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incoming ray                  and outgoing r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proportion of the incoming light is reflected along outgoing r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1898640" y="2057400"/>
            <a:ext cx="5340240" cy="3556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2"/>
          <a:stretch/>
        </p:blipFill>
        <p:spPr>
          <a:xfrm>
            <a:off x="3930480" y="1333440"/>
            <a:ext cx="870120" cy="284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"/>
          <p:cNvPicPr/>
          <p:nvPr/>
        </p:nvPicPr>
        <p:blipFill>
          <a:blip r:embed="rId3"/>
          <a:stretch/>
        </p:blipFill>
        <p:spPr>
          <a:xfrm>
            <a:off x="6781680" y="1325520"/>
            <a:ext cx="924120" cy="2840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7"/>
          <p:cNvSpPr/>
          <p:nvPr/>
        </p:nvSpPr>
        <p:spPr>
          <a:xfrm>
            <a:off x="859320" y="5942160"/>
            <a:ext cx="399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Answer given by the BRDF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4"/>
          <a:stretch/>
        </p:blipFill>
        <p:spPr>
          <a:xfrm>
            <a:off x="4888080" y="5867280"/>
            <a:ext cx="3535200" cy="53352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9"/>
          <p:cNvSpPr/>
          <p:nvPr/>
        </p:nvSpPr>
        <p:spPr>
          <a:xfrm>
            <a:off x="5200200" y="2130480"/>
            <a:ext cx="158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urface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0"/>
          <p:cNvSpPr/>
          <p:nvPr/>
        </p:nvSpPr>
        <p:spPr>
          <a:xfrm flipH="1">
            <a:off x="4571640" y="2362320"/>
            <a:ext cx="60948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ffuse ref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e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ll, matte surfaces like chalk or latex p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facets scatter incoming light random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is that light is reflected equally in all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2336760" y="1143000"/>
            <a:ext cx="467352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762120" y="914400"/>
            <a:ext cx="77086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000" tIns="38160" bIns="38160" anchor="t">
            <a:normAutofit fontScale="95000"/>
          </a:bodyPr>
          <a:p>
            <a:pPr marL="328320" indent="-325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Diffuse reflection governed by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Lambert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325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Viewed brightness does not depend on viewing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325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 do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depend on direction of illu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325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is is the model most often used in computer 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ffuse ref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248160" cy="16668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5"/>
          <p:cNvSpPr/>
          <p:nvPr/>
        </p:nvSpPr>
        <p:spPr>
          <a:xfrm>
            <a:off x="4343400" y="2590920"/>
            <a:ext cx="2895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14"/>
          <p:cNvGrpSpPr/>
          <p:nvPr/>
        </p:nvGrpSpPr>
        <p:grpSpPr>
          <a:xfrm>
            <a:off x="199440" y="4495680"/>
            <a:ext cx="7325280" cy="2235240"/>
            <a:chOff x="199440" y="4495680"/>
            <a:chExt cx="7325280" cy="2235240"/>
          </a:xfrm>
        </p:grpSpPr>
        <p:pic>
          <p:nvPicPr>
            <p:cNvPr id="304" name="Picture 6" descr=""/>
            <p:cNvPicPr/>
            <p:nvPr/>
          </p:nvPicPr>
          <p:blipFill>
            <a:blip r:embed="rId2"/>
            <a:stretch/>
          </p:blipFill>
          <p:spPr>
            <a:xfrm>
              <a:off x="1447560" y="4495680"/>
              <a:ext cx="3060720" cy="22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7"/>
            <p:cNvSpPr/>
            <p:nvPr/>
          </p:nvSpPr>
          <p:spPr>
            <a:xfrm>
              <a:off x="199440" y="5575320"/>
              <a:ext cx="2083680" cy="7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L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V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 unit ve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ヒラギノ明朝 ProN W3"/>
                </a:rPr>
                <a:t>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 = outgoing radi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ヒラギノ明朝 ProN W3"/>
                </a:rPr>
                <a:t>i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= incoming radi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6" name="Picture 8" descr=""/>
            <p:cNvPicPr/>
            <p:nvPr/>
          </p:nvPicPr>
          <p:blipFill>
            <a:blip r:embed="rId3"/>
            <a:stretch/>
          </p:blipFill>
          <p:spPr>
            <a:xfrm>
              <a:off x="5029200" y="4647960"/>
              <a:ext cx="24955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9" descr=""/>
            <p:cNvPicPr/>
            <p:nvPr/>
          </p:nvPicPr>
          <p:blipFill>
            <a:blip r:embed="rId4"/>
            <a:stretch/>
          </p:blipFill>
          <p:spPr>
            <a:xfrm>
              <a:off x="2570040" y="5535360"/>
              <a:ext cx="201600" cy="2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Freeform 10"/>
            <p:cNvSpPr/>
            <p:nvPr/>
          </p:nvSpPr>
          <p:spPr>
            <a:xfrm>
              <a:off x="2624040" y="5814720"/>
              <a:ext cx="257040" cy="171720"/>
            </a:xfrm>
            <a:custGeom>
              <a:avLst/>
              <a:gdLst/>
              <a:ahLst/>
              <a:rect l="l" t="t" r="r" b="b"/>
              <a:pathLst>
                <a:path w="21600" h="20296">
                  <a:moveTo>
                    <a:pt x="0" y="20296"/>
                  </a:moveTo>
                  <a:cubicBezTo>
                    <a:pt x="2520" y="12582"/>
                    <a:pt x="5040" y="4867"/>
                    <a:pt x="8640" y="1782"/>
                  </a:cubicBezTo>
                  <a:cubicBezTo>
                    <a:pt x="12240" y="-1304"/>
                    <a:pt x="16920" y="239"/>
                    <a:pt x="21600" y="178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11"/>
            <p:cNvSpPr/>
            <p:nvPr/>
          </p:nvSpPr>
          <p:spPr>
            <a:xfrm>
              <a:off x="2884320" y="6003720"/>
              <a:ext cx="304920" cy="166680"/>
            </a:xfrm>
            <a:custGeom>
              <a:avLst/>
              <a:gdLst/>
              <a:ahLst/>
              <a:rect l="l" t="t" r="r" b="b"/>
              <a:pathLst>
                <a:path w="21600" h="20296">
                  <a:moveTo>
                    <a:pt x="0" y="1782"/>
                  </a:moveTo>
                  <a:cubicBezTo>
                    <a:pt x="3600" y="239"/>
                    <a:pt x="7200" y="-1304"/>
                    <a:pt x="10800" y="1782"/>
                  </a:cubicBezTo>
                  <a:cubicBezTo>
                    <a:pt x="14400" y="4867"/>
                    <a:pt x="18000" y="12582"/>
                    <a:pt x="21600" y="20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0" name="Picture 12" descr=""/>
            <p:cNvPicPr/>
            <p:nvPr/>
          </p:nvPicPr>
          <p:blipFill>
            <a:blip r:embed="rId5"/>
            <a:stretch/>
          </p:blipFill>
          <p:spPr>
            <a:xfrm>
              <a:off x="3062160" y="577368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13"/>
            <p:cNvSpPr/>
            <p:nvPr/>
          </p:nvSpPr>
          <p:spPr>
            <a:xfrm>
              <a:off x="2774160" y="4570200"/>
              <a:ext cx="214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Lambert’s Law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7"/>
          <p:cNvGrpSpPr/>
          <p:nvPr/>
        </p:nvGrpSpPr>
        <p:grpSpPr>
          <a:xfrm>
            <a:off x="4189320" y="5486400"/>
            <a:ext cx="4729320" cy="993600"/>
            <a:chOff x="4189320" y="5486400"/>
            <a:chExt cx="4729320" cy="993600"/>
          </a:xfrm>
        </p:grpSpPr>
        <p:sp>
          <p:nvSpPr>
            <p:cNvPr id="313" name="Rectangle 15"/>
            <p:cNvSpPr/>
            <p:nvPr/>
          </p:nvSpPr>
          <p:spPr>
            <a:xfrm>
              <a:off x="4696920" y="5486400"/>
              <a:ext cx="4221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BRDF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Lambertian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" name="Picture 16" descr=""/>
            <p:cNvPicPr/>
            <p:nvPr/>
          </p:nvPicPr>
          <p:blipFill>
            <a:blip r:embed="rId6"/>
            <a:stretch/>
          </p:blipFill>
          <p:spPr>
            <a:xfrm>
              <a:off x="4189320" y="6093000"/>
              <a:ext cx="3044160" cy="38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5" name="Picture 19" descr=""/>
          <p:cNvPicPr/>
          <p:nvPr/>
        </p:nvPicPr>
        <p:blipFill>
          <a:blip r:embed="rId7"/>
          <a:stretch/>
        </p:blipFill>
        <p:spPr>
          <a:xfrm>
            <a:off x="4986360" y="5105520"/>
            <a:ext cx="3287520" cy="330120"/>
          </a:xfrm>
          <a:prstGeom prst="rect">
            <a:avLst/>
          </a:prstGeom>
          <a:ln w="0">
            <a:noFill/>
          </a:ln>
        </p:spPr>
      </p:pic>
      <p:pic>
        <p:nvPicPr>
          <p:cNvPr id="316" name="Ink 1" descr=""/>
          <p:cNvPicPr/>
          <p:nvPr/>
        </p:nvPicPr>
        <p:blipFill>
          <a:blip r:embed="rId8"/>
          <a:stretch/>
        </p:blipFill>
        <p:spPr>
          <a:xfrm>
            <a:off x="6267600" y="4178160"/>
            <a:ext cx="221760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5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4330800" y="4267080"/>
            <a:ext cx="3060720" cy="24685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"/>
          <p:cNvSpPr/>
          <p:nvPr/>
        </p:nvSpPr>
        <p:spPr>
          <a:xfrm>
            <a:off x="762120" y="914400"/>
            <a:ext cx="7708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000" tIns="38160" bIns="38160" anchor="t">
            <a:normAutofit fontScale="91000"/>
          </a:bodyPr>
          <a:p>
            <a:pPr marL="314640" indent="-311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For a perfect mirror, light is reflected about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ecular ref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20"/>
          <p:cNvGrpSpPr/>
          <p:nvPr/>
        </p:nvGrpSpPr>
        <p:grpSpPr>
          <a:xfrm>
            <a:off x="1522440" y="1522440"/>
            <a:ext cx="3125160" cy="2426400"/>
            <a:chOff x="1522440" y="1522440"/>
            <a:chExt cx="3125160" cy="2426400"/>
          </a:xfrm>
        </p:grpSpPr>
        <p:pic>
          <p:nvPicPr>
            <p:cNvPr id="322" name="Picture 5" descr=""/>
            <p:cNvPicPr/>
            <p:nvPr/>
          </p:nvPicPr>
          <p:blipFill>
            <a:blip r:embed="rId2"/>
            <a:stretch/>
          </p:blipFill>
          <p:spPr>
            <a:xfrm>
              <a:off x="2678400" y="1903320"/>
              <a:ext cx="238320" cy="3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Freeform 6"/>
            <p:cNvSpPr/>
            <p:nvPr/>
          </p:nvSpPr>
          <p:spPr>
            <a:xfrm>
              <a:off x="2710080" y="2211840"/>
              <a:ext cx="346320" cy="258840"/>
            </a:xfrm>
            <a:custGeom>
              <a:avLst/>
              <a:gdLst/>
              <a:ahLst/>
              <a:rect l="l" t="t" r="r" b="b"/>
              <a:pathLst>
                <a:path w="21600" h="20296">
                  <a:moveTo>
                    <a:pt x="0" y="20296"/>
                  </a:moveTo>
                  <a:cubicBezTo>
                    <a:pt x="2520" y="12582"/>
                    <a:pt x="5040" y="4867"/>
                    <a:pt x="8640" y="1782"/>
                  </a:cubicBezTo>
                  <a:cubicBezTo>
                    <a:pt x="12240" y="-1304"/>
                    <a:pt x="16920" y="239"/>
                    <a:pt x="21600" y="178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7"/>
            <p:cNvSpPr/>
            <p:nvPr/>
          </p:nvSpPr>
          <p:spPr>
            <a:xfrm flipV="1">
              <a:off x="3056760" y="1945800"/>
              <a:ext cx="695520" cy="92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Group 10"/>
            <p:cNvGrpSpPr/>
            <p:nvPr/>
          </p:nvGrpSpPr>
          <p:grpSpPr>
            <a:xfrm>
              <a:off x="1522440" y="2905920"/>
              <a:ext cx="3125160" cy="1042920"/>
              <a:chOff x="1522440" y="2905920"/>
              <a:chExt cx="3125160" cy="1042920"/>
            </a:xfrm>
          </p:grpSpPr>
          <p:sp>
            <p:nvSpPr>
              <p:cNvPr id="326" name="Oval 8"/>
              <p:cNvSpPr/>
              <p:nvPr/>
            </p:nvSpPr>
            <p:spPr>
              <a:xfrm>
                <a:off x="1636920" y="2905920"/>
                <a:ext cx="2894760" cy="9270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9"/>
              <p:cNvSpPr/>
              <p:nvPr/>
            </p:nvSpPr>
            <p:spPr>
              <a:xfrm>
                <a:off x="1522440" y="3368520"/>
                <a:ext cx="3125160" cy="580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Line 11"/>
            <p:cNvSpPr/>
            <p:nvPr/>
          </p:nvSpPr>
          <p:spPr>
            <a:xfrm flipH="1" flipV="1">
              <a:off x="2362680" y="1981080"/>
              <a:ext cx="694080" cy="925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2"/>
            <p:cNvSpPr/>
            <p:nvPr/>
          </p:nvSpPr>
          <p:spPr>
            <a:xfrm flipV="1">
              <a:off x="3056760" y="1865160"/>
              <a:ext cx="1440" cy="1041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3"/>
            <p:cNvSpPr/>
            <p:nvPr/>
          </p:nvSpPr>
          <p:spPr>
            <a:xfrm flipV="1">
              <a:off x="3056760" y="2443320"/>
              <a:ext cx="927360" cy="4633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4"/>
            <p:cNvSpPr/>
            <p:nvPr/>
          </p:nvSpPr>
          <p:spPr>
            <a:xfrm flipH="1">
              <a:off x="3056760" y="2202120"/>
              <a:ext cx="347760" cy="258840"/>
            </a:xfrm>
            <a:custGeom>
              <a:avLst/>
              <a:gdLst/>
              <a:ahLst/>
              <a:rect l="l" t="t" r="r" b="b"/>
              <a:pathLst>
                <a:path w="21600" h="20296">
                  <a:moveTo>
                    <a:pt x="0" y="20296"/>
                  </a:moveTo>
                  <a:cubicBezTo>
                    <a:pt x="2520" y="12582"/>
                    <a:pt x="5040" y="4867"/>
                    <a:pt x="8640" y="1782"/>
                  </a:cubicBezTo>
                  <a:cubicBezTo>
                    <a:pt x="12240" y="-1304"/>
                    <a:pt x="16920" y="239"/>
                    <a:pt x="21600" y="178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Picture 15" descr=""/>
            <p:cNvPicPr/>
            <p:nvPr/>
          </p:nvPicPr>
          <p:blipFill>
            <a:blip r:embed="rId3"/>
            <a:stretch/>
          </p:blipFill>
          <p:spPr>
            <a:xfrm>
              <a:off x="4044960" y="2248200"/>
              <a:ext cx="31752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6" descr=""/>
            <p:cNvPicPr/>
            <p:nvPr/>
          </p:nvPicPr>
          <p:blipFill>
            <a:blip r:embed="rId4"/>
            <a:stretch/>
          </p:blipFill>
          <p:spPr>
            <a:xfrm>
              <a:off x="2948760" y="1522440"/>
              <a:ext cx="29700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17" descr=""/>
            <p:cNvPicPr/>
            <p:nvPr/>
          </p:nvPicPr>
          <p:blipFill>
            <a:blip r:embed="rId5"/>
            <a:stretch/>
          </p:blipFill>
          <p:spPr>
            <a:xfrm>
              <a:off x="2055960" y="1754280"/>
              <a:ext cx="230040" cy="2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8" descr=""/>
            <p:cNvPicPr/>
            <p:nvPr/>
          </p:nvPicPr>
          <p:blipFill>
            <a:blip r:embed="rId6"/>
            <a:stretch/>
          </p:blipFill>
          <p:spPr>
            <a:xfrm>
              <a:off x="3808080" y="1674720"/>
              <a:ext cx="2966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19" descr=""/>
            <p:cNvPicPr/>
            <p:nvPr/>
          </p:nvPicPr>
          <p:blipFill>
            <a:blip r:embed="rId7"/>
            <a:stretch/>
          </p:blipFill>
          <p:spPr>
            <a:xfrm>
              <a:off x="3256560" y="1903320"/>
              <a:ext cx="238320" cy="30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7" name="Picture 21" descr=""/>
          <p:cNvPicPr/>
          <p:nvPr/>
        </p:nvPicPr>
        <p:blipFill>
          <a:blip r:embed="rId8"/>
          <a:stretch/>
        </p:blipFill>
        <p:spPr>
          <a:xfrm>
            <a:off x="5143680" y="1905120"/>
            <a:ext cx="2781000" cy="963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2" descr=""/>
          <p:cNvPicPr/>
          <p:nvPr/>
        </p:nvPicPr>
        <p:blipFill>
          <a:blip r:embed="rId9"/>
          <a:stretch/>
        </p:blipFill>
        <p:spPr>
          <a:xfrm>
            <a:off x="304920" y="3429000"/>
            <a:ext cx="2141280" cy="335268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25"/>
          <p:cNvGrpSpPr/>
          <p:nvPr/>
        </p:nvGrpSpPr>
        <p:grpSpPr>
          <a:xfrm>
            <a:off x="2666880" y="3581280"/>
            <a:ext cx="5981760" cy="768240"/>
            <a:chOff x="2666880" y="3581280"/>
            <a:chExt cx="5981760" cy="768240"/>
          </a:xfrm>
        </p:grpSpPr>
        <p:sp>
          <p:nvSpPr>
            <p:cNvPr id="340" name="Rectangle 23"/>
            <p:cNvSpPr/>
            <p:nvPr/>
          </p:nvSpPr>
          <p:spPr>
            <a:xfrm>
              <a:off x="2666880" y="3581280"/>
              <a:ext cx="5651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81000" tIns="38160" bIns="38160" anchor="t">
              <a:normAutofit fontScale="96000"/>
            </a:bodyPr>
            <a:p>
              <a:pPr marL="331920" indent="-3286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Near-perfect mirrors have a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highligh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 around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1920" indent="-328680">
                <a:lnSpc>
                  <a:spcPct val="100000"/>
                </a:lnSpc>
                <a:spcBef>
                  <a:spcPts val="4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common model: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Picture 24" descr=""/>
            <p:cNvPicPr/>
            <p:nvPr/>
          </p:nvPicPr>
          <p:blipFill>
            <a:blip r:embed="rId10"/>
            <a:stretch/>
          </p:blipFill>
          <p:spPr>
            <a:xfrm>
              <a:off x="5333760" y="3962160"/>
              <a:ext cx="3314880" cy="387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ecular ref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9"/>
          <p:cNvGrpSpPr/>
          <p:nvPr/>
        </p:nvGrpSpPr>
        <p:grpSpPr>
          <a:xfrm>
            <a:off x="838080" y="1523880"/>
            <a:ext cx="7307280" cy="4352400"/>
            <a:chOff x="838080" y="1523880"/>
            <a:chExt cx="7307280" cy="4352400"/>
          </a:xfrm>
        </p:grpSpPr>
        <p:sp>
          <p:nvSpPr>
            <p:cNvPr id="346" name="Rectangle 4"/>
            <p:cNvSpPr/>
            <p:nvPr/>
          </p:nvSpPr>
          <p:spPr>
            <a:xfrm>
              <a:off x="842760" y="3128760"/>
              <a:ext cx="730260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81000" tIns="38160" bIns="38160" anchor="t">
              <a:normAutofit fontScale="92000"/>
            </a:bodyPr>
            <a:p>
              <a:pPr marL="318240" indent="-315000" algn="ctr">
                <a:lnSpc>
                  <a:spcPct val="100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Moving the light sour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7" name="Picture 5" descr=""/>
            <p:cNvPicPr/>
            <p:nvPr/>
          </p:nvPicPr>
          <p:blipFill>
            <a:blip r:embed="rId1"/>
            <a:stretch/>
          </p:blipFill>
          <p:spPr>
            <a:xfrm>
              <a:off x="1306440" y="1523880"/>
              <a:ext cx="6362640" cy="171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8" name="Group 8"/>
            <p:cNvGrpSpPr/>
            <p:nvPr/>
          </p:nvGrpSpPr>
          <p:grpSpPr>
            <a:xfrm>
              <a:off x="838080" y="3724200"/>
              <a:ext cx="7302600" cy="2152080"/>
              <a:chOff x="838080" y="3724200"/>
              <a:chExt cx="7302600" cy="2152080"/>
            </a:xfrm>
          </p:grpSpPr>
          <p:pic>
            <p:nvPicPr>
              <p:cNvPr id="34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06440" y="3724200"/>
                <a:ext cx="6362640" cy="17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Rectangle 7"/>
              <p:cNvSpPr/>
              <p:nvPr/>
            </p:nvSpPr>
            <p:spPr>
              <a:xfrm>
                <a:off x="838080" y="5329800"/>
                <a:ext cx="7302600" cy="54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81000" tIns="38160" bIns="38160" anchor="t">
                <a:normAutofit fontScale="97000"/>
              </a:bodyPr>
              <a:p>
                <a:pPr marL="335520" indent="-332280" algn="ctr">
                  <a:lnSpc>
                    <a:spcPct val="100000"/>
                  </a:lnSpc>
                  <a:spcBef>
                    <a:spcPts val="6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Changing n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ong illumination mod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g approximation of surface refle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reflectance is modeled by thre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e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ular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ient term (to compensate for inter-reflected l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880200" y="4705200"/>
            <a:ext cx="3246480" cy="16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unit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ヒラギノ明朝 ProN W3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= outgoing rad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ヒラギノ明朝 ProN W3"/>
              </a:rPr>
              <a:t>i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= incoming rad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ヒラギノ明朝 ProN W3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= ambient 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ヒラギノ明朝 ProN W3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= ambient light reflectance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(x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ヒラギノ明朝 ProN W3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= max(x,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942840" y="2943360"/>
            <a:ext cx="7486920" cy="618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4724280" y="4429080"/>
            <a:ext cx="342900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asuring the BRD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ioreflect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for capturing the BRDF by moving a camera + 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careful control of illumination,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272880" y="1247760"/>
            <a:ext cx="4222800" cy="210672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5"/>
          <p:cNvSpPr/>
          <p:nvPr/>
        </p:nvSpPr>
        <p:spPr>
          <a:xfrm>
            <a:off x="1934640" y="3462480"/>
            <a:ext cx="82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tra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Group 8"/>
          <p:cNvGrpSpPr/>
          <p:nvPr/>
        </p:nvGrpSpPr>
        <p:grpSpPr>
          <a:xfrm>
            <a:off x="4700520" y="1295280"/>
            <a:ext cx="4214880" cy="2338560"/>
            <a:chOff x="4700520" y="1295280"/>
            <a:chExt cx="4214880" cy="2338560"/>
          </a:xfrm>
        </p:grpSpPr>
        <p:pic>
          <p:nvPicPr>
            <p:cNvPr id="363" name="Picture 6" descr=""/>
            <p:cNvPicPr/>
            <p:nvPr/>
          </p:nvPicPr>
          <p:blipFill>
            <a:blip r:embed="rId2"/>
            <a:stretch/>
          </p:blipFill>
          <p:spPr>
            <a:xfrm>
              <a:off x="4700520" y="1295280"/>
              <a:ext cx="421488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Rectangle 7"/>
            <p:cNvSpPr/>
            <p:nvPr/>
          </p:nvSpPr>
          <p:spPr>
            <a:xfrm>
              <a:off x="6064560" y="3450960"/>
              <a:ext cx="159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design by Greg W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80880" y="0"/>
            <a:ext cx="8115480" cy="68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umbia-Utrecht Datab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54864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d BRDF models for a variety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cs.columbia.edu/CAVE/software/curet/index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2362320" y="1160640"/>
            <a:ext cx="4039920" cy="39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light fiel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3848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s the 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lenopt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know </a:t>
            </a:r>
            <a:r>
              <a:rPr b="0" lang="en-US" sz="1800" spc="-1" strike="noStrike">
                <a:solidFill>
                  <a:srgbClr val="000000"/>
                </a:solidFill>
                <a:latin typeface="Arial Italic"/>
                <a:ea typeface="Arial Italic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you can predict how the scene would appear from any viewpoint.  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527200" cy="2826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27"/>
          <p:cNvGrpSpPr/>
          <p:nvPr/>
        </p:nvGrpSpPr>
        <p:grpSpPr>
          <a:xfrm>
            <a:off x="685800" y="2787480"/>
            <a:ext cx="7785000" cy="3968640"/>
            <a:chOff x="685800" y="2787480"/>
            <a:chExt cx="7785000" cy="3968640"/>
          </a:xfrm>
        </p:grpSpPr>
        <p:grpSp>
          <p:nvGrpSpPr>
            <p:cNvPr id="83" name="Group 23"/>
            <p:cNvGrpSpPr/>
            <p:nvPr/>
          </p:nvGrpSpPr>
          <p:grpSpPr>
            <a:xfrm>
              <a:off x="685800" y="2819160"/>
              <a:ext cx="7785000" cy="3936960"/>
              <a:chOff x="685800" y="2819160"/>
              <a:chExt cx="7785000" cy="3936960"/>
            </a:xfrm>
          </p:grpSpPr>
          <p:sp>
            <p:nvSpPr>
              <p:cNvPr id="84" name="Rectangle 5"/>
              <p:cNvSpPr/>
              <p:nvPr/>
            </p:nvSpPr>
            <p:spPr>
              <a:xfrm>
                <a:off x="685800" y="2819160"/>
                <a:ext cx="7785000" cy="39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rmAutofit fontScale="98000"/>
              </a:bodyPr>
              <a:p>
                <a:pPr marL="374760" indent="-3358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The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Bold"/>
                    <a:ea typeface="ヒラギノ明朝 ProN W3"/>
                  </a:rPr>
                  <a:t>light fiel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Assume radiance does not change along a ra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349"/>
                  </a:spcBef>
                  <a:buClr>
                    <a:srgbClr val="000000"/>
                  </a:buClr>
                  <a:buFont typeface="Arial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what does this assume about the world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Parameterize rays by intersection with two plane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Usually drop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 and time paramete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How could you capture a light field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" name="Group 21"/>
              <p:cNvGrpSpPr/>
              <p:nvPr/>
            </p:nvGrpSpPr>
            <p:grpSpPr>
              <a:xfrm>
                <a:off x="2438280" y="4190760"/>
                <a:ext cx="3809880" cy="1587600"/>
                <a:chOff x="2438280" y="4190760"/>
                <a:chExt cx="3809880" cy="1587600"/>
              </a:xfrm>
            </p:grpSpPr>
            <p:sp>
              <p:nvSpPr>
                <p:cNvPr id="86" name="Line 6"/>
                <p:cNvSpPr/>
                <p:nvPr/>
              </p:nvSpPr>
              <p:spPr>
                <a:xfrm>
                  <a:off x="3200400" y="4190760"/>
                  <a:ext cx="144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7"/>
                <p:cNvSpPr/>
                <p:nvPr/>
              </p:nvSpPr>
              <p:spPr>
                <a:xfrm>
                  <a:off x="3200400" y="4190760"/>
                  <a:ext cx="1015920" cy="5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8"/>
                <p:cNvSpPr/>
                <p:nvPr/>
              </p:nvSpPr>
              <p:spPr>
                <a:xfrm>
                  <a:off x="4216320" y="4698720"/>
                  <a:ext cx="144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9"/>
                <p:cNvSpPr/>
                <p:nvPr/>
              </p:nvSpPr>
              <p:spPr>
                <a:xfrm>
                  <a:off x="3200400" y="5270400"/>
                  <a:ext cx="1015920" cy="5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10"/>
                <p:cNvSpPr/>
                <p:nvPr/>
              </p:nvSpPr>
              <p:spPr>
                <a:xfrm>
                  <a:off x="4660920" y="4190760"/>
                  <a:ext cx="144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11"/>
                <p:cNvSpPr/>
                <p:nvPr/>
              </p:nvSpPr>
              <p:spPr>
                <a:xfrm>
                  <a:off x="4660920" y="4190760"/>
                  <a:ext cx="1015920" cy="5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12"/>
                <p:cNvSpPr/>
                <p:nvPr/>
              </p:nvSpPr>
              <p:spPr>
                <a:xfrm>
                  <a:off x="5676840" y="4698720"/>
                  <a:ext cx="144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13"/>
                <p:cNvSpPr/>
                <p:nvPr/>
              </p:nvSpPr>
              <p:spPr>
                <a:xfrm>
                  <a:off x="4660920" y="5270400"/>
                  <a:ext cx="1015920" cy="5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14"/>
                <p:cNvSpPr/>
                <p:nvPr/>
              </p:nvSpPr>
              <p:spPr>
                <a:xfrm>
                  <a:off x="2438280" y="4571640"/>
                  <a:ext cx="952560" cy="190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15"/>
                <p:cNvSpPr/>
                <p:nvPr/>
              </p:nvSpPr>
              <p:spPr>
                <a:xfrm>
                  <a:off x="4216320" y="4924080"/>
                  <a:ext cx="1015920" cy="190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16"/>
                <p:cNvSpPr/>
                <p:nvPr/>
              </p:nvSpPr>
              <p:spPr>
                <a:xfrm>
                  <a:off x="5676840" y="5206680"/>
                  <a:ext cx="571320" cy="115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Oval 17"/>
                <p:cNvSpPr/>
                <p:nvPr/>
              </p:nvSpPr>
              <p:spPr>
                <a:xfrm>
                  <a:off x="3362040" y="4725720"/>
                  <a:ext cx="63720" cy="63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Oval 18"/>
                <p:cNvSpPr/>
                <p:nvPr/>
              </p:nvSpPr>
              <p:spPr>
                <a:xfrm>
                  <a:off x="5205240" y="5079600"/>
                  <a:ext cx="6372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9" name="Picture 1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55840" y="4843080"/>
                  <a:ext cx="48744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2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25960" y="5194080"/>
                  <a:ext cx="42840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2895480"/>
                <a:ext cx="1431720" cy="282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Group 26"/>
            <p:cNvGrpSpPr/>
            <p:nvPr/>
          </p:nvGrpSpPr>
          <p:grpSpPr>
            <a:xfrm>
              <a:off x="3885840" y="2787480"/>
              <a:ext cx="4082760" cy="260280"/>
              <a:chOff x="3885840" y="2787480"/>
              <a:chExt cx="4082760" cy="260280"/>
            </a:xfrm>
          </p:grpSpPr>
          <p:sp>
            <p:nvSpPr>
              <p:cNvPr id="103" name="Rectangle 24"/>
              <p:cNvSpPr/>
              <p:nvPr/>
            </p:nvSpPr>
            <p:spPr>
              <a:xfrm>
                <a:off x="4589640" y="2787480"/>
                <a:ext cx="3378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t is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 Italic"/>
                    <a:ea typeface="ヒラギノ明朝 ProN W3"/>
                  </a:rPr>
                  <a:t>no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 time (different from above t !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25"/>
              <p:cNvSpPr/>
              <p:nvPr/>
            </p:nvSpPr>
            <p:spPr>
              <a:xfrm flipH="1">
                <a:off x="3885840" y="2971800"/>
                <a:ext cx="7621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nford light field gant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819520" y="91440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BF2D-D099-4339-8EBC-BA8C9BFF5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yt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1397160" y="984240"/>
            <a:ext cx="6337080" cy="5826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127440" y="4775040"/>
            <a:ext cx="29008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ヒラギノ明朝 ProN W3"/>
              </a:rPr>
              <a:t>FRANK O’CONNELL/THE NEW YORK TIM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9547-96EB-4737-A7C5-81B66436E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ghtfield Came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673200" y="1041480"/>
            <a:ext cx="7797600" cy="4483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1054080" y="5765760"/>
            <a:ext cx="7023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ヒラギノ明朝 ProN W3"/>
                <a:hlinkClick r:id="rId2"/>
              </a:rPr>
              <a:t>From Ng et al., Stanford CSTR 2005-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27E9-208E-4533-B67F-AF126674C8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-3240" y="-88920"/>
            <a:ext cx="7148520" cy="7086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5524560" y="2971800"/>
            <a:ext cx="3340080" cy="33400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5651640" y="1193760"/>
            <a:ext cx="635040" cy="635040"/>
          </a:xfrm>
          <a:prstGeom prst="rect">
            <a:avLst/>
          </a:pr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Seitz</dc:creator>
  <dc:description/>
  <cp:keywords/>
  <dc:language>en-US</dc:language>
  <cp:lastModifiedBy>seitz</cp:lastModifiedBy>
  <dcterms:modified xsi:type="dcterms:W3CDTF">2015-05-07T02:28:08Z</dcterms:modified>
  <cp:revision>14</cp:revision>
  <dc:subject/>
  <dc:title>Computer Vision:  Light</dc:title>
</cp:coreProperties>
</file>