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4.png" ContentType="image/png"/>
  <Override PartName="/ppt/media/image53.png" ContentType="image/png"/>
  <Override PartName="/ppt/media/image51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10.png" ContentType="image/png"/>
  <Override PartName="/ppt/media/image47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0.jpeg" ContentType="image/jpeg"/>
  <Override PartName="/ppt/media/image5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:  Why might these work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more stable when there is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f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ative filters are there?  There are f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al derivative fil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actice, it’s handy to define a singl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ative filter—the Lapla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2A4-42BA-4F9E-B3F6-18762CEE7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bad that they move?  It means the location of the edge is not well-defined (changes with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definition of partial derivative:  lim h-&gt;0 [f(x+h,y) – f(x,y)]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out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A70C-3B93-46D9-A6D9-E43710560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4F6A-E0B2-4FF3-AA27-E736982A9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35B7-B452-400F-887B-447F80141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B7A1-FA46-446C-BF7F-CE43322D4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081D-2A8F-4A1E-865B-00632E43F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0334-9207-450F-8A86-05510159F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64B5-6C95-46F3-B484-EB2EEDB2C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D4B8-48A8-42DF-819A-6C9B89AEE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6EB1-5C6E-4409-B5EB-E80D1AC17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3107-F52A-4450-8D87-FC59CA33B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A997-93AD-4CE4-BFC0-0F6A0EAB4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1C11-D5A9-40DE-A3CD-C436EEA5D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E3AF-ED77-4AD4-94BB-19BC491C0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455/04wi/readings/edge-detection-cipolla.pdf" TargetMode="External"/><Relationship Id="rId2" Type="http://schemas.openxmlformats.org/officeDocument/2006/relationships/hyperlink" Target="http://www.sandlotscience.com/Contrast/Contrast_frm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6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5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p576/15sp/projects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4.png"/><Relationship Id="rId8" Type="http://schemas.openxmlformats.org/officeDocument/2006/relationships/image" Target="../media/image64.png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ipolla &amp; Gee on edge det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vailable on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lisi 3.4.1-3.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046320" y="2895480"/>
            <a:ext cx="2857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Sandlot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1828800" y="1697040"/>
            <a:ext cx="52196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obel oper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approximations of the derivative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s below are very common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705040" y="2209680"/>
          <a:ext cx="1143000" cy="10512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05520" y="220968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72" descr=""/>
          <p:cNvPicPr/>
          <p:nvPr/>
        </p:nvPicPr>
        <p:blipFill>
          <a:blip r:embed="rId1"/>
          <a:stretch/>
        </p:blipFill>
        <p:spPr>
          <a:xfrm>
            <a:off x="2438280" y="2496960"/>
            <a:ext cx="190800" cy="44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3" descr=""/>
          <p:cNvPicPr/>
          <p:nvPr/>
        </p:nvPicPr>
        <p:blipFill>
          <a:blip r:embed="rId2"/>
          <a:stretch/>
        </p:blipFill>
        <p:spPr>
          <a:xfrm>
            <a:off x="4838760" y="2502000"/>
            <a:ext cx="190440" cy="441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4"/>
          <p:cNvSpPr/>
          <p:nvPr/>
        </p:nvSpPr>
        <p:spPr>
          <a:xfrm>
            <a:off x="685800" y="4114800"/>
            <a:ext cx="7937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standard defn. of the Sobel operator omits the 1/8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oesn’t make a difference for edge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1/8 term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needed to get the right gradient value, how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5" descr=""/>
          <p:cNvPicPr/>
          <p:nvPr/>
        </p:nvPicPr>
        <p:blipFill>
          <a:blip r:embed="rId3"/>
          <a:stretch/>
        </p:blipFill>
        <p:spPr>
          <a:xfrm>
            <a:off x="3097080" y="3456000"/>
            <a:ext cx="300240" cy="19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6" descr=""/>
          <p:cNvPicPr/>
          <p:nvPr/>
        </p:nvPicPr>
        <p:blipFill>
          <a:blip r:embed="rId4"/>
          <a:stretch/>
        </p:blipFill>
        <p:spPr>
          <a:xfrm>
            <a:off x="5505480" y="3435480"/>
            <a:ext cx="284040" cy="23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ffects of no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ingle row or column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ing intensity as a function of position gives a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39960" y="1917720"/>
            <a:ext cx="501804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101600" y="2521080"/>
            <a:ext cx="650880" cy="3175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685800" y="4038480"/>
            <a:ext cx="7785000" cy="2502000"/>
            <a:chOff x="685800" y="4038480"/>
            <a:chExt cx="7785000" cy="2502000"/>
          </a:xfrm>
        </p:grpSpPr>
        <p:pic>
          <p:nvPicPr>
            <p:cNvPr id="130" name="Picture 6" descr=""/>
            <p:cNvPicPr/>
            <p:nvPr/>
          </p:nvPicPr>
          <p:blipFill>
            <a:blip r:embed="rId3"/>
            <a:stretch/>
          </p:blipFill>
          <p:spPr>
            <a:xfrm>
              <a:off x="1744560" y="4038480"/>
              <a:ext cx="503712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"/>
            <p:cNvPicPr/>
            <p:nvPr/>
          </p:nvPicPr>
          <p:blipFill>
            <a:blip r:embed="rId4"/>
            <a:stretch/>
          </p:blipFill>
          <p:spPr>
            <a:xfrm>
              <a:off x="762120" y="4584600"/>
              <a:ext cx="9874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685800" y="609588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Where is the ed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685800" y="6324480"/>
            <a:ext cx="7785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ere is the edg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ution:  smooth fir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677960" y="1601640"/>
            <a:ext cx="173160" cy="30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677960" y="2840040"/>
            <a:ext cx="173160" cy="2379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8"/>
          <p:cNvGrpSpPr/>
          <p:nvPr/>
        </p:nvGrpSpPr>
        <p:grpSpPr>
          <a:xfrm>
            <a:off x="3581280" y="6321600"/>
            <a:ext cx="3855960" cy="460080"/>
            <a:chOff x="3581280" y="6321600"/>
            <a:chExt cx="3855960" cy="460080"/>
          </a:xfrm>
        </p:grpSpPr>
        <p:pic>
          <p:nvPicPr>
            <p:cNvPr id="139" name="Picture 6" descr=""/>
            <p:cNvPicPr/>
            <p:nvPr/>
          </p:nvPicPr>
          <p:blipFill>
            <a:blip r:embed="rId3"/>
            <a:stretch/>
          </p:blipFill>
          <p:spPr>
            <a:xfrm>
              <a:off x="6095880" y="6321600"/>
              <a:ext cx="13413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7"/>
            <p:cNvSpPr/>
            <p:nvPr/>
          </p:nvSpPr>
          <p:spPr>
            <a:xfrm>
              <a:off x="3581280" y="6324480"/>
              <a:ext cx="2755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ook for peaks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2060640" y="914400"/>
            <a:ext cx="6419880" cy="15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5"/>
          <a:stretch/>
        </p:blipFill>
        <p:spPr>
          <a:xfrm>
            <a:off x="2060640" y="2438280"/>
            <a:ext cx="64198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3"/>
          <p:cNvGrpSpPr/>
          <p:nvPr/>
        </p:nvGrpSpPr>
        <p:grpSpPr>
          <a:xfrm>
            <a:off x="1165320" y="3676680"/>
            <a:ext cx="7315200" cy="1200240"/>
            <a:chOff x="1165320" y="3676680"/>
            <a:chExt cx="7315200" cy="1200240"/>
          </a:xfrm>
        </p:grpSpPr>
        <p:pic>
          <p:nvPicPr>
            <p:cNvPr id="144" name="Picture 11" descr=""/>
            <p:cNvPicPr/>
            <p:nvPr/>
          </p:nvPicPr>
          <p:blipFill>
            <a:blip r:embed="rId6"/>
            <a:stretch/>
          </p:blipFill>
          <p:spPr>
            <a:xfrm>
              <a:off x="1165320" y="4027680"/>
              <a:ext cx="6858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"/>
            <p:cNvPicPr/>
            <p:nvPr/>
          </p:nvPicPr>
          <p:blipFill>
            <a:blip r:embed="rId7"/>
            <a:stretch/>
          </p:blipFill>
          <p:spPr>
            <a:xfrm>
              <a:off x="2060640" y="3676680"/>
              <a:ext cx="641988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6"/>
          <p:cNvGrpSpPr/>
          <p:nvPr/>
        </p:nvGrpSpPr>
        <p:grpSpPr>
          <a:xfrm>
            <a:off x="609480" y="4876920"/>
            <a:ext cx="7870680" cy="1257120"/>
            <a:chOff x="609480" y="4876920"/>
            <a:chExt cx="7870680" cy="1257120"/>
          </a:xfrm>
        </p:grpSpPr>
        <p:pic>
          <p:nvPicPr>
            <p:cNvPr id="147" name="Picture 14" descr=""/>
            <p:cNvPicPr/>
            <p:nvPr/>
          </p:nvPicPr>
          <p:blipFill>
            <a:blip r:embed="rId8"/>
            <a:stretch/>
          </p:blipFill>
          <p:spPr>
            <a:xfrm>
              <a:off x="609480" y="5179680"/>
              <a:ext cx="1341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5" descr=""/>
            <p:cNvPicPr/>
            <p:nvPr/>
          </p:nvPicPr>
          <p:blipFill>
            <a:blip r:embed="rId9"/>
            <a:stretch/>
          </p:blipFill>
          <p:spPr>
            <a:xfrm>
              <a:off x="2060280" y="4876920"/>
              <a:ext cx="6419880" cy="1257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7937280" presetSubtype="57985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7937280" presetSubtype="622549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532240" y="1857240"/>
            <a:ext cx="571320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rivative theorem of conv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aves us one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22272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1333440" y="2590920"/>
            <a:ext cx="173160" cy="30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1147680" y="3962520"/>
            <a:ext cx="541440" cy="46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5"/>
          <a:stretch/>
        </p:blipFill>
        <p:spPr>
          <a:xfrm>
            <a:off x="743040" y="5486400"/>
            <a:ext cx="1341360" cy="460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838080" y="6400800"/>
            <a:ext cx="7785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can we find (local) maxima of a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placian of Gaussi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532240" y="1447920"/>
            <a:ext cx="5822640" cy="472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286000" y="984240"/>
            <a:ext cx="1482840" cy="53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1333440" y="2181240"/>
            <a:ext cx="173160" cy="30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1071720" y="3471840"/>
            <a:ext cx="68724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674640" y="5035680"/>
            <a:ext cx="1482840" cy="539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4326840" y="3479760"/>
            <a:ext cx="2336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placian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85800" y="6324480"/>
            <a:ext cx="3098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ere is the edg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774960" y="6324480"/>
            <a:ext cx="4597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Zero-crossings of bottom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D edge detection fil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733480" cy="192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3200400" y="1959120"/>
            <a:ext cx="3006720" cy="131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3"/>
          <a:stretch/>
        </p:blipFill>
        <p:spPr>
          <a:xfrm>
            <a:off x="316080" y="3592440"/>
            <a:ext cx="2747880" cy="5986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9"/>
          <p:cNvGrpSpPr/>
          <p:nvPr/>
        </p:nvGrpSpPr>
        <p:grpSpPr>
          <a:xfrm>
            <a:off x="685800" y="4952880"/>
            <a:ext cx="7785000" cy="1224000"/>
            <a:chOff x="685800" y="4952880"/>
            <a:chExt cx="7785000" cy="1224000"/>
          </a:xfrm>
        </p:grpSpPr>
        <p:sp>
          <p:nvSpPr>
            <p:cNvPr id="175" name="Rectangle 6"/>
            <p:cNvSpPr/>
            <p:nvPr/>
          </p:nvSpPr>
          <p:spPr>
            <a:xfrm>
              <a:off x="685800" y="495288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s th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aplacia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 opera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Picture 7" descr=""/>
            <p:cNvPicPr/>
            <p:nvPr/>
          </p:nvPicPr>
          <p:blipFill>
            <a:blip r:embed="rId4"/>
            <a:stretch/>
          </p:blipFill>
          <p:spPr>
            <a:xfrm>
              <a:off x="762120" y="4952880"/>
              <a:ext cx="4302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"/>
            <p:cNvPicPr/>
            <p:nvPr/>
          </p:nvPicPr>
          <p:blipFill>
            <a:blip r:embed="rId5"/>
            <a:stretch/>
          </p:blipFill>
          <p:spPr>
            <a:xfrm>
              <a:off x="2908440" y="5576760"/>
              <a:ext cx="25779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3"/>
          <p:cNvGrpSpPr/>
          <p:nvPr/>
        </p:nvGrpSpPr>
        <p:grpSpPr>
          <a:xfrm>
            <a:off x="6091200" y="1843200"/>
            <a:ext cx="2824200" cy="3033720"/>
            <a:chOff x="6091200" y="1843200"/>
            <a:chExt cx="2824200" cy="3033720"/>
          </a:xfrm>
        </p:grpSpPr>
        <p:pic>
          <p:nvPicPr>
            <p:cNvPr id="179" name="Picture 10" descr=""/>
            <p:cNvPicPr/>
            <p:nvPr/>
          </p:nvPicPr>
          <p:blipFill>
            <a:blip r:embed="rId6"/>
            <a:stretch/>
          </p:blipFill>
          <p:spPr>
            <a:xfrm>
              <a:off x="6315120" y="2238480"/>
              <a:ext cx="2600280" cy="26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"/>
            <p:cNvPicPr/>
            <p:nvPr/>
          </p:nvPicPr>
          <p:blipFill>
            <a:blip r:embed="rId7"/>
            <a:stretch/>
          </p:blipFill>
          <p:spPr>
            <a:xfrm>
              <a:off x="6091200" y="3749760"/>
              <a:ext cx="121140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12"/>
            <p:cNvSpPr/>
            <p:nvPr/>
          </p:nvSpPr>
          <p:spPr>
            <a:xfrm>
              <a:off x="6454080" y="1843200"/>
              <a:ext cx="233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placian of Gauss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118520" y="3214800"/>
            <a:ext cx="10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443040" y="3214800"/>
            <a:ext cx="23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rivative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8"/>
          <a:stretch/>
        </p:blipFill>
        <p:spPr>
          <a:xfrm>
            <a:off x="4224240" y="3649680"/>
            <a:ext cx="1187640" cy="527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7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19060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4159080" y="6124680"/>
            <a:ext cx="106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9852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954160" y="6124680"/>
            <a:ext cx="357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moothed (5x5 Gaus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201760" y="1066680"/>
            <a:ext cx="4972320" cy="4972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 by subtr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365280" y="5972040"/>
            <a:ext cx="27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moothed –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scaled by 4, offset +12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7394400" y="3200400"/>
            <a:ext cx="1452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y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s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aussian - image fil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2651040"/>
            <a:ext cx="2733840" cy="1920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543720" y="3838680"/>
            <a:ext cx="2600280" cy="2638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6606720" y="6415200"/>
            <a:ext cx="23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placian of 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820080" y="4738680"/>
            <a:ext cx="10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276720" y="3657600"/>
            <a:ext cx="28954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57"/>
                </a:moveTo>
                <a:lnTo>
                  <a:pt x="9663" y="21600"/>
                </a:lnTo>
                <a:lnTo>
                  <a:pt x="21600" y="12343"/>
                </a:lnTo>
                <a:lnTo>
                  <a:pt x="11937" y="0"/>
                </a:lnTo>
                <a:lnTo>
                  <a:pt x="0" y="9257"/>
                </a:lnTo>
                <a:close/>
                <a:moveTo>
                  <a:pt x="0" y="9257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572000" y="914400"/>
            <a:ext cx="22860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57"/>
                </a:moveTo>
                <a:lnTo>
                  <a:pt x="9663" y="21600"/>
                </a:lnTo>
                <a:lnTo>
                  <a:pt x="21600" y="12343"/>
                </a:lnTo>
                <a:lnTo>
                  <a:pt x="11937" y="0"/>
                </a:lnTo>
                <a:lnTo>
                  <a:pt x="0" y="9257"/>
                </a:lnTo>
                <a:close/>
                <a:moveTo>
                  <a:pt x="0" y="9257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572000" y="961920"/>
            <a:ext cx="14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4800600" y="966960"/>
            <a:ext cx="1440" cy="32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4686480" y="1000080"/>
            <a:ext cx="1440" cy="32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4572000" y="946080"/>
            <a:ext cx="114480" cy="327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48"/>
                </a:moveTo>
                <a:lnTo>
                  <a:pt x="0" y="0"/>
                </a:lnTo>
                <a:lnTo>
                  <a:pt x="21600" y="377"/>
                </a:lnTo>
                <a:lnTo>
                  <a:pt x="21600" y="21600"/>
                </a:lnTo>
                <a:lnTo>
                  <a:pt x="0" y="21348"/>
                </a:lnTo>
                <a:close/>
                <a:moveTo>
                  <a:pt x="0" y="21348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4686480" y="965160"/>
            <a:ext cx="114120" cy="324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9"/>
                </a:moveTo>
                <a:lnTo>
                  <a:pt x="0" y="21600"/>
                </a:lnTo>
                <a:lnTo>
                  <a:pt x="21600" y="21304"/>
                </a:lnTo>
                <a:lnTo>
                  <a:pt x="21600" y="0"/>
                </a:lnTo>
                <a:lnTo>
                  <a:pt x="0" y="169"/>
                </a:lnTo>
                <a:close/>
                <a:moveTo>
                  <a:pt x="0" y="169"/>
                </a:move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69720" y="4800600"/>
            <a:ext cx="143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lta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5" descr=""/>
          <p:cNvPicPr/>
          <p:nvPr/>
        </p:nvPicPr>
        <p:blipFill>
          <a:blip r:embed="rId3"/>
          <a:stretch/>
        </p:blipFill>
        <p:spPr>
          <a:xfrm>
            <a:off x="2743200" y="3527280"/>
            <a:ext cx="457200" cy="68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"/>
          <p:cNvPicPr/>
          <p:nvPr/>
        </p:nvPicPr>
        <p:blipFill>
          <a:blip r:embed="rId4"/>
          <a:stretch/>
        </p:blipFill>
        <p:spPr>
          <a:xfrm>
            <a:off x="6145200" y="3406680"/>
            <a:ext cx="536760" cy="3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 on cat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have received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 by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1 out today (due in two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d 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urse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late day policy:  3 free lat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any time over th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.g., if you use them all in project 1, you would need to turn it in by Saturday at 6: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5790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mage (L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14600" y="1251000"/>
            <a:ext cx="43876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87680" cy="4387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685800" y="57913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 of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61040" cy="4360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685800" y="57913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res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anny edge det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5791320"/>
            <a:ext cx="7785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non-maximum suppre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n-maximum suppre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pixel is local maximum along gradien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checking interpolated pixels p and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5"/>
          <p:cNvGrpSpPr/>
          <p:nvPr/>
        </p:nvGrpSpPr>
        <p:grpSpPr>
          <a:xfrm>
            <a:off x="152280" y="1371600"/>
            <a:ext cx="8869320" cy="5041800"/>
            <a:chOff x="152280" y="1371600"/>
            <a:chExt cx="8869320" cy="5041800"/>
          </a:xfrm>
        </p:grpSpPr>
        <p:pic>
          <p:nvPicPr>
            <p:cNvPr id="238" name="Picture 3" descr=""/>
            <p:cNvPicPr/>
            <p:nvPr/>
          </p:nvPicPr>
          <p:blipFill>
            <a:blip r:embed="rId1"/>
            <a:stretch/>
          </p:blipFill>
          <p:spPr>
            <a:xfrm>
              <a:off x="6095880" y="13860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3109680" y="13716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" descr=""/>
            <p:cNvPicPr/>
            <p:nvPr/>
          </p:nvPicPr>
          <p:blipFill>
            <a:blip r:embed="rId3"/>
            <a:stretch/>
          </p:blipFill>
          <p:spPr>
            <a:xfrm>
              <a:off x="152280" y="1386000"/>
              <a:ext cx="29257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3463560" y="4368960"/>
              <a:ext cx="141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nny wi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4925880" y="4433760"/>
              <a:ext cx="8650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8"/>
            <p:cNvSpPr/>
            <p:nvPr/>
          </p:nvSpPr>
          <p:spPr>
            <a:xfrm>
              <a:off x="6434640" y="4357800"/>
              <a:ext cx="141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nny wi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Picture 9" descr=""/>
            <p:cNvPicPr/>
            <p:nvPr/>
          </p:nvPicPr>
          <p:blipFill>
            <a:blip r:embed="rId5"/>
            <a:stretch/>
          </p:blipFill>
          <p:spPr>
            <a:xfrm>
              <a:off x="7889760" y="4417920"/>
              <a:ext cx="88092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10"/>
            <p:cNvSpPr/>
            <p:nvPr/>
          </p:nvSpPr>
          <p:spPr>
            <a:xfrm>
              <a:off x="873000" y="4357800"/>
              <a:ext cx="972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685800" y="5257800"/>
              <a:ext cx="824220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The choice of     depends on desired 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rge     detects large scale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2680" indent="-34308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small     detects fine fe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Picture 12" descr=""/>
            <p:cNvPicPr/>
            <p:nvPr/>
          </p:nvPicPr>
          <p:blipFill>
            <a:blip r:embed="rId6"/>
            <a:stretch/>
          </p:blipFill>
          <p:spPr>
            <a:xfrm>
              <a:off x="2700360" y="5410080"/>
              <a:ext cx="19188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3" descr=""/>
            <p:cNvPicPr/>
            <p:nvPr/>
          </p:nvPicPr>
          <p:blipFill>
            <a:blip r:embed="rId7"/>
            <a:stretch/>
          </p:blipFill>
          <p:spPr>
            <a:xfrm>
              <a:off x="1712880" y="5791320"/>
              <a:ext cx="191880" cy="1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4" descr=""/>
            <p:cNvPicPr/>
            <p:nvPr/>
          </p:nvPicPr>
          <p:blipFill>
            <a:blip r:embed="rId8"/>
            <a:stretch/>
          </p:blipFill>
          <p:spPr>
            <a:xfrm>
              <a:off x="1712880" y="6172200"/>
              <a:ext cx="1918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ffect of    (Gaussian kernel spread/siz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4" descr=""/>
          <p:cNvPicPr/>
          <p:nvPr/>
        </p:nvPicPr>
        <p:blipFill>
          <a:blip r:embed="rId9"/>
          <a:stretch/>
        </p:blipFill>
        <p:spPr>
          <a:xfrm>
            <a:off x="2438280" y="439560"/>
            <a:ext cx="301680" cy="2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ffect of scale on 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597560" cy="2571840"/>
          </a:xfrm>
          <a:prstGeom prst="rect">
            <a:avLst/>
          </a:prstGeom>
          <a:ln w="0">
            <a:noFill/>
          </a:ln>
        </p:spPr>
      </p:pic>
      <p:sp>
        <p:nvSpPr>
          <p:cNvPr id="255" name="Line 4"/>
          <p:cNvSpPr/>
          <p:nvPr/>
        </p:nvSpPr>
        <p:spPr>
          <a:xfrm flipV="1">
            <a:off x="2031840" y="2122560"/>
            <a:ext cx="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07960" y="2276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r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7" descr="Edittex"/>
          <p:cNvPicPr/>
          <p:nvPr/>
        </p:nvPicPr>
        <p:blipFill>
          <a:blip r:embed="rId2"/>
          <a:stretch/>
        </p:blipFill>
        <p:spPr>
          <a:xfrm>
            <a:off x="1638360" y="2343240"/>
            <a:ext cx="29196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2133720" y="3884760"/>
            <a:ext cx="4749840" cy="238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23"/>
          <p:cNvGrpSpPr/>
          <p:nvPr/>
        </p:nvGrpSpPr>
        <p:grpSpPr>
          <a:xfrm>
            <a:off x="457200" y="4873320"/>
            <a:ext cx="1523880" cy="610920"/>
            <a:chOff x="457200" y="4873320"/>
            <a:chExt cx="1523880" cy="610920"/>
          </a:xfrm>
        </p:grpSpPr>
        <p:sp>
          <p:nvSpPr>
            <p:cNvPr id="260" name="Line 9"/>
            <p:cNvSpPr/>
            <p:nvPr/>
          </p:nvSpPr>
          <p:spPr>
            <a:xfrm flipV="1">
              <a:off x="1981080" y="4873320"/>
              <a:ext cx="0" cy="61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57200" y="5027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larg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11" descr="Edittex"/>
            <p:cNvPicPr/>
            <p:nvPr/>
          </p:nvPicPr>
          <p:blipFill>
            <a:blip r:embed="rId4"/>
            <a:stretch/>
          </p:blipFill>
          <p:spPr>
            <a:xfrm>
              <a:off x="1587600" y="5094360"/>
              <a:ext cx="29196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Line 15"/>
          <p:cNvSpPr/>
          <p:nvPr/>
        </p:nvSpPr>
        <p:spPr>
          <a:xfrm flipH="1" flipV="1">
            <a:off x="2943360" y="3257280"/>
            <a:ext cx="9360" cy="190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43360" y="3048120"/>
            <a:ext cx="9360" cy="209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2952720" y="2847960"/>
            <a:ext cx="0" cy="200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 flipV="1">
            <a:off x="2943360" y="2673000"/>
            <a:ext cx="9360" cy="17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 flipV="1">
            <a:off x="2943360" y="2457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 flipH="1" flipV="1">
            <a:off x="2933280" y="2276640"/>
            <a:ext cx="9720" cy="18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 flipH="1" flipV="1">
            <a:off x="2852280" y="2064960"/>
            <a:ext cx="79560" cy="211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685800" y="60706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cale space (Witkin 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"/>
          <p:cNvGrpSpPr/>
          <p:nvPr/>
        </p:nvGrpSpPr>
        <p:grpSpPr>
          <a:xfrm>
            <a:off x="2948040" y="4713120"/>
            <a:ext cx="100080" cy="1382400"/>
            <a:chOff x="2948040" y="4713120"/>
            <a:chExt cx="100080" cy="1382400"/>
          </a:xfrm>
        </p:grpSpPr>
        <p:sp>
          <p:nvSpPr>
            <p:cNvPr id="273" name="Line 15"/>
            <p:cNvSpPr/>
            <p:nvPr/>
          </p:nvSpPr>
          <p:spPr>
            <a:xfrm flipH="1" flipV="1">
              <a:off x="3038760" y="5905080"/>
              <a:ext cx="9360" cy="190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 flipV="1">
              <a:off x="3038760" y="5695920"/>
              <a:ext cx="9360" cy="209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 flipV="1">
              <a:off x="3048120" y="5495400"/>
              <a:ext cx="0" cy="199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 flipH="1" flipV="1">
              <a:off x="3038760" y="5320800"/>
              <a:ext cx="9360" cy="174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 flipV="1">
              <a:off x="3038760" y="5104800"/>
              <a:ext cx="0" cy="215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H="1" flipV="1">
              <a:off x="3025440" y="4924080"/>
              <a:ext cx="1080" cy="18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H="1" flipV="1">
              <a:off x="2948040" y="4713120"/>
              <a:ext cx="77760" cy="210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2D image into a set of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s salient features of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act than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79680" y="1109520"/>
            <a:ext cx="62690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igin of E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are caused by a variety of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299088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5673600" y="2330280"/>
            <a:ext cx="17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epth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673960" y="2971800"/>
            <a:ext cx="24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col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672520" y="3625920"/>
            <a:ext cx="227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llumination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674320" y="1676520"/>
            <a:ext cx="260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urface normal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 that a pixel is on an 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579680" y="1109520"/>
            <a:ext cx="6269040" cy="3953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683040" y="6308640"/>
            <a:ext cx="148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noop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s as function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5320" y="5843520"/>
            <a:ext cx="3962520" cy="1014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look like steep cli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772080" y="1319040"/>
            <a:ext cx="4914720" cy="421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276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8"/>
          <p:cNvGrpSpPr/>
          <p:nvPr/>
        </p:nvGrpSpPr>
        <p:grpSpPr>
          <a:xfrm>
            <a:off x="6095880" y="2209680"/>
            <a:ext cx="2590920" cy="990720"/>
            <a:chOff x="6095880" y="2209680"/>
            <a:chExt cx="2590920" cy="990720"/>
          </a:xfrm>
        </p:grpSpPr>
        <p:grpSp>
          <p:nvGrpSpPr>
            <p:cNvPr id="74" name="Group 6"/>
            <p:cNvGrpSpPr/>
            <p:nvPr/>
          </p:nvGrpSpPr>
          <p:grpSpPr>
            <a:xfrm>
              <a:off x="6095880" y="2209680"/>
              <a:ext cx="2590920" cy="990720"/>
              <a:chOff x="6095880" y="2209680"/>
              <a:chExt cx="2590920" cy="990720"/>
            </a:xfrm>
          </p:grpSpPr>
          <p:grpSp>
            <p:nvGrpSpPr>
              <p:cNvPr id="75" name="Group 4"/>
              <p:cNvGrpSpPr/>
              <p:nvPr/>
            </p:nvGrpSpPr>
            <p:grpSpPr>
              <a:xfrm>
                <a:off x="6095880" y="2209680"/>
                <a:ext cx="990720" cy="990720"/>
                <a:chOff x="6095880" y="2209680"/>
                <a:chExt cx="990720" cy="990720"/>
              </a:xfrm>
            </p:grpSpPr>
            <p:sp>
              <p:nvSpPr>
                <p:cNvPr id="76" name="Rectangle 2"/>
                <p:cNvSpPr/>
                <p:nvPr/>
              </p:nvSpPr>
              <p:spPr>
                <a:xfrm>
                  <a:off x="6095880" y="2209680"/>
                  <a:ext cx="990720" cy="990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"/>
                <p:cNvSpPr/>
                <p:nvPr/>
              </p:nvSpPr>
              <p:spPr>
                <a:xfrm flipV="1">
                  <a:off x="6605640" y="2361600"/>
                  <a:ext cx="328320" cy="328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1400" y="2286000"/>
                <a:ext cx="1535400" cy="3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Oval 7"/>
            <p:cNvSpPr/>
            <p:nvPr/>
          </p:nvSpPr>
          <p:spPr>
            <a:xfrm>
              <a:off x="6553080" y="2666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ag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3314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dient of an ima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2468520" cy="6332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2"/>
          <p:cNvSpPr/>
          <p:nvPr/>
        </p:nvSpPr>
        <p:spPr>
          <a:xfrm>
            <a:off x="1066680" y="2209680"/>
            <a:ext cx="304920" cy="9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219320" y="2743200"/>
            <a:ext cx="5331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116208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"/>
          <p:cNvPicPr/>
          <p:nvPr/>
        </p:nvPicPr>
        <p:blipFill>
          <a:blip r:embed="rId3"/>
          <a:stretch/>
        </p:blipFill>
        <p:spPr>
          <a:xfrm>
            <a:off x="1523880" y="2284560"/>
            <a:ext cx="1408320" cy="382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0"/>
          <p:cNvGrpSpPr/>
          <p:nvPr/>
        </p:nvGrpSpPr>
        <p:grpSpPr>
          <a:xfrm>
            <a:off x="3801600" y="2209680"/>
            <a:ext cx="1883160" cy="1157400"/>
            <a:chOff x="3801600" y="2209680"/>
            <a:chExt cx="1883160" cy="1157400"/>
          </a:xfrm>
        </p:grpSpPr>
        <p:pic>
          <p:nvPicPr>
            <p:cNvPr id="88" name="Picture 16" descr=""/>
            <p:cNvPicPr/>
            <p:nvPr/>
          </p:nvPicPr>
          <p:blipFill>
            <a:blip r:embed="rId4"/>
            <a:stretch/>
          </p:blipFill>
          <p:spPr>
            <a:xfrm>
              <a:off x="4267080" y="2971800"/>
              <a:ext cx="14176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17"/>
            <p:cNvSpPr/>
            <p:nvPr/>
          </p:nvSpPr>
          <p:spPr>
            <a:xfrm rot="5400000">
              <a:off x="4185720" y="1825560"/>
              <a:ext cx="304920" cy="10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 flipH="1">
              <a:off x="4341240" y="2361960"/>
              <a:ext cx="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4305240" y="2324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5"/>
          <p:cNvGrpSpPr/>
          <p:nvPr/>
        </p:nvGrpSpPr>
        <p:grpSpPr>
          <a:xfrm>
            <a:off x="6581880" y="2220840"/>
            <a:ext cx="485640" cy="509760"/>
            <a:chOff x="6581880" y="2220840"/>
            <a:chExt cx="485640" cy="509760"/>
          </a:xfrm>
        </p:grpSpPr>
        <p:sp>
          <p:nvSpPr>
            <p:cNvPr id="93" name="Line 21"/>
            <p:cNvSpPr/>
            <p:nvPr/>
          </p:nvSpPr>
          <p:spPr>
            <a:xfrm>
              <a:off x="6586560" y="2716200"/>
              <a:ext cx="480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2"/>
            <p:cNvSpPr/>
            <p:nvPr/>
          </p:nvSpPr>
          <p:spPr>
            <a:xfrm flipV="1">
              <a:off x="6581880" y="2220840"/>
              <a:ext cx="144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flipH="1" rot="10800000">
              <a:off x="6681960" y="2626920"/>
              <a:ext cx="39600" cy="81000"/>
            </a:xfrm>
            <a:custGeom>
              <a:avLst/>
              <a:gdLst/>
              <a:ahLst/>
              <a:rect l="l" t="t" r="r" b="b"/>
              <a:pathLst>
                <a:path w="19932" h="21600">
                  <a:moveTo>
                    <a:pt x="14400" y="0"/>
                  </a:moveTo>
                  <a:cubicBezTo>
                    <a:pt x="17600" y="5082"/>
                    <a:pt x="21600" y="10588"/>
                    <a:pt x="19200" y="13976"/>
                  </a:cubicBezTo>
                  <a:cubicBezTo>
                    <a:pt x="16800" y="17365"/>
                    <a:pt x="8000" y="19482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24" descr=""/>
            <p:cNvPicPr/>
            <p:nvPr/>
          </p:nvPicPr>
          <p:blipFill>
            <a:blip r:embed="rId5"/>
            <a:stretch/>
          </p:blipFill>
          <p:spPr>
            <a:xfrm>
              <a:off x="6815160" y="2525760"/>
              <a:ext cx="109800" cy="19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26"/>
          <p:cNvSpPr/>
          <p:nvPr/>
        </p:nvSpPr>
        <p:spPr>
          <a:xfrm>
            <a:off x="685800" y="4114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gradient direction is given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does this relate to the direction of the ed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edge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s given by the gradient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7" descr=""/>
          <p:cNvPicPr/>
          <p:nvPr/>
        </p:nvPicPr>
        <p:blipFill>
          <a:blip r:embed="rId6"/>
          <a:stretch/>
        </p:blipFill>
        <p:spPr>
          <a:xfrm>
            <a:off x="2014560" y="4583160"/>
            <a:ext cx="2797200" cy="52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"/>
          <p:cNvPicPr/>
          <p:nvPr/>
        </p:nvPicPr>
        <p:blipFill>
          <a:blip r:embed="rId7"/>
          <a:stretch/>
        </p:blipFill>
        <p:spPr>
          <a:xfrm>
            <a:off x="2006640" y="5952960"/>
            <a:ext cx="3708360" cy="668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9"/>
          <p:cNvSpPr/>
          <p:nvPr/>
        </p:nvSpPr>
        <p:spPr>
          <a:xfrm>
            <a:off x="685800" y="3429000"/>
            <a:ext cx="8089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he gradient points in the direction of most rapid increase in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k 1" descr=""/>
          <p:cNvPicPr/>
          <p:nvPr/>
        </p:nvPicPr>
        <p:blipFill>
          <a:blip r:embed="rId8"/>
          <a:stretch/>
        </p:blipFill>
        <p:spPr>
          <a:xfrm>
            <a:off x="6102360" y="4979880"/>
            <a:ext cx="1652400" cy="4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7933824" presetSubtype="586741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4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discret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differentiate a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 F[x,y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discrete gradi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differentiate a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 F[x,y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1:  reconstruct a continuous image, then take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2:  take discrete derivative (“finite differenc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3048120"/>
            <a:ext cx="816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How would you implement this as a cross-corre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3809880"/>
          <a:ext cx="1143000" cy="105120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9" descr=""/>
          <p:cNvPicPr/>
          <p:nvPr/>
        </p:nvPicPr>
        <p:blipFill>
          <a:blip r:embed="rId1"/>
          <a:stretch/>
        </p:blipFill>
        <p:spPr>
          <a:xfrm>
            <a:off x="4365720" y="5060880"/>
            <a:ext cx="285480" cy="220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0"/>
          <p:cNvSpPr/>
          <p:nvPr/>
        </p:nvSpPr>
        <p:spPr>
          <a:xfrm>
            <a:off x="7293600" y="6308640"/>
            <a:ext cx="126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ilter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1" descr=""/>
          <p:cNvPicPr/>
          <p:nvPr/>
        </p:nvPicPr>
        <p:blipFill>
          <a:blip r:embed="rId2"/>
          <a:stretch/>
        </p:blipFill>
        <p:spPr>
          <a:xfrm>
            <a:off x="2093760" y="2209680"/>
            <a:ext cx="4230720" cy="641520"/>
          </a:xfrm>
          <a:prstGeom prst="rect">
            <a:avLst/>
          </a:prstGeom>
          <a:ln w="0">
            <a:noFill/>
          </a:ln>
        </p:spPr>
      </p:pic>
      <p:pic>
        <p:nvPicPr>
          <p:cNvPr id="113" name="Ink 2" descr=""/>
          <p:cNvPicPr/>
          <p:nvPr/>
        </p:nvPicPr>
        <p:blipFill>
          <a:blip r:embed="rId3"/>
          <a:stretch/>
        </p:blipFill>
        <p:spPr>
          <a:xfrm>
            <a:off x="4068720" y="3919680"/>
            <a:ext cx="93024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4-09T04:05:14Z</dcterms:modified>
  <cp:revision>6</cp:revision>
  <dc:subject/>
  <dc:title>Computer Vision: Edge Detection</dc:title>
</cp:coreProperties>
</file>