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49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2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4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3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15.wmf" ContentType="image/x-wmf"/>
  <Override PartName="/ppt/media/image14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50.jpeg" ContentType="image/jpeg"/>
  <Override PartName="/ppt/media/image11.png" ContentType="image/png"/>
  <Override PartName="/ppt/media/image4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  <p:sldId id="270" r:id="rId55"/>
    <p:sldId id="271" r:id="rId56"/>
    <p:sldId id="272" r:id="rId57"/>
    <p:sldId id="273" r:id="rId58"/>
    <p:sldId id="274" r:id="rId59"/>
    <p:sldId id="275" r:id="rId60"/>
    <p:sldId id="276" r:id="rId61"/>
    <p:sldId id="277" r:id="rId62"/>
    <p:sldId id="278" r:id="rId63"/>
    <p:sldId id="279" r:id="rId64"/>
    <p:sldId id="280" r:id="rId65"/>
    <p:sldId id="281" r:id="rId66"/>
    <p:sldId id="282" r:id="rId67"/>
    <p:sldId id="283" r:id="rId68"/>
    <p:sldId id="284" r:id="rId69"/>
    <p:sldId id="285" r:id="rId70"/>
    <p:sldId id="286" r:id="rId71"/>
    <p:sldId id="287" r:id="rId72"/>
    <p:sldId id="288" r:id="rId73"/>
    <p:sldId id="289" r:id="rId74"/>
    <p:sldId id="290" r:id="rId75"/>
    <p:sldId id="291" r:id="rId76"/>
    <p:sldId id="292" r:id="rId77"/>
    <p:sldId id="293" r:id="rId78"/>
    <p:sldId id="294" r:id="rId79"/>
    <p:sldId id="295" r:id="rId80"/>
    <p:sldId id="296" r:id="rId81"/>
    <p:sldId id="297" r:id="rId82"/>
    <p:sldId id="298" r:id="rId83"/>
    <p:sldId id="299" r:id="rId84"/>
    <p:sldId id="300" r:id="rId85"/>
    <p:sldId id="301" r:id="rId8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slide" Target="slides/slide15.xml"/><Relationship Id="rId56" Type="http://schemas.openxmlformats.org/officeDocument/2006/relationships/slide" Target="slides/slide16.xml"/><Relationship Id="rId57" Type="http://schemas.openxmlformats.org/officeDocument/2006/relationships/slide" Target="slides/slide17.xml"/><Relationship Id="rId58" Type="http://schemas.openxmlformats.org/officeDocument/2006/relationships/slide" Target="slides/slide18.xml"/><Relationship Id="rId59" Type="http://schemas.openxmlformats.org/officeDocument/2006/relationships/slide" Target="slides/slide19.xml"/><Relationship Id="rId60" Type="http://schemas.openxmlformats.org/officeDocument/2006/relationships/slide" Target="slides/slide20.xml"/><Relationship Id="rId61" Type="http://schemas.openxmlformats.org/officeDocument/2006/relationships/slide" Target="slides/slide21.xml"/><Relationship Id="rId62" Type="http://schemas.openxmlformats.org/officeDocument/2006/relationships/slide" Target="slides/slide22.xml"/><Relationship Id="rId63" Type="http://schemas.openxmlformats.org/officeDocument/2006/relationships/slide" Target="slides/slide23.xml"/><Relationship Id="rId64" Type="http://schemas.openxmlformats.org/officeDocument/2006/relationships/slide" Target="slides/slide24.xml"/><Relationship Id="rId65" Type="http://schemas.openxmlformats.org/officeDocument/2006/relationships/slide" Target="slides/slide25.xml"/><Relationship Id="rId66" Type="http://schemas.openxmlformats.org/officeDocument/2006/relationships/slide" Target="slides/slide26.xml"/><Relationship Id="rId67" Type="http://schemas.openxmlformats.org/officeDocument/2006/relationships/slide" Target="slides/slide27.xml"/><Relationship Id="rId68" Type="http://schemas.openxmlformats.org/officeDocument/2006/relationships/slide" Target="slides/slide28.xml"/><Relationship Id="rId69" Type="http://schemas.openxmlformats.org/officeDocument/2006/relationships/slide" Target="slides/slide29.xml"/><Relationship Id="rId70" Type="http://schemas.openxmlformats.org/officeDocument/2006/relationships/slide" Target="slides/slide30.xml"/><Relationship Id="rId71" Type="http://schemas.openxmlformats.org/officeDocument/2006/relationships/slide" Target="slides/slide31.xml"/><Relationship Id="rId72" Type="http://schemas.openxmlformats.org/officeDocument/2006/relationships/slide" Target="slides/slide32.xml"/><Relationship Id="rId73" Type="http://schemas.openxmlformats.org/officeDocument/2006/relationships/slide" Target="slides/slide33.xml"/><Relationship Id="rId74" Type="http://schemas.openxmlformats.org/officeDocument/2006/relationships/slide" Target="slides/slide34.xml"/><Relationship Id="rId75" Type="http://schemas.openxmlformats.org/officeDocument/2006/relationships/slide" Target="slides/slide35.xml"/><Relationship Id="rId76" Type="http://schemas.openxmlformats.org/officeDocument/2006/relationships/slide" Target="slides/slide36.xml"/><Relationship Id="rId77" Type="http://schemas.openxmlformats.org/officeDocument/2006/relationships/slide" Target="slides/slide37.xml"/><Relationship Id="rId78" Type="http://schemas.openxmlformats.org/officeDocument/2006/relationships/slide" Target="slides/slide38.xml"/><Relationship Id="rId79" Type="http://schemas.openxmlformats.org/officeDocument/2006/relationships/slide" Target="slides/slide39.xml"/><Relationship Id="rId80" Type="http://schemas.openxmlformats.org/officeDocument/2006/relationships/slide" Target="slides/slide40.xml"/><Relationship Id="rId81" Type="http://schemas.openxmlformats.org/officeDocument/2006/relationships/slide" Target="slides/slide41.xml"/><Relationship Id="rId82" Type="http://schemas.openxmlformats.org/officeDocument/2006/relationships/slide" Target="slides/slide42.xml"/><Relationship Id="rId83" Type="http://schemas.openxmlformats.org/officeDocument/2006/relationships/slide" Target="slides/slide43.xml"/><Relationship Id="rId84" Type="http://schemas.openxmlformats.org/officeDocument/2006/relationships/slide" Target="slides/slide44.xml"/><Relationship Id="rId85" Type="http://schemas.openxmlformats.org/officeDocument/2006/relationships/slide" Target="slides/slide45.xml"/><Relationship Id="rId86" Type="http://schemas.openxmlformats.org/officeDocument/2006/relationships/slide" Target="slides/slide46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dt" idx="112"/>
          </p:nvPr>
        </p:nvSpPr>
        <p:spPr>
          <a:xfrm>
            <a:off x="3938400" y="-360"/>
            <a:ext cx="302868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sldImg"/>
          </p:nvPr>
        </p:nvSpPr>
        <p:spPr>
          <a:xfrm>
            <a:off x="1174320" y="693720"/>
            <a:ext cx="462132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body"/>
          </p:nvPr>
        </p:nvSpPr>
        <p:spPr>
          <a:xfrm>
            <a:off x="907920" y="4389120"/>
            <a:ext cx="5151600" cy="4235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ftr" idx="113"/>
          </p:nvPr>
        </p:nvSpPr>
        <p:spPr>
          <a:xfrm>
            <a:off x="-360" y="8856360"/>
            <a:ext cx="30272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 type="sldNum" idx="114"/>
          </p:nvPr>
        </p:nvSpPr>
        <p:spPr>
          <a:xfrm>
            <a:off x="3938400" y="8856360"/>
            <a:ext cx="302868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0FAEAEA-3972-4471-94E0-5ECF6C889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Rectangle 7"/>
          <p:cNvSpPr/>
          <p:nvPr/>
        </p:nvSpPr>
        <p:spPr>
          <a:xfrm>
            <a:off x="3938760" y="8856720"/>
            <a:ext cx="302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2E4812-DA52-4B9E-9F98-7EFE4FC1BE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92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Rectangle 7"/>
          <p:cNvSpPr/>
          <p:nvPr/>
        </p:nvSpPr>
        <p:spPr>
          <a:xfrm>
            <a:off x="3938760" y="8856720"/>
            <a:ext cx="302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C24D910-B7C3-48ED-B1FD-6207F20A37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lusion cues seem to be very important in grouping.  Most people find it hard to read the 5 numeral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Rectangle 7"/>
          <p:cNvSpPr/>
          <p:nvPr/>
        </p:nvSpPr>
        <p:spPr>
          <a:xfrm>
            <a:off x="3938760" y="8856720"/>
            <a:ext cx="302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4E03DB-02D1-405E-A826-E3C465693C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83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asy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7"/>
          <p:cNvSpPr/>
          <p:nvPr/>
        </p:nvSpPr>
        <p:spPr>
          <a:xfrm>
            <a:off x="3938760" y="8856720"/>
            <a:ext cx="302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B44AD4-03AB-4885-BF66-2186313F92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Rectangle 7"/>
          <p:cNvSpPr/>
          <p:nvPr/>
        </p:nvSpPr>
        <p:spPr>
          <a:xfrm>
            <a:off x="3938760" y="8856720"/>
            <a:ext cx="302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B5BCFF-388B-4294-9600-31AB68B0A1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5BB-1C01-4865-8899-CD5DC756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522-40E8-4CE4-9637-0856CB4B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1A3B1-4F5C-47C8-BEC2-EF4846D8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20029-54B7-4D78-B564-B487F887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84033-A1FA-4745-A07F-E83157A3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324C5-0DDD-455A-B78F-EC06C83E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4ED14-6248-4506-86C4-F0310EFE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95EC2-586D-4C48-B3A1-29E61D1E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C0881-4A04-48D5-8F61-D4148DE0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AEB5E-2A22-4146-8A42-D10C8FDF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C52D1-691A-46EC-9239-B3D00C71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B1FA4-3F99-4344-A39A-83A7886B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0DD-8FBE-47C9-ABFA-7020C6B4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B9401-DAC3-498F-BAB7-0C62546A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4C419-392A-4024-AF6C-BABD25D3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E480F-8FE8-4BA4-8BCF-9AB978D6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45B24-56B8-49E1-B991-60D0CD5C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99CD7-E8DE-440A-800C-089FB4F6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9D76C-A5C5-47AD-BD3B-DC633F3A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09012-69BC-490D-97D9-AFD94BA2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D7908-69F3-403C-BD70-E050B8A7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8F8CD-3F5A-4C37-89A6-47492875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B3C3B-C9E1-4527-B185-B1334EE6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FC6-E4D5-4A17-9252-40540ED4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5A9DF-89E0-4D01-AE5C-230D8306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A225D-E4D2-44A5-82AB-12D92921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30264-FC4E-401F-881A-ED4A505E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F35A2-3373-44D6-A1CA-34643AA1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54722-516A-416D-AB0F-7889AD44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03FA6-D41F-41BD-B992-441AB202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ACE48-1D6F-48EB-B315-9C2FC697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4BDD9-0396-4699-BD42-FB40CF9D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2861E-B6D7-40BA-A914-4BC20257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D4201-67A0-4DBE-8A68-910DD846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6CD7-2624-4871-9286-A780B9B1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11440-10FE-4C0E-ADD2-4AFA125D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ED83A-3A37-4FDA-B967-5A3B7A1C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20365-1EFD-4385-8E82-05C7053F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81029-A32D-401D-B16E-A71EE0F5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D6269-D07B-4246-ADC2-8A3B44C3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EEE10-87E3-4992-9FD6-07A81596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906F6-AA9C-42D6-815C-EB2B4C31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B414A-6C63-4FB9-94CB-EBCB799C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BAEFA-8B93-41A4-BF10-0B00307D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2F53D-8137-43C8-917D-408A2EC9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0661-AB17-425B-ADC0-F9E06A5D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EE3BF-0ABD-4BBA-A3CA-690212CE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A1EBE-8BBC-4A54-8B61-453CDA0A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BC47E-B463-4CC0-9277-DE7AE9D5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4BB47-679C-42CE-A964-D3C75DB6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4822E-4928-48B9-B128-4E134F88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A107F-7B02-443E-9669-28F01757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558D2-F713-4194-88A0-8C15DAFD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15477-82BD-4436-8E8B-8CE53762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7F204-BAE6-4EA1-9BDF-91903D86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C927D-A595-4AB3-9883-4C200E5A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9893-2F64-4AC4-9BED-0B5BFA77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9E300-225D-4FC5-9790-2E06828F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AAFCF-1B16-4BFA-8879-4678CC09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A9B2A-3E18-470C-B832-BAFDA6F0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21A41-42EE-411C-9AAE-CA015DFF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E2A02-5D6B-4E4B-8D35-AF62CE9E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3F8CA-2611-4A70-8A1C-983D2A03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342D2-241A-421E-B61F-0E684730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20A5A-0E05-4E40-9869-F1D4861F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5E534-6C29-4CEE-8459-C821EA51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B7364-49A8-4F77-A9A2-5F775134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A571-CE39-4983-868B-A7D8E486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E26ED-6B29-4499-919E-5E0653F6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3094B-2500-4964-8DCC-02F2F240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7A7CDE-D771-497D-A9EF-6907A25E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8B8E3-9F94-4EAF-B014-6619AB3C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D4ABA-908D-4A85-8255-BA7B0B21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FA310-EA44-4510-A93F-B4B5BF9D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6B161-255E-4A5B-A4BC-EDFC2C3A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C67CD-A561-40F6-A3F0-DA8A2D71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C10CB-5E87-4A22-9489-3CCE019F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8E33C-C44F-496D-8D4F-D4735057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2CA7-08A9-487E-9612-5ACB1E96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4994DF-C8A4-4AF6-B482-CA6ECAF9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E43830-7A72-46DB-BBC4-4BC77EBB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17055-DD8B-4220-A562-0611E8CF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95C6F-CD7F-49FC-95DF-D1DB9E8F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D6DF4-91B6-4126-B5F6-0569ABF4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9AF2A-753A-4ADB-855D-C415EB37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44DF5-968C-4461-B239-3218FBBC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0CBC9-2F5D-4798-B521-0BF66DF7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B96D9-8D79-48C2-A98C-EEA597FD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4EABC-B2F2-4DE3-BD81-633126B8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8D9D-924D-4104-81B2-1DEC0C14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B022B-EF35-4046-BB72-8A307A3C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5FFC-1C6B-4E9A-A6E7-F82192E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415BD-EF61-4BB4-808B-E817541A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1927E-BDB3-413E-95AB-FCD0010B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4081C-EFD9-446F-B9B3-CAC0E63E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94B57-644E-4C02-BDC4-749BAF0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DFF4A-F715-4E1C-8AF8-DEBA43B7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CD5AF-FD69-44C1-83DB-A2067E8A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AEDDB-D180-4C09-85D8-966E918B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6E2-B21E-4078-9632-6AF05411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C6F7-BCB8-4DC3-8061-F5035B7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DF85A-887B-4083-9E44-96B0E5AB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422BF-A055-4E78-BB62-264DAD6E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FFC1F-7066-4185-81E0-146919EA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A4E79-1893-45FD-AB1A-BA13A781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E9B90-5D1A-4704-A228-2E7EF706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02AA4-C03D-414C-9AFB-5478BBDD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0AD6F-D934-404A-9DC8-97E47FB4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844D6-CF7E-4DAB-9B2D-6AAFEB84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7E298-A284-4127-B4E5-355D10C1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4A06B-EEB2-4941-A5F5-28B9946E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BDEA-53D6-4ABE-8B16-379F1033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1DC19-6DC9-4725-816F-28682FB8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7CA28-307C-4C8E-873B-9A5E57D8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A6493-E472-4674-A0C7-0A7446D1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9BD35-B9B9-4C2C-A0B7-E8D965AC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076E1-440B-44F7-A3C4-2EE129EF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0AF213-AC67-4492-8189-AB1DB01D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2F8F8-24DB-4AE2-8113-25F92D08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5F9CC6-16B6-42A7-AB1F-C9BB89B4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74B36-66A0-4D66-8C8A-47FD4B07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877BF6-C306-4E67-8103-EEA3FEB7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C26D-F157-4417-AEEA-6A9C94AF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8B180-39E3-4E0C-A9C4-4D2ABD8F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0712F-3F23-4D9C-B4E5-31B46685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790A0F-A968-491B-8C0A-3FB76853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8D8C4-3F65-4CD9-8065-FA6B8A67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39FBF-948A-4C92-A4FB-474BDEC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6BF79-D741-4DDE-9C2F-73CED621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9C33B-815B-4C87-99C2-B4D09F99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B4E6AD-BA71-4C3C-ADAB-0A5730D2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2A0D48-E9A3-4E0F-97C6-D09FD0A2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6D0C73-3BBA-4B3A-AED6-B803B512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F038-45BD-4049-BD2D-6F648B29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8692E-D248-4BE6-A97D-C31DF341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92598-710D-4720-BCD5-3EE4F810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6F5FC-1397-449D-BDDF-373FFDC2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6B0AD-D2CB-4D9C-89EC-00E23EF1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25758F-7827-445A-96D3-FDBD167B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3200EF-FF38-4E2C-B741-441B5846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92F720-4B79-4662-B104-25E4C170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C877A4-8B1F-4B10-93C7-D9B659A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DEE01-9CFB-4EF6-A9CA-C8D11062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49515-9535-4141-B9E7-83EA4B06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F248-B1E0-4EC4-9DC0-41D26E8B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A4610-A74D-4B38-9A3B-A032EC21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13D77A-758B-4BE1-BCB5-DCD02A8D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70494E-D264-4165-ACA4-04B1D13E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65574-6FDF-4FD9-B478-18CA7503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A71E5-B318-406B-974C-B62C2CBB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E7FFCF-6AC3-4F71-BBD1-37F3FCB9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30170A-A386-4A1E-975C-C6766471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0A7DE-4A35-483D-A4E6-70DBE9A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346DF9-9170-4478-9CB1-32C4471F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3118D7-4AEB-4F65-8890-A71AB55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3003-8B69-4FF8-924E-F305C639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61077-1DAD-41C8-98B0-A4A3FC4F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6905D-BAFE-4626-980F-D144D877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A9C610-9386-4AE5-9863-2EB58471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BC838A-530D-41F9-9B97-86C99EBB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650B30-039C-4214-B9B7-322E7452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8BF9F5-E06F-4D82-809D-B459A265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EE4C4C-DB9F-4BC3-BB31-2BBE4C55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89B3E4-F549-4459-A721-30F679D6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9012C8-E029-41DA-881F-363467C1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A8404F-C40A-443B-AD7F-C3A1BA71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E6AF-4E1A-4BC0-B329-B15BA61F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7E4DDB-19DA-4455-AE41-C7A752DD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70DE5C-DDAE-4A6E-B6F5-81E7FE9F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F6C6F9-3C1D-4776-B87A-4A62FEA5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3A2C92-0C9A-4091-BB0C-73F9091F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8F0FD1-8FC5-450B-942E-2602E9ED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9442DD-3A12-4817-8880-7CC90819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4B651A-0ED1-44FA-9A98-F5A88C7C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EB5403-0BE7-4F0C-B4FA-25234DA0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D9923F-22DA-4D66-91C1-32DFE826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DC1457-CD6C-405C-AEA1-220F44B7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838F-DB56-473E-A023-9C6742DD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8CC723-2B2B-4DD0-955F-2ECA898F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1110EB-BBA8-46E5-93AC-F21E15A3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59EDBB-4DEE-4F06-A328-8F78FA0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ABC780-0234-48BB-B520-D4AB5177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4AEDD2-750E-477A-B714-C8D1CC7A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D297E8-F147-48D6-A04D-1AFF8B15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AA9D5F-C386-42C9-9FD7-537F7EA3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380353-1342-4753-A693-B58C7B18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18920A-C4D7-47E0-AE72-15ADBCA3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D8851B-1B64-4085-BC9D-BA26F9F3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C84F-D3A1-468A-AE07-765C793B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102EFD-8E57-4BAD-BF06-91113BDD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7F6490-6BB7-4907-BC9F-C61268A9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659C49-DF71-4617-AF95-EE597843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F4E0D3-90AA-4FCC-AD42-5E95767C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0E7E42-4840-40A3-B3B9-F4C9D95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1B7220-5C4F-4F09-92E8-2FA7C797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8511DD-F695-40AF-B8F3-BF38EAE1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A46E7F-2309-42A0-A6CF-746C821F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A4570F-41E2-4927-93F2-D2E4C261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684479-8778-4691-8EC4-526E1097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84FA-E339-4437-88BB-36C6E5FA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86C727-6207-4998-AF48-D184A284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30BB5C-2862-4AA2-A16A-9436A997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FEF172-9296-40FD-A345-3D181D71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289ED7-A648-4200-ABC8-3B62AE17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2BEA7C-1A61-4932-A832-2D122778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7975D7-3793-4107-B50B-E13E071B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CC0DC6-24DF-4421-B92F-AE47EA4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A9654D-418D-4F4A-AC56-7F31628B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AC85AB-DA19-4BEC-9116-5265D03B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976946-6CB5-4C5A-A45D-8761ABB3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AA7-BE72-4D4D-A5C4-80156442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46AA-0925-4BA7-99A8-20CBFDCE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988071-3F00-4266-A0A7-F90FDC08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77B81C-B303-4FF4-AA8C-858D3D2A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3D72DE-AFCF-4C76-BFC1-11FEB14F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2AB2C2-D4A6-466B-8C77-3C9C1F75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C630FE-1869-48DA-9248-BAE185C7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EE7D9D-A160-4E18-A045-C5E1FE57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886EC8-C84F-4F3A-A3A5-5AD7B5B9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70CE7C-DDAF-413E-B080-DCD7CE38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41BC55-239A-49C5-AF26-5E773BED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9126A8-92CA-4288-98CA-7DE37C5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F116-860A-47BA-912C-60DC3520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AB1C08-9894-458A-82B1-DF8073F5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DD6EDF-1009-4C05-87A1-F1484E9E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6530C4-BEC4-41C9-B8FC-D464AC99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87174A-743C-4041-BACD-FAC3975A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831304-2586-4987-8FFF-563EBCBB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F866B4-CB22-4A71-82A9-53CECE5C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01E669-5EBE-4DAD-BA7D-49268184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DF53DF-6646-4842-961B-E30850AF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176A65-6F1D-42E1-A0D9-668A3970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A412CC-0F5A-4315-A6BD-A833420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F67DE-8BBF-48DE-BF03-C6864FC6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6DD9BF-5506-4C9A-B839-21087DEC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D993D3-6B12-4D6D-ACE4-44197DA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CEB3E9-44D8-4263-A2C3-4804457D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04F810-AF40-43A7-B03A-8C66DA22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F54D48-7A8C-475E-B17B-4E7748A3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6BADF6-4635-4F59-B80C-F6338838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CEBEC2-AF64-4D13-A6C5-A780E932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B55656-6D1B-4053-8D16-29B1F95D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7823C9-3E74-4B36-952B-16F56EC6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FADB38-F8D3-4F12-BED2-4B405BBF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6261D-ECDD-4D9B-BF47-D755822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ECDE4A-709C-4A44-9E1B-477542B7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2F00EC-44AA-4672-BD28-837572B0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1170CF-B4E7-41F5-B8E5-1687E666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3DFBAF-0253-4C35-902E-29E775E0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503BF7-A790-4276-8DAE-FC067A20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620A18-9DCE-41CD-9312-FEC002EB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C98522-8496-4C83-9B97-FC33BC83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760CA7-AED1-428D-B905-CF265E5B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36413B-4FA0-48EB-A4F1-962A7F35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6C1761-72E8-4E43-9625-7A1F5803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BC9E-587B-494B-9E94-90183036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64F2EE-468B-472D-AE9C-8AB15AC6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F567C7-EC72-4536-AFAB-9B58127C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56B263-CE50-4086-A14B-F514A375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2FECB5-8D63-4E3E-B9EB-4854FB28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67CA53-FE12-4EFC-87D1-FCD6252E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9F91A1-687B-4D92-B883-A69F1CCC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B5B59F-74A4-4582-9D10-535F4790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C5EB43-D1B5-4871-AF21-9CAB64A7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9BD1EC-DD10-48E6-81BA-4D33DC5D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220E32-DD02-4AA6-B97F-32307218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CCE2-0667-4BCE-B0DC-D8A962D6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16F3B4-9962-44DD-A522-346CCE60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C31F1C-C5BF-4F49-82A0-E631D0DB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7786CB-3614-4953-AD00-3A61B38E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631F1B-23AB-4767-A62B-5647418F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A9F028-5E10-4389-908F-35D67947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319D10-45A9-45FE-B0E0-45AB801E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83B887-07CE-49AE-A6F3-0EB9F11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849829-5778-4086-8631-4D9FBF16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64A780-B70F-4CE2-B267-B61ED000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1250E5-D802-413D-B91F-A735D9E1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1C36-3C3F-4AD8-929B-EDF12B75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82B641-F1A9-413C-9F7E-7F491E07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FF8971-FB9C-470B-9727-F0A5CAED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8B1571-591E-46C2-8D5C-8AE87E22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1C7FA8-EC11-40D8-81A8-99539F5C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33220C-6F22-4EF9-921E-A1727623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FE4713-131E-421F-8CEB-2BFFA352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67E944-E638-4890-8DC0-534C72CE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4D1028-03F2-4043-94A8-F72F2CC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51D8DF-2563-46A5-ACD0-919D3530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BC2AAD-972C-496C-B506-539041E9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4A337-E4B4-44DC-A5FD-60D2A979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5C1217-D477-4523-BDF2-234AF0C9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9EBECD-87B2-4C7A-B51E-737D4F2D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545BE4-5EB2-41F8-8F0A-375294E4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F23572-79EB-4ADC-980D-1F105700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524464-7BC9-46C1-A1A7-C6C02C7E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3A4820-EE7B-4DC6-AA2D-4941291A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9BE1A0-7504-4A79-B945-C2B20105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62C9AF-E243-4A21-BE9C-B8AA31A7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86A33A-8051-4C6D-8A6E-B7AFA799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53F080-8535-45B5-8BA6-34B30072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75459-85E3-4D65-B761-D49E3D54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B74F5E-6426-440E-BBB5-3D09663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10FCA3-2F00-4B12-821D-1957AF4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D599FC-324C-43E4-9E72-D399A7DB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504DA6-4170-4079-B250-612D9605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DA051F-DE78-436A-9663-70B97651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631884-65DD-463F-BCF2-FDA208A0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1A2CD5-3D20-4269-824C-723B36D5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DE8961-B95F-492E-B3C2-E0317D26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9BA966-4B4D-4663-93C2-FEFDC438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B363C4-4A94-4CA5-9056-4045DE05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72D3-9EF5-4F4A-B046-C0A9AAA7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4A1640-D095-46D6-976F-5503D6BD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9284A6-7413-435B-929C-50F9C6C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E664B7-4D67-4823-BAAB-EEE6F24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1E4E76-5E60-4B5B-B298-03B7AD74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72F079-E449-4A72-AA9A-303C3BDB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0527EB-574C-4785-8994-FB5445F3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C4F223-B3D0-4738-8A12-CA4DBFF1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AE771F-0C36-48AA-B568-29175DA9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55CBC3-DD01-4DB0-9A2F-B2CC248E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A0CBA3-07DC-432D-B5CF-37D425C1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B16-A400-47C8-8983-5B250221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5447C-6134-4558-9028-730BA06B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54B405-B17A-4E5C-AD4E-F02B2110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E53C65-E564-4BD5-BDC2-87A7D7DD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AC8E61-0670-425A-9113-DFE32FB8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9C3BA7-A1AE-4FB7-B2B4-94DFDFC7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EB6EE8-5927-4F15-AD38-9ECC8FC9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EF2FB8-F614-40AB-957D-87B56D81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57183B-EAD3-4656-B20C-7447EF9B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C056CF-9A9E-4A5A-A590-213AA73A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9CDC8B-79FE-4377-BF0E-8C0845A1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E97151-85FA-4496-92C3-68326E97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3C6EA-E3B1-4BB3-B758-F7061530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C573B8-F7E9-4FA7-A3EC-9A419DD8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0DCB04-826B-47B1-A752-36D179C0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5215F7-E211-4F8D-A66B-D7259BC0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60EA98-5B8F-496B-BC62-327E948C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6993FC-0B84-4F17-9068-384649F6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5E95EB-F66C-48DB-9CC6-42DF8F3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C1FE66-6110-4055-8C3A-AADE31B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9D6732-7DDF-4EDB-ACE1-189F147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569D8C-B473-4884-A07D-4CC1CC93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DE1F5F-2D2C-46F5-A41D-F27FF08C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D74E6-155F-494C-9026-70DF00C3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D082D5-F006-4F2D-937B-60776084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264B60-8604-49F0-ACDF-D90DA063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DCFC59-56DE-4D60-B4D6-C75ABACD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8C4A9F-42EE-45F1-9D75-BDFC78DE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606A4E-501B-4AD4-9FE9-8AF9825C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1C2360-9E9D-46F7-B30B-8133E21F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A81B65-6129-44F6-A01A-B064A8C9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33D9EA-4A60-4D53-80AA-6EEB5C29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46E376-B9F4-4FD6-BA9B-140F4EBA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97D509-C70A-4079-8CD6-1CBAF082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E923-607F-44E9-A355-FBF67179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99EA15-671C-414D-B8FC-AA6BC26F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70C1C1-6059-4869-97AA-563EEE24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D36533-38D4-4E95-ABED-ADA970FA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ABBD87-10B1-49F9-A446-F716EA4B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60EBD5-8209-4CEA-9A9F-3B6D52A4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88545C-6568-4FC5-8164-D1E6F998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DBD856-7C47-4BA1-A8DC-C42C80D2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BD517D-3032-46FF-9A18-6647B4EE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57CCCB-B919-405D-AE65-C24B16C5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3D568A-D5A3-493D-A3AB-09AD5C62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04C66-E72C-4E31-B2EB-4D8C2C3F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32B8E9-85A1-4CDB-A0A9-08A8FEF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4B44A6-5A6A-4711-B3AB-FE9DFA1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68FE3F-BB81-4854-98A8-23674C8C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6518F3-026A-4B63-BFC4-9662FB8C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1DA0B9-50F7-410C-9269-63290CDA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68F37B-822B-495B-BB24-2A47696E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F06B5B-5D2E-4D8E-AE97-8483D6BB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ACB887-C5C3-4854-8A0B-05428594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7CD108-ECA8-4D62-89F0-DB12C7A2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1893E7-CBA2-4C00-B70C-48CF6AB1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BE95-177A-4702-AB2E-80C24C3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C85FF3C-99C6-4348-9EC5-975BAD14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C5E130-6C44-4CF1-8904-5DBA4808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FEE908-67F0-455B-99FF-B1EC85AA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D8FBC7-1B95-4095-B725-54100A16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5192198-5582-48A5-B341-21B91E8E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1D885D-1278-4E5E-BA7B-B5B59916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457B9A4-C75B-4B93-8653-9AF01A2E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8E21A-0D7F-4D10-A440-3BA649E2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FF895-AE70-4BD0-B824-C37430D4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735DE-A633-43C0-AED4-E78DA0D5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1C0CE-27F1-406E-BA0C-BDBF5F74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EE9-4502-4F77-BBBA-5D1A59D0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E91D-FE17-4E0F-88F1-B1E1AC90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74A5F-04CD-44BE-8BCD-071B28BA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A5EC-ADC1-4DD5-AA8B-40295674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82D0A-9823-442C-ADFA-2D006764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F5F5-4780-402A-94C0-D8EAC5D3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6AF35-7D4F-4EA6-899D-B4771F7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07A95-BF52-45A3-BDFA-A349ECD2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877E4-3177-411C-B768-6E3C47E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F02A3-A0DB-45EE-B941-5DA7ED8D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CA86C-BD75-4F7C-8E8C-D27D497F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871-CFFE-49FF-AED9-39CD4F36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B1B82-CAAD-4A6F-8FE6-82A5BD76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0CE33-8869-4766-89F7-A49F1A76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D9284-D866-46B5-BCF2-2D6F501F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39946-01D3-42CC-8F9F-A336BC7F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580E8-84C9-42B5-9DD7-B005DC41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97E8D-14BB-4E66-9806-F0595A89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2BCF0-A0CB-4D55-9DF7-14A3C98D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81D2E-5CBB-4F0D-9A12-E59F4B7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F311F-F4A2-4574-B345-968D0FB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1A67F-A667-4FB9-8D4C-2CB00924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84E-8C38-49A7-9710-7BD5C9AB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ABD49-5022-4E55-981D-E4BFDC66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3DAC2-FFF3-4ABF-9435-17FE6E09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F8F8D-AEEA-46D8-946D-117F601E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D9871-A770-4000-8406-F9E89B5C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389A8-FF0D-44C7-889B-BDB26172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DBEEB-2A7F-4E37-AC3A-57AE658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B4DD0-09E3-4B2A-A24B-3942E023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16771-239E-4301-A03A-733E472A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15449-CABB-460E-A0DD-1A3E2DFF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7B754-BD15-4C18-87AA-9A654155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983-E63A-4E45-ACC3-A0B34802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36DFA-3A57-406B-89B2-020902A7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69637-0A94-44B1-9770-9AB525EA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B1A3A-9D45-4F2A-A9DF-B697AEB1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1EC90-A822-4350-B167-45167D7B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4C94C-A1CE-4B0D-BD55-0C670CFE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943CC-D41F-4CC4-93A2-339C9789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E1AC3-71A0-4641-AA82-29D551AC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97CE4-0820-4D0B-8AE2-1397B37F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D5373-0077-423A-A325-F1DA445F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05A72-3708-44FA-83D3-142F90F1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5E5-881B-4764-A920-786D6DC0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33341-5645-411C-BF87-F1594A60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C04E5-AB25-4C1F-A9E8-187E2A1C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22084-3E11-44D5-99F3-E2C6D132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CAA07-C109-4F55-888D-308F93D4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2FBB6-4763-4DCF-9AA0-388ED4E4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8BBC9-F807-4DF2-9011-EA5CF0FB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CCF88-6ACD-49BC-B796-A92DE682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B1512-8995-48D8-BB88-DBFBC381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A5E19-7BF2-4E14-A12A-D01DDC63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7A83D-61F6-4D10-BDFE-9838BB1D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8E3A-9500-464A-B31B-BF7635EFF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60D2-16ED-41AD-ABC3-05F947271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2BF7-CB10-4A61-9EC3-50EE6EA7B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F2DB-7127-4150-8A22-117BE4106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3002-AF00-4639-ACA7-D6EC14A87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2654-899B-46DA-B595-4B7F52611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F4AD-AF18-4539-A55A-6A8C86A2FD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52BB-8F06-477D-969F-412BB993E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B2D9-3830-4341-B558-BFF64DC95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4D71-661B-4B84-A47F-448BF6EBF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5F0A-6D41-494E-805D-C2903F52C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8CD2-2485-41A8-8963-F1647FFB5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514B-46C6-4ADE-9C9B-5A126488A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D27C-4D1B-47E3-B660-CC6E56156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019E-6D0D-4521-AC87-4F4056836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ADC3-3AF1-4412-A5DE-6273709DD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39DC-B82E-4408-8810-33303245D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9CBC-992B-4BCB-B690-C97EC09C4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3C68-788E-456C-9AD0-2294C75B9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EFC2-C1B6-42F1-9757-570BCEF2B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7ACF-968F-4856-8313-39EF5B050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98EF-0CB9-4563-9346-191D3E5408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0D16-85ED-4765-AE71-681358361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C2EE-86E0-495F-BD13-6BFCE31EE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6BE7-E77B-4DFB-9F6E-4AF0E7CB9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1D27-0292-421F-BCB7-0710764AD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5E52-150E-4AEC-B076-BB13A3B0C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7454-FE0B-4C9E-8665-438FF8F10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98F8-0606-4CC0-A129-ECA994AA5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E1FC-2D6D-407A-B900-8F454C87E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6694-6689-4A86-886E-6F94AD1F7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706D-8990-4567-8DAB-5ED3C50FC4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2148-F056-46D1-B5FE-06B1860D3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B96C-A451-479E-955B-8182411A9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F9F4-66DE-4784-9486-3ACA99EB43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4530-7C5A-499F-8F80-A4F5313AD6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3F0-AC41-4E4A-A3D1-16DFCDE76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arryz@microsoft.com" TargetMode="External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let.polimi.it/upload/matteucc/Clustering/tutorial_html/AppletKM.html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coewww.rutgers.edu/riul/research/code/EDISON/index.html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37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ai.ed.ac.uk/HIPR2/open.htm" TargetMode="External"/><Relationship Id="rId2" Type="http://schemas.openxmlformats.org/officeDocument/2006/relationships/image" Target="../media/image40.png"/><Relationship Id="rId3" Type="http://schemas.openxmlformats.org/officeDocument/2006/relationships/hyperlink" Target="http://www.dai.ed.ac.uk/HIPR2/morops.htm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  <a:ea typeface="Kalinga"/>
              </a:rPr>
              <a:t>Seg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SE P 5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Larry Zitnick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arryz@microsoft.com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Many slides courtesy of Steve Seit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togram-based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image into K regions (seg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is by reducing the number of colors to K and mapping each pixel to the closest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3" name="Picture 4" descr="fig_2_1_1"/>
          <p:cNvPicPr/>
          <p:nvPr/>
        </p:nvPicPr>
        <p:blipFill>
          <a:blip r:embed="rId1"/>
          <a:stretch/>
        </p:blipFill>
        <p:spPr>
          <a:xfrm>
            <a:off x="990720" y="3298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5" descr="fig_2_1_2"/>
          <p:cNvPicPr/>
          <p:nvPr/>
        </p:nvPicPr>
        <p:blipFill>
          <a:blip r:embed="rId2"/>
          <a:stretch/>
        </p:blipFill>
        <p:spPr>
          <a:xfrm>
            <a:off x="4572000" y="3809880"/>
            <a:ext cx="41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5" name="Picture 9" descr=""/>
          <p:cNvPicPr/>
          <p:nvPr/>
        </p:nvPicPr>
        <p:blipFill>
          <a:blip r:embed="rId1"/>
          <a:stretch/>
        </p:blipFill>
        <p:spPr>
          <a:xfrm>
            <a:off x="990720" y="32986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togram-based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image into K regions (seg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is by reducing the number of colors to K and mapping each pixel to the closest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8" name="Picture 5" descr="fig_2_1_2"/>
          <p:cNvPicPr/>
          <p:nvPr/>
        </p:nvPicPr>
        <p:blipFill>
          <a:blip r:embed="rId2"/>
          <a:stretch/>
        </p:blipFill>
        <p:spPr>
          <a:xfrm>
            <a:off x="4572000" y="3809880"/>
            <a:ext cx="4103640" cy="1822680"/>
          </a:xfrm>
          <a:prstGeom prst="rect">
            <a:avLst/>
          </a:prstGeom>
          <a:ln w="0">
            <a:noFill/>
          </a:ln>
        </p:spPr>
      </p:pic>
      <p:sp>
        <p:nvSpPr>
          <p:cNvPr id="1609" name="Line 6"/>
          <p:cNvSpPr/>
          <p:nvPr/>
        </p:nvSpPr>
        <p:spPr>
          <a:xfrm flipV="1">
            <a:off x="5138640" y="3809520"/>
            <a:ext cx="0" cy="1600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Line 7"/>
          <p:cNvSpPr/>
          <p:nvPr/>
        </p:nvSpPr>
        <p:spPr>
          <a:xfrm flipV="1">
            <a:off x="6781680" y="380952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8"/>
          <p:cNvSpPr/>
          <p:nvPr/>
        </p:nvSpPr>
        <p:spPr>
          <a:xfrm>
            <a:off x="685800" y="6099120"/>
            <a:ext cx="777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what it looks like if we use two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  <a:ea typeface="Kalinga"/>
              </a:rPr>
              <a:t>K-me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hoose the representative col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clustering 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2052"/>
          <p:cNvSpPr/>
          <p:nvPr/>
        </p:nvSpPr>
        <p:spPr>
          <a:xfrm>
            <a:off x="1219320" y="1981080"/>
            <a:ext cx="2361960" cy="19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Oval 2054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Oval 2055"/>
          <p:cNvSpPr/>
          <p:nvPr/>
        </p:nvSpPr>
        <p:spPr>
          <a:xfrm>
            <a:off x="1828800" y="2362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Oval 2056"/>
          <p:cNvSpPr/>
          <p:nvPr/>
        </p:nvSpPr>
        <p:spPr>
          <a:xfrm>
            <a:off x="17524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Oval 2057"/>
          <p:cNvSpPr/>
          <p:nvPr/>
        </p:nvSpPr>
        <p:spPr>
          <a:xfrm>
            <a:off x="1447920" y="2438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Oval 2058"/>
          <p:cNvSpPr/>
          <p:nvPr/>
        </p:nvSpPr>
        <p:spPr>
          <a:xfrm>
            <a:off x="2819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2059"/>
          <p:cNvSpPr/>
          <p:nvPr/>
        </p:nvSpPr>
        <p:spPr>
          <a:xfrm>
            <a:off x="2743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2060"/>
          <p:cNvSpPr/>
          <p:nvPr/>
        </p:nvSpPr>
        <p:spPr>
          <a:xfrm>
            <a:off x="32004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2061"/>
          <p:cNvSpPr/>
          <p:nvPr/>
        </p:nvSpPr>
        <p:spPr>
          <a:xfrm>
            <a:off x="29718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62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2063"/>
          <p:cNvSpPr/>
          <p:nvPr/>
        </p:nvSpPr>
        <p:spPr>
          <a:xfrm>
            <a:off x="198108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Oval 2064"/>
          <p:cNvSpPr/>
          <p:nvPr/>
        </p:nvSpPr>
        <p:spPr>
          <a:xfrm>
            <a:off x="22860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Oval 2065"/>
          <p:cNvSpPr/>
          <p:nvPr/>
        </p:nvSpPr>
        <p:spPr>
          <a:xfrm>
            <a:off x="18288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2066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2067"/>
          <p:cNvSpPr/>
          <p:nvPr/>
        </p:nvSpPr>
        <p:spPr>
          <a:xfrm>
            <a:off x="22096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2068"/>
          <p:cNvSpPr/>
          <p:nvPr/>
        </p:nvSpPr>
        <p:spPr>
          <a:xfrm>
            <a:off x="1600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2069"/>
          <p:cNvSpPr/>
          <p:nvPr/>
        </p:nvSpPr>
        <p:spPr>
          <a:xfrm>
            <a:off x="205740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2070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2071"/>
          <p:cNvSpPr/>
          <p:nvPr/>
        </p:nvSpPr>
        <p:spPr>
          <a:xfrm>
            <a:off x="20574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072"/>
          <p:cNvSpPr/>
          <p:nvPr/>
        </p:nvSpPr>
        <p:spPr>
          <a:xfrm>
            <a:off x="5410080" y="1981080"/>
            <a:ext cx="2362320" cy="19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2073"/>
          <p:cNvSpPr/>
          <p:nvPr/>
        </p:nvSpPr>
        <p:spPr>
          <a:xfrm>
            <a:off x="5867280" y="2209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2074"/>
          <p:cNvSpPr/>
          <p:nvPr/>
        </p:nvSpPr>
        <p:spPr>
          <a:xfrm>
            <a:off x="6019920" y="2362320"/>
            <a:ext cx="7596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2075"/>
          <p:cNvSpPr/>
          <p:nvPr/>
        </p:nvSpPr>
        <p:spPr>
          <a:xfrm>
            <a:off x="5943600" y="25909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2076"/>
          <p:cNvSpPr/>
          <p:nvPr/>
        </p:nvSpPr>
        <p:spPr>
          <a:xfrm>
            <a:off x="5638680" y="24382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2078"/>
          <p:cNvSpPr/>
          <p:nvPr/>
        </p:nvSpPr>
        <p:spPr>
          <a:xfrm>
            <a:off x="6934320" y="2438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2079"/>
          <p:cNvSpPr/>
          <p:nvPr/>
        </p:nvSpPr>
        <p:spPr>
          <a:xfrm>
            <a:off x="73915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2080"/>
          <p:cNvSpPr/>
          <p:nvPr/>
        </p:nvSpPr>
        <p:spPr>
          <a:xfrm>
            <a:off x="7162920" y="2819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2081"/>
          <p:cNvSpPr/>
          <p:nvPr/>
        </p:nvSpPr>
        <p:spPr>
          <a:xfrm>
            <a:off x="71629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Oval 2082"/>
          <p:cNvSpPr/>
          <p:nvPr/>
        </p:nvSpPr>
        <p:spPr>
          <a:xfrm>
            <a:off x="6172200" y="3429000"/>
            <a:ext cx="7632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2083"/>
          <p:cNvSpPr/>
          <p:nvPr/>
        </p:nvSpPr>
        <p:spPr>
          <a:xfrm>
            <a:off x="64771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2084"/>
          <p:cNvSpPr/>
          <p:nvPr/>
        </p:nvSpPr>
        <p:spPr>
          <a:xfrm>
            <a:off x="60199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2085"/>
          <p:cNvSpPr/>
          <p:nvPr/>
        </p:nvSpPr>
        <p:spPr>
          <a:xfrm>
            <a:off x="5943600" y="3581280"/>
            <a:ext cx="7632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Oval 2086"/>
          <p:cNvSpPr/>
          <p:nvPr/>
        </p:nvSpPr>
        <p:spPr>
          <a:xfrm>
            <a:off x="6400800" y="3505320"/>
            <a:ext cx="7632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2087"/>
          <p:cNvSpPr/>
          <p:nvPr/>
        </p:nvSpPr>
        <p:spPr>
          <a:xfrm>
            <a:off x="5791320" y="24382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2088"/>
          <p:cNvSpPr/>
          <p:nvPr/>
        </p:nvSpPr>
        <p:spPr>
          <a:xfrm>
            <a:off x="6248520" y="22096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2089"/>
          <p:cNvSpPr/>
          <p:nvPr/>
        </p:nvSpPr>
        <p:spPr>
          <a:xfrm>
            <a:off x="6248520" y="25146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2090"/>
          <p:cNvSpPr/>
          <p:nvPr/>
        </p:nvSpPr>
        <p:spPr>
          <a:xfrm>
            <a:off x="62485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AutoShape 2091"/>
          <p:cNvSpPr/>
          <p:nvPr/>
        </p:nvSpPr>
        <p:spPr>
          <a:xfrm>
            <a:off x="3962520" y="26668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2092"/>
          <p:cNvSpPr/>
          <p:nvPr/>
        </p:nvSpPr>
        <p:spPr>
          <a:xfrm>
            <a:off x="685800" y="4267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oint should be as close as possible to a cluster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sum squared distance of each point to closest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5" name="Picture 2101" descr="Edittex"/>
          <p:cNvPicPr/>
          <p:nvPr/>
        </p:nvPicPr>
        <p:blipFill>
          <a:blip r:embed="rId1"/>
          <a:stretch/>
        </p:blipFill>
        <p:spPr>
          <a:xfrm>
            <a:off x="5962680" y="2141640"/>
            <a:ext cx="285840" cy="22068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2104" descr="Edittex"/>
          <p:cNvPicPr/>
          <p:nvPr/>
        </p:nvPicPr>
        <p:blipFill>
          <a:blip r:embed="rId2"/>
          <a:stretch/>
        </p:blipFill>
        <p:spPr>
          <a:xfrm>
            <a:off x="6858000" y="2743200"/>
            <a:ext cx="301680" cy="2221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2105" descr="Edittex"/>
          <p:cNvPicPr/>
          <p:nvPr/>
        </p:nvPicPr>
        <p:blipFill>
          <a:blip r:embed="rId3"/>
          <a:stretch/>
        </p:blipFill>
        <p:spPr>
          <a:xfrm>
            <a:off x="6103800" y="3505320"/>
            <a:ext cx="301680" cy="23652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2112" descr="Edittex"/>
          <p:cNvPicPr/>
          <p:nvPr/>
        </p:nvPicPr>
        <p:blipFill>
          <a:blip r:embed="rId4"/>
          <a:stretch/>
        </p:blipFill>
        <p:spPr>
          <a:xfrm>
            <a:off x="2286000" y="5562720"/>
            <a:ext cx="5105520" cy="698400"/>
          </a:xfrm>
          <a:prstGeom prst="rect">
            <a:avLst/>
          </a:prstGeom>
          <a:ln w="0">
            <a:noFill/>
          </a:ln>
        </p:spPr>
      </p:pic>
      <p:sp>
        <p:nvSpPr>
          <p:cNvPr id="1659" name="Rectangle 2099"/>
          <p:cNvSpPr/>
          <p:nvPr/>
        </p:nvSpPr>
        <p:spPr>
          <a:xfrm>
            <a:off x="6172200" y="3352680"/>
            <a:ext cx="152280" cy="152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Rectangle 2098"/>
          <p:cNvSpPr/>
          <p:nvPr/>
        </p:nvSpPr>
        <p:spPr>
          <a:xfrm>
            <a:off x="7086600" y="2590920"/>
            <a:ext cx="15228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2097"/>
          <p:cNvSpPr/>
          <p:nvPr/>
        </p:nvSpPr>
        <p:spPr>
          <a:xfrm>
            <a:off x="5943600" y="2362320"/>
            <a:ext cx="152280" cy="152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2077"/>
          <p:cNvSpPr/>
          <p:nvPr/>
        </p:nvSpPr>
        <p:spPr>
          <a:xfrm>
            <a:off x="70102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24"/>
          <p:cNvSpPr/>
          <p:nvPr/>
        </p:nvSpPr>
        <p:spPr>
          <a:xfrm>
            <a:off x="5410080" y="2286000"/>
            <a:ext cx="23623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4" name="Picture 47" descr="Edittex"/>
          <p:cNvPicPr/>
          <p:nvPr/>
        </p:nvPicPr>
        <p:blipFill>
          <a:blip r:embed="rId1"/>
          <a:stretch/>
        </p:blipFill>
        <p:spPr>
          <a:xfrm>
            <a:off x="5962680" y="2446200"/>
            <a:ext cx="285840" cy="220680"/>
          </a:xfrm>
          <a:prstGeom prst="rect">
            <a:avLst/>
          </a:prstGeom>
          <a:ln w="0">
            <a:noFill/>
          </a:ln>
        </p:spPr>
      </p:pic>
      <p:pic>
        <p:nvPicPr>
          <p:cNvPr id="1665" name="Picture 49" descr="Edittex"/>
          <p:cNvPicPr/>
          <p:nvPr/>
        </p:nvPicPr>
        <p:blipFill>
          <a:blip r:embed="rId2"/>
          <a:stretch/>
        </p:blipFill>
        <p:spPr>
          <a:xfrm>
            <a:off x="6103800" y="3809880"/>
            <a:ext cx="301680" cy="23652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48" descr="Edittex"/>
          <p:cNvPicPr/>
          <p:nvPr/>
        </p:nvPicPr>
        <p:blipFill>
          <a:blip r:embed="rId3"/>
          <a:stretch/>
        </p:blipFill>
        <p:spPr>
          <a:xfrm>
            <a:off x="6858000" y="3048120"/>
            <a:ext cx="301680" cy="222120"/>
          </a:xfrm>
          <a:prstGeom prst="rect">
            <a:avLst/>
          </a:prstGeom>
          <a:ln w="0">
            <a:noFill/>
          </a:ln>
        </p:spPr>
      </p:pic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eak it down into sub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tell you the cluster center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 how to determine which points to associate with each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"/>
          <p:cNvSpPr/>
          <p:nvPr/>
        </p:nvSpPr>
        <p:spPr>
          <a:xfrm>
            <a:off x="685800" y="1676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 for each point p, choose closest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Rectangle 5"/>
          <p:cNvSpPr/>
          <p:nvPr/>
        </p:nvSpPr>
        <p:spPr>
          <a:xfrm>
            <a:off x="1219320" y="2286000"/>
            <a:ext cx="236196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"/>
          <p:cNvSpPr/>
          <p:nvPr/>
        </p:nvSpPr>
        <p:spPr>
          <a:xfrm>
            <a:off x="1676520" y="2514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7"/>
          <p:cNvSpPr/>
          <p:nvPr/>
        </p:nvSpPr>
        <p:spPr>
          <a:xfrm>
            <a:off x="18288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8"/>
          <p:cNvSpPr/>
          <p:nvPr/>
        </p:nvSpPr>
        <p:spPr>
          <a:xfrm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9"/>
          <p:cNvSpPr/>
          <p:nvPr/>
        </p:nvSpPr>
        <p:spPr>
          <a:xfrm>
            <a:off x="14479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10"/>
          <p:cNvSpPr/>
          <p:nvPr/>
        </p:nvSpPr>
        <p:spPr>
          <a:xfrm>
            <a:off x="2819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11"/>
          <p:cNvSpPr/>
          <p:nvPr/>
        </p:nvSpPr>
        <p:spPr>
          <a:xfrm>
            <a:off x="27432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12"/>
          <p:cNvSpPr/>
          <p:nvPr/>
        </p:nvSpPr>
        <p:spPr>
          <a:xfrm>
            <a:off x="320040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13"/>
          <p:cNvSpPr/>
          <p:nvPr/>
        </p:nvSpPr>
        <p:spPr>
          <a:xfrm>
            <a:off x="297180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14"/>
          <p:cNvSpPr/>
          <p:nvPr/>
        </p:nvSpPr>
        <p:spPr>
          <a:xfrm>
            <a:off x="29718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15"/>
          <p:cNvSpPr/>
          <p:nvPr/>
        </p:nvSpPr>
        <p:spPr>
          <a:xfrm>
            <a:off x="19810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16"/>
          <p:cNvSpPr/>
          <p:nvPr/>
        </p:nvSpPr>
        <p:spPr>
          <a:xfrm>
            <a:off x="22860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17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18"/>
          <p:cNvSpPr/>
          <p:nvPr/>
        </p:nvSpPr>
        <p:spPr>
          <a:xfrm>
            <a:off x="17524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19"/>
          <p:cNvSpPr/>
          <p:nvPr/>
        </p:nvSpPr>
        <p:spPr>
          <a:xfrm>
            <a:off x="22096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20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21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22"/>
          <p:cNvSpPr/>
          <p:nvPr/>
        </p:nvSpPr>
        <p:spPr>
          <a:xfrm>
            <a:off x="20574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23"/>
          <p:cNvSpPr/>
          <p:nvPr/>
        </p:nvSpPr>
        <p:spPr>
          <a:xfrm>
            <a:off x="20574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25"/>
          <p:cNvSpPr/>
          <p:nvPr/>
        </p:nvSpPr>
        <p:spPr>
          <a:xfrm>
            <a:off x="586728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26"/>
          <p:cNvSpPr/>
          <p:nvPr/>
        </p:nvSpPr>
        <p:spPr>
          <a:xfrm>
            <a:off x="60199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Oval 27"/>
          <p:cNvSpPr/>
          <p:nvPr/>
        </p:nvSpPr>
        <p:spPr>
          <a:xfrm>
            <a:off x="594360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Oval 28"/>
          <p:cNvSpPr/>
          <p:nvPr/>
        </p:nvSpPr>
        <p:spPr>
          <a:xfrm>
            <a:off x="56386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Oval 29"/>
          <p:cNvSpPr/>
          <p:nvPr/>
        </p:nvSpPr>
        <p:spPr>
          <a:xfrm>
            <a:off x="70102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Oval 30"/>
          <p:cNvSpPr/>
          <p:nvPr/>
        </p:nvSpPr>
        <p:spPr>
          <a:xfrm>
            <a:off x="6934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Oval 31"/>
          <p:cNvSpPr/>
          <p:nvPr/>
        </p:nvSpPr>
        <p:spPr>
          <a:xfrm>
            <a:off x="7391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Oval 32"/>
          <p:cNvSpPr/>
          <p:nvPr/>
        </p:nvSpPr>
        <p:spPr>
          <a:xfrm>
            <a:off x="71629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Oval 33"/>
          <p:cNvSpPr/>
          <p:nvPr/>
        </p:nvSpPr>
        <p:spPr>
          <a:xfrm>
            <a:off x="71629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Oval 34"/>
          <p:cNvSpPr/>
          <p:nvPr/>
        </p:nvSpPr>
        <p:spPr>
          <a:xfrm>
            <a:off x="617220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Oval 35"/>
          <p:cNvSpPr/>
          <p:nvPr/>
        </p:nvSpPr>
        <p:spPr>
          <a:xfrm>
            <a:off x="64771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Oval 36"/>
          <p:cNvSpPr/>
          <p:nvPr/>
        </p:nvSpPr>
        <p:spPr>
          <a:xfrm>
            <a:off x="60199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Oval 37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Oval 38"/>
          <p:cNvSpPr/>
          <p:nvPr/>
        </p:nvSpPr>
        <p:spPr>
          <a:xfrm>
            <a:off x="64008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Oval 39"/>
          <p:cNvSpPr/>
          <p:nvPr/>
        </p:nvSpPr>
        <p:spPr>
          <a:xfrm>
            <a:off x="5791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40"/>
          <p:cNvSpPr/>
          <p:nvPr/>
        </p:nvSpPr>
        <p:spPr>
          <a:xfrm>
            <a:off x="6248520" y="2514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41"/>
          <p:cNvSpPr/>
          <p:nvPr/>
        </p:nvSpPr>
        <p:spPr>
          <a:xfrm>
            <a:off x="62485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42"/>
          <p:cNvSpPr/>
          <p:nvPr/>
        </p:nvSpPr>
        <p:spPr>
          <a:xfrm>
            <a:off x="62485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AutoShape 43"/>
          <p:cNvSpPr/>
          <p:nvPr/>
        </p:nvSpPr>
        <p:spPr>
          <a:xfrm>
            <a:off x="3962520" y="297180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Rectangle 44"/>
          <p:cNvSpPr/>
          <p:nvPr/>
        </p:nvSpPr>
        <p:spPr>
          <a:xfrm>
            <a:off x="5943600" y="2666880"/>
            <a:ext cx="152280" cy="152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Rectangle 45"/>
          <p:cNvSpPr/>
          <p:nvPr/>
        </p:nvSpPr>
        <p:spPr>
          <a:xfrm>
            <a:off x="7086600" y="2895480"/>
            <a:ext cx="152280" cy="15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Rectangle 46"/>
          <p:cNvSpPr/>
          <p:nvPr/>
        </p:nvSpPr>
        <p:spPr>
          <a:xfrm>
            <a:off x="6172200" y="3657600"/>
            <a:ext cx="152280" cy="1522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Rectangle 50"/>
          <p:cNvSpPr/>
          <p:nvPr/>
        </p:nvSpPr>
        <p:spPr>
          <a:xfrm>
            <a:off x="68580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tell you the points in each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 how to determine the cluster cen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Rectangle 51"/>
          <p:cNvSpPr/>
          <p:nvPr/>
        </p:nvSpPr>
        <p:spPr>
          <a:xfrm>
            <a:off x="68580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 choos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the mean of all points in th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-means cluste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means cluster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ly initialize the cluster centers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cluster centers, determine points in each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oint p, find the closes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Put p into clust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points in each cluster, solve for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the mean of points in clust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changed, repeat 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demo: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let.polimi.it/upload/matteucc/Clustering/tutorial_html/AppletKM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ways converg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“local minimu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ways find the global minimum of objective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Picture 4" descr="Edittex"/>
          <p:cNvPicPr/>
          <p:nvPr/>
        </p:nvPicPr>
        <p:blipFill>
          <a:blip r:embed="rId2"/>
          <a:stretch/>
        </p:blipFill>
        <p:spPr>
          <a:xfrm>
            <a:off x="2649600" y="5931000"/>
            <a:ext cx="39034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babilistic cluste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the probability that a poi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n cluster 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the shape of each clu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means doesn’t answer thes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clustering (basic id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each cluster as a Gaussian densit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Group 31"/>
          <p:cNvGrpSpPr/>
          <p:nvPr/>
        </p:nvGrpSpPr>
        <p:grpSpPr>
          <a:xfrm>
            <a:off x="2666880" y="4038480"/>
            <a:ext cx="3092400" cy="2286000"/>
            <a:chOff x="2666880" y="4038480"/>
            <a:chExt cx="3092400" cy="2286000"/>
          </a:xfrm>
        </p:grpSpPr>
        <p:sp>
          <p:nvSpPr>
            <p:cNvPr id="1719" name="Oval 4"/>
            <p:cNvSpPr/>
            <p:nvPr/>
          </p:nvSpPr>
          <p:spPr>
            <a:xfrm>
              <a:off x="3124080" y="5334120"/>
              <a:ext cx="198144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Oval 5"/>
            <p:cNvSpPr/>
            <p:nvPr/>
          </p:nvSpPr>
          <p:spPr>
            <a:xfrm rot="18906600">
              <a:off x="3778200" y="4952520"/>
              <a:ext cx="1981080" cy="381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Oval 6"/>
            <p:cNvSpPr/>
            <p:nvPr/>
          </p:nvSpPr>
          <p:spPr>
            <a:xfrm rot="13507200">
              <a:off x="3228120" y="4467960"/>
              <a:ext cx="782640" cy="6858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Rectangle 7"/>
            <p:cNvSpPr/>
            <p:nvPr/>
          </p:nvSpPr>
          <p:spPr>
            <a:xfrm>
              <a:off x="2666880" y="4038480"/>
              <a:ext cx="3092400" cy="228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3" name="Group 8"/>
            <p:cNvGrpSpPr/>
            <p:nvPr/>
          </p:nvGrpSpPr>
          <p:grpSpPr>
            <a:xfrm>
              <a:off x="3352680" y="4343400"/>
              <a:ext cx="2210040" cy="1600200"/>
              <a:chOff x="3352680" y="4343400"/>
              <a:chExt cx="2210040" cy="1600200"/>
            </a:xfrm>
          </p:grpSpPr>
          <p:grpSp>
            <p:nvGrpSpPr>
              <p:cNvPr id="1724" name="Group 9"/>
              <p:cNvGrpSpPr/>
              <p:nvPr/>
            </p:nvGrpSpPr>
            <p:grpSpPr>
              <a:xfrm>
                <a:off x="3505320" y="5333760"/>
                <a:ext cx="1371600" cy="609840"/>
                <a:chOff x="3505320" y="5333760"/>
                <a:chExt cx="1371600" cy="609840"/>
              </a:xfrm>
            </p:grpSpPr>
            <p:sp>
              <p:nvSpPr>
                <p:cNvPr id="1725" name="Oval 10"/>
                <p:cNvSpPr/>
                <p:nvPr/>
              </p:nvSpPr>
              <p:spPr>
                <a:xfrm>
                  <a:off x="3505320" y="5562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Oval 11"/>
                <p:cNvSpPr/>
                <p:nvPr/>
              </p:nvSpPr>
              <p:spPr>
                <a:xfrm>
                  <a:off x="3733920" y="5410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Oval 12"/>
                <p:cNvSpPr/>
                <p:nvPr/>
              </p:nvSpPr>
              <p:spPr>
                <a:xfrm>
                  <a:off x="3733920" y="5867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Oval 13"/>
                <p:cNvSpPr/>
                <p:nvPr/>
              </p:nvSpPr>
              <p:spPr>
                <a:xfrm>
                  <a:off x="4038480" y="53337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Oval 14"/>
                <p:cNvSpPr/>
                <p:nvPr/>
              </p:nvSpPr>
              <p:spPr>
                <a:xfrm>
                  <a:off x="4038480" y="56386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Oval 15"/>
                <p:cNvSpPr/>
                <p:nvPr/>
              </p:nvSpPr>
              <p:spPr>
                <a:xfrm>
                  <a:off x="4267080" y="556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Oval 16"/>
                <p:cNvSpPr/>
                <p:nvPr/>
              </p:nvSpPr>
              <p:spPr>
                <a:xfrm>
                  <a:off x="4572000" y="5486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Oval 17"/>
                <p:cNvSpPr/>
                <p:nvPr/>
              </p:nvSpPr>
              <p:spPr>
                <a:xfrm>
                  <a:off x="4800600" y="556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3" name="Group 18"/>
              <p:cNvGrpSpPr/>
              <p:nvPr/>
            </p:nvGrpSpPr>
            <p:grpSpPr>
              <a:xfrm>
                <a:off x="4419720" y="4343400"/>
                <a:ext cx="1143000" cy="990360"/>
                <a:chOff x="4419720" y="4343400"/>
                <a:chExt cx="1143000" cy="990360"/>
              </a:xfrm>
            </p:grpSpPr>
            <p:sp>
              <p:nvSpPr>
                <p:cNvPr id="1734" name="Oval 19"/>
                <p:cNvSpPr/>
                <p:nvPr/>
              </p:nvSpPr>
              <p:spPr>
                <a:xfrm>
                  <a:off x="4419720" y="5105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Oval 20"/>
                <p:cNvSpPr/>
                <p:nvPr/>
              </p:nvSpPr>
              <p:spPr>
                <a:xfrm>
                  <a:off x="4800600" y="5257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Oval 21"/>
                <p:cNvSpPr/>
                <p:nvPr/>
              </p:nvSpPr>
              <p:spPr>
                <a:xfrm>
                  <a:off x="4724280" y="50292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Oval 22"/>
                <p:cNvSpPr/>
                <p:nvPr/>
              </p:nvSpPr>
              <p:spPr>
                <a:xfrm>
                  <a:off x="4952880" y="47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Oval 23"/>
                <p:cNvSpPr/>
                <p:nvPr/>
              </p:nvSpPr>
              <p:spPr>
                <a:xfrm>
                  <a:off x="5486400" y="4343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9" name="Group 24"/>
              <p:cNvGrpSpPr/>
              <p:nvPr/>
            </p:nvGrpSpPr>
            <p:grpSpPr>
              <a:xfrm>
                <a:off x="3352680" y="4343400"/>
                <a:ext cx="609840" cy="761760"/>
                <a:chOff x="3352680" y="4343400"/>
                <a:chExt cx="609840" cy="761760"/>
              </a:xfrm>
            </p:grpSpPr>
            <p:sp>
              <p:nvSpPr>
                <p:cNvPr id="1740" name="Oval 25"/>
                <p:cNvSpPr/>
                <p:nvPr/>
              </p:nvSpPr>
              <p:spPr>
                <a:xfrm>
                  <a:off x="3429000" y="47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Oval 26"/>
                <p:cNvSpPr/>
                <p:nvPr/>
              </p:nvSpPr>
              <p:spPr>
                <a:xfrm>
                  <a:off x="3352680" y="4991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Oval 27"/>
                <p:cNvSpPr/>
                <p:nvPr/>
              </p:nvSpPr>
              <p:spPr>
                <a:xfrm>
                  <a:off x="3657600" y="4800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Oval 28"/>
                <p:cNvSpPr/>
                <p:nvPr/>
              </p:nvSpPr>
              <p:spPr>
                <a:xfrm>
                  <a:off x="3733920" y="4343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Oval 29"/>
                <p:cNvSpPr/>
                <p:nvPr/>
              </p:nvSpPr>
              <p:spPr>
                <a:xfrm>
                  <a:off x="3657600" y="50292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Oval 30"/>
                <p:cNvSpPr/>
                <p:nvPr/>
              </p:nvSpPr>
              <p:spPr>
                <a:xfrm>
                  <a:off x="3886200" y="4647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ectation Maximization (EM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abilistic variant of K-me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step: “soft assignment” of points to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probability that a point is in a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tep:  update cluster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and variance info (covariance matr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s the likelihood of the points given the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Group 4"/>
          <p:cNvGrpSpPr/>
          <p:nvPr/>
        </p:nvGrpSpPr>
        <p:grpSpPr>
          <a:xfrm>
            <a:off x="2666880" y="1143000"/>
            <a:ext cx="3092400" cy="2286000"/>
            <a:chOff x="2666880" y="1143000"/>
            <a:chExt cx="3092400" cy="2286000"/>
          </a:xfrm>
        </p:grpSpPr>
        <p:sp>
          <p:nvSpPr>
            <p:cNvPr id="1749" name="Oval 5"/>
            <p:cNvSpPr/>
            <p:nvPr/>
          </p:nvSpPr>
          <p:spPr>
            <a:xfrm>
              <a:off x="3124080" y="2438640"/>
              <a:ext cx="198144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Oval 6"/>
            <p:cNvSpPr/>
            <p:nvPr/>
          </p:nvSpPr>
          <p:spPr>
            <a:xfrm rot="18906600">
              <a:off x="3778200" y="2057040"/>
              <a:ext cx="1981080" cy="381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Oval 7"/>
            <p:cNvSpPr/>
            <p:nvPr/>
          </p:nvSpPr>
          <p:spPr>
            <a:xfrm rot="13507200">
              <a:off x="3228120" y="1572480"/>
              <a:ext cx="782640" cy="6858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8"/>
            <p:cNvSpPr/>
            <p:nvPr/>
          </p:nvSpPr>
          <p:spPr>
            <a:xfrm>
              <a:off x="2666880" y="1143000"/>
              <a:ext cx="3092400" cy="228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3" name="Group 9"/>
            <p:cNvGrpSpPr/>
            <p:nvPr/>
          </p:nvGrpSpPr>
          <p:grpSpPr>
            <a:xfrm>
              <a:off x="3352680" y="1447920"/>
              <a:ext cx="2210040" cy="1600200"/>
              <a:chOff x="3352680" y="1447920"/>
              <a:chExt cx="2210040" cy="1600200"/>
            </a:xfrm>
          </p:grpSpPr>
          <p:grpSp>
            <p:nvGrpSpPr>
              <p:cNvPr id="1754" name="Group 10"/>
              <p:cNvGrpSpPr/>
              <p:nvPr/>
            </p:nvGrpSpPr>
            <p:grpSpPr>
              <a:xfrm>
                <a:off x="3505320" y="2438280"/>
                <a:ext cx="1371600" cy="609840"/>
                <a:chOff x="3505320" y="2438280"/>
                <a:chExt cx="1371600" cy="609840"/>
              </a:xfrm>
            </p:grpSpPr>
            <p:sp>
              <p:nvSpPr>
                <p:cNvPr id="1755" name="Oval 11"/>
                <p:cNvSpPr/>
                <p:nvPr/>
              </p:nvSpPr>
              <p:spPr>
                <a:xfrm>
                  <a:off x="3505320" y="26668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Oval 12"/>
                <p:cNvSpPr/>
                <p:nvPr/>
              </p:nvSpPr>
              <p:spPr>
                <a:xfrm>
                  <a:off x="3733920" y="25146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Oval 13"/>
                <p:cNvSpPr/>
                <p:nvPr/>
              </p:nvSpPr>
              <p:spPr>
                <a:xfrm>
                  <a:off x="3733920" y="2971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Oval 14"/>
                <p:cNvSpPr/>
                <p:nvPr/>
              </p:nvSpPr>
              <p:spPr>
                <a:xfrm>
                  <a:off x="4038480" y="2438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Oval 15"/>
                <p:cNvSpPr/>
                <p:nvPr/>
              </p:nvSpPr>
              <p:spPr>
                <a:xfrm>
                  <a:off x="4038480" y="2743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Oval 16"/>
                <p:cNvSpPr/>
                <p:nvPr/>
              </p:nvSpPr>
              <p:spPr>
                <a:xfrm>
                  <a:off x="4267080" y="2666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Oval 17"/>
                <p:cNvSpPr/>
                <p:nvPr/>
              </p:nvSpPr>
              <p:spPr>
                <a:xfrm>
                  <a:off x="4572000" y="2590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Oval 18"/>
                <p:cNvSpPr/>
                <p:nvPr/>
              </p:nvSpPr>
              <p:spPr>
                <a:xfrm>
                  <a:off x="4800600" y="2666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3" name="Group 19"/>
              <p:cNvGrpSpPr/>
              <p:nvPr/>
            </p:nvGrpSpPr>
            <p:grpSpPr>
              <a:xfrm>
                <a:off x="4419720" y="1447920"/>
                <a:ext cx="1143000" cy="990360"/>
                <a:chOff x="4419720" y="1447920"/>
                <a:chExt cx="1143000" cy="990360"/>
              </a:xfrm>
            </p:grpSpPr>
            <p:sp>
              <p:nvSpPr>
                <p:cNvPr id="1764" name="Oval 20"/>
                <p:cNvSpPr/>
                <p:nvPr/>
              </p:nvSpPr>
              <p:spPr>
                <a:xfrm>
                  <a:off x="4419720" y="22096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Oval 21"/>
                <p:cNvSpPr/>
                <p:nvPr/>
              </p:nvSpPr>
              <p:spPr>
                <a:xfrm>
                  <a:off x="4800600" y="236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Oval 22"/>
                <p:cNvSpPr/>
                <p:nvPr/>
              </p:nvSpPr>
              <p:spPr>
                <a:xfrm>
                  <a:off x="4724280" y="2133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Oval 23"/>
                <p:cNvSpPr/>
                <p:nvPr/>
              </p:nvSpPr>
              <p:spPr>
                <a:xfrm>
                  <a:off x="4952880" y="1828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Oval 24"/>
                <p:cNvSpPr/>
                <p:nvPr/>
              </p:nvSpPr>
              <p:spPr>
                <a:xfrm>
                  <a:off x="5486400" y="1447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9" name="Group 25"/>
              <p:cNvGrpSpPr/>
              <p:nvPr/>
            </p:nvGrpSpPr>
            <p:grpSpPr>
              <a:xfrm>
                <a:off x="3352680" y="1447920"/>
                <a:ext cx="609840" cy="761760"/>
                <a:chOff x="3352680" y="1447920"/>
                <a:chExt cx="609840" cy="761760"/>
              </a:xfrm>
            </p:grpSpPr>
            <p:sp>
              <p:nvSpPr>
                <p:cNvPr id="1770" name="Oval 26"/>
                <p:cNvSpPr/>
                <p:nvPr/>
              </p:nvSpPr>
              <p:spPr>
                <a:xfrm>
                  <a:off x="3429000" y="1828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Oval 27"/>
                <p:cNvSpPr/>
                <p:nvPr/>
              </p:nvSpPr>
              <p:spPr>
                <a:xfrm>
                  <a:off x="3352680" y="209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Oval 28"/>
                <p:cNvSpPr/>
                <p:nvPr/>
              </p:nvSpPr>
              <p:spPr>
                <a:xfrm>
                  <a:off x="3657600" y="19051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Oval 29"/>
                <p:cNvSpPr/>
                <p:nvPr/>
              </p:nvSpPr>
              <p:spPr>
                <a:xfrm>
                  <a:off x="3733920" y="1447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Oval 30"/>
                <p:cNvSpPr/>
                <p:nvPr/>
              </p:nvSpPr>
              <p:spPr>
                <a:xfrm>
                  <a:off x="3657600" y="2133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Oval 31"/>
                <p:cNvSpPr/>
                <p:nvPr/>
              </p:nvSpPr>
              <p:spPr>
                <a:xfrm>
                  <a:off x="3886200" y="17524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lications of 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s out this is useful for all sorts of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cluster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estimation with missing/hidde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tion based o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tion based on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ground/background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9" name="Picture 2" descr="http://lh6.google.com/chris.zh66/RwKL7l59ggI/AAAAAAAAAL8/GSslkhMHuWI/football.jpg"/>
          <p:cNvPicPr/>
          <p:nvPr/>
        </p:nvPicPr>
        <p:blipFill>
          <a:blip r:embed="rId1"/>
          <a:stretch/>
        </p:blipFill>
        <p:spPr>
          <a:xfrm>
            <a:off x="657360" y="990720"/>
            <a:ext cx="5286240" cy="2971800"/>
          </a:xfrm>
          <a:prstGeom prst="rect">
            <a:avLst/>
          </a:prstGeom>
          <a:ln w="0">
            <a:noFill/>
          </a:ln>
        </p:spPr>
      </p:pic>
      <p:pic>
        <p:nvPicPr>
          <p:cNvPr id="1780" name="Picture 4" descr="http://lh5.google.com/chris.zh66/RwKL9V59gkI/AAAAAAAAAMc/EO93CT98olQ/football_10.JPG"/>
          <p:cNvPicPr/>
          <p:nvPr/>
        </p:nvPicPr>
        <p:blipFill>
          <a:blip r:embed="rId2"/>
          <a:srcRect l="2217" t="9936" r="2097" b="0"/>
          <a:stretch/>
        </p:blipFill>
        <p:spPr>
          <a:xfrm>
            <a:off x="3548160" y="3603600"/>
            <a:ext cx="51591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uman segment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6" name="Picture 2" descr="http://www.eecs.berkeley.edu/Research/Projects/CS/vision/grouping/segbench/BSDS300/html/images/plain/normal/color/119082.jpg"/>
          <p:cNvPicPr/>
          <p:nvPr/>
        </p:nvPicPr>
        <p:blipFill>
          <a:blip r:embed="rId1"/>
          <a:stretch/>
        </p:blipFill>
        <p:spPr>
          <a:xfrm>
            <a:off x="574560" y="1066680"/>
            <a:ext cx="3768840" cy="25146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4" descr="http://www.eecs.berkeley.edu/Research/Projects/CS/vision/grouping/segbench/BSDS300/html/images/human/normal/outline/color/union/119082.jpg"/>
          <p:cNvPicPr/>
          <p:nvPr/>
        </p:nvPicPr>
        <p:blipFill>
          <a:blip r:embed="rId2"/>
          <a:stretch/>
        </p:blipFill>
        <p:spPr>
          <a:xfrm>
            <a:off x="574560" y="3733920"/>
            <a:ext cx="3767400" cy="251460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6" descr="http://www.eecs.berkeley.edu/Research/Projects/CS/vision/grouping/segbench/BSDS300/html/images/plain/normal/color/220075.jpg"/>
          <p:cNvPicPr/>
          <p:nvPr/>
        </p:nvPicPr>
        <p:blipFill>
          <a:blip r:embed="rId3"/>
          <a:stretch/>
        </p:blipFill>
        <p:spPr>
          <a:xfrm>
            <a:off x="4765680" y="1066680"/>
            <a:ext cx="3768840" cy="2514600"/>
          </a:xfrm>
          <a:prstGeom prst="rect">
            <a:avLst/>
          </a:prstGeom>
          <a:ln w="0">
            <a:noFill/>
          </a:ln>
        </p:spPr>
      </p:pic>
      <p:pic>
        <p:nvPicPr>
          <p:cNvPr id="1569" name="Picture 8" descr="http://www.eecs.berkeley.edu/Research/Projects/CS/vision/grouping/segbench/BSDS300/html/images/human/normal/outline/color/union/220075.jpg"/>
          <p:cNvPicPr/>
          <p:nvPr/>
        </p:nvPicPr>
        <p:blipFill>
          <a:blip r:embed="rId4"/>
          <a:stretch/>
        </p:blipFill>
        <p:spPr>
          <a:xfrm>
            <a:off x="4765680" y="3733920"/>
            <a:ext cx="3768840" cy="2514600"/>
          </a:xfrm>
          <a:prstGeom prst="rect">
            <a:avLst/>
          </a:prstGeom>
          <a:ln w="0">
            <a:noFill/>
          </a:ln>
        </p:spPr>
      </p:pic>
      <p:sp>
        <p:nvSpPr>
          <p:cNvPr id="1570" name="TextBox 2"/>
          <p:cNvSpPr/>
          <p:nvPr/>
        </p:nvSpPr>
        <p:spPr>
          <a:xfrm>
            <a:off x="457200" y="6324480"/>
            <a:ext cx="67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 segmentation dataset, 5 subj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  <a:ea typeface="Kalinga"/>
              </a:rPr>
              <a:t>Mean-sh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an-shif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if you don’t know the number of clusters, but you do know the variance between points in the sam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Straight Connector 4"/>
          <p:cNvSpPr/>
          <p:nvPr/>
        </p:nvSpPr>
        <p:spPr>
          <a:xfrm>
            <a:off x="4402080" y="243828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6"/>
          <p:cNvSpPr/>
          <p:nvPr/>
        </p:nvSpPr>
        <p:spPr>
          <a:xfrm>
            <a:off x="3030480" y="384804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7"/>
          <p:cNvSpPr/>
          <p:nvPr/>
        </p:nvSpPr>
        <p:spPr>
          <a:xfrm>
            <a:off x="3792600" y="3343320"/>
            <a:ext cx="7596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8"/>
          <p:cNvSpPr/>
          <p:nvPr/>
        </p:nvSpPr>
        <p:spPr>
          <a:xfrm>
            <a:off x="3639960" y="3498840"/>
            <a:ext cx="7632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9"/>
          <p:cNvSpPr/>
          <p:nvPr/>
        </p:nvSpPr>
        <p:spPr>
          <a:xfrm>
            <a:off x="4021200" y="360216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10"/>
          <p:cNvSpPr/>
          <p:nvPr/>
        </p:nvSpPr>
        <p:spPr>
          <a:xfrm>
            <a:off x="3930480" y="3098880"/>
            <a:ext cx="7632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11"/>
          <p:cNvSpPr/>
          <p:nvPr/>
        </p:nvSpPr>
        <p:spPr>
          <a:xfrm>
            <a:off x="3935520" y="406728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12"/>
          <p:cNvSpPr/>
          <p:nvPr/>
        </p:nvSpPr>
        <p:spPr>
          <a:xfrm>
            <a:off x="4243320" y="2971800"/>
            <a:ext cx="7632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13"/>
          <p:cNvSpPr/>
          <p:nvPr/>
        </p:nvSpPr>
        <p:spPr>
          <a:xfrm>
            <a:off x="5597640" y="309888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14"/>
          <p:cNvSpPr/>
          <p:nvPr/>
        </p:nvSpPr>
        <p:spPr>
          <a:xfrm>
            <a:off x="4173480" y="3419640"/>
            <a:ext cx="7632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15"/>
          <p:cNvSpPr/>
          <p:nvPr/>
        </p:nvSpPr>
        <p:spPr>
          <a:xfrm>
            <a:off x="5430960" y="312588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16"/>
          <p:cNvSpPr/>
          <p:nvPr/>
        </p:nvSpPr>
        <p:spPr>
          <a:xfrm>
            <a:off x="5468760" y="3416400"/>
            <a:ext cx="7632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17"/>
          <p:cNvSpPr/>
          <p:nvPr/>
        </p:nvSpPr>
        <p:spPr>
          <a:xfrm>
            <a:off x="5735520" y="3657600"/>
            <a:ext cx="7632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18"/>
          <p:cNvSpPr/>
          <p:nvPr/>
        </p:nvSpPr>
        <p:spPr>
          <a:xfrm>
            <a:off x="5943600" y="3252960"/>
            <a:ext cx="7632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Oval 19"/>
          <p:cNvSpPr/>
          <p:nvPr/>
        </p:nvSpPr>
        <p:spPr>
          <a:xfrm>
            <a:off x="5780160" y="329580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20"/>
          <p:cNvSpPr/>
          <p:nvPr/>
        </p:nvSpPr>
        <p:spPr>
          <a:xfrm>
            <a:off x="5929200" y="3008160"/>
            <a:ext cx="7632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21"/>
          <p:cNvSpPr/>
          <p:nvPr/>
        </p:nvSpPr>
        <p:spPr>
          <a:xfrm>
            <a:off x="5392800" y="293220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22"/>
          <p:cNvSpPr/>
          <p:nvPr/>
        </p:nvSpPr>
        <p:spPr>
          <a:xfrm>
            <a:off x="5742000" y="3457440"/>
            <a:ext cx="7632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23"/>
          <p:cNvSpPr/>
          <p:nvPr/>
        </p:nvSpPr>
        <p:spPr>
          <a:xfrm>
            <a:off x="4083120" y="3251160"/>
            <a:ext cx="7596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24"/>
          <p:cNvSpPr/>
          <p:nvPr/>
        </p:nvSpPr>
        <p:spPr>
          <a:xfrm>
            <a:off x="3946680" y="3530520"/>
            <a:ext cx="7596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25"/>
          <p:cNvSpPr/>
          <p:nvPr/>
        </p:nvSpPr>
        <p:spPr>
          <a:xfrm>
            <a:off x="4629240" y="3046320"/>
            <a:ext cx="7596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Oval 26"/>
          <p:cNvSpPr/>
          <p:nvPr/>
        </p:nvSpPr>
        <p:spPr>
          <a:xfrm>
            <a:off x="4705200" y="3683160"/>
            <a:ext cx="7632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Group 33"/>
          <p:cNvGrpSpPr/>
          <p:nvPr/>
        </p:nvGrpSpPr>
        <p:grpSpPr>
          <a:xfrm>
            <a:off x="4257720" y="2671920"/>
            <a:ext cx="844560" cy="812520"/>
            <a:chOff x="4257720" y="2671920"/>
            <a:chExt cx="844560" cy="812520"/>
          </a:xfrm>
        </p:grpSpPr>
        <p:sp>
          <p:nvSpPr>
            <p:cNvPr id="1808" name="Oval 27"/>
            <p:cNvSpPr/>
            <p:nvPr/>
          </p:nvSpPr>
          <p:spPr>
            <a:xfrm>
              <a:off x="4257720" y="2671920"/>
              <a:ext cx="844560" cy="812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Oval 32"/>
            <p:cNvSpPr/>
            <p:nvPr/>
          </p:nvSpPr>
          <p:spPr>
            <a:xfrm>
              <a:off x="4630320" y="3049200"/>
              <a:ext cx="75960" cy="759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Group 34"/>
          <p:cNvGrpSpPr/>
          <p:nvPr/>
        </p:nvGrpSpPr>
        <p:grpSpPr>
          <a:xfrm>
            <a:off x="4041720" y="2622600"/>
            <a:ext cx="844560" cy="811080"/>
            <a:chOff x="4041720" y="2622600"/>
            <a:chExt cx="844560" cy="811080"/>
          </a:xfrm>
        </p:grpSpPr>
        <p:sp>
          <p:nvSpPr>
            <p:cNvPr id="1811" name="Oval 35"/>
            <p:cNvSpPr/>
            <p:nvPr/>
          </p:nvSpPr>
          <p:spPr>
            <a:xfrm>
              <a:off x="4041720" y="2622600"/>
              <a:ext cx="844560" cy="811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Oval 36"/>
            <p:cNvSpPr/>
            <p:nvPr/>
          </p:nvSpPr>
          <p:spPr>
            <a:xfrm>
              <a:off x="4414320" y="2999520"/>
              <a:ext cx="75960" cy="759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Group 37"/>
          <p:cNvGrpSpPr/>
          <p:nvPr/>
        </p:nvGrpSpPr>
        <p:grpSpPr>
          <a:xfrm>
            <a:off x="3701880" y="2916360"/>
            <a:ext cx="846360" cy="812520"/>
            <a:chOff x="3701880" y="2916360"/>
            <a:chExt cx="846360" cy="812520"/>
          </a:xfrm>
        </p:grpSpPr>
        <p:sp>
          <p:nvSpPr>
            <p:cNvPr id="1814" name="Oval 38"/>
            <p:cNvSpPr/>
            <p:nvPr/>
          </p:nvSpPr>
          <p:spPr>
            <a:xfrm>
              <a:off x="3701880" y="2916360"/>
              <a:ext cx="846360" cy="812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Oval 39"/>
            <p:cNvSpPr/>
            <p:nvPr/>
          </p:nvSpPr>
          <p:spPr>
            <a:xfrm>
              <a:off x="4075200" y="3293640"/>
              <a:ext cx="76320" cy="759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6" name="Group 40"/>
          <p:cNvGrpSpPr/>
          <p:nvPr/>
        </p:nvGrpSpPr>
        <p:grpSpPr>
          <a:xfrm>
            <a:off x="3822840" y="2847960"/>
            <a:ext cx="846000" cy="811080"/>
            <a:chOff x="3822840" y="2847960"/>
            <a:chExt cx="846000" cy="811080"/>
          </a:xfrm>
        </p:grpSpPr>
        <p:sp>
          <p:nvSpPr>
            <p:cNvPr id="1817" name="Oval 41"/>
            <p:cNvSpPr/>
            <p:nvPr/>
          </p:nvSpPr>
          <p:spPr>
            <a:xfrm>
              <a:off x="3822840" y="2847960"/>
              <a:ext cx="846000" cy="811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Oval 42"/>
            <p:cNvSpPr/>
            <p:nvPr/>
          </p:nvSpPr>
          <p:spPr>
            <a:xfrm>
              <a:off x="4196160" y="3224880"/>
              <a:ext cx="75960" cy="759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9" name="Group 46"/>
          <p:cNvGrpSpPr/>
          <p:nvPr/>
        </p:nvGrpSpPr>
        <p:grpSpPr>
          <a:xfrm>
            <a:off x="3936960" y="2755800"/>
            <a:ext cx="844560" cy="812880"/>
            <a:chOff x="3936960" y="2755800"/>
            <a:chExt cx="844560" cy="812880"/>
          </a:xfrm>
        </p:grpSpPr>
        <p:sp>
          <p:nvSpPr>
            <p:cNvPr id="1820" name="Oval 47"/>
            <p:cNvSpPr/>
            <p:nvPr/>
          </p:nvSpPr>
          <p:spPr>
            <a:xfrm>
              <a:off x="3936960" y="2755800"/>
              <a:ext cx="844560" cy="812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Oval 48"/>
            <p:cNvSpPr/>
            <p:nvPr/>
          </p:nvSpPr>
          <p:spPr>
            <a:xfrm>
              <a:off x="4309560" y="3133440"/>
              <a:ext cx="75960" cy="759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Straight Connector 50"/>
          <p:cNvSpPr/>
          <p:nvPr/>
        </p:nvSpPr>
        <p:spPr>
          <a:xfrm flipH="1" flipV="1">
            <a:off x="4452480" y="3036600"/>
            <a:ext cx="219240" cy="507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55"/>
          <p:cNvSpPr/>
          <p:nvPr/>
        </p:nvSpPr>
        <p:spPr>
          <a:xfrm flipH="1">
            <a:off x="4347720" y="3036960"/>
            <a:ext cx="109800" cy="13644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60"/>
          <p:cNvSpPr/>
          <p:nvPr/>
        </p:nvSpPr>
        <p:spPr>
          <a:xfrm flipH="1">
            <a:off x="4233960" y="3171960"/>
            <a:ext cx="115920" cy="903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65"/>
          <p:cNvSpPr/>
          <p:nvPr/>
        </p:nvSpPr>
        <p:spPr>
          <a:xfrm flipH="1">
            <a:off x="4114440" y="3265560"/>
            <a:ext cx="119160" cy="6804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an-shif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 txBox="1"/>
          <p:nvPr/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oints that end up in the same location are cluster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Straight Connector 4"/>
          <p:cNvSpPr/>
          <p:nvPr/>
        </p:nvSpPr>
        <p:spPr>
          <a:xfrm>
            <a:off x="4133880" y="2133720"/>
            <a:ext cx="0" cy="388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6"/>
          <p:cNvSpPr/>
          <p:nvPr/>
        </p:nvSpPr>
        <p:spPr>
          <a:xfrm>
            <a:off x="2209680" y="4076640"/>
            <a:ext cx="406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Oval 7"/>
          <p:cNvSpPr/>
          <p:nvPr/>
        </p:nvSpPr>
        <p:spPr>
          <a:xfrm>
            <a:off x="3278160" y="3379680"/>
            <a:ext cx="106560" cy="1065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Oval 8"/>
          <p:cNvSpPr/>
          <p:nvPr/>
        </p:nvSpPr>
        <p:spPr>
          <a:xfrm>
            <a:off x="3063960" y="3595680"/>
            <a:ext cx="1080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Oval 9"/>
          <p:cNvSpPr/>
          <p:nvPr/>
        </p:nvSpPr>
        <p:spPr>
          <a:xfrm>
            <a:off x="3598920" y="373860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Oval 10"/>
          <p:cNvSpPr/>
          <p:nvPr/>
        </p:nvSpPr>
        <p:spPr>
          <a:xfrm>
            <a:off x="3470400" y="3044880"/>
            <a:ext cx="1080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Oval 11"/>
          <p:cNvSpPr/>
          <p:nvPr/>
        </p:nvSpPr>
        <p:spPr>
          <a:xfrm>
            <a:off x="3478320" y="4387680"/>
            <a:ext cx="106200" cy="1051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Oval 12"/>
          <p:cNvSpPr/>
          <p:nvPr/>
        </p:nvSpPr>
        <p:spPr>
          <a:xfrm>
            <a:off x="3909960" y="2868480"/>
            <a:ext cx="10656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Oval 13"/>
          <p:cNvSpPr/>
          <p:nvPr/>
        </p:nvSpPr>
        <p:spPr>
          <a:xfrm>
            <a:off x="5808600" y="3043080"/>
            <a:ext cx="10656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Oval 14"/>
          <p:cNvSpPr/>
          <p:nvPr/>
        </p:nvSpPr>
        <p:spPr>
          <a:xfrm>
            <a:off x="3813120" y="3486240"/>
            <a:ext cx="10656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Oval 15"/>
          <p:cNvSpPr/>
          <p:nvPr/>
        </p:nvSpPr>
        <p:spPr>
          <a:xfrm>
            <a:off x="5575320" y="3079800"/>
            <a:ext cx="1080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Oval 16"/>
          <p:cNvSpPr/>
          <p:nvPr/>
        </p:nvSpPr>
        <p:spPr>
          <a:xfrm>
            <a:off x="5629320" y="348156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Oval 17"/>
          <p:cNvSpPr/>
          <p:nvPr/>
        </p:nvSpPr>
        <p:spPr>
          <a:xfrm>
            <a:off x="6004080" y="381492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18"/>
          <p:cNvSpPr/>
          <p:nvPr/>
        </p:nvSpPr>
        <p:spPr>
          <a:xfrm>
            <a:off x="6294600" y="325764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19"/>
          <p:cNvSpPr/>
          <p:nvPr/>
        </p:nvSpPr>
        <p:spPr>
          <a:xfrm>
            <a:off x="6066000" y="331488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20"/>
          <p:cNvSpPr/>
          <p:nvPr/>
        </p:nvSpPr>
        <p:spPr>
          <a:xfrm>
            <a:off x="6273720" y="2919240"/>
            <a:ext cx="106560" cy="1065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21"/>
          <p:cNvSpPr/>
          <p:nvPr/>
        </p:nvSpPr>
        <p:spPr>
          <a:xfrm>
            <a:off x="5522760" y="2814480"/>
            <a:ext cx="10656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22"/>
          <p:cNvSpPr/>
          <p:nvPr/>
        </p:nvSpPr>
        <p:spPr>
          <a:xfrm>
            <a:off x="6012000" y="353844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23"/>
          <p:cNvSpPr/>
          <p:nvPr/>
        </p:nvSpPr>
        <p:spPr>
          <a:xfrm>
            <a:off x="3684600" y="325440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24"/>
          <p:cNvSpPr/>
          <p:nvPr/>
        </p:nvSpPr>
        <p:spPr>
          <a:xfrm>
            <a:off x="3494160" y="3639960"/>
            <a:ext cx="106200" cy="1051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25"/>
          <p:cNvSpPr/>
          <p:nvPr/>
        </p:nvSpPr>
        <p:spPr>
          <a:xfrm>
            <a:off x="4451400" y="297324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26"/>
          <p:cNvSpPr/>
          <p:nvPr/>
        </p:nvSpPr>
        <p:spPr>
          <a:xfrm>
            <a:off x="4557600" y="3849840"/>
            <a:ext cx="1080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51"/>
          <p:cNvSpPr/>
          <p:nvPr/>
        </p:nvSpPr>
        <p:spPr>
          <a:xfrm>
            <a:off x="3470400" y="4386240"/>
            <a:ext cx="108000" cy="1047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52"/>
          <p:cNvSpPr/>
          <p:nvPr/>
        </p:nvSpPr>
        <p:spPr>
          <a:xfrm>
            <a:off x="4557600" y="3843360"/>
            <a:ext cx="108000" cy="1047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Straight Connector 28"/>
          <p:cNvSpPr/>
          <p:nvPr/>
        </p:nvSpPr>
        <p:spPr>
          <a:xfrm flipH="1">
            <a:off x="3684600" y="3029040"/>
            <a:ext cx="8222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Straight Connector 53"/>
          <p:cNvSpPr/>
          <p:nvPr/>
        </p:nvSpPr>
        <p:spPr>
          <a:xfrm flipH="1">
            <a:off x="3684600" y="2916360"/>
            <a:ext cx="2808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6"/>
          <p:cNvSpPr/>
          <p:nvPr/>
        </p:nvSpPr>
        <p:spPr>
          <a:xfrm>
            <a:off x="3684600" y="3484440"/>
            <a:ext cx="190440" cy="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3687480" y="3311640"/>
            <a:ext cx="5220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2"/>
          <p:cNvSpPr/>
          <p:nvPr/>
        </p:nvSpPr>
        <p:spPr>
          <a:xfrm>
            <a:off x="3527280" y="3098880"/>
            <a:ext cx="16524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Straight Connector 66"/>
          <p:cNvSpPr/>
          <p:nvPr/>
        </p:nvSpPr>
        <p:spPr>
          <a:xfrm>
            <a:off x="3328920" y="3432240"/>
            <a:ext cx="35892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Straight Connector 68"/>
          <p:cNvSpPr/>
          <p:nvPr/>
        </p:nvSpPr>
        <p:spPr>
          <a:xfrm flipV="1">
            <a:off x="3121200" y="3489120"/>
            <a:ext cx="5666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Straight Connector 71"/>
          <p:cNvSpPr/>
          <p:nvPr/>
        </p:nvSpPr>
        <p:spPr>
          <a:xfrm flipV="1">
            <a:off x="3549600" y="3484440"/>
            <a:ext cx="14292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Straight Connector 74"/>
          <p:cNvSpPr/>
          <p:nvPr/>
        </p:nvSpPr>
        <p:spPr>
          <a:xfrm flipV="1">
            <a:off x="3652920" y="3484080"/>
            <a:ext cx="34920" cy="3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Oval 45"/>
          <p:cNvSpPr/>
          <p:nvPr/>
        </p:nvSpPr>
        <p:spPr>
          <a:xfrm>
            <a:off x="3630600" y="3433680"/>
            <a:ext cx="108000" cy="1047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Straight Connector 77"/>
          <p:cNvSpPr/>
          <p:nvPr/>
        </p:nvSpPr>
        <p:spPr>
          <a:xfrm flipH="1" flipV="1">
            <a:off x="5864040" y="3098880"/>
            <a:ext cx="9036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Straight Connector 80"/>
          <p:cNvSpPr/>
          <p:nvPr/>
        </p:nvSpPr>
        <p:spPr>
          <a:xfrm flipH="1" flipV="1">
            <a:off x="5578200" y="2868480"/>
            <a:ext cx="37620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Straight Connector 83"/>
          <p:cNvSpPr/>
          <p:nvPr/>
        </p:nvSpPr>
        <p:spPr>
          <a:xfrm flipH="1" flipV="1">
            <a:off x="5629320" y="313380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Straight Connector 86"/>
          <p:cNvSpPr/>
          <p:nvPr/>
        </p:nvSpPr>
        <p:spPr>
          <a:xfrm flipH="1">
            <a:off x="5681160" y="3324240"/>
            <a:ext cx="27324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Straight Connector 89"/>
          <p:cNvSpPr/>
          <p:nvPr/>
        </p:nvSpPr>
        <p:spPr>
          <a:xfrm>
            <a:off x="5950080" y="3319560"/>
            <a:ext cx="11268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Straight Connector 92"/>
          <p:cNvSpPr/>
          <p:nvPr/>
        </p:nvSpPr>
        <p:spPr>
          <a:xfrm flipH="1" flipV="1">
            <a:off x="5954760" y="3319560"/>
            <a:ext cx="10008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Straight Connector 95"/>
          <p:cNvSpPr/>
          <p:nvPr/>
        </p:nvSpPr>
        <p:spPr>
          <a:xfrm>
            <a:off x="5954760" y="3319560"/>
            <a:ext cx="1648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Straight Connector 98"/>
          <p:cNvSpPr/>
          <p:nvPr/>
        </p:nvSpPr>
        <p:spPr>
          <a:xfrm flipH="1">
            <a:off x="5954400" y="3311640"/>
            <a:ext cx="3934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Straight Connector 101"/>
          <p:cNvSpPr/>
          <p:nvPr/>
        </p:nvSpPr>
        <p:spPr>
          <a:xfrm flipH="1">
            <a:off x="5954400" y="2973240"/>
            <a:ext cx="37764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Oval 49"/>
          <p:cNvSpPr/>
          <p:nvPr/>
        </p:nvSpPr>
        <p:spPr>
          <a:xfrm>
            <a:off x="5896080" y="3267000"/>
            <a:ext cx="108000" cy="1047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04"/>
          <p:cNvSpPr/>
          <p:nvPr/>
        </p:nvSpPr>
        <p:spPr>
          <a:xfrm>
            <a:off x="1676520" y="6248520"/>
            <a:ext cx="65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coewww.rutgers.edu/riul/research/code/EDISON/index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Box 105"/>
          <p:cNvSpPr/>
          <p:nvPr/>
        </p:nvSpPr>
        <p:spPr>
          <a:xfrm>
            <a:off x="890640" y="586728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ex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5" name="Picture 2" descr="http://www.cvr.yorku.ca/members/gradstudents/kosta/compvis/file_mean_shift_path.gif"/>
          <p:cNvPicPr/>
          <p:nvPr/>
        </p:nvPicPr>
        <p:blipFill>
          <a:blip r:embed="rId1"/>
          <a:stretch/>
        </p:blipFill>
        <p:spPr>
          <a:xfrm>
            <a:off x="2666880" y="3200400"/>
            <a:ext cx="4152960" cy="327672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4" descr="http://www.cvr.yorku.ca/members/gradstudents/kosta/compvis/imgLoZCLxRPRU.jpg"/>
          <p:cNvPicPr/>
          <p:nvPr/>
        </p:nvPicPr>
        <p:blipFill>
          <a:blip r:embed="rId2"/>
          <a:stretch/>
        </p:blipFill>
        <p:spPr>
          <a:xfrm>
            <a:off x="1981080" y="1066680"/>
            <a:ext cx="5257800" cy="1897200"/>
          </a:xfrm>
          <a:prstGeom prst="rect">
            <a:avLst/>
          </a:prstGeom>
          <a:ln w="0">
            <a:noFill/>
          </a:ln>
        </p:spPr>
      </p:pic>
      <p:sp>
        <p:nvSpPr>
          <p:cNvPr id="1877" name="TextBox 3"/>
          <p:cNvSpPr/>
          <p:nvPr/>
        </p:nvSpPr>
        <p:spPr>
          <a:xfrm>
            <a:off x="609480" y="322416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bing up the hil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ustering spatial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you want to include spatial relation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in 5 dimensions instead of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0" name="Picture 2" descr=""/>
          <p:cNvPicPr/>
          <p:nvPr/>
        </p:nvPicPr>
        <p:blipFill>
          <a:blip r:embed="rId1"/>
          <a:stretch/>
        </p:blipFill>
        <p:spPr>
          <a:xfrm>
            <a:off x="4800600" y="3170160"/>
            <a:ext cx="819000" cy="1800360"/>
          </a:xfrm>
          <a:prstGeom prst="rect">
            <a:avLst/>
          </a:prstGeom>
          <a:ln w="0">
            <a:noFill/>
          </a:ln>
        </p:spPr>
      </p:pic>
      <p:pic>
        <p:nvPicPr>
          <p:cNvPr id="1881" name="Picture 3" descr=""/>
          <p:cNvPicPr/>
          <p:nvPr/>
        </p:nvPicPr>
        <p:blipFill>
          <a:blip r:embed="rId2"/>
          <a:stretch/>
        </p:blipFill>
        <p:spPr>
          <a:xfrm>
            <a:off x="2743200" y="2738520"/>
            <a:ext cx="771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 Shift color&amp;spatial Segmentation Resul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3" name="Picture 3" descr="negoiu_s"/>
          <p:cNvPicPr/>
          <p:nvPr/>
        </p:nvPicPr>
        <p:blipFill>
          <a:blip r:embed="rId1"/>
          <a:stretch/>
        </p:blipFill>
        <p:spPr>
          <a:xfrm>
            <a:off x="4508640" y="3757680"/>
            <a:ext cx="3727440" cy="254772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4" descr="campus"/>
          <p:cNvPicPr/>
          <p:nvPr/>
        </p:nvPicPr>
        <p:blipFill>
          <a:blip r:embed="rId2"/>
          <a:stretch/>
        </p:blipFill>
        <p:spPr>
          <a:xfrm>
            <a:off x="309600" y="1182600"/>
            <a:ext cx="3733920" cy="2400480"/>
          </a:xfrm>
          <a:prstGeom prst="rect">
            <a:avLst/>
          </a:prstGeom>
          <a:ln w="0">
            <a:noFill/>
          </a:ln>
        </p:spPr>
      </p:pic>
      <p:pic>
        <p:nvPicPr>
          <p:cNvPr id="1885" name="Picture 5" descr="campus_s"/>
          <p:cNvPicPr/>
          <p:nvPr/>
        </p:nvPicPr>
        <p:blipFill>
          <a:blip r:embed="rId3"/>
          <a:stretch/>
        </p:blipFill>
        <p:spPr>
          <a:xfrm>
            <a:off x="4492800" y="1147680"/>
            <a:ext cx="3733560" cy="240048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6" descr="negoiu"/>
          <p:cNvPicPr/>
          <p:nvPr/>
        </p:nvPicPr>
        <p:blipFill>
          <a:blip r:embed="rId4"/>
          <a:stretch/>
        </p:blipFill>
        <p:spPr>
          <a:xfrm>
            <a:off x="324000" y="3757680"/>
            <a:ext cx="3728880" cy="254772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7"/>
          <p:cNvSpPr/>
          <p:nvPr/>
        </p:nvSpPr>
        <p:spPr>
          <a:xfrm>
            <a:off x="918360" y="6324480"/>
            <a:ext cx="71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caip.rutgers.edu/~comanici/MSPAMI/msPamiResul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  <a:ea typeface="Kalinga"/>
              </a:rPr>
              <a:t>Fast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714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st and di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Box 1"/>
          <p:cNvSpPr/>
          <p:nvPr/>
        </p:nvSpPr>
        <p:spPr>
          <a:xfrm>
            <a:off x="671400" y="114300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you just want to group similar neighboring pix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2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893" name="Group 6"/>
          <p:cNvGrpSpPr/>
          <p:nvPr/>
        </p:nvGrpSpPr>
        <p:grpSpPr>
          <a:xfrm>
            <a:off x="5391000" y="2438280"/>
            <a:ext cx="761760" cy="794160"/>
            <a:chOff x="5391000" y="2438280"/>
            <a:chExt cx="761760" cy="794160"/>
          </a:xfrm>
        </p:grpSpPr>
        <p:sp>
          <p:nvSpPr>
            <p:cNvPr id="1894" name="Rectangle 4"/>
            <p:cNvSpPr/>
            <p:nvPr/>
          </p:nvSpPr>
          <p:spPr>
            <a:xfrm>
              <a:off x="5771880" y="283356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Rectangle 159"/>
            <p:cNvSpPr/>
            <p:nvPr/>
          </p:nvSpPr>
          <p:spPr>
            <a:xfrm>
              <a:off x="5391000" y="283356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Rectangle 160"/>
            <p:cNvSpPr/>
            <p:nvPr/>
          </p:nvSpPr>
          <p:spPr>
            <a:xfrm>
              <a:off x="5771880" y="245124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TextBox 5"/>
            <p:cNvSpPr/>
            <p:nvPr/>
          </p:nvSpPr>
          <p:spPr>
            <a:xfrm>
              <a:off x="5771880" y="28335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TextBox 162"/>
            <p:cNvSpPr/>
            <p:nvPr/>
          </p:nvSpPr>
          <p:spPr>
            <a:xfrm>
              <a:off x="5391360" y="2824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TextBox 163"/>
            <p:cNvSpPr/>
            <p:nvPr/>
          </p:nvSpPr>
          <p:spPr>
            <a:xfrm>
              <a:off x="5771880" y="24382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TextBox 164"/>
          <p:cNvSpPr/>
          <p:nvPr/>
        </p:nvSpPr>
        <p:spPr>
          <a:xfrm>
            <a:off x="6248520" y="245736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min(S), where S is the set of similar pixels in {A, B, C}.  A is always in 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Box 165"/>
          <p:cNvSpPr/>
          <p:nvPr/>
        </p:nvSpPr>
        <p:spPr>
          <a:xfrm>
            <a:off x="5105520" y="195588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2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3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4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5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TextBox 33"/>
          <p:cNvSpPr/>
          <p:nvPr/>
        </p:nvSpPr>
        <p:spPr>
          <a:xfrm>
            <a:off x="6248520" y="245736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min(S), where S is the set of similar pixels in {A, B, C}.  A is always in 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7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8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714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st and di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Box 1"/>
          <p:cNvSpPr/>
          <p:nvPr/>
        </p:nvSpPr>
        <p:spPr>
          <a:xfrm>
            <a:off x="671400" y="114300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you just want to group similar neighboring pix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1" name="Group 6"/>
          <p:cNvGrpSpPr/>
          <p:nvPr/>
        </p:nvGrpSpPr>
        <p:grpSpPr>
          <a:xfrm>
            <a:off x="5391000" y="2438280"/>
            <a:ext cx="761760" cy="794160"/>
            <a:chOff x="5391000" y="2438280"/>
            <a:chExt cx="761760" cy="794160"/>
          </a:xfrm>
        </p:grpSpPr>
        <p:sp>
          <p:nvSpPr>
            <p:cNvPr id="1912" name="Rectangle 4"/>
            <p:cNvSpPr/>
            <p:nvPr/>
          </p:nvSpPr>
          <p:spPr>
            <a:xfrm>
              <a:off x="5771880" y="283356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Rectangle 159"/>
            <p:cNvSpPr/>
            <p:nvPr/>
          </p:nvSpPr>
          <p:spPr>
            <a:xfrm>
              <a:off x="5391000" y="283356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Rectangle 160"/>
            <p:cNvSpPr/>
            <p:nvPr/>
          </p:nvSpPr>
          <p:spPr>
            <a:xfrm>
              <a:off x="5771880" y="245124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TextBox 5"/>
            <p:cNvSpPr/>
            <p:nvPr/>
          </p:nvSpPr>
          <p:spPr>
            <a:xfrm>
              <a:off x="5771880" y="28335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TextBox 162"/>
            <p:cNvSpPr/>
            <p:nvPr/>
          </p:nvSpPr>
          <p:spPr>
            <a:xfrm>
              <a:off x="5391360" y="2824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TextBox 163"/>
            <p:cNvSpPr/>
            <p:nvPr/>
          </p:nvSpPr>
          <p:spPr>
            <a:xfrm>
              <a:off x="5771880" y="24382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8" name="TextBox 165"/>
          <p:cNvSpPr/>
          <p:nvPr/>
        </p:nvSpPr>
        <p:spPr>
          <a:xfrm>
            <a:off x="5105520" y="195588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Box 174"/>
          <p:cNvSpPr/>
          <p:nvPr/>
        </p:nvSpPr>
        <p:spPr>
          <a:xfrm>
            <a:off x="5153040" y="3733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Box 175"/>
          <p:cNvSpPr/>
          <p:nvPr/>
        </p:nvSpPr>
        <p:spPr>
          <a:xfrm>
            <a:off x="5435640" y="42642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sign clusters based on merge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7"/>
          <p:cNvSpPr/>
          <p:nvPr/>
        </p:nvSpPr>
        <p:spPr>
          <a:xfrm>
            <a:off x="6100920" y="6148440"/>
            <a:ext cx="4381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177"/>
          <p:cNvSpPr/>
          <p:nvPr/>
        </p:nvSpPr>
        <p:spPr>
          <a:xfrm>
            <a:off x="5619600" y="5562720"/>
            <a:ext cx="43848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178"/>
          <p:cNvSpPr/>
          <p:nvPr/>
        </p:nvSpPr>
        <p:spPr>
          <a:xfrm>
            <a:off x="6647040" y="5562720"/>
            <a:ext cx="4381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Oval 179"/>
          <p:cNvSpPr/>
          <p:nvPr/>
        </p:nvSpPr>
        <p:spPr>
          <a:xfrm>
            <a:off x="5132520" y="4941720"/>
            <a:ext cx="4381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5" name="Straight Arrow Connector 9"/>
          <p:cNvCxnSpPr>
            <a:stCxn id="1924" idx="5"/>
            <a:endCxn id="1922" idx="1"/>
          </p:cNvCxnSpPr>
          <p:nvPr/>
        </p:nvCxnSpPr>
        <p:spPr>
          <a:xfrm>
            <a:off x="5506920" y="5330520"/>
            <a:ext cx="177120" cy="29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6" name="Straight Arrow Connector 11"/>
          <p:cNvCxnSpPr>
            <a:stCxn id="1922" idx="5"/>
            <a:endCxn id="1921" idx="1"/>
          </p:cNvCxnSpPr>
          <p:nvPr/>
        </p:nvCxnSpPr>
        <p:spPr>
          <a:xfrm>
            <a:off x="5992920" y="5952960"/>
            <a:ext cx="173520" cy="26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7" name="Straight Arrow Connector 13"/>
          <p:cNvCxnSpPr>
            <a:stCxn id="1923" idx="3"/>
            <a:endCxn id="1921" idx="7"/>
          </p:cNvCxnSpPr>
          <p:nvPr/>
        </p:nvCxnSpPr>
        <p:spPr>
          <a:xfrm flipH="1">
            <a:off x="6474600" y="5952960"/>
            <a:ext cx="237240" cy="26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8" name="TextBox 188"/>
          <p:cNvSpPr/>
          <p:nvPr/>
        </p:nvSpPr>
        <p:spPr>
          <a:xfrm>
            <a:off x="5160960" y="500076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Box 189"/>
          <p:cNvSpPr/>
          <p:nvPr/>
        </p:nvSpPr>
        <p:spPr>
          <a:xfrm>
            <a:off x="5624640" y="56275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Box 190"/>
          <p:cNvSpPr/>
          <p:nvPr/>
        </p:nvSpPr>
        <p:spPr>
          <a:xfrm>
            <a:off x="6651720" y="56340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Box 191"/>
          <p:cNvSpPr/>
          <p:nvPr/>
        </p:nvSpPr>
        <p:spPr>
          <a:xfrm>
            <a:off x="7086600" y="5310360"/>
            <a:ext cx="6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Box 192"/>
          <p:cNvSpPr/>
          <p:nvPr/>
        </p:nvSpPr>
        <p:spPr>
          <a:xfrm>
            <a:off x="5562720" y="4702320"/>
            <a:ext cx="6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lation operato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4" name=""/>
          <p:cNvGraphicFramePr/>
          <p:nvPr/>
        </p:nvGraphicFramePr>
        <p:xfrm>
          <a:off x="2362320" y="1143000"/>
          <a:ext cx="3886200" cy="335268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5" name=""/>
          <p:cNvGraphicFramePr/>
          <p:nvPr/>
        </p:nvGraphicFramePr>
        <p:xfrm>
          <a:off x="7086600" y="222552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</a:tblGrid>
              <a:tr h="3765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6" name="Picture 144" descr="txp_fig"/>
          <p:cNvPicPr/>
          <p:nvPr/>
        </p:nvPicPr>
        <p:blipFill>
          <a:blip r:embed="rId1"/>
          <a:stretch/>
        </p:blipFill>
        <p:spPr>
          <a:xfrm>
            <a:off x="3905280" y="4643280"/>
            <a:ext cx="952560" cy="316080"/>
          </a:xfrm>
          <a:prstGeom prst="rect">
            <a:avLst/>
          </a:prstGeom>
          <a:ln w="0">
            <a:noFill/>
          </a:ln>
        </p:spPr>
      </p:pic>
      <p:sp>
        <p:nvSpPr>
          <p:cNvPr id="1937" name="Rectangle 145"/>
          <p:cNvSpPr/>
          <p:nvPr/>
        </p:nvSpPr>
        <p:spPr>
          <a:xfrm>
            <a:off x="304920" y="5105520"/>
            <a:ext cx="861048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ation:  does H “overlap” F around [x,y]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[x,y] = 1 if H[u,v] and F[x+u-1,y+v-1] are both 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whe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0 othe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Rectangle 148"/>
          <p:cNvSpPr/>
          <p:nvPr/>
        </p:nvSpPr>
        <p:spPr>
          <a:xfrm>
            <a:off x="3505320" y="2500200"/>
            <a:ext cx="116820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Rectangle 149"/>
          <p:cNvSpPr/>
          <p:nvPr/>
        </p:nvSpPr>
        <p:spPr>
          <a:xfrm>
            <a:off x="7089840" y="221940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0" name="Picture 151" descr="txp_fig"/>
          <p:cNvPicPr/>
          <p:nvPr/>
        </p:nvPicPr>
        <p:blipFill>
          <a:blip r:embed="rId2"/>
          <a:stretch/>
        </p:blipFill>
        <p:spPr>
          <a:xfrm>
            <a:off x="7137360" y="3433680"/>
            <a:ext cx="998640" cy="31608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160" descr="Edittex"/>
          <p:cNvPicPr/>
          <p:nvPr/>
        </p:nvPicPr>
        <p:blipFill>
          <a:blip r:embed="rId3"/>
          <a:stretch/>
        </p:blipFill>
        <p:spPr>
          <a:xfrm>
            <a:off x="4343400" y="324000"/>
            <a:ext cx="2532240" cy="393480"/>
          </a:xfrm>
          <a:prstGeom prst="rect">
            <a:avLst/>
          </a:prstGeom>
          <a:ln w="0">
            <a:noFill/>
          </a:ln>
        </p:spPr>
      </p:pic>
      <p:pic>
        <p:nvPicPr>
          <p:cNvPr id="1942" name="Picture 162" descr="Edittex"/>
          <p:cNvPicPr/>
          <p:nvPr/>
        </p:nvPicPr>
        <p:blipFill>
          <a:blip r:embed="rId4"/>
          <a:stretch/>
        </p:blipFill>
        <p:spPr>
          <a:xfrm>
            <a:off x="2057400" y="6172200"/>
            <a:ext cx="1709640" cy="264960"/>
          </a:xfrm>
          <a:prstGeom prst="rect">
            <a:avLst/>
          </a:prstGeom>
          <a:ln w="0">
            <a:noFill/>
          </a:ln>
        </p:spPr>
      </p:pic>
      <p:sp>
        <p:nvSpPr>
          <p:cNvPr id="1943" name="Text Box 163"/>
          <p:cNvSpPr/>
          <p:nvPr/>
        </p:nvSpPr>
        <p:spPr>
          <a:xfrm>
            <a:off x="380880" y="25750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1" name="Picture 2" descr=""/>
          <p:cNvPicPr/>
          <p:nvPr/>
        </p:nvPicPr>
        <p:blipFill>
          <a:blip r:embed="rId1"/>
          <a:stretch/>
        </p:blipFill>
        <p:spPr>
          <a:xfrm>
            <a:off x="2397240" y="1278000"/>
            <a:ext cx="43434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lation oper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5" name="Picture 5" descr="diltbin"/>
          <p:cNvPicPr/>
          <p:nvPr/>
        </p:nvPicPr>
        <p:blipFill>
          <a:blip r:embed="rId1"/>
          <a:stretch/>
        </p:blipFill>
        <p:spPr>
          <a:xfrm>
            <a:off x="1542960" y="2211480"/>
            <a:ext cx="605808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Rectangle 158"/>
          <p:cNvSpPr/>
          <p:nvPr/>
        </p:nvSpPr>
        <p:spPr>
          <a:xfrm>
            <a:off x="304920" y="5105520"/>
            <a:ext cx="861048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osion:  is H “contained in” F around [x,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[x,y] = 1 if F[x+u-1,y+v-1] is 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H[u,v] i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0 othe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osion operator: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8" name=""/>
          <p:cNvGraphicFramePr/>
          <p:nvPr/>
        </p:nvGraphicFramePr>
        <p:xfrm>
          <a:off x="2362320" y="1143000"/>
          <a:ext cx="3886200" cy="335268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9" name=""/>
          <p:cNvGraphicFramePr/>
          <p:nvPr/>
        </p:nvGraphicFramePr>
        <p:xfrm>
          <a:off x="7086600" y="222552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</a:tblGrid>
              <a:tr h="3765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0" name="Picture 144" descr="txp_fig"/>
          <p:cNvPicPr/>
          <p:nvPr/>
        </p:nvPicPr>
        <p:blipFill>
          <a:blip r:embed="rId1"/>
          <a:stretch/>
        </p:blipFill>
        <p:spPr>
          <a:xfrm>
            <a:off x="3905280" y="4643280"/>
            <a:ext cx="952560" cy="316080"/>
          </a:xfrm>
          <a:prstGeom prst="rect">
            <a:avLst/>
          </a:prstGeom>
          <a:ln w="0">
            <a:noFill/>
          </a:ln>
        </p:spPr>
      </p:pic>
      <p:sp>
        <p:nvSpPr>
          <p:cNvPr id="1951" name="Rectangle 146"/>
          <p:cNvSpPr/>
          <p:nvPr/>
        </p:nvSpPr>
        <p:spPr>
          <a:xfrm>
            <a:off x="3505320" y="2500200"/>
            <a:ext cx="116820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Rectangle 147"/>
          <p:cNvSpPr/>
          <p:nvPr/>
        </p:nvSpPr>
        <p:spPr>
          <a:xfrm>
            <a:off x="7089840" y="221940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3" name="Picture 148" descr="txp_fig"/>
          <p:cNvPicPr/>
          <p:nvPr/>
        </p:nvPicPr>
        <p:blipFill>
          <a:blip r:embed="rId2"/>
          <a:stretch/>
        </p:blipFill>
        <p:spPr>
          <a:xfrm>
            <a:off x="7137360" y="3433680"/>
            <a:ext cx="998640" cy="3160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155" descr="Edittex"/>
          <p:cNvPicPr/>
          <p:nvPr/>
        </p:nvPicPr>
        <p:blipFill>
          <a:blip r:embed="rId3"/>
          <a:stretch/>
        </p:blipFill>
        <p:spPr>
          <a:xfrm>
            <a:off x="4335480" y="317520"/>
            <a:ext cx="2531880" cy="39384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162" descr="Edittex"/>
          <p:cNvPicPr/>
          <p:nvPr/>
        </p:nvPicPr>
        <p:blipFill>
          <a:blip r:embed="rId4"/>
          <a:stretch/>
        </p:blipFill>
        <p:spPr>
          <a:xfrm>
            <a:off x="2054160" y="6172200"/>
            <a:ext cx="17096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osion oper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4"/>
          <p:cNvSpPr/>
          <p:nvPr/>
        </p:nvSpPr>
        <p:spPr>
          <a:xfrm>
            <a:off x="0" y="157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8" name="Picture 6" descr="erodbin"/>
          <p:cNvPicPr/>
          <p:nvPr/>
        </p:nvPicPr>
        <p:blipFill>
          <a:blip r:embed="rId1"/>
          <a:stretch/>
        </p:blipFill>
        <p:spPr>
          <a:xfrm>
            <a:off x="1581120" y="2209680"/>
            <a:ext cx="6068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9"/>
          <p:cNvSpPr/>
          <p:nvPr/>
        </p:nvSpPr>
        <p:spPr>
          <a:xfrm>
            <a:off x="685800" y="4648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2" name="Picture 15" descr="closebin"/>
          <p:cNvPicPr/>
          <p:nvPr/>
        </p:nvPicPr>
        <p:blipFill>
          <a:blip r:embed="rId1"/>
          <a:stretch/>
        </p:blipFill>
        <p:spPr>
          <a:xfrm>
            <a:off x="1566720" y="1959120"/>
            <a:ext cx="6012000" cy="2536560"/>
          </a:xfrm>
          <a:prstGeom prst="rect">
            <a:avLst/>
          </a:prstGeom>
          <a:ln w="0">
            <a:noFill/>
          </a:ln>
        </p:spPr>
      </p:pic>
      <p:sp>
        <p:nvSpPr>
          <p:cNvPr id="1963" name="Rectangle 16"/>
          <p:cNvSpPr/>
          <p:nvPr/>
        </p:nvSpPr>
        <p:spPr>
          <a:xfrm>
            <a:off x="4191120" y="1752480"/>
            <a:ext cx="35049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4" name="Picture 5" descr="Edittex"/>
          <p:cNvPicPr/>
          <p:nvPr/>
        </p:nvPicPr>
        <p:blipFill>
          <a:blip r:embed="rId2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4"/>
          <p:cNvSpPr/>
          <p:nvPr/>
        </p:nvSpPr>
        <p:spPr>
          <a:xfrm>
            <a:off x="685800" y="4648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8" name="Picture 5" descr="closebin"/>
          <p:cNvPicPr/>
          <p:nvPr/>
        </p:nvPicPr>
        <p:blipFill>
          <a:blip r:embed="rId1"/>
          <a:stretch/>
        </p:blipFill>
        <p:spPr>
          <a:xfrm>
            <a:off x="1566720" y="1959120"/>
            <a:ext cx="6012000" cy="253656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7" descr="Edittex"/>
          <p:cNvPicPr/>
          <p:nvPr/>
        </p:nvPicPr>
        <p:blipFill>
          <a:blip r:embed="rId2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  <p:sp>
        <p:nvSpPr>
          <p:cNvPr id="1970" name="Rectangle 8"/>
          <p:cNvSpPr/>
          <p:nvPr/>
        </p:nvSpPr>
        <p:spPr>
          <a:xfrm>
            <a:off x="685800" y="5105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the same thing as the follow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1" name="Picture 10" descr="Edittex"/>
          <p:cNvPicPr/>
          <p:nvPr/>
        </p:nvPicPr>
        <p:blipFill>
          <a:blip r:embed="rId3"/>
          <a:stretch/>
        </p:blipFill>
        <p:spPr>
          <a:xfrm>
            <a:off x="2136600" y="5634000"/>
            <a:ext cx="26877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Rectangle 5"/>
          <p:cNvSpPr/>
          <p:nvPr/>
        </p:nvSpPr>
        <p:spPr>
          <a:xfrm>
            <a:off x="685800" y="182880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dai.ed.ac.uk/HIPR2/op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5" name="Picture 7" descr="Edittex"/>
          <p:cNvPicPr/>
          <p:nvPr/>
        </p:nvPicPr>
        <p:blipFill>
          <a:blip r:embed="rId2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  <p:sp>
        <p:nvSpPr>
          <p:cNvPr id="1976" name="Rectangle 10"/>
          <p:cNvSpPr/>
          <p:nvPr/>
        </p:nvSpPr>
        <p:spPr>
          <a:xfrm>
            <a:off x="685800" y="30481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lean up binary pictures by applying combinations of dilations and ero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ations, erosions, opening, and closing operations are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phological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dai.ed.ac.uk/HIPR2/morop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  <a:ea typeface="Kalinga"/>
              </a:rPr>
              <a:t>Normalized 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Freeform 2"/>
          <p:cNvSpPr/>
          <p:nvPr/>
        </p:nvSpPr>
        <p:spPr>
          <a:xfrm flipH="1" flipV="1" rot="5400000">
            <a:off x="2475360" y="72324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0" y="1056"/>
                </a:moveTo>
                <a:cubicBezTo>
                  <a:pt x="72" y="880"/>
                  <a:pt x="144" y="704"/>
                  <a:pt x="144" y="528"/>
                </a:cubicBezTo>
                <a:cubicBezTo>
                  <a:pt x="144" y="352"/>
                  <a:pt x="72" y="1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reeform 3"/>
          <p:cNvSpPr/>
          <p:nvPr/>
        </p:nvSpPr>
        <p:spPr>
          <a:xfrm>
            <a:off x="3429000" y="1676520"/>
            <a:ext cx="228600" cy="167616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0" y="1056"/>
                </a:moveTo>
                <a:cubicBezTo>
                  <a:pt x="72" y="880"/>
                  <a:pt x="144" y="704"/>
                  <a:pt x="144" y="528"/>
                </a:cubicBezTo>
                <a:cubicBezTo>
                  <a:pt x="144" y="352"/>
                  <a:pt x="72" y="1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4"/>
          <p:cNvSpPr/>
          <p:nvPr/>
        </p:nvSpPr>
        <p:spPr>
          <a:xfrm flipV="1">
            <a:off x="2590920" y="167652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Line 5"/>
          <p:cNvSpPr/>
          <p:nvPr/>
        </p:nvSpPr>
        <p:spPr>
          <a:xfrm>
            <a:off x="2590920" y="1676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Line 6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7"/>
          <p:cNvSpPr/>
          <p:nvPr/>
        </p:nvSpPr>
        <p:spPr>
          <a:xfrm>
            <a:off x="3333600" y="16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Line 8"/>
          <p:cNvSpPr/>
          <p:nvPr/>
        </p:nvSpPr>
        <p:spPr>
          <a:xfrm flipV="1">
            <a:off x="259092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Line 9"/>
          <p:cNvSpPr/>
          <p:nvPr/>
        </p:nvSpPr>
        <p:spPr>
          <a:xfrm flipV="1">
            <a:off x="2590920" y="1676520"/>
            <a:ext cx="8380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Line 10"/>
          <p:cNvSpPr/>
          <p:nvPr/>
        </p:nvSpPr>
        <p:spPr>
          <a:xfrm flipH="1" flipV="1">
            <a:off x="1752120" y="1676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11"/>
          <p:cNvSpPr/>
          <p:nvPr/>
        </p:nvSpPr>
        <p:spPr>
          <a:xfrm flipH="1">
            <a:off x="1752120" y="2514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12"/>
          <p:cNvSpPr/>
          <p:nvPr/>
        </p:nvSpPr>
        <p:spPr>
          <a:xfrm flipH="1">
            <a:off x="1752120" y="2514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13"/>
          <p:cNvSpPr/>
          <p:nvPr/>
        </p:nvSpPr>
        <p:spPr>
          <a:xfrm>
            <a:off x="25909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4"/>
          <p:cNvSpPr/>
          <p:nvPr/>
        </p:nvSpPr>
        <p:spPr>
          <a:xfrm>
            <a:off x="259092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5"/>
          <p:cNvSpPr/>
          <p:nvPr/>
        </p:nvSpPr>
        <p:spPr>
          <a:xfrm>
            <a:off x="2590920" y="2514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s as 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685440" y="42667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lly-conn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for every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 of pixel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p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p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il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Oval 18"/>
          <p:cNvSpPr/>
          <p:nvPr/>
        </p:nvSpPr>
        <p:spPr>
          <a:xfrm>
            <a:off x="2521080" y="2444760"/>
            <a:ext cx="13968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Oval 19"/>
          <p:cNvSpPr/>
          <p:nvPr/>
        </p:nvSpPr>
        <p:spPr>
          <a:xfrm>
            <a:off x="2521080" y="160020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Oval 20"/>
          <p:cNvSpPr/>
          <p:nvPr/>
        </p:nvSpPr>
        <p:spPr>
          <a:xfrm>
            <a:off x="3363840" y="2444760"/>
            <a:ext cx="1414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21"/>
          <p:cNvSpPr/>
          <p:nvPr/>
        </p:nvSpPr>
        <p:spPr>
          <a:xfrm>
            <a:off x="2521080" y="32878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22"/>
          <p:cNvSpPr/>
          <p:nvPr/>
        </p:nvSpPr>
        <p:spPr>
          <a:xfrm>
            <a:off x="1676520" y="2444760"/>
            <a:ext cx="1411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23"/>
          <p:cNvSpPr/>
          <p:nvPr/>
        </p:nvSpPr>
        <p:spPr>
          <a:xfrm>
            <a:off x="3363840" y="1600200"/>
            <a:ext cx="141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24"/>
          <p:cNvSpPr/>
          <p:nvPr/>
        </p:nvSpPr>
        <p:spPr>
          <a:xfrm>
            <a:off x="3363840" y="32878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Oval 25"/>
          <p:cNvSpPr/>
          <p:nvPr/>
        </p:nvSpPr>
        <p:spPr>
          <a:xfrm>
            <a:off x="1676520" y="32878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Oval 26"/>
          <p:cNvSpPr/>
          <p:nvPr/>
        </p:nvSpPr>
        <p:spPr>
          <a:xfrm>
            <a:off x="1676520" y="160020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27"/>
          <p:cNvSpPr/>
          <p:nvPr/>
        </p:nvSpPr>
        <p:spPr>
          <a:xfrm>
            <a:off x="251604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2895480" y="196524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Line 29"/>
          <p:cNvSpPr/>
          <p:nvPr/>
        </p:nvSpPr>
        <p:spPr>
          <a:xfrm>
            <a:off x="17524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Line 30"/>
          <p:cNvSpPr/>
          <p:nvPr/>
        </p:nvSpPr>
        <p:spPr>
          <a:xfrm>
            <a:off x="17524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Line 31"/>
          <p:cNvSpPr/>
          <p:nvPr/>
        </p:nvSpPr>
        <p:spPr>
          <a:xfrm>
            <a:off x="1752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Line 32"/>
          <p:cNvSpPr/>
          <p:nvPr/>
        </p:nvSpPr>
        <p:spPr>
          <a:xfrm flipH="1"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Line 33"/>
          <p:cNvSpPr/>
          <p:nvPr/>
        </p:nvSpPr>
        <p:spPr>
          <a:xfrm>
            <a:off x="34290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Line 34"/>
          <p:cNvSpPr/>
          <p:nvPr/>
        </p:nvSpPr>
        <p:spPr>
          <a:xfrm>
            <a:off x="1752480" y="1676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Line 35"/>
          <p:cNvSpPr/>
          <p:nvPr/>
        </p:nvSpPr>
        <p:spPr>
          <a:xfrm>
            <a:off x="175248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Line 36"/>
          <p:cNvSpPr/>
          <p:nvPr/>
        </p:nvSpPr>
        <p:spPr>
          <a:xfrm flipH="1">
            <a:off x="175212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Line 37"/>
          <p:cNvSpPr/>
          <p:nvPr/>
        </p:nvSpPr>
        <p:spPr>
          <a:xfrm>
            <a:off x="2590920" y="160020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Line 38"/>
          <p:cNvSpPr/>
          <p:nvPr/>
        </p:nvSpPr>
        <p:spPr>
          <a:xfrm>
            <a:off x="1752480" y="16765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Line 39"/>
          <p:cNvSpPr/>
          <p:nvPr/>
        </p:nvSpPr>
        <p:spPr>
          <a:xfrm flipV="1">
            <a:off x="1752480" y="25146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Line 40"/>
          <p:cNvSpPr/>
          <p:nvPr/>
        </p:nvSpPr>
        <p:spPr>
          <a:xfrm flipH="1" flipV="1">
            <a:off x="1752120" y="25146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Line 41"/>
          <p:cNvSpPr/>
          <p:nvPr/>
        </p:nvSpPr>
        <p:spPr>
          <a:xfrm flipV="1">
            <a:off x="1752480" y="16765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Freeform 42"/>
          <p:cNvSpPr/>
          <p:nvPr/>
        </p:nvSpPr>
        <p:spPr>
          <a:xfrm flipH="1">
            <a:off x="1523160" y="1676520"/>
            <a:ext cx="228600" cy="167616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0" y="1056"/>
                </a:moveTo>
                <a:cubicBezTo>
                  <a:pt x="72" y="880"/>
                  <a:pt x="144" y="704"/>
                  <a:pt x="144" y="528"/>
                </a:cubicBezTo>
                <a:cubicBezTo>
                  <a:pt x="144" y="352"/>
                  <a:pt x="72" y="1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Freeform 43"/>
          <p:cNvSpPr/>
          <p:nvPr/>
        </p:nvSpPr>
        <p:spPr>
          <a:xfrm flipH="1" rot="16200000">
            <a:off x="2475360" y="262872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0" y="1056"/>
                </a:moveTo>
                <a:cubicBezTo>
                  <a:pt x="72" y="880"/>
                  <a:pt x="144" y="704"/>
                  <a:pt x="144" y="528"/>
                </a:cubicBezTo>
                <a:cubicBezTo>
                  <a:pt x="144" y="352"/>
                  <a:pt x="72" y="1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0" name="Picture 44" descr="tiger_I"/>
          <p:cNvPicPr/>
          <p:nvPr/>
        </p:nvPicPr>
        <p:blipFill>
          <a:blip r:embed="rId1"/>
          <a:stretch/>
        </p:blipFill>
        <p:spPr>
          <a:xfrm>
            <a:off x="5029200" y="1133640"/>
            <a:ext cx="2533680" cy="3362040"/>
          </a:xfrm>
          <a:prstGeom prst="rect">
            <a:avLst/>
          </a:prstGeom>
          <a:ln w="0">
            <a:noFill/>
          </a:ln>
        </p:spPr>
      </p:pic>
      <p:grpSp>
        <p:nvGrpSpPr>
          <p:cNvPr id="2021" name="Group 45"/>
          <p:cNvGrpSpPr/>
          <p:nvPr/>
        </p:nvGrpSpPr>
        <p:grpSpPr>
          <a:xfrm>
            <a:off x="5962680" y="2200320"/>
            <a:ext cx="457200" cy="533160"/>
            <a:chOff x="5962680" y="2200320"/>
            <a:chExt cx="457200" cy="533160"/>
          </a:xfrm>
        </p:grpSpPr>
        <p:sp>
          <p:nvSpPr>
            <p:cNvPr id="2022" name="Rectangle 46"/>
            <p:cNvSpPr/>
            <p:nvPr/>
          </p:nvSpPr>
          <p:spPr>
            <a:xfrm>
              <a:off x="5962680" y="2657520"/>
              <a:ext cx="76320" cy="7596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Rectangle 47"/>
            <p:cNvSpPr/>
            <p:nvPr/>
          </p:nvSpPr>
          <p:spPr>
            <a:xfrm>
              <a:off x="6343560" y="2200320"/>
              <a:ext cx="76320" cy="7596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4" name="AutoShape 48"/>
            <p:cNvCxnSpPr>
              <a:stCxn id="2022" idx="0"/>
              <a:endCxn id="2023" idx="1"/>
            </p:cNvCxnSpPr>
            <p:nvPr/>
          </p:nvCxnSpPr>
          <p:spPr>
            <a:xfrm flipV="1">
              <a:off x="6000840" y="2238120"/>
              <a:ext cx="343440" cy="419760"/>
            </a:xfrm>
            <a:prstGeom prst="straightConnector1">
              <a:avLst/>
            </a:prstGeom>
            <a:ln cap="sq" w="28440">
              <a:solidFill>
                <a:srgbClr val="ffff00"/>
              </a:solidFill>
              <a:miter/>
            </a:ln>
          </p:spPr>
        </p:cxnSp>
      </p:grpSp>
      <p:sp>
        <p:nvSpPr>
          <p:cNvPr id="2025" name="Text Box 49"/>
          <p:cNvSpPr/>
          <p:nvPr/>
        </p:nvSpPr>
        <p:spPr>
          <a:xfrm>
            <a:off x="611496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aph-based segment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7" name="Picture 3" descr="tiger"/>
          <p:cNvPicPr/>
          <p:nvPr/>
        </p:nvPicPr>
        <p:blipFill>
          <a:blip r:embed="rId1"/>
          <a:stretch/>
        </p:blipFill>
        <p:spPr>
          <a:xfrm>
            <a:off x="947880" y="1447920"/>
            <a:ext cx="3108240" cy="234288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schematic"/>
          <p:cNvPicPr/>
          <p:nvPr/>
        </p:nvPicPr>
        <p:blipFill>
          <a:blip r:embed="rId2"/>
          <a:stretch/>
        </p:blipFill>
        <p:spPr>
          <a:xfrm>
            <a:off x="5079960" y="1447920"/>
            <a:ext cx="3106800" cy="2342880"/>
          </a:xfrm>
          <a:prstGeom prst="rect">
            <a:avLst/>
          </a:prstGeom>
          <a:ln w="0">
            <a:noFill/>
          </a:ln>
        </p:spPr>
      </p:pic>
      <p:sp>
        <p:nvSpPr>
          <p:cNvPr id="2029" name="Line 5"/>
          <p:cNvSpPr/>
          <p:nvPr/>
        </p:nvSpPr>
        <p:spPr>
          <a:xfrm>
            <a:off x="4200480" y="2590920"/>
            <a:ext cx="6764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can be measured in many way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Line 2"/>
          <p:cNvSpPr/>
          <p:nvPr/>
        </p:nvSpPr>
        <p:spPr>
          <a:xfrm flipV="1">
            <a:off x="2590920" y="167652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Line 3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Line 4"/>
          <p:cNvSpPr/>
          <p:nvPr/>
        </p:nvSpPr>
        <p:spPr>
          <a:xfrm flipV="1">
            <a:off x="2590920" y="1676520"/>
            <a:ext cx="8380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Line 5"/>
          <p:cNvSpPr/>
          <p:nvPr/>
        </p:nvSpPr>
        <p:spPr>
          <a:xfrm>
            <a:off x="25909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Line 6"/>
          <p:cNvSpPr/>
          <p:nvPr/>
        </p:nvSpPr>
        <p:spPr>
          <a:xfrm>
            <a:off x="259092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gmentation by Normalized Cu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Graph int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links that cross between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st to break links that have low cost (not simi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pixels should be in the same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imilar pixels should be in different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Oval 9"/>
          <p:cNvSpPr/>
          <p:nvPr/>
        </p:nvSpPr>
        <p:spPr>
          <a:xfrm>
            <a:off x="2521080" y="244476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10"/>
          <p:cNvSpPr/>
          <p:nvPr/>
        </p:nvSpPr>
        <p:spPr>
          <a:xfrm>
            <a:off x="2521080" y="160020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11"/>
          <p:cNvSpPr/>
          <p:nvPr/>
        </p:nvSpPr>
        <p:spPr>
          <a:xfrm>
            <a:off x="3363840" y="2444760"/>
            <a:ext cx="1414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12"/>
          <p:cNvSpPr/>
          <p:nvPr/>
        </p:nvSpPr>
        <p:spPr>
          <a:xfrm>
            <a:off x="2521080" y="32878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13"/>
          <p:cNvSpPr/>
          <p:nvPr/>
        </p:nvSpPr>
        <p:spPr>
          <a:xfrm>
            <a:off x="1676520" y="2444760"/>
            <a:ext cx="1411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14"/>
          <p:cNvSpPr/>
          <p:nvPr/>
        </p:nvSpPr>
        <p:spPr>
          <a:xfrm>
            <a:off x="3363840" y="160020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15"/>
          <p:cNvSpPr/>
          <p:nvPr/>
        </p:nvSpPr>
        <p:spPr>
          <a:xfrm>
            <a:off x="3363840" y="32878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16"/>
          <p:cNvSpPr/>
          <p:nvPr/>
        </p:nvSpPr>
        <p:spPr>
          <a:xfrm>
            <a:off x="1676520" y="32878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17"/>
          <p:cNvSpPr/>
          <p:nvPr/>
        </p:nvSpPr>
        <p:spPr>
          <a:xfrm>
            <a:off x="1676520" y="160020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Line 18"/>
          <p:cNvSpPr/>
          <p:nvPr/>
        </p:nvSpPr>
        <p:spPr>
          <a:xfrm>
            <a:off x="17524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Line 19"/>
          <p:cNvSpPr/>
          <p:nvPr/>
        </p:nvSpPr>
        <p:spPr>
          <a:xfrm>
            <a:off x="17524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Line 20"/>
          <p:cNvSpPr/>
          <p:nvPr/>
        </p:nvSpPr>
        <p:spPr>
          <a:xfrm>
            <a:off x="1752480" y="1676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Line 21"/>
          <p:cNvSpPr/>
          <p:nvPr/>
        </p:nvSpPr>
        <p:spPr>
          <a:xfrm flipH="1">
            <a:off x="175212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Freeform 22"/>
          <p:cNvSpPr/>
          <p:nvPr/>
        </p:nvSpPr>
        <p:spPr>
          <a:xfrm flipH="1">
            <a:off x="1523160" y="1676520"/>
            <a:ext cx="228600" cy="167616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0" y="1056"/>
                </a:moveTo>
                <a:cubicBezTo>
                  <a:pt x="72" y="880"/>
                  <a:pt x="144" y="704"/>
                  <a:pt x="144" y="528"/>
                </a:cubicBezTo>
                <a:cubicBezTo>
                  <a:pt x="144" y="352"/>
                  <a:pt x="72" y="1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2" name="Group 23"/>
          <p:cNvGrpSpPr/>
          <p:nvPr/>
        </p:nvGrpSpPr>
        <p:grpSpPr>
          <a:xfrm>
            <a:off x="5486400" y="1133640"/>
            <a:ext cx="2541600" cy="3362040"/>
            <a:chOff x="5486400" y="1133640"/>
            <a:chExt cx="2541600" cy="3362040"/>
          </a:xfrm>
        </p:grpSpPr>
        <p:pic>
          <p:nvPicPr>
            <p:cNvPr id="2053" name="Picture 24" descr="tiger_I"/>
            <p:cNvPicPr/>
            <p:nvPr/>
          </p:nvPicPr>
          <p:blipFill>
            <a:blip r:embed="rId1"/>
            <a:stretch/>
          </p:blipFill>
          <p:spPr>
            <a:xfrm>
              <a:off x="5494320" y="1133640"/>
              <a:ext cx="253368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4" name="Rectangle 25"/>
            <p:cNvSpPr/>
            <p:nvPr/>
          </p:nvSpPr>
          <p:spPr>
            <a:xfrm>
              <a:off x="5486400" y="1133640"/>
              <a:ext cx="251460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5730840" y="1279440"/>
              <a:ext cx="1459080" cy="2957760"/>
            </a:xfrm>
            <a:custGeom>
              <a:avLst/>
              <a:gdLst/>
              <a:ahLst/>
              <a:rect l="l" t="t" r="r" b="b"/>
              <a:pathLst>
                <a:path w="919" h="1863">
                  <a:moveTo>
                    <a:pt x="6" y="0"/>
                  </a:moveTo>
                  <a:cubicBezTo>
                    <a:pt x="34" y="74"/>
                    <a:pt x="0" y="52"/>
                    <a:pt x="128" y="58"/>
                  </a:cubicBezTo>
                  <a:cubicBezTo>
                    <a:pt x="167" y="63"/>
                    <a:pt x="199" y="74"/>
                    <a:pt x="235" y="85"/>
                  </a:cubicBezTo>
                  <a:cubicBezTo>
                    <a:pt x="268" y="107"/>
                    <a:pt x="292" y="142"/>
                    <a:pt x="314" y="175"/>
                  </a:cubicBezTo>
                  <a:cubicBezTo>
                    <a:pt x="318" y="180"/>
                    <a:pt x="321" y="186"/>
                    <a:pt x="325" y="191"/>
                  </a:cubicBezTo>
                  <a:cubicBezTo>
                    <a:pt x="328" y="196"/>
                    <a:pt x="332" y="202"/>
                    <a:pt x="335" y="207"/>
                  </a:cubicBezTo>
                  <a:cubicBezTo>
                    <a:pt x="339" y="212"/>
                    <a:pt x="346" y="223"/>
                    <a:pt x="346" y="223"/>
                  </a:cubicBezTo>
                  <a:cubicBezTo>
                    <a:pt x="380" y="331"/>
                    <a:pt x="371" y="445"/>
                    <a:pt x="309" y="536"/>
                  </a:cubicBezTo>
                  <a:cubicBezTo>
                    <a:pt x="304" y="552"/>
                    <a:pt x="296" y="570"/>
                    <a:pt x="288" y="584"/>
                  </a:cubicBezTo>
                  <a:cubicBezTo>
                    <a:pt x="282" y="595"/>
                    <a:pt x="266" y="616"/>
                    <a:pt x="266" y="616"/>
                  </a:cubicBezTo>
                  <a:cubicBezTo>
                    <a:pt x="256" y="649"/>
                    <a:pt x="235" y="677"/>
                    <a:pt x="224" y="711"/>
                  </a:cubicBezTo>
                  <a:cubicBezTo>
                    <a:pt x="218" y="787"/>
                    <a:pt x="212" y="839"/>
                    <a:pt x="219" y="918"/>
                  </a:cubicBezTo>
                  <a:cubicBezTo>
                    <a:pt x="221" y="943"/>
                    <a:pt x="236" y="937"/>
                    <a:pt x="245" y="966"/>
                  </a:cubicBezTo>
                  <a:cubicBezTo>
                    <a:pt x="255" y="998"/>
                    <a:pt x="269" y="1035"/>
                    <a:pt x="288" y="1062"/>
                  </a:cubicBezTo>
                  <a:cubicBezTo>
                    <a:pt x="299" y="1097"/>
                    <a:pt x="310" y="1167"/>
                    <a:pt x="282" y="1194"/>
                  </a:cubicBezTo>
                  <a:cubicBezTo>
                    <a:pt x="259" y="1217"/>
                    <a:pt x="232" y="1221"/>
                    <a:pt x="203" y="1232"/>
                  </a:cubicBezTo>
                  <a:cubicBezTo>
                    <a:pt x="203" y="1232"/>
                    <a:pt x="182" y="1259"/>
                    <a:pt x="187" y="1264"/>
                  </a:cubicBezTo>
                  <a:cubicBezTo>
                    <a:pt x="193" y="1270"/>
                    <a:pt x="235" y="1277"/>
                    <a:pt x="245" y="1279"/>
                  </a:cubicBezTo>
                  <a:cubicBezTo>
                    <a:pt x="298" y="1277"/>
                    <a:pt x="352" y="1285"/>
                    <a:pt x="404" y="1274"/>
                  </a:cubicBezTo>
                  <a:cubicBezTo>
                    <a:pt x="417" y="1271"/>
                    <a:pt x="426" y="1242"/>
                    <a:pt x="426" y="1242"/>
                  </a:cubicBezTo>
                  <a:cubicBezTo>
                    <a:pt x="434" y="1174"/>
                    <a:pt x="435" y="1117"/>
                    <a:pt x="415" y="1051"/>
                  </a:cubicBezTo>
                  <a:cubicBezTo>
                    <a:pt x="442" y="1042"/>
                    <a:pt x="434" y="1057"/>
                    <a:pt x="458" y="1072"/>
                  </a:cubicBezTo>
                  <a:cubicBezTo>
                    <a:pt x="473" y="1096"/>
                    <a:pt x="474" y="1130"/>
                    <a:pt x="489" y="1152"/>
                  </a:cubicBezTo>
                  <a:cubicBezTo>
                    <a:pt x="500" y="1168"/>
                    <a:pt x="532" y="1189"/>
                    <a:pt x="532" y="1189"/>
                  </a:cubicBezTo>
                  <a:lnTo>
                    <a:pt x="558" y="1237"/>
                  </a:lnTo>
                  <a:cubicBezTo>
                    <a:pt x="558" y="1237"/>
                    <a:pt x="558" y="1237"/>
                    <a:pt x="558" y="1237"/>
                  </a:cubicBezTo>
                  <a:cubicBezTo>
                    <a:pt x="566" y="1259"/>
                    <a:pt x="570" y="1277"/>
                    <a:pt x="574" y="1301"/>
                  </a:cubicBezTo>
                  <a:cubicBezTo>
                    <a:pt x="578" y="1352"/>
                    <a:pt x="577" y="1380"/>
                    <a:pt x="590" y="1423"/>
                  </a:cubicBezTo>
                  <a:cubicBezTo>
                    <a:pt x="593" y="1434"/>
                    <a:pt x="596" y="1445"/>
                    <a:pt x="601" y="1455"/>
                  </a:cubicBezTo>
                  <a:cubicBezTo>
                    <a:pt x="607" y="1466"/>
                    <a:pt x="622" y="1486"/>
                    <a:pt x="622" y="1486"/>
                  </a:cubicBezTo>
                  <a:cubicBezTo>
                    <a:pt x="629" y="1508"/>
                    <a:pt x="641" y="1531"/>
                    <a:pt x="654" y="1550"/>
                  </a:cubicBezTo>
                  <a:cubicBezTo>
                    <a:pt x="661" y="1572"/>
                    <a:pt x="673" y="1595"/>
                    <a:pt x="686" y="1614"/>
                  </a:cubicBezTo>
                  <a:cubicBezTo>
                    <a:pt x="695" y="1642"/>
                    <a:pt x="688" y="1626"/>
                    <a:pt x="712" y="1662"/>
                  </a:cubicBezTo>
                  <a:cubicBezTo>
                    <a:pt x="716" y="1667"/>
                    <a:pt x="723" y="1678"/>
                    <a:pt x="723" y="1678"/>
                  </a:cubicBezTo>
                  <a:cubicBezTo>
                    <a:pt x="730" y="1702"/>
                    <a:pt x="746" y="1720"/>
                    <a:pt x="760" y="1741"/>
                  </a:cubicBezTo>
                  <a:cubicBezTo>
                    <a:pt x="791" y="1788"/>
                    <a:pt x="825" y="1845"/>
                    <a:pt x="882" y="1863"/>
                  </a:cubicBezTo>
                  <a:cubicBezTo>
                    <a:pt x="919" y="1851"/>
                    <a:pt x="909" y="1779"/>
                    <a:pt x="909" y="1752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7050240" y="3521160"/>
              <a:ext cx="806400" cy="725400"/>
            </a:xfrm>
            <a:custGeom>
              <a:avLst/>
              <a:gdLst/>
              <a:ahLst/>
              <a:rect l="l" t="t" r="r" b="b"/>
              <a:pathLst>
                <a:path w="508" h="457">
                  <a:moveTo>
                    <a:pt x="73" y="324"/>
                  </a:moveTo>
                  <a:cubicBezTo>
                    <a:pt x="62" y="317"/>
                    <a:pt x="52" y="310"/>
                    <a:pt x="41" y="303"/>
                  </a:cubicBezTo>
                  <a:cubicBezTo>
                    <a:pt x="30" y="296"/>
                    <a:pt x="19" y="271"/>
                    <a:pt x="19" y="271"/>
                  </a:cubicBezTo>
                  <a:cubicBezTo>
                    <a:pt x="4" y="222"/>
                    <a:pt x="0" y="165"/>
                    <a:pt x="46" y="133"/>
                  </a:cubicBezTo>
                  <a:cubicBezTo>
                    <a:pt x="67" y="101"/>
                    <a:pt x="88" y="69"/>
                    <a:pt x="110" y="37"/>
                  </a:cubicBezTo>
                  <a:cubicBezTo>
                    <a:pt x="124" y="16"/>
                    <a:pt x="167" y="7"/>
                    <a:pt x="189" y="0"/>
                  </a:cubicBezTo>
                  <a:cubicBezTo>
                    <a:pt x="242" y="4"/>
                    <a:pt x="250" y="0"/>
                    <a:pt x="290" y="11"/>
                  </a:cubicBezTo>
                  <a:cubicBezTo>
                    <a:pt x="301" y="14"/>
                    <a:pt x="322" y="21"/>
                    <a:pt x="322" y="21"/>
                  </a:cubicBezTo>
                  <a:cubicBezTo>
                    <a:pt x="333" y="28"/>
                    <a:pt x="343" y="36"/>
                    <a:pt x="354" y="43"/>
                  </a:cubicBezTo>
                  <a:cubicBezTo>
                    <a:pt x="359" y="46"/>
                    <a:pt x="370" y="53"/>
                    <a:pt x="370" y="53"/>
                  </a:cubicBezTo>
                  <a:cubicBezTo>
                    <a:pt x="388" y="80"/>
                    <a:pt x="417" y="94"/>
                    <a:pt x="444" y="112"/>
                  </a:cubicBezTo>
                  <a:cubicBezTo>
                    <a:pt x="455" y="119"/>
                    <a:pt x="476" y="133"/>
                    <a:pt x="476" y="133"/>
                  </a:cubicBezTo>
                  <a:cubicBezTo>
                    <a:pt x="486" y="183"/>
                    <a:pt x="497" y="232"/>
                    <a:pt x="508" y="282"/>
                  </a:cubicBezTo>
                  <a:cubicBezTo>
                    <a:pt x="506" y="301"/>
                    <a:pt x="507" y="321"/>
                    <a:pt x="503" y="340"/>
                  </a:cubicBezTo>
                  <a:cubicBezTo>
                    <a:pt x="499" y="357"/>
                    <a:pt x="486" y="357"/>
                    <a:pt x="476" y="367"/>
                  </a:cubicBezTo>
                  <a:cubicBezTo>
                    <a:pt x="457" y="386"/>
                    <a:pt x="446" y="409"/>
                    <a:pt x="423" y="425"/>
                  </a:cubicBezTo>
                  <a:cubicBezTo>
                    <a:pt x="414" y="453"/>
                    <a:pt x="394" y="448"/>
                    <a:pt x="370" y="457"/>
                  </a:cubicBezTo>
                  <a:cubicBezTo>
                    <a:pt x="352" y="455"/>
                    <a:pt x="334" y="454"/>
                    <a:pt x="317" y="451"/>
                  </a:cubicBezTo>
                  <a:cubicBezTo>
                    <a:pt x="306" y="449"/>
                    <a:pt x="296" y="444"/>
                    <a:pt x="285" y="441"/>
                  </a:cubicBezTo>
                  <a:cubicBezTo>
                    <a:pt x="280" y="439"/>
                    <a:pt x="269" y="436"/>
                    <a:pt x="269" y="436"/>
                  </a:cubicBezTo>
                  <a:cubicBezTo>
                    <a:pt x="250" y="423"/>
                    <a:pt x="227" y="411"/>
                    <a:pt x="205" y="404"/>
                  </a:cubicBezTo>
                  <a:cubicBezTo>
                    <a:pt x="186" y="391"/>
                    <a:pt x="164" y="379"/>
                    <a:pt x="142" y="372"/>
                  </a:cubicBezTo>
                  <a:cubicBezTo>
                    <a:pt x="104" y="346"/>
                    <a:pt x="103" y="362"/>
                    <a:pt x="73" y="324"/>
                  </a:cubicBezTo>
                  <a:close/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5749920" y="1236600"/>
              <a:ext cx="1735200" cy="2284560"/>
            </a:xfrm>
            <a:custGeom>
              <a:avLst/>
              <a:gdLst/>
              <a:ahLst/>
              <a:rect l="l" t="t" r="r" b="b"/>
              <a:pathLst>
                <a:path w="1093" h="1439">
                  <a:moveTo>
                    <a:pt x="0" y="0"/>
                  </a:moveTo>
                  <a:cubicBezTo>
                    <a:pt x="60" y="17"/>
                    <a:pt x="123" y="18"/>
                    <a:pt x="185" y="22"/>
                  </a:cubicBezTo>
                  <a:cubicBezTo>
                    <a:pt x="216" y="29"/>
                    <a:pt x="242" y="39"/>
                    <a:pt x="270" y="53"/>
                  </a:cubicBezTo>
                  <a:cubicBezTo>
                    <a:pt x="285" y="61"/>
                    <a:pt x="318" y="69"/>
                    <a:pt x="318" y="69"/>
                  </a:cubicBezTo>
                  <a:cubicBezTo>
                    <a:pt x="329" y="76"/>
                    <a:pt x="339" y="84"/>
                    <a:pt x="350" y="91"/>
                  </a:cubicBezTo>
                  <a:cubicBezTo>
                    <a:pt x="365" y="102"/>
                    <a:pt x="372" y="122"/>
                    <a:pt x="387" y="133"/>
                  </a:cubicBezTo>
                  <a:cubicBezTo>
                    <a:pt x="395" y="159"/>
                    <a:pt x="409" y="189"/>
                    <a:pt x="424" y="213"/>
                  </a:cubicBezTo>
                  <a:cubicBezTo>
                    <a:pt x="432" y="256"/>
                    <a:pt x="438" y="298"/>
                    <a:pt x="451" y="340"/>
                  </a:cubicBezTo>
                  <a:cubicBezTo>
                    <a:pt x="454" y="351"/>
                    <a:pt x="450" y="369"/>
                    <a:pt x="461" y="372"/>
                  </a:cubicBezTo>
                  <a:cubicBezTo>
                    <a:pt x="484" y="379"/>
                    <a:pt x="472" y="376"/>
                    <a:pt x="499" y="383"/>
                  </a:cubicBezTo>
                  <a:cubicBezTo>
                    <a:pt x="535" y="377"/>
                    <a:pt x="548" y="371"/>
                    <a:pt x="584" y="377"/>
                  </a:cubicBezTo>
                  <a:cubicBezTo>
                    <a:pt x="604" y="385"/>
                    <a:pt x="608" y="398"/>
                    <a:pt x="626" y="409"/>
                  </a:cubicBezTo>
                  <a:cubicBezTo>
                    <a:pt x="654" y="449"/>
                    <a:pt x="671" y="487"/>
                    <a:pt x="716" y="515"/>
                  </a:cubicBezTo>
                  <a:cubicBezTo>
                    <a:pt x="732" y="539"/>
                    <a:pt x="744" y="559"/>
                    <a:pt x="764" y="579"/>
                  </a:cubicBezTo>
                  <a:cubicBezTo>
                    <a:pt x="776" y="617"/>
                    <a:pt x="759" y="574"/>
                    <a:pt x="785" y="606"/>
                  </a:cubicBezTo>
                  <a:cubicBezTo>
                    <a:pt x="802" y="626"/>
                    <a:pt x="808" y="661"/>
                    <a:pt x="817" y="685"/>
                  </a:cubicBezTo>
                  <a:cubicBezTo>
                    <a:pt x="827" y="711"/>
                    <a:pt x="821" y="696"/>
                    <a:pt x="833" y="733"/>
                  </a:cubicBezTo>
                  <a:cubicBezTo>
                    <a:pt x="835" y="738"/>
                    <a:pt x="838" y="749"/>
                    <a:pt x="838" y="749"/>
                  </a:cubicBezTo>
                  <a:cubicBezTo>
                    <a:pt x="845" y="801"/>
                    <a:pt x="829" y="920"/>
                    <a:pt x="870" y="945"/>
                  </a:cubicBezTo>
                  <a:cubicBezTo>
                    <a:pt x="884" y="965"/>
                    <a:pt x="908" y="980"/>
                    <a:pt x="929" y="993"/>
                  </a:cubicBezTo>
                  <a:cubicBezTo>
                    <a:pt x="932" y="998"/>
                    <a:pt x="935" y="1004"/>
                    <a:pt x="939" y="1009"/>
                  </a:cubicBezTo>
                  <a:cubicBezTo>
                    <a:pt x="943" y="1014"/>
                    <a:pt x="951" y="1015"/>
                    <a:pt x="955" y="1020"/>
                  </a:cubicBezTo>
                  <a:cubicBezTo>
                    <a:pt x="975" y="1045"/>
                    <a:pt x="943" y="1030"/>
                    <a:pt x="977" y="1041"/>
                  </a:cubicBezTo>
                  <a:cubicBezTo>
                    <a:pt x="980" y="1046"/>
                    <a:pt x="981" y="1055"/>
                    <a:pt x="987" y="1057"/>
                  </a:cubicBezTo>
                  <a:cubicBezTo>
                    <a:pt x="1004" y="1063"/>
                    <a:pt x="1034" y="1045"/>
                    <a:pt x="1040" y="1062"/>
                  </a:cubicBezTo>
                  <a:cubicBezTo>
                    <a:pt x="1058" y="1114"/>
                    <a:pt x="1043" y="1172"/>
                    <a:pt x="1046" y="1227"/>
                  </a:cubicBezTo>
                  <a:cubicBezTo>
                    <a:pt x="1047" y="1245"/>
                    <a:pt x="1072" y="1275"/>
                    <a:pt x="1072" y="1275"/>
                  </a:cubicBezTo>
                  <a:cubicBezTo>
                    <a:pt x="1091" y="1337"/>
                    <a:pt x="1093" y="1370"/>
                    <a:pt x="1093" y="1439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7485120" y="2973240"/>
              <a:ext cx="523800" cy="481320"/>
            </a:xfrm>
            <a:custGeom>
              <a:avLst/>
              <a:gdLst/>
              <a:ahLst/>
              <a:rect l="l" t="t" r="r" b="b"/>
              <a:pathLst>
                <a:path w="330" h="303">
                  <a:moveTo>
                    <a:pt x="0" y="271"/>
                  </a:moveTo>
                  <a:cubicBezTo>
                    <a:pt x="31" y="264"/>
                    <a:pt x="63" y="267"/>
                    <a:pt x="91" y="250"/>
                  </a:cubicBezTo>
                  <a:cubicBezTo>
                    <a:pt x="101" y="234"/>
                    <a:pt x="106" y="220"/>
                    <a:pt x="112" y="202"/>
                  </a:cubicBezTo>
                  <a:cubicBezTo>
                    <a:pt x="106" y="131"/>
                    <a:pt x="77" y="26"/>
                    <a:pt x="160" y="0"/>
                  </a:cubicBezTo>
                  <a:cubicBezTo>
                    <a:pt x="182" y="15"/>
                    <a:pt x="182" y="34"/>
                    <a:pt x="191" y="58"/>
                  </a:cubicBezTo>
                  <a:cubicBezTo>
                    <a:pt x="212" y="113"/>
                    <a:pt x="219" y="176"/>
                    <a:pt x="245" y="228"/>
                  </a:cubicBezTo>
                  <a:cubicBezTo>
                    <a:pt x="257" y="251"/>
                    <a:pt x="260" y="248"/>
                    <a:pt x="287" y="266"/>
                  </a:cubicBezTo>
                  <a:cubicBezTo>
                    <a:pt x="292" y="270"/>
                    <a:pt x="293" y="277"/>
                    <a:pt x="298" y="281"/>
                  </a:cubicBezTo>
                  <a:cubicBezTo>
                    <a:pt x="308" y="289"/>
                    <a:pt x="330" y="303"/>
                    <a:pt x="330" y="303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5521320" y="3189240"/>
              <a:ext cx="506520" cy="1192320"/>
            </a:xfrm>
            <a:custGeom>
              <a:avLst/>
              <a:gdLst/>
              <a:ahLst/>
              <a:rect l="l" t="t" r="r" b="b"/>
              <a:pathLst>
                <a:path w="319" h="751">
                  <a:moveTo>
                    <a:pt x="0" y="751"/>
                  </a:moveTo>
                  <a:cubicBezTo>
                    <a:pt x="26" y="741"/>
                    <a:pt x="39" y="736"/>
                    <a:pt x="64" y="719"/>
                  </a:cubicBezTo>
                  <a:cubicBezTo>
                    <a:pt x="69" y="715"/>
                    <a:pt x="80" y="708"/>
                    <a:pt x="80" y="708"/>
                  </a:cubicBezTo>
                  <a:cubicBezTo>
                    <a:pt x="91" y="690"/>
                    <a:pt x="89" y="695"/>
                    <a:pt x="96" y="676"/>
                  </a:cubicBezTo>
                  <a:cubicBezTo>
                    <a:pt x="99" y="666"/>
                    <a:pt x="106" y="645"/>
                    <a:pt x="106" y="645"/>
                  </a:cubicBezTo>
                  <a:cubicBezTo>
                    <a:pt x="120" y="459"/>
                    <a:pt x="106" y="682"/>
                    <a:pt x="106" y="347"/>
                  </a:cubicBezTo>
                  <a:cubicBezTo>
                    <a:pt x="106" y="287"/>
                    <a:pt x="99" y="252"/>
                    <a:pt x="128" y="209"/>
                  </a:cubicBezTo>
                  <a:cubicBezTo>
                    <a:pt x="138" y="177"/>
                    <a:pt x="149" y="147"/>
                    <a:pt x="154" y="114"/>
                  </a:cubicBezTo>
                  <a:cubicBezTo>
                    <a:pt x="152" y="82"/>
                    <a:pt x="152" y="50"/>
                    <a:pt x="149" y="18"/>
                  </a:cubicBezTo>
                  <a:cubicBezTo>
                    <a:pt x="149" y="12"/>
                    <a:pt x="139" y="4"/>
                    <a:pt x="144" y="2"/>
                  </a:cubicBezTo>
                  <a:cubicBezTo>
                    <a:pt x="148" y="0"/>
                    <a:pt x="181" y="36"/>
                    <a:pt x="186" y="39"/>
                  </a:cubicBezTo>
                  <a:cubicBezTo>
                    <a:pt x="201" y="87"/>
                    <a:pt x="281" y="82"/>
                    <a:pt x="319" y="82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7080120" y="2038320"/>
              <a:ext cx="903240" cy="353880"/>
            </a:xfrm>
            <a:custGeom>
              <a:avLst/>
              <a:gdLst/>
              <a:ahLst/>
              <a:rect l="l" t="t" r="r" b="b"/>
              <a:pathLst>
                <a:path w="569" h="223">
                  <a:moveTo>
                    <a:pt x="0" y="223"/>
                  </a:moveTo>
                  <a:cubicBezTo>
                    <a:pt x="55" y="221"/>
                    <a:pt x="110" y="221"/>
                    <a:pt x="165" y="217"/>
                  </a:cubicBezTo>
                  <a:cubicBezTo>
                    <a:pt x="197" y="214"/>
                    <a:pt x="259" y="181"/>
                    <a:pt x="292" y="170"/>
                  </a:cubicBezTo>
                  <a:cubicBezTo>
                    <a:pt x="321" y="161"/>
                    <a:pt x="346" y="151"/>
                    <a:pt x="372" y="138"/>
                  </a:cubicBezTo>
                  <a:cubicBezTo>
                    <a:pt x="387" y="130"/>
                    <a:pt x="420" y="122"/>
                    <a:pt x="420" y="122"/>
                  </a:cubicBezTo>
                  <a:cubicBezTo>
                    <a:pt x="425" y="117"/>
                    <a:pt x="430" y="110"/>
                    <a:pt x="436" y="106"/>
                  </a:cubicBezTo>
                  <a:cubicBezTo>
                    <a:pt x="441" y="103"/>
                    <a:pt x="448" y="105"/>
                    <a:pt x="452" y="101"/>
                  </a:cubicBezTo>
                  <a:cubicBezTo>
                    <a:pt x="457" y="97"/>
                    <a:pt x="457" y="89"/>
                    <a:pt x="462" y="85"/>
                  </a:cubicBezTo>
                  <a:cubicBezTo>
                    <a:pt x="483" y="66"/>
                    <a:pt x="514" y="46"/>
                    <a:pt x="542" y="37"/>
                  </a:cubicBezTo>
                  <a:cubicBezTo>
                    <a:pt x="564" y="3"/>
                    <a:pt x="553" y="13"/>
                    <a:pt x="569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580000" y="2476440"/>
              <a:ext cx="488880" cy="698400"/>
            </a:xfrm>
            <a:custGeom>
              <a:avLst/>
              <a:gdLst/>
              <a:ahLst/>
              <a:rect l="l" t="t" r="r" b="b"/>
              <a:pathLst>
                <a:path w="308" h="440">
                  <a:moveTo>
                    <a:pt x="107" y="440"/>
                  </a:moveTo>
                  <a:cubicBezTo>
                    <a:pt x="90" y="397"/>
                    <a:pt x="75" y="359"/>
                    <a:pt x="64" y="313"/>
                  </a:cubicBezTo>
                  <a:cubicBezTo>
                    <a:pt x="62" y="318"/>
                    <a:pt x="60" y="324"/>
                    <a:pt x="59" y="329"/>
                  </a:cubicBezTo>
                  <a:cubicBezTo>
                    <a:pt x="57" y="338"/>
                    <a:pt x="62" y="359"/>
                    <a:pt x="53" y="356"/>
                  </a:cubicBezTo>
                  <a:cubicBezTo>
                    <a:pt x="42" y="353"/>
                    <a:pt x="49" y="333"/>
                    <a:pt x="43" y="324"/>
                  </a:cubicBezTo>
                  <a:cubicBezTo>
                    <a:pt x="19" y="287"/>
                    <a:pt x="26" y="304"/>
                    <a:pt x="16" y="276"/>
                  </a:cubicBezTo>
                  <a:cubicBezTo>
                    <a:pt x="14" y="264"/>
                    <a:pt x="13" y="251"/>
                    <a:pt x="11" y="239"/>
                  </a:cubicBezTo>
                  <a:cubicBezTo>
                    <a:pt x="8" y="219"/>
                    <a:pt x="0" y="180"/>
                    <a:pt x="0" y="180"/>
                  </a:cubicBezTo>
                  <a:cubicBezTo>
                    <a:pt x="7" y="145"/>
                    <a:pt x="6" y="143"/>
                    <a:pt x="38" y="133"/>
                  </a:cubicBezTo>
                  <a:cubicBezTo>
                    <a:pt x="48" y="126"/>
                    <a:pt x="59" y="118"/>
                    <a:pt x="69" y="111"/>
                  </a:cubicBezTo>
                  <a:cubicBezTo>
                    <a:pt x="78" y="105"/>
                    <a:pt x="101" y="101"/>
                    <a:pt x="101" y="101"/>
                  </a:cubicBezTo>
                  <a:cubicBezTo>
                    <a:pt x="138" y="76"/>
                    <a:pt x="168" y="69"/>
                    <a:pt x="213" y="64"/>
                  </a:cubicBezTo>
                  <a:cubicBezTo>
                    <a:pt x="238" y="55"/>
                    <a:pt x="252" y="35"/>
                    <a:pt x="276" y="26"/>
                  </a:cubicBezTo>
                  <a:cubicBezTo>
                    <a:pt x="291" y="4"/>
                    <a:pt x="293" y="15"/>
                    <a:pt x="308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6297480" y="1177920"/>
              <a:ext cx="1702080" cy="203040"/>
            </a:xfrm>
            <a:custGeom>
              <a:avLst/>
              <a:gdLst/>
              <a:ahLst/>
              <a:rect l="l" t="t" r="r" b="b"/>
              <a:pathLst>
                <a:path w="1072" h="128">
                  <a:moveTo>
                    <a:pt x="0" y="128"/>
                  </a:moveTo>
                  <a:cubicBezTo>
                    <a:pt x="113" y="126"/>
                    <a:pt x="226" y="125"/>
                    <a:pt x="339" y="122"/>
                  </a:cubicBezTo>
                  <a:cubicBezTo>
                    <a:pt x="374" y="121"/>
                    <a:pt x="406" y="103"/>
                    <a:pt x="440" y="101"/>
                  </a:cubicBezTo>
                  <a:cubicBezTo>
                    <a:pt x="548" y="94"/>
                    <a:pt x="655" y="88"/>
                    <a:pt x="764" y="85"/>
                  </a:cubicBezTo>
                  <a:cubicBezTo>
                    <a:pt x="816" y="81"/>
                    <a:pt x="870" y="77"/>
                    <a:pt x="918" y="53"/>
                  </a:cubicBezTo>
                  <a:cubicBezTo>
                    <a:pt x="966" y="29"/>
                    <a:pt x="1016" y="0"/>
                    <a:pt x="1072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3" name="Group 34"/>
            <p:cNvGrpSpPr/>
            <p:nvPr/>
          </p:nvGrpSpPr>
          <p:grpSpPr>
            <a:xfrm>
              <a:off x="6400800" y="2200320"/>
              <a:ext cx="457200" cy="533160"/>
              <a:chOff x="6400800" y="2200320"/>
              <a:chExt cx="457200" cy="533160"/>
            </a:xfrm>
          </p:grpSpPr>
          <p:sp>
            <p:nvSpPr>
              <p:cNvPr id="2064" name="Rectangle 35"/>
              <p:cNvSpPr/>
              <p:nvPr/>
            </p:nvSpPr>
            <p:spPr>
              <a:xfrm>
                <a:off x="6400800" y="265752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Rectangle 36"/>
              <p:cNvSpPr/>
              <p:nvPr/>
            </p:nvSpPr>
            <p:spPr>
              <a:xfrm>
                <a:off x="6781680" y="220032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66" name="AutoShape 37"/>
              <p:cNvCxnSpPr>
                <a:stCxn id="2064" idx="0"/>
                <a:endCxn id="2065" idx="1"/>
              </p:cNvCxnSpPr>
              <p:nvPr/>
            </p:nvCxnSpPr>
            <p:spPr>
              <a:xfrm flipV="1">
                <a:off x="6438960" y="2238120"/>
                <a:ext cx="343440" cy="419760"/>
              </a:xfrm>
              <a:prstGeom prst="straightConnector1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</p:cxnSp>
        </p:grpSp>
        <p:sp>
          <p:nvSpPr>
            <p:cNvPr id="2067" name="Text Box 38"/>
            <p:cNvSpPr/>
            <p:nvPr/>
          </p:nvSpPr>
          <p:spPr>
            <a:xfrm>
              <a:off x="6553080" y="2286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Line 39"/>
          <p:cNvSpPr/>
          <p:nvPr/>
        </p:nvSpPr>
        <p:spPr>
          <a:xfrm flipV="1">
            <a:off x="1752480" y="1676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Line 40"/>
          <p:cNvSpPr/>
          <p:nvPr/>
        </p:nvSpPr>
        <p:spPr>
          <a:xfrm flipV="1">
            <a:off x="2590920" y="2514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Text Box 41"/>
          <p:cNvSpPr/>
          <p:nvPr/>
        </p:nvSpPr>
        <p:spPr>
          <a:xfrm>
            <a:off x="152568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Text Box 42"/>
          <p:cNvSpPr/>
          <p:nvPr/>
        </p:nvSpPr>
        <p:spPr>
          <a:xfrm>
            <a:off x="25862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Text Box 43"/>
          <p:cNvSpPr/>
          <p:nvPr/>
        </p:nvSpPr>
        <p:spPr>
          <a:xfrm>
            <a:off x="334872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2" descr=""/>
          <p:cNvPicPr/>
          <p:nvPr/>
        </p:nvPicPr>
        <p:blipFill>
          <a:blip r:embed="rId1"/>
          <a:stretch/>
        </p:blipFill>
        <p:spPr>
          <a:xfrm>
            <a:off x="2435400" y="1239840"/>
            <a:ext cx="4267080" cy="4368960"/>
          </a:xfrm>
          <a:prstGeom prst="rect">
            <a:avLst/>
          </a:prstGeom>
          <a:ln w="0">
            <a:noFill/>
          </a:ln>
        </p:spPr>
      </p:pic>
      <p:sp>
        <p:nvSpPr>
          <p:cNvPr id="1573" name="Text Box 3"/>
          <p:cNvSpPr/>
          <p:nvPr/>
        </p:nvSpPr>
        <p:spPr>
          <a:xfrm>
            <a:off x="2354760" y="5562720"/>
            <a:ext cx="44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lusion is an important cue in group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3"/>
          <p:cNvSpPr/>
          <p:nvPr/>
        </p:nvSpPr>
        <p:spPr>
          <a:xfrm>
            <a:off x="6869880" y="6392880"/>
            <a:ext cx="18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rtesy of Bill Freeman, M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ts in a gra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links whose removal makes a graph dis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a c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Oval 4"/>
          <p:cNvSpPr/>
          <p:nvPr/>
        </p:nvSpPr>
        <p:spPr>
          <a:xfrm>
            <a:off x="2849400" y="1409760"/>
            <a:ext cx="1080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5"/>
          <p:cNvSpPr/>
          <p:nvPr/>
        </p:nvSpPr>
        <p:spPr>
          <a:xfrm>
            <a:off x="3279600" y="1295280"/>
            <a:ext cx="10656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Oval 6"/>
          <p:cNvSpPr/>
          <p:nvPr/>
        </p:nvSpPr>
        <p:spPr>
          <a:xfrm>
            <a:off x="2743200" y="1866960"/>
            <a:ext cx="1062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7"/>
          <p:cNvSpPr/>
          <p:nvPr/>
        </p:nvSpPr>
        <p:spPr>
          <a:xfrm>
            <a:off x="3386160" y="1981080"/>
            <a:ext cx="10800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Oval 8"/>
          <p:cNvSpPr/>
          <p:nvPr/>
        </p:nvSpPr>
        <p:spPr>
          <a:xfrm>
            <a:off x="3814920" y="1638360"/>
            <a:ext cx="10764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9"/>
          <p:cNvSpPr/>
          <p:nvPr/>
        </p:nvSpPr>
        <p:spPr>
          <a:xfrm>
            <a:off x="4780080" y="15238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Oval 10"/>
          <p:cNvSpPr/>
          <p:nvPr/>
        </p:nvSpPr>
        <p:spPr>
          <a:xfrm>
            <a:off x="5316480" y="19810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Oval 11"/>
          <p:cNvSpPr/>
          <p:nvPr/>
        </p:nvSpPr>
        <p:spPr>
          <a:xfrm>
            <a:off x="3065400" y="20955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Oval 12"/>
          <p:cNvSpPr/>
          <p:nvPr/>
        </p:nvSpPr>
        <p:spPr>
          <a:xfrm>
            <a:off x="3171960" y="1066680"/>
            <a:ext cx="10764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Oval 13"/>
          <p:cNvSpPr/>
          <p:nvPr/>
        </p:nvSpPr>
        <p:spPr>
          <a:xfrm>
            <a:off x="5532480" y="1523880"/>
            <a:ext cx="1062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Oval 14"/>
          <p:cNvSpPr/>
          <p:nvPr/>
        </p:nvSpPr>
        <p:spPr>
          <a:xfrm>
            <a:off x="3065400" y="16383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Oval 15"/>
          <p:cNvSpPr/>
          <p:nvPr/>
        </p:nvSpPr>
        <p:spPr>
          <a:xfrm>
            <a:off x="5102280" y="12952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Oval 16"/>
          <p:cNvSpPr/>
          <p:nvPr/>
        </p:nvSpPr>
        <p:spPr>
          <a:xfrm>
            <a:off x="4673520" y="1981080"/>
            <a:ext cx="10656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Oval 17"/>
          <p:cNvSpPr/>
          <p:nvPr/>
        </p:nvSpPr>
        <p:spPr>
          <a:xfrm>
            <a:off x="5424480" y="2324160"/>
            <a:ext cx="108000" cy="1141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9" name="AutoShape 18"/>
          <p:cNvCxnSpPr>
            <a:stCxn id="2075" idx="5"/>
            <a:endCxn id="2085" idx="1"/>
          </p:cNvCxnSpPr>
          <p:nvPr/>
        </p:nvCxnSpPr>
        <p:spPr>
          <a:xfrm>
            <a:off x="2941560" y="1506600"/>
            <a:ext cx="138960" cy="149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0" name="AutoShape 19"/>
          <p:cNvCxnSpPr>
            <a:stCxn id="2077" idx="6"/>
            <a:endCxn id="2085" idx="3"/>
          </p:cNvCxnSpPr>
          <p:nvPr/>
        </p:nvCxnSpPr>
        <p:spPr>
          <a:xfrm flipV="1">
            <a:off x="2849400" y="1734480"/>
            <a:ext cx="231120" cy="189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1" name="AutoShape 20"/>
          <p:cNvCxnSpPr>
            <a:stCxn id="2077" idx="5"/>
            <a:endCxn id="2082" idx="1"/>
          </p:cNvCxnSpPr>
          <p:nvPr/>
        </p:nvCxnSpPr>
        <p:spPr>
          <a:xfrm>
            <a:off x="2835000" y="1963800"/>
            <a:ext cx="244800" cy="149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2" name="AutoShape 21"/>
          <p:cNvCxnSpPr>
            <a:stCxn id="2075" idx="3"/>
            <a:endCxn id="2077" idx="0"/>
          </p:cNvCxnSpPr>
          <p:nvPr/>
        </p:nvCxnSpPr>
        <p:spPr>
          <a:xfrm flipH="1">
            <a:off x="2797200" y="1506240"/>
            <a:ext cx="70200" cy="36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3" name="AutoShape 22"/>
          <p:cNvCxnSpPr>
            <a:stCxn id="2085" idx="4"/>
            <a:endCxn id="2082" idx="0"/>
          </p:cNvCxnSpPr>
          <p:nvPr/>
        </p:nvCxnSpPr>
        <p:spPr>
          <a:xfrm>
            <a:off x="3119040" y="1752120"/>
            <a:ext cx="108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4" name="AutoShape 23"/>
          <p:cNvCxnSpPr>
            <a:stCxn id="2085" idx="7"/>
            <a:endCxn id="2076" idx="4"/>
          </p:cNvCxnSpPr>
          <p:nvPr/>
        </p:nvCxnSpPr>
        <p:spPr>
          <a:xfrm flipV="1">
            <a:off x="3155760" y="1409040"/>
            <a:ext cx="178200" cy="246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5" name="AutoShape 24"/>
          <p:cNvCxnSpPr>
            <a:stCxn id="2085" idx="5"/>
            <a:endCxn id="2078" idx="1"/>
          </p:cNvCxnSpPr>
          <p:nvPr/>
        </p:nvCxnSpPr>
        <p:spPr>
          <a:xfrm>
            <a:off x="3155760" y="1735200"/>
            <a:ext cx="24660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6" name="AutoShape 25"/>
          <p:cNvCxnSpPr>
            <a:stCxn id="2082" idx="6"/>
            <a:endCxn id="2078" idx="3"/>
          </p:cNvCxnSpPr>
          <p:nvPr/>
        </p:nvCxnSpPr>
        <p:spPr>
          <a:xfrm flipV="1">
            <a:off x="3171600" y="2077560"/>
            <a:ext cx="230760" cy="75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7" name="AutoShape 26"/>
          <p:cNvCxnSpPr>
            <a:stCxn id="2075" idx="7"/>
            <a:endCxn id="2083" idx="3"/>
          </p:cNvCxnSpPr>
          <p:nvPr/>
        </p:nvCxnSpPr>
        <p:spPr>
          <a:xfrm flipV="1">
            <a:off x="2941560" y="1163160"/>
            <a:ext cx="24696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8" name="AutoShape 27"/>
          <p:cNvCxnSpPr>
            <a:stCxn id="2083" idx="5"/>
            <a:endCxn id="2076" idx="0"/>
          </p:cNvCxnSpPr>
          <p:nvPr/>
        </p:nvCxnSpPr>
        <p:spPr>
          <a:xfrm>
            <a:off x="3263760" y="1163520"/>
            <a:ext cx="70200" cy="1324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9" name="AutoShape 28"/>
          <p:cNvCxnSpPr>
            <a:stCxn id="2078" idx="7"/>
            <a:endCxn id="2079" idx="3"/>
          </p:cNvCxnSpPr>
          <p:nvPr/>
        </p:nvCxnSpPr>
        <p:spPr>
          <a:xfrm flipV="1">
            <a:off x="3477960" y="1734840"/>
            <a:ext cx="35460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0" name="AutoShape 29"/>
          <p:cNvCxnSpPr>
            <a:stCxn id="2083" idx="6"/>
            <a:endCxn id="2079" idx="1"/>
          </p:cNvCxnSpPr>
          <p:nvPr/>
        </p:nvCxnSpPr>
        <p:spPr>
          <a:xfrm>
            <a:off x="3279240" y="1123560"/>
            <a:ext cx="553320" cy="532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1" name="AutoShape 30"/>
          <p:cNvCxnSpPr>
            <a:stCxn id="2085" idx="6"/>
            <a:endCxn id="2079" idx="2"/>
          </p:cNvCxnSpPr>
          <p:nvPr/>
        </p:nvCxnSpPr>
        <p:spPr>
          <a:xfrm>
            <a:off x="3171960" y="1695240"/>
            <a:ext cx="6433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2" name="AutoShape 31"/>
          <p:cNvCxnSpPr>
            <a:stCxn id="2080" idx="4"/>
            <a:endCxn id="2087" idx="0"/>
          </p:cNvCxnSpPr>
          <p:nvPr/>
        </p:nvCxnSpPr>
        <p:spPr>
          <a:xfrm flipH="1">
            <a:off x="4727160" y="1638360"/>
            <a:ext cx="10728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3" name="AutoShape 32"/>
          <p:cNvCxnSpPr>
            <a:stCxn id="2080" idx="7"/>
            <a:endCxn id="2086" idx="3"/>
          </p:cNvCxnSpPr>
          <p:nvPr/>
        </p:nvCxnSpPr>
        <p:spPr>
          <a:xfrm flipV="1">
            <a:off x="4871880" y="1391400"/>
            <a:ext cx="246960" cy="150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4" name="AutoShape 33"/>
          <p:cNvCxnSpPr>
            <a:stCxn id="2086" idx="4"/>
            <a:endCxn id="2081" idx="1"/>
          </p:cNvCxnSpPr>
          <p:nvPr/>
        </p:nvCxnSpPr>
        <p:spPr>
          <a:xfrm>
            <a:off x="5155920" y="1409760"/>
            <a:ext cx="176760" cy="5896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5" name="AutoShape 34"/>
          <p:cNvCxnSpPr>
            <a:stCxn id="2087" idx="6"/>
            <a:endCxn id="2081" idx="2"/>
          </p:cNvCxnSpPr>
          <p:nvPr/>
        </p:nvCxnSpPr>
        <p:spPr>
          <a:xfrm>
            <a:off x="4780080" y="2037960"/>
            <a:ext cx="53676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6" name="AutoShape 35"/>
          <p:cNvCxnSpPr>
            <a:stCxn id="2086" idx="5"/>
            <a:endCxn id="2084" idx="2"/>
          </p:cNvCxnSpPr>
          <p:nvPr/>
        </p:nvCxnSpPr>
        <p:spPr>
          <a:xfrm>
            <a:off x="5194080" y="1391760"/>
            <a:ext cx="338760" cy="189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7" name="AutoShape 36"/>
          <p:cNvCxnSpPr>
            <a:stCxn id="2080" idx="5"/>
            <a:endCxn id="2081" idx="1"/>
          </p:cNvCxnSpPr>
          <p:nvPr/>
        </p:nvCxnSpPr>
        <p:spPr>
          <a:xfrm>
            <a:off x="4871520" y="1620720"/>
            <a:ext cx="461160" cy="378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8" name="AutoShape 37"/>
          <p:cNvCxnSpPr>
            <a:stCxn id="2084" idx="3"/>
            <a:endCxn id="2087" idx="7"/>
          </p:cNvCxnSpPr>
          <p:nvPr/>
        </p:nvCxnSpPr>
        <p:spPr>
          <a:xfrm flipH="1">
            <a:off x="4765320" y="1620720"/>
            <a:ext cx="781920" cy="378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9" name="AutoShape 38"/>
          <p:cNvCxnSpPr>
            <a:stCxn id="2084" idx="4"/>
            <a:endCxn id="2088" idx="0"/>
          </p:cNvCxnSpPr>
          <p:nvPr/>
        </p:nvCxnSpPr>
        <p:spPr>
          <a:xfrm flipH="1">
            <a:off x="5478120" y="1638000"/>
            <a:ext cx="108720" cy="686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10" name="AutoShape 39"/>
          <p:cNvCxnSpPr>
            <a:stCxn id="2087" idx="5"/>
            <a:endCxn id="2088" idx="2"/>
          </p:cNvCxnSpPr>
          <p:nvPr/>
        </p:nvCxnSpPr>
        <p:spPr>
          <a:xfrm>
            <a:off x="4765680" y="2077560"/>
            <a:ext cx="659520" cy="304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11" name="AutoShape 40"/>
          <p:cNvCxnSpPr>
            <a:stCxn id="2079" idx="6"/>
            <a:endCxn id="2080" idx="2"/>
          </p:cNvCxnSpPr>
          <p:nvPr/>
        </p:nvCxnSpPr>
        <p:spPr>
          <a:xfrm flipV="1">
            <a:off x="3922560" y="1580760"/>
            <a:ext cx="858240" cy="1152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12" name="AutoShape 41"/>
          <p:cNvCxnSpPr>
            <a:stCxn id="2078" idx="5"/>
            <a:endCxn id="2088" idx="3"/>
          </p:cNvCxnSpPr>
          <p:nvPr/>
        </p:nvCxnSpPr>
        <p:spPr>
          <a:xfrm>
            <a:off x="3478320" y="2077560"/>
            <a:ext cx="1962720" cy="3438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13" name="AutoShape 42"/>
          <p:cNvCxnSpPr>
            <a:stCxn id="2083" idx="7"/>
            <a:endCxn id="2080" idx="1"/>
          </p:cNvCxnSpPr>
          <p:nvPr/>
        </p:nvCxnSpPr>
        <p:spPr>
          <a:xfrm>
            <a:off x="3263760" y="1084320"/>
            <a:ext cx="1534320" cy="45792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14" name="AutoShape 43"/>
          <p:cNvCxnSpPr>
            <a:stCxn id="2079" idx="5"/>
            <a:endCxn id="2087" idx="2"/>
          </p:cNvCxnSpPr>
          <p:nvPr/>
        </p:nvCxnSpPr>
        <p:spPr>
          <a:xfrm>
            <a:off x="3906720" y="1735200"/>
            <a:ext cx="767520" cy="30384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sp>
        <p:nvSpPr>
          <p:cNvPr id="2115" name="Text Box 44"/>
          <p:cNvSpPr/>
          <p:nvPr/>
        </p:nvSpPr>
        <p:spPr>
          <a:xfrm>
            <a:off x="266904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45"/>
          <p:cNvSpPr/>
          <p:nvPr/>
        </p:nvSpPr>
        <p:spPr>
          <a:xfrm>
            <a:off x="556488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7" name="Picture 46" descr="Edittex"/>
          <p:cNvPicPr/>
          <p:nvPr/>
        </p:nvPicPr>
        <p:blipFill>
          <a:blip r:embed="rId1"/>
          <a:stretch/>
        </p:blipFill>
        <p:spPr>
          <a:xfrm>
            <a:off x="2854440" y="3809880"/>
            <a:ext cx="2698560" cy="520920"/>
          </a:xfrm>
          <a:prstGeom prst="rect">
            <a:avLst/>
          </a:prstGeom>
          <a:ln w="0">
            <a:noFill/>
          </a:ln>
        </p:spPr>
      </p:pic>
      <p:sp>
        <p:nvSpPr>
          <p:cNvPr id="2118" name="Rectangle 47"/>
          <p:cNvSpPr/>
          <p:nvPr/>
        </p:nvSpPr>
        <p:spPr>
          <a:xfrm>
            <a:off x="685800" y="42670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minimum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you a 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algorithms exist for doing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t min cut is not always the best cut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0" name="Picture 4" descr="bad_cut"/>
          <p:cNvPicPr/>
          <p:nvPr/>
        </p:nvPicPr>
        <p:blipFill>
          <a:blip r:embed="rId1"/>
          <a:stretch/>
        </p:blipFill>
        <p:spPr>
          <a:xfrm>
            <a:off x="1371600" y="1600200"/>
            <a:ext cx="62485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ts in a gra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Oval 4"/>
          <p:cNvSpPr/>
          <p:nvPr/>
        </p:nvSpPr>
        <p:spPr>
          <a:xfrm>
            <a:off x="2849400" y="1409760"/>
            <a:ext cx="1080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Oval 5"/>
          <p:cNvSpPr/>
          <p:nvPr/>
        </p:nvSpPr>
        <p:spPr>
          <a:xfrm>
            <a:off x="3279600" y="1295280"/>
            <a:ext cx="10656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Oval 6"/>
          <p:cNvSpPr/>
          <p:nvPr/>
        </p:nvSpPr>
        <p:spPr>
          <a:xfrm>
            <a:off x="2743200" y="1866960"/>
            <a:ext cx="1062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Oval 7"/>
          <p:cNvSpPr/>
          <p:nvPr/>
        </p:nvSpPr>
        <p:spPr>
          <a:xfrm>
            <a:off x="3386160" y="1981080"/>
            <a:ext cx="10800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Oval 8"/>
          <p:cNvSpPr/>
          <p:nvPr/>
        </p:nvSpPr>
        <p:spPr>
          <a:xfrm>
            <a:off x="3814920" y="1638360"/>
            <a:ext cx="10764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Oval 9"/>
          <p:cNvSpPr/>
          <p:nvPr/>
        </p:nvSpPr>
        <p:spPr>
          <a:xfrm>
            <a:off x="4780080" y="15238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Oval 10"/>
          <p:cNvSpPr/>
          <p:nvPr/>
        </p:nvSpPr>
        <p:spPr>
          <a:xfrm>
            <a:off x="5316480" y="19810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Oval 11"/>
          <p:cNvSpPr/>
          <p:nvPr/>
        </p:nvSpPr>
        <p:spPr>
          <a:xfrm>
            <a:off x="3065400" y="20955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Oval 12"/>
          <p:cNvSpPr/>
          <p:nvPr/>
        </p:nvSpPr>
        <p:spPr>
          <a:xfrm>
            <a:off x="3171960" y="1066680"/>
            <a:ext cx="10764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Oval 13"/>
          <p:cNvSpPr/>
          <p:nvPr/>
        </p:nvSpPr>
        <p:spPr>
          <a:xfrm>
            <a:off x="5532480" y="1523880"/>
            <a:ext cx="1062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Oval 14"/>
          <p:cNvSpPr/>
          <p:nvPr/>
        </p:nvSpPr>
        <p:spPr>
          <a:xfrm>
            <a:off x="3065400" y="16383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Oval 15"/>
          <p:cNvSpPr/>
          <p:nvPr/>
        </p:nvSpPr>
        <p:spPr>
          <a:xfrm>
            <a:off x="5102280" y="12952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Oval 16"/>
          <p:cNvSpPr/>
          <p:nvPr/>
        </p:nvSpPr>
        <p:spPr>
          <a:xfrm>
            <a:off x="4673520" y="1981080"/>
            <a:ext cx="10656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Oval 17"/>
          <p:cNvSpPr/>
          <p:nvPr/>
        </p:nvSpPr>
        <p:spPr>
          <a:xfrm>
            <a:off x="5424480" y="2324160"/>
            <a:ext cx="108000" cy="1141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6" name="AutoShape 18"/>
          <p:cNvCxnSpPr>
            <a:stCxn id="2122" idx="5"/>
            <a:endCxn id="2132" idx="1"/>
          </p:cNvCxnSpPr>
          <p:nvPr/>
        </p:nvCxnSpPr>
        <p:spPr>
          <a:xfrm>
            <a:off x="2941560" y="1506600"/>
            <a:ext cx="138960" cy="149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37" name="AutoShape 19"/>
          <p:cNvCxnSpPr>
            <a:stCxn id="2124" idx="6"/>
            <a:endCxn id="2132" idx="3"/>
          </p:cNvCxnSpPr>
          <p:nvPr/>
        </p:nvCxnSpPr>
        <p:spPr>
          <a:xfrm flipV="1">
            <a:off x="2849400" y="1734480"/>
            <a:ext cx="231120" cy="189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38" name="AutoShape 20"/>
          <p:cNvCxnSpPr>
            <a:stCxn id="2124" idx="5"/>
            <a:endCxn id="2129" idx="1"/>
          </p:cNvCxnSpPr>
          <p:nvPr/>
        </p:nvCxnSpPr>
        <p:spPr>
          <a:xfrm>
            <a:off x="2835000" y="1963800"/>
            <a:ext cx="244800" cy="149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39" name="AutoShape 21"/>
          <p:cNvCxnSpPr>
            <a:stCxn id="2122" idx="3"/>
            <a:endCxn id="2124" idx="0"/>
          </p:cNvCxnSpPr>
          <p:nvPr/>
        </p:nvCxnSpPr>
        <p:spPr>
          <a:xfrm flipH="1">
            <a:off x="2797200" y="1506240"/>
            <a:ext cx="70200" cy="36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0" name="AutoShape 22"/>
          <p:cNvCxnSpPr>
            <a:stCxn id="2132" idx="4"/>
            <a:endCxn id="2129" idx="0"/>
          </p:cNvCxnSpPr>
          <p:nvPr/>
        </p:nvCxnSpPr>
        <p:spPr>
          <a:xfrm>
            <a:off x="3119040" y="1752120"/>
            <a:ext cx="108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1" name="AutoShape 23"/>
          <p:cNvCxnSpPr>
            <a:stCxn id="2132" idx="7"/>
            <a:endCxn id="2123" idx="4"/>
          </p:cNvCxnSpPr>
          <p:nvPr/>
        </p:nvCxnSpPr>
        <p:spPr>
          <a:xfrm flipV="1">
            <a:off x="3155760" y="1409040"/>
            <a:ext cx="178200" cy="246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2" name="AutoShape 24"/>
          <p:cNvCxnSpPr>
            <a:stCxn id="2132" idx="5"/>
            <a:endCxn id="2125" idx="1"/>
          </p:cNvCxnSpPr>
          <p:nvPr/>
        </p:nvCxnSpPr>
        <p:spPr>
          <a:xfrm>
            <a:off x="3155760" y="1735200"/>
            <a:ext cx="24660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3" name="AutoShape 25"/>
          <p:cNvCxnSpPr>
            <a:stCxn id="2129" idx="6"/>
            <a:endCxn id="2125" idx="3"/>
          </p:cNvCxnSpPr>
          <p:nvPr/>
        </p:nvCxnSpPr>
        <p:spPr>
          <a:xfrm flipV="1">
            <a:off x="3171600" y="2077560"/>
            <a:ext cx="230760" cy="75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4" name="AutoShape 26"/>
          <p:cNvCxnSpPr>
            <a:stCxn id="2122" idx="7"/>
            <a:endCxn id="2130" idx="3"/>
          </p:cNvCxnSpPr>
          <p:nvPr/>
        </p:nvCxnSpPr>
        <p:spPr>
          <a:xfrm flipV="1">
            <a:off x="2941560" y="1163160"/>
            <a:ext cx="24696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5" name="AutoShape 27"/>
          <p:cNvCxnSpPr>
            <a:stCxn id="2130" idx="5"/>
            <a:endCxn id="2123" idx="0"/>
          </p:cNvCxnSpPr>
          <p:nvPr/>
        </p:nvCxnSpPr>
        <p:spPr>
          <a:xfrm>
            <a:off x="3263760" y="1163520"/>
            <a:ext cx="70200" cy="1324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6" name="AutoShape 28"/>
          <p:cNvCxnSpPr>
            <a:stCxn id="2125" idx="7"/>
            <a:endCxn id="2126" idx="3"/>
          </p:cNvCxnSpPr>
          <p:nvPr/>
        </p:nvCxnSpPr>
        <p:spPr>
          <a:xfrm flipV="1">
            <a:off x="3477960" y="1734840"/>
            <a:ext cx="35460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7" name="AutoShape 29"/>
          <p:cNvCxnSpPr>
            <a:stCxn id="2130" idx="6"/>
            <a:endCxn id="2126" idx="1"/>
          </p:cNvCxnSpPr>
          <p:nvPr/>
        </p:nvCxnSpPr>
        <p:spPr>
          <a:xfrm>
            <a:off x="3279240" y="1123560"/>
            <a:ext cx="553320" cy="532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8" name="AutoShape 30"/>
          <p:cNvCxnSpPr>
            <a:stCxn id="2132" idx="6"/>
            <a:endCxn id="2126" idx="2"/>
          </p:cNvCxnSpPr>
          <p:nvPr/>
        </p:nvCxnSpPr>
        <p:spPr>
          <a:xfrm>
            <a:off x="3171960" y="1695240"/>
            <a:ext cx="6433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9" name="AutoShape 31"/>
          <p:cNvCxnSpPr>
            <a:stCxn id="2127" idx="4"/>
            <a:endCxn id="2134" idx="0"/>
          </p:cNvCxnSpPr>
          <p:nvPr/>
        </p:nvCxnSpPr>
        <p:spPr>
          <a:xfrm flipH="1">
            <a:off x="4727160" y="1638360"/>
            <a:ext cx="10728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0" name="AutoShape 32"/>
          <p:cNvCxnSpPr>
            <a:stCxn id="2127" idx="7"/>
            <a:endCxn id="2133" idx="3"/>
          </p:cNvCxnSpPr>
          <p:nvPr/>
        </p:nvCxnSpPr>
        <p:spPr>
          <a:xfrm flipV="1">
            <a:off x="4871880" y="1391400"/>
            <a:ext cx="246960" cy="150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1" name="AutoShape 33"/>
          <p:cNvCxnSpPr>
            <a:stCxn id="2133" idx="4"/>
            <a:endCxn id="2128" idx="1"/>
          </p:cNvCxnSpPr>
          <p:nvPr/>
        </p:nvCxnSpPr>
        <p:spPr>
          <a:xfrm>
            <a:off x="5155920" y="1409760"/>
            <a:ext cx="176760" cy="5896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2" name="AutoShape 34"/>
          <p:cNvCxnSpPr>
            <a:stCxn id="2134" idx="6"/>
            <a:endCxn id="2128" idx="2"/>
          </p:cNvCxnSpPr>
          <p:nvPr/>
        </p:nvCxnSpPr>
        <p:spPr>
          <a:xfrm>
            <a:off x="4780080" y="2037960"/>
            <a:ext cx="53676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3" name="AutoShape 35"/>
          <p:cNvCxnSpPr>
            <a:stCxn id="2133" idx="5"/>
            <a:endCxn id="2131" idx="2"/>
          </p:cNvCxnSpPr>
          <p:nvPr/>
        </p:nvCxnSpPr>
        <p:spPr>
          <a:xfrm>
            <a:off x="5194080" y="1391760"/>
            <a:ext cx="338760" cy="189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4" name="AutoShape 36"/>
          <p:cNvCxnSpPr>
            <a:stCxn id="2127" idx="5"/>
            <a:endCxn id="2128" idx="1"/>
          </p:cNvCxnSpPr>
          <p:nvPr/>
        </p:nvCxnSpPr>
        <p:spPr>
          <a:xfrm>
            <a:off x="4871520" y="1620720"/>
            <a:ext cx="461160" cy="378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5" name="AutoShape 37"/>
          <p:cNvCxnSpPr>
            <a:stCxn id="2131" idx="3"/>
            <a:endCxn id="2134" idx="7"/>
          </p:cNvCxnSpPr>
          <p:nvPr/>
        </p:nvCxnSpPr>
        <p:spPr>
          <a:xfrm flipH="1">
            <a:off x="4765320" y="1620720"/>
            <a:ext cx="781920" cy="378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6" name="AutoShape 38"/>
          <p:cNvCxnSpPr>
            <a:stCxn id="2131" idx="4"/>
            <a:endCxn id="2135" idx="0"/>
          </p:cNvCxnSpPr>
          <p:nvPr/>
        </p:nvCxnSpPr>
        <p:spPr>
          <a:xfrm flipH="1">
            <a:off x="5478120" y="1638000"/>
            <a:ext cx="108720" cy="686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7" name="AutoShape 39"/>
          <p:cNvCxnSpPr>
            <a:stCxn id="2134" idx="5"/>
            <a:endCxn id="2135" idx="2"/>
          </p:cNvCxnSpPr>
          <p:nvPr/>
        </p:nvCxnSpPr>
        <p:spPr>
          <a:xfrm>
            <a:off x="4765680" y="2077560"/>
            <a:ext cx="659520" cy="304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8" name="AutoShape 40"/>
          <p:cNvCxnSpPr>
            <a:stCxn id="2126" idx="6"/>
            <a:endCxn id="2127" idx="2"/>
          </p:cNvCxnSpPr>
          <p:nvPr/>
        </p:nvCxnSpPr>
        <p:spPr>
          <a:xfrm flipV="1">
            <a:off x="3922560" y="1580760"/>
            <a:ext cx="858240" cy="1152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59" name="AutoShape 41"/>
          <p:cNvCxnSpPr>
            <a:stCxn id="2125" idx="5"/>
            <a:endCxn id="2135" idx="3"/>
          </p:cNvCxnSpPr>
          <p:nvPr/>
        </p:nvCxnSpPr>
        <p:spPr>
          <a:xfrm>
            <a:off x="3478320" y="2077560"/>
            <a:ext cx="1962720" cy="3438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60" name="AutoShape 42"/>
          <p:cNvCxnSpPr>
            <a:stCxn id="2130" idx="7"/>
            <a:endCxn id="2127" idx="1"/>
          </p:cNvCxnSpPr>
          <p:nvPr/>
        </p:nvCxnSpPr>
        <p:spPr>
          <a:xfrm>
            <a:off x="3263760" y="1084320"/>
            <a:ext cx="1534320" cy="45792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61" name="AutoShape 43"/>
          <p:cNvCxnSpPr>
            <a:stCxn id="2126" idx="5"/>
            <a:endCxn id="2134" idx="2"/>
          </p:cNvCxnSpPr>
          <p:nvPr/>
        </p:nvCxnSpPr>
        <p:spPr>
          <a:xfrm>
            <a:off x="3906720" y="1735200"/>
            <a:ext cx="767520" cy="30384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sp>
        <p:nvSpPr>
          <p:cNvPr id="2162" name="Text Box 44"/>
          <p:cNvSpPr/>
          <p:nvPr/>
        </p:nvSpPr>
        <p:spPr>
          <a:xfrm>
            <a:off x="266904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Text Box 45"/>
          <p:cNvSpPr/>
          <p:nvPr/>
        </p:nvSpPr>
        <p:spPr>
          <a:xfrm>
            <a:off x="556488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Rectangle 47"/>
          <p:cNvSpPr/>
          <p:nvPr/>
        </p:nvSpPr>
        <p:spPr>
          <a:xfrm>
            <a:off x="68580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t penalizes larg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by normalizing for size of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(A) = sum of costs of all edges that touc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5" name="Picture 56" descr="Edittex"/>
          <p:cNvPicPr/>
          <p:nvPr/>
        </p:nvPicPr>
        <p:blipFill>
          <a:blip r:embed="rId1"/>
          <a:stretch/>
        </p:blipFill>
        <p:spPr>
          <a:xfrm>
            <a:off x="1662120" y="4525920"/>
            <a:ext cx="44989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pretation as a Dynamical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the links as springs and shak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ity proportional to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ation “modes” correspond to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mpute these by solving an eigenvector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nmovie.mpeg" descr=""/>
          <p:cNvPicPr/>
          <p:nvPr/>
        </p:nvPicPr>
        <p:blipFill>
          <a:blip r:embed="rId1"/>
          <a:stretch/>
        </p:blipFill>
        <p:spPr>
          <a:xfrm>
            <a:off x="3670200" y="1219320"/>
            <a:ext cx="4953240" cy="355428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aluminum"/>
          <p:cNvPicPr/>
          <p:nvPr/>
        </p:nvPicPr>
        <p:blipFill>
          <a:blip r:embed="rId2"/>
          <a:stretch/>
        </p:blipFill>
        <p:spPr>
          <a:xfrm>
            <a:off x="469800" y="1981080"/>
            <a:ext cx="280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2168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168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2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pretation as a Dynamical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1" name="balus_movie.mpeg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4870440" cy="3497040"/>
          </a:xfrm>
          <a:prstGeom prst="rect">
            <a:avLst/>
          </a:prstGeom>
          <a:ln w="0">
            <a:noFill/>
          </a:ln>
        </p:spPr>
      </p:pic>
      <p:pic>
        <p:nvPicPr>
          <p:cNvPr id="2172" name="Picture 4" descr="balus_image"/>
          <p:cNvPicPr/>
          <p:nvPr/>
        </p:nvPicPr>
        <p:blipFill>
          <a:blip r:embed="rId2"/>
          <a:stretch/>
        </p:blipFill>
        <p:spPr>
          <a:xfrm>
            <a:off x="311040" y="1981080"/>
            <a:ext cx="3467160" cy="2133720"/>
          </a:xfrm>
          <a:prstGeom prst="rect">
            <a:avLst/>
          </a:prstGeom>
          <a:ln w="0">
            <a:noFill/>
          </a:ln>
        </p:spPr>
      </p:pic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the links as springs and shak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ity proportional to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ation “modes” correspond to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mpute these by solving an eigenvector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2171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2171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2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Image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5" name="Picture 3" descr="color+t2"/>
          <p:cNvPicPr/>
          <p:nvPr/>
        </p:nvPicPr>
        <p:blipFill>
          <a:blip r:embed="rId1"/>
          <a:stretch/>
        </p:blipFill>
        <p:spPr>
          <a:xfrm>
            <a:off x="533520" y="990720"/>
            <a:ext cx="80010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ich is bes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TextBox 2"/>
          <p:cNvSpPr/>
          <p:nvPr/>
        </p:nvSpPr>
        <p:spPr>
          <a:xfrm>
            <a:off x="533520" y="11430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mean-shift and normalized cuts are pop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cuts can handle complex similarly meas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do a better job than K-means at segmenting areas of smoothly varying intens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s by Invisible Comple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Picture 3" descr="SteveLeharBioSeg4"/>
          <p:cNvPicPr/>
          <p:nvPr/>
        </p:nvPicPr>
        <p:blipFill>
          <a:blip r:embed="rId1"/>
          <a:stretch/>
        </p:blipFill>
        <p:spPr>
          <a:xfrm>
            <a:off x="1981080" y="1523880"/>
            <a:ext cx="4686480" cy="4781520"/>
          </a:xfrm>
          <a:prstGeom prst="rect">
            <a:avLst/>
          </a:prstGeom>
          <a:ln w="0">
            <a:noFill/>
          </a:ln>
        </p:spPr>
      </p:pic>
      <p:sp>
        <p:nvSpPr>
          <p:cNvPr id="1577" name="Text Box 4"/>
          <p:cNvSpPr/>
          <p:nvPr/>
        </p:nvSpPr>
        <p:spPr>
          <a:xfrm>
            <a:off x="3838320" y="6613560"/>
            <a:ext cx="530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Images from Steve Lehar’s Gestalt papers: http://cns-alumni.bu.edu/pub/slehar/Lehar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e famous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Picture 3" descr="dog"/>
          <p:cNvPicPr/>
          <p:nvPr/>
        </p:nvPicPr>
        <p:blipFill>
          <a:blip r:embed="rId1"/>
          <a:stretch/>
        </p:blipFill>
        <p:spPr>
          <a:xfrm>
            <a:off x="2133720" y="1905120"/>
            <a:ext cx="49528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stalt psych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533520" y="93492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hole is greater than the sum of the pa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Box 1"/>
          <p:cNvSpPr/>
          <p:nvPr/>
        </p:nvSpPr>
        <p:spPr>
          <a:xfrm>
            <a:off x="5562720" y="61149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chler and Firshein, 19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3" name="Picture 18" descr="http://www.siggraph.org/education/materials/HyperVis/vision/gestalt.gif"/>
          <p:cNvPicPr/>
          <p:nvPr/>
        </p:nvPicPr>
        <p:blipFill>
          <a:blip r:embed="rId1"/>
          <a:stretch/>
        </p:blipFill>
        <p:spPr>
          <a:xfrm>
            <a:off x="4572000" y="1523880"/>
            <a:ext cx="4048200" cy="4591080"/>
          </a:xfrm>
          <a:prstGeom prst="rect">
            <a:avLst/>
          </a:prstGeom>
          <a:ln w="0">
            <a:noFill/>
          </a:ln>
        </p:spPr>
      </p:pic>
      <p:sp>
        <p:nvSpPr>
          <p:cNvPr id="1584" name="TextBox 2"/>
          <p:cNvSpPr/>
          <p:nvPr/>
        </p:nvSpPr>
        <p:spPr>
          <a:xfrm>
            <a:off x="685800" y="1981080"/>
            <a:ext cx="3429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of Proxim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timulus elements that are closed together tend to be perceived a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of Simil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imilar stimuli tend to be grouped, this tendency can even dominate grouping due to proxi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of Clos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timuli tend to be grouped into complete fig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of Good Continu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timuli tend to be grouped as to minimize change or discontinu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of Symmet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Regions bound by symmetrical boarders tend to be perceived as coherent fig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Simplic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Ambiguous stimuli tend to be resolved in favor of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 histogr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85440" y="35812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“orange” pixels are in this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ype of question answered by looking a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stogram counts the number of occurrences of each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gram is defined 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mension of the histogram of an NxN RGB im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7" name="Picture 4" descr="tiger"/>
          <p:cNvPicPr/>
          <p:nvPr/>
        </p:nvPicPr>
        <p:blipFill>
          <a:blip r:embed="rId1"/>
          <a:stretch/>
        </p:blipFill>
        <p:spPr>
          <a:xfrm>
            <a:off x="3200400" y="1066680"/>
            <a:ext cx="3108240" cy="234324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7" descr="Edittex"/>
          <p:cNvPicPr/>
          <p:nvPr/>
        </p:nvPicPr>
        <p:blipFill>
          <a:blip r:embed="rId2"/>
          <a:stretch/>
        </p:blipFill>
        <p:spPr>
          <a:xfrm>
            <a:off x="3727440" y="5029200"/>
            <a:ext cx="2292480" cy="31752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10" descr="Edittex"/>
          <p:cNvPicPr/>
          <p:nvPr/>
        </p:nvPicPr>
        <p:blipFill>
          <a:blip r:embed="rId3"/>
          <a:stretch/>
        </p:blipFill>
        <p:spPr>
          <a:xfrm>
            <a:off x="2666880" y="5916600"/>
            <a:ext cx="464688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 histograms look lik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4"/>
          <p:cNvSpPr/>
          <p:nvPr/>
        </p:nvSpPr>
        <p:spPr>
          <a:xfrm>
            <a:off x="18939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Group 10"/>
          <p:cNvGrpSpPr/>
          <p:nvPr/>
        </p:nvGrpSpPr>
        <p:grpSpPr>
          <a:xfrm>
            <a:off x="1893960" y="1967040"/>
            <a:ext cx="5357880" cy="2925720"/>
            <a:chOff x="1893960" y="1967040"/>
            <a:chExt cx="5357880" cy="2925720"/>
          </a:xfrm>
        </p:grpSpPr>
        <p:sp>
          <p:nvSpPr>
            <p:cNvPr id="1593" name="Rectangle 5"/>
            <p:cNvSpPr/>
            <p:nvPr/>
          </p:nvSpPr>
          <p:spPr>
            <a:xfrm>
              <a:off x="1893960" y="1967040"/>
              <a:ext cx="535788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Group 9"/>
            <p:cNvGrpSpPr/>
            <p:nvPr/>
          </p:nvGrpSpPr>
          <p:grpSpPr>
            <a:xfrm>
              <a:off x="1893960" y="1967040"/>
              <a:ext cx="2679840" cy="2925720"/>
              <a:chOff x="1893960" y="1967040"/>
              <a:chExt cx="2679840" cy="2925720"/>
            </a:xfrm>
          </p:grpSpPr>
          <p:sp>
            <p:nvSpPr>
              <p:cNvPr id="1595" name="Rectangle 6"/>
              <p:cNvSpPr/>
              <p:nvPr/>
            </p:nvSpPr>
            <p:spPr>
              <a:xfrm>
                <a:off x="1893960" y="1967040"/>
                <a:ext cx="2679840" cy="20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Rectangle 7"/>
              <p:cNvSpPr/>
              <p:nvPr/>
            </p:nvSpPr>
            <p:spPr>
              <a:xfrm>
                <a:off x="1893960" y="1967040"/>
                <a:ext cx="2679840" cy="29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97" name="Picture 8" descr="fig_2_1_1"/>
          <p:cNvPicPr/>
          <p:nvPr/>
        </p:nvPicPr>
        <p:blipFill>
          <a:blip r:embed="rId1"/>
          <a:stretch/>
        </p:blipFill>
        <p:spPr>
          <a:xfrm>
            <a:off x="609480" y="20131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1598" name="Rectangle 11"/>
          <p:cNvSpPr/>
          <p:nvPr/>
        </p:nvSpPr>
        <p:spPr>
          <a:xfrm>
            <a:off x="189396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9" name="Picture 15" descr="fig_2_1_2"/>
          <p:cNvPicPr/>
          <p:nvPr/>
        </p:nvPicPr>
        <p:blipFill>
          <a:blip r:embed="rId2"/>
          <a:stretch/>
        </p:blipFill>
        <p:spPr>
          <a:xfrm>
            <a:off x="4572000" y="2362320"/>
            <a:ext cx="4103640" cy="1822320"/>
          </a:xfrm>
          <a:prstGeom prst="rect">
            <a:avLst/>
          </a:prstGeom>
          <a:ln w="0">
            <a:noFill/>
          </a:ln>
        </p:spPr>
      </p:pic>
      <p:sp>
        <p:nvSpPr>
          <p:cNvPr id="1600" name="Rectangle 18"/>
          <p:cNvSpPr/>
          <p:nvPr/>
        </p:nvSpPr>
        <p:spPr>
          <a:xfrm>
            <a:off x="685800" y="53341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Modes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see, hard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7:20:27Z</dcterms:created>
  <dc:creator>Steve Seitz</dc:creator>
  <dc:description/>
  <dc:language>en-US</dc:language>
  <cp:lastModifiedBy>Larry Zitnick</cp:lastModifiedBy>
  <cp:lastPrinted>1999-10-04T18:53:50Z</cp:lastPrinted>
  <dcterms:modified xsi:type="dcterms:W3CDTF">2011-04-06T23:55:50Z</dcterms:modified>
  <cp:revision>532</cp:revision>
  <dc:subject/>
  <dc:title>Computer Vision: Segmentation2</dc:title>
</cp:coreProperties>
</file>