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5.wmf" ContentType="image/x-wmf"/>
  <Override PartName="/ppt/media/image14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50.jpeg" ContentType="image/jpeg"/>
  <Override PartName="/ppt/media/image11.png" ContentType="image/png"/>
  <Override PartName="/ppt/media/image4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  <p:sldId id="279" r:id="rId64"/>
    <p:sldId id="280" r:id="rId65"/>
    <p:sldId id="281" r:id="rId66"/>
    <p:sldId id="282" r:id="rId67"/>
    <p:sldId id="283" r:id="rId68"/>
    <p:sldId id="284" r:id="rId69"/>
    <p:sldId id="285" r:id="rId70"/>
    <p:sldId id="286" r:id="rId71"/>
    <p:sldId id="287" r:id="rId72"/>
    <p:sldId id="288" r:id="rId73"/>
    <p:sldId id="289" r:id="rId74"/>
    <p:sldId id="290" r:id="rId75"/>
    <p:sldId id="291" r:id="rId76"/>
    <p:sldId id="292" r:id="rId77"/>
    <p:sldId id="293" r:id="rId78"/>
    <p:sldId id="294" r:id="rId79"/>
    <p:sldId id="295" r:id="rId80"/>
    <p:sldId id="296" r:id="rId81"/>
    <p:sldId id="297" r:id="rId82"/>
    <p:sldId id="298" r:id="rId83"/>
    <p:sldId id="299" r:id="rId84"/>
    <p:sldId id="300" r:id="rId85"/>
    <p:sldId id="301" r:id="rId8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slide" Target="slides/slide24.xml"/><Relationship Id="rId65" Type="http://schemas.openxmlformats.org/officeDocument/2006/relationships/slide" Target="slides/slide25.xml"/><Relationship Id="rId66" Type="http://schemas.openxmlformats.org/officeDocument/2006/relationships/slide" Target="slides/slide26.xml"/><Relationship Id="rId67" Type="http://schemas.openxmlformats.org/officeDocument/2006/relationships/slide" Target="slides/slide27.xml"/><Relationship Id="rId68" Type="http://schemas.openxmlformats.org/officeDocument/2006/relationships/slide" Target="slides/slide28.xml"/><Relationship Id="rId69" Type="http://schemas.openxmlformats.org/officeDocument/2006/relationships/slide" Target="slides/slide29.xml"/><Relationship Id="rId70" Type="http://schemas.openxmlformats.org/officeDocument/2006/relationships/slide" Target="slides/slide30.xml"/><Relationship Id="rId71" Type="http://schemas.openxmlformats.org/officeDocument/2006/relationships/slide" Target="slides/slide31.xml"/><Relationship Id="rId72" Type="http://schemas.openxmlformats.org/officeDocument/2006/relationships/slide" Target="slides/slide32.xml"/><Relationship Id="rId73" Type="http://schemas.openxmlformats.org/officeDocument/2006/relationships/slide" Target="slides/slide33.xml"/><Relationship Id="rId74" Type="http://schemas.openxmlformats.org/officeDocument/2006/relationships/slide" Target="slides/slide34.xml"/><Relationship Id="rId75" Type="http://schemas.openxmlformats.org/officeDocument/2006/relationships/slide" Target="slides/slide35.xml"/><Relationship Id="rId76" Type="http://schemas.openxmlformats.org/officeDocument/2006/relationships/slide" Target="slides/slide36.xml"/><Relationship Id="rId77" Type="http://schemas.openxmlformats.org/officeDocument/2006/relationships/slide" Target="slides/slide37.xml"/><Relationship Id="rId78" Type="http://schemas.openxmlformats.org/officeDocument/2006/relationships/slide" Target="slides/slide38.xml"/><Relationship Id="rId79" Type="http://schemas.openxmlformats.org/officeDocument/2006/relationships/slide" Target="slides/slide39.xml"/><Relationship Id="rId80" Type="http://schemas.openxmlformats.org/officeDocument/2006/relationships/slide" Target="slides/slide40.xml"/><Relationship Id="rId81" Type="http://schemas.openxmlformats.org/officeDocument/2006/relationships/slide" Target="slides/slide41.xml"/><Relationship Id="rId82" Type="http://schemas.openxmlformats.org/officeDocument/2006/relationships/slide" Target="slides/slide42.xml"/><Relationship Id="rId83" Type="http://schemas.openxmlformats.org/officeDocument/2006/relationships/slide" Target="slides/slide43.xml"/><Relationship Id="rId84" Type="http://schemas.openxmlformats.org/officeDocument/2006/relationships/slide" Target="slides/slide44.xml"/><Relationship Id="rId85" Type="http://schemas.openxmlformats.org/officeDocument/2006/relationships/slide" Target="slides/slide45.xml"/><Relationship Id="rId86" Type="http://schemas.openxmlformats.org/officeDocument/2006/relationships/slide" Target="slides/slide46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dt" idx="112"/>
          </p:nvPr>
        </p:nvSpPr>
        <p:spPr>
          <a:xfrm>
            <a:off x="3938400" y="-36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sldImg"/>
          </p:nvPr>
        </p:nvSpPr>
        <p:spPr>
          <a:xfrm>
            <a:off x="1174320" y="693720"/>
            <a:ext cx="462132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body"/>
          </p:nvPr>
        </p:nvSpPr>
        <p:spPr>
          <a:xfrm>
            <a:off x="907920" y="4389120"/>
            <a:ext cx="5151600" cy="4235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ftr" idx="113"/>
          </p:nvPr>
        </p:nvSpPr>
        <p:spPr>
          <a:xfrm>
            <a:off x="-360" y="8856360"/>
            <a:ext cx="30272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 type="sldNum" idx="114"/>
          </p:nvPr>
        </p:nvSpPr>
        <p:spPr>
          <a:xfrm>
            <a:off x="3938400" y="885636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1C4014-6BD6-495F-A185-90783374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7A5F44-039F-4987-891D-A9EE20AE8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F842EE-C995-41BF-9201-3A3BBA232E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lusion cues seem to be very important in grouping.  Most people find it hard to read the 5 numeral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60033B-18A2-47D1-9C08-16D7CA509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asy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24773A-E624-4969-8AE0-617A86D184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7"/>
          <p:cNvSpPr/>
          <p:nvPr/>
        </p:nvSpPr>
        <p:spPr>
          <a:xfrm>
            <a:off x="3938760" y="8856720"/>
            <a:ext cx="302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83865C-067A-4C34-B88D-734F9C9E0B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FE9-1613-471F-86F3-80581676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FD1-26CA-480A-91A2-408E8C06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50CC1-D0E0-49B5-8640-DAB97BC1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09E47-58EE-4FC2-B95C-1179993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F6E62-E875-4B2B-8EFA-B1DB5E9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707F7-8600-403F-957F-B34DC97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32866-82F7-4F43-8C2E-AE13B8C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9C55-B206-41A8-AB59-38CAE0B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F81F7-8692-4FC0-A525-F324A35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E472-C227-4949-9889-F475CC59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1E551-C2F4-48DA-89FF-BF91EEAC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8AFA3-FF4C-41A4-ADE5-D892EF13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417-F606-44FD-9009-3C6FCEAC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AAD18-2D29-491A-9E08-B992B314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F4836-7FB9-470C-9A3B-0755663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977C6-2E5D-4D99-A1A6-E2EAB39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7BEF1-798E-4A9D-B67C-90FBD0D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18EF7-B60D-4AC9-B20B-45627370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B66ED-11AE-4463-BDFB-C92A8879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07D69-1CC9-432D-9880-ED209CB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3875E-14E7-403B-8ECE-01E720D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CA160-281B-4620-AA41-145F16D2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A6E08-88B3-4529-8B72-641481E6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B67-B22F-4C8A-84C3-8BF2E96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5699-5944-46A3-8C04-66563C8F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887A-1228-4C0B-AE32-2724B55E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69A7-676B-4EA7-AEB1-D4938BD6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A9342-28D4-44D8-8093-5DF2559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4DD0C-C24D-41C6-BF62-921BBBB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DA64-282E-43D8-B7ED-9AF6D50D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9BC46-C3F2-48B2-9083-2498319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0BF0-F774-4515-888E-710F3E1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C3127-699B-4FA5-98E6-BADE393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4D47A-DCCE-4651-BEF0-19CACB7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3B64-E5AE-456C-9837-4F61C14D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52F8D-EF29-4566-9CB3-9F98FBA1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1D710-7C03-4295-A9A2-DB3AB2BB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598DF-40EE-4D0F-B3A6-0A0B61F4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9BD65-A33E-4476-ACF0-F13B54C8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23878-D354-4DA0-BD3E-81A1F0B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2269D-E09C-437E-9778-8D8DBC3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AD94C-03E3-487A-AF36-DDAA41E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9734D-6206-4F59-90B0-0CA1DD7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9C934-5C9B-42F5-B8FB-700F688B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957C5-FEEA-494D-B6CC-32D415CC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07F-8B36-4C55-888A-44B3774C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ABB58-4CBF-4567-B476-ECFBBC2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8A62F-2E5E-414C-A6EA-53A2455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D02EF-5195-4FD0-9E4D-FE66A49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A0BC6-6549-4C24-B60D-79BC9979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11890-2424-4783-83E9-31A8E26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F9A8F-6037-4398-B906-2E070627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29260-9E91-4A54-85DD-78F585DF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2A2D6-D7E0-45FA-B5A5-3E7C4AC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4A45-6AED-428F-8E33-96DA6E2F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37E05-6714-43EC-AB62-85CA152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875A-B07A-44A0-A7A3-27DDEFF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5DE81-1D1E-4F5E-96B1-C61E1DBC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E9978-1E27-44FB-9686-729E967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399DB-FADA-4832-B4FE-6232BE6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A5D0A-EFCD-4870-A76F-9B10A30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1082D-AD98-48F6-BADA-E872F585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85FC2-4E95-4EA0-98A4-C04902DF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CC309-CEB1-43EF-984C-120FAE30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2DA34-1E5D-41E7-8F2B-76C33071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4E5F5-E44D-402F-ADA1-6B0B47E7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147AC-F1FB-4903-A720-4BD3A406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95AA-F972-4BB0-ADCD-301D188C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549DB-BDB9-4763-BF56-7DB61819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08584-906E-4DCD-8AB5-CA721011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6E377-1901-47AD-BC23-0370D3D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84019-24E7-43CF-86EC-A83474D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4BB02-8EC2-4E2A-ADC4-652A46C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AA13F-5E6F-414E-AACA-03A20C2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4657E-5AB4-4F19-A17D-CDC20988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EAB97-10DF-441B-BDDB-96E49F52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3C7CD-8549-4298-A985-44085B9B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9ECF8-91BC-4E82-8053-4DC98E55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8450-2508-461C-B090-FAE1755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EEB6E-455F-4FEF-A30B-8A6F556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266B5-9904-468C-BECD-24CF045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456EF-266E-49DA-A0C2-1965AAD4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8D96E-DB90-4F4E-A450-06FA1F79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B52B2-1C1D-471C-94B3-20E153E9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E213D-D079-4B88-B527-F3743FA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FBD4C-4A7F-4FDC-8008-6E1A41F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1E6DE-E219-4027-B9FB-2A18417E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B232A-58D9-4602-B408-1746584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86AE0-FA6F-443F-8969-663F3A9B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F58-2C11-4F01-B320-4E3930B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A5EDC-3262-4470-B3B6-1C3D4AC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9F4-2147-454E-9224-B44D856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BFCC0-0969-442B-B818-467F93FF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E9839-E1ED-4061-9D25-B18C6913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946E6-8C0C-4F73-8877-5B94E116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3E3F6-68C6-462B-88B7-059B77B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1C1DB-E752-499F-BB5E-7031E9B4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F922D-844E-422F-89B4-3043CF23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C96EB-8A66-42FE-8727-03D6920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99F-60F5-4938-816C-9A256E7D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733C-E1FF-4A4D-A9CE-26C605E2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D2F72-E20C-4CC7-887D-42EDD8E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A77B8-459F-420E-89AC-51326F9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C8768-F1C6-4A64-895C-3CA6CCC7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A674D-4A05-40DC-B31E-C24C7267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5D2D8-CFF1-4376-90CE-2C99EF6A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1038B-6FD7-4C3E-B7D3-A3EED948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E4F75-5010-42BD-A87C-52D3833D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81207-91C4-4D86-AB1E-A880456C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BEED7-7B28-449A-BF32-9A26A78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519B4-0F7C-4163-9A49-BA4D108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976-6854-4395-9353-F8B9FD0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91C3C-25EB-49AE-B41F-D381253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EB7F4-869F-4EE0-97E9-B5236A2D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90C7A-C15A-463D-BAEA-8830C27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95FE1-FD90-42BF-9600-F40487B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AC80B-FC08-47B0-B9DE-EBF0F3FB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6F48F-6912-48C4-ACE5-F348ECC3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F827C-106A-44EB-B345-E89F2900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6614C-F2DD-4351-B381-790B6D9F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EB4D0-FCEA-4C3C-AFBF-76831E1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C072B-901B-4799-9BC8-DF5EDE59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072A-AC15-4101-8B28-BA1B2598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7975A-9066-4272-84FE-78D91192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75C6F-CDED-4A67-985B-651ECD2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51CA3-E4B9-44F5-873C-A7EB0FD0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6B650-54B8-4B67-8F12-AF2723E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A53F4-FFFA-478C-8156-DCFB243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121E0-2CEB-4B16-AF1A-2C237C6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A466B-75F7-444A-8C5C-F239A625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6AE08-65A1-40CD-A7A3-C5E82AF6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4A0AC-D490-4B9A-A205-A738C5C1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73FC7-57AB-495B-BA5D-1242DD0D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D682-E508-4155-8BA2-44BB5936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BB21F-A1C7-4FC8-BBC9-27CCC762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1AAB7-9055-4978-8DAD-C292616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7FABA-A750-4F62-9CA3-6D7A9E6D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E60F2-555E-40D1-8E75-4619E21D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3D517-0EA4-47B9-B834-DB7158E6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DB63E-AD61-4C56-9D10-C6E9E19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AEA96-E2F1-40B2-A603-9673F70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342FD-2CEC-44D0-95C7-CD2C974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B92DA-0B40-4887-8626-A8BC20BD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1A211-3951-4894-AB67-C5E8AB20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4FC7-779D-4FE2-BB68-34EE0ED0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BE0EE-AD18-422F-9993-F379CEA0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B25FE-4C2F-44F5-AD73-B78A1C94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C6757-9B54-4985-BF90-5243BF01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179F1-293B-4560-AF87-91CC3EA3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C33CF-4543-4A0D-B028-C2FB23F2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DF8BD-03FC-4880-8642-2121D564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FD902-E4C4-4807-9ACB-12AC9C6E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0F189-962C-4ADC-9688-D6FDA19B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27758-173A-4AC4-A39B-6239711A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72D8A-8D47-4057-B7F0-1225C63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A78F-871C-4C68-B110-D8958730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E6F6E-C4DB-4368-8101-CEBAA7C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959A4-F710-4E3C-A143-2CF7F9B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F1AEC-0A3E-4CA4-BB2F-73D8343C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FC9B2-2C01-41E5-A7FA-4805AECC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37312C-6413-4D61-B497-6D4E0FAC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8F928-9214-43B1-9DC1-899C1F48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20CA4-9473-456E-A6A1-F77EE5D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DE33F-D7A7-4679-A2C7-2D02AB4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CA37A-81C2-46F1-9E26-EC8B7C56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3D52E-FB68-4C48-9508-FB68613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F044-B84B-4152-A392-E8CA47D5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92D63-8D0C-43D8-9761-A61D8D5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DC7B2-93F6-4695-AEFD-8123D39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16D56-456F-4831-9C0C-B47BAA55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87FEC-4DF3-4D7E-9B44-E971A11B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459A5-1D75-44B6-B828-779F411D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4F47D-F1C5-4197-A58C-D50CD41A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1F41DD-53FD-4A3B-B07D-7E0590A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6B3FF7-0669-49D1-87EC-A96E4C2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47980-C7D3-456D-8861-85546CF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1CF7A-69A8-48E1-8A79-925A9204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78EF-0750-4AB1-8C7F-D9B516E3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8294A9-C461-4620-9936-4910954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57FF26-F0B2-4F95-8A8B-05AD166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1093B2-CC1A-488B-B52A-69C3909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847320-EAA6-4C1E-8D59-B409D80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925F3D-DE59-47B5-B601-760F9C2F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5C0DBC-0FC0-4206-99C3-8AF78ECA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A036E2-0AF1-4135-9072-AE837BEC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4E6A5-ABF7-478D-9EAF-92E00448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64EB3-FF52-4FEE-A267-ED7912CA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BB8B90-F483-4BCE-B0C0-DD8639F5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A726-1493-4DEE-8B71-A8BFBCB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C6F02E-338C-40D4-9999-57C94FB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DD8629-B577-428C-93BD-5076F4A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B72ED6-2CA2-4F60-BE4C-F6E04695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08FC8D-23CB-4BB9-8515-41E8C54B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50AA86-71E9-431D-B2AE-CFFFE26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D26A2-D7C0-457E-8E34-8C37BDB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8CB21-898A-4933-B683-8F4912A1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B16AA-E3AB-429D-BCAA-77A0B8A7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45AA63-D198-465F-A9DC-FC410CCC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DA2A6-3729-4D1A-8AA6-66302CD9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2066-067F-46A0-AD16-5A0964C7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9CE4B-70E1-4ECA-B1F6-5D2EEE4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B4469B-3810-410F-B44A-FD8ABB88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A410AC-79DC-4067-A10E-D46718D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2E7D8-475D-4083-AA51-83B696B0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3CE6E-CBB6-43CA-ACAC-81DAD128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2E0C0E-BFDE-4DBB-A738-67234F5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ECBB4-AF5A-47AE-87E2-2F14B01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77AF76-E3A2-4F73-A1D2-9E52490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F6BEC1-54B4-4645-8560-3528BAE0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140AA5-06C5-4B1C-9219-06582079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9F0-5D08-471C-A19B-E60AA5B8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1EEA-9E16-4589-ABFC-6D8157CC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E35C1D-CC70-484D-A778-72800F63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E221F0-74F2-41CD-BD89-D655A328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E51F6D-C471-487C-80BD-F003F130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6CC4D9-CA43-410D-93B0-F97110F6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92D31F-002B-4074-BC10-CBA3919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C92C12-CD9C-4EE6-AFB8-85950B3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E787A2-6F68-4920-9037-7BF06D6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A55285-E8B5-4EED-85E6-FCEE5B6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F8B089-5BCD-447E-948D-AF48D79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B84B13-40D8-499C-A560-C5648BE8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AF53-98DE-4F12-A932-F8329CF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D16B65-B80A-4932-AC1A-25ED523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9614AF-9E43-4CF1-8942-4EC9C0F2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277017-0E62-4F47-9E4F-83229007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DA1108-12EC-42C1-9364-FF59264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A0E73F-9C30-4F60-A862-D422D427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C51BC9-DBB4-462C-B867-C2F0214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B863E0-5B8C-407C-81F6-BF9C472C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6F970F-609A-4CD1-8519-337F6A2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1911EB-32A9-4B4C-B9C1-115145D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7C8287-11F1-4C2A-AB74-B282709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C9A1-8F9B-43E6-9C1C-6D370E8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91563C-4148-4538-9AC0-838DFA4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52E69E-6FEE-4171-9EE0-BF92AA5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2E6BDD-79DB-4402-A602-FA2A29A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C986FD-3BBF-417D-983F-0813998F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B3A33A-EAC6-42B8-84A5-D593F27D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4CE622-3979-49C8-A5F6-2402DACD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01D130-F059-48B8-AA80-4CF4726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4337F8-E2B8-47FA-8DBD-49822B6F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9D95C8-A589-40D5-B613-ACD03AAD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A3648F-139A-4EA5-8763-BA181C8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0716-495E-4235-9EAF-6824AD07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F0EB5E-F213-4CCE-837B-17F99EE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4B2BF8-DF1E-45AC-95C2-63BA6777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971D76-BCE3-43C9-99A1-11880A7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F315D5-46CA-4391-8B85-6D42045C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C7677-B358-4477-8EA2-8A1CDC30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511154-EFEE-467F-9D3D-74689AD6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3F79EE-6EC3-4E14-9750-5117AF83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B1ED98-7197-4DCA-A800-E2660649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DD4CD5-5DB7-424D-A125-12215482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E728B2-80E4-45FD-ADA0-4EF82B9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CD70-BBEE-4455-A794-78BD551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9B181F-3E98-4A84-BD16-F67F452F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190772-2A37-4C0D-85F6-3AAF773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B9493D-E935-4D87-9D7A-205AE68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7DF666-B501-4C67-82C9-29DA31EF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587195-60E2-49AC-BC79-55305CA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7CC27D-8216-4E12-960B-759243D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6AC84-B61B-4D70-9A13-263189B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3580B5-2373-42FB-95C8-48CED999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FF278D-BA27-4662-A092-9F7486CC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DBA66F-27E2-49E9-ACDF-6358505F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1E95-922E-4ED8-B236-3DB24860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6B337D-4DE6-4485-9568-24A65B54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EDCD38-5B18-4533-84E5-8CBCFEA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3290E1-40EB-40A6-933E-548B9E5B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F69054-04C3-4D8A-96E6-89012C2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2AE12-3E20-4C34-94FB-3AF62AD5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66EBB4-7F09-4704-B8E9-D759C49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F2E40C-3AAE-422E-A546-DFC4C7E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BF5B45-32C5-4F66-820B-EF22249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2F884B-9ED0-4FEF-AD37-7611A65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A89716-8B43-4CA7-AFB1-7241BEB3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16D1-7F25-42F6-A08B-766AAC46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E88DF7-712E-4950-B50F-4B092191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C60081-33AE-4ED3-B995-451B7E7D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1CB663-6399-4C58-BC8D-31FAEE9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1753B8-9E94-47A5-BC21-4D923EA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090A87-49B2-4B74-A693-2EB15C0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95C9D4-AFE3-4468-B253-F73E491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940ACD-8258-4405-B86A-9AF40E85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5CF1F0-4E32-42D7-BDEF-31439FA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DB538C-5305-43C8-A6A6-477E8018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C526C0-BDFE-422A-A0CB-AA5954A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52C3-D0B9-4468-9D4D-077E6CF3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B6A8DA-65A1-431C-91AC-190BCD2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1189C1-552F-4C9E-BD4E-540B59C9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C051FD-FB33-40F8-A854-219B77C1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04E645-FBFF-4E6A-82A6-21B6CD7D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389E62-43D7-4FC9-BE28-6F2965B9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10FD45-78C1-41CA-87A5-2D91E91C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652CC6-DBEB-4B30-8C45-C4EAE03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5E2656-83F2-4527-B391-A349028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B206ED-AF05-4BB1-89E9-190C711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761938-D244-41B5-B0BE-2D26D990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A288-D931-4EA7-98BA-715104D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802E7F-EFF1-44FB-B87C-6A91C25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C746A7-9ADB-47E4-9DE8-53ECC3E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949D18-238A-4A78-B64C-9F4B0427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62DD44-FB85-481E-B829-87743696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EB1FD9-E5FC-4742-9BE7-23927DEE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CF4AA9-D443-4503-863B-C615551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39860A-E1DC-4344-9B37-4246509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156F9B-1897-41EB-8868-2251542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09F36B-E131-49DC-8287-793239AD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69F04B-E35E-4E6C-A3F0-DD873BF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D355-9DC4-4ACF-9587-6DDB6CB8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3CCDBD-3125-4510-A4A3-86B5680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A1112B-DD24-44BD-ADD0-420A2048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497F5B-2C07-476F-BCD6-459914A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36A814-CC73-49EE-9BB4-8C1C853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C217BC-9341-4410-8945-BD520A0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A7C12E-803F-4022-B0C4-E0A3D27D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68B729-3C3C-454B-85BF-8B983CDF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B105C7-0D92-43F4-9E06-EC0EF532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D7B303-C3F9-400B-98C5-A3B6DA76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DB72CD-CC22-40FF-B232-4DAE27D2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6D6-5102-49FC-BC60-40C002C4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E583-B25C-4AC3-B5B8-04A77FE6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978DFB-371E-4420-95F3-0F09AF60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12C2B1-CDAB-4992-A936-00706B1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D99CC0-4124-4C3B-8B22-83EAD08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DCAFF9-40E8-48CD-9EB0-DB9F220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A9E1E9-59A2-4D88-B686-D89D0BEC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B49FA8-4C55-4335-924B-49BE2832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7E100A-D245-4AF8-9897-E13B6D4F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B6D9DA-DF14-439D-8959-D7BC3C9C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607E6E-FC96-4B02-9C25-8E858FD6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4AB134-F038-4905-BBDC-8F903DF4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7589-EB19-41D5-A08B-E373A52F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71A53D-8AE4-40F9-92CE-2E68CDB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2E2428-776E-4ED4-B92E-C658FC8B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98DCDF-DABD-4423-89F1-78215D95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A302ED-F4A1-4223-B5A5-53D44E7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B16239-4221-466B-8CFE-FB445F3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5C4D80-3580-4CE3-8469-C34A779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1E066E-42F8-49B0-8A19-EE25BF7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1BA2A5-7506-4147-A4EC-E6DCE85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3C90B9-4A6A-4C39-847D-746BAE0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FD934A-3477-4066-BE7D-3D184A0E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24E0-7DB9-4456-A944-48E73BFD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D25ED5-DAC1-4864-972C-A6BAC491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D2CB72-9033-4839-848E-86E751DF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8B0254-0B12-49E7-BF11-AFFA9355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B145C2-F119-4D11-BB75-FCECDA8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E71F98-7BAD-4708-9F20-7584B68D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9FDF0D-6B6C-412E-8165-D116B5B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B0C807-B26C-404A-A1F0-709F54E0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E4E1E2-B4FB-4A9D-846C-5DD5E6E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EB8643-3BF2-4DAE-9FB2-9A5D113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AB3C28-2D1E-4B4A-9BD8-387B0EE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7F60-55CE-4CDD-B187-945C36A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6DFDF9-FF15-4DBB-8093-B5F1110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AC5CD6-747B-42A4-AE3C-51CCD0B7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85E025-C8F9-4638-9B50-994FA260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EABE69-DE8A-4C1C-AC75-0B7F3D4F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8B8D07-9CC5-4045-8BD9-0891471F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C85682-4E45-405A-BB6D-27DE6BED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E53A33-A7D1-447F-97FD-346863F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A54F2D-465F-44AB-BF3E-30008AD5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C74D02-75BA-454D-BADF-1749D57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59399A-F52B-444B-9B9A-4912F86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7091-9D16-49DA-9B86-91270710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437893-254A-468B-B8F9-8009FCD7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8299A5-AE6D-485C-BB7F-9F95E9F4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9E6B34-F1CD-44E5-9C69-63AF56A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F62FF2-F99B-4564-84E0-EC66A837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1A15FF-9B3F-4857-B7E9-6FC4B248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35D6A4-DBB6-41D6-A142-A0EA51B5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835887-04B5-4A1D-8C35-EFC923D8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275FBF-D719-460F-8122-B901CF2E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2D5792-7F12-4268-9507-FB45A48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406E59-F0E4-4EBC-B765-69EAC0F6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BEE0-424D-45D4-821A-27ABF12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469409-55F4-4880-A6D7-46C8AAA4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B21290-DA56-4433-BED7-A70855F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3C2607-289A-4C77-8950-BC815A2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9DB03F-405A-47A8-9A04-D330391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2CDA3A-4E0F-4756-AB0D-316D904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309F04-4D37-4B0A-9D9B-D2F5E925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8688BD-A47B-4D7F-AA2F-F32AFA0A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3340-BA2B-4156-B7EC-D3A764F5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68D6E-A77E-4461-B440-EBE3C70D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F3CA-A579-43D9-86E1-89F4AADE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28A8C-9109-4269-8573-4AE13FC5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086-72B9-4C77-A9E5-485AAA0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1002B-0297-461C-92A5-D0459BE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BB7D-2F71-4A12-A04A-745554E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BFD9-116D-467D-A666-AE56ACFD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3B96C-1193-464A-A90F-56DD5D8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A2C6-6E48-48D8-A0E6-ABC223E2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534F-10A3-411C-9758-EC838C6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D21DF-7C2F-4A08-8FBB-3C427560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E961-D8A8-420D-9835-953DB9E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5FF7-2E90-47EF-BC63-AC52C29A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791F4-84F1-402F-AD53-0E985B5A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235-4392-46AE-BB55-8CB66A90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3264-8F51-4C99-AEA7-31EDFAB8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E531-8714-48D8-B785-38ED844A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18F45-51F9-4C3D-85B0-D496C2C0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7533A-F175-46D0-A91A-FF8B8C0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53C2-7742-4670-9714-826A941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E1D1-93B5-4BEA-9C4F-03C3560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C210-FBFE-4D92-AACB-52831ED7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0A25-F135-4501-BA33-A97E4E5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AE948-4F35-47E6-AFFE-1AA00AB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93AA-6AB4-4C40-9623-723FC94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94C-A504-4B72-BD2D-D2C4584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7F60-B708-4EE1-9E81-6B048E03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8CEA3-5362-428A-BCB6-68155C4C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AD65-69C3-4BD7-83F8-525ACB5D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2C2E-76CA-43B4-9D14-15C546B0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11EF-4A4B-497B-A78C-56C6227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63EB-D62B-4BCD-9546-9FCA2DF6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AF383-C155-4061-8C2B-D41F4E3E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B25A-5A5C-47AE-B9FA-E87171B3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AA3D-0604-4446-B165-122D3A2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0188-FA38-4B82-825A-78B8B16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0F0-4063-4D2A-8068-9605C74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BFFC-0375-49E8-9876-0427994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6E03-F08C-43BC-9861-C51C05C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65DA-498D-49B7-98CE-58D95BC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5A563-8A30-4CB4-861D-85848A1A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9BD5B-43A2-404D-B076-6E5F66BD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2A89E-CA66-4911-9C40-5A38BCE6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D6FE7-ECA2-43AC-B319-A877972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B3A91-F21F-443B-97EC-B4937888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0695-5289-4E2E-B1B1-C4A322AB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4FDB-9FFC-4DB5-946C-BB0A0D58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842-1719-42B4-9055-204EDD5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A8D96-6277-4D5A-80E3-61EF6D1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863A2-9488-4E19-A1A5-BAC5C88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8B276-EF41-41F4-8185-B0E9117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1BC9A-8965-4979-8BAC-C884EB40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F0F4-525A-4BAE-81E0-72AC110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324D4-F894-43DD-B4C9-8F3EF81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9B71-5A48-4856-81F7-FADC9B63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BFBE9-734A-4479-8734-FEC2A524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FD893-F403-4977-8D5E-9E3C3C8B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22684-F404-4905-9F14-2DB649A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051-70BA-43BA-BC6F-93B027E4A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5667-F7BA-4DCB-AF24-EEB34C5FD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7085-9ECE-47D1-A92D-B52650D23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A8C-5B4E-41F4-8951-77835E895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0EF-48B5-44EF-98A5-88A452E6F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1433-13D9-49D8-97BE-DAD08A01D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3D3-2AB3-44DC-BF6C-C9C11C0D5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AFD6-6F40-46E6-8B84-411F5185F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369C-12BB-48C4-90F5-6276B119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76F1-8CF1-4C21-A4DB-61FBCB66C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BBA2-0BDC-4324-9EFF-D31AFC63B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0CA-E9BA-402E-8D7B-0D5F9C9B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DF9-91D5-4A06-AEAC-526A7A2BA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148-2CC5-4E11-968F-16A1427D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E9E-FE27-4C58-9489-11914E3BC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E1EC-77FC-42A3-9EF4-4E5336AB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DBB-98CE-4B34-9FFE-BA4DE809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FBAC-D809-41BC-A179-58DE25C41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F2A7-E3BA-4BA0-8CD0-722F20FFA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1296-0F51-4C70-843C-2ABDDF90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BD4-BD7C-474B-B578-B8B98378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E48-D296-40E0-B87C-992436681B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06D-2C63-49F1-ABBF-4D9C0C32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B90D-FC38-4CA9-842D-D96CA260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06F-63F8-4F31-8907-74C8D2569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2FE-A63C-4637-B895-D0AAFDB6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C1E-8732-47CF-952B-902274FE4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A9C-2BDD-4246-9A30-77D072942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C239-3D65-4CBA-A778-56E2F6DCF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AA9A-E06C-451F-8908-67A849AF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13B0-9117-42C4-A79C-C0E925E61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292-3B6C-4458-9AFB-C876ACC748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8BB-9478-44B2-AE08-A042046F3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FA9C-67A3-4EC1-9009-3E1171645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45BF-5B50-4CFD-AB9C-2FDC645F3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531B-77F3-4A19-864F-EDDEC11EE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DFB-5697-476C-8E68-81692AC0A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rryz@microsoft.com" TargetMode="External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let.polimi.it/upload/matteucc/Clustering/tutorial_html/AppletKM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oewww.rutgers.edu/riul/research/code/EDISON/index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37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ai.ed.ac.uk/HIPR2/open.htm" TargetMode="External"/><Relationship Id="rId2" Type="http://schemas.openxmlformats.org/officeDocument/2006/relationships/image" Target="../media/image40.png"/><Relationship Id="rId3" Type="http://schemas.openxmlformats.org/officeDocument/2006/relationships/hyperlink" Target="http://www.dai.ed.ac.uk/HIPR2/morops.htm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SE P 5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Larry Zitnick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arryz@microsoft.com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Many slides courtesy of Steve Sei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3" name="Picture 4" descr="fig_2_1_1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5" descr="fig_2_1_2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5" name="Picture 9" descr="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Picture 5" descr="fig_2_1_2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  <p:sp>
        <p:nvSpPr>
          <p:cNvPr id="1609" name="Line 6"/>
          <p:cNvSpPr/>
          <p:nvPr/>
        </p:nvSpPr>
        <p:spPr>
          <a:xfrm flipV="1">
            <a:off x="5138640" y="3809520"/>
            <a:ext cx="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7"/>
          <p:cNvSpPr/>
          <p:nvPr/>
        </p:nvSpPr>
        <p:spPr>
          <a:xfrm flipV="1">
            <a:off x="6781680" y="380952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8"/>
          <p:cNvSpPr/>
          <p:nvPr/>
        </p:nvSpPr>
        <p:spPr>
          <a:xfrm>
            <a:off x="685800" y="6099120"/>
            <a:ext cx="777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what it looks like if we use two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oose the representative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lustering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2052"/>
          <p:cNvSpPr/>
          <p:nvPr/>
        </p:nvSpPr>
        <p:spPr>
          <a:xfrm>
            <a:off x="1219320" y="1981080"/>
            <a:ext cx="236196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2054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Oval 2055"/>
          <p:cNvSpPr/>
          <p:nvPr/>
        </p:nvSpPr>
        <p:spPr>
          <a:xfrm>
            <a:off x="18288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2056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Oval 2057"/>
          <p:cNvSpPr/>
          <p:nvPr/>
        </p:nvSpPr>
        <p:spPr>
          <a:xfrm>
            <a:off x="14479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Oval 2058"/>
          <p:cNvSpPr/>
          <p:nvPr/>
        </p:nvSpPr>
        <p:spPr>
          <a:xfrm>
            <a:off x="2819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2059"/>
          <p:cNvSpPr/>
          <p:nvPr/>
        </p:nvSpPr>
        <p:spPr>
          <a:xfrm>
            <a:off x="2743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2060"/>
          <p:cNvSpPr/>
          <p:nvPr/>
        </p:nvSpPr>
        <p:spPr>
          <a:xfrm>
            <a:off x="32004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61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62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2063"/>
          <p:cNvSpPr/>
          <p:nvPr/>
        </p:nvSpPr>
        <p:spPr>
          <a:xfrm>
            <a:off x="19810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2064"/>
          <p:cNvSpPr/>
          <p:nvPr/>
        </p:nvSpPr>
        <p:spPr>
          <a:xfrm>
            <a:off x="22860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2065"/>
          <p:cNvSpPr/>
          <p:nvPr/>
        </p:nvSpPr>
        <p:spPr>
          <a:xfrm>
            <a:off x="18288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2066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2067"/>
          <p:cNvSpPr/>
          <p:nvPr/>
        </p:nvSpPr>
        <p:spPr>
          <a:xfrm>
            <a:off x="22096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2068"/>
          <p:cNvSpPr/>
          <p:nvPr/>
        </p:nvSpPr>
        <p:spPr>
          <a:xfrm>
            <a:off x="1600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2069"/>
          <p:cNvSpPr/>
          <p:nvPr/>
        </p:nvSpPr>
        <p:spPr>
          <a:xfrm>
            <a:off x="20574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2070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2071"/>
          <p:cNvSpPr/>
          <p:nvPr/>
        </p:nvSpPr>
        <p:spPr>
          <a:xfrm>
            <a:off x="20574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072"/>
          <p:cNvSpPr/>
          <p:nvPr/>
        </p:nvSpPr>
        <p:spPr>
          <a:xfrm>
            <a:off x="5410080" y="1981080"/>
            <a:ext cx="236232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2073"/>
          <p:cNvSpPr/>
          <p:nvPr/>
        </p:nvSpPr>
        <p:spPr>
          <a:xfrm>
            <a:off x="5867280" y="2209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2074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2075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2076"/>
          <p:cNvSpPr/>
          <p:nvPr/>
        </p:nvSpPr>
        <p:spPr>
          <a:xfrm>
            <a:off x="5638680" y="24382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2078"/>
          <p:cNvSpPr/>
          <p:nvPr/>
        </p:nvSpPr>
        <p:spPr>
          <a:xfrm>
            <a:off x="6934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2079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2080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2081"/>
          <p:cNvSpPr/>
          <p:nvPr/>
        </p:nvSpPr>
        <p:spPr>
          <a:xfrm>
            <a:off x="71629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2082"/>
          <p:cNvSpPr/>
          <p:nvPr/>
        </p:nvSpPr>
        <p:spPr>
          <a:xfrm>
            <a:off x="6172200" y="342900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2083"/>
          <p:cNvSpPr/>
          <p:nvPr/>
        </p:nvSpPr>
        <p:spPr>
          <a:xfrm>
            <a:off x="64771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2084"/>
          <p:cNvSpPr/>
          <p:nvPr/>
        </p:nvSpPr>
        <p:spPr>
          <a:xfrm>
            <a:off x="60199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2085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2086"/>
          <p:cNvSpPr/>
          <p:nvPr/>
        </p:nvSpPr>
        <p:spPr>
          <a:xfrm>
            <a:off x="6400800" y="3505320"/>
            <a:ext cx="7632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2087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2088"/>
          <p:cNvSpPr/>
          <p:nvPr/>
        </p:nvSpPr>
        <p:spPr>
          <a:xfrm>
            <a:off x="6248520" y="22096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2089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2090"/>
          <p:cNvSpPr/>
          <p:nvPr/>
        </p:nvSpPr>
        <p:spPr>
          <a:xfrm>
            <a:off x="62485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AutoShape 2091"/>
          <p:cNvSpPr/>
          <p:nvPr/>
        </p:nvSpPr>
        <p:spPr>
          <a:xfrm>
            <a:off x="3962520" y="2666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2092"/>
          <p:cNvSpPr/>
          <p:nvPr/>
        </p:nvSpPr>
        <p:spPr>
          <a:xfrm>
            <a:off x="685800" y="4267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int should be as close as possible to a cluster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sum squared distance of each point to closes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5" name="Picture 2101" descr="Edittex"/>
          <p:cNvPicPr/>
          <p:nvPr/>
        </p:nvPicPr>
        <p:blipFill>
          <a:blip r:embed="rId1"/>
          <a:stretch/>
        </p:blipFill>
        <p:spPr>
          <a:xfrm>
            <a:off x="5962680" y="214164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2104" descr="Edittex"/>
          <p:cNvPicPr/>
          <p:nvPr/>
        </p:nvPicPr>
        <p:blipFill>
          <a:blip r:embed="rId2"/>
          <a:stretch/>
        </p:blipFill>
        <p:spPr>
          <a:xfrm>
            <a:off x="6858000" y="2743200"/>
            <a:ext cx="301680" cy="2221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2105" descr="Edittex"/>
          <p:cNvPicPr/>
          <p:nvPr/>
        </p:nvPicPr>
        <p:blipFill>
          <a:blip r:embed="rId3"/>
          <a:stretch/>
        </p:blipFill>
        <p:spPr>
          <a:xfrm>
            <a:off x="6103800" y="350532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2112" descr="Edittex"/>
          <p:cNvPicPr/>
          <p:nvPr/>
        </p:nvPicPr>
        <p:blipFill>
          <a:blip r:embed="rId4"/>
          <a:stretch/>
        </p:blipFill>
        <p:spPr>
          <a:xfrm>
            <a:off x="2286000" y="5562720"/>
            <a:ext cx="5105520" cy="698400"/>
          </a:xfrm>
          <a:prstGeom prst="rect">
            <a:avLst/>
          </a:prstGeom>
          <a:ln w="0">
            <a:noFill/>
          </a:ln>
        </p:spPr>
      </p:pic>
      <p:sp>
        <p:nvSpPr>
          <p:cNvPr id="1659" name="Rectangle 2099"/>
          <p:cNvSpPr/>
          <p:nvPr/>
        </p:nvSpPr>
        <p:spPr>
          <a:xfrm>
            <a:off x="6172200" y="3352680"/>
            <a:ext cx="152280" cy="152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2098"/>
          <p:cNvSpPr/>
          <p:nvPr/>
        </p:nvSpPr>
        <p:spPr>
          <a:xfrm>
            <a:off x="7086600" y="259092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2097"/>
          <p:cNvSpPr/>
          <p:nvPr/>
        </p:nvSpPr>
        <p:spPr>
          <a:xfrm>
            <a:off x="5943600" y="2362320"/>
            <a:ext cx="152280" cy="152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2077"/>
          <p:cNvSpPr/>
          <p:nvPr/>
        </p:nvSpPr>
        <p:spPr>
          <a:xfrm>
            <a:off x="7010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24"/>
          <p:cNvSpPr/>
          <p:nvPr/>
        </p:nvSpPr>
        <p:spPr>
          <a:xfrm>
            <a:off x="5410080" y="2286000"/>
            <a:ext cx="23623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Picture 47" descr="Edittex"/>
          <p:cNvPicPr/>
          <p:nvPr/>
        </p:nvPicPr>
        <p:blipFill>
          <a:blip r:embed="rId1"/>
          <a:stretch/>
        </p:blipFill>
        <p:spPr>
          <a:xfrm>
            <a:off x="5962680" y="244620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49" descr="Edittex"/>
          <p:cNvPicPr/>
          <p:nvPr/>
        </p:nvPicPr>
        <p:blipFill>
          <a:blip r:embed="rId2"/>
          <a:stretch/>
        </p:blipFill>
        <p:spPr>
          <a:xfrm>
            <a:off x="6103800" y="380988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48" descr="Edittex"/>
          <p:cNvPicPr/>
          <p:nvPr/>
        </p:nvPicPr>
        <p:blipFill>
          <a:blip r:embed="rId3"/>
          <a:stretch/>
        </p:blipFill>
        <p:spPr>
          <a:xfrm>
            <a:off x="6858000" y="3048120"/>
            <a:ext cx="301680" cy="222120"/>
          </a:xfrm>
          <a:prstGeom prst="rect">
            <a:avLst/>
          </a:prstGeom>
          <a:ln w="0">
            <a:noFill/>
          </a:ln>
        </p:spPr>
      </p:pic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eak it down into sub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tell you the cluster center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to determine which points to associate with each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"/>
          <p:cNvSpPr/>
          <p:nvPr/>
        </p:nvSpPr>
        <p:spPr>
          <a:xfrm>
            <a:off x="685800" y="1676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 for each point p, choose closes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5"/>
          <p:cNvSpPr/>
          <p:nvPr/>
        </p:nvSpPr>
        <p:spPr>
          <a:xfrm>
            <a:off x="1219320" y="2286000"/>
            <a:ext cx="236196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7"/>
          <p:cNvSpPr/>
          <p:nvPr/>
        </p:nvSpPr>
        <p:spPr>
          <a:xfrm>
            <a:off x="18288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8"/>
          <p:cNvSpPr/>
          <p:nvPr/>
        </p:nvSpPr>
        <p:spPr>
          <a:xfrm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9"/>
          <p:cNvSpPr/>
          <p:nvPr/>
        </p:nvSpPr>
        <p:spPr>
          <a:xfrm>
            <a:off x="14479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10"/>
          <p:cNvSpPr/>
          <p:nvPr/>
        </p:nvSpPr>
        <p:spPr>
          <a:xfrm>
            <a:off x="2819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11"/>
          <p:cNvSpPr/>
          <p:nvPr/>
        </p:nvSpPr>
        <p:spPr>
          <a:xfrm>
            <a:off x="2743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12"/>
          <p:cNvSpPr/>
          <p:nvPr/>
        </p:nvSpPr>
        <p:spPr>
          <a:xfrm>
            <a:off x="3200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13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14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15"/>
          <p:cNvSpPr/>
          <p:nvPr/>
        </p:nvSpPr>
        <p:spPr>
          <a:xfrm>
            <a:off x="1981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16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7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18"/>
          <p:cNvSpPr/>
          <p:nvPr/>
        </p:nvSpPr>
        <p:spPr>
          <a:xfrm>
            <a:off x="1752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19"/>
          <p:cNvSpPr/>
          <p:nvPr/>
        </p:nvSpPr>
        <p:spPr>
          <a:xfrm>
            <a:off x="22096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20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21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22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23"/>
          <p:cNvSpPr/>
          <p:nvPr/>
        </p:nvSpPr>
        <p:spPr>
          <a:xfrm>
            <a:off x="20574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25"/>
          <p:cNvSpPr/>
          <p:nvPr/>
        </p:nvSpPr>
        <p:spPr>
          <a:xfrm>
            <a:off x="58672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26"/>
          <p:cNvSpPr/>
          <p:nvPr/>
        </p:nvSpPr>
        <p:spPr>
          <a:xfrm>
            <a:off x="60199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27"/>
          <p:cNvSpPr/>
          <p:nvPr/>
        </p:nvSpPr>
        <p:spPr>
          <a:xfrm>
            <a:off x="59436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28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Oval 29"/>
          <p:cNvSpPr/>
          <p:nvPr/>
        </p:nvSpPr>
        <p:spPr>
          <a:xfrm>
            <a:off x="70102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Oval 30"/>
          <p:cNvSpPr/>
          <p:nvPr/>
        </p:nvSpPr>
        <p:spPr>
          <a:xfrm>
            <a:off x="6934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Oval 31"/>
          <p:cNvSpPr/>
          <p:nvPr/>
        </p:nvSpPr>
        <p:spPr>
          <a:xfrm>
            <a:off x="7391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Oval 32"/>
          <p:cNvSpPr/>
          <p:nvPr/>
        </p:nvSpPr>
        <p:spPr>
          <a:xfrm>
            <a:off x="7162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33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34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35"/>
          <p:cNvSpPr/>
          <p:nvPr/>
        </p:nvSpPr>
        <p:spPr>
          <a:xfrm>
            <a:off x="6477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36"/>
          <p:cNvSpPr/>
          <p:nvPr/>
        </p:nvSpPr>
        <p:spPr>
          <a:xfrm>
            <a:off x="60199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37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38"/>
          <p:cNvSpPr/>
          <p:nvPr/>
        </p:nvSpPr>
        <p:spPr>
          <a:xfrm>
            <a:off x="64008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39"/>
          <p:cNvSpPr/>
          <p:nvPr/>
        </p:nvSpPr>
        <p:spPr>
          <a:xfrm>
            <a:off x="5791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40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41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42"/>
          <p:cNvSpPr/>
          <p:nvPr/>
        </p:nvSpPr>
        <p:spPr>
          <a:xfrm>
            <a:off x="6248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AutoShape 43"/>
          <p:cNvSpPr/>
          <p:nvPr/>
        </p:nvSpPr>
        <p:spPr>
          <a:xfrm>
            <a:off x="3962520" y="297180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44"/>
          <p:cNvSpPr/>
          <p:nvPr/>
        </p:nvSpPr>
        <p:spPr>
          <a:xfrm>
            <a:off x="5943600" y="2666880"/>
            <a:ext cx="152280" cy="152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45"/>
          <p:cNvSpPr/>
          <p:nvPr/>
        </p:nvSpPr>
        <p:spPr>
          <a:xfrm>
            <a:off x="7086600" y="2895480"/>
            <a:ext cx="152280" cy="15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46"/>
          <p:cNvSpPr/>
          <p:nvPr/>
        </p:nvSpPr>
        <p:spPr>
          <a:xfrm>
            <a:off x="6172200" y="3657600"/>
            <a:ext cx="152280" cy="1522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Rectangle 50"/>
          <p:cNvSpPr/>
          <p:nvPr/>
        </p:nvSpPr>
        <p:spPr>
          <a:xfrm>
            <a:off x="68580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tell you the points in each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to determine the cluster cen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Rectangle 51"/>
          <p:cNvSpPr/>
          <p:nvPr/>
        </p:nvSpPr>
        <p:spPr>
          <a:xfrm>
            <a:off x="68580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 choos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the mean of all points in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cluste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initialize the cluster centers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cluster centers, determine points in each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oint p, find the closes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Put p into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points in each cluster, solve for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the mean of points in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changed, repeat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mo: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let.polimi.it/upload/matteucc/Clustering/tutorial_html/AppletKM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converg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“local minimu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lobal minimum of objectiv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4" descr="Edittex"/>
          <p:cNvPicPr/>
          <p:nvPr/>
        </p:nvPicPr>
        <p:blipFill>
          <a:blip r:embed="rId2"/>
          <a:stretch/>
        </p:blipFill>
        <p:spPr>
          <a:xfrm>
            <a:off x="2649600" y="5931000"/>
            <a:ext cx="39034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abilistic 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probability that a poi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cluster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shape of each clu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doesn’t answer thes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clustering (basic id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each cluster as a Gaussian dens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31"/>
          <p:cNvGrpSpPr/>
          <p:nvPr/>
        </p:nvGrpSpPr>
        <p:grpSpPr>
          <a:xfrm>
            <a:off x="2666880" y="4038480"/>
            <a:ext cx="3092400" cy="2286000"/>
            <a:chOff x="2666880" y="4038480"/>
            <a:chExt cx="3092400" cy="2286000"/>
          </a:xfrm>
        </p:grpSpPr>
        <p:sp>
          <p:nvSpPr>
            <p:cNvPr id="1719" name="Oval 4"/>
            <p:cNvSpPr/>
            <p:nvPr/>
          </p:nvSpPr>
          <p:spPr>
            <a:xfrm>
              <a:off x="3124080" y="5334120"/>
              <a:ext cx="198144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Oval 5"/>
            <p:cNvSpPr/>
            <p:nvPr/>
          </p:nvSpPr>
          <p:spPr>
            <a:xfrm rot="18906600">
              <a:off x="3778200" y="4952520"/>
              <a:ext cx="1981080" cy="381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Oval 6"/>
            <p:cNvSpPr/>
            <p:nvPr/>
          </p:nvSpPr>
          <p:spPr>
            <a:xfrm rot="13507200">
              <a:off x="3228120" y="4467960"/>
              <a:ext cx="782640" cy="6858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7"/>
            <p:cNvSpPr/>
            <p:nvPr/>
          </p:nvSpPr>
          <p:spPr>
            <a:xfrm>
              <a:off x="2666880" y="4038480"/>
              <a:ext cx="3092400" cy="228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3" name="Group 8"/>
            <p:cNvGrpSpPr/>
            <p:nvPr/>
          </p:nvGrpSpPr>
          <p:grpSpPr>
            <a:xfrm>
              <a:off x="3352680" y="4343400"/>
              <a:ext cx="2210040" cy="1600200"/>
              <a:chOff x="3352680" y="4343400"/>
              <a:chExt cx="2210040" cy="1600200"/>
            </a:xfrm>
          </p:grpSpPr>
          <p:grpSp>
            <p:nvGrpSpPr>
              <p:cNvPr id="1724" name="Group 9"/>
              <p:cNvGrpSpPr/>
              <p:nvPr/>
            </p:nvGrpSpPr>
            <p:grpSpPr>
              <a:xfrm>
                <a:off x="3505320" y="5333760"/>
                <a:ext cx="1371600" cy="609840"/>
                <a:chOff x="3505320" y="5333760"/>
                <a:chExt cx="1371600" cy="609840"/>
              </a:xfrm>
            </p:grpSpPr>
            <p:sp>
              <p:nvSpPr>
                <p:cNvPr id="1725" name="Oval 10"/>
                <p:cNvSpPr/>
                <p:nvPr/>
              </p:nvSpPr>
              <p:spPr>
                <a:xfrm>
                  <a:off x="3505320" y="5562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11"/>
                <p:cNvSpPr/>
                <p:nvPr/>
              </p:nvSpPr>
              <p:spPr>
                <a:xfrm>
                  <a:off x="3733920" y="5410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12"/>
                <p:cNvSpPr/>
                <p:nvPr/>
              </p:nvSpPr>
              <p:spPr>
                <a:xfrm>
                  <a:off x="3733920" y="5867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13"/>
                <p:cNvSpPr/>
                <p:nvPr/>
              </p:nvSpPr>
              <p:spPr>
                <a:xfrm>
                  <a:off x="4038480" y="53337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14"/>
                <p:cNvSpPr/>
                <p:nvPr/>
              </p:nvSpPr>
              <p:spPr>
                <a:xfrm>
                  <a:off x="4038480" y="5638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15"/>
                <p:cNvSpPr/>
                <p:nvPr/>
              </p:nvSpPr>
              <p:spPr>
                <a:xfrm>
                  <a:off x="4267080" y="556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16"/>
                <p:cNvSpPr/>
                <p:nvPr/>
              </p:nvSpPr>
              <p:spPr>
                <a:xfrm>
                  <a:off x="4572000" y="548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17"/>
                <p:cNvSpPr/>
                <p:nvPr/>
              </p:nvSpPr>
              <p:spPr>
                <a:xfrm>
                  <a:off x="4800600" y="556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3" name="Group 18"/>
              <p:cNvGrpSpPr/>
              <p:nvPr/>
            </p:nvGrpSpPr>
            <p:grpSpPr>
              <a:xfrm>
                <a:off x="4419720" y="4343400"/>
                <a:ext cx="1143000" cy="990360"/>
                <a:chOff x="4419720" y="4343400"/>
                <a:chExt cx="1143000" cy="990360"/>
              </a:xfrm>
            </p:grpSpPr>
            <p:sp>
              <p:nvSpPr>
                <p:cNvPr id="1734" name="Oval 19"/>
                <p:cNvSpPr/>
                <p:nvPr/>
              </p:nvSpPr>
              <p:spPr>
                <a:xfrm>
                  <a:off x="4419720" y="5105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Oval 20"/>
                <p:cNvSpPr/>
                <p:nvPr/>
              </p:nvSpPr>
              <p:spPr>
                <a:xfrm>
                  <a:off x="4800600" y="5257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Oval 21"/>
                <p:cNvSpPr/>
                <p:nvPr/>
              </p:nvSpPr>
              <p:spPr>
                <a:xfrm>
                  <a:off x="4724280" y="50292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Oval 22"/>
                <p:cNvSpPr/>
                <p:nvPr/>
              </p:nvSpPr>
              <p:spPr>
                <a:xfrm>
                  <a:off x="495288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Oval 23"/>
                <p:cNvSpPr/>
                <p:nvPr/>
              </p:nvSpPr>
              <p:spPr>
                <a:xfrm>
                  <a:off x="5486400" y="4343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9" name="Group 24"/>
              <p:cNvGrpSpPr/>
              <p:nvPr/>
            </p:nvGrpSpPr>
            <p:grpSpPr>
              <a:xfrm>
                <a:off x="3352680" y="4343400"/>
                <a:ext cx="609840" cy="761760"/>
                <a:chOff x="3352680" y="4343400"/>
                <a:chExt cx="609840" cy="761760"/>
              </a:xfrm>
            </p:grpSpPr>
            <p:sp>
              <p:nvSpPr>
                <p:cNvPr id="1740" name="Oval 25"/>
                <p:cNvSpPr/>
                <p:nvPr/>
              </p:nvSpPr>
              <p:spPr>
                <a:xfrm>
                  <a:off x="3429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26"/>
                <p:cNvSpPr/>
                <p:nvPr/>
              </p:nvSpPr>
              <p:spPr>
                <a:xfrm>
                  <a:off x="3352680" y="4991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27"/>
                <p:cNvSpPr/>
                <p:nvPr/>
              </p:nvSpPr>
              <p:spPr>
                <a:xfrm>
                  <a:off x="3657600" y="4800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28"/>
                <p:cNvSpPr/>
                <p:nvPr/>
              </p:nvSpPr>
              <p:spPr>
                <a:xfrm>
                  <a:off x="3733920" y="4343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29"/>
                <p:cNvSpPr/>
                <p:nvPr/>
              </p:nvSpPr>
              <p:spPr>
                <a:xfrm>
                  <a:off x="3657600" y="50292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30"/>
                <p:cNvSpPr/>
                <p:nvPr/>
              </p:nvSpPr>
              <p:spPr>
                <a:xfrm>
                  <a:off x="3886200" y="4647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ectation Maximization (EM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abilistic variant of K-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tep: “soft assignment” of points to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probability that a point is in a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tep:  update clust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and variance info (covariance matr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s the likelihood of the points given th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4"/>
          <p:cNvGrpSpPr/>
          <p:nvPr/>
        </p:nvGrpSpPr>
        <p:grpSpPr>
          <a:xfrm>
            <a:off x="2666880" y="1143000"/>
            <a:ext cx="3092400" cy="2286000"/>
            <a:chOff x="2666880" y="1143000"/>
            <a:chExt cx="3092400" cy="2286000"/>
          </a:xfrm>
        </p:grpSpPr>
        <p:sp>
          <p:nvSpPr>
            <p:cNvPr id="1749" name="Oval 5"/>
            <p:cNvSpPr/>
            <p:nvPr/>
          </p:nvSpPr>
          <p:spPr>
            <a:xfrm>
              <a:off x="3124080" y="2438640"/>
              <a:ext cx="198144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Oval 6"/>
            <p:cNvSpPr/>
            <p:nvPr/>
          </p:nvSpPr>
          <p:spPr>
            <a:xfrm rot="18906600">
              <a:off x="3778200" y="2057040"/>
              <a:ext cx="1981080" cy="381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Oval 7"/>
            <p:cNvSpPr/>
            <p:nvPr/>
          </p:nvSpPr>
          <p:spPr>
            <a:xfrm rot="13507200">
              <a:off x="3228120" y="1572480"/>
              <a:ext cx="782640" cy="6858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8"/>
            <p:cNvSpPr/>
            <p:nvPr/>
          </p:nvSpPr>
          <p:spPr>
            <a:xfrm>
              <a:off x="2666880" y="1143000"/>
              <a:ext cx="3092400" cy="228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3" name="Group 9"/>
            <p:cNvGrpSpPr/>
            <p:nvPr/>
          </p:nvGrpSpPr>
          <p:grpSpPr>
            <a:xfrm>
              <a:off x="3352680" y="1447920"/>
              <a:ext cx="2210040" cy="1600200"/>
              <a:chOff x="3352680" y="1447920"/>
              <a:chExt cx="2210040" cy="1600200"/>
            </a:xfrm>
          </p:grpSpPr>
          <p:grpSp>
            <p:nvGrpSpPr>
              <p:cNvPr id="1754" name="Group 10"/>
              <p:cNvGrpSpPr/>
              <p:nvPr/>
            </p:nvGrpSpPr>
            <p:grpSpPr>
              <a:xfrm>
                <a:off x="3505320" y="2438280"/>
                <a:ext cx="1371600" cy="609840"/>
                <a:chOff x="3505320" y="2438280"/>
                <a:chExt cx="1371600" cy="609840"/>
              </a:xfrm>
            </p:grpSpPr>
            <p:sp>
              <p:nvSpPr>
                <p:cNvPr id="1755" name="Oval 11"/>
                <p:cNvSpPr/>
                <p:nvPr/>
              </p:nvSpPr>
              <p:spPr>
                <a:xfrm>
                  <a:off x="3505320" y="2666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12"/>
                <p:cNvSpPr/>
                <p:nvPr/>
              </p:nvSpPr>
              <p:spPr>
                <a:xfrm>
                  <a:off x="3733920" y="25146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13"/>
                <p:cNvSpPr/>
                <p:nvPr/>
              </p:nvSpPr>
              <p:spPr>
                <a:xfrm>
                  <a:off x="3733920" y="2971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14"/>
                <p:cNvSpPr/>
                <p:nvPr/>
              </p:nvSpPr>
              <p:spPr>
                <a:xfrm>
                  <a:off x="4038480" y="2438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15"/>
                <p:cNvSpPr/>
                <p:nvPr/>
              </p:nvSpPr>
              <p:spPr>
                <a:xfrm>
                  <a:off x="4038480" y="2743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16"/>
                <p:cNvSpPr/>
                <p:nvPr/>
              </p:nvSpPr>
              <p:spPr>
                <a:xfrm>
                  <a:off x="426708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Oval 17"/>
                <p:cNvSpPr/>
                <p:nvPr/>
              </p:nvSpPr>
              <p:spPr>
                <a:xfrm>
                  <a:off x="4572000" y="2590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Oval 18"/>
                <p:cNvSpPr/>
                <p:nvPr/>
              </p:nvSpPr>
              <p:spPr>
                <a:xfrm>
                  <a:off x="480060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Group 19"/>
              <p:cNvGrpSpPr/>
              <p:nvPr/>
            </p:nvGrpSpPr>
            <p:grpSpPr>
              <a:xfrm>
                <a:off x="4419720" y="1447920"/>
                <a:ext cx="1143000" cy="990360"/>
                <a:chOff x="4419720" y="1447920"/>
                <a:chExt cx="1143000" cy="990360"/>
              </a:xfrm>
            </p:grpSpPr>
            <p:sp>
              <p:nvSpPr>
                <p:cNvPr id="1764" name="Oval 20"/>
                <p:cNvSpPr/>
                <p:nvPr/>
              </p:nvSpPr>
              <p:spPr>
                <a:xfrm>
                  <a:off x="4419720" y="22096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21"/>
                <p:cNvSpPr/>
                <p:nvPr/>
              </p:nvSpPr>
              <p:spPr>
                <a:xfrm>
                  <a:off x="4800600" y="236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22"/>
                <p:cNvSpPr/>
                <p:nvPr/>
              </p:nvSpPr>
              <p:spPr>
                <a:xfrm>
                  <a:off x="4724280" y="2133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23"/>
                <p:cNvSpPr/>
                <p:nvPr/>
              </p:nvSpPr>
              <p:spPr>
                <a:xfrm>
                  <a:off x="4952880" y="1828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24"/>
                <p:cNvSpPr/>
                <p:nvPr/>
              </p:nvSpPr>
              <p:spPr>
                <a:xfrm>
                  <a:off x="5486400" y="1447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9" name="Group 25"/>
              <p:cNvGrpSpPr/>
              <p:nvPr/>
            </p:nvGrpSpPr>
            <p:grpSpPr>
              <a:xfrm>
                <a:off x="3352680" y="1447920"/>
                <a:ext cx="609840" cy="761760"/>
                <a:chOff x="3352680" y="1447920"/>
                <a:chExt cx="609840" cy="761760"/>
              </a:xfrm>
            </p:grpSpPr>
            <p:sp>
              <p:nvSpPr>
                <p:cNvPr id="1770" name="Oval 26"/>
                <p:cNvSpPr/>
                <p:nvPr/>
              </p:nvSpPr>
              <p:spPr>
                <a:xfrm>
                  <a:off x="3429000" y="1828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27"/>
                <p:cNvSpPr/>
                <p:nvPr/>
              </p:nvSpPr>
              <p:spPr>
                <a:xfrm>
                  <a:off x="3352680" y="209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28"/>
                <p:cNvSpPr/>
                <p:nvPr/>
              </p:nvSpPr>
              <p:spPr>
                <a:xfrm>
                  <a:off x="3657600" y="19051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29"/>
                <p:cNvSpPr/>
                <p:nvPr/>
              </p:nvSpPr>
              <p:spPr>
                <a:xfrm>
                  <a:off x="3733920" y="1447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30"/>
                <p:cNvSpPr/>
                <p:nvPr/>
              </p:nvSpPr>
              <p:spPr>
                <a:xfrm>
                  <a:off x="3657600" y="2133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31"/>
                <p:cNvSpPr/>
                <p:nvPr/>
              </p:nvSpPr>
              <p:spPr>
                <a:xfrm>
                  <a:off x="3886200" y="17524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ications of 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s out this is useful for all sorts of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luster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estimation with missing/hidde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 based o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 based o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/background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9" name="Picture 2" descr="http://lh6.google.com/chris.zh66/RwKL7l59ggI/AAAAAAAAAL8/GSslkhMHuWI/football.jpg"/>
          <p:cNvPicPr/>
          <p:nvPr/>
        </p:nvPicPr>
        <p:blipFill>
          <a:blip r:embed="rId1"/>
          <a:stretch/>
        </p:blipFill>
        <p:spPr>
          <a:xfrm>
            <a:off x="657360" y="990720"/>
            <a:ext cx="5286240" cy="297180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4" descr="http://lh5.google.com/chris.zh66/RwKL9V59gkI/AAAAAAAAAMc/EO93CT98olQ/football_10.JPG"/>
          <p:cNvPicPr/>
          <p:nvPr/>
        </p:nvPicPr>
        <p:blipFill>
          <a:blip r:embed="rId2"/>
          <a:srcRect l="2217" t="9936" r="2097" b="0"/>
          <a:stretch/>
        </p:blipFill>
        <p:spPr>
          <a:xfrm>
            <a:off x="3548160" y="3603600"/>
            <a:ext cx="5159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uman segment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2" descr="http://www.eecs.berkeley.edu/Research/Projects/CS/vision/grouping/segbench/BSDS300/html/images/plain/normal/color/119082.jpg"/>
          <p:cNvPicPr/>
          <p:nvPr/>
        </p:nvPicPr>
        <p:blipFill>
          <a:blip r:embed="rId1"/>
          <a:stretch/>
        </p:blipFill>
        <p:spPr>
          <a:xfrm>
            <a:off x="574560" y="1066680"/>
            <a:ext cx="3768840" cy="25146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4" descr="http://www.eecs.berkeley.edu/Research/Projects/CS/vision/grouping/segbench/BSDS300/html/images/human/normal/outline/color/union/119082.jpg"/>
          <p:cNvPicPr/>
          <p:nvPr/>
        </p:nvPicPr>
        <p:blipFill>
          <a:blip r:embed="rId2"/>
          <a:stretch/>
        </p:blipFill>
        <p:spPr>
          <a:xfrm>
            <a:off x="574560" y="3733920"/>
            <a:ext cx="3767400" cy="251460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6" descr="http://www.eecs.berkeley.edu/Research/Projects/CS/vision/grouping/segbench/BSDS300/html/images/plain/normal/color/220075.jpg"/>
          <p:cNvPicPr/>
          <p:nvPr/>
        </p:nvPicPr>
        <p:blipFill>
          <a:blip r:embed="rId3"/>
          <a:stretch/>
        </p:blipFill>
        <p:spPr>
          <a:xfrm>
            <a:off x="4765680" y="1066680"/>
            <a:ext cx="3768840" cy="251460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8" descr="http://www.eecs.berkeley.edu/Research/Projects/CS/vision/grouping/segbench/BSDS300/html/images/human/normal/outline/color/union/220075.jpg"/>
          <p:cNvPicPr/>
          <p:nvPr/>
        </p:nvPicPr>
        <p:blipFill>
          <a:blip r:embed="rId4"/>
          <a:stretch/>
        </p:blipFill>
        <p:spPr>
          <a:xfrm>
            <a:off x="4765680" y="3733920"/>
            <a:ext cx="3768840" cy="2514600"/>
          </a:xfrm>
          <a:prstGeom prst="rect">
            <a:avLst/>
          </a:prstGeom>
          <a:ln w="0">
            <a:noFill/>
          </a:ln>
        </p:spPr>
      </p:pic>
      <p:sp>
        <p:nvSpPr>
          <p:cNvPr id="1570" name="TextBox 2"/>
          <p:cNvSpPr/>
          <p:nvPr/>
        </p:nvSpPr>
        <p:spPr>
          <a:xfrm>
            <a:off x="457200" y="6324480"/>
            <a:ext cx="67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segmentation dataset, 5 sub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Mean-sh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n-shif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if you don’t know the number of clusters, but you do know the variance between points in the sam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Straight Connector 4"/>
          <p:cNvSpPr/>
          <p:nvPr/>
        </p:nvSpPr>
        <p:spPr>
          <a:xfrm>
            <a:off x="4402080" y="24382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6"/>
          <p:cNvSpPr/>
          <p:nvPr/>
        </p:nvSpPr>
        <p:spPr>
          <a:xfrm>
            <a:off x="3030480" y="384804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7"/>
          <p:cNvSpPr/>
          <p:nvPr/>
        </p:nvSpPr>
        <p:spPr>
          <a:xfrm>
            <a:off x="3792600" y="334332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8"/>
          <p:cNvSpPr/>
          <p:nvPr/>
        </p:nvSpPr>
        <p:spPr>
          <a:xfrm>
            <a:off x="3639960" y="349884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9"/>
          <p:cNvSpPr/>
          <p:nvPr/>
        </p:nvSpPr>
        <p:spPr>
          <a:xfrm>
            <a:off x="4021200" y="360216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10"/>
          <p:cNvSpPr/>
          <p:nvPr/>
        </p:nvSpPr>
        <p:spPr>
          <a:xfrm>
            <a:off x="3930480" y="309888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11"/>
          <p:cNvSpPr/>
          <p:nvPr/>
        </p:nvSpPr>
        <p:spPr>
          <a:xfrm>
            <a:off x="3935520" y="406728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12"/>
          <p:cNvSpPr/>
          <p:nvPr/>
        </p:nvSpPr>
        <p:spPr>
          <a:xfrm>
            <a:off x="4243320" y="297180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13"/>
          <p:cNvSpPr/>
          <p:nvPr/>
        </p:nvSpPr>
        <p:spPr>
          <a:xfrm>
            <a:off x="5597640" y="309888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14"/>
          <p:cNvSpPr/>
          <p:nvPr/>
        </p:nvSpPr>
        <p:spPr>
          <a:xfrm>
            <a:off x="4173480" y="341964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15"/>
          <p:cNvSpPr/>
          <p:nvPr/>
        </p:nvSpPr>
        <p:spPr>
          <a:xfrm>
            <a:off x="5430960" y="312588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16"/>
          <p:cNvSpPr/>
          <p:nvPr/>
        </p:nvSpPr>
        <p:spPr>
          <a:xfrm>
            <a:off x="5468760" y="341640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17"/>
          <p:cNvSpPr/>
          <p:nvPr/>
        </p:nvSpPr>
        <p:spPr>
          <a:xfrm>
            <a:off x="5735520" y="365760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18"/>
          <p:cNvSpPr/>
          <p:nvPr/>
        </p:nvSpPr>
        <p:spPr>
          <a:xfrm>
            <a:off x="5943600" y="325296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19"/>
          <p:cNvSpPr/>
          <p:nvPr/>
        </p:nvSpPr>
        <p:spPr>
          <a:xfrm>
            <a:off x="5780160" y="329580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20"/>
          <p:cNvSpPr/>
          <p:nvPr/>
        </p:nvSpPr>
        <p:spPr>
          <a:xfrm>
            <a:off x="5929200" y="300816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21"/>
          <p:cNvSpPr/>
          <p:nvPr/>
        </p:nvSpPr>
        <p:spPr>
          <a:xfrm>
            <a:off x="5392800" y="2932200"/>
            <a:ext cx="7596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22"/>
          <p:cNvSpPr/>
          <p:nvPr/>
        </p:nvSpPr>
        <p:spPr>
          <a:xfrm>
            <a:off x="5742000" y="3457440"/>
            <a:ext cx="7632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23"/>
          <p:cNvSpPr/>
          <p:nvPr/>
        </p:nvSpPr>
        <p:spPr>
          <a:xfrm>
            <a:off x="4083120" y="325116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24"/>
          <p:cNvSpPr/>
          <p:nvPr/>
        </p:nvSpPr>
        <p:spPr>
          <a:xfrm>
            <a:off x="3946680" y="353052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25"/>
          <p:cNvSpPr/>
          <p:nvPr/>
        </p:nvSpPr>
        <p:spPr>
          <a:xfrm>
            <a:off x="4629240" y="3046320"/>
            <a:ext cx="75960" cy="76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26"/>
          <p:cNvSpPr/>
          <p:nvPr/>
        </p:nvSpPr>
        <p:spPr>
          <a:xfrm>
            <a:off x="4705200" y="3683160"/>
            <a:ext cx="76320" cy="759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Group 33"/>
          <p:cNvGrpSpPr/>
          <p:nvPr/>
        </p:nvGrpSpPr>
        <p:grpSpPr>
          <a:xfrm>
            <a:off x="4257720" y="2671920"/>
            <a:ext cx="844560" cy="812520"/>
            <a:chOff x="4257720" y="2671920"/>
            <a:chExt cx="844560" cy="812520"/>
          </a:xfrm>
        </p:grpSpPr>
        <p:sp>
          <p:nvSpPr>
            <p:cNvPr id="1808" name="Oval 27"/>
            <p:cNvSpPr/>
            <p:nvPr/>
          </p:nvSpPr>
          <p:spPr>
            <a:xfrm>
              <a:off x="4257720" y="2671920"/>
              <a:ext cx="844560" cy="812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Oval 32"/>
            <p:cNvSpPr/>
            <p:nvPr/>
          </p:nvSpPr>
          <p:spPr>
            <a:xfrm>
              <a:off x="4630320" y="304920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Group 34"/>
          <p:cNvGrpSpPr/>
          <p:nvPr/>
        </p:nvGrpSpPr>
        <p:grpSpPr>
          <a:xfrm>
            <a:off x="4041720" y="2622600"/>
            <a:ext cx="844560" cy="811080"/>
            <a:chOff x="4041720" y="2622600"/>
            <a:chExt cx="844560" cy="811080"/>
          </a:xfrm>
        </p:grpSpPr>
        <p:sp>
          <p:nvSpPr>
            <p:cNvPr id="1811" name="Oval 35"/>
            <p:cNvSpPr/>
            <p:nvPr/>
          </p:nvSpPr>
          <p:spPr>
            <a:xfrm>
              <a:off x="4041720" y="2622600"/>
              <a:ext cx="844560" cy="811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Oval 36"/>
            <p:cNvSpPr/>
            <p:nvPr/>
          </p:nvSpPr>
          <p:spPr>
            <a:xfrm>
              <a:off x="4414320" y="299952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Group 37"/>
          <p:cNvGrpSpPr/>
          <p:nvPr/>
        </p:nvGrpSpPr>
        <p:grpSpPr>
          <a:xfrm>
            <a:off x="3701880" y="2916360"/>
            <a:ext cx="846360" cy="812520"/>
            <a:chOff x="3701880" y="2916360"/>
            <a:chExt cx="846360" cy="812520"/>
          </a:xfrm>
        </p:grpSpPr>
        <p:sp>
          <p:nvSpPr>
            <p:cNvPr id="1814" name="Oval 38"/>
            <p:cNvSpPr/>
            <p:nvPr/>
          </p:nvSpPr>
          <p:spPr>
            <a:xfrm>
              <a:off x="3701880" y="2916360"/>
              <a:ext cx="846360" cy="812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Oval 39"/>
            <p:cNvSpPr/>
            <p:nvPr/>
          </p:nvSpPr>
          <p:spPr>
            <a:xfrm>
              <a:off x="4075200" y="3293640"/>
              <a:ext cx="7632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Group 40"/>
          <p:cNvGrpSpPr/>
          <p:nvPr/>
        </p:nvGrpSpPr>
        <p:grpSpPr>
          <a:xfrm>
            <a:off x="3822840" y="2847960"/>
            <a:ext cx="846000" cy="811080"/>
            <a:chOff x="3822840" y="2847960"/>
            <a:chExt cx="846000" cy="811080"/>
          </a:xfrm>
        </p:grpSpPr>
        <p:sp>
          <p:nvSpPr>
            <p:cNvPr id="1817" name="Oval 41"/>
            <p:cNvSpPr/>
            <p:nvPr/>
          </p:nvSpPr>
          <p:spPr>
            <a:xfrm>
              <a:off x="3822840" y="2847960"/>
              <a:ext cx="846000" cy="811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Oval 42"/>
            <p:cNvSpPr/>
            <p:nvPr/>
          </p:nvSpPr>
          <p:spPr>
            <a:xfrm>
              <a:off x="4196160" y="322488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Group 46"/>
          <p:cNvGrpSpPr/>
          <p:nvPr/>
        </p:nvGrpSpPr>
        <p:grpSpPr>
          <a:xfrm>
            <a:off x="3936960" y="2755800"/>
            <a:ext cx="844560" cy="812880"/>
            <a:chOff x="3936960" y="2755800"/>
            <a:chExt cx="844560" cy="812880"/>
          </a:xfrm>
        </p:grpSpPr>
        <p:sp>
          <p:nvSpPr>
            <p:cNvPr id="1820" name="Oval 47"/>
            <p:cNvSpPr/>
            <p:nvPr/>
          </p:nvSpPr>
          <p:spPr>
            <a:xfrm>
              <a:off x="3936960" y="2755800"/>
              <a:ext cx="844560" cy="812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Oval 48"/>
            <p:cNvSpPr/>
            <p:nvPr/>
          </p:nvSpPr>
          <p:spPr>
            <a:xfrm>
              <a:off x="4309560" y="3133440"/>
              <a:ext cx="75960" cy="759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Straight Connector 50"/>
          <p:cNvSpPr/>
          <p:nvPr/>
        </p:nvSpPr>
        <p:spPr>
          <a:xfrm flipH="1" flipV="1">
            <a:off x="4452480" y="3036600"/>
            <a:ext cx="219240" cy="507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55"/>
          <p:cNvSpPr/>
          <p:nvPr/>
        </p:nvSpPr>
        <p:spPr>
          <a:xfrm flipH="1">
            <a:off x="4347720" y="3036960"/>
            <a:ext cx="109800" cy="13644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60"/>
          <p:cNvSpPr/>
          <p:nvPr/>
        </p:nvSpPr>
        <p:spPr>
          <a:xfrm flipH="1">
            <a:off x="4233960" y="3171960"/>
            <a:ext cx="115920" cy="903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65"/>
          <p:cNvSpPr/>
          <p:nvPr/>
        </p:nvSpPr>
        <p:spPr>
          <a:xfrm flipH="1">
            <a:off x="4114440" y="3265560"/>
            <a:ext cx="119160" cy="6804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n-shif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ints that end up in the same location are cluster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Straight Connector 4"/>
          <p:cNvSpPr/>
          <p:nvPr/>
        </p:nvSpPr>
        <p:spPr>
          <a:xfrm>
            <a:off x="4133880" y="2133720"/>
            <a:ext cx="0" cy="388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6"/>
          <p:cNvSpPr/>
          <p:nvPr/>
        </p:nvSpPr>
        <p:spPr>
          <a:xfrm>
            <a:off x="2209680" y="4076640"/>
            <a:ext cx="406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7"/>
          <p:cNvSpPr/>
          <p:nvPr/>
        </p:nvSpPr>
        <p:spPr>
          <a:xfrm>
            <a:off x="3278160" y="3379680"/>
            <a:ext cx="106560" cy="1065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8"/>
          <p:cNvSpPr/>
          <p:nvPr/>
        </p:nvSpPr>
        <p:spPr>
          <a:xfrm>
            <a:off x="3063960" y="359568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Oval 9"/>
          <p:cNvSpPr/>
          <p:nvPr/>
        </p:nvSpPr>
        <p:spPr>
          <a:xfrm>
            <a:off x="3598920" y="373860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10"/>
          <p:cNvSpPr/>
          <p:nvPr/>
        </p:nvSpPr>
        <p:spPr>
          <a:xfrm>
            <a:off x="3470400" y="304488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Oval 11"/>
          <p:cNvSpPr/>
          <p:nvPr/>
        </p:nvSpPr>
        <p:spPr>
          <a:xfrm>
            <a:off x="3478320" y="4387680"/>
            <a:ext cx="106200" cy="1051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Oval 12"/>
          <p:cNvSpPr/>
          <p:nvPr/>
        </p:nvSpPr>
        <p:spPr>
          <a:xfrm>
            <a:off x="3909960" y="286848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Oval 13"/>
          <p:cNvSpPr/>
          <p:nvPr/>
        </p:nvSpPr>
        <p:spPr>
          <a:xfrm>
            <a:off x="5808600" y="304308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Oval 14"/>
          <p:cNvSpPr/>
          <p:nvPr/>
        </p:nvSpPr>
        <p:spPr>
          <a:xfrm>
            <a:off x="3813120" y="348624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Oval 15"/>
          <p:cNvSpPr/>
          <p:nvPr/>
        </p:nvSpPr>
        <p:spPr>
          <a:xfrm>
            <a:off x="5575320" y="307980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Oval 16"/>
          <p:cNvSpPr/>
          <p:nvPr/>
        </p:nvSpPr>
        <p:spPr>
          <a:xfrm>
            <a:off x="5629320" y="348156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Oval 17"/>
          <p:cNvSpPr/>
          <p:nvPr/>
        </p:nvSpPr>
        <p:spPr>
          <a:xfrm>
            <a:off x="6004080" y="381492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18"/>
          <p:cNvSpPr/>
          <p:nvPr/>
        </p:nvSpPr>
        <p:spPr>
          <a:xfrm>
            <a:off x="6294600" y="325764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19"/>
          <p:cNvSpPr/>
          <p:nvPr/>
        </p:nvSpPr>
        <p:spPr>
          <a:xfrm>
            <a:off x="6066000" y="331488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20"/>
          <p:cNvSpPr/>
          <p:nvPr/>
        </p:nvSpPr>
        <p:spPr>
          <a:xfrm>
            <a:off x="6273720" y="2919240"/>
            <a:ext cx="106560" cy="1065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21"/>
          <p:cNvSpPr/>
          <p:nvPr/>
        </p:nvSpPr>
        <p:spPr>
          <a:xfrm>
            <a:off x="5522760" y="2814480"/>
            <a:ext cx="10656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22"/>
          <p:cNvSpPr/>
          <p:nvPr/>
        </p:nvSpPr>
        <p:spPr>
          <a:xfrm>
            <a:off x="6012000" y="353844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23"/>
          <p:cNvSpPr/>
          <p:nvPr/>
        </p:nvSpPr>
        <p:spPr>
          <a:xfrm>
            <a:off x="3684600" y="325440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24"/>
          <p:cNvSpPr/>
          <p:nvPr/>
        </p:nvSpPr>
        <p:spPr>
          <a:xfrm>
            <a:off x="3494160" y="3639960"/>
            <a:ext cx="106200" cy="1051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25"/>
          <p:cNvSpPr/>
          <p:nvPr/>
        </p:nvSpPr>
        <p:spPr>
          <a:xfrm>
            <a:off x="4451400" y="2973240"/>
            <a:ext cx="1062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26"/>
          <p:cNvSpPr/>
          <p:nvPr/>
        </p:nvSpPr>
        <p:spPr>
          <a:xfrm>
            <a:off x="4557600" y="3849840"/>
            <a:ext cx="108000" cy="10476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51"/>
          <p:cNvSpPr/>
          <p:nvPr/>
        </p:nvSpPr>
        <p:spPr>
          <a:xfrm>
            <a:off x="3470400" y="438624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52"/>
          <p:cNvSpPr/>
          <p:nvPr/>
        </p:nvSpPr>
        <p:spPr>
          <a:xfrm>
            <a:off x="4557600" y="384336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Straight Connector 28"/>
          <p:cNvSpPr/>
          <p:nvPr/>
        </p:nvSpPr>
        <p:spPr>
          <a:xfrm flipH="1">
            <a:off x="3684600" y="3029040"/>
            <a:ext cx="8222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Straight Connector 53"/>
          <p:cNvSpPr/>
          <p:nvPr/>
        </p:nvSpPr>
        <p:spPr>
          <a:xfrm flipH="1">
            <a:off x="3684600" y="2916360"/>
            <a:ext cx="280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6"/>
          <p:cNvSpPr/>
          <p:nvPr/>
        </p:nvSpPr>
        <p:spPr>
          <a:xfrm>
            <a:off x="3684600" y="3484440"/>
            <a:ext cx="19044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3687480" y="3311640"/>
            <a:ext cx="5220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2"/>
          <p:cNvSpPr/>
          <p:nvPr/>
        </p:nvSpPr>
        <p:spPr>
          <a:xfrm>
            <a:off x="3527280" y="3098880"/>
            <a:ext cx="1652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Straight Connector 66"/>
          <p:cNvSpPr/>
          <p:nvPr/>
        </p:nvSpPr>
        <p:spPr>
          <a:xfrm>
            <a:off x="3328920" y="3432240"/>
            <a:ext cx="35892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Straight Connector 68"/>
          <p:cNvSpPr/>
          <p:nvPr/>
        </p:nvSpPr>
        <p:spPr>
          <a:xfrm flipV="1">
            <a:off x="3121200" y="3489120"/>
            <a:ext cx="5666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Straight Connector 71"/>
          <p:cNvSpPr/>
          <p:nvPr/>
        </p:nvSpPr>
        <p:spPr>
          <a:xfrm flipV="1">
            <a:off x="3549600" y="3484440"/>
            <a:ext cx="14292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Straight Connector 74"/>
          <p:cNvSpPr/>
          <p:nvPr/>
        </p:nvSpPr>
        <p:spPr>
          <a:xfrm flipV="1">
            <a:off x="3652920" y="3484080"/>
            <a:ext cx="3492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5"/>
          <p:cNvSpPr/>
          <p:nvPr/>
        </p:nvSpPr>
        <p:spPr>
          <a:xfrm>
            <a:off x="3630600" y="343368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Straight Connector 77"/>
          <p:cNvSpPr/>
          <p:nvPr/>
        </p:nvSpPr>
        <p:spPr>
          <a:xfrm flipH="1" flipV="1">
            <a:off x="5864040" y="3098880"/>
            <a:ext cx="9036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Straight Connector 80"/>
          <p:cNvSpPr/>
          <p:nvPr/>
        </p:nvSpPr>
        <p:spPr>
          <a:xfrm flipH="1" flipV="1">
            <a:off x="5578200" y="2868480"/>
            <a:ext cx="37620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Straight Connector 83"/>
          <p:cNvSpPr/>
          <p:nvPr/>
        </p:nvSpPr>
        <p:spPr>
          <a:xfrm flipH="1" flipV="1">
            <a:off x="5629320" y="313380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Straight Connector 86"/>
          <p:cNvSpPr/>
          <p:nvPr/>
        </p:nvSpPr>
        <p:spPr>
          <a:xfrm flipH="1">
            <a:off x="5681160" y="3324240"/>
            <a:ext cx="27324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Straight Connector 89"/>
          <p:cNvSpPr/>
          <p:nvPr/>
        </p:nvSpPr>
        <p:spPr>
          <a:xfrm>
            <a:off x="5950080" y="3319560"/>
            <a:ext cx="11268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Straight Connector 92"/>
          <p:cNvSpPr/>
          <p:nvPr/>
        </p:nvSpPr>
        <p:spPr>
          <a:xfrm flipH="1" flipV="1">
            <a:off x="5954760" y="3319560"/>
            <a:ext cx="10008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Straight Connector 95"/>
          <p:cNvSpPr/>
          <p:nvPr/>
        </p:nvSpPr>
        <p:spPr>
          <a:xfrm>
            <a:off x="5954760" y="3319560"/>
            <a:ext cx="16488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Straight Connector 98"/>
          <p:cNvSpPr/>
          <p:nvPr/>
        </p:nvSpPr>
        <p:spPr>
          <a:xfrm flipH="1">
            <a:off x="5954400" y="3311640"/>
            <a:ext cx="393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traight Connector 101"/>
          <p:cNvSpPr/>
          <p:nvPr/>
        </p:nvSpPr>
        <p:spPr>
          <a:xfrm flipH="1">
            <a:off x="5954400" y="2973240"/>
            <a:ext cx="37764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49"/>
          <p:cNvSpPr/>
          <p:nvPr/>
        </p:nvSpPr>
        <p:spPr>
          <a:xfrm>
            <a:off x="5896080" y="3267000"/>
            <a:ext cx="108000" cy="1047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04"/>
          <p:cNvSpPr/>
          <p:nvPr/>
        </p:nvSpPr>
        <p:spPr>
          <a:xfrm>
            <a:off x="1676520" y="6248520"/>
            <a:ext cx="65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coewww.rutgers.edu/riul/research/code/EDISON/index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Box 105"/>
          <p:cNvSpPr/>
          <p:nvPr/>
        </p:nvSpPr>
        <p:spPr>
          <a:xfrm>
            <a:off x="890640" y="5867280"/>
            <a:ext cx="26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ex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5" name="Picture 2" descr="http://www.cvr.yorku.ca/members/gradstudents/kosta/compvis/file_mean_shift_path.gif"/>
          <p:cNvPicPr/>
          <p:nvPr/>
        </p:nvPicPr>
        <p:blipFill>
          <a:blip r:embed="rId1"/>
          <a:stretch/>
        </p:blipFill>
        <p:spPr>
          <a:xfrm>
            <a:off x="2666880" y="3200400"/>
            <a:ext cx="4152960" cy="327672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4" descr="http://www.cvr.yorku.ca/members/gradstudents/kosta/compvis/imgLoZCLxRPRU.jpg"/>
          <p:cNvPicPr/>
          <p:nvPr/>
        </p:nvPicPr>
        <p:blipFill>
          <a:blip r:embed="rId2"/>
          <a:stretch/>
        </p:blipFill>
        <p:spPr>
          <a:xfrm>
            <a:off x="1981080" y="1066680"/>
            <a:ext cx="5257800" cy="1897200"/>
          </a:xfrm>
          <a:prstGeom prst="rect">
            <a:avLst/>
          </a:prstGeom>
          <a:ln w="0">
            <a:noFill/>
          </a:ln>
        </p:spPr>
      </p:pic>
      <p:sp>
        <p:nvSpPr>
          <p:cNvPr id="1877" name="TextBox 3"/>
          <p:cNvSpPr/>
          <p:nvPr/>
        </p:nvSpPr>
        <p:spPr>
          <a:xfrm>
            <a:off x="609480" y="322416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 up the hil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ustering spatial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want to include spatial relatio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in 5 dimensions instead of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Picture 2" descr=""/>
          <p:cNvPicPr/>
          <p:nvPr/>
        </p:nvPicPr>
        <p:blipFill>
          <a:blip r:embed="rId1"/>
          <a:stretch/>
        </p:blipFill>
        <p:spPr>
          <a:xfrm>
            <a:off x="4800600" y="3170160"/>
            <a:ext cx="819000" cy="180036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3" descr=""/>
          <p:cNvPicPr/>
          <p:nvPr/>
        </p:nvPicPr>
        <p:blipFill>
          <a:blip r:embed="rId2"/>
          <a:stretch/>
        </p:blipFill>
        <p:spPr>
          <a:xfrm>
            <a:off x="2743200" y="2738520"/>
            <a:ext cx="77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 Shift color&amp;spatial Segmentation 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3" name="Picture 3" descr="negoiu_s"/>
          <p:cNvPicPr/>
          <p:nvPr/>
        </p:nvPicPr>
        <p:blipFill>
          <a:blip r:embed="rId1"/>
          <a:stretch/>
        </p:blipFill>
        <p:spPr>
          <a:xfrm>
            <a:off x="4508640" y="3757680"/>
            <a:ext cx="3727440" cy="25477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4" descr="campus"/>
          <p:cNvPicPr/>
          <p:nvPr/>
        </p:nvPicPr>
        <p:blipFill>
          <a:blip r:embed="rId2"/>
          <a:stretch/>
        </p:blipFill>
        <p:spPr>
          <a:xfrm>
            <a:off x="309600" y="1182600"/>
            <a:ext cx="3733920" cy="240048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5" descr="campus_s"/>
          <p:cNvPicPr/>
          <p:nvPr/>
        </p:nvPicPr>
        <p:blipFill>
          <a:blip r:embed="rId3"/>
          <a:stretch/>
        </p:blipFill>
        <p:spPr>
          <a:xfrm>
            <a:off x="4492800" y="1147680"/>
            <a:ext cx="3733560" cy="240048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6" descr="negoiu"/>
          <p:cNvPicPr/>
          <p:nvPr/>
        </p:nvPicPr>
        <p:blipFill>
          <a:blip r:embed="rId4"/>
          <a:stretch/>
        </p:blipFill>
        <p:spPr>
          <a:xfrm>
            <a:off x="324000" y="3757680"/>
            <a:ext cx="3728880" cy="254772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7"/>
          <p:cNvSpPr/>
          <p:nvPr/>
        </p:nvSpPr>
        <p:spPr>
          <a:xfrm>
            <a:off x="918360" y="6324480"/>
            <a:ext cx="71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aip.rutgers.edu/~comanici/MSPAMI/msPamiResul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Fas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714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st and di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Box 1"/>
          <p:cNvSpPr/>
          <p:nvPr/>
        </p:nvSpPr>
        <p:spPr>
          <a:xfrm>
            <a:off x="671400" y="114300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just want to group similar neighboring pix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2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893" name="Group 6"/>
          <p:cNvGrpSpPr/>
          <p:nvPr/>
        </p:nvGrpSpPr>
        <p:grpSpPr>
          <a:xfrm>
            <a:off x="5391000" y="2438280"/>
            <a:ext cx="761760" cy="794160"/>
            <a:chOff x="5391000" y="2438280"/>
            <a:chExt cx="761760" cy="794160"/>
          </a:xfrm>
        </p:grpSpPr>
        <p:sp>
          <p:nvSpPr>
            <p:cNvPr id="1894" name="Rectangle 4"/>
            <p:cNvSpPr/>
            <p:nvPr/>
          </p:nvSpPr>
          <p:spPr>
            <a:xfrm>
              <a:off x="577188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159"/>
            <p:cNvSpPr/>
            <p:nvPr/>
          </p:nvSpPr>
          <p:spPr>
            <a:xfrm>
              <a:off x="539100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160"/>
            <p:cNvSpPr/>
            <p:nvPr/>
          </p:nvSpPr>
          <p:spPr>
            <a:xfrm>
              <a:off x="5771880" y="245124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TextBox 5"/>
            <p:cNvSpPr/>
            <p:nvPr/>
          </p:nvSpPr>
          <p:spPr>
            <a:xfrm>
              <a:off x="5771880" y="2833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TextBox 162"/>
            <p:cNvSpPr/>
            <p:nvPr/>
          </p:nvSpPr>
          <p:spPr>
            <a:xfrm>
              <a:off x="5391360" y="2824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TextBox 163"/>
            <p:cNvSpPr/>
            <p:nvPr/>
          </p:nvSpPr>
          <p:spPr>
            <a:xfrm>
              <a:off x="5771880" y="2438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TextBox 164"/>
          <p:cNvSpPr/>
          <p:nvPr/>
        </p:nvSpPr>
        <p:spPr>
          <a:xfrm>
            <a:off x="6248520" y="245736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min(S), where S is the set of similar pixels in {A, B, C}.  A is always in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Box 165"/>
          <p:cNvSpPr/>
          <p:nvPr/>
        </p:nvSpPr>
        <p:spPr>
          <a:xfrm>
            <a:off x="5105520" y="19558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3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4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5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TextBox 33"/>
          <p:cNvSpPr/>
          <p:nvPr/>
        </p:nvSpPr>
        <p:spPr>
          <a:xfrm>
            <a:off x="6248520" y="245736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min(S), where S is the set of similar pixels in {A, B, C}.  A is always in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7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8" name=""/>
          <p:cNvGraphicFramePr/>
          <p:nvPr/>
        </p:nvGraphicFramePr>
        <p:xfrm>
          <a:off x="1905120" y="2438280"/>
          <a:ext cx="2590560" cy="22258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371520"/>
                <a:gridCol w="369720"/>
                <a:gridCol w="370080"/>
                <a:gridCol w="3697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714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st and di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Box 1"/>
          <p:cNvSpPr/>
          <p:nvPr/>
        </p:nvSpPr>
        <p:spPr>
          <a:xfrm>
            <a:off x="671400" y="114300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you just want to group similar neighboring pix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Group 6"/>
          <p:cNvGrpSpPr/>
          <p:nvPr/>
        </p:nvGrpSpPr>
        <p:grpSpPr>
          <a:xfrm>
            <a:off x="5391000" y="2438280"/>
            <a:ext cx="761760" cy="794160"/>
            <a:chOff x="5391000" y="2438280"/>
            <a:chExt cx="761760" cy="794160"/>
          </a:xfrm>
        </p:grpSpPr>
        <p:sp>
          <p:nvSpPr>
            <p:cNvPr id="1912" name="Rectangle 4"/>
            <p:cNvSpPr/>
            <p:nvPr/>
          </p:nvSpPr>
          <p:spPr>
            <a:xfrm>
              <a:off x="577188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159"/>
            <p:cNvSpPr/>
            <p:nvPr/>
          </p:nvSpPr>
          <p:spPr>
            <a:xfrm>
              <a:off x="5391000" y="283356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160"/>
            <p:cNvSpPr/>
            <p:nvPr/>
          </p:nvSpPr>
          <p:spPr>
            <a:xfrm>
              <a:off x="5771880" y="2451240"/>
              <a:ext cx="380880" cy="38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TextBox 5"/>
            <p:cNvSpPr/>
            <p:nvPr/>
          </p:nvSpPr>
          <p:spPr>
            <a:xfrm>
              <a:off x="5771880" y="2833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TextBox 162"/>
            <p:cNvSpPr/>
            <p:nvPr/>
          </p:nvSpPr>
          <p:spPr>
            <a:xfrm>
              <a:off x="5391360" y="2824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TextBox 163"/>
            <p:cNvSpPr/>
            <p:nvPr/>
          </p:nvSpPr>
          <p:spPr>
            <a:xfrm>
              <a:off x="5771880" y="2438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8" name="TextBox 165"/>
          <p:cNvSpPr/>
          <p:nvPr/>
        </p:nvSpPr>
        <p:spPr>
          <a:xfrm>
            <a:off x="5105520" y="195588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Box 174"/>
          <p:cNvSpPr/>
          <p:nvPr/>
        </p:nvSpPr>
        <p:spPr>
          <a:xfrm>
            <a:off x="5153040" y="3733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Box 175"/>
          <p:cNvSpPr/>
          <p:nvPr/>
        </p:nvSpPr>
        <p:spPr>
          <a:xfrm>
            <a:off x="5435640" y="42642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sign clusters based on merg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7"/>
          <p:cNvSpPr/>
          <p:nvPr/>
        </p:nvSpPr>
        <p:spPr>
          <a:xfrm>
            <a:off x="6100920" y="6148440"/>
            <a:ext cx="4381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177"/>
          <p:cNvSpPr/>
          <p:nvPr/>
        </p:nvSpPr>
        <p:spPr>
          <a:xfrm>
            <a:off x="5619600" y="5562720"/>
            <a:ext cx="43848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178"/>
          <p:cNvSpPr/>
          <p:nvPr/>
        </p:nvSpPr>
        <p:spPr>
          <a:xfrm>
            <a:off x="6647040" y="5562720"/>
            <a:ext cx="4381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179"/>
          <p:cNvSpPr/>
          <p:nvPr/>
        </p:nvSpPr>
        <p:spPr>
          <a:xfrm>
            <a:off x="5132520" y="4941720"/>
            <a:ext cx="4381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5" name="Straight Arrow Connector 9"/>
          <p:cNvCxnSpPr>
            <a:stCxn id="1924" idx="5"/>
            <a:endCxn id="1922" idx="1"/>
          </p:cNvCxnSpPr>
          <p:nvPr/>
        </p:nvCxnSpPr>
        <p:spPr>
          <a:xfrm>
            <a:off x="5506920" y="5330520"/>
            <a:ext cx="177120" cy="29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6" name="Straight Arrow Connector 11"/>
          <p:cNvCxnSpPr>
            <a:stCxn id="1922" idx="5"/>
            <a:endCxn id="1921" idx="1"/>
          </p:cNvCxnSpPr>
          <p:nvPr/>
        </p:nvCxnSpPr>
        <p:spPr>
          <a:xfrm>
            <a:off x="5992920" y="5952960"/>
            <a:ext cx="173520" cy="26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7" name="Straight Arrow Connector 13"/>
          <p:cNvCxnSpPr>
            <a:stCxn id="1923" idx="3"/>
            <a:endCxn id="1921" idx="7"/>
          </p:cNvCxnSpPr>
          <p:nvPr/>
        </p:nvCxnSpPr>
        <p:spPr>
          <a:xfrm flipH="1">
            <a:off x="6474600" y="5952960"/>
            <a:ext cx="237240" cy="26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8" name="TextBox 188"/>
          <p:cNvSpPr/>
          <p:nvPr/>
        </p:nvSpPr>
        <p:spPr>
          <a:xfrm>
            <a:off x="5160960" y="500076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Box 189"/>
          <p:cNvSpPr/>
          <p:nvPr/>
        </p:nvSpPr>
        <p:spPr>
          <a:xfrm>
            <a:off x="5624640" y="56275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Box 190"/>
          <p:cNvSpPr/>
          <p:nvPr/>
        </p:nvSpPr>
        <p:spPr>
          <a:xfrm>
            <a:off x="6651720" y="56340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Box 191"/>
          <p:cNvSpPr/>
          <p:nvPr/>
        </p:nvSpPr>
        <p:spPr>
          <a:xfrm>
            <a:off x="7086600" y="531036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Box 192"/>
          <p:cNvSpPr/>
          <p:nvPr/>
        </p:nvSpPr>
        <p:spPr>
          <a:xfrm>
            <a:off x="5562720" y="4702320"/>
            <a:ext cx="6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4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5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765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6" name="Picture 144" descr="txp_fig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1937" name="Rectangle 145"/>
          <p:cNvSpPr/>
          <p:nvPr/>
        </p:nvSpPr>
        <p:spPr>
          <a:xfrm>
            <a:off x="304920" y="5105520"/>
            <a:ext cx="86104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ation:  does H “overlap” F around [x,y]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[x,y] = 1 if H[u,v] and F[x+u-1,y+v-1] are both 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wh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Rectangle 148"/>
          <p:cNvSpPr/>
          <p:nvPr/>
        </p:nvSpPr>
        <p:spPr>
          <a:xfrm>
            <a:off x="3505320" y="2500200"/>
            <a:ext cx="116820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Rectangle 149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0" name="Picture 151" descr="txp_fig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60" descr="Edittex"/>
          <p:cNvPicPr/>
          <p:nvPr/>
        </p:nvPicPr>
        <p:blipFill>
          <a:blip r:embed="rId3"/>
          <a:stretch/>
        </p:blipFill>
        <p:spPr>
          <a:xfrm>
            <a:off x="4343400" y="324000"/>
            <a:ext cx="2532240" cy="39348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62" descr="Edittex"/>
          <p:cNvPicPr/>
          <p:nvPr/>
        </p:nvPicPr>
        <p:blipFill>
          <a:blip r:embed="rId4"/>
          <a:stretch/>
        </p:blipFill>
        <p:spPr>
          <a:xfrm>
            <a:off x="2057400" y="6172200"/>
            <a:ext cx="1709640" cy="264960"/>
          </a:xfrm>
          <a:prstGeom prst="rect">
            <a:avLst/>
          </a:prstGeom>
          <a:ln w="0">
            <a:noFill/>
          </a:ln>
        </p:spPr>
      </p:pic>
      <p:sp>
        <p:nvSpPr>
          <p:cNvPr id="1943" name="Text Box 163"/>
          <p:cNvSpPr/>
          <p:nvPr/>
        </p:nvSpPr>
        <p:spPr>
          <a:xfrm>
            <a:off x="380880" y="25750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1" name="Picture 2" descr=""/>
          <p:cNvPicPr/>
          <p:nvPr/>
        </p:nvPicPr>
        <p:blipFill>
          <a:blip r:embed="rId1"/>
          <a:stretch/>
        </p:blipFill>
        <p:spPr>
          <a:xfrm>
            <a:off x="2397240" y="1278000"/>
            <a:ext cx="43434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5" name="Picture 5" descr="diltbin"/>
          <p:cNvPicPr/>
          <p:nvPr/>
        </p:nvPicPr>
        <p:blipFill>
          <a:blip r:embed="rId1"/>
          <a:stretch/>
        </p:blipFill>
        <p:spPr>
          <a:xfrm>
            <a:off x="1542960" y="2211480"/>
            <a:ext cx="60580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Rectangle 158"/>
          <p:cNvSpPr/>
          <p:nvPr/>
        </p:nvSpPr>
        <p:spPr>
          <a:xfrm>
            <a:off x="304920" y="5105520"/>
            <a:ext cx="86104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osion:  is H “contained in” F around [x,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[x,y] = 1 if F[x+u-1,y+v-1] is 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H[u,v] i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: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8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9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765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0" name="Picture 144" descr="txp_fig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1951" name="Rectangle 146"/>
          <p:cNvSpPr/>
          <p:nvPr/>
        </p:nvSpPr>
        <p:spPr>
          <a:xfrm>
            <a:off x="3505320" y="2500200"/>
            <a:ext cx="116820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147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3" name="Picture 148" descr="txp_fig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155" descr="Edittex"/>
          <p:cNvPicPr/>
          <p:nvPr/>
        </p:nvPicPr>
        <p:blipFill>
          <a:blip r:embed="rId3"/>
          <a:stretch/>
        </p:blipFill>
        <p:spPr>
          <a:xfrm>
            <a:off x="4335480" y="317520"/>
            <a:ext cx="2531880" cy="39384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162" descr="Edittex"/>
          <p:cNvPicPr/>
          <p:nvPr/>
        </p:nvPicPr>
        <p:blipFill>
          <a:blip r:embed="rId4"/>
          <a:stretch/>
        </p:blipFill>
        <p:spPr>
          <a:xfrm>
            <a:off x="2054160" y="6172200"/>
            <a:ext cx="1709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4"/>
          <p:cNvSpPr/>
          <p:nvPr/>
        </p:nvSpPr>
        <p:spPr>
          <a:xfrm>
            <a:off x="0" y="157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" descr="erodbin"/>
          <p:cNvPicPr/>
          <p:nvPr/>
        </p:nvPicPr>
        <p:blipFill>
          <a:blip r:embed="rId1"/>
          <a:stretch/>
        </p:blipFill>
        <p:spPr>
          <a:xfrm>
            <a:off x="1581120" y="2209680"/>
            <a:ext cx="6068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9"/>
          <p:cNvSpPr/>
          <p:nvPr/>
        </p:nvSpPr>
        <p:spPr>
          <a:xfrm>
            <a:off x="685800" y="4648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2" name="Picture 15" descr="closebin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sp>
        <p:nvSpPr>
          <p:cNvPr id="1963" name="Rectangle 16"/>
          <p:cNvSpPr/>
          <p:nvPr/>
        </p:nvSpPr>
        <p:spPr>
          <a:xfrm>
            <a:off x="4191120" y="1752480"/>
            <a:ext cx="35049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4" name="Picture 5" descr="Edittex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4"/>
          <p:cNvSpPr/>
          <p:nvPr/>
        </p:nvSpPr>
        <p:spPr>
          <a:xfrm>
            <a:off x="685800" y="4648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8" name="Picture 5" descr="closebin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7" descr="Edittex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1970" name="Rectangle 8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the same thing as the foll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1" name="Picture 10" descr="Edittex"/>
          <p:cNvPicPr/>
          <p:nvPr/>
        </p:nvPicPr>
        <p:blipFill>
          <a:blip r:embed="rId3"/>
          <a:stretch/>
        </p:blipFill>
        <p:spPr>
          <a:xfrm>
            <a:off x="2136600" y="5634000"/>
            <a:ext cx="26877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5"/>
          <p:cNvSpPr/>
          <p:nvPr/>
        </p:nvSpPr>
        <p:spPr>
          <a:xfrm>
            <a:off x="685800" y="182880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ai.ed.ac.uk/HIPR2/op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5" name="Picture 7" descr="Edittex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1976" name="Rectangle 10"/>
          <p:cNvSpPr/>
          <p:nvPr/>
        </p:nvSpPr>
        <p:spPr>
          <a:xfrm>
            <a:off x="685800" y="30481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lean up binary pictures by applying combinations of dilations and ero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ions, erosions, opening, and closing operations are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phologica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ai.ed.ac.uk/HIPR2/morop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  <a:ea typeface="Kalinga"/>
              </a:rPr>
              <a:t>Normalized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Freeform 2"/>
          <p:cNvSpPr/>
          <p:nvPr/>
        </p:nvSpPr>
        <p:spPr>
          <a:xfrm flipH="1" flipV="1" rot="5400000">
            <a:off x="2475360" y="72324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reeform 3"/>
          <p:cNvSpPr/>
          <p:nvPr/>
        </p:nvSpPr>
        <p:spPr>
          <a:xfrm>
            <a:off x="3429000" y="1676520"/>
            <a:ext cx="2286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4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2590920" y="1676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7"/>
          <p:cNvSpPr/>
          <p:nvPr/>
        </p:nvSpPr>
        <p:spPr>
          <a:xfrm>
            <a:off x="3333600" y="1660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8"/>
          <p:cNvSpPr/>
          <p:nvPr/>
        </p:nvSpPr>
        <p:spPr>
          <a:xfrm flipV="1">
            <a:off x="259092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9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Line 10"/>
          <p:cNvSpPr/>
          <p:nvPr/>
        </p:nvSpPr>
        <p:spPr>
          <a:xfrm flipH="1" flipV="1">
            <a:off x="175212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11"/>
          <p:cNvSpPr/>
          <p:nvPr/>
        </p:nvSpPr>
        <p:spPr>
          <a:xfrm flipH="1">
            <a:off x="175212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12"/>
          <p:cNvSpPr/>
          <p:nvPr/>
        </p:nvSpPr>
        <p:spPr>
          <a:xfrm flipH="1">
            <a:off x="1752120" y="2514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25909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25909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s as 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y-conn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for every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 of pixel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p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il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Oval 18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19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Oval 20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21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22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3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4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25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Oval 26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251604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2895480" y="196524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Line 29"/>
          <p:cNvSpPr/>
          <p:nvPr/>
        </p:nvSpPr>
        <p:spPr>
          <a:xfrm>
            <a:off x="17524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Line 30"/>
          <p:cNvSpPr/>
          <p:nvPr/>
        </p:nvSpPr>
        <p:spPr>
          <a:xfrm>
            <a:off x="1752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Line 31"/>
          <p:cNvSpPr/>
          <p:nvPr/>
        </p:nvSpPr>
        <p:spPr>
          <a:xfrm>
            <a:off x="1752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Line 32"/>
          <p:cNvSpPr/>
          <p:nvPr/>
        </p:nvSpPr>
        <p:spPr>
          <a:xfrm flipH="1">
            <a:off x="25909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Line 33"/>
          <p:cNvSpPr/>
          <p:nvPr/>
        </p:nvSpPr>
        <p:spPr>
          <a:xfrm>
            <a:off x="34290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Line 34"/>
          <p:cNvSpPr/>
          <p:nvPr/>
        </p:nvSpPr>
        <p:spPr>
          <a:xfrm>
            <a:off x="17524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Line 35"/>
          <p:cNvSpPr/>
          <p:nvPr/>
        </p:nvSpPr>
        <p:spPr>
          <a:xfrm>
            <a:off x="175248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Line 36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2590920" y="1600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75248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Line 39"/>
          <p:cNvSpPr/>
          <p:nvPr/>
        </p:nvSpPr>
        <p:spPr>
          <a:xfrm flipV="1">
            <a:off x="175248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Line 40"/>
          <p:cNvSpPr/>
          <p:nvPr/>
        </p:nvSpPr>
        <p:spPr>
          <a:xfrm flipH="1" flipV="1">
            <a:off x="175212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Line 41"/>
          <p:cNvSpPr/>
          <p:nvPr/>
        </p:nvSpPr>
        <p:spPr>
          <a:xfrm flipV="1">
            <a:off x="175248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Freeform 4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Freeform 43"/>
          <p:cNvSpPr/>
          <p:nvPr/>
        </p:nvSpPr>
        <p:spPr>
          <a:xfrm flipH="1" rot="16200000">
            <a:off x="2475360" y="262872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0" name="Picture 44" descr="tiger_I"/>
          <p:cNvPicPr/>
          <p:nvPr/>
        </p:nvPicPr>
        <p:blipFill>
          <a:blip r:embed="rId1"/>
          <a:stretch/>
        </p:blipFill>
        <p:spPr>
          <a:xfrm>
            <a:off x="5029200" y="1133640"/>
            <a:ext cx="2533680" cy="3362040"/>
          </a:xfrm>
          <a:prstGeom prst="rect">
            <a:avLst/>
          </a:prstGeom>
          <a:ln w="0">
            <a:noFill/>
          </a:ln>
        </p:spPr>
      </p:pic>
      <p:grpSp>
        <p:nvGrpSpPr>
          <p:cNvPr id="2021" name="Group 45"/>
          <p:cNvGrpSpPr/>
          <p:nvPr/>
        </p:nvGrpSpPr>
        <p:grpSpPr>
          <a:xfrm>
            <a:off x="5962680" y="2200320"/>
            <a:ext cx="457200" cy="533160"/>
            <a:chOff x="5962680" y="2200320"/>
            <a:chExt cx="457200" cy="533160"/>
          </a:xfrm>
        </p:grpSpPr>
        <p:sp>
          <p:nvSpPr>
            <p:cNvPr id="2022" name="Rectangle 46"/>
            <p:cNvSpPr/>
            <p:nvPr/>
          </p:nvSpPr>
          <p:spPr>
            <a:xfrm>
              <a:off x="5962680" y="2657520"/>
              <a:ext cx="76320" cy="7596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47"/>
            <p:cNvSpPr/>
            <p:nvPr/>
          </p:nvSpPr>
          <p:spPr>
            <a:xfrm>
              <a:off x="6343560" y="2200320"/>
              <a:ext cx="76320" cy="7596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4" name="AutoShape 48"/>
            <p:cNvCxnSpPr>
              <a:stCxn id="2022" idx="0"/>
              <a:endCxn id="2023" idx="1"/>
            </p:cNvCxnSpPr>
            <p:nvPr/>
          </p:nvCxnSpPr>
          <p:spPr>
            <a:xfrm flipV="1">
              <a:off x="6000840" y="2238120"/>
              <a:ext cx="343440" cy="419760"/>
            </a:xfrm>
            <a:prstGeom prst="straightConnector1">
              <a:avLst/>
            </a:prstGeom>
            <a:ln cap="sq" w="28440">
              <a:solidFill>
                <a:srgbClr val="ffff00"/>
              </a:solidFill>
              <a:miter/>
            </a:ln>
          </p:spPr>
        </p:cxnSp>
      </p:grpSp>
      <p:sp>
        <p:nvSpPr>
          <p:cNvPr id="2025" name="Text Box 49"/>
          <p:cNvSpPr/>
          <p:nvPr/>
        </p:nvSpPr>
        <p:spPr>
          <a:xfrm>
            <a:off x="611496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aph-based segment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7" name="Picture 3" descr="tiger"/>
          <p:cNvPicPr/>
          <p:nvPr/>
        </p:nvPicPr>
        <p:blipFill>
          <a:blip r:embed="rId1"/>
          <a:stretch/>
        </p:blipFill>
        <p:spPr>
          <a:xfrm>
            <a:off x="947880" y="1447920"/>
            <a:ext cx="3108240" cy="234288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schematic"/>
          <p:cNvPicPr/>
          <p:nvPr/>
        </p:nvPicPr>
        <p:blipFill>
          <a:blip r:embed="rId2"/>
          <a:stretch/>
        </p:blipFill>
        <p:spPr>
          <a:xfrm>
            <a:off x="5079960" y="1447920"/>
            <a:ext cx="3106800" cy="2342880"/>
          </a:xfrm>
          <a:prstGeom prst="rect">
            <a:avLst/>
          </a:prstGeom>
          <a:ln w="0">
            <a:noFill/>
          </a:ln>
        </p:spPr>
      </p:pic>
      <p:sp>
        <p:nvSpPr>
          <p:cNvPr id="2029" name="Line 5"/>
          <p:cNvSpPr/>
          <p:nvPr/>
        </p:nvSpPr>
        <p:spPr>
          <a:xfrm>
            <a:off x="4200480" y="2590920"/>
            <a:ext cx="6764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can be measured in many way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Line 2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Line 3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Line 4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Line 5"/>
          <p:cNvSpPr/>
          <p:nvPr/>
        </p:nvSpPr>
        <p:spPr>
          <a:xfrm>
            <a:off x="25909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Line 6"/>
          <p:cNvSpPr/>
          <p:nvPr/>
        </p:nvSpPr>
        <p:spPr>
          <a:xfrm>
            <a:off x="25909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gmentation by Normalized Cu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Graph int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links that cross between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break links that have low cost (not simi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pixels should be in the sam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imilar pixels should be in different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Oval 9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10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11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12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13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14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15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16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17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Line 18"/>
          <p:cNvSpPr/>
          <p:nvPr/>
        </p:nvSpPr>
        <p:spPr>
          <a:xfrm>
            <a:off x="17524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Line 19"/>
          <p:cNvSpPr/>
          <p:nvPr/>
        </p:nvSpPr>
        <p:spPr>
          <a:xfrm>
            <a:off x="1752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Line 20"/>
          <p:cNvSpPr/>
          <p:nvPr/>
        </p:nvSpPr>
        <p:spPr>
          <a:xfrm>
            <a:off x="17524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Line 21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Freeform 2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0" y="1056"/>
                </a:moveTo>
                <a:cubicBezTo>
                  <a:pt x="72" y="880"/>
                  <a:pt x="144" y="704"/>
                  <a:pt x="144" y="528"/>
                </a:cubicBezTo>
                <a:cubicBezTo>
                  <a:pt x="144" y="352"/>
                  <a:pt x="72" y="1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2" name="Group 23"/>
          <p:cNvGrpSpPr/>
          <p:nvPr/>
        </p:nvGrpSpPr>
        <p:grpSpPr>
          <a:xfrm>
            <a:off x="5486400" y="1133640"/>
            <a:ext cx="2541600" cy="3362040"/>
            <a:chOff x="5486400" y="1133640"/>
            <a:chExt cx="2541600" cy="3362040"/>
          </a:xfrm>
        </p:grpSpPr>
        <p:pic>
          <p:nvPicPr>
            <p:cNvPr id="2053" name="Picture 24" descr="tiger_I"/>
            <p:cNvPicPr/>
            <p:nvPr/>
          </p:nvPicPr>
          <p:blipFill>
            <a:blip r:embed="rId1"/>
            <a:stretch/>
          </p:blipFill>
          <p:spPr>
            <a:xfrm>
              <a:off x="5494320" y="1133640"/>
              <a:ext cx="253368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Rectangle 25"/>
            <p:cNvSpPr/>
            <p:nvPr/>
          </p:nvSpPr>
          <p:spPr>
            <a:xfrm>
              <a:off x="5486400" y="1133640"/>
              <a:ext cx="251460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5730840" y="1279440"/>
              <a:ext cx="1459080" cy="2957760"/>
            </a:xfrm>
            <a:custGeom>
              <a:avLst/>
              <a:gdLst/>
              <a:ahLst/>
              <a:rect l="l" t="t" r="r" b="b"/>
              <a:pathLst>
                <a:path w="919" h="1863">
                  <a:moveTo>
                    <a:pt x="6" y="0"/>
                  </a:moveTo>
                  <a:cubicBezTo>
                    <a:pt x="34" y="74"/>
                    <a:pt x="0" y="52"/>
                    <a:pt x="128" y="58"/>
                  </a:cubicBezTo>
                  <a:cubicBezTo>
                    <a:pt x="167" y="63"/>
                    <a:pt x="199" y="74"/>
                    <a:pt x="235" y="85"/>
                  </a:cubicBezTo>
                  <a:cubicBezTo>
                    <a:pt x="268" y="107"/>
                    <a:pt x="292" y="142"/>
                    <a:pt x="314" y="175"/>
                  </a:cubicBezTo>
                  <a:cubicBezTo>
                    <a:pt x="318" y="180"/>
                    <a:pt x="321" y="186"/>
                    <a:pt x="325" y="191"/>
                  </a:cubicBezTo>
                  <a:cubicBezTo>
                    <a:pt x="328" y="196"/>
                    <a:pt x="332" y="202"/>
                    <a:pt x="335" y="207"/>
                  </a:cubicBezTo>
                  <a:cubicBezTo>
                    <a:pt x="339" y="212"/>
                    <a:pt x="346" y="223"/>
                    <a:pt x="346" y="223"/>
                  </a:cubicBezTo>
                  <a:cubicBezTo>
                    <a:pt x="380" y="331"/>
                    <a:pt x="371" y="445"/>
                    <a:pt x="309" y="536"/>
                  </a:cubicBezTo>
                  <a:cubicBezTo>
                    <a:pt x="304" y="552"/>
                    <a:pt x="296" y="570"/>
                    <a:pt x="288" y="584"/>
                  </a:cubicBezTo>
                  <a:cubicBezTo>
                    <a:pt x="282" y="595"/>
                    <a:pt x="266" y="616"/>
                    <a:pt x="266" y="616"/>
                  </a:cubicBezTo>
                  <a:cubicBezTo>
                    <a:pt x="256" y="649"/>
                    <a:pt x="235" y="677"/>
                    <a:pt x="224" y="711"/>
                  </a:cubicBezTo>
                  <a:cubicBezTo>
                    <a:pt x="218" y="787"/>
                    <a:pt x="212" y="839"/>
                    <a:pt x="219" y="918"/>
                  </a:cubicBezTo>
                  <a:cubicBezTo>
                    <a:pt x="221" y="943"/>
                    <a:pt x="236" y="937"/>
                    <a:pt x="245" y="966"/>
                  </a:cubicBezTo>
                  <a:cubicBezTo>
                    <a:pt x="255" y="998"/>
                    <a:pt x="269" y="1035"/>
                    <a:pt x="288" y="1062"/>
                  </a:cubicBezTo>
                  <a:cubicBezTo>
                    <a:pt x="299" y="1097"/>
                    <a:pt x="310" y="1167"/>
                    <a:pt x="282" y="1194"/>
                  </a:cubicBezTo>
                  <a:cubicBezTo>
                    <a:pt x="259" y="1217"/>
                    <a:pt x="232" y="1221"/>
                    <a:pt x="203" y="1232"/>
                  </a:cubicBezTo>
                  <a:cubicBezTo>
                    <a:pt x="203" y="1232"/>
                    <a:pt x="182" y="1259"/>
                    <a:pt x="187" y="1264"/>
                  </a:cubicBezTo>
                  <a:cubicBezTo>
                    <a:pt x="193" y="1270"/>
                    <a:pt x="235" y="1277"/>
                    <a:pt x="245" y="1279"/>
                  </a:cubicBezTo>
                  <a:cubicBezTo>
                    <a:pt x="298" y="1277"/>
                    <a:pt x="352" y="1285"/>
                    <a:pt x="404" y="1274"/>
                  </a:cubicBezTo>
                  <a:cubicBezTo>
                    <a:pt x="417" y="1271"/>
                    <a:pt x="426" y="1242"/>
                    <a:pt x="426" y="1242"/>
                  </a:cubicBezTo>
                  <a:cubicBezTo>
                    <a:pt x="434" y="1174"/>
                    <a:pt x="435" y="1117"/>
                    <a:pt x="415" y="1051"/>
                  </a:cubicBezTo>
                  <a:cubicBezTo>
                    <a:pt x="442" y="1042"/>
                    <a:pt x="434" y="1057"/>
                    <a:pt x="458" y="1072"/>
                  </a:cubicBezTo>
                  <a:cubicBezTo>
                    <a:pt x="473" y="1096"/>
                    <a:pt x="474" y="1130"/>
                    <a:pt x="489" y="1152"/>
                  </a:cubicBezTo>
                  <a:cubicBezTo>
                    <a:pt x="500" y="1168"/>
                    <a:pt x="532" y="1189"/>
                    <a:pt x="532" y="1189"/>
                  </a:cubicBezTo>
                  <a:lnTo>
                    <a:pt x="558" y="1237"/>
                  </a:lnTo>
                  <a:cubicBezTo>
                    <a:pt x="558" y="1237"/>
                    <a:pt x="558" y="1237"/>
                    <a:pt x="558" y="1237"/>
                  </a:cubicBezTo>
                  <a:cubicBezTo>
                    <a:pt x="566" y="1259"/>
                    <a:pt x="570" y="1277"/>
                    <a:pt x="574" y="1301"/>
                  </a:cubicBezTo>
                  <a:cubicBezTo>
                    <a:pt x="578" y="1352"/>
                    <a:pt x="577" y="1380"/>
                    <a:pt x="590" y="1423"/>
                  </a:cubicBezTo>
                  <a:cubicBezTo>
                    <a:pt x="593" y="1434"/>
                    <a:pt x="596" y="1445"/>
                    <a:pt x="601" y="1455"/>
                  </a:cubicBezTo>
                  <a:cubicBezTo>
                    <a:pt x="607" y="1466"/>
                    <a:pt x="622" y="1486"/>
                    <a:pt x="622" y="1486"/>
                  </a:cubicBezTo>
                  <a:cubicBezTo>
                    <a:pt x="629" y="1508"/>
                    <a:pt x="641" y="1531"/>
                    <a:pt x="654" y="1550"/>
                  </a:cubicBezTo>
                  <a:cubicBezTo>
                    <a:pt x="661" y="1572"/>
                    <a:pt x="673" y="1595"/>
                    <a:pt x="686" y="1614"/>
                  </a:cubicBezTo>
                  <a:cubicBezTo>
                    <a:pt x="695" y="1642"/>
                    <a:pt x="688" y="1626"/>
                    <a:pt x="712" y="1662"/>
                  </a:cubicBezTo>
                  <a:cubicBezTo>
                    <a:pt x="716" y="1667"/>
                    <a:pt x="723" y="1678"/>
                    <a:pt x="723" y="1678"/>
                  </a:cubicBezTo>
                  <a:cubicBezTo>
                    <a:pt x="730" y="1702"/>
                    <a:pt x="746" y="1720"/>
                    <a:pt x="760" y="1741"/>
                  </a:cubicBezTo>
                  <a:cubicBezTo>
                    <a:pt x="791" y="1788"/>
                    <a:pt x="825" y="1845"/>
                    <a:pt x="882" y="1863"/>
                  </a:cubicBezTo>
                  <a:cubicBezTo>
                    <a:pt x="919" y="1851"/>
                    <a:pt x="909" y="1779"/>
                    <a:pt x="909" y="1752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7050240" y="3521160"/>
              <a:ext cx="806400" cy="725400"/>
            </a:xfrm>
            <a:custGeom>
              <a:avLst/>
              <a:gdLst/>
              <a:ahLst/>
              <a:rect l="l" t="t" r="r" b="b"/>
              <a:pathLst>
                <a:path w="508" h="457">
                  <a:moveTo>
                    <a:pt x="73" y="324"/>
                  </a:moveTo>
                  <a:cubicBezTo>
                    <a:pt x="62" y="317"/>
                    <a:pt x="52" y="310"/>
                    <a:pt x="41" y="303"/>
                  </a:cubicBezTo>
                  <a:cubicBezTo>
                    <a:pt x="30" y="296"/>
                    <a:pt x="19" y="271"/>
                    <a:pt x="19" y="271"/>
                  </a:cubicBezTo>
                  <a:cubicBezTo>
                    <a:pt x="4" y="222"/>
                    <a:pt x="0" y="165"/>
                    <a:pt x="46" y="133"/>
                  </a:cubicBezTo>
                  <a:cubicBezTo>
                    <a:pt x="67" y="101"/>
                    <a:pt x="88" y="69"/>
                    <a:pt x="110" y="37"/>
                  </a:cubicBezTo>
                  <a:cubicBezTo>
                    <a:pt x="124" y="16"/>
                    <a:pt x="167" y="7"/>
                    <a:pt x="189" y="0"/>
                  </a:cubicBezTo>
                  <a:cubicBezTo>
                    <a:pt x="242" y="4"/>
                    <a:pt x="250" y="0"/>
                    <a:pt x="290" y="11"/>
                  </a:cubicBezTo>
                  <a:cubicBezTo>
                    <a:pt x="301" y="14"/>
                    <a:pt x="322" y="21"/>
                    <a:pt x="322" y="21"/>
                  </a:cubicBezTo>
                  <a:cubicBezTo>
                    <a:pt x="333" y="28"/>
                    <a:pt x="343" y="36"/>
                    <a:pt x="354" y="43"/>
                  </a:cubicBezTo>
                  <a:cubicBezTo>
                    <a:pt x="359" y="46"/>
                    <a:pt x="370" y="53"/>
                    <a:pt x="370" y="53"/>
                  </a:cubicBezTo>
                  <a:cubicBezTo>
                    <a:pt x="388" y="80"/>
                    <a:pt x="417" y="94"/>
                    <a:pt x="444" y="112"/>
                  </a:cubicBezTo>
                  <a:cubicBezTo>
                    <a:pt x="455" y="119"/>
                    <a:pt x="476" y="133"/>
                    <a:pt x="476" y="133"/>
                  </a:cubicBezTo>
                  <a:cubicBezTo>
                    <a:pt x="486" y="183"/>
                    <a:pt x="497" y="232"/>
                    <a:pt x="508" y="282"/>
                  </a:cubicBezTo>
                  <a:cubicBezTo>
                    <a:pt x="506" y="301"/>
                    <a:pt x="507" y="321"/>
                    <a:pt x="503" y="340"/>
                  </a:cubicBezTo>
                  <a:cubicBezTo>
                    <a:pt x="499" y="357"/>
                    <a:pt x="486" y="357"/>
                    <a:pt x="476" y="367"/>
                  </a:cubicBezTo>
                  <a:cubicBezTo>
                    <a:pt x="457" y="386"/>
                    <a:pt x="446" y="409"/>
                    <a:pt x="423" y="425"/>
                  </a:cubicBezTo>
                  <a:cubicBezTo>
                    <a:pt x="414" y="453"/>
                    <a:pt x="394" y="448"/>
                    <a:pt x="370" y="457"/>
                  </a:cubicBezTo>
                  <a:cubicBezTo>
                    <a:pt x="352" y="455"/>
                    <a:pt x="334" y="454"/>
                    <a:pt x="317" y="451"/>
                  </a:cubicBezTo>
                  <a:cubicBezTo>
                    <a:pt x="306" y="449"/>
                    <a:pt x="296" y="444"/>
                    <a:pt x="285" y="441"/>
                  </a:cubicBezTo>
                  <a:cubicBezTo>
                    <a:pt x="280" y="439"/>
                    <a:pt x="269" y="436"/>
                    <a:pt x="269" y="436"/>
                  </a:cubicBezTo>
                  <a:cubicBezTo>
                    <a:pt x="250" y="423"/>
                    <a:pt x="227" y="411"/>
                    <a:pt x="205" y="404"/>
                  </a:cubicBezTo>
                  <a:cubicBezTo>
                    <a:pt x="186" y="391"/>
                    <a:pt x="164" y="379"/>
                    <a:pt x="142" y="372"/>
                  </a:cubicBezTo>
                  <a:cubicBezTo>
                    <a:pt x="104" y="346"/>
                    <a:pt x="103" y="362"/>
                    <a:pt x="73" y="324"/>
                  </a:cubicBezTo>
                  <a:close/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5749920" y="1236600"/>
              <a:ext cx="1735200" cy="2284560"/>
            </a:xfrm>
            <a:custGeom>
              <a:avLst/>
              <a:gdLst/>
              <a:ahLst/>
              <a:rect l="l" t="t" r="r" b="b"/>
              <a:pathLst>
                <a:path w="1093" h="1439">
                  <a:moveTo>
                    <a:pt x="0" y="0"/>
                  </a:moveTo>
                  <a:cubicBezTo>
                    <a:pt x="60" y="17"/>
                    <a:pt x="123" y="18"/>
                    <a:pt x="185" y="22"/>
                  </a:cubicBezTo>
                  <a:cubicBezTo>
                    <a:pt x="216" y="29"/>
                    <a:pt x="242" y="39"/>
                    <a:pt x="270" y="53"/>
                  </a:cubicBezTo>
                  <a:cubicBezTo>
                    <a:pt x="285" y="61"/>
                    <a:pt x="318" y="69"/>
                    <a:pt x="318" y="69"/>
                  </a:cubicBezTo>
                  <a:cubicBezTo>
                    <a:pt x="329" y="76"/>
                    <a:pt x="339" y="84"/>
                    <a:pt x="350" y="91"/>
                  </a:cubicBezTo>
                  <a:cubicBezTo>
                    <a:pt x="365" y="102"/>
                    <a:pt x="372" y="122"/>
                    <a:pt x="387" y="133"/>
                  </a:cubicBezTo>
                  <a:cubicBezTo>
                    <a:pt x="395" y="159"/>
                    <a:pt x="409" y="189"/>
                    <a:pt x="424" y="213"/>
                  </a:cubicBezTo>
                  <a:cubicBezTo>
                    <a:pt x="432" y="256"/>
                    <a:pt x="438" y="298"/>
                    <a:pt x="451" y="340"/>
                  </a:cubicBezTo>
                  <a:cubicBezTo>
                    <a:pt x="454" y="351"/>
                    <a:pt x="450" y="369"/>
                    <a:pt x="461" y="372"/>
                  </a:cubicBezTo>
                  <a:cubicBezTo>
                    <a:pt x="484" y="379"/>
                    <a:pt x="472" y="376"/>
                    <a:pt x="499" y="383"/>
                  </a:cubicBezTo>
                  <a:cubicBezTo>
                    <a:pt x="535" y="377"/>
                    <a:pt x="548" y="371"/>
                    <a:pt x="584" y="377"/>
                  </a:cubicBezTo>
                  <a:cubicBezTo>
                    <a:pt x="604" y="385"/>
                    <a:pt x="608" y="398"/>
                    <a:pt x="626" y="409"/>
                  </a:cubicBezTo>
                  <a:cubicBezTo>
                    <a:pt x="654" y="449"/>
                    <a:pt x="671" y="487"/>
                    <a:pt x="716" y="515"/>
                  </a:cubicBezTo>
                  <a:cubicBezTo>
                    <a:pt x="732" y="539"/>
                    <a:pt x="744" y="559"/>
                    <a:pt x="764" y="579"/>
                  </a:cubicBezTo>
                  <a:cubicBezTo>
                    <a:pt x="776" y="617"/>
                    <a:pt x="759" y="574"/>
                    <a:pt x="785" y="606"/>
                  </a:cubicBezTo>
                  <a:cubicBezTo>
                    <a:pt x="802" y="626"/>
                    <a:pt x="808" y="661"/>
                    <a:pt x="817" y="685"/>
                  </a:cubicBezTo>
                  <a:cubicBezTo>
                    <a:pt x="827" y="711"/>
                    <a:pt x="821" y="696"/>
                    <a:pt x="833" y="733"/>
                  </a:cubicBezTo>
                  <a:cubicBezTo>
                    <a:pt x="835" y="738"/>
                    <a:pt x="838" y="749"/>
                    <a:pt x="838" y="749"/>
                  </a:cubicBezTo>
                  <a:cubicBezTo>
                    <a:pt x="845" y="801"/>
                    <a:pt x="829" y="920"/>
                    <a:pt x="870" y="945"/>
                  </a:cubicBezTo>
                  <a:cubicBezTo>
                    <a:pt x="884" y="965"/>
                    <a:pt x="908" y="980"/>
                    <a:pt x="929" y="993"/>
                  </a:cubicBezTo>
                  <a:cubicBezTo>
                    <a:pt x="932" y="998"/>
                    <a:pt x="935" y="1004"/>
                    <a:pt x="939" y="1009"/>
                  </a:cubicBezTo>
                  <a:cubicBezTo>
                    <a:pt x="943" y="1014"/>
                    <a:pt x="951" y="1015"/>
                    <a:pt x="955" y="1020"/>
                  </a:cubicBezTo>
                  <a:cubicBezTo>
                    <a:pt x="975" y="1045"/>
                    <a:pt x="943" y="1030"/>
                    <a:pt x="977" y="1041"/>
                  </a:cubicBezTo>
                  <a:cubicBezTo>
                    <a:pt x="980" y="1046"/>
                    <a:pt x="981" y="1055"/>
                    <a:pt x="987" y="1057"/>
                  </a:cubicBezTo>
                  <a:cubicBezTo>
                    <a:pt x="1004" y="1063"/>
                    <a:pt x="1034" y="1045"/>
                    <a:pt x="1040" y="1062"/>
                  </a:cubicBezTo>
                  <a:cubicBezTo>
                    <a:pt x="1058" y="1114"/>
                    <a:pt x="1043" y="1172"/>
                    <a:pt x="1046" y="1227"/>
                  </a:cubicBezTo>
                  <a:cubicBezTo>
                    <a:pt x="1047" y="1245"/>
                    <a:pt x="1072" y="1275"/>
                    <a:pt x="1072" y="1275"/>
                  </a:cubicBezTo>
                  <a:cubicBezTo>
                    <a:pt x="1091" y="1337"/>
                    <a:pt x="1093" y="1370"/>
                    <a:pt x="1093" y="1439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7485120" y="2973240"/>
              <a:ext cx="523800" cy="481320"/>
            </a:xfrm>
            <a:custGeom>
              <a:avLst/>
              <a:gdLst/>
              <a:ahLst/>
              <a:rect l="l" t="t" r="r" b="b"/>
              <a:pathLst>
                <a:path w="330" h="303">
                  <a:moveTo>
                    <a:pt x="0" y="271"/>
                  </a:moveTo>
                  <a:cubicBezTo>
                    <a:pt x="31" y="264"/>
                    <a:pt x="63" y="267"/>
                    <a:pt x="91" y="250"/>
                  </a:cubicBezTo>
                  <a:cubicBezTo>
                    <a:pt x="101" y="234"/>
                    <a:pt x="106" y="220"/>
                    <a:pt x="112" y="202"/>
                  </a:cubicBezTo>
                  <a:cubicBezTo>
                    <a:pt x="106" y="131"/>
                    <a:pt x="77" y="26"/>
                    <a:pt x="160" y="0"/>
                  </a:cubicBezTo>
                  <a:cubicBezTo>
                    <a:pt x="182" y="15"/>
                    <a:pt x="182" y="34"/>
                    <a:pt x="191" y="58"/>
                  </a:cubicBezTo>
                  <a:cubicBezTo>
                    <a:pt x="212" y="113"/>
                    <a:pt x="219" y="176"/>
                    <a:pt x="245" y="228"/>
                  </a:cubicBezTo>
                  <a:cubicBezTo>
                    <a:pt x="257" y="251"/>
                    <a:pt x="260" y="248"/>
                    <a:pt x="287" y="266"/>
                  </a:cubicBezTo>
                  <a:cubicBezTo>
                    <a:pt x="292" y="270"/>
                    <a:pt x="293" y="277"/>
                    <a:pt x="298" y="281"/>
                  </a:cubicBezTo>
                  <a:cubicBezTo>
                    <a:pt x="308" y="289"/>
                    <a:pt x="330" y="303"/>
                    <a:pt x="330" y="303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5521320" y="3189240"/>
              <a:ext cx="506520" cy="1192320"/>
            </a:xfrm>
            <a:custGeom>
              <a:avLst/>
              <a:gdLst/>
              <a:ahLst/>
              <a:rect l="l" t="t" r="r" b="b"/>
              <a:pathLst>
                <a:path w="319" h="751">
                  <a:moveTo>
                    <a:pt x="0" y="751"/>
                  </a:moveTo>
                  <a:cubicBezTo>
                    <a:pt x="26" y="741"/>
                    <a:pt x="39" y="736"/>
                    <a:pt x="64" y="719"/>
                  </a:cubicBezTo>
                  <a:cubicBezTo>
                    <a:pt x="69" y="715"/>
                    <a:pt x="80" y="708"/>
                    <a:pt x="80" y="708"/>
                  </a:cubicBezTo>
                  <a:cubicBezTo>
                    <a:pt x="91" y="690"/>
                    <a:pt x="89" y="695"/>
                    <a:pt x="96" y="676"/>
                  </a:cubicBezTo>
                  <a:cubicBezTo>
                    <a:pt x="99" y="666"/>
                    <a:pt x="106" y="645"/>
                    <a:pt x="106" y="645"/>
                  </a:cubicBezTo>
                  <a:cubicBezTo>
                    <a:pt x="120" y="459"/>
                    <a:pt x="106" y="682"/>
                    <a:pt x="106" y="347"/>
                  </a:cubicBezTo>
                  <a:cubicBezTo>
                    <a:pt x="106" y="287"/>
                    <a:pt x="99" y="252"/>
                    <a:pt x="128" y="209"/>
                  </a:cubicBezTo>
                  <a:cubicBezTo>
                    <a:pt x="138" y="177"/>
                    <a:pt x="149" y="147"/>
                    <a:pt x="154" y="114"/>
                  </a:cubicBezTo>
                  <a:cubicBezTo>
                    <a:pt x="152" y="82"/>
                    <a:pt x="152" y="50"/>
                    <a:pt x="149" y="18"/>
                  </a:cubicBezTo>
                  <a:cubicBezTo>
                    <a:pt x="149" y="12"/>
                    <a:pt x="139" y="4"/>
                    <a:pt x="144" y="2"/>
                  </a:cubicBezTo>
                  <a:cubicBezTo>
                    <a:pt x="148" y="0"/>
                    <a:pt x="181" y="36"/>
                    <a:pt x="186" y="39"/>
                  </a:cubicBezTo>
                  <a:cubicBezTo>
                    <a:pt x="201" y="87"/>
                    <a:pt x="281" y="82"/>
                    <a:pt x="319" y="82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7080120" y="2038320"/>
              <a:ext cx="903240" cy="353880"/>
            </a:xfrm>
            <a:custGeom>
              <a:avLst/>
              <a:gdLst/>
              <a:ahLst/>
              <a:rect l="l" t="t" r="r" b="b"/>
              <a:pathLst>
                <a:path w="569" h="223">
                  <a:moveTo>
                    <a:pt x="0" y="223"/>
                  </a:moveTo>
                  <a:cubicBezTo>
                    <a:pt x="55" y="221"/>
                    <a:pt x="110" y="221"/>
                    <a:pt x="165" y="217"/>
                  </a:cubicBezTo>
                  <a:cubicBezTo>
                    <a:pt x="197" y="214"/>
                    <a:pt x="259" y="181"/>
                    <a:pt x="292" y="170"/>
                  </a:cubicBezTo>
                  <a:cubicBezTo>
                    <a:pt x="321" y="161"/>
                    <a:pt x="346" y="151"/>
                    <a:pt x="372" y="138"/>
                  </a:cubicBezTo>
                  <a:cubicBezTo>
                    <a:pt x="387" y="130"/>
                    <a:pt x="420" y="122"/>
                    <a:pt x="420" y="122"/>
                  </a:cubicBezTo>
                  <a:cubicBezTo>
                    <a:pt x="425" y="117"/>
                    <a:pt x="430" y="110"/>
                    <a:pt x="436" y="106"/>
                  </a:cubicBezTo>
                  <a:cubicBezTo>
                    <a:pt x="441" y="103"/>
                    <a:pt x="448" y="105"/>
                    <a:pt x="452" y="101"/>
                  </a:cubicBezTo>
                  <a:cubicBezTo>
                    <a:pt x="457" y="97"/>
                    <a:pt x="457" y="89"/>
                    <a:pt x="462" y="85"/>
                  </a:cubicBezTo>
                  <a:cubicBezTo>
                    <a:pt x="483" y="66"/>
                    <a:pt x="514" y="46"/>
                    <a:pt x="542" y="37"/>
                  </a:cubicBezTo>
                  <a:cubicBezTo>
                    <a:pt x="564" y="3"/>
                    <a:pt x="553" y="13"/>
                    <a:pt x="569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580000" y="2476440"/>
              <a:ext cx="488880" cy="698400"/>
            </a:xfrm>
            <a:custGeom>
              <a:avLst/>
              <a:gdLst/>
              <a:ahLst/>
              <a:rect l="l" t="t" r="r" b="b"/>
              <a:pathLst>
                <a:path w="308" h="440">
                  <a:moveTo>
                    <a:pt x="107" y="440"/>
                  </a:moveTo>
                  <a:cubicBezTo>
                    <a:pt x="90" y="397"/>
                    <a:pt x="75" y="359"/>
                    <a:pt x="64" y="313"/>
                  </a:cubicBezTo>
                  <a:cubicBezTo>
                    <a:pt x="62" y="318"/>
                    <a:pt x="60" y="324"/>
                    <a:pt x="59" y="329"/>
                  </a:cubicBezTo>
                  <a:cubicBezTo>
                    <a:pt x="57" y="338"/>
                    <a:pt x="62" y="359"/>
                    <a:pt x="53" y="356"/>
                  </a:cubicBezTo>
                  <a:cubicBezTo>
                    <a:pt x="42" y="353"/>
                    <a:pt x="49" y="333"/>
                    <a:pt x="43" y="324"/>
                  </a:cubicBezTo>
                  <a:cubicBezTo>
                    <a:pt x="19" y="287"/>
                    <a:pt x="26" y="304"/>
                    <a:pt x="16" y="276"/>
                  </a:cubicBezTo>
                  <a:cubicBezTo>
                    <a:pt x="14" y="264"/>
                    <a:pt x="13" y="251"/>
                    <a:pt x="11" y="239"/>
                  </a:cubicBezTo>
                  <a:cubicBezTo>
                    <a:pt x="8" y="219"/>
                    <a:pt x="0" y="180"/>
                    <a:pt x="0" y="180"/>
                  </a:cubicBezTo>
                  <a:cubicBezTo>
                    <a:pt x="7" y="145"/>
                    <a:pt x="6" y="143"/>
                    <a:pt x="38" y="133"/>
                  </a:cubicBezTo>
                  <a:cubicBezTo>
                    <a:pt x="48" y="126"/>
                    <a:pt x="59" y="118"/>
                    <a:pt x="69" y="111"/>
                  </a:cubicBezTo>
                  <a:cubicBezTo>
                    <a:pt x="78" y="105"/>
                    <a:pt x="101" y="101"/>
                    <a:pt x="101" y="101"/>
                  </a:cubicBezTo>
                  <a:cubicBezTo>
                    <a:pt x="138" y="76"/>
                    <a:pt x="168" y="69"/>
                    <a:pt x="213" y="64"/>
                  </a:cubicBezTo>
                  <a:cubicBezTo>
                    <a:pt x="238" y="55"/>
                    <a:pt x="252" y="35"/>
                    <a:pt x="276" y="26"/>
                  </a:cubicBezTo>
                  <a:cubicBezTo>
                    <a:pt x="291" y="4"/>
                    <a:pt x="293" y="15"/>
                    <a:pt x="308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6297480" y="1177920"/>
              <a:ext cx="1702080" cy="203040"/>
            </a:xfrm>
            <a:custGeom>
              <a:avLst/>
              <a:gdLst/>
              <a:ahLst/>
              <a:rect l="l" t="t" r="r" b="b"/>
              <a:pathLst>
                <a:path w="1072" h="128">
                  <a:moveTo>
                    <a:pt x="0" y="128"/>
                  </a:moveTo>
                  <a:cubicBezTo>
                    <a:pt x="113" y="126"/>
                    <a:pt x="226" y="125"/>
                    <a:pt x="339" y="122"/>
                  </a:cubicBezTo>
                  <a:cubicBezTo>
                    <a:pt x="374" y="121"/>
                    <a:pt x="406" y="103"/>
                    <a:pt x="440" y="101"/>
                  </a:cubicBezTo>
                  <a:cubicBezTo>
                    <a:pt x="548" y="94"/>
                    <a:pt x="655" y="88"/>
                    <a:pt x="764" y="85"/>
                  </a:cubicBezTo>
                  <a:cubicBezTo>
                    <a:pt x="816" y="81"/>
                    <a:pt x="870" y="77"/>
                    <a:pt x="918" y="53"/>
                  </a:cubicBezTo>
                  <a:cubicBezTo>
                    <a:pt x="966" y="29"/>
                    <a:pt x="1016" y="0"/>
                    <a:pt x="1072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3" name="Group 34"/>
            <p:cNvGrpSpPr/>
            <p:nvPr/>
          </p:nvGrpSpPr>
          <p:grpSpPr>
            <a:xfrm>
              <a:off x="6400800" y="2200320"/>
              <a:ext cx="457200" cy="533160"/>
              <a:chOff x="6400800" y="2200320"/>
              <a:chExt cx="457200" cy="533160"/>
            </a:xfrm>
          </p:grpSpPr>
          <p:sp>
            <p:nvSpPr>
              <p:cNvPr id="2064" name="Rectangle 35"/>
              <p:cNvSpPr/>
              <p:nvPr/>
            </p:nvSpPr>
            <p:spPr>
              <a:xfrm>
                <a:off x="6400800" y="265752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36"/>
              <p:cNvSpPr/>
              <p:nvPr/>
            </p:nvSpPr>
            <p:spPr>
              <a:xfrm>
                <a:off x="6781680" y="220032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66" name="AutoShape 37"/>
              <p:cNvCxnSpPr>
                <a:stCxn id="2064" idx="0"/>
                <a:endCxn id="2065" idx="1"/>
              </p:cNvCxnSpPr>
              <p:nvPr/>
            </p:nvCxnSpPr>
            <p:spPr>
              <a:xfrm flipV="1">
                <a:off x="6438960" y="2238120"/>
                <a:ext cx="343440" cy="419760"/>
              </a:xfrm>
              <a:prstGeom prst="straightConnector1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2067" name="Text Box 38"/>
            <p:cNvSpPr/>
            <p:nvPr/>
          </p:nvSpPr>
          <p:spPr>
            <a:xfrm>
              <a:off x="6553080" y="2286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Line 39"/>
          <p:cNvSpPr/>
          <p:nvPr/>
        </p:nvSpPr>
        <p:spPr>
          <a:xfrm flipV="1">
            <a:off x="175248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Line 40"/>
          <p:cNvSpPr/>
          <p:nvPr/>
        </p:nvSpPr>
        <p:spPr>
          <a:xfrm flipV="1"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Text Box 41"/>
          <p:cNvSpPr/>
          <p:nvPr/>
        </p:nvSpPr>
        <p:spPr>
          <a:xfrm>
            <a:off x="152568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42"/>
          <p:cNvSpPr/>
          <p:nvPr/>
        </p:nvSpPr>
        <p:spPr>
          <a:xfrm>
            <a:off x="25862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43"/>
          <p:cNvSpPr/>
          <p:nvPr/>
        </p:nvSpPr>
        <p:spPr>
          <a:xfrm>
            <a:off x="334872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2" descr=""/>
          <p:cNvPicPr/>
          <p:nvPr/>
        </p:nvPicPr>
        <p:blipFill>
          <a:blip r:embed="rId1"/>
          <a:stretch/>
        </p:blipFill>
        <p:spPr>
          <a:xfrm>
            <a:off x="2435400" y="1239840"/>
            <a:ext cx="4267080" cy="4368960"/>
          </a:xfrm>
          <a:prstGeom prst="rect">
            <a:avLst/>
          </a:prstGeom>
          <a:ln w="0">
            <a:noFill/>
          </a:ln>
        </p:spPr>
      </p:pic>
      <p:sp>
        <p:nvSpPr>
          <p:cNvPr id="1573" name="Text Box 3"/>
          <p:cNvSpPr/>
          <p:nvPr/>
        </p:nvSpPr>
        <p:spPr>
          <a:xfrm>
            <a:off x="2354760" y="5562720"/>
            <a:ext cx="44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lusion is an important cue in group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"/>
          <p:cNvSpPr/>
          <p:nvPr/>
        </p:nvSpPr>
        <p:spPr>
          <a:xfrm>
            <a:off x="6869880" y="6392880"/>
            <a:ext cx="18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tesy of Bill Freeman, M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links whose removal makes a graph dis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a c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Oval 4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5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7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8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9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10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11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12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Oval 13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Oval 14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15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Oval 16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17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9" name="AutoShape 18"/>
          <p:cNvCxnSpPr>
            <a:stCxn id="2075" idx="5"/>
            <a:endCxn id="2085" idx="1"/>
          </p:cNvCxnSpPr>
          <p:nvPr/>
        </p:nvCxnSpPr>
        <p:spPr>
          <a:xfrm>
            <a:off x="2941560" y="1506600"/>
            <a:ext cx="13896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0" name="AutoShape 19"/>
          <p:cNvCxnSpPr>
            <a:stCxn id="2077" idx="6"/>
            <a:endCxn id="2085" idx="3"/>
          </p:cNvCxnSpPr>
          <p:nvPr/>
        </p:nvCxnSpPr>
        <p:spPr>
          <a:xfrm flipV="1">
            <a:off x="2849400" y="1734480"/>
            <a:ext cx="23112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1" name="AutoShape 20"/>
          <p:cNvCxnSpPr>
            <a:stCxn id="2077" idx="5"/>
            <a:endCxn id="2082" idx="1"/>
          </p:cNvCxnSpPr>
          <p:nvPr/>
        </p:nvCxnSpPr>
        <p:spPr>
          <a:xfrm>
            <a:off x="2835000" y="1963800"/>
            <a:ext cx="24480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2" name="AutoShape 21"/>
          <p:cNvCxnSpPr>
            <a:stCxn id="2075" idx="3"/>
            <a:endCxn id="2077" idx="0"/>
          </p:cNvCxnSpPr>
          <p:nvPr/>
        </p:nvCxnSpPr>
        <p:spPr>
          <a:xfrm flipH="1">
            <a:off x="2797200" y="1506240"/>
            <a:ext cx="70200" cy="36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3" name="AutoShape 22"/>
          <p:cNvCxnSpPr>
            <a:stCxn id="2085" idx="4"/>
            <a:endCxn id="2082" idx="0"/>
          </p:cNvCxnSpPr>
          <p:nvPr/>
        </p:nvCxnSpPr>
        <p:spPr>
          <a:xfrm>
            <a:off x="3119040" y="1752120"/>
            <a:ext cx="108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4" name="AutoShape 23"/>
          <p:cNvCxnSpPr>
            <a:stCxn id="2085" idx="7"/>
            <a:endCxn id="2076" idx="4"/>
          </p:cNvCxnSpPr>
          <p:nvPr/>
        </p:nvCxnSpPr>
        <p:spPr>
          <a:xfrm flipV="1">
            <a:off x="3155760" y="1409040"/>
            <a:ext cx="178200" cy="246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5" name="AutoShape 24"/>
          <p:cNvCxnSpPr>
            <a:stCxn id="2085" idx="5"/>
            <a:endCxn id="2078" idx="1"/>
          </p:cNvCxnSpPr>
          <p:nvPr/>
        </p:nvCxnSpPr>
        <p:spPr>
          <a:xfrm>
            <a:off x="3155760" y="1735200"/>
            <a:ext cx="246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6" name="AutoShape 25"/>
          <p:cNvCxnSpPr>
            <a:stCxn id="2082" idx="6"/>
            <a:endCxn id="2078" idx="3"/>
          </p:cNvCxnSpPr>
          <p:nvPr/>
        </p:nvCxnSpPr>
        <p:spPr>
          <a:xfrm flipV="1">
            <a:off x="3171600" y="2077560"/>
            <a:ext cx="230760" cy="75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7" name="AutoShape 26"/>
          <p:cNvCxnSpPr>
            <a:stCxn id="2075" idx="7"/>
            <a:endCxn id="2083" idx="3"/>
          </p:cNvCxnSpPr>
          <p:nvPr/>
        </p:nvCxnSpPr>
        <p:spPr>
          <a:xfrm flipV="1">
            <a:off x="2941560" y="1163160"/>
            <a:ext cx="24696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8" name="AutoShape 27"/>
          <p:cNvCxnSpPr>
            <a:stCxn id="2083" idx="5"/>
            <a:endCxn id="2076" idx="0"/>
          </p:cNvCxnSpPr>
          <p:nvPr/>
        </p:nvCxnSpPr>
        <p:spPr>
          <a:xfrm>
            <a:off x="3263760" y="1163520"/>
            <a:ext cx="70200" cy="1324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099" name="AutoShape 28"/>
          <p:cNvCxnSpPr>
            <a:stCxn id="2078" idx="7"/>
            <a:endCxn id="2079" idx="3"/>
          </p:cNvCxnSpPr>
          <p:nvPr/>
        </p:nvCxnSpPr>
        <p:spPr>
          <a:xfrm flipV="1">
            <a:off x="3477960" y="1734840"/>
            <a:ext cx="354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0" name="AutoShape 29"/>
          <p:cNvCxnSpPr>
            <a:stCxn id="2083" idx="6"/>
            <a:endCxn id="2079" idx="1"/>
          </p:cNvCxnSpPr>
          <p:nvPr/>
        </p:nvCxnSpPr>
        <p:spPr>
          <a:xfrm>
            <a:off x="3279240" y="1123560"/>
            <a:ext cx="553320" cy="532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1" name="AutoShape 30"/>
          <p:cNvCxnSpPr>
            <a:stCxn id="2085" idx="6"/>
            <a:endCxn id="2079" idx="2"/>
          </p:cNvCxnSpPr>
          <p:nvPr/>
        </p:nvCxnSpPr>
        <p:spPr>
          <a:xfrm>
            <a:off x="3171960" y="1695240"/>
            <a:ext cx="643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2" name="AutoShape 31"/>
          <p:cNvCxnSpPr>
            <a:stCxn id="2080" idx="4"/>
            <a:endCxn id="2087" idx="0"/>
          </p:cNvCxnSpPr>
          <p:nvPr/>
        </p:nvCxnSpPr>
        <p:spPr>
          <a:xfrm flipH="1">
            <a:off x="4727160" y="1638360"/>
            <a:ext cx="10728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3" name="AutoShape 32"/>
          <p:cNvCxnSpPr>
            <a:stCxn id="2080" idx="7"/>
            <a:endCxn id="2086" idx="3"/>
          </p:cNvCxnSpPr>
          <p:nvPr/>
        </p:nvCxnSpPr>
        <p:spPr>
          <a:xfrm flipV="1">
            <a:off x="4871880" y="1391400"/>
            <a:ext cx="246960" cy="150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4" name="AutoShape 33"/>
          <p:cNvCxnSpPr>
            <a:stCxn id="2086" idx="4"/>
            <a:endCxn id="2081" idx="1"/>
          </p:cNvCxnSpPr>
          <p:nvPr/>
        </p:nvCxnSpPr>
        <p:spPr>
          <a:xfrm>
            <a:off x="5155920" y="1409760"/>
            <a:ext cx="176760" cy="5896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5" name="AutoShape 34"/>
          <p:cNvCxnSpPr>
            <a:stCxn id="2087" idx="6"/>
            <a:endCxn id="2081" idx="2"/>
          </p:cNvCxnSpPr>
          <p:nvPr/>
        </p:nvCxnSpPr>
        <p:spPr>
          <a:xfrm>
            <a:off x="4780080" y="2037960"/>
            <a:ext cx="53676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6" name="AutoShape 35"/>
          <p:cNvCxnSpPr>
            <a:stCxn id="2086" idx="5"/>
            <a:endCxn id="2084" idx="2"/>
          </p:cNvCxnSpPr>
          <p:nvPr/>
        </p:nvCxnSpPr>
        <p:spPr>
          <a:xfrm>
            <a:off x="5194080" y="1391760"/>
            <a:ext cx="33876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7" name="AutoShape 36"/>
          <p:cNvCxnSpPr>
            <a:stCxn id="2080" idx="5"/>
            <a:endCxn id="2081" idx="1"/>
          </p:cNvCxnSpPr>
          <p:nvPr/>
        </p:nvCxnSpPr>
        <p:spPr>
          <a:xfrm>
            <a:off x="4871520" y="1620720"/>
            <a:ext cx="46116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8" name="AutoShape 37"/>
          <p:cNvCxnSpPr>
            <a:stCxn id="2084" idx="3"/>
            <a:endCxn id="2087" idx="7"/>
          </p:cNvCxnSpPr>
          <p:nvPr/>
        </p:nvCxnSpPr>
        <p:spPr>
          <a:xfrm flipH="1">
            <a:off x="4765320" y="1620720"/>
            <a:ext cx="78192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09" name="AutoShape 38"/>
          <p:cNvCxnSpPr>
            <a:stCxn id="2084" idx="4"/>
            <a:endCxn id="2088" idx="0"/>
          </p:cNvCxnSpPr>
          <p:nvPr/>
        </p:nvCxnSpPr>
        <p:spPr>
          <a:xfrm flipH="1">
            <a:off x="5478120" y="1638000"/>
            <a:ext cx="1087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10" name="AutoShape 39"/>
          <p:cNvCxnSpPr>
            <a:stCxn id="2087" idx="5"/>
            <a:endCxn id="2088" idx="2"/>
          </p:cNvCxnSpPr>
          <p:nvPr/>
        </p:nvCxnSpPr>
        <p:spPr>
          <a:xfrm>
            <a:off x="4765680" y="2077560"/>
            <a:ext cx="659520" cy="304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11" name="AutoShape 40"/>
          <p:cNvCxnSpPr>
            <a:stCxn id="2079" idx="6"/>
            <a:endCxn id="2080" idx="2"/>
          </p:cNvCxnSpPr>
          <p:nvPr/>
        </p:nvCxnSpPr>
        <p:spPr>
          <a:xfrm flipV="1">
            <a:off x="3922560" y="1580760"/>
            <a:ext cx="858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12" name="AutoShape 41"/>
          <p:cNvCxnSpPr>
            <a:stCxn id="2078" idx="5"/>
            <a:endCxn id="2088" idx="3"/>
          </p:cNvCxnSpPr>
          <p:nvPr/>
        </p:nvCxnSpPr>
        <p:spPr>
          <a:xfrm>
            <a:off x="3478320" y="2077560"/>
            <a:ext cx="196272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13" name="AutoShape 42"/>
          <p:cNvCxnSpPr>
            <a:stCxn id="2083" idx="7"/>
            <a:endCxn id="2080" idx="1"/>
          </p:cNvCxnSpPr>
          <p:nvPr/>
        </p:nvCxnSpPr>
        <p:spPr>
          <a:xfrm>
            <a:off x="3263760" y="1084320"/>
            <a:ext cx="153432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14" name="AutoShape 43"/>
          <p:cNvCxnSpPr>
            <a:stCxn id="2079" idx="5"/>
            <a:endCxn id="2087" idx="2"/>
          </p:cNvCxnSpPr>
          <p:nvPr/>
        </p:nvCxnSpPr>
        <p:spPr>
          <a:xfrm>
            <a:off x="3906720" y="1735200"/>
            <a:ext cx="767520" cy="3038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2115" name="Text Box 44"/>
          <p:cNvSpPr/>
          <p:nvPr/>
        </p:nvSpPr>
        <p:spPr>
          <a:xfrm>
            <a:off x="26690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45"/>
          <p:cNvSpPr/>
          <p:nvPr/>
        </p:nvSpPr>
        <p:spPr>
          <a:xfrm>
            <a:off x="556488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Picture 46" descr="Edittex"/>
          <p:cNvPicPr/>
          <p:nvPr/>
        </p:nvPicPr>
        <p:blipFill>
          <a:blip r:embed="rId1"/>
          <a:stretch/>
        </p:blipFill>
        <p:spPr>
          <a:xfrm>
            <a:off x="2854440" y="3809880"/>
            <a:ext cx="2698560" cy="52092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47"/>
          <p:cNvSpPr/>
          <p:nvPr/>
        </p:nvSpPr>
        <p:spPr>
          <a:xfrm>
            <a:off x="685800" y="42670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min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you a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algorithms exist for doing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min cut is not always the best cut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0" name="Picture 4" descr="bad_cut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Oval 4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Oval 5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Oval 6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Oval 7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Oval 8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Oval 9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Oval 10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Oval 11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Oval 12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Oval 13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Oval 14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Oval 15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Oval 16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Oval 17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6" name="AutoShape 18"/>
          <p:cNvCxnSpPr>
            <a:stCxn id="2122" idx="5"/>
            <a:endCxn id="2132" idx="1"/>
          </p:cNvCxnSpPr>
          <p:nvPr/>
        </p:nvCxnSpPr>
        <p:spPr>
          <a:xfrm>
            <a:off x="2941560" y="1506600"/>
            <a:ext cx="13896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37" name="AutoShape 19"/>
          <p:cNvCxnSpPr>
            <a:stCxn id="2124" idx="6"/>
            <a:endCxn id="2132" idx="3"/>
          </p:cNvCxnSpPr>
          <p:nvPr/>
        </p:nvCxnSpPr>
        <p:spPr>
          <a:xfrm flipV="1">
            <a:off x="2849400" y="1734480"/>
            <a:ext cx="23112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38" name="AutoShape 20"/>
          <p:cNvCxnSpPr>
            <a:stCxn id="2124" idx="5"/>
            <a:endCxn id="2129" idx="1"/>
          </p:cNvCxnSpPr>
          <p:nvPr/>
        </p:nvCxnSpPr>
        <p:spPr>
          <a:xfrm>
            <a:off x="2835000" y="1963800"/>
            <a:ext cx="244800" cy="149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39" name="AutoShape 21"/>
          <p:cNvCxnSpPr>
            <a:stCxn id="2122" idx="3"/>
            <a:endCxn id="2124" idx="0"/>
          </p:cNvCxnSpPr>
          <p:nvPr/>
        </p:nvCxnSpPr>
        <p:spPr>
          <a:xfrm flipH="1">
            <a:off x="2797200" y="1506240"/>
            <a:ext cx="70200" cy="36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0" name="AutoShape 22"/>
          <p:cNvCxnSpPr>
            <a:stCxn id="2132" idx="4"/>
            <a:endCxn id="2129" idx="0"/>
          </p:cNvCxnSpPr>
          <p:nvPr/>
        </p:nvCxnSpPr>
        <p:spPr>
          <a:xfrm>
            <a:off x="3119040" y="1752120"/>
            <a:ext cx="108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1" name="AutoShape 23"/>
          <p:cNvCxnSpPr>
            <a:stCxn id="2132" idx="7"/>
            <a:endCxn id="2123" idx="4"/>
          </p:cNvCxnSpPr>
          <p:nvPr/>
        </p:nvCxnSpPr>
        <p:spPr>
          <a:xfrm flipV="1">
            <a:off x="3155760" y="1409040"/>
            <a:ext cx="178200" cy="246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2" name="AutoShape 24"/>
          <p:cNvCxnSpPr>
            <a:stCxn id="2132" idx="5"/>
            <a:endCxn id="2125" idx="1"/>
          </p:cNvCxnSpPr>
          <p:nvPr/>
        </p:nvCxnSpPr>
        <p:spPr>
          <a:xfrm>
            <a:off x="3155760" y="1735200"/>
            <a:ext cx="246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3" name="AutoShape 25"/>
          <p:cNvCxnSpPr>
            <a:stCxn id="2129" idx="6"/>
            <a:endCxn id="2125" idx="3"/>
          </p:cNvCxnSpPr>
          <p:nvPr/>
        </p:nvCxnSpPr>
        <p:spPr>
          <a:xfrm flipV="1">
            <a:off x="3171600" y="2077560"/>
            <a:ext cx="230760" cy="75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4" name="AutoShape 26"/>
          <p:cNvCxnSpPr>
            <a:stCxn id="2122" idx="7"/>
            <a:endCxn id="2130" idx="3"/>
          </p:cNvCxnSpPr>
          <p:nvPr/>
        </p:nvCxnSpPr>
        <p:spPr>
          <a:xfrm flipV="1">
            <a:off x="2941560" y="1163160"/>
            <a:ext cx="24696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5" name="AutoShape 27"/>
          <p:cNvCxnSpPr>
            <a:stCxn id="2130" idx="5"/>
            <a:endCxn id="2123" idx="0"/>
          </p:cNvCxnSpPr>
          <p:nvPr/>
        </p:nvCxnSpPr>
        <p:spPr>
          <a:xfrm>
            <a:off x="3263760" y="1163520"/>
            <a:ext cx="70200" cy="1324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6" name="AutoShape 28"/>
          <p:cNvCxnSpPr>
            <a:stCxn id="2125" idx="7"/>
            <a:endCxn id="2126" idx="3"/>
          </p:cNvCxnSpPr>
          <p:nvPr/>
        </p:nvCxnSpPr>
        <p:spPr>
          <a:xfrm flipV="1">
            <a:off x="3477960" y="1734840"/>
            <a:ext cx="354600" cy="264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7" name="AutoShape 29"/>
          <p:cNvCxnSpPr>
            <a:stCxn id="2130" idx="6"/>
            <a:endCxn id="2126" idx="1"/>
          </p:cNvCxnSpPr>
          <p:nvPr/>
        </p:nvCxnSpPr>
        <p:spPr>
          <a:xfrm>
            <a:off x="3279240" y="1123560"/>
            <a:ext cx="553320" cy="532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8" name="AutoShape 30"/>
          <p:cNvCxnSpPr>
            <a:stCxn id="2132" idx="6"/>
            <a:endCxn id="2126" idx="2"/>
          </p:cNvCxnSpPr>
          <p:nvPr/>
        </p:nvCxnSpPr>
        <p:spPr>
          <a:xfrm>
            <a:off x="3171960" y="1695240"/>
            <a:ext cx="643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49" name="AutoShape 31"/>
          <p:cNvCxnSpPr>
            <a:stCxn id="2127" idx="4"/>
            <a:endCxn id="2134" idx="0"/>
          </p:cNvCxnSpPr>
          <p:nvPr/>
        </p:nvCxnSpPr>
        <p:spPr>
          <a:xfrm flipH="1">
            <a:off x="4727160" y="1638360"/>
            <a:ext cx="10728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0" name="AutoShape 32"/>
          <p:cNvCxnSpPr>
            <a:stCxn id="2127" idx="7"/>
            <a:endCxn id="2133" idx="3"/>
          </p:cNvCxnSpPr>
          <p:nvPr/>
        </p:nvCxnSpPr>
        <p:spPr>
          <a:xfrm flipV="1">
            <a:off x="4871880" y="1391400"/>
            <a:ext cx="246960" cy="150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1" name="AutoShape 33"/>
          <p:cNvCxnSpPr>
            <a:stCxn id="2133" idx="4"/>
            <a:endCxn id="2128" idx="1"/>
          </p:cNvCxnSpPr>
          <p:nvPr/>
        </p:nvCxnSpPr>
        <p:spPr>
          <a:xfrm>
            <a:off x="5155920" y="1409760"/>
            <a:ext cx="176760" cy="5896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2" name="AutoShape 34"/>
          <p:cNvCxnSpPr>
            <a:stCxn id="2134" idx="6"/>
            <a:endCxn id="2128" idx="2"/>
          </p:cNvCxnSpPr>
          <p:nvPr/>
        </p:nvCxnSpPr>
        <p:spPr>
          <a:xfrm>
            <a:off x="4780080" y="2037960"/>
            <a:ext cx="53676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3" name="AutoShape 35"/>
          <p:cNvCxnSpPr>
            <a:stCxn id="2133" idx="5"/>
            <a:endCxn id="2131" idx="2"/>
          </p:cNvCxnSpPr>
          <p:nvPr/>
        </p:nvCxnSpPr>
        <p:spPr>
          <a:xfrm>
            <a:off x="5194080" y="1391760"/>
            <a:ext cx="338760" cy="189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4" name="AutoShape 36"/>
          <p:cNvCxnSpPr>
            <a:stCxn id="2127" idx="5"/>
            <a:endCxn id="2128" idx="1"/>
          </p:cNvCxnSpPr>
          <p:nvPr/>
        </p:nvCxnSpPr>
        <p:spPr>
          <a:xfrm>
            <a:off x="4871520" y="1620720"/>
            <a:ext cx="46116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5" name="AutoShape 37"/>
          <p:cNvCxnSpPr>
            <a:stCxn id="2131" idx="3"/>
            <a:endCxn id="2134" idx="7"/>
          </p:cNvCxnSpPr>
          <p:nvPr/>
        </p:nvCxnSpPr>
        <p:spPr>
          <a:xfrm flipH="1">
            <a:off x="4765320" y="1620720"/>
            <a:ext cx="781920" cy="37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6" name="AutoShape 38"/>
          <p:cNvCxnSpPr>
            <a:stCxn id="2131" idx="4"/>
            <a:endCxn id="2135" idx="0"/>
          </p:cNvCxnSpPr>
          <p:nvPr/>
        </p:nvCxnSpPr>
        <p:spPr>
          <a:xfrm flipH="1">
            <a:off x="5478120" y="1638000"/>
            <a:ext cx="1087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7" name="AutoShape 39"/>
          <p:cNvCxnSpPr>
            <a:stCxn id="2134" idx="5"/>
            <a:endCxn id="2135" idx="2"/>
          </p:cNvCxnSpPr>
          <p:nvPr/>
        </p:nvCxnSpPr>
        <p:spPr>
          <a:xfrm>
            <a:off x="4765680" y="2077560"/>
            <a:ext cx="659520" cy="304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2158" name="AutoShape 40"/>
          <p:cNvCxnSpPr>
            <a:stCxn id="2126" idx="6"/>
            <a:endCxn id="2127" idx="2"/>
          </p:cNvCxnSpPr>
          <p:nvPr/>
        </p:nvCxnSpPr>
        <p:spPr>
          <a:xfrm flipV="1">
            <a:off x="3922560" y="1580760"/>
            <a:ext cx="858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59" name="AutoShape 41"/>
          <p:cNvCxnSpPr>
            <a:stCxn id="2125" idx="5"/>
            <a:endCxn id="2135" idx="3"/>
          </p:cNvCxnSpPr>
          <p:nvPr/>
        </p:nvCxnSpPr>
        <p:spPr>
          <a:xfrm>
            <a:off x="3478320" y="2077560"/>
            <a:ext cx="196272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60" name="AutoShape 42"/>
          <p:cNvCxnSpPr>
            <a:stCxn id="2130" idx="7"/>
            <a:endCxn id="2127" idx="1"/>
          </p:cNvCxnSpPr>
          <p:nvPr/>
        </p:nvCxnSpPr>
        <p:spPr>
          <a:xfrm>
            <a:off x="3263760" y="1084320"/>
            <a:ext cx="153432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2161" name="AutoShape 43"/>
          <p:cNvCxnSpPr>
            <a:stCxn id="2126" idx="5"/>
            <a:endCxn id="2134" idx="2"/>
          </p:cNvCxnSpPr>
          <p:nvPr/>
        </p:nvCxnSpPr>
        <p:spPr>
          <a:xfrm>
            <a:off x="3906720" y="1735200"/>
            <a:ext cx="767520" cy="3038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2162" name="Text Box 44"/>
          <p:cNvSpPr/>
          <p:nvPr/>
        </p:nvSpPr>
        <p:spPr>
          <a:xfrm>
            <a:off x="266904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Text Box 45"/>
          <p:cNvSpPr/>
          <p:nvPr/>
        </p:nvSpPr>
        <p:spPr>
          <a:xfrm>
            <a:off x="556488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47"/>
          <p:cNvSpPr/>
          <p:nvPr/>
        </p:nvSpPr>
        <p:spPr>
          <a:xfrm>
            <a:off x="68580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t penalizes larg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by normalizing for size of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(A) = sum of costs of all edges that touc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5" name="Picture 56" descr="Edittex"/>
          <p:cNvPicPr/>
          <p:nvPr/>
        </p:nvPicPr>
        <p:blipFill>
          <a:blip r:embed="rId1"/>
          <a:stretch/>
        </p:blipFill>
        <p:spPr>
          <a:xfrm>
            <a:off x="1662120" y="4525920"/>
            <a:ext cx="44989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the links as springs and shak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ity proportional to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tion “modes” correspond to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ute these by solving an eigenvector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nmovie.mpeg" descr=""/>
          <p:cNvPicPr/>
          <p:nvPr/>
        </p:nvPicPr>
        <p:blipFill>
          <a:blip r:embed="rId1"/>
          <a:stretch/>
        </p:blipFill>
        <p:spPr>
          <a:xfrm>
            <a:off x="3670200" y="1219320"/>
            <a:ext cx="4953240" cy="355428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aluminum"/>
          <p:cNvPicPr/>
          <p:nvPr/>
        </p:nvPicPr>
        <p:blipFill>
          <a:blip r:embed="rId2"/>
          <a:stretch/>
        </p:blipFill>
        <p:spPr>
          <a:xfrm>
            <a:off x="469800" y="1981080"/>
            <a:ext cx="280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2168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168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2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1" name="balus_movie.mpeg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870440" cy="349704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4" descr="balus_image"/>
          <p:cNvPicPr/>
          <p:nvPr/>
        </p:nvPicPr>
        <p:blipFill>
          <a:blip r:embed="rId2"/>
          <a:stretch/>
        </p:blipFill>
        <p:spPr>
          <a:xfrm>
            <a:off x="311040" y="1981080"/>
            <a:ext cx="3467160" cy="2133720"/>
          </a:xfrm>
          <a:prstGeom prst="rect">
            <a:avLst/>
          </a:prstGeom>
          <a:ln w="0">
            <a:noFill/>
          </a:ln>
        </p:spPr>
      </p:pic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the links as springs and shak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ity proportional to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tion “modes” correspond to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ute these by solving an eigenvector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2171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2171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2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5" name="Picture 3" descr="color+t2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is bes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TextBox 2"/>
          <p:cNvSpPr/>
          <p:nvPr/>
        </p:nvSpPr>
        <p:spPr>
          <a:xfrm>
            <a:off x="533520" y="11430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mean-shift and normalized cuts are pop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cuts can handle complex similarly mea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do a better job than K-means at segmenting areas of smoothly varying intens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s by Invisible Comple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3" descr="SteveLeharBioSeg4"/>
          <p:cNvPicPr/>
          <p:nvPr/>
        </p:nvPicPr>
        <p:blipFill>
          <a:blip r:embed="rId1"/>
          <a:stretch/>
        </p:blipFill>
        <p:spPr>
          <a:xfrm>
            <a:off x="1981080" y="1523880"/>
            <a:ext cx="4686480" cy="4781520"/>
          </a:xfrm>
          <a:prstGeom prst="rect">
            <a:avLst/>
          </a:prstGeom>
          <a:ln w="0">
            <a:noFill/>
          </a:ln>
        </p:spPr>
      </p:pic>
      <p:sp>
        <p:nvSpPr>
          <p:cNvPr id="1577" name="Text Box 4"/>
          <p:cNvSpPr/>
          <p:nvPr/>
        </p:nvSpPr>
        <p:spPr>
          <a:xfrm>
            <a:off x="3838320" y="6613560"/>
            <a:ext cx="530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Images from Steve Lehar’s Gestalt papers: http://cns-alumni.bu.edu/pub/slehar/Lehar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famous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3" descr="dog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lt psych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533520" y="934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ole is greater than the sum of the pa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1"/>
          <p:cNvSpPr/>
          <p:nvPr/>
        </p:nvSpPr>
        <p:spPr>
          <a:xfrm>
            <a:off x="5562720" y="61149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chler and Firshein, 19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3" name="Picture 18" descr="http://www.siggraph.org/education/materials/HyperVis/vision/gestalt.gif"/>
          <p:cNvPicPr/>
          <p:nvPr/>
        </p:nvPicPr>
        <p:blipFill>
          <a:blip r:embed="rId1"/>
          <a:stretch/>
        </p:blipFill>
        <p:spPr>
          <a:xfrm>
            <a:off x="4572000" y="1523880"/>
            <a:ext cx="4048200" cy="4591080"/>
          </a:xfrm>
          <a:prstGeom prst="rect">
            <a:avLst/>
          </a:prstGeom>
          <a:ln w="0">
            <a:noFill/>
          </a:ln>
        </p:spPr>
      </p:pic>
      <p:sp>
        <p:nvSpPr>
          <p:cNvPr id="1584" name="TextBox 2"/>
          <p:cNvSpPr/>
          <p:nvPr/>
        </p:nvSpPr>
        <p:spPr>
          <a:xfrm>
            <a:off x="685800" y="1981080"/>
            <a:ext cx="3429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Proxim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imulus elements that are closed together tend to be perceived a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Simil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imilar stimuli tend to be grouped, this tendency can even dominate grouping due to proxi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Clo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imuli tend to be grouped into complete fig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Good Continu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timuli tend to be grouped as to minimize change or discontinu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of Symmet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Regions bound by symmetrical boarders tend to be perceived as coherent fig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aw Simplic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mbiguous stimuli tend to be resolved in favor of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histogr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“orange” pixels are in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of question answered by looking a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stogram counts the number of occurrences of each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gram is defined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mension of the histogram of an NxN RGB im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Picture 4" descr="tiger"/>
          <p:cNvPicPr/>
          <p:nvPr/>
        </p:nvPicPr>
        <p:blipFill>
          <a:blip r:embed="rId1"/>
          <a:stretch/>
        </p:blipFill>
        <p:spPr>
          <a:xfrm>
            <a:off x="3200400" y="1066680"/>
            <a:ext cx="3108240" cy="23432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7" descr="Edittex"/>
          <p:cNvPicPr/>
          <p:nvPr/>
        </p:nvPicPr>
        <p:blipFill>
          <a:blip r:embed="rId2"/>
          <a:stretch/>
        </p:blipFill>
        <p:spPr>
          <a:xfrm>
            <a:off x="3727440" y="5029200"/>
            <a:ext cx="2292480" cy="31752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0" descr="Edittex"/>
          <p:cNvPicPr/>
          <p:nvPr/>
        </p:nvPicPr>
        <p:blipFill>
          <a:blip r:embed="rId3"/>
          <a:stretch/>
        </p:blipFill>
        <p:spPr>
          <a:xfrm>
            <a:off x="2666880" y="5916600"/>
            <a:ext cx="464688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histograms look lik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18939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Group 10"/>
          <p:cNvGrpSpPr/>
          <p:nvPr/>
        </p:nvGrpSpPr>
        <p:grpSpPr>
          <a:xfrm>
            <a:off x="1893960" y="1967040"/>
            <a:ext cx="5357880" cy="2925720"/>
            <a:chOff x="1893960" y="1967040"/>
            <a:chExt cx="5357880" cy="2925720"/>
          </a:xfrm>
        </p:grpSpPr>
        <p:sp>
          <p:nvSpPr>
            <p:cNvPr id="1593" name="Rectangle 5"/>
            <p:cNvSpPr/>
            <p:nvPr/>
          </p:nvSpPr>
          <p:spPr>
            <a:xfrm>
              <a:off x="1893960" y="1967040"/>
              <a:ext cx="535788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Group 9"/>
            <p:cNvGrpSpPr/>
            <p:nvPr/>
          </p:nvGrpSpPr>
          <p:grpSpPr>
            <a:xfrm>
              <a:off x="1893960" y="1967040"/>
              <a:ext cx="2679840" cy="2925720"/>
              <a:chOff x="1893960" y="1967040"/>
              <a:chExt cx="2679840" cy="2925720"/>
            </a:xfrm>
          </p:grpSpPr>
          <p:sp>
            <p:nvSpPr>
              <p:cNvPr id="1595" name="Rectangle 6"/>
              <p:cNvSpPr/>
              <p:nvPr/>
            </p:nvSpPr>
            <p:spPr>
              <a:xfrm>
                <a:off x="1893960" y="1967040"/>
                <a:ext cx="2679840" cy="20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7"/>
              <p:cNvSpPr/>
              <p:nvPr/>
            </p:nvSpPr>
            <p:spPr>
              <a:xfrm>
                <a:off x="1893960" y="1967040"/>
                <a:ext cx="2679840" cy="29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97" name="Picture 8" descr="fig_2_1_1"/>
          <p:cNvPicPr/>
          <p:nvPr/>
        </p:nvPicPr>
        <p:blipFill>
          <a:blip r:embed="rId1"/>
          <a:stretch/>
        </p:blipFill>
        <p:spPr>
          <a:xfrm>
            <a:off x="609480" y="20131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598" name="Rectangle 11"/>
          <p:cNvSpPr/>
          <p:nvPr/>
        </p:nvSpPr>
        <p:spPr>
          <a:xfrm>
            <a:off x="189396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Picture 15" descr="fig_2_1_2"/>
          <p:cNvPicPr/>
          <p:nvPr/>
        </p:nvPicPr>
        <p:blipFill>
          <a:blip r:embed="rId2"/>
          <a:stretch/>
        </p:blipFill>
        <p:spPr>
          <a:xfrm>
            <a:off x="4572000" y="2362320"/>
            <a:ext cx="4103640" cy="1822320"/>
          </a:xfrm>
          <a:prstGeom prst="rect">
            <a:avLst/>
          </a:prstGeom>
          <a:ln w="0">
            <a:noFill/>
          </a:ln>
        </p:spPr>
      </p:pic>
      <p:sp>
        <p:nvSpPr>
          <p:cNvPr id="1600" name="Rectangle 18"/>
          <p:cNvSpPr/>
          <p:nvPr/>
        </p:nvSpPr>
        <p:spPr>
          <a:xfrm>
            <a:off x="685800" y="53341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odes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see, hard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Larry Zitnick</cp:lastModifiedBy>
  <cp:lastPrinted>1999-10-04T18:53:50Z</cp:lastPrinted>
  <dcterms:modified xsi:type="dcterms:W3CDTF">2011-04-06T23:55:50Z</dcterms:modified>
  <cp:revision>532</cp:revision>
  <dc:subject/>
  <dc:title>Computer Vision: Segmentation2</dc:title>
</cp:coreProperties>
</file>