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13.jpeg" ContentType="image/jpeg"/>
  <Override PartName="/ppt/media/image6.png" ContentType="image/png"/>
  <Override PartName="/ppt/media/image36.png" ContentType="image/png"/>
  <Override PartName="/ppt/media/image30.jpeg" ContentType="image/jpeg"/>
  <Override PartName="/ppt/media/image52.png" ContentType="image/png"/>
  <Override PartName="/ppt/media/image31.png" ContentType="image/png"/>
  <Override PartName="/ppt/media/image43.wmf" ContentType="image/x-wmf"/>
  <Override PartName="/ppt/media/image44.wmf" ContentType="image/x-wmf"/>
  <Override PartName="/ppt/media/image45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51.png" ContentType="image/png"/>
  <Override PartName="/ppt/media/image40.png" ContentType="image/png"/>
  <Override PartName="/ppt/media/image11.jpeg" ContentType="image/jpeg"/>
  <Override PartName="/ppt/media/image41.png" ContentType="image/png"/>
  <Override PartName="/ppt/media/image53.png" ContentType="image/png"/>
  <Override PartName="/ppt/media/image10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54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47.png" ContentType="image/png"/>
  <Override PartName="/ppt/media/image22.jpeg" ContentType="image/jpeg"/>
  <Override PartName="/ppt/media/image39.png" ContentType="image/png"/>
  <Override PartName="/ppt/media/image42.wmf" ContentType="image/x-wmf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0B25-F5A7-4011-A354-DECED8970BE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K has almost no impact on the stability of extrema detection even if it is significant as sqrt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e could not evaluat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D3C-3B62-4CF2-AA6F-10537616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1C32-EAF6-4BF0-BFDB-75D3A6CF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964F-5005-4727-82C5-4A4F8697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03A8-5437-4D90-81E9-A4498A8F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2CCC-F1F1-4ABC-A906-B2B722C0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8E40-8969-4DA2-BB04-C70473B3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AF62-76ED-423C-A31A-D1EAAB73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B7B3-5932-4731-9077-13DB84F0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21C3-CC4C-4FA9-9A93-7B12ABD4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A615-DAE9-497A-8117-BCF58545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5948-14A5-49EB-9B7D-2D225585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9E69-8FC5-425F-BD0A-BBAF993B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44BF-EB0F-428A-8512-8A734351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757D-A1FE-4F93-980D-1973247E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1E3C-252D-4FCF-97BD-2A82601B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3FFF-92F0-4480-A798-36A00534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5757-8F07-48B5-B684-990B2D5F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2811-BD3A-45FA-9E74-9D30245C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6898-4DA1-436F-B993-2B79CCB3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0FBF-5FE4-48D0-B542-50946985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7688-F460-4DB4-9A4A-5207D171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B3AE-3B35-497C-B3DA-A5B7C988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C3A3-996C-4CA5-BF2C-5622E981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D1C7-1739-4FA7-A786-CDD43D94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1B6D-8ABF-4A69-9BC6-92ED2EB9D6AD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9DE2-2E66-4D30-8E1F-221BEF6CCBEA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D271-1A96-4CD3-A1D9-B198968AA916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E9FD-0310-43F4-B4D8-9E685BD8CBC0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42.wmf"/><Relationship Id="rId4" Type="http://schemas.openxmlformats.org/officeDocument/2006/relationships/image" Target="../media/image4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3.wmf"/><Relationship Id="rId7" Type="http://schemas.openxmlformats.org/officeDocument/2006/relationships/image" Target="../media/image44.wmf"/><Relationship Id="rId8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Review: Matt Brown’s Canonical Fram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30280" y="1620720"/>
            <a:ext cx="3097440" cy="2324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878280" y="4105440"/>
            <a:ext cx="1440000" cy="143496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5029920" y="3530160"/>
            <a:ext cx="1967760" cy="1294920"/>
            <a:chOff x="5029920" y="3530160"/>
            <a:chExt cx="1967760" cy="1294920"/>
          </a:xfrm>
        </p:grpSpPr>
        <p:sp>
          <p:nvSpPr>
            <p:cNvPr id="97" name=""/>
            <p:cNvSpPr/>
            <p:nvPr/>
          </p:nvSpPr>
          <p:spPr>
            <a:xfrm flipV="1">
              <a:off x="5029920" y="3529800"/>
              <a:ext cx="1151280" cy="12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07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6326280" y="4321080"/>
              <a:ext cx="671400" cy="41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3421080" y="2063880"/>
            <a:ext cx="291960" cy="198360"/>
            <a:chOff x="3421080" y="2063880"/>
            <a:chExt cx="291960" cy="198360"/>
          </a:xfrm>
        </p:grpSpPr>
        <p:sp>
          <p:nvSpPr>
            <p:cNvPr id="100" name=""/>
            <p:cNvSpPr/>
            <p:nvPr/>
          </p:nvSpPr>
          <p:spPr>
            <a:xfrm>
              <a:off x="3421080" y="21891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4"/>
            <a:stretch/>
          </p:blipFill>
          <p:spPr>
            <a:xfrm>
              <a:off x="3530520" y="2063880"/>
              <a:ext cx="182520" cy="15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"/>
          <p:cNvGrpSpPr/>
          <p:nvPr/>
        </p:nvGrpSpPr>
        <p:grpSpPr>
          <a:xfrm>
            <a:off x="5211720" y="4008600"/>
            <a:ext cx="773280" cy="290520"/>
            <a:chOff x="5211720" y="4008600"/>
            <a:chExt cx="773280" cy="290520"/>
          </a:xfrm>
        </p:grpSpPr>
        <p:sp>
          <p:nvSpPr>
            <p:cNvPr id="103" name=""/>
            <p:cNvSpPr/>
            <p:nvPr/>
          </p:nvSpPr>
          <p:spPr>
            <a:xfrm>
              <a:off x="5211720" y="4073760"/>
              <a:ext cx="142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5"/>
            <a:stretch/>
          </p:blipFill>
          <p:spPr>
            <a:xfrm>
              <a:off x="5389560" y="4008600"/>
              <a:ext cx="595440" cy="29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2222640" y="3530880"/>
            <a:ext cx="2017800" cy="1294560"/>
            <a:chOff x="2222640" y="3530880"/>
            <a:chExt cx="2017800" cy="1294560"/>
          </a:xfrm>
        </p:grpSpPr>
        <p:sp>
          <p:nvSpPr>
            <p:cNvPr id="106" name=""/>
            <p:cNvSpPr/>
            <p:nvPr/>
          </p:nvSpPr>
          <p:spPr>
            <a:xfrm flipH="1" rot="16200000">
              <a:off x="3015000" y="3600360"/>
              <a:ext cx="1294560" cy="115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116" swAng="5400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116" swAng="5400116"/>
                </a:path>
              </a:pathLst>
            </a:custGeom>
            <a:noFill/>
            <a:ln w="507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6"/>
            <a:stretch/>
          </p:blipFill>
          <p:spPr>
            <a:xfrm>
              <a:off x="2222640" y="4321080"/>
              <a:ext cx="67140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3678840" y="1081080"/>
            <a:ext cx="1724400" cy="1749600"/>
            <a:chOff x="3678840" y="1081080"/>
            <a:chExt cx="1724400" cy="1749600"/>
          </a:xfrm>
        </p:grpSpPr>
        <p:sp>
          <p:nvSpPr>
            <p:cNvPr id="109" name=""/>
            <p:cNvSpPr/>
            <p:nvPr/>
          </p:nvSpPr>
          <p:spPr>
            <a:xfrm flipV="1" rot="14035800">
              <a:off x="3965040" y="1336320"/>
              <a:ext cx="1151280" cy="12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07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7"/>
            <a:stretch/>
          </p:blipFill>
          <p:spPr>
            <a:xfrm>
              <a:off x="4454640" y="1081080"/>
              <a:ext cx="274320" cy="228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4662360" y="1628640"/>
            <a:ext cx="3103560" cy="23274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6031080" y="2163600"/>
            <a:ext cx="343800" cy="234720"/>
            <a:chOff x="6031080" y="2163600"/>
            <a:chExt cx="343800" cy="234720"/>
          </a:xfrm>
        </p:grpSpPr>
        <p:pic>
          <p:nvPicPr>
            <p:cNvPr id="113" name="" descr=""/>
            <p:cNvPicPr/>
            <p:nvPr/>
          </p:nvPicPr>
          <p:blipFill>
            <a:blip r:embed="rId9"/>
            <a:stretch/>
          </p:blipFill>
          <p:spPr>
            <a:xfrm>
              <a:off x="6148440" y="2163600"/>
              <a:ext cx="22644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6031080" y="234144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D4DE-5599-4D5A-AEF3-71C429AC5D9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5BBD0-7370-4F95-9A69-1003DFA35F98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dea of SIFT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 content is transformed into local feature coordinates that are invariant to translation, rotation, scale, and other imaging parame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2846520"/>
            <a:ext cx="8004240" cy="3138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735360" y="5867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FT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860D-18D0-4FBE-B9B7-96E6D8A883D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5D0CD-718F-457A-A9E7-EAB351B975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laimed Advantages of SIFT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calit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eatures are local, so robust to occlusion and clutter (no prior segment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tinctivenes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dividual features can be matched to a large database of ob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ny features can be generated for even small ob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fficienc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lose to real-time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tensibilit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easily be extended to wide range of differing feature types, with each adding robust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FE43-D115-4BB6-B89E-E2673DF0020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A7064-E588-42AA-A5B2-573903484FA3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verall Procedure at a High Lev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"/>
          <p:cNvSpPr/>
          <p:nvPr/>
        </p:nvSpPr>
        <p:spPr>
          <a:xfrm>
            <a:off x="534960" y="1066680"/>
            <a:ext cx="5513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cale-space extrema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Keypoint loc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Orientation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Keypoint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81360" y="1716120"/>
            <a:ext cx="67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over multiple scales and image lo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70280" y="2819520"/>
            <a:ext cx="67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a model to detrmine location and sc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keypoints based on a measure of st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54440" y="4154400"/>
            <a:ext cx="736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best orientation(s) for each keypoint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81360" y="5297400"/>
            <a:ext cx="77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local image gradients at selected scale and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scribe each keypoint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9BD8-E3AC-498D-9772-0B0B603F5866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CD2A9-74AA-4DC5-8DB4-B73E47407D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1. Scale-space extrema dete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1532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3300"/>
                </a:solidFill>
                <a:latin typeface="Arial"/>
              </a:rPr>
              <a:t>Goal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Identify locations and scales that can be repeatably assigned under different views of the same scene or objec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3300"/>
                </a:solidFill>
                <a:latin typeface="Arial"/>
              </a:rPr>
              <a:t>Method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search for stable features across multiple scales using a continuous function of sca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3300"/>
                </a:solidFill>
                <a:latin typeface="Arial"/>
              </a:rPr>
              <a:t>Prior work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has shown that under a variety of assumptions, the best function is a </a:t>
            </a:r>
            <a:r>
              <a:rPr b="0" lang="zh-CN" sz="2600" spc="-1" strike="noStrike">
                <a:solidFill>
                  <a:srgbClr val="ff3300"/>
                </a:solidFill>
                <a:latin typeface="Arial"/>
              </a:rPr>
              <a:t>Gaussian funct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3300"/>
                </a:solidFill>
                <a:latin typeface="Arial"/>
              </a:rPr>
              <a:t>The scale space of an image is a function </a:t>
            </a:r>
            <a:r>
              <a:rPr b="0" i="1" lang="zh-CN" sz="2600" spc="-1" strike="noStrike">
                <a:solidFill>
                  <a:srgbClr val="ff3300"/>
                </a:solidFill>
                <a:latin typeface="Arial"/>
              </a:rPr>
              <a:t>L(x,y,</a:t>
            </a:r>
            <a:r>
              <a:rPr b="0" i="1" lang="zh-CN" sz="26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i="1" lang="zh-CN" sz="26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that is produced from the convolution of a Gaussian kernel (at different scales) with the input ima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488D-B010-4906-B3F3-1C511E3E5C4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A0572-DD2E-4060-999D-875C7828B4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side: Image Pyrami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4343400"/>
            <a:ext cx="4038480" cy="1447920"/>
          </a:xfrm>
          <a:prstGeom prst="parallelogram">
            <a:avLst>
              <a:gd name="adj" fmla="val 6972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048120"/>
            <a:ext cx="2057400" cy="609480"/>
          </a:xfrm>
          <a:prstGeom prst="parallelogram">
            <a:avLst>
              <a:gd name="adj" fmla="val 84392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8120" y="2209680"/>
            <a:ext cx="1143000" cy="304920"/>
          </a:xfrm>
          <a:prstGeom prst="parallelogram">
            <a:avLst>
              <a:gd name="adj" fmla="val 9371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05320" y="14479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94000" y="476100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 level is the original im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95880" y="2971800"/>
            <a:ext cx="292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vel is derived from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image accord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96600" y="1905120"/>
            <a:ext cx="329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vel is derived from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vel according to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59960" y="1219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o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1D51-E0B9-4D52-BA7C-23CF9AF6133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D569B-BC08-4BBE-9D02-F51BA97EE0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side: Mean Pyrami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4343400"/>
            <a:ext cx="4038480" cy="1447920"/>
          </a:xfrm>
          <a:prstGeom prst="parallelogram">
            <a:avLst>
              <a:gd name="adj" fmla="val 6972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3048120"/>
            <a:ext cx="2057400" cy="609480"/>
          </a:xfrm>
          <a:prstGeom prst="parallelogram">
            <a:avLst>
              <a:gd name="adj" fmla="val 84392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2209680"/>
            <a:ext cx="1143000" cy="304920"/>
          </a:xfrm>
          <a:prstGeom prst="parallelogram">
            <a:avLst>
              <a:gd name="adj" fmla="val 9371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14479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94000" y="476100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 level is the original im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96240" y="2971800"/>
            <a:ext cx="36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vel, each pixel is the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4 pixels in the original im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94080" y="1905120"/>
            <a:ext cx="363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vel, each pixel is the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4 pixels in the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59960" y="1219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o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4343400"/>
            <a:ext cx="1143000" cy="304920"/>
          </a:xfrm>
          <a:prstGeom prst="parallelogram">
            <a:avLst>
              <a:gd name="adj" fmla="val 93713"/>
            </a:avLst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76520" y="4495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904760" y="43434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3828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514240" y="3505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/>
          <p:nvPr/>
        </p:nvCxnSpPr>
        <p:spPr>
          <a:xfrm flipH="1" rot="10800000">
            <a:off x="1904760" y="3504600"/>
            <a:ext cx="543600" cy="991080"/>
          </a:xfrm>
          <a:prstGeom prst="curvedConnector5">
            <a:avLst>
              <a:gd name="adj1" fmla="val -68389"/>
              <a:gd name="adj2" fmla="val 28815"/>
              <a:gd name="adj3" fmla="val -683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672480" y="3770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4E51-14A1-454D-8BA4-A1241AB48DA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43E70-311E-455B-A7D8-974620884C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side: Gaussian Pyramid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t each level, image is smoothed and reduced in size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"/>
          <p:cNvSpPr/>
          <p:nvPr/>
        </p:nvSpPr>
        <p:spPr>
          <a:xfrm>
            <a:off x="762120" y="4343400"/>
            <a:ext cx="4038480" cy="1447920"/>
          </a:xfrm>
          <a:prstGeom prst="parallelogram">
            <a:avLst>
              <a:gd name="adj" fmla="val 6972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0" y="3048120"/>
            <a:ext cx="2057400" cy="609480"/>
          </a:xfrm>
          <a:prstGeom prst="parallelogram">
            <a:avLst>
              <a:gd name="adj" fmla="val 84392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48120" y="2209680"/>
            <a:ext cx="1143000" cy="304920"/>
          </a:xfrm>
          <a:prstGeom prst="parallelogram">
            <a:avLst>
              <a:gd name="adj" fmla="val 9371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05320" y="16002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94000" y="476100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 level is the original im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86160" y="2971800"/>
            <a:ext cx="375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vel, each pixel is the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pplying a Gaussian mas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level and then subsam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duce the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6280" y="21337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o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23880" y="4343400"/>
            <a:ext cx="1143000" cy="304920"/>
          </a:xfrm>
          <a:prstGeom prst="parallelogram">
            <a:avLst>
              <a:gd name="adj" fmla="val 93713"/>
            </a:avLst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514240" y="3505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"/>
          <p:cNvCxnSpPr/>
          <p:nvPr/>
        </p:nvCxnSpPr>
        <p:spPr>
          <a:xfrm flipH="1" rot="10800000">
            <a:off x="1904760" y="3504600"/>
            <a:ext cx="543600" cy="991080"/>
          </a:xfrm>
          <a:prstGeom prst="curvedConnector5">
            <a:avLst>
              <a:gd name="adj1" fmla="val -68389"/>
              <a:gd name="adj2" fmla="val 28815"/>
              <a:gd name="adj3" fmla="val -683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673200" y="377028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Gaussian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0829-51FF-44D5-9D99-DA637F242AB7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5EA15-C38F-4819-BAD9-F0D7C6C75D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162920" y="2389320"/>
            <a:ext cx="788760" cy="10396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064120" y="1895400"/>
            <a:ext cx="1565280" cy="2067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295280" y="914400"/>
            <a:ext cx="3132360" cy="4121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Example: Subsampling with Gaussian pre-filtering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"/>
          <p:cNvSpPr/>
          <p:nvPr/>
        </p:nvSpPr>
        <p:spPr>
          <a:xfrm>
            <a:off x="5396400" y="40132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1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72920" y="34164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1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7640" y="51055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ssian 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54864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CF81-3147-4B93-9761-A34F385CB7B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BD6FD-64CA-4345-8E47-E5EC464697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owe’s Scale-space Interest Poi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6353280" y="2168640"/>
            <a:ext cx="2790720" cy="20937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31640" y="4238640"/>
            <a:ext cx="2884680" cy="15127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3402000" y="432900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5292720" y="4149720"/>
            <a:ext cx="3198960" cy="792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5292720" y="5049720"/>
            <a:ext cx="3184560" cy="7700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6"/>
          <a:stretch/>
        </p:blipFill>
        <p:spPr>
          <a:xfrm>
            <a:off x="5292720" y="998640"/>
            <a:ext cx="2070000" cy="15523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31280" y="1449000"/>
            <a:ext cx="8153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Laplacian of Gaussian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Scale normalised (x by scale</a:t>
            </a:r>
            <a:r>
              <a:rPr b="0" lang="zh-CN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Proposed by Lindebe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Scale-space det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Find local maxima across scale/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A good “blob” det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98000" y="630864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[ T. Lindeberg IJCV 1998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F2E0-F723-44A6-B2BD-90CAC68CA42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2DDAF-52EF-4433-A386-DA0F9FE510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owe’s Scale-space Interest Poi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733920" cy="29541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ussian is an ad hoc solution of heat diffusion eq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 is not necessarily very small in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847880" cy="7527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4495680" y="4191120"/>
            <a:ext cx="4515120" cy="61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0DF0-A2F6-4AD2-A86D-AC9E5CFAC60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2D26E-4153-45A8-8FC8-4A88FA3EEE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lti-Scale Oriented Patch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1089000"/>
            <a:ext cx="9143640" cy="4290840"/>
            <a:chOff x="0" y="1089000"/>
            <a:chExt cx="9143640" cy="429084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0" y="1095480"/>
              <a:ext cx="3046680" cy="214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3046680" y="1095480"/>
              <a:ext cx="3046680" cy="214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6087240" y="1089000"/>
              <a:ext cx="3056400" cy="215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4"/>
            <a:stretch/>
          </p:blipFill>
          <p:spPr>
            <a:xfrm>
              <a:off x="0" y="3232440"/>
              <a:ext cx="3042000" cy="214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5"/>
            <a:stretch/>
          </p:blipFill>
          <p:spPr>
            <a:xfrm>
              <a:off x="3031920" y="3239280"/>
              <a:ext cx="3043800" cy="214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6"/>
            <a:stretch/>
          </p:blipFill>
          <p:spPr>
            <a:xfrm>
              <a:off x="6072840" y="3237840"/>
              <a:ext cx="3059640" cy="214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"/>
          <p:cNvSpPr/>
          <p:nvPr/>
        </p:nvSpPr>
        <p:spPr>
          <a:xfrm>
            <a:off x="1455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1280" y="5499000"/>
            <a:ext cx="84027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ract oriented patches at multiple sc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94720" y="6308640"/>
            <a:ext cx="41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[ Brown, Szeliski, Winder CVPR 2005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455D-37C4-40AE-9324-BF54D5672B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52FA40-1E9C-49BF-BBD3-80F53ECAB866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owe’s Pyramid Schem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"/>
          <p:cNvSpPr/>
          <p:nvPr/>
        </p:nvSpPr>
        <p:spPr>
          <a:xfrm>
            <a:off x="673560" y="1335240"/>
            <a:ext cx="7995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space is separated into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cta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ctave 1 uses sca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ctave 2 uses scale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ach octave, the initial image is repeatedly co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Gaussians to produce a set of  scale space im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acent Gaussians are subtracted to produce the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each octave, the Gaussian image is down-samp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a factor of 2 to produce an image ¼ the size to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87AF-0759-4A88-BB65-B8E4B7F379C1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ABA73-6F28-4A8E-ADA5-C0BAE56A06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owe’s Pyramid Schem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rcRect l="26040" t="23547" r="9642" b="17591"/>
          <a:stretch/>
        </p:blipFill>
        <p:spPr>
          <a:xfrm>
            <a:off x="1523880" y="1447920"/>
            <a:ext cx="6858000" cy="47066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58560" y="3203640"/>
            <a:ext cx="1416600" cy="33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+2 fil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(s+1)/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/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/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/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27840" y="5029200"/>
            <a:ext cx="10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clu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003880" y="4952880"/>
            <a:ext cx="9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iffe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29280" y="6172200"/>
            <a:ext cx="65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he parameter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determines the number of images per oct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5839-8470-411A-87B8-EE1477FFDA4D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3682D-7B49-4AE1-8311-856E323E23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Key point localiz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584080"/>
            <a:ext cx="4338720" cy="35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ct maxima and minima of difference-of-Gaussian in scale sp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point is compared to its 8 neighbors in the current image and 9 neighbors each in the scales above and bel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5095800" y="1862280"/>
          <a:ext cx="346068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5800" y="1862280"/>
                    <a:ext cx="34606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568760" y="3425760"/>
            <a:ext cx="6480" cy="64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4568760" y="3425760"/>
            <a:ext cx="6480" cy="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6" name=""/>
          <p:cNvGraphicFramePr/>
          <p:nvPr/>
        </p:nvGraphicFramePr>
        <p:xfrm>
          <a:off x="4529160" y="3386160"/>
          <a:ext cx="84240" cy="8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29160" y="3386160"/>
                    <a:ext cx="84240" cy="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8" name="" descr=""/>
          <p:cNvPicPr/>
          <p:nvPr/>
        </p:nvPicPr>
        <p:blipFill>
          <a:blip r:embed="rId7"/>
          <a:stretch/>
        </p:blipFill>
        <p:spPr>
          <a:xfrm>
            <a:off x="4568760" y="3425760"/>
            <a:ext cx="6480" cy="64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173200" y="4684680"/>
            <a:ext cx="2972520" cy="91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or each max or min fou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utput is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ocation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cale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83640" y="646200"/>
            <a:ext cx="259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+2 difference im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op and bottom igno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 planes searc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817F-7877-4782-A5C2-B117FECB6BD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BC876-F4A7-40C6-BB3B-13F270496C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Scale-space extrema detection: experimental results over 32 images that were synthetically transformed and noise added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266868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Sampling in scale for effici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333cc"/>
                </a:solidFill>
                <a:latin typeface="Arial"/>
              </a:rPr>
              <a:t>How many scales should be used per octave? S=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ore scales evaluated, more keypoints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 &lt; 3, stable keypoints increased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 &gt; 3, stable keypoints decr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 = 3, maximum stable keypoints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162920" y="56293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27160" y="1255680"/>
            <a:ext cx="29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% de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% correctly mat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46840" y="129528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verage no. de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159600" y="239868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verage no. mat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91800" y="3618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793840" y="35812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xp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ABD9-29FB-4AD3-A19A-989906E2BD2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BAC9C-BCF3-4861-B7DB-3B833D5FB6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Keypoint localization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Once a keypoint candidate is found, perform a detailed fit to nearby data to determi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3300"/>
                </a:solidFill>
                <a:latin typeface="Arial"/>
              </a:rPr>
              <a:t>location, scale, and ratio of principal curv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In initial work keypoints were found at location and scale of a central sample poi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In newer work, they fit a 3D quadratic function to improve interpolation accurac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The Hessian matrix was used to eliminate edge respon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666880" y="335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5B5D-F1AC-44C0-BC74-99A84D9B437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98410-2C78-4E4A-9F37-FFD956D464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liminating the Edge Respon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ject fla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 0.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ject edg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 &lt;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9900"/>
                </a:solidFill>
                <a:latin typeface="Arial"/>
              </a:rPr>
              <a:t>What does this look lik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743040" cy="4003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2971800" y="2514600"/>
            <a:ext cx="2819520" cy="10098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2590920" y="3505320"/>
            <a:ext cx="4010040" cy="8953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2209680" y="4419720"/>
            <a:ext cx="5010120" cy="8287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570640" y="2743200"/>
            <a:ext cx="3379680" cy="6116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Let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be the eigenvalue 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larger magnitude and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the sma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5920" y="4419720"/>
            <a:ext cx="1297800" cy="642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et r =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o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= r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158240" y="4456080"/>
            <a:ext cx="1620720" cy="119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r+1)</a:t>
            </a:r>
            <a:r>
              <a:rPr b="0" lang="en-US" sz="18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/r  is a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in whe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2 eigen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re eq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4AE8-0021-45A6-BDEA-7115AC4ACB0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A07CD1-1534-4F51-86A0-836C0B26DB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3. Orientation assign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884160" y="1600200"/>
            <a:ext cx="3184560" cy="45306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Create histogram of local gradient directions at selected sc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Assign canonical orientation at peak of smoothed hist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Each key specifies stable 2D coordinates (x, y, scale,orient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35120" y="5675400"/>
            <a:ext cx="3441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2 major orientations, use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2C9A-79E6-44E5-B259-1FF045E1E32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12910-2079-43AD-9D14-FEEF9060E2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Keypoint localization with orient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129360" cy="45306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394040" y="2438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53360" y="45324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394040" y="43434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9040" y="259092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3x1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379280" y="293220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itial key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960" y="4952880"/>
            <a:ext cx="20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keypoints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gradient thres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378200" y="491328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keypoints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atio thres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F605-B55A-40F9-B219-962721684843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35BA8-DFC3-4F64-9C1B-740B05BC7F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4. Keypoint Descripto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this point, each keypoint h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xt is to compute a descriptor for the local image region about each keypoint that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ly distin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ariant as possible to variations such as changes in viewpoint and illum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60C7-82F8-41EA-A9CD-DFB9C93B7E0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1B2E5-B15D-40C2-A75B-729E7FC53D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ormaliz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tate the window to standard ori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ale the window size based on the scale at which the point was fou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2DBC-4DA7-4BF9-B1EA-F6864B839F1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7C09C-3D3E-4C50-966D-C66BAB5642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ple scaled, oriented pat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x8 patch, sampled at 5 x sc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as/gain normali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4962600" cy="34956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lti-Scale Oriented Patch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799240" y="3433680"/>
            <a:ext cx="3043080" cy="3035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791320" y="3124080"/>
            <a:ext cx="3047760" cy="0"/>
          </a:xfrm>
          <a:prstGeom prst="line">
            <a:avLst/>
          </a:prstGeom>
          <a:ln w="50760">
            <a:solidFill>
              <a:srgbClr val="0000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944880"/>
            <a:ext cx="596880" cy="123840"/>
          </a:xfrm>
          <a:prstGeom prst="line">
            <a:avLst/>
          </a:prstGeom>
          <a:ln w="31680">
            <a:solidFill>
              <a:srgbClr val="0000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48920" y="2666880"/>
            <a:ext cx="10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720000">
            <a:off x="4233240" y="365760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0 pix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B021-BA97-40EA-B377-ECC2ED0727C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2F7823-9D5B-46AA-8A7C-0982A5C8A256}" type="datetime1">
              <a:rPr lang="en-US"/>
              <a:t>07/30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Lowe’s Keypoint Descriptor</a:t>
            </a:r>
            <a:br>
              <a:rPr sz="3800"/>
            </a:b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(shown with 2 X 2 descriptors over 8 X 8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7435800" cy="32799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 flipV="1">
            <a:off x="2408400" y="2678040"/>
            <a:ext cx="990360" cy="914400"/>
          </a:xfrm>
          <a:prstGeom prst="line">
            <a:avLst/>
          </a:prstGeom>
          <a:ln w="572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091600" y="5305320"/>
            <a:ext cx="566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In experiments, 4x4 arrays of 8 bin histogram is us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a total of 128 features for one key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9B72-B982-48C6-B707-2DD188277FB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9CBDE-C906-40C6-AD9F-997C536810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Biological Motiva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mic complex cells in primary visual cort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bel &amp; Wiesel found that cells are sensitive t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orient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edges, but insensitive to thei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justifies spatial pooling of edge respon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802160" y="6308640"/>
            <a:ext cx="55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[ “Eye, Brain and Vision” – Hubel and Wiesel 1988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71640" y="5680080"/>
            <a:ext cx="143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771640" y="5680080"/>
            <a:ext cx="144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0" y="5680080"/>
            <a:ext cx="144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372360" y="5680080"/>
            <a:ext cx="143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5092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24128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2092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9236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78128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22092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31164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67200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8900000">
            <a:off x="1062000" y="3968280"/>
            <a:ext cx="1260360" cy="666720"/>
          </a:xfrm>
          <a:prstGeom prst="rect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141200" y="3721680"/>
            <a:ext cx="1109880" cy="1109880"/>
          </a:xfrm>
          <a:prstGeom prst="line">
            <a:avLst/>
          </a:prstGeom>
          <a:ln w="507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18900000">
            <a:off x="2862360" y="3968280"/>
            <a:ext cx="1260360" cy="666720"/>
          </a:xfrm>
          <a:prstGeom prst="rect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073320" y="3843720"/>
            <a:ext cx="1109880" cy="1109880"/>
          </a:xfrm>
          <a:prstGeom prst="line">
            <a:avLst/>
          </a:prstGeom>
          <a:ln w="507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04164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76236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03236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6200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23200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18900000">
            <a:off x="4662000" y="3968280"/>
            <a:ext cx="1260720" cy="666720"/>
          </a:xfrm>
          <a:prstGeom prst="rect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673520" y="3556440"/>
            <a:ext cx="1109880" cy="1109880"/>
          </a:xfrm>
          <a:prstGeom prst="line">
            <a:avLst/>
          </a:prstGeom>
          <a:ln w="507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75128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84200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9272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8164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0236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56272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83236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18900000">
            <a:off x="6462720" y="3968280"/>
            <a:ext cx="1260360" cy="666720"/>
          </a:xfrm>
          <a:prstGeom prst="rect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348240" y="4259160"/>
            <a:ext cx="1570320" cy="0"/>
          </a:xfrm>
          <a:prstGeom prst="line">
            <a:avLst/>
          </a:prstGeom>
          <a:ln w="507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AB78-5B37-4473-ADA8-9E1719CF60D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5F2D1-D0C8-462B-B9A4-A6046D101F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owe’s Keypoint Descrip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normalize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ion about the key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 gradient magnitude and orientation at each point in the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weight them by a Gaussi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indow overlaid on the cir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an </a:t>
            </a:r>
            <a:r>
              <a:rPr b="0" lang="en-US" sz="2600" spc="-1" strike="noStrike">
                <a:solidFill>
                  <a:srgbClr val="9900ff"/>
                </a:solidFill>
                <a:latin typeface="Arial"/>
              </a:rPr>
              <a:t>orientation histogra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ver the 4 X 4 subregions of the wind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X 4 descriptors over 16 X 16 sample array were used in practice. 4 X 4 times 8 directions gives a vector of </a:t>
            </a:r>
            <a:r>
              <a:rPr b="0" lang="en-US" sz="2600" spc="-1" strike="noStrike">
                <a:solidFill>
                  <a:srgbClr val="3b812f"/>
                </a:solidFill>
                <a:latin typeface="Arial"/>
              </a:rPr>
              <a:t>128 valu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9ADD-392A-49D8-81D6-D230FC72B67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15F36-4C0F-4909-B7BA-25F1CAEC45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6299280" cy="50752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901080" y="293760"/>
            <a:ext cx="556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Using SIFT for Matching “Objec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1DE0-7409-41FD-84EA-E1B0086E073D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76AA7-1807-4AEB-B8E9-BEAFAF330C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919920" cy="293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5C1E-4CF7-44CC-BF92-84E19F5A8CAF}" type="slidenum">
              <a:t>3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AEC5B-A6D4-4271-838B-60CA66F909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ses for SIFT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Feature points are used also fo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Image alignment (homography, fundamental matri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3D reconstruction (e.g. Photo Touris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Motion trac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Object recog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Indexing and database retriev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Robot navi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many 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146320" y="6308640"/>
            <a:ext cx="532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[ Photo Tourism: Snavely et al. SIGGRAPH 2006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03C5-50EB-47B8-8940-28957DB5B2F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087CD-58C4-431B-9190-B99F3508A9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: Image Stitch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08080" y="3747960"/>
            <a:ext cx="5221440" cy="2417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778800" y="2127240"/>
            <a:ext cx="1552320" cy="1093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919160" y="1136520"/>
            <a:ext cx="1552680" cy="1094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3538440" y="1407960"/>
            <a:ext cx="1552680" cy="1094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5608800" y="1227240"/>
            <a:ext cx="1552320" cy="1093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1019160" y="2127240"/>
            <a:ext cx="1552680" cy="1093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2819520" y="2217600"/>
            <a:ext cx="1552320" cy="1094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4799160" y="1947960"/>
            <a:ext cx="1552320" cy="1093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29160" y="3117960"/>
            <a:ext cx="488880" cy="812520"/>
          </a:xfrm>
          <a:prstGeom prst="downArrow">
            <a:avLst>
              <a:gd name="adj1" fmla="val 50000"/>
              <a:gd name="adj2" fmla="val 41550"/>
            </a:avLst>
          </a:prstGeom>
          <a:solidFill>
            <a:srgbClr val="3399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06160" y="6308640"/>
            <a:ext cx="45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[ Microsoft Digital Image Pro version 10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7D34-7518-48DF-9CDF-338AD5C1F0A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39E27-ADD0-46FA-8E2C-7BCC7126AB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w do you rotate a patch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 with an “empty” patch whose dominant direction is “up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ach pixel in your patch, compute the position in the detected image patch. It will be in floating point and will fall between the image pixe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polate the values of the 4 closest pixels in the image, to get a value for the pixel in your pat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1BA1-751D-4D3E-9B82-7FE70B0A25C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2EBE1-BE68-4652-9A45-39EC69E259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otating a Pat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/>
          <p:nvPr/>
        </p:nvSpPr>
        <p:spPr>
          <a:xfrm>
            <a:off x="1511280" y="1989000"/>
            <a:ext cx="1170000" cy="1079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801800">
            <a:off x="5741640" y="2077560"/>
            <a:ext cx="1170000" cy="1079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41640" y="1719000"/>
            <a:ext cx="0" cy="26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551640" y="1807920"/>
            <a:ext cx="181080" cy="26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51280" y="907920"/>
            <a:ext cx="4051440" cy="468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39960" y="306864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empty canonical 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3040" y="379404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patch detected in the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71640" y="1989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20920" y="1989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11280" y="2349360"/>
            <a:ext cx="117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11280" y="2708280"/>
            <a:ext cx="117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12280" y="3968640"/>
            <a:ext cx="21344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x’ = x cos</a:t>
            </a:r>
            <a:r>
              <a:rPr b="0" lang="el-GR" sz="1800" spc="-1" strike="noStrike">
                <a:solidFill>
                  <a:srgbClr val="000000"/>
                </a:solidFill>
                <a:latin typeface="Bookman Old Style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– y sin</a:t>
            </a:r>
            <a:r>
              <a:rPr b="0" lang="el-GR" sz="1800" spc="-1" strike="noStrike">
                <a:solidFill>
                  <a:srgbClr val="000000"/>
                </a:solidFill>
                <a:latin typeface="Bookman Old Style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y’ = x sin</a:t>
            </a:r>
            <a:r>
              <a:rPr b="0" lang="el-GR" sz="1800" spc="-1" strike="noStrike">
                <a:solidFill>
                  <a:srgbClr val="000000"/>
                </a:solidFill>
                <a:latin typeface="Bookman Old Style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+ y cos</a:t>
            </a:r>
            <a:r>
              <a:rPr b="0" lang="el-GR" sz="1800" spc="-1" strike="noStrike">
                <a:solidFill>
                  <a:srgbClr val="000000"/>
                </a:solidFill>
                <a:latin typeface="Bookman Old Style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8560" y="3968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92360" y="2168640"/>
            <a:ext cx="441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98480" y="1724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2040" y="4599000"/>
            <a:ext cx="29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counterclockwise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52080" y="18064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56560" y="20779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(x’,y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6BB6-5006-461E-8697-6E0386F5CD9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73B68-1352-4174-BE04-8AC595F4E6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ilinear Interpol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ll 4 adjacent samp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04800" y="2670120"/>
            <a:ext cx="181080" cy="1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30400" y="2671920"/>
            <a:ext cx="181080" cy="18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00120" y="4095720"/>
            <a:ext cx="181080" cy="1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30400" y="4111560"/>
            <a:ext cx="181080" cy="1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95520" y="4470480"/>
            <a:ext cx="8128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09640" y="439740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325520" y="3300480"/>
            <a:ext cx="0" cy="900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88840" y="345132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93520" y="4071960"/>
            <a:ext cx="70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93840" y="4140360"/>
            <a:ext cx="70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66520" y="2482920"/>
            <a:ext cx="70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17600" y="2502000"/>
            <a:ext cx="70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95520" y="2759040"/>
            <a:ext cx="1439640" cy="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95520" y="4200480"/>
            <a:ext cx="1439640" cy="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95520" y="2759040"/>
            <a:ext cx="0" cy="14414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35160" y="2759040"/>
            <a:ext cx="0" cy="153036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96960" y="3328920"/>
            <a:ext cx="1440000" cy="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30280" y="2770200"/>
            <a:ext cx="0" cy="143352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32000" y="3249720"/>
            <a:ext cx="181080" cy="1807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121280" y="2708280"/>
            <a:ext cx="4619520" cy="1809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21280" y="2798640"/>
            <a:ext cx="4500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55920" y="3214800"/>
            <a:ext cx="450072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300560" y="3591000"/>
            <a:ext cx="450072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97240" y="3989520"/>
            <a:ext cx="450072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AB88-8B50-43B6-96A2-183A2885986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D2ADD-9877-4B7B-89F0-4734FA0810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The 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IFT (Scale Invariant Feature Transform) Detector and Descripto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by David Lo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paper ICCV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er journal paper IJCV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tiv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Harris operator is not invariant to scale and  correlation is not invariant to rotatio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better image matching, Lowe’s goal was to develop an interest operator that is invariant to scale and ro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so, Lowe aimed to create a descriptor that was robust to the variations corresponding to typical viewing conditio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480" y="563868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Schmid and Mohr developed a rotation invariant descriptor for it in 199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BACB-15B2-4521-B089-EB978763589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40D9E-BF14-4A67-B4AD-C86D95FF50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10:41:36Z</dcterms:created>
  <dc:creator>Adrienne Wang</dc:creator>
  <dc:description/>
  <dc:language>en-US</dc:language>
  <cp:lastModifiedBy>Linda Shapiro</cp:lastModifiedBy>
  <dcterms:modified xsi:type="dcterms:W3CDTF">2008-01-28T19:44:02Z</dcterms:modified>
  <cp:revision>76</cp:revision>
  <dc:subject/>
  <dc:title>SIFT</dc:title>
</cp:coreProperties>
</file>