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6.png" ContentType="image/png"/>
  <Override PartName="/ppt/media/image36.png" ContentType="image/png"/>
  <Override PartName="/ppt/media/image30.jpeg" ContentType="image/jpeg"/>
  <Override PartName="/ppt/media/image52.png" ContentType="image/png"/>
  <Override PartName="/ppt/media/image3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53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22.jpeg" ContentType="image/jpeg"/>
  <Override PartName="/ppt/media/image39.png" ContentType="image/png"/>
  <Override PartName="/ppt/media/image42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2A0-DC06-4313-9C79-4325D7FEC0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 has almost no impact on the stability of extrema detection even if it is significant as sqrt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could not evaluat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193-7944-407F-B9D0-6A11757E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D1D-513C-43FF-889B-60D2B72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101-313B-4623-B4D8-EADBE571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4A7-27E2-4B15-B0D4-4CF28343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208-92AA-40F6-923C-D3D05AD2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4974-AB45-4233-A34B-F34AFCE5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E0E5-802C-46FA-BDCB-B1713D6A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593F-C19D-4197-8B5F-A530A2F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41C-A0B8-4523-8D90-A82D3380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43A9-AC86-44BA-BCB1-0C7D5371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515-BA6A-4AC5-BA98-72C72756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E66-9B83-44FF-978E-08BA23CA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D0AF-2229-4EA7-8787-EA3B41B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40A6-6F62-443C-A9D0-2FDC3E1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6D3D-DD89-457D-927F-58F5686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4E4-9ABF-4094-9973-F15FF5C3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6FFA-1DC9-4818-8FE5-6769A77A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13C-4FAF-43CB-98DD-2BCB1405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BB3-D14D-484F-A997-BC43696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AAB-D3C6-4A68-B592-2EAF0E58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EF7-6AB4-4235-B657-859F487C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83E-AC09-4DC0-852A-025AC99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11D-2A24-4E2A-85E5-75A9734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D3B-89C4-4B3B-BB2B-4022894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FD7-5CDD-4876-A904-D6192284C84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430-D705-4DDB-918D-069FCA09915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1A0-6F44-4C8A-A3D7-3ED483B8EF9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B87C-49A9-4361-9B77-F044D6135DF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view: Matt Brown’s Canonical Fram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30280" y="1620720"/>
            <a:ext cx="309744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78280" y="4105440"/>
            <a:ext cx="1440000" cy="14349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5029920" y="3530160"/>
            <a:ext cx="1967760" cy="1294920"/>
            <a:chOff x="5029920" y="3530160"/>
            <a:chExt cx="1967760" cy="1294920"/>
          </a:xfrm>
        </p:grpSpPr>
        <p:sp>
          <p:nvSpPr>
            <p:cNvPr id="97" name=""/>
            <p:cNvSpPr/>
            <p:nvPr/>
          </p:nvSpPr>
          <p:spPr>
            <a:xfrm flipV="1">
              <a:off x="5029920" y="3529800"/>
              <a:ext cx="115128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326280" y="4321080"/>
              <a:ext cx="67140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3421080" y="2063880"/>
            <a:ext cx="291960" cy="198360"/>
            <a:chOff x="3421080" y="2063880"/>
            <a:chExt cx="291960" cy="198360"/>
          </a:xfrm>
        </p:grpSpPr>
        <p:sp>
          <p:nvSpPr>
            <p:cNvPr id="100" name=""/>
            <p:cNvSpPr/>
            <p:nvPr/>
          </p:nvSpPr>
          <p:spPr>
            <a:xfrm>
              <a:off x="3421080" y="2189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3530520" y="2063880"/>
              <a:ext cx="18252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5211720" y="4008600"/>
            <a:ext cx="773280" cy="290520"/>
            <a:chOff x="5211720" y="4008600"/>
            <a:chExt cx="773280" cy="290520"/>
          </a:xfrm>
        </p:grpSpPr>
        <p:sp>
          <p:nvSpPr>
            <p:cNvPr id="103" name=""/>
            <p:cNvSpPr/>
            <p:nvPr/>
          </p:nvSpPr>
          <p:spPr>
            <a:xfrm>
              <a:off x="5211720" y="407376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5389560" y="4008600"/>
              <a:ext cx="5954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222640" y="3530880"/>
            <a:ext cx="2017800" cy="1294560"/>
            <a:chOff x="2222640" y="3530880"/>
            <a:chExt cx="2017800" cy="1294560"/>
          </a:xfrm>
        </p:grpSpPr>
        <p:sp>
          <p:nvSpPr>
            <p:cNvPr id="106" name=""/>
            <p:cNvSpPr/>
            <p:nvPr/>
          </p:nvSpPr>
          <p:spPr>
            <a:xfrm flipH="1" rot="16200000">
              <a:off x="3015000" y="3600360"/>
              <a:ext cx="1294560" cy="11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116" swAng="5400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116" swAng="5400116"/>
                </a:path>
              </a:pathLst>
            </a:custGeom>
            <a:noFill/>
            <a:ln w="507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2222640" y="4321080"/>
              <a:ext cx="67140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3678840" y="1081080"/>
            <a:ext cx="1724400" cy="1749600"/>
            <a:chOff x="3678840" y="1081080"/>
            <a:chExt cx="1724400" cy="1749600"/>
          </a:xfrm>
        </p:grpSpPr>
        <p:sp>
          <p:nvSpPr>
            <p:cNvPr id="109" name=""/>
            <p:cNvSpPr/>
            <p:nvPr/>
          </p:nvSpPr>
          <p:spPr>
            <a:xfrm flipV="1" rot="14035800">
              <a:off x="3965040" y="1336320"/>
              <a:ext cx="1151280" cy="12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4454640" y="1081080"/>
              <a:ext cx="274320" cy="2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4662360" y="1628640"/>
            <a:ext cx="3103560" cy="23274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031080" y="2163600"/>
            <a:ext cx="343800" cy="234720"/>
            <a:chOff x="6031080" y="2163600"/>
            <a:chExt cx="343800" cy="234720"/>
          </a:xfrm>
        </p:grpSpPr>
        <p:pic>
          <p:nvPicPr>
            <p:cNvPr id="113" name="" descr=""/>
            <p:cNvPicPr/>
            <p:nvPr/>
          </p:nvPicPr>
          <p:blipFill>
            <a:blip r:embed="rId9"/>
            <a:stretch/>
          </p:blipFill>
          <p:spPr>
            <a:xfrm>
              <a:off x="6148440" y="2163600"/>
              <a:ext cx="2264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031080" y="23414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400-94F9-4414-8E00-FAF37B9D84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8A0CD-6FF9-4E8B-BC95-3473CE1E2A6D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 of SIF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 content is transformed into local feature coordinates that are invariant to translation, rotation, scale, and other imaging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2846520"/>
            <a:ext cx="8004240" cy="313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735360" y="5867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F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9C9-635D-4F0F-A4F9-63024A066C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644C-9C0B-40BB-A187-4D87C5AD09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laimed Advantages of SIFT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cal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eatures are local, so robust to occlusion and clutter (no prior segm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tinctivenes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ividual features can be matched to a large database of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ny features can be generated for even small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icienc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ose to real-tim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nsibil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easily be extended to wide range of differing feature types, with each adding robus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AB5-B3CF-4B47-A2FD-8B09B04E76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D428A-7624-4335-9D56-10C065DF53C9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l Procedure at a High Lev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534960" y="1066680"/>
            <a:ext cx="551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cale-space extrema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eypoint loc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rientation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eypoin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1360" y="171612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over multiple scales and image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70280" y="281952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a model to detrmine location and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keypoints based on a measure of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4440" y="415440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est orientation(s) for each keypoint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81360" y="5297400"/>
            <a:ext cx="77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cal image gradients at selected scale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each keypoint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E6D-0528-4784-8B4C-44FD60286CB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23493-4CF6-4120-9932-D6E8C8AE0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. Scale-space extrema de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Goal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Identify locations and scales that can be repeatably assigned under different views of the same scene or ob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Method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search for stable features across multiple scales using a continuous function of sc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Prior work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has shown that under a variety of assumptions, the best function is a </a:t>
            </a: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Gaussian fun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</a:rPr>
              <a:t>The scale space of an image is a function </a:t>
            </a:r>
            <a:r>
              <a:rPr b="0" i="1" lang="zh-CN" sz="2600" spc="-1" strike="noStrike">
                <a:solidFill>
                  <a:srgbClr val="ff3300"/>
                </a:solidFill>
                <a:latin typeface="Arial"/>
              </a:rPr>
              <a:t>L(x,y,</a:t>
            </a:r>
            <a:r>
              <a:rPr b="0" i="1" lang="zh-CN" sz="2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i="1" lang="zh-CN" sz="26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that is produced from the convolution of a Gaussian kernel (at different scales) with the input im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5C8-89D7-4D0C-95CC-A177064E5B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EA702-476F-4DD5-A91C-8A557CAA76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ide: Image Pyrami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343400"/>
            <a:ext cx="4038480" cy="1447920"/>
          </a:xfrm>
          <a:prstGeom prst="parallelogram">
            <a:avLst>
              <a:gd name="adj" fmla="val 697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04812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220968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1447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94000" y="4761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evel is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5880" y="2971800"/>
            <a:ext cx="292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 is deriv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 accord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6600" y="1905120"/>
            <a:ext cx="32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 is deriv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 according to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9960" y="1219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F40-1093-4F3B-B59E-E7C91F64953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18589-4BD0-4440-836D-1288CB3939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ide: Mean Pyrami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343400"/>
            <a:ext cx="4038480" cy="1447920"/>
          </a:xfrm>
          <a:prstGeom prst="parallelogram">
            <a:avLst>
              <a:gd name="adj" fmla="val 697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04812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220968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1447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94000" y="4761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evel is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96240" y="2971800"/>
            <a:ext cx="36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, each pixel is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4 pixels in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94080" y="1905120"/>
            <a:ext cx="36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, each pixel is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4 pixels in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9960" y="1219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434340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0476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1424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/>
          <p:nvPr/>
        </p:nvCxnSpPr>
        <p:spPr>
          <a:xfrm flipH="1" rot="10800000">
            <a:off x="1904760" y="3504600"/>
            <a:ext cx="543600" cy="991080"/>
          </a:xfrm>
          <a:prstGeom prst="curvedConnector5">
            <a:avLst>
              <a:gd name="adj1" fmla="val -68389"/>
              <a:gd name="adj2" fmla="val 28815"/>
              <a:gd name="adj3" fmla="val -683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672480" y="3770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FCA-1CC4-49B7-8C48-D4177499E28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00217-D081-4513-BC52-3B7D7C804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side: Gaussian Pyramid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t each level, image is smoothed and reduced in size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4343400"/>
            <a:ext cx="4038480" cy="1447920"/>
          </a:xfrm>
          <a:prstGeom prst="parallelogram">
            <a:avLst>
              <a:gd name="adj" fmla="val 697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304812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220968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6002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94000" y="476100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level is the original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86160" y="297180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, each pixel is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pplying a Gaussian mask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level and then sub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6280" y="21337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4343400"/>
            <a:ext cx="1143000" cy="304920"/>
          </a:xfrm>
          <a:prstGeom prst="parallelogram">
            <a:avLst>
              <a:gd name="adj" fmla="val 93713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51424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/>
          <p:nvPr/>
        </p:nvCxnSpPr>
        <p:spPr>
          <a:xfrm flipH="1" rot="10800000">
            <a:off x="1904760" y="3504600"/>
            <a:ext cx="543600" cy="991080"/>
          </a:xfrm>
          <a:prstGeom prst="curvedConnector5">
            <a:avLst>
              <a:gd name="adj1" fmla="val -68389"/>
              <a:gd name="adj2" fmla="val 28815"/>
              <a:gd name="adj3" fmla="val -683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73200" y="3770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Gaussian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D24-D238-463D-93D0-F019568A401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5A629-A20F-47A8-A108-0D837C886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62920" y="2389320"/>
            <a:ext cx="788760" cy="1039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64120" y="1895400"/>
            <a:ext cx="156528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295280" y="914400"/>
            <a:ext cx="3132360" cy="4121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Example: Subsampling with Gaussian pre-filtering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0" y="4013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72920" y="34164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7640" y="5105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5486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853-5916-4B2D-9273-6E0995E46F7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6E582-8D29-40D5-8C5B-00DFD7DBF2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Scale-space Interest Poi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353280" y="21686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31640" y="4238640"/>
            <a:ext cx="2884680" cy="1512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402000" y="43290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92720" y="4149720"/>
            <a:ext cx="3198960" cy="79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5292720" y="5049720"/>
            <a:ext cx="3184560" cy="770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5292720" y="998640"/>
            <a:ext cx="2070000" cy="15523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Laplacian of Gaussia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Scale normalised (x by scale</a:t>
            </a:r>
            <a:r>
              <a:rPr b="0" lang="zh-CN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roposed by Linde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cale-space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ind local maxima across scale/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 good “blob” det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8000" y="630864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T. Lindeberg IJCV 1998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EC9-040D-4897-9379-AA86D2E1ED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24593-042F-4E0A-8DE4-955741390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Scale-space Interest Poi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733920" cy="29541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ussian is an ad hoc solution of heat diffusion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is not necessarily very small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847880" cy="752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495680" y="4191120"/>
            <a:ext cx="4515120" cy="61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5F2-8071-4AB1-8662-9F3BD7EB6E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1149A-BECD-497C-916B-7ED056C859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-Scale Oriented P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1089000"/>
            <a:ext cx="9143640" cy="4290840"/>
            <a:chOff x="0" y="1089000"/>
            <a:chExt cx="9143640" cy="4290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0" y="109548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3046680" y="1095480"/>
              <a:ext cx="3046680" cy="21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6087240" y="1089000"/>
              <a:ext cx="3056400" cy="21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0" y="3232440"/>
              <a:ext cx="30420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3031920" y="3239280"/>
              <a:ext cx="3043800" cy="21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6072840" y="3237840"/>
              <a:ext cx="3059640" cy="21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1455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280" y="5499000"/>
            <a:ext cx="84027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 oriented patches at multiple sc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94720" y="630864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Brown, Szeliski, Winder CVPR 2005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AE2-4327-4E47-802B-302F8B173F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D261C-FBAE-4A1E-9083-BE4BFD2DBF10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Pyramid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673560" y="1335240"/>
            <a:ext cx="799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space is separated in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ct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ctave 1 uses sca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ctave 2 uses scale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octave, the initial image is repeatedly co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Gaussians to produce a set of  scale space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ussians are subtracted to produce the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ach octave, the Gaussian image is down-samp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 factor of 2 to produce an image ¼ the size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D0A-4224-460C-84BF-1D06157F404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1FC0C-339C-47D8-8E15-1439F7C17E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Pyramid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26040" t="23547" r="9642" b="17591"/>
          <a:stretch/>
        </p:blipFill>
        <p:spPr>
          <a:xfrm>
            <a:off x="1523880" y="1447920"/>
            <a:ext cx="6858000" cy="4706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8560" y="3203640"/>
            <a:ext cx="141660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+2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s+1)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7840" y="5029200"/>
            <a:ext cx="10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003880" y="4952880"/>
            <a:ext cx="9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ff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9280" y="61722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parameter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determines the number of images per oct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1DC-A015-4234-BC1C-83DF1D2ECEC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95D15-D8B2-4D34-8BCA-795363A7C1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Key point local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584080"/>
            <a:ext cx="433872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ct maxima and minima of difference-of-Gaussian in scale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oint is compared to its 8 neighbors in the current image and 9 neighbors each in the scales above and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095800" y="1862280"/>
          <a:ext cx="34606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5800" y="1862280"/>
                    <a:ext cx="34606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68760" y="3425760"/>
            <a:ext cx="6480" cy="6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4568760" y="3425760"/>
            <a:ext cx="6480" cy="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4529160" y="3386160"/>
          <a:ext cx="84240" cy="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3386160"/>
                    <a:ext cx="84240" cy="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4568760" y="3425760"/>
            <a:ext cx="6480" cy="6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173200" y="4684680"/>
            <a:ext cx="297252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or each max or min fo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utput is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cal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3640" y="646200"/>
            <a:ext cx="25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+2 difference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p and bottom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planes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843-6C0B-4EFA-8B93-0FE71ACF2E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02D65-9E48-4DCD-B057-9BDB9993DA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Scale-space extrema detection: experimental results over 32 images that were synthetically transformed and noise added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26686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ampling in scale for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333cc"/>
                </a:solidFill>
                <a:latin typeface="Arial"/>
              </a:rPr>
              <a:t>How many scales should be used per octave? S=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re scales evaluated, more keypoint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 &lt; 3, stable keypoints increas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 &gt; 3, stable keypoints de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 = 3, maximum stable keypoint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5629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27160" y="125568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%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% correctly ma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6840" y="1295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verage no.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9600" y="23986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verage no. ma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91800" y="361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3840" y="3581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p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916-DAAA-4239-A824-9F74F1CF22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C88E7-3833-43B5-A430-E0F6ECE86E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Keypoint localiz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Once a keypoint candidate is found, perform a detailed fit to nearby data to determ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Arial"/>
              </a:rPr>
              <a:t>location, scale, and ratio of principal curv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 initial work keypoints were found at location and scale of a central sample poi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 newer work, they fit a 3D quadratic function to improve interpolation accura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Hessian matrix was used to eliminate edge respon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D0F-B333-491E-80C6-D9A2068FD7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F3CB9-258C-4947-B700-8C1C6C2CD9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iminating the Edge Respon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 fla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0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 ed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&lt;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What does this look lik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43040" cy="400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819520" cy="10098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590920" y="3505320"/>
            <a:ext cx="4010040" cy="895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209680" y="4419720"/>
            <a:ext cx="5010120" cy="828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570640" y="2743200"/>
            <a:ext cx="3379680" cy="611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et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be the eigenvalue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arger magnitude and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he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920" y="4419720"/>
            <a:ext cx="129780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et r =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= r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58240" y="4456080"/>
            <a:ext cx="162072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r+1)</a:t>
            </a: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/r  is a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in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 eigen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re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2F3-C142-4954-A762-96B69DD9A3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FCD96-9867-4188-8842-2C080EE9E9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 Orientation assign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30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reate histogram of local gradient directions at selected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ssign canonical orientation at peak of smoothed hist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Each key specifies stable 2D coordinates (x, y, scale,orient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35120" y="5675400"/>
            <a:ext cx="3441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2 major orientations, use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EE3-0CDB-4D74-B948-D5014F01FD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11E1E-8E4B-40EC-8A69-C46871D13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Keypoint localization with ori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530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394040" y="2438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53360" y="4532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94040" y="4343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9040" y="25909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3x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79280" y="293220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ial ke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60" y="49528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eypoints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radient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78200" y="4913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keypoints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atio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AAF-C86A-4532-B013-08CBDC0AE95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3B714-0B38-4C5B-81E4-30CCEAA1FD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 Keypoint Descripto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is point, each keypoint h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is to compute a descriptor for the local image region about each keypoint that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y distin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ariant as possible to variations such as changes in viewpoint and illu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622-2CCF-4D5E-86DB-F4E3D41212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1552D-2442-4327-BDD3-3388E5946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rmal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ate the window to standard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le the window size based on the scale at which the point was fou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B3E-CF01-4AFE-8389-643EFA28D4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27CD0-3D23-4690-B51A-8D78B5148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scaled, oriented p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x8 patch, sampled at 5 x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as/gain normal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495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-Scale Oriented P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9240" y="3433680"/>
            <a:ext cx="3043080" cy="303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91320" y="3124080"/>
            <a:ext cx="304776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944880"/>
            <a:ext cx="596880" cy="1238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48920" y="266688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720000">
            <a:off x="4233240" y="365760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 pi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A47-5177-428F-A4C7-3A9856199B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53039-ED3A-4C02-8BA8-848254E2293B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Lowe’s Keypoint Descriptor</a:t>
            </a:r>
            <a:br>
              <a:rPr sz="3800"/>
            </a:b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(shown with 2 X 2 descriptors over 8 X 8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435800" cy="3279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V="1">
            <a:off x="2408400" y="2678040"/>
            <a:ext cx="990360" cy="9144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91600" y="5305320"/>
            <a:ext cx="56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In experiments, 4x4 arrays of 8 bin histogram is u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 total of 128 features for one key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BD9-4ED5-436B-B9A8-7F7D93F57A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81336-7A7D-4D08-9610-941DFA66E4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iological Motiv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mic complex cells in primary visual co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bel &amp; Wiesel found that cells are sensitive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edges, but insensitive to thei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justifies spatial pooling of edge respo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02160" y="630864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“Eye, Brain and Vision” – Hubel and Wiesel 1988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568008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5680080"/>
            <a:ext cx="14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5680080"/>
            <a:ext cx="14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568008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509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4128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209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8128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209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1164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7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8900000">
            <a:off x="1062000" y="3968280"/>
            <a:ext cx="126036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41200" y="3721680"/>
            <a:ext cx="1109880" cy="110988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8900000">
            <a:off x="2862360" y="3968280"/>
            <a:ext cx="126036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073320" y="3843720"/>
            <a:ext cx="1109880" cy="110988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164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3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6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3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8900000">
            <a:off x="4662000" y="3968280"/>
            <a:ext cx="126072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673520" y="3556440"/>
            <a:ext cx="1109880" cy="110988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5128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4200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8164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0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32360" y="531972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8900000">
            <a:off x="6462720" y="3968280"/>
            <a:ext cx="1260360" cy="66672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48240" y="4259160"/>
            <a:ext cx="1570320" cy="0"/>
          </a:xfrm>
          <a:prstGeom prst="line">
            <a:avLst/>
          </a:prstGeom>
          <a:ln w="507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E58-94DD-4860-BCAC-D0F87607F9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BB888-F5A7-4272-940D-38B59504EB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we’s Keypoint Descrip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normaliz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 about the key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gradient magnitude and orientation at each point in the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weight them by a Gauss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ndow overlaid on the cir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0" lang="en-US" sz="2600" spc="-1" strike="noStrike">
                <a:solidFill>
                  <a:srgbClr val="9900ff"/>
                </a:solidFill>
                <a:latin typeface="Arial"/>
              </a:rPr>
              <a:t>orientation hist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the 4 X 4 subregions of th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X 4 descriptors over 16 X 16 sample array were used in practice. 4 X 4 times 8 directions gives a vector of </a:t>
            </a: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128 val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229-7968-4C23-918E-EA4DEF47B54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5BFD4-8287-4F89-95A4-93D476DC35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6299280" cy="5075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901080" y="293760"/>
            <a:ext cx="55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sing SIFT for Matching “Objec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7F3-2760-493A-BBEC-5630A763E228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5347A-C95A-4083-BFCF-1880B2E5E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19920" cy="29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C5D-2C0B-4F06-8A5A-FEC4BC824E17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4B497-AC11-4317-9EFF-9C8CA02D76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s for SIF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eature points are used also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mage alignment (homography, fundamental matr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D reconstruction (e.g. Photo Touris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Motion tr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Object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dexing and database retrie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Robot nav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46320" y="6308640"/>
            <a:ext cx="53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Photo Tourism: Snavely et al. SIGGRAPH 2006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09A-431F-4F6C-8B32-58E27C95D6C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881F-475F-4FC0-918B-1522B1D49B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: Image Stit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08080" y="3747960"/>
            <a:ext cx="5221440" cy="2417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78800" y="2127240"/>
            <a:ext cx="1552320" cy="109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19160" y="1136520"/>
            <a:ext cx="155268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538440" y="1407960"/>
            <a:ext cx="1552680" cy="109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608800" y="1227240"/>
            <a:ext cx="1552320" cy="1093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019160" y="2127240"/>
            <a:ext cx="1552680" cy="1093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819520" y="2217600"/>
            <a:ext cx="1552320" cy="1094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799160" y="1947960"/>
            <a:ext cx="1552320" cy="1093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29160" y="3117960"/>
            <a:ext cx="488880" cy="812520"/>
          </a:xfrm>
          <a:prstGeom prst="downArrow">
            <a:avLst>
              <a:gd name="adj1" fmla="val 50000"/>
              <a:gd name="adj2" fmla="val 41550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06160" y="6308640"/>
            <a:ext cx="45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[ Microsoft Digital Image Pro version 1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B8C-5133-41C9-AE44-629D0402F1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94C5-67B0-4584-BA18-6C594015D8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you rotate a patch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with an “empty” patch whose dominant direction is “up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pixel in your patch, compute the position in the detected image patch. It will be in floating point and will fall between the image pix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olate the values of the 4 closest pixels in the image, to get a value for the pixel in your p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47D-A11D-4288-BF14-2C813EBC96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BF7EF-07C7-47CB-A3BB-8FB2A8866B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tating a Pat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511280" y="1989000"/>
            <a:ext cx="1170000" cy="10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01800">
            <a:off x="5741640" y="2077560"/>
            <a:ext cx="1170000" cy="10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41640" y="17190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551640" y="1807920"/>
            <a:ext cx="18108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1280" y="907920"/>
            <a:ext cx="4051440" cy="46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39960" y="306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mpty canonical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3040" y="379404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atch detected in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71640" y="198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20920" y="198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1280" y="234936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11280" y="270828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12280" y="3968640"/>
            <a:ext cx="2134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x’ = x cos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– y sin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y’ = x sin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+ y cos</a:t>
            </a:r>
            <a:r>
              <a:rPr b="0" lang="el-GR" sz="1800" spc="-1" strike="noStrike">
                <a:solidFill>
                  <a:srgbClr val="000000"/>
                </a:solidFill>
                <a:latin typeface="Bookman Old Style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8560" y="396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2168640"/>
            <a:ext cx="441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8480" y="172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2040" y="45990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unterclockwis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2080" y="18064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6560" y="2077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504-0C58-4C71-A343-6C92A34B15C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A57E6-1525-41D1-BC8E-77B2FD167F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linear Interpol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ll 4 adjacent s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04800" y="267012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30400" y="2671920"/>
            <a:ext cx="181080" cy="18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00120" y="409572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30400" y="411156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95520" y="4470480"/>
            <a:ext cx="812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9640" y="43974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25520" y="3300480"/>
            <a:ext cx="0" cy="900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8840" y="34513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3520" y="407196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3840" y="414036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6520" y="248292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17600" y="2502000"/>
            <a:ext cx="70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95520" y="2759040"/>
            <a:ext cx="143964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95520" y="4200480"/>
            <a:ext cx="143964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95520" y="2759040"/>
            <a:ext cx="0" cy="14414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35160" y="2759040"/>
            <a:ext cx="0" cy="15303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96960" y="3328920"/>
            <a:ext cx="144000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30280" y="2770200"/>
            <a:ext cx="0" cy="1433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32000" y="3249720"/>
            <a:ext cx="181080" cy="180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21280" y="2708280"/>
            <a:ext cx="4619520" cy="180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21280" y="2798640"/>
            <a:ext cx="4500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5920" y="3214800"/>
            <a:ext cx="450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00560" y="3591000"/>
            <a:ext cx="450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7240" y="3989520"/>
            <a:ext cx="450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DD7-5E39-419F-835F-B61730ABCD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3B37E-F2CB-4F7F-8C18-05D0845A12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he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FT (Scale Invariant Feature Transform) Detector and Descripto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David L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aper ICCV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journal paper IJCV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arris operator is not invariant to scale and  correlation is not invariant to rotatio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better image matching, Lowe’s goal was to develop an interest operator that is invariant to scale and r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, Lowe aimed to create a descriptor that was robust to the variations corresponding to typical viewing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480" y="56386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chmid and Mohr developed a rotation invariant descriptor for it in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AB6-31E5-4622-BEAD-E1B155B914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479DB-0CC9-4E82-93E1-83113B4E6A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0:41:36Z</dcterms:created>
  <dc:creator>Adrienne Wang</dc:creator>
  <dc:description/>
  <dc:language>en-US</dc:language>
  <cp:lastModifiedBy>Linda Shapiro</cp:lastModifiedBy>
  <dcterms:modified xsi:type="dcterms:W3CDTF">2008-01-28T19:44:02Z</dcterms:modified>
  <cp:revision>76</cp:revision>
  <dc:subject/>
  <dc:title>SIFT</dc:title>
</cp:coreProperties>
</file>