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22.jpeg" ContentType="image/jpeg"/>
  <Override PartName="/ppt/media/image39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63DA-DD4A-4B74-BCE4-57341A7A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E723-0B9F-4CD3-B98C-8193E351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2040" cy="312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46160" y="4350960"/>
            <a:ext cx="476712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6BD-6CB1-4FBF-ABCB-2020EAF0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0CC-C6BA-475F-BB30-FC47E8C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E59-FA6D-410A-908B-2FB869A1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8DB-1EFD-4C04-9F8A-C9C7596D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CEB-5A5E-4CDD-A3EA-EB32275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5F1-98D7-43EA-8E73-08CA1150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6D9-746D-4AB5-B43A-553D178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14E-51F4-4B51-AA63-CC3294DE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FAD-E6BD-4105-89C2-335E844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DC7-8E1A-42E4-B9A8-33CA860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7A9-9AB1-46C3-BA08-37B1A9A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82F-D008-450C-AC18-DB8471C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1252-02D3-4377-BD8C-06E4CF6B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EP 57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Vi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ter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Linda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Indriyati Atmosukarto (Ind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3040" y="53352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Datab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23880" y="2209680"/>
            <a:ext cx="7348680" cy="1601640"/>
            <a:chOff x="1523880" y="2209680"/>
            <a:chExt cx="7348680" cy="1601640"/>
          </a:xfrm>
        </p:grpSpPr>
        <p:pic>
          <p:nvPicPr>
            <p:cNvPr id="85" name="Image22" descr=""/>
            <p:cNvPicPr/>
            <p:nvPr/>
          </p:nvPicPr>
          <p:blipFill>
            <a:blip r:embed="rId1"/>
            <a:stretch/>
          </p:blipFill>
          <p:spPr>
            <a:xfrm>
              <a:off x="1523880" y="2209680"/>
              <a:ext cx="2403360" cy="1601640"/>
            </a:xfrm>
            <a:prstGeom prst="rect">
              <a:avLst/>
            </a:prstGeom>
            <a:ln w="19080">
              <a:solidFill>
                <a:srgbClr val="009999"/>
              </a:solidFill>
              <a:miter/>
            </a:ln>
          </p:spPr>
        </p:pic>
        <p:pic>
          <p:nvPicPr>
            <p:cNvPr id="86" name="Image17" descr=""/>
            <p:cNvPicPr/>
            <p:nvPr/>
          </p:nvPicPr>
          <p:blipFill>
            <a:blip r:embed="rId2"/>
            <a:stretch/>
          </p:blipFill>
          <p:spPr>
            <a:xfrm>
              <a:off x="4038480" y="2209680"/>
              <a:ext cx="2386080" cy="15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01" descr=""/>
            <p:cNvPicPr/>
            <p:nvPr/>
          </p:nvPicPr>
          <p:blipFill>
            <a:blip r:embed="rId3"/>
            <a:stretch/>
          </p:blipFill>
          <p:spPr>
            <a:xfrm>
              <a:off x="6476760" y="2209680"/>
              <a:ext cx="2395800" cy="15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431720" y="1219320"/>
            <a:ext cx="7053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from my Ground-Truth col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s.washington.edu/research/imagedatabase/ground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01560" y="4384800"/>
            <a:ext cx="42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mages containing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182880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182880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705720" y="205740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1828800" cy="12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90920" y="3505320"/>
            <a:ext cx="1828800" cy="12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705720" y="35053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6483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5909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67057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33520" y="205740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33520" y="35053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33520" y="495288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2" name=""/>
          <p:cNvGraphicFramePr/>
          <p:nvPr/>
        </p:nvGraphicFramePr>
        <p:xfrm>
          <a:off x="228600" y="1295280"/>
          <a:ext cx="8381880" cy="609480"/>
        </p:xfrm>
        <a:graphic>
          <a:graphicData uri="http://schemas.openxmlformats.org/drawingml/2006/table">
            <a:tbl>
              <a:tblPr/>
              <a:tblGrid>
                <a:gridCol w="2097000"/>
                <a:gridCol w="2095560"/>
                <a:gridCol w="2093760"/>
                <a:gridCol w="20955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riginal Im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lor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exture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ine Clus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90880" y="29520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eatures for Imag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32800" y="2192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1840" y="838080"/>
            <a:ext cx="47037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752560" cy="27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770200" cy="271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9480" y="1447920"/>
            <a:ext cx="2382840" cy="27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648320" y="5029200"/>
          <a:ext cx="3914640" cy="1185840"/>
        </p:xfrm>
        <a:graphic>
          <a:graphicData uri="http://schemas.openxmlformats.org/drawingml/2006/table">
            <a:tbl>
              <a:tblPr/>
              <a:tblGrid>
                <a:gridCol w="1495440"/>
                <a:gridCol w="1114200"/>
                <a:gridCol w="1305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529560" y="42670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9200" y="2209680"/>
            <a:ext cx="13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Yor (Y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5029200"/>
          <a:ext cx="3684600" cy="1185840"/>
        </p:xfrm>
        <a:graphic>
          <a:graphicData uri="http://schemas.openxmlformats.org/drawingml/2006/table">
            <a:tbl>
              <a:tblPr/>
              <a:tblGrid>
                <a:gridCol w="1406520"/>
                <a:gridCol w="960480"/>
                <a:gridCol w="1317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Y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762120" y="2209680"/>
            <a:ext cx="219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Calineuria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 (C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209680"/>
            <a:ext cx="217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oroneuria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(D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5335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48320" y="270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02264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402264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22640" cy="274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63360" y="335268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al Video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0880" y="65214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646272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6440" y="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illance: Event Recognition in Aerial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330200"/>
            <a:ext cx="8763120" cy="3318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4280" y="30492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Detection (and 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643120" y="914400"/>
            <a:ext cx="3757320" cy="4952520"/>
            <a:chOff x="2643120" y="914400"/>
            <a:chExt cx="3757320" cy="49525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643120" y="914400"/>
              <a:ext cx="375732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643120" y="2587680"/>
              <a:ext cx="375732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2643120" y="4268880"/>
              <a:ext cx="3757320" cy="159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1830960" y="63482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Serkis, Gollum, Lord of the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81120" y="19368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: Spe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20920" r="0" b="0"/>
          <a:stretch/>
        </p:blipFill>
        <p:spPr>
          <a:xfrm>
            <a:off x="762120" y="1600200"/>
            <a:ext cx="7543800" cy="4610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1400" y="219240"/>
            <a:ext cx="59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Reconstruction and Graphics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41280" y="773280"/>
            <a:ext cx="3826080" cy="5572080"/>
            <a:chOff x="341280" y="773280"/>
            <a:chExt cx="3826080" cy="5572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41280" y="773280"/>
              <a:ext cx="3826080" cy="557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4586400" y="500040"/>
            <a:ext cx="3636720" cy="2881440"/>
            <a:chOff x="4586400" y="500040"/>
            <a:chExt cx="3636720" cy="288144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586400" y="500040"/>
              <a:ext cx="3636720" cy="288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457880" y="3430440"/>
            <a:ext cx="3995640" cy="342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8080" y="760320"/>
            <a:ext cx="49086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280" y="101520"/>
            <a:ext cx="48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Recognition from “Pa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41560" y="301680"/>
            <a:ext cx="26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2680" y="1336680"/>
            <a:ext cx="411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mputer v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images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38200" y="217476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analysis of digital images by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60680" y="149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57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60680" y="225360"/>
            <a:ext cx="65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lications: Medical Ima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1720" y="236232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image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’s 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7640" y="30481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2560" y="40384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95520" y="41529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627600" cy="543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1640" y="380880"/>
            <a:ext cx="49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ble Man Slice Through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3206880" y="1981080"/>
            <a:ext cx="3948120" cy="4114800"/>
            <a:chOff x="3206880" y="1981080"/>
            <a:chExt cx="3948120" cy="4114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206880" y="1981080"/>
              <a:ext cx="39481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3206880" y="1981080"/>
              <a:ext cx="39481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813680" y="67644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 Reconstruction of the Blood Vessel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5302440" cy="532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9920" y="30492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ce of a Chicken Embryo’s Inner 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6002" t="11584" r="71000" b="54917"/>
          <a:stretch/>
        </p:blipFill>
        <p:spPr>
          <a:xfrm>
            <a:off x="1295280" y="2133720"/>
            <a:ext cx="3048120" cy="296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6002" t="55585" r="71000" b="10417"/>
          <a:stretch/>
        </p:blipFill>
        <p:spPr>
          <a:xfrm>
            <a:off x="4724280" y="2058840"/>
            <a:ext cx="3048120" cy="3003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240" y="91440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IR of Mouse Eye Images for Genetic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760" y="82440"/>
            <a:ext cx="198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4920" y="838080"/>
            <a:ext cx="410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Gray-tone or Col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Rang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2857320" cy="21495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4876920" y="3733920"/>
            <a:ext cx="2361960" cy="2743200"/>
            <a:chOff x="4876920" y="3733920"/>
            <a:chExt cx="2361960" cy="274320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928040" y="3733920"/>
              <a:ext cx="22640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876920" y="3733920"/>
              <a:ext cx="2361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496960" y="19954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rs” r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3520" y="47242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41920" y="57456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 Soc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37:49Z</dcterms:created>
  <dc:creator>cse</dc:creator>
  <dc:description/>
  <dc:language>en-US</dc:language>
  <cp:lastModifiedBy>Linda Shapiro</cp:lastModifiedBy>
  <dcterms:modified xsi:type="dcterms:W3CDTF">2008-01-09T19:39:28Z</dcterms:modified>
  <cp:revision>3</cp:revision>
  <dc:subject/>
  <dc:title>CSE/EE 576 Computer Vision Spring 2007</dc:title>
</cp:coreProperties>
</file>