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33.jpeg" ContentType="image/jpeg"/>
  <Override PartName="/ppt/media/image23.jpeg" ContentType="image/jpeg"/>
  <Override PartName="/ppt/media/image12.png" ContentType="image/png"/>
  <Override PartName="/ppt/media/image21.jpeg" ContentType="image/jpeg"/>
  <Override PartName="/ppt/media/image19.png" ContentType="image/png"/>
  <Override PartName="/ppt/media/image20.png" ContentType="image/png"/>
  <Override PartName="/ppt/media/image36.jpeg" ContentType="image/jpeg"/>
  <Override PartName="/ppt/media/image18.png" ContentType="image/png"/>
  <Override PartName="/ppt/media/image6.jpeg" ContentType="image/jpeg"/>
  <Override PartName="/ppt/media/image9.jpeg" ContentType="image/jpeg"/>
  <Override PartName="/ppt/media/image22.jpeg" ContentType="image/jpeg"/>
  <Override PartName="/ppt/media/image39.png" ContentType="image/png"/>
  <Override PartName="/ppt/media/image7.png" ContentType="image/png"/>
  <Override PartName="/ppt/media/image34.jpeg" ContentType="image/jpeg"/>
  <Override PartName="/ppt/media/image13.png" ContentType="image/png"/>
  <Override PartName="/ppt/media/image29.jpeg" ContentType="image/jpeg"/>
  <Override PartName="/ppt/media/image8.jpeg" ContentType="image/jpeg"/>
  <Override PartName="/ppt/media/image37.jpeg" ContentType="image/jpeg"/>
  <Override PartName="/ppt/media/image30.png" ContentType="image/png"/>
  <Override PartName="/ppt/media/image35.jpeg" ContentType="image/jpeg"/>
  <Override PartName="/ppt/media/image28.png" ContentType="image/png"/>
  <Override PartName="/ppt/media/image38.jpeg" ContentType="image/jpeg"/>
  <Override PartName="/ppt/media/image5.jpeg" ContentType="image/jpeg"/>
  <Override PartName="/ppt/media/image4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3.png" ContentType="image/png"/>
  <Override PartName="/ppt/media/image26.png" ContentType="image/png"/>
  <Override PartName="/ppt/media/image31.png" ContentType="image/png"/>
  <Override PartName="/ppt/media/image1.png" ContentType="image/png"/>
  <Override PartName="/ppt/media/image11.jpeg" ContentType="image/jpeg"/>
  <Override PartName="/ppt/media/image24.png" ContentType="image/png"/>
  <Override PartName="/ppt/media/image10.jpeg" ContentType="image/jpe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40484-EF31-49C8-8C75-615178140E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97995-93B5-41E4-97F0-F5974C0EA0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341360" y="915840"/>
            <a:ext cx="4172040" cy="312768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1046160" y="4350960"/>
            <a:ext cx="4767120" cy="34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C54AF-B562-4ED2-ABC3-9403C5139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8526C-EC95-48AB-8EFE-794A1009C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A3482-D444-4D23-94E6-8A812EC61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6961F-15CF-4498-B75B-F5CFC5997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B2402-88E0-4F9E-A283-9B6FF32A9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E1A14-AFC9-49B5-8F20-AAF37C0C6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14991-8909-492A-AFC2-E3BF6D02E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A0AFA-F6BE-4002-830D-994232C23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9A635-4490-448F-AE30-F44F50F1C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4A920-5E5B-48D0-A535-55364B21E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9BB84-EBED-48E4-8728-FEEE8D20D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73810-E654-441F-A5F5-3F6422120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FD035-F981-4CE8-983E-8ECA3A6EA5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image" Target="../media/image19.png"/><Relationship Id="rId9" Type="http://schemas.openxmlformats.org/officeDocument/2006/relationships/image" Target="../media/image20.png"/><Relationship Id="rId10" Type="http://schemas.openxmlformats.org/officeDocument/2006/relationships/image" Target="../media/image21.jpeg"/><Relationship Id="rId11" Type="http://schemas.openxmlformats.org/officeDocument/2006/relationships/image" Target="../media/image22.jpeg"/><Relationship Id="rId12" Type="http://schemas.openxmlformats.org/officeDocument/2006/relationships/image" Target="../media/image23.jpeg"/><Relationship Id="rId1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SEP 576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puter Visio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inter 200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523880" y="3580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fessor Linda Shapi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: Indriyati Atmosukarto (Indr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373040" y="533520"/>
            <a:ext cx="269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age Databa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1523880" y="2209680"/>
            <a:ext cx="7348680" cy="1601640"/>
            <a:chOff x="1523880" y="2209680"/>
            <a:chExt cx="7348680" cy="1601640"/>
          </a:xfrm>
        </p:grpSpPr>
        <p:pic>
          <p:nvPicPr>
            <p:cNvPr id="85" name="Image22" descr=""/>
            <p:cNvPicPr/>
            <p:nvPr/>
          </p:nvPicPr>
          <p:blipFill>
            <a:blip r:embed="rId1"/>
            <a:stretch/>
          </p:blipFill>
          <p:spPr>
            <a:xfrm>
              <a:off x="1523880" y="2209680"/>
              <a:ext cx="2403360" cy="1601640"/>
            </a:xfrm>
            <a:prstGeom prst="rect">
              <a:avLst/>
            </a:prstGeom>
            <a:ln w="19080">
              <a:solidFill>
                <a:srgbClr val="009999"/>
              </a:solidFill>
              <a:miter/>
            </a:ln>
          </p:spPr>
        </p:pic>
        <p:pic>
          <p:nvPicPr>
            <p:cNvPr id="86" name="Image17" descr=""/>
            <p:cNvPicPr/>
            <p:nvPr/>
          </p:nvPicPr>
          <p:blipFill>
            <a:blip r:embed="rId2"/>
            <a:stretch/>
          </p:blipFill>
          <p:spPr>
            <a:xfrm>
              <a:off x="4038480" y="2209680"/>
              <a:ext cx="2386080" cy="15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" name="Image01" descr=""/>
            <p:cNvPicPr/>
            <p:nvPr/>
          </p:nvPicPr>
          <p:blipFill>
            <a:blip r:embed="rId3"/>
            <a:stretch/>
          </p:blipFill>
          <p:spPr>
            <a:xfrm>
              <a:off x="6476760" y="2209680"/>
              <a:ext cx="2395800" cy="1582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8" name=""/>
          <p:cNvSpPr/>
          <p:nvPr/>
        </p:nvSpPr>
        <p:spPr>
          <a:xfrm>
            <a:off x="1431720" y="1219320"/>
            <a:ext cx="70538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ages from my Ground-Truth colle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ttp://www.cs.washington.edu/research/imagedatabase/groundtru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501560" y="4384800"/>
            <a:ext cx="4258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rieve images containing tre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648320" y="2057400"/>
            <a:ext cx="1828800" cy="1220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2590920" y="2057400"/>
            <a:ext cx="1828800" cy="1220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6705720" y="2057400"/>
            <a:ext cx="1828800" cy="1219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4648320" y="3505320"/>
            <a:ext cx="1828800" cy="1222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2590920" y="3505320"/>
            <a:ext cx="1828800" cy="1222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5" name="" descr=""/>
          <p:cNvPicPr/>
          <p:nvPr/>
        </p:nvPicPr>
        <p:blipFill>
          <a:blip r:embed="rId6"/>
          <a:stretch/>
        </p:blipFill>
        <p:spPr>
          <a:xfrm>
            <a:off x="6705720" y="3505320"/>
            <a:ext cx="1828800" cy="1218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6" name="" descr=""/>
          <p:cNvPicPr/>
          <p:nvPr/>
        </p:nvPicPr>
        <p:blipFill>
          <a:blip r:embed="rId7"/>
          <a:stretch/>
        </p:blipFill>
        <p:spPr>
          <a:xfrm>
            <a:off x="4648320" y="4952880"/>
            <a:ext cx="1828800" cy="137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7" name="" descr=""/>
          <p:cNvPicPr/>
          <p:nvPr/>
        </p:nvPicPr>
        <p:blipFill>
          <a:blip r:embed="rId8"/>
          <a:stretch/>
        </p:blipFill>
        <p:spPr>
          <a:xfrm>
            <a:off x="2590920" y="4952880"/>
            <a:ext cx="1828800" cy="137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8" name="" descr=""/>
          <p:cNvPicPr/>
          <p:nvPr/>
        </p:nvPicPr>
        <p:blipFill>
          <a:blip r:embed="rId9"/>
          <a:stretch/>
        </p:blipFill>
        <p:spPr>
          <a:xfrm>
            <a:off x="6705720" y="4952880"/>
            <a:ext cx="1828800" cy="137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9" name="" descr=""/>
          <p:cNvPicPr/>
          <p:nvPr/>
        </p:nvPicPr>
        <p:blipFill>
          <a:blip r:embed="rId10"/>
          <a:stretch/>
        </p:blipFill>
        <p:spPr>
          <a:xfrm>
            <a:off x="533520" y="2057400"/>
            <a:ext cx="1828800" cy="1219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00" name="" descr=""/>
          <p:cNvPicPr/>
          <p:nvPr/>
        </p:nvPicPr>
        <p:blipFill>
          <a:blip r:embed="rId11"/>
          <a:stretch/>
        </p:blipFill>
        <p:spPr>
          <a:xfrm>
            <a:off x="533520" y="3505320"/>
            <a:ext cx="1828800" cy="1218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01" name="" descr=""/>
          <p:cNvPicPr/>
          <p:nvPr/>
        </p:nvPicPr>
        <p:blipFill>
          <a:blip r:embed="rId12"/>
          <a:stretch/>
        </p:blipFill>
        <p:spPr>
          <a:xfrm>
            <a:off x="533520" y="4952880"/>
            <a:ext cx="1828800" cy="137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aphicFrame>
        <p:nvGraphicFramePr>
          <p:cNvPr id="102" name=""/>
          <p:cNvGraphicFramePr/>
          <p:nvPr/>
        </p:nvGraphicFramePr>
        <p:xfrm>
          <a:off x="228600" y="1295280"/>
          <a:ext cx="8381880" cy="609480"/>
        </p:xfrm>
        <a:graphic>
          <a:graphicData uri="http://schemas.openxmlformats.org/drawingml/2006/table">
            <a:tbl>
              <a:tblPr/>
              <a:tblGrid>
                <a:gridCol w="2097000"/>
                <a:gridCol w="2095560"/>
                <a:gridCol w="2093760"/>
                <a:gridCol w="2095560"/>
              </a:tblGrid>
              <a:tr h="609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Original Imag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Color Reg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Texture Reg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Line Clust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3" name=""/>
          <p:cNvSpPr/>
          <p:nvPr/>
        </p:nvSpPr>
        <p:spPr>
          <a:xfrm>
            <a:off x="290880" y="295200"/>
            <a:ext cx="515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me Features for Image Retriev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432800" y="219240"/>
            <a:ext cx="189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3201840" y="838080"/>
            <a:ext cx="4703760" cy="546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-1523880" y="-1447920"/>
            <a:ext cx="12191760" cy="975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6172200" y="1447920"/>
            <a:ext cx="2752560" cy="27525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3276720" y="1447920"/>
            <a:ext cx="2770200" cy="271764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609480" y="1447920"/>
            <a:ext cx="2382840" cy="2708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648320" y="5029200"/>
          <a:ext cx="3914640" cy="1185840"/>
        </p:xfrm>
        <a:graphic>
          <a:graphicData uri="http://schemas.openxmlformats.org/drawingml/2006/table">
            <a:tbl>
              <a:tblPr/>
              <a:tblGrid>
                <a:gridCol w="1495440"/>
                <a:gridCol w="1114200"/>
                <a:gridCol w="13050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ifi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 C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 D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1" name=""/>
          <p:cNvSpPr/>
          <p:nvPr/>
        </p:nvSpPr>
        <p:spPr>
          <a:xfrm>
            <a:off x="529560" y="4267080"/>
            <a:ext cx="292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sification 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729200" y="2209680"/>
            <a:ext cx="1305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3300"/>
                </a:solidFill>
                <a:latin typeface="Times New Roman"/>
              </a:rPr>
              <a:t>Yor (Yor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609480" y="5029200"/>
          <a:ext cx="3684600" cy="1185840"/>
        </p:xfrm>
        <a:graphic>
          <a:graphicData uri="http://schemas.openxmlformats.org/drawingml/2006/table">
            <a:tbl>
              <a:tblPr/>
              <a:tblGrid>
                <a:gridCol w="1406520"/>
                <a:gridCol w="960480"/>
                <a:gridCol w="13176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ifi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 C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 Y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4" name=""/>
          <p:cNvSpPr/>
          <p:nvPr/>
        </p:nvSpPr>
        <p:spPr>
          <a:xfrm>
            <a:off x="762120" y="2209680"/>
            <a:ext cx="21920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3300"/>
                </a:solidFill>
                <a:latin typeface="Times New Roman"/>
              </a:rPr>
              <a:t>Calineuria</a:t>
            </a:r>
            <a:r>
              <a:rPr b="0" lang="en-US" sz="2200" spc="-1" strike="noStrike">
                <a:solidFill>
                  <a:srgbClr val="ff3300"/>
                </a:solidFill>
                <a:latin typeface="Times New Roman"/>
              </a:rPr>
              <a:t>  (Cal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2209680"/>
            <a:ext cx="2171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3300"/>
                </a:solidFill>
                <a:latin typeface="Times New Roman"/>
              </a:rPr>
              <a:t>Doroneuria</a:t>
            </a:r>
            <a:r>
              <a:rPr b="0" lang="en-US" sz="2200" spc="-1" strike="noStrike">
                <a:solidFill>
                  <a:srgbClr val="ff3300"/>
                </a:solidFill>
                <a:latin typeface="Times New Roman"/>
              </a:rPr>
              <a:t> (Dor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11280" y="533520"/>
            <a:ext cx="128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i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4648320" y="27000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2590920" y="609480"/>
            <a:ext cx="4022640" cy="27432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4800600" y="3809880"/>
            <a:ext cx="4022640" cy="2743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228600" y="3809880"/>
            <a:ext cx="4022640" cy="27432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3663360" y="3352680"/>
            <a:ext cx="197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riginal Video Fr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870880" y="6521400"/>
            <a:ext cx="164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ucture Reg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85800" y="6462720"/>
            <a:ext cx="136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or Reg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16440" y="0"/>
            <a:ext cx="654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urveillance: Event Recognition in Aerial Vide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52280" y="1330200"/>
            <a:ext cx="8763120" cy="331812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224280" y="304920"/>
            <a:ext cx="430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ce Detection (and Recogni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" name=""/>
          <p:cNvGrpSpPr/>
          <p:nvPr/>
        </p:nvGrpSpPr>
        <p:grpSpPr>
          <a:xfrm>
            <a:off x="2643120" y="914400"/>
            <a:ext cx="3757320" cy="4952520"/>
            <a:chOff x="2643120" y="914400"/>
            <a:chExt cx="3757320" cy="4952520"/>
          </a:xfrm>
        </p:grpSpPr>
        <p:pic>
          <p:nvPicPr>
            <p:cNvPr id="128" name="" descr=""/>
            <p:cNvPicPr/>
            <p:nvPr/>
          </p:nvPicPr>
          <p:blipFill>
            <a:blip r:embed="rId1"/>
            <a:stretch/>
          </p:blipFill>
          <p:spPr>
            <a:xfrm>
              <a:off x="2643120" y="914400"/>
              <a:ext cx="3757320" cy="159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" name="" descr=""/>
            <p:cNvPicPr/>
            <p:nvPr/>
          </p:nvPicPr>
          <p:blipFill>
            <a:blip r:embed="rId2"/>
            <a:stretch/>
          </p:blipFill>
          <p:spPr>
            <a:xfrm>
              <a:off x="2643120" y="2587680"/>
              <a:ext cx="3757320" cy="159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" name="" descr=""/>
            <p:cNvPicPr/>
            <p:nvPr/>
          </p:nvPicPr>
          <p:blipFill>
            <a:blip r:embed="rId3"/>
            <a:stretch/>
          </p:blipFill>
          <p:spPr>
            <a:xfrm>
              <a:off x="2643120" y="4268880"/>
              <a:ext cx="3757320" cy="1598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1" name=""/>
          <p:cNvSpPr/>
          <p:nvPr/>
        </p:nvSpPr>
        <p:spPr>
          <a:xfrm>
            <a:off x="1830960" y="6348240"/>
            <a:ext cx="543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y Serkis, Gollum, Lord of the R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581120" y="193680"/>
            <a:ext cx="328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phics: Special Eff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rcRect l="0" t="20920" r="0" b="0"/>
          <a:stretch/>
        </p:blipFill>
        <p:spPr>
          <a:xfrm>
            <a:off x="762120" y="1600200"/>
            <a:ext cx="7543800" cy="461016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71400" y="219240"/>
            <a:ext cx="596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D Reconstruction and Graphics Vie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"/>
          <p:cNvGrpSpPr/>
          <p:nvPr/>
        </p:nvGrpSpPr>
        <p:grpSpPr>
          <a:xfrm>
            <a:off x="341280" y="773280"/>
            <a:ext cx="3826080" cy="5572080"/>
            <a:chOff x="341280" y="773280"/>
            <a:chExt cx="3826080" cy="5572080"/>
          </a:xfrm>
        </p:grpSpPr>
        <p:pic>
          <p:nvPicPr>
            <p:cNvPr id="136" name="" descr=""/>
            <p:cNvPicPr/>
            <p:nvPr/>
          </p:nvPicPr>
          <p:blipFill>
            <a:blip r:embed="rId1"/>
            <a:stretch/>
          </p:blipFill>
          <p:spPr>
            <a:xfrm>
              <a:off x="341280" y="773280"/>
              <a:ext cx="3826080" cy="5572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7" name=""/>
          <p:cNvGrpSpPr/>
          <p:nvPr/>
        </p:nvGrpSpPr>
        <p:grpSpPr>
          <a:xfrm>
            <a:off x="4586400" y="500040"/>
            <a:ext cx="3636720" cy="2881440"/>
            <a:chOff x="4586400" y="500040"/>
            <a:chExt cx="3636720" cy="2881440"/>
          </a:xfrm>
        </p:grpSpPr>
        <p:pic>
          <p:nvPicPr>
            <p:cNvPr id="138" name="" descr=""/>
            <p:cNvPicPr/>
            <p:nvPr/>
          </p:nvPicPr>
          <p:blipFill>
            <a:blip r:embed="rId2"/>
            <a:stretch/>
          </p:blipFill>
          <p:spPr>
            <a:xfrm>
              <a:off x="4586400" y="500040"/>
              <a:ext cx="3636720" cy="2881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4457880" y="3430440"/>
            <a:ext cx="3995640" cy="342612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208080" y="760320"/>
            <a:ext cx="4908600" cy="545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5280" y="101520"/>
            <a:ext cx="484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 Recognition from “Part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041560" y="301680"/>
            <a:ext cx="2696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732680" y="1336680"/>
            <a:ext cx="4119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computer vis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do images come fro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338200" y="2174760"/>
            <a:ext cx="556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the analysis of digital images by a compu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660680" y="14940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523880" y="45720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660680" y="225360"/>
            <a:ext cx="653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lications: Medical Imag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191120" y="1600200"/>
            <a:ext cx="4495680" cy="44956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1521720" y="2362320"/>
            <a:ext cx="2428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T image of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tient’s abdo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877640" y="3048120"/>
            <a:ext cx="60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li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82560" y="4038480"/>
            <a:ext cx="80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kidn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995520" y="4152960"/>
            <a:ext cx="80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kidn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676520" y="1143000"/>
            <a:ext cx="6627600" cy="54388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1600200" y="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591640" y="380880"/>
            <a:ext cx="490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ble Man Slice Through Lu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3206880" y="1981080"/>
            <a:ext cx="3948120" cy="4114800"/>
            <a:chOff x="3206880" y="1981080"/>
            <a:chExt cx="3948120" cy="4114800"/>
          </a:xfrm>
        </p:grpSpPr>
        <p:pic>
          <p:nvPicPr>
            <p:cNvPr id="65" name="" descr=""/>
            <p:cNvPicPr/>
            <p:nvPr/>
          </p:nvPicPr>
          <p:blipFill>
            <a:blip r:embed="rId1"/>
            <a:stretch/>
          </p:blipFill>
          <p:spPr>
            <a:xfrm>
              <a:off x="3206880" y="1981080"/>
              <a:ext cx="3948120" cy="411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"/>
            <p:cNvSpPr txBox="1"/>
            <p:nvPr/>
          </p:nvSpPr>
          <p:spPr>
            <a:xfrm>
              <a:off x="3206880" y="1981080"/>
              <a:ext cx="3948120" cy="4114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" name=""/>
          <p:cNvSpPr/>
          <p:nvPr/>
        </p:nvSpPr>
        <p:spPr>
          <a:xfrm>
            <a:off x="1813680" y="676440"/>
            <a:ext cx="649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D Reconstruction of the Blood Vessel T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666880" y="1219320"/>
            <a:ext cx="5302440" cy="53244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2059920" y="304920"/>
            <a:ext cx="570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lice of a Chicken Embryo’s Inner 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rcRect l="6002" t="11584" r="71000" b="54917"/>
          <a:stretch/>
        </p:blipFill>
        <p:spPr>
          <a:xfrm>
            <a:off x="1295280" y="2133720"/>
            <a:ext cx="3048120" cy="29606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rcRect l="6002" t="55585" r="71000" b="10417"/>
          <a:stretch/>
        </p:blipFill>
        <p:spPr>
          <a:xfrm>
            <a:off x="4724280" y="2058840"/>
            <a:ext cx="3048120" cy="300384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1371240" y="914400"/>
            <a:ext cx="63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BIR of Mouse Eye Images for Genetic Stud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057760" y="82440"/>
            <a:ext cx="1989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obotic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284920" y="838080"/>
            <a:ext cx="41094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D Gray-tone or Color Im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D Range Im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648320" y="1295280"/>
            <a:ext cx="2857320" cy="2149560"/>
          </a:xfrm>
          <a:prstGeom prst="rect">
            <a:avLst/>
          </a:prstGeom>
          <a:ln w="0">
            <a:noFill/>
          </a:ln>
        </p:spPr>
      </p:pic>
      <p:grpSp>
        <p:nvGrpSpPr>
          <p:cNvPr id="76" name=""/>
          <p:cNvGrpSpPr/>
          <p:nvPr/>
        </p:nvGrpSpPr>
        <p:grpSpPr>
          <a:xfrm>
            <a:off x="4876920" y="3733920"/>
            <a:ext cx="2361960" cy="2743200"/>
            <a:chOff x="4876920" y="3733920"/>
            <a:chExt cx="2361960" cy="2743200"/>
          </a:xfrm>
        </p:grpSpPr>
        <p:pic>
          <p:nvPicPr>
            <p:cNvPr id="77" name="" descr=""/>
            <p:cNvPicPr/>
            <p:nvPr/>
          </p:nvPicPr>
          <p:blipFill>
            <a:blip r:embed="rId2"/>
            <a:stretch/>
          </p:blipFill>
          <p:spPr>
            <a:xfrm>
              <a:off x="4928040" y="3733920"/>
              <a:ext cx="2264040" cy="274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"/>
            <p:cNvSpPr/>
            <p:nvPr/>
          </p:nvSpPr>
          <p:spPr>
            <a:xfrm>
              <a:off x="4876920" y="3733920"/>
              <a:ext cx="2361960" cy="2743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" name=""/>
          <p:cNvSpPr/>
          <p:nvPr/>
        </p:nvSpPr>
        <p:spPr>
          <a:xfrm>
            <a:off x="2496960" y="1995480"/>
            <a:ext cx="153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Mars” ro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13520" y="4724280"/>
            <a:ext cx="160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What am I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981080" y="1752480"/>
            <a:ext cx="6096240" cy="45720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2041920" y="574560"/>
            <a:ext cx="201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bot Socc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2T23:37:49Z</dcterms:created>
  <dc:creator>cse</dc:creator>
  <dc:description/>
  <dc:language>en-US</dc:language>
  <cp:lastModifiedBy>Linda Shapiro</cp:lastModifiedBy>
  <dcterms:modified xsi:type="dcterms:W3CDTF">2008-01-09T19:39:28Z</dcterms:modified>
  <cp:revision>3</cp:revision>
  <dc:subject/>
  <dc:title>CSE/EE 576 Computer Vision Spring 2007</dc:title>
</cp:coreProperties>
</file>