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45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jpeg" ContentType="image/jpeg"/>
  <Override PartName="/ppt/media/image41.png" ContentType="image/png"/>
  <Override PartName="/ppt/media/image53.jpeg" ContentType="image/jpeg"/>
  <Override PartName="/ppt/media/image9.png" ContentType="image/png"/>
  <Override PartName="/ppt/media/image46.png" ContentType="image/png"/>
  <Override PartName="/ppt/media/image57.jpeg" ContentType="image/jpeg"/>
  <Override PartName="/ppt/media/image40.jpeg" ContentType="image/jpeg"/>
  <Override PartName="/ppt/media/image44.png" ContentType="image/png"/>
  <Override PartName="/ppt/media/image8.png" ContentType="image/png"/>
  <Override PartName="/ppt/media/image39.jpeg" ContentType="image/jpeg"/>
  <Override PartName="/ppt/media/image58.jpeg" ContentType="image/jpeg"/>
  <Override PartName="/ppt/media/image59.jpeg" ContentType="image/jpeg"/>
  <Override PartName="/ppt/media/image49.png" ContentType="image/png"/>
  <Override PartName="/ppt/media/image12.png" ContentType="image/png"/>
  <Override PartName="/ppt/media/image47.png" ContentType="image/png"/>
  <Override PartName="/ppt/media/image35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3.png" ContentType="image/png"/>
  <Override PartName="/ppt/media/image54.jpeg" ContentType="image/jpeg"/>
  <Override PartName="/ppt/media/image7.png" ContentType="image/png"/>
  <Override PartName="/ppt/media/image3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64F5-145E-47E9-92F7-9C0061F08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7AAA-3F85-4367-8435-676ECAFA1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E0C2-79D2-4840-9793-613CF4268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24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12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24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25DF-619E-4EE8-BE07-1447BC301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5CDF-37DC-434E-8604-7040164A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17B4A-5D8C-4E23-8C12-D3A3B98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879D1-9945-436C-93B1-CBFF026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45C5-921A-4D67-AE0B-6D9E23A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C804B-A839-4A81-98B8-CFADFB7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1400" y="136800"/>
            <a:ext cx="47437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F6D22-F1BA-4B5E-86C8-51021D59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20088-11F0-4CDD-8F4B-60E9329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5A3B-29AC-4130-A9C8-FA5EB9259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A0CF-1EC1-458A-A850-ED00951B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D13B4-B079-4306-8182-3A83C78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3813F-889B-4857-BED8-5F3BD9A6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BF17-703B-49E5-AB9B-DAA632B6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24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12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24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294BF-B985-43E0-B1F3-496BA060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063B-AE4C-4068-8DCE-C9C912AF7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6C57-88BF-4FAA-B382-DB3BA6129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2FB3-5C88-4D10-9684-29A526AD0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1400" y="136800"/>
            <a:ext cx="47437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658A-261D-4474-9476-72558F69E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F79E-A03F-44C0-A36D-4F30D6E16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A154-682A-4AB1-A215-10815FF20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185F-5256-46D2-A5F9-790F5CCDF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120" y="6247440"/>
            <a:ext cx="2590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3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8EA-DDBB-4ED9-8064-311D8B62B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43080" y="1119240"/>
            <a:ext cx="854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22A9-9D6B-430E-8E1C-EAE1B1FEAD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A69B-08C3-48E4-B14F-4271B520C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47720" y="136800"/>
            <a:ext cx="40669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est Oper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“interesting” pieces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orners, salien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attention of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up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ossible uses in matching/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alignment &amp; st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A315-E266-4D37-9441-5EDB4EEB91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50960" y="136800"/>
            <a:ext cx="40449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lobal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1480" y="2401920"/>
            <a:ext cx="412452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778280" y="2400480"/>
            <a:ext cx="4125960" cy="309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4320" y="1503360"/>
            <a:ext cx="77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estimation of the fundamental matrix (RANS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64440" y="579924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in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04080" y="579744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 out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05C7-E4B5-487F-94B7-3A4DEF93C1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25120" y="136800"/>
            <a:ext cx="57308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 of the 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results in the presence of occlusion and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nt greyvalu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estimation of the global relation between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view poi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for more general view poi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baseline matching (different viewpoint, scale and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riant descrip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greyvalu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DEB3-2E16-49B1-99C6-1FE870846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ariant Fea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mid &amp; Mohr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owe 1999, Baumberg 2000, Tuytelaars &amp; Van Gool 2000, Mikolajczyk &amp; Schmid 2001, Brown &amp; Lowe 2002, Matas et. al. 2002, Schaffalitzky &amp; Zisserman 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189160" cy="1631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05640" y="4230720"/>
            <a:ext cx="2981160" cy="2386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392640" y="4570560"/>
            <a:ext cx="1590480" cy="1598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392640" y="2590920"/>
            <a:ext cx="1590480" cy="1590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48080" y="3036960"/>
            <a:ext cx="993600" cy="745920"/>
          </a:xfrm>
          <a:prstGeom prst="rightArrow">
            <a:avLst>
              <a:gd name="adj1" fmla="val 50000"/>
              <a:gd name="adj2" fmla="val 333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4809600" y="5025960"/>
            <a:ext cx="995400" cy="744480"/>
          </a:xfrm>
          <a:prstGeom prst="rightArrow">
            <a:avLst>
              <a:gd name="adj1" fmla="val 50000"/>
              <a:gd name="adj2" fmla="val 3342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8A72-3776-4DBE-A17D-4712D0C42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52400" y="424440"/>
            <a:ext cx="22496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8720" y="4346280"/>
            <a:ext cx="78519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Extraction of interest points (characteristic l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Computation of  local descriptors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tational invaria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Determining correspond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Selection of similar im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0880" y="1903320"/>
            <a:ext cx="285444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2013120" y="3204720"/>
            <a:ext cx="196560" cy="196920"/>
            <a:chOff x="2013120" y="3204720"/>
            <a:chExt cx="196560" cy="196920"/>
          </a:xfrm>
        </p:grpSpPr>
        <p:sp>
          <p:nvSpPr>
            <p:cNvPr id="184" name=""/>
            <p:cNvSpPr/>
            <p:nvPr/>
          </p:nvSpPr>
          <p:spPr>
            <a:xfrm flipV="1">
              <a:off x="2108880" y="320472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013120" y="3300120"/>
              <a:ext cx="196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03200" y="3308040"/>
            <a:ext cx="196920" cy="198360"/>
            <a:chOff x="3103200" y="3308040"/>
            <a:chExt cx="196920" cy="198360"/>
          </a:xfrm>
        </p:grpSpPr>
        <p:sp>
          <p:nvSpPr>
            <p:cNvPr id="187" name=""/>
            <p:cNvSpPr/>
            <p:nvPr/>
          </p:nvSpPr>
          <p:spPr>
            <a:xfrm flipV="1">
              <a:off x="3199320" y="330804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103200" y="340416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66880" y="2939760"/>
            <a:ext cx="198720" cy="196920"/>
            <a:chOff x="2666880" y="2939760"/>
            <a:chExt cx="198720" cy="196920"/>
          </a:xfrm>
        </p:grpSpPr>
        <p:sp>
          <p:nvSpPr>
            <p:cNvPr id="190" name=""/>
            <p:cNvSpPr/>
            <p:nvPr/>
          </p:nvSpPr>
          <p:spPr>
            <a:xfrm flipV="1">
              <a:off x="2763720" y="293976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666880" y="3035160"/>
              <a:ext cx="19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22280" y="2660400"/>
            <a:ext cx="198360" cy="198360"/>
            <a:chOff x="2222280" y="2660400"/>
            <a:chExt cx="198360" cy="198360"/>
          </a:xfrm>
        </p:grpSpPr>
        <p:sp>
          <p:nvSpPr>
            <p:cNvPr id="193" name=""/>
            <p:cNvSpPr/>
            <p:nvPr/>
          </p:nvSpPr>
          <p:spPr>
            <a:xfrm flipV="1">
              <a:off x="2319120" y="266040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22280" y="275652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84240" y="3277800"/>
            <a:ext cx="196920" cy="196920"/>
            <a:chOff x="3684240" y="3277800"/>
            <a:chExt cx="196920" cy="196920"/>
          </a:xfrm>
        </p:grpSpPr>
        <p:sp>
          <p:nvSpPr>
            <p:cNvPr id="196" name=""/>
            <p:cNvSpPr/>
            <p:nvPr/>
          </p:nvSpPr>
          <p:spPr>
            <a:xfrm flipV="1">
              <a:off x="3780360" y="327780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684240" y="337320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03160" y="2322000"/>
            <a:ext cx="196920" cy="196920"/>
            <a:chOff x="3503160" y="2322000"/>
            <a:chExt cx="196920" cy="196920"/>
          </a:xfrm>
        </p:grpSpPr>
        <p:sp>
          <p:nvSpPr>
            <p:cNvPr id="199" name=""/>
            <p:cNvSpPr/>
            <p:nvPr/>
          </p:nvSpPr>
          <p:spPr>
            <a:xfrm flipV="1">
              <a:off x="3599280" y="232200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503160" y="241740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20680" y="2703240"/>
            <a:ext cx="196920" cy="198360"/>
            <a:chOff x="3820680" y="2703240"/>
            <a:chExt cx="196920" cy="198360"/>
          </a:xfrm>
        </p:grpSpPr>
        <p:sp>
          <p:nvSpPr>
            <p:cNvPr id="202" name=""/>
            <p:cNvSpPr/>
            <p:nvPr/>
          </p:nvSpPr>
          <p:spPr>
            <a:xfrm flipV="1">
              <a:off x="3916800" y="270324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820680" y="279936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72920" y="3436560"/>
            <a:ext cx="196920" cy="196920"/>
            <a:chOff x="2572920" y="3436560"/>
            <a:chExt cx="196920" cy="196920"/>
          </a:xfrm>
        </p:grpSpPr>
        <p:sp>
          <p:nvSpPr>
            <p:cNvPr id="205" name=""/>
            <p:cNvSpPr/>
            <p:nvPr/>
          </p:nvSpPr>
          <p:spPr>
            <a:xfrm flipV="1">
              <a:off x="2669040" y="343656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572920" y="353196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68280" y="2652840"/>
            <a:ext cx="198360" cy="196560"/>
            <a:chOff x="3068280" y="2652840"/>
            <a:chExt cx="198360" cy="196560"/>
          </a:xfrm>
        </p:grpSpPr>
        <p:sp>
          <p:nvSpPr>
            <p:cNvPr id="208" name=""/>
            <p:cNvSpPr/>
            <p:nvPr/>
          </p:nvSpPr>
          <p:spPr>
            <a:xfrm flipV="1">
              <a:off x="3165120" y="2652840"/>
              <a:ext cx="0" cy="19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68280" y="274788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92880" y="1755720"/>
            <a:ext cx="1697040" cy="1617840"/>
            <a:chOff x="5492880" y="1755720"/>
            <a:chExt cx="1697040" cy="1617840"/>
          </a:xfrm>
        </p:grpSpPr>
        <p:sp>
          <p:nvSpPr>
            <p:cNvPr id="211" name=""/>
            <p:cNvSpPr/>
            <p:nvPr/>
          </p:nvSpPr>
          <p:spPr>
            <a:xfrm>
              <a:off x="5492880" y="1755720"/>
              <a:ext cx="16970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37480" y="241128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480" y="256356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39280" y="271584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9280" y="286848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7480" y="303336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45640" y="3399480"/>
            <a:ext cx="18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descrip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4320" y="13928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poi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3727800">
            <a:off x="871560" y="2416320"/>
            <a:ext cx="1544760" cy="15732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 rot="13551000">
            <a:off x="1224720" y="2154240"/>
            <a:ext cx="1230120" cy="10116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20960" y="2614680"/>
            <a:ext cx="366840" cy="366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49560" y="2306520"/>
            <a:ext cx="1622520" cy="45108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EF71-6DF8-4B9C-9E2F-15C7CBFF27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378160" y="2378160"/>
            <a:ext cx="4390920" cy="2985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0880" y="352584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41840" y="352908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27640" y="332100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8800" y="374652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11640" y="352260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0240" y="154656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idea of auto-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8720" y="5847120"/>
            <a:ext cx="72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difference in all directions =&gt; inter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8D28-2C50-430A-B991-3E5BB4938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760" y="426240"/>
            <a:ext cx="3429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tocorre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468520" y="1616040"/>
            <a:ext cx="4113360" cy="1789200"/>
            <a:chOff x="2468520" y="1616040"/>
            <a:chExt cx="4113360" cy="1789200"/>
          </a:xfrm>
        </p:grpSpPr>
        <p:graphicFrame>
          <p:nvGraphicFramePr>
            <p:cNvPr id="234" name=""/>
            <p:cNvGraphicFramePr/>
            <p:nvPr/>
          </p:nvGraphicFramePr>
          <p:xfrm>
            <a:off x="4486320" y="1616040"/>
            <a:ext cx="2095560" cy="177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86320" y="1616040"/>
                      <a:ext cx="20955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2468520" y="1665360"/>
            <a:ext cx="1752480" cy="17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68520" y="1665360"/>
                      <a:ext cx="17524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2065320" y="3367080"/>
            <a:ext cx="5027760" cy="9586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995720" y="1130400"/>
            <a:ext cx="621000" cy="459720"/>
            <a:chOff x="4995720" y="1130400"/>
            <a:chExt cx="621000" cy="459720"/>
          </a:xfrm>
        </p:grpSpPr>
        <p:sp>
          <p:nvSpPr>
            <p:cNvPr id="240" name=""/>
            <p:cNvSpPr/>
            <p:nvPr/>
          </p:nvSpPr>
          <p:spPr>
            <a:xfrm>
              <a:off x="4995720" y="15588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41520" y="113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679400" y="4324320"/>
            <a:ext cx="5594400" cy="1023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88160" y="5424480"/>
            <a:ext cx="6223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orrelation function (ACF) meas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 simi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D0E8-C66D-425C-8A70-A2BA1AC428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58760" y="426240"/>
            <a:ext cx="3429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tocorre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5440" y="4387680"/>
            <a:ext cx="255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22400" y="1308240"/>
            <a:ext cx="7111440" cy="1377360"/>
            <a:chOff x="1022400" y="1308240"/>
            <a:chExt cx="7111440" cy="1377360"/>
          </a:xfrm>
        </p:grpSpPr>
        <p:grpSp>
          <p:nvGrpSpPr>
            <p:cNvPr id="247" name=""/>
            <p:cNvGrpSpPr/>
            <p:nvPr/>
          </p:nvGrpSpPr>
          <p:grpSpPr>
            <a:xfrm>
              <a:off x="1022400" y="1308240"/>
              <a:ext cx="7111440" cy="1377360"/>
              <a:chOff x="1022400" y="1308240"/>
              <a:chExt cx="7111440" cy="1377360"/>
            </a:xfrm>
          </p:grpSpPr>
          <p:graphicFrame>
            <p:nvGraphicFramePr>
              <p:cNvPr id="248" name=""/>
              <p:cNvGraphicFramePr/>
              <p:nvPr/>
            </p:nvGraphicFramePr>
            <p:xfrm>
              <a:off x="1022400" y="1409040"/>
              <a:ext cx="1741680" cy="1182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22400" y="1409040"/>
                        <a:ext cx="1741680" cy="118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"/>
              <p:cNvGraphicFramePr/>
              <p:nvPr/>
            </p:nvGraphicFramePr>
            <p:xfrm>
              <a:off x="5028120" y="1380240"/>
              <a:ext cx="1465920" cy="1244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028120" y="1380240"/>
                        <a:ext cx="1465920" cy="124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"/>
              <p:cNvGraphicFramePr/>
              <p:nvPr/>
            </p:nvGraphicFramePr>
            <p:xfrm>
              <a:off x="6365520" y="1389240"/>
              <a:ext cx="1768320" cy="1296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65520" y="1389240"/>
                        <a:ext cx="1768320" cy="129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"/>
              <p:cNvGraphicFramePr/>
              <p:nvPr/>
            </p:nvGraphicFramePr>
            <p:xfrm>
              <a:off x="3943800" y="1409040"/>
              <a:ext cx="1226160" cy="121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943800" y="1409040"/>
                        <a:ext cx="1226160" cy="121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2656440" y="1308240"/>
              <a:ext cx="1421640" cy="1360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656440" y="1308240"/>
                        <a:ext cx="1421640" cy="136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58" name=""/>
            <p:cNvSpPr/>
            <p:nvPr/>
          </p:nvSpPr>
          <p:spPr>
            <a:xfrm>
              <a:off x="2663280" y="212832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1760" y="2136240"/>
              <a:ext cx="9144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8560" y="213084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74880" y="213084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7640" y="212256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744560" y="2649600"/>
            <a:ext cx="5879520" cy="1059480"/>
            <a:chOff x="1744560" y="2649600"/>
            <a:chExt cx="5879520" cy="1059480"/>
          </a:xfrm>
        </p:grpSpPr>
        <p:graphicFrame>
          <p:nvGraphicFramePr>
            <p:cNvPr id="264" name=""/>
            <p:cNvGraphicFramePr/>
            <p:nvPr/>
          </p:nvGraphicFramePr>
          <p:xfrm>
            <a:off x="1780200" y="2649600"/>
            <a:ext cx="5220360" cy="1040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0200" y="2649600"/>
                      <a:ext cx="5220360" cy="10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1744560" y="3430440"/>
              <a:ext cx="554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6400" y="3188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3"/>
            <a:stretch/>
          </p:blipFill>
          <p:spPr>
            <a:xfrm>
              <a:off x="4705920" y="2713320"/>
              <a:ext cx="1230840" cy="4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1768320" y="3641760"/>
            <a:ext cx="5833440" cy="1653480"/>
            <a:chOff x="1768320" y="3641760"/>
            <a:chExt cx="5833440" cy="1653480"/>
          </a:xfrm>
        </p:grpSpPr>
        <p:graphicFrame>
          <p:nvGraphicFramePr>
            <p:cNvPr id="270" name=""/>
            <p:cNvGraphicFramePr/>
            <p:nvPr/>
          </p:nvGraphicFramePr>
          <p:xfrm>
            <a:off x="1863720" y="3641760"/>
            <a:ext cx="5117040" cy="1486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63720" y="3641760"/>
                      <a:ext cx="5117040" cy="148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1768320" y="5031000"/>
              <a:ext cx="54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64080" y="47746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16"/>
            <a:stretch/>
          </p:blipFill>
          <p:spPr>
            <a:xfrm>
              <a:off x="4771440" y="4367160"/>
              <a:ext cx="1126080" cy="37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5559480" y="1492200"/>
            <a:ext cx="48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2200" y="10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311800"/>
            <a:ext cx="84024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orrelation related to sum-squar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16080" y="63072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∫f(x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7"/>
          <a:stretch/>
        </p:blipFill>
        <p:spPr>
          <a:xfrm>
            <a:off x="2957400" y="5856120"/>
            <a:ext cx="2587680" cy="4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46E4-A80F-42B5-8F07-398E6E9EB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3880" y="136800"/>
            <a:ext cx="84391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: Moravec Corner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30320" y="1521000"/>
            <a:ext cx="2438280" cy="1657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635120" y="2050920"/>
            <a:ext cx="442800" cy="3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57840" y="1327320"/>
            <a:ext cx="4801320" cy="41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window w in th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it in four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0), (0,1), (1,1), (-1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difference for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min differenc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ix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maxima in the min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co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1240" y="5829480"/>
            <a:ext cx="60145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(x,y) 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∑ w(u,v) |I(x+u,y+v) – I(u,v)|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,v in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3DB9-FBF5-4265-8373-6839F172F7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5920" y="136800"/>
            <a:ext cx="76863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rtcomings of Moravec Opera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ries 4 shifts. We’d like to consider “all” sh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discrete rectangular window. We’d like to use a smooth circular (or later elliptical)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simple min function. We’d like to characterize variation with respect to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7120" y="494352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ult: Harris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E917-86CD-43C7-90D4-79861CFAE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974960" y="2436840"/>
                <a:ext cx="5481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W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y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139760" y="4275000"/>
                <a:ext cx="72741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Δx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Δy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965240" y="5156280"/>
                <a:ext cx="56325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W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sSub>
                                            <m:e>
                                              <m:r>
                                                <m:t xml:space="preserve">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,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  <m:e>
                                          <m:sSub>
                                            <m:e>
                                              <m:r>
                                                <m:t xml:space="preserve">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,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Δx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Δy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480240" y="165780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-correlation fn (SSD) for a point          and a shif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05480" y="1725480"/>
                <a:ext cx="7016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785000" y="1712880"/>
                <a:ext cx="1011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Δ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73600" y="3497760"/>
            <a:ext cx="85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rete shifts can be avoided with the auto-correlation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9600" y="39830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970600" y="2581920"/>
            <a:ext cx="114480" cy="3630600"/>
          </a:xfrm>
          <a:custGeom>
            <a:avLst/>
            <a:gdLst>
              <a:gd name="textAreaLeft" fmla="*/ 73080 w 114480"/>
              <a:gd name="textAreaRight" fmla="*/ 114840 w 114480"/>
              <a:gd name="textAreaTop" fmla="*/ 94680 h 3630600"/>
              <a:gd name="textAreaBottom" fmla="*/ 3535920 h 363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53A5-A552-47D7-864B-3CE96599C6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426240"/>
            <a:ext cx="32558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est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06640" y="1587600"/>
            <a:ext cx="6293880" cy="3465360"/>
            <a:chOff x="2006640" y="1587600"/>
            <a:chExt cx="6293880" cy="3465360"/>
          </a:xfrm>
        </p:grpSpPr>
        <p:grpSp>
          <p:nvGrpSpPr>
            <p:cNvPr id="85" name=""/>
            <p:cNvGrpSpPr/>
            <p:nvPr/>
          </p:nvGrpSpPr>
          <p:grpSpPr>
            <a:xfrm>
              <a:off x="3244680" y="1706760"/>
              <a:ext cx="5034600" cy="803520"/>
              <a:chOff x="3244680" y="1706760"/>
              <a:chExt cx="5034600" cy="803520"/>
            </a:xfrm>
          </p:grpSpPr>
          <p:sp>
            <p:nvSpPr>
              <p:cNvPr id="86" name=""/>
              <p:cNvSpPr/>
              <p:nvPr/>
            </p:nvSpPr>
            <p:spPr>
              <a:xfrm>
                <a:off x="3244680" y="1706760"/>
                <a:ext cx="455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96480" y="2111400"/>
                <a:ext cx="458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useful for matc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57000" y="2217960"/>
                <a:ext cx="291600" cy="212760"/>
              </a:xfrm>
              <a:prstGeom prst="rightArrow">
                <a:avLst>
                  <a:gd name="adj1" fmla="val 50000"/>
                  <a:gd name="adj2" fmla="val 3426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006640" y="1587600"/>
              <a:ext cx="1041120" cy="3465360"/>
              <a:chOff x="2006640" y="1587600"/>
              <a:chExt cx="1041120" cy="34653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006640" y="4011840"/>
                <a:ext cx="1041120" cy="1041120"/>
                <a:chOff x="2006640" y="4011840"/>
                <a:chExt cx="1041120" cy="104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006640" y="4011840"/>
                  <a:ext cx="1041120" cy="1041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61720" y="4068720"/>
                  <a:ext cx="92376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3" name=""/>
              <p:cNvGrpSpPr/>
              <p:nvPr/>
            </p:nvGrpSpPr>
            <p:grpSpPr>
              <a:xfrm>
                <a:off x="2006640" y="1587600"/>
                <a:ext cx="1041120" cy="1041480"/>
                <a:chOff x="2006640" y="1587600"/>
                <a:chExt cx="1041120" cy="1041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006640" y="1587600"/>
                  <a:ext cx="1041120" cy="1041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66400" y="1644840"/>
                  <a:ext cx="923760" cy="92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6" name=""/>
              <p:cNvGrpSpPr/>
              <p:nvPr/>
            </p:nvGrpSpPr>
            <p:grpSpPr>
              <a:xfrm>
                <a:off x="2006640" y="2806920"/>
                <a:ext cx="1041120" cy="1041120"/>
                <a:chOff x="2006640" y="2806920"/>
                <a:chExt cx="1041120" cy="1041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06640" y="2806920"/>
                  <a:ext cx="1041120" cy="1041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68560" y="2862360"/>
                  <a:ext cx="92376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9" name=""/>
            <p:cNvGrpSpPr/>
            <p:nvPr/>
          </p:nvGrpSpPr>
          <p:grpSpPr>
            <a:xfrm>
              <a:off x="3233520" y="2667240"/>
              <a:ext cx="4554000" cy="1108440"/>
              <a:chOff x="3233520" y="2667240"/>
              <a:chExt cx="4554000" cy="1108440"/>
            </a:xfrm>
          </p:grpSpPr>
          <p:sp>
            <p:nvSpPr>
              <p:cNvPr id="100" name=""/>
              <p:cNvSpPr/>
              <p:nvPr/>
            </p:nvSpPr>
            <p:spPr>
              <a:xfrm>
                <a:off x="3233520" y="2667240"/>
                <a:ext cx="455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85680" y="3071880"/>
                <a:ext cx="380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dge, can be localised in 1D, subject to the aperture probl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45840" y="3178080"/>
                <a:ext cx="291600" cy="212760"/>
              </a:xfrm>
              <a:prstGeom prst="rightArrow">
                <a:avLst>
                  <a:gd name="adj1" fmla="val 50000"/>
                  <a:gd name="adj2" fmla="val 3426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265200" y="3818160"/>
              <a:ext cx="5035320" cy="1108440"/>
              <a:chOff x="3265200" y="3818160"/>
              <a:chExt cx="5035320" cy="1108440"/>
            </a:xfrm>
          </p:grpSpPr>
          <p:sp>
            <p:nvSpPr>
              <p:cNvPr id="104" name=""/>
              <p:cNvSpPr/>
              <p:nvPr/>
            </p:nvSpPr>
            <p:spPr>
              <a:xfrm>
                <a:off x="3265200" y="3818160"/>
                <a:ext cx="455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17360" y="4222800"/>
                <a:ext cx="4583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ner, o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terest poin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 can be localised in 2D, good for matc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77880" y="4329360"/>
                <a:ext cx="291960" cy="212760"/>
              </a:xfrm>
              <a:prstGeom prst="rightArrow">
                <a:avLst>
                  <a:gd name="adj1" fmla="val 50000"/>
                  <a:gd name="adj2" fmla="val 3430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177840" y="5418000"/>
            <a:ext cx="86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ure. Edge Detectors e.g. Can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anny86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, b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14EB-3653-469C-8FB6-187B5EA9A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9360" y="162288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write as inner (dot)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5000" y="39931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enter portion is a 2x2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62040" y="2111400"/>
            <a:ext cx="8064360" cy="17604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044800" y="4654440"/>
            <a:ext cx="4437000" cy="17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00CC-7ABC-4400-9BE5-92DBD7458A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89040" y="2030400"/>
                <a:ext cx="81230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Δx</m:t>
                              </m:r>
                            </m:e>
                            <m:e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Δx</m:t>
                              </m:r>
                            </m:e>
                          </m:mr>
                          <m:mr>
                            <m:e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274840" y="618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40000" y="617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3120" y="374544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-correlation matrix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2742-1EE1-4673-80EE-7A92DA1051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60480" y="426240"/>
            <a:ext cx="3638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correla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s the structure of the local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based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strong eigenvalues  =&gt;  interes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strong eigenvalue    =&gt; 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 eigenvalue               =&gt;  uniform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poi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n the eigen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aximum for 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6CD4-AFDC-4512-A8D2-0A6AFF3747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90480" y="136800"/>
            <a:ext cx="7796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Details from the Harris Pap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120" y="1523880"/>
            <a:ext cx="8402760" cy="32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 strength R = Det(M) – k Tr(M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the two eigen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(M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(M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positive for corners, - for edges, and small for flat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orner pixels that are 8-way loc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47600" y="4765680"/>
            <a:ext cx="6854760" cy="1337760"/>
            <a:chOff x="1047600" y="4765680"/>
            <a:chExt cx="6854760" cy="133776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1047600" y="4900320"/>
              <a:ext cx="26416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3789360" y="4765680"/>
              <a:ext cx="411300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4010040" y="5327280"/>
              <a:ext cx="310824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C33C-39E3-4E38-A6FE-7EA2011B3F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7920" y="134640"/>
            <a:ext cx="662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termining corresponde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0160" y="473436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comparison using a distance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424160" y="1652760"/>
            <a:ext cx="6293880" cy="1550880"/>
            <a:chOff x="1424160" y="1652760"/>
            <a:chExt cx="6293880" cy="1550880"/>
          </a:xfrm>
        </p:grpSpPr>
        <p:grpSp>
          <p:nvGrpSpPr>
            <p:cNvPr id="320" name=""/>
            <p:cNvGrpSpPr/>
            <p:nvPr/>
          </p:nvGrpSpPr>
          <p:grpSpPr>
            <a:xfrm>
              <a:off x="1424160" y="1652760"/>
              <a:ext cx="2279160" cy="1550880"/>
              <a:chOff x="1424160" y="1652760"/>
              <a:chExt cx="2279160" cy="155088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4160" y="1652760"/>
                <a:ext cx="2279160" cy="155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2" name=""/>
              <p:cNvGrpSpPr/>
              <p:nvPr/>
            </p:nvGrpSpPr>
            <p:grpSpPr>
              <a:xfrm>
                <a:off x="1606680" y="2736720"/>
                <a:ext cx="156960" cy="156960"/>
                <a:chOff x="1606680" y="2736720"/>
                <a:chExt cx="156960" cy="15696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1683000" y="273672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1606680" y="281232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477520" y="2819160"/>
                <a:ext cx="156960" cy="158400"/>
                <a:chOff x="2477520" y="2819160"/>
                <a:chExt cx="156960" cy="15840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2553840" y="281916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2477520" y="289548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129040" y="2524680"/>
                <a:ext cx="158400" cy="156960"/>
                <a:chOff x="2129040" y="2524680"/>
                <a:chExt cx="158400" cy="156960"/>
              </a:xfrm>
            </p:grpSpPr>
            <p:sp>
              <p:nvSpPr>
                <p:cNvPr id="329" name=""/>
                <p:cNvSpPr/>
                <p:nvPr/>
              </p:nvSpPr>
              <p:spPr>
                <a:xfrm flipV="1">
                  <a:off x="2206080" y="252468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2129040" y="2600280"/>
                  <a:ext cx="158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773720" y="2301840"/>
                <a:ext cx="158400" cy="158400"/>
                <a:chOff x="1773720" y="2301840"/>
                <a:chExt cx="158400" cy="158400"/>
              </a:xfrm>
            </p:grpSpPr>
            <p:sp>
              <p:nvSpPr>
                <p:cNvPr id="332" name=""/>
                <p:cNvSpPr/>
                <p:nvPr/>
              </p:nvSpPr>
              <p:spPr>
                <a:xfrm flipV="1">
                  <a:off x="1850760" y="23018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1773720" y="2378160"/>
                  <a:ext cx="158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941200" y="2795040"/>
                <a:ext cx="156960" cy="156960"/>
                <a:chOff x="2941200" y="2795040"/>
                <a:chExt cx="156960" cy="15696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3017520" y="279504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941200" y="287064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2796840" y="2031480"/>
                <a:ext cx="156960" cy="156960"/>
                <a:chOff x="2796840" y="2031480"/>
                <a:chExt cx="156960" cy="15696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2873160" y="203148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2796840" y="210708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050280" y="2336040"/>
                <a:ext cx="156960" cy="158400"/>
                <a:chOff x="3050280" y="2336040"/>
                <a:chExt cx="156960" cy="15840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3126600" y="23360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3050280" y="241236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053800" y="2922120"/>
                <a:ext cx="156960" cy="156960"/>
                <a:chOff x="2053800" y="2922120"/>
                <a:chExt cx="156960" cy="156960"/>
              </a:xfrm>
            </p:grpSpPr>
            <p:sp>
              <p:nvSpPr>
                <p:cNvPr id="344" name=""/>
                <p:cNvSpPr/>
                <p:nvPr/>
              </p:nvSpPr>
              <p:spPr>
                <a:xfrm flipV="1">
                  <a:off x="2130120" y="292212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053800" y="299772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449440" y="2295360"/>
                <a:ext cx="158400" cy="156960"/>
                <a:chOff x="2449440" y="2295360"/>
                <a:chExt cx="158400" cy="1569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2526480" y="229536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2449440" y="2370960"/>
                  <a:ext cx="158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5437080" y="1655640"/>
              <a:ext cx="2280960" cy="1548000"/>
              <a:chOff x="5437080" y="1655640"/>
              <a:chExt cx="2280960" cy="1548000"/>
            </a:xfrm>
          </p:grpSpPr>
          <p:pic>
            <p:nvPicPr>
              <p:cNvPr id="3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37080" y="1655640"/>
                <a:ext cx="2280960" cy="154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1" name=""/>
              <p:cNvGrpSpPr/>
              <p:nvPr/>
            </p:nvGrpSpPr>
            <p:grpSpPr>
              <a:xfrm>
                <a:off x="6208560" y="2102040"/>
                <a:ext cx="156960" cy="158400"/>
                <a:chOff x="6208560" y="2102040"/>
                <a:chExt cx="156960" cy="158400"/>
              </a:xfrm>
            </p:grpSpPr>
            <p:sp>
              <p:nvSpPr>
                <p:cNvPr id="352" name=""/>
                <p:cNvSpPr/>
                <p:nvPr/>
              </p:nvSpPr>
              <p:spPr>
                <a:xfrm flipV="1">
                  <a:off x="6284880" y="21020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6208560" y="217836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553080" y="1910520"/>
                <a:ext cx="157320" cy="158400"/>
                <a:chOff x="6553080" y="1910520"/>
                <a:chExt cx="157320" cy="15840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6630120" y="191052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6553080" y="198684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976800" y="2156760"/>
                <a:ext cx="157320" cy="158400"/>
                <a:chOff x="6976800" y="2156760"/>
                <a:chExt cx="157320" cy="15840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7053840" y="215676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6976800" y="223308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379200" y="2508840"/>
                <a:ext cx="157320" cy="158760"/>
                <a:chOff x="6379200" y="2508840"/>
                <a:chExt cx="157320" cy="15876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6456240" y="2508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6379200" y="258588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63160" y="2799360"/>
                <a:ext cx="157320" cy="158760"/>
                <a:chOff x="6563160" y="2799360"/>
                <a:chExt cx="157320" cy="15876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6640200" y="2799360"/>
                  <a:ext cx="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6563160" y="287640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871320" y="3001320"/>
                <a:ext cx="157320" cy="158760"/>
                <a:chOff x="6871320" y="3001320"/>
                <a:chExt cx="157320" cy="15876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6948360" y="3001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871320" y="307836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909480" y="2631240"/>
                <a:ext cx="157320" cy="158400"/>
                <a:chOff x="6909480" y="2631240"/>
                <a:chExt cx="157320" cy="158400"/>
              </a:xfrm>
            </p:grpSpPr>
            <p:sp>
              <p:nvSpPr>
                <p:cNvPr id="370" name=""/>
                <p:cNvSpPr/>
                <p:nvPr/>
              </p:nvSpPr>
              <p:spPr>
                <a:xfrm flipV="1">
                  <a:off x="6986520" y="26312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6909480" y="270756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2" name=""/>
          <p:cNvSpPr/>
          <p:nvPr/>
        </p:nvSpPr>
        <p:spPr>
          <a:xfrm>
            <a:off x="4349880" y="2428920"/>
            <a:ext cx="49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30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700640" y="3449160"/>
            <a:ext cx="738360" cy="825120"/>
            <a:chOff x="1700640" y="3449160"/>
            <a:chExt cx="738360" cy="825120"/>
          </a:xfrm>
        </p:grpSpPr>
        <p:sp>
          <p:nvSpPr>
            <p:cNvPr id="375" name=""/>
            <p:cNvSpPr/>
            <p:nvPr/>
          </p:nvSpPr>
          <p:spPr>
            <a:xfrm>
              <a:off x="1952640" y="376704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52640" y="384336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54080" y="3919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4080" y="3995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52640" y="40780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00640" y="3449160"/>
              <a:ext cx="73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310800" y="3449160"/>
            <a:ext cx="738360" cy="825120"/>
            <a:chOff x="6310800" y="3449160"/>
            <a:chExt cx="738360" cy="825120"/>
          </a:xfrm>
        </p:grpSpPr>
        <p:sp>
          <p:nvSpPr>
            <p:cNvPr id="382" name=""/>
            <p:cNvSpPr/>
            <p:nvPr/>
          </p:nvSpPr>
          <p:spPr>
            <a:xfrm>
              <a:off x="6562800" y="376704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62800" y="384336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64240" y="3919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64240" y="3995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62800" y="40780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0800" y="3449160"/>
              <a:ext cx="73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128680" y="2992320"/>
            <a:ext cx="168480" cy="571680"/>
          </a:xfrm>
          <a:custGeom>
            <a:avLst/>
            <a:gdLst/>
            <a:ahLst/>
            <a:rect l="l" t="t" r="r" b="b"/>
            <a:pathLst>
              <a:path w="106" h="360">
                <a:moveTo>
                  <a:pt x="0" y="0"/>
                </a:moveTo>
                <a:cubicBezTo>
                  <a:pt x="53" y="65"/>
                  <a:pt x="106" y="130"/>
                  <a:pt x="106" y="190"/>
                </a:cubicBezTo>
                <a:cubicBezTo>
                  <a:pt x="106" y="250"/>
                  <a:pt x="18" y="332"/>
                  <a:pt x="0" y="3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51600" y="3065400"/>
            <a:ext cx="168480" cy="571680"/>
          </a:xfrm>
          <a:custGeom>
            <a:avLst/>
            <a:gdLst/>
            <a:ahLst/>
            <a:rect l="l" t="t" r="r" b="b"/>
            <a:pathLst>
              <a:path w="106" h="360">
                <a:moveTo>
                  <a:pt x="0" y="0"/>
                </a:moveTo>
                <a:cubicBezTo>
                  <a:pt x="53" y="65"/>
                  <a:pt x="106" y="130"/>
                  <a:pt x="106" y="190"/>
                </a:cubicBezTo>
                <a:cubicBezTo>
                  <a:pt x="106" y="250"/>
                  <a:pt x="18" y="332"/>
                  <a:pt x="0" y="3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18200" y="355320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34459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07680" y="54212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What are some suitable distance meas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06B3-F40D-4DF0-B75B-8FFB2762C5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23880" y="136800"/>
            <a:ext cx="4313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tance Meas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the sum-square difference of the values of the pixels in a square neighborhood about the points being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3160" y="3465360"/>
            <a:ext cx="1395360" cy="12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6120" y="3465360"/>
            <a:ext cx="1395360" cy="12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0960" y="3970440"/>
            <a:ext cx="263520" cy="26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57680" y="3994200"/>
            <a:ext cx="263520" cy="26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67480" y="5433840"/>
            <a:ext cx="45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D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∑(W1(i,j) –(W2(i,j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99680" y="29782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8880" y="29541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BD1D-B4ED-44AC-BF1B-EDC49AB5CB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676680" cy="26607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676680" cy="26607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43280" y="426240"/>
            <a:ext cx="52783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Matching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838080" y="3921120"/>
            <a:ext cx="3675240" cy="266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4643280" y="3921120"/>
            <a:ext cx="367524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2639-F1E0-4F40-8327-BDE34EF41B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676680" cy="2660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676680" cy="26607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3280" y="426240"/>
            <a:ext cx="52783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Matching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1738440" y="3922560"/>
            <a:ext cx="5691240" cy="284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4191120" y="3200400"/>
            <a:ext cx="739800" cy="1090440"/>
          </a:xfrm>
          <a:prstGeom prst="downArrow">
            <a:avLst>
              <a:gd name="adj1" fmla="val 50000"/>
              <a:gd name="adj2" fmla="val 3684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3F74-FE2E-4EA1-B22B-5A40BBF9ACC7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25120" y="136800"/>
            <a:ext cx="57308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 of the 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eature matching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s Corners &amp;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results in the presence of occlusion and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nt greyvalu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ce to image rotation and illu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variance to scale and aff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for more general view poi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variant descriptors to scale and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of invariant points an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C982-3343-4C08-B7A2-9C71E32F27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04E8-EAB1-4139-BB3B-4078FF3379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-123480"/>
            <a:ext cx="844092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cal invariant photometric descriptor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0880" y="2489040"/>
            <a:ext cx="2854440" cy="19418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013120" y="3790440"/>
            <a:ext cx="196560" cy="196920"/>
            <a:chOff x="2013120" y="3790440"/>
            <a:chExt cx="196560" cy="196920"/>
          </a:xfrm>
        </p:grpSpPr>
        <p:sp>
          <p:nvSpPr>
            <p:cNvPr id="111" name=""/>
            <p:cNvSpPr/>
            <p:nvPr/>
          </p:nvSpPr>
          <p:spPr>
            <a:xfrm flipV="1">
              <a:off x="2108880" y="379044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13120" y="3885840"/>
              <a:ext cx="196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103200" y="3893760"/>
            <a:ext cx="196920" cy="198360"/>
            <a:chOff x="3103200" y="3893760"/>
            <a:chExt cx="196920" cy="198360"/>
          </a:xfrm>
        </p:grpSpPr>
        <p:sp>
          <p:nvSpPr>
            <p:cNvPr id="114" name=""/>
            <p:cNvSpPr/>
            <p:nvPr/>
          </p:nvSpPr>
          <p:spPr>
            <a:xfrm flipV="1">
              <a:off x="3199320" y="389376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03200" y="39898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3525480"/>
            <a:ext cx="198720" cy="196920"/>
            <a:chOff x="2666880" y="3525480"/>
            <a:chExt cx="198720" cy="196920"/>
          </a:xfrm>
        </p:grpSpPr>
        <p:sp>
          <p:nvSpPr>
            <p:cNvPr id="117" name=""/>
            <p:cNvSpPr/>
            <p:nvPr/>
          </p:nvSpPr>
          <p:spPr>
            <a:xfrm flipV="1">
              <a:off x="2763720" y="352548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666880" y="3620880"/>
              <a:ext cx="19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22280" y="3246120"/>
            <a:ext cx="198360" cy="198360"/>
            <a:chOff x="2222280" y="3246120"/>
            <a:chExt cx="198360" cy="198360"/>
          </a:xfrm>
        </p:grpSpPr>
        <p:sp>
          <p:nvSpPr>
            <p:cNvPr id="120" name=""/>
            <p:cNvSpPr/>
            <p:nvPr/>
          </p:nvSpPr>
          <p:spPr>
            <a:xfrm flipV="1">
              <a:off x="2319120" y="324612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22280" y="334224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84240" y="3863520"/>
            <a:ext cx="196920" cy="196920"/>
            <a:chOff x="3684240" y="3863520"/>
            <a:chExt cx="196920" cy="196920"/>
          </a:xfrm>
        </p:grpSpPr>
        <p:sp>
          <p:nvSpPr>
            <p:cNvPr id="123" name=""/>
            <p:cNvSpPr/>
            <p:nvPr/>
          </p:nvSpPr>
          <p:spPr>
            <a:xfrm flipV="1">
              <a:off x="3780360" y="386352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684240" y="395892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503160" y="2908440"/>
            <a:ext cx="196920" cy="196560"/>
            <a:chOff x="3503160" y="2908440"/>
            <a:chExt cx="196920" cy="196560"/>
          </a:xfrm>
        </p:grpSpPr>
        <p:sp>
          <p:nvSpPr>
            <p:cNvPr id="126" name=""/>
            <p:cNvSpPr/>
            <p:nvPr/>
          </p:nvSpPr>
          <p:spPr>
            <a:xfrm flipV="1">
              <a:off x="3599280" y="2908440"/>
              <a:ext cx="0" cy="19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503160" y="30034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20680" y="3288960"/>
            <a:ext cx="196920" cy="198360"/>
            <a:chOff x="3820680" y="3288960"/>
            <a:chExt cx="196920" cy="198360"/>
          </a:xfrm>
        </p:grpSpPr>
        <p:sp>
          <p:nvSpPr>
            <p:cNvPr id="129" name=""/>
            <p:cNvSpPr/>
            <p:nvPr/>
          </p:nvSpPr>
          <p:spPr>
            <a:xfrm flipV="1">
              <a:off x="3916800" y="328896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20680" y="33850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72920" y="4022280"/>
            <a:ext cx="196920" cy="196920"/>
            <a:chOff x="2572920" y="4022280"/>
            <a:chExt cx="196920" cy="196920"/>
          </a:xfrm>
        </p:grpSpPr>
        <p:sp>
          <p:nvSpPr>
            <p:cNvPr id="132" name=""/>
            <p:cNvSpPr/>
            <p:nvPr/>
          </p:nvSpPr>
          <p:spPr>
            <a:xfrm flipV="1">
              <a:off x="2669040" y="402228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572920" y="41176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68280" y="3238200"/>
            <a:ext cx="198360" cy="196920"/>
            <a:chOff x="3068280" y="3238200"/>
            <a:chExt cx="198360" cy="196920"/>
          </a:xfrm>
        </p:grpSpPr>
        <p:sp>
          <p:nvSpPr>
            <p:cNvPr id="135" name=""/>
            <p:cNvSpPr/>
            <p:nvPr/>
          </p:nvSpPr>
          <p:spPr>
            <a:xfrm flipV="1">
              <a:off x="3165120" y="323820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68280" y="333360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2880" y="2341440"/>
            <a:ext cx="1697040" cy="1617840"/>
            <a:chOff x="5492880" y="2341440"/>
            <a:chExt cx="1697040" cy="1617840"/>
          </a:xfrm>
        </p:grpSpPr>
        <p:sp>
          <p:nvSpPr>
            <p:cNvPr id="138" name=""/>
            <p:cNvSpPr/>
            <p:nvPr/>
          </p:nvSpPr>
          <p:spPr>
            <a:xfrm>
              <a:off x="5492880" y="2341440"/>
              <a:ext cx="16970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37480" y="299700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37480" y="314928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9280" y="330156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39280" y="345420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480" y="361908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78360" y="2720880"/>
            <a:ext cx="1622520" cy="45108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4360" y="3985200"/>
            <a:ext cx="19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ocal descriptor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18080" y="3201840"/>
            <a:ext cx="396720" cy="3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20" y="5037120"/>
            <a:ext cx="8477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obust to occlusion/clutter  + no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oto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(use pixel values) distinctive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image transformations + illuminatio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D2D9-4F8F-46F7-9FC3-96002806E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432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435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438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441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F74D-1AA9-4052-A8FF-F28E21DA69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455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458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461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464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4259-D9AF-4582-92F3-439DD1DE23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478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481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484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487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3E70-DFCF-4821-AE4F-312172EABA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01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04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07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10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2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B926-0E6C-47A0-A500-4992E967E5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24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27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30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33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5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693C-0295-4F57-B404-E36FE9CB0F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51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54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57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60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2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3E11-84C0-4E49-91C0-B336F58961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72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78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81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84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87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A732-4790-4B02-8E6C-810686067C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605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608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611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614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6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F18F-247B-4453-ACDE-C9A05796E7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ariant Fea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632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635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638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641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211640" y="3932280"/>
            <a:ext cx="669960" cy="5587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150920" y="1916280"/>
            <a:ext cx="2973240" cy="198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1120" y="1909800"/>
            <a:ext cx="747720" cy="1879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716000" y="1920960"/>
            <a:ext cx="1117800" cy="1868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970160" y="1746360"/>
            <a:ext cx="3004920" cy="214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8360" y="458100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mage descriptors that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vari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changed) under image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8EAD-CED7-4941-B710-10E855648C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onical Fra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476360" y="180828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3924360" y="4292640"/>
            <a:ext cx="1439640" cy="14349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3419640" y="5877000"/>
            <a:ext cx="2687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5076000" y="3717720"/>
            <a:ext cx="1967760" cy="1294920"/>
            <a:chOff x="5076000" y="3717720"/>
            <a:chExt cx="1967760" cy="1294920"/>
          </a:xfrm>
        </p:grpSpPr>
        <p:sp>
          <p:nvSpPr>
            <p:cNvPr id="654" name=""/>
            <p:cNvSpPr/>
            <p:nvPr/>
          </p:nvSpPr>
          <p:spPr>
            <a:xfrm flipV="1">
              <a:off x="5076000" y="3717360"/>
              <a:ext cx="115128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4"/>
            <a:stretch/>
          </p:blipFill>
          <p:spPr>
            <a:xfrm>
              <a:off x="6372360" y="4508640"/>
              <a:ext cx="67140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"/>
          <p:cNvGrpSpPr/>
          <p:nvPr/>
        </p:nvGrpSpPr>
        <p:grpSpPr>
          <a:xfrm>
            <a:off x="3467160" y="2251080"/>
            <a:ext cx="291960" cy="198360"/>
            <a:chOff x="3467160" y="2251080"/>
            <a:chExt cx="291960" cy="198360"/>
          </a:xfrm>
        </p:grpSpPr>
        <p:sp>
          <p:nvSpPr>
            <p:cNvPr id="657" name=""/>
            <p:cNvSpPr/>
            <p:nvPr/>
          </p:nvSpPr>
          <p:spPr>
            <a:xfrm>
              <a:off x="3467160" y="2376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5"/>
            <a:stretch/>
          </p:blipFill>
          <p:spPr>
            <a:xfrm>
              <a:off x="3576600" y="2251080"/>
              <a:ext cx="18252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"/>
          <p:cNvGrpSpPr/>
          <p:nvPr/>
        </p:nvGrpSpPr>
        <p:grpSpPr>
          <a:xfrm>
            <a:off x="5257800" y="4195800"/>
            <a:ext cx="773280" cy="290520"/>
            <a:chOff x="5257800" y="4195800"/>
            <a:chExt cx="773280" cy="290520"/>
          </a:xfrm>
        </p:grpSpPr>
        <p:sp>
          <p:nvSpPr>
            <p:cNvPr id="660" name=""/>
            <p:cNvSpPr/>
            <p:nvPr/>
          </p:nvSpPr>
          <p:spPr>
            <a:xfrm>
              <a:off x="5257800" y="426096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5435640" y="4195800"/>
              <a:ext cx="5954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"/>
          <p:cNvGrpSpPr/>
          <p:nvPr/>
        </p:nvGrpSpPr>
        <p:grpSpPr>
          <a:xfrm>
            <a:off x="2268360" y="3718440"/>
            <a:ext cx="2018880" cy="1294560"/>
            <a:chOff x="2268360" y="3718440"/>
            <a:chExt cx="2018880" cy="1294560"/>
          </a:xfrm>
        </p:grpSpPr>
        <p:sp>
          <p:nvSpPr>
            <p:cNvPr id="663" name=""/>
            <p:cNvSpPr/>
            <p:nvPr/>
          </p:nvSpPr>
          <p:spPr>
            <a:xfrm flipH="1" rot="16200000">
              <a:off x="3061440" y="3787560"/>
              <a:ext cx="1294560" cy="11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116" swAng="5400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116" swAng="5400116"/>
                </a:path>
              </a:pathLst>
            </a:cu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7"/>
            <a:stretch/>
          </p:blipFill>
          <p:spPr>
            <a:xfrm>
              <a:off x="2268360" y="4508640"/>
              <a:ext cx="67176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3723840" y="1268280"/>
            <a:ext cx="1725480" cy="1750320"/>
            <a:chOff x="3723840" y="1268280"/>
            <a:chExt cx="1725480" cy="1750320"/>
          </a:xfrm>
        </p:grpSpPr>
        <p:sp>
          <p:nvSpPr>
            <p:cNvPr id="666" name=""/>
            <p:cNvSpPr/>
            <p:nvPr/>
          </p:nvSpPr>
          <p:spPr>
            <a:xfrm flipV="1" rot="14035800">
              <a:off x="4010400" y="1523520"/>
              <a:ext cx="1152000" cy="12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8"/>
            <a:stretch/>
          </p:blipFill>
          <p:spPr>
            <a:xfrm>
              <a:off x="4500720" y="1268280"/>
              <a:ext cx="2743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8" name="" descr=""/>
          <p:cNvPicPr/>
          <p:nvPr/>
        </p:nvPicPr>
        <p:blipFill>
          <a:blip r:embed="rId9"/>
          <a:stretch/>
        </p:blipFill>
        <p:spPr>
          <a:xfrm>
            <a:off x="4708440" y="1816200"/>
            <a:ext cx="3103560" cy="2327040"/>
          </a:xfrm>
          <a:prstGeom prst="rect">
            <a:avLst/>
          </a:prstGeom>
          <a:ln w="0">
            <a:noFill/>
          </a:ln>
        </p:spPr>
      </p:pic>
      <p:grpSp>
        <p:nvGrpSpPr>
          <p:cNvPr id="669" name=""/>
          <p:cNvGrpSpPr/>
          <p:nvPr/>
        </p:nvGrpSpPr>
        <p:grpSpPr>
          <a:xfrm>
            <a:off x="6076800" y="2351160"/>
            <a:ext cx="344520" cy="234720"/>
            <a:chOff x="6076800" y="2351160"/>
            <a:chExt cx="344520" cy="234720"/>
          </a:xfrm>
        </p:grpSpPr>
        <p:pic>
          <p:nvPicPr>
            <p:cNvPr id="670" name="" descr=""/>
            <p:cNvPicPr/>
            <p:nvPr/>
          </p:nvPicPr>
          <p:blipFill>
            <a:blip r:embed="rId10"/>
            <a:stretch/>
          </p:blipFill>
          <p:spPr>
            <a:xfrm>
              <a:off x="6194520" y="2351160"/>
              <a:ext cx="22680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076800" y="2529000"/>
              <a:ext cx="572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26EF-4A2F-424E-BBE7-EC269770D50B}" type="slidenum">
              <a:t>39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44840" y="136800"/>
            <a:ext cx="4070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 - Mat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tching based on correlation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tching based on geometric primi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lin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ry discriminating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: matching with interest points &amp;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A robust technique for matching two uncalibrated images through the recovery of the unknown epipolar geomet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 Zhang, R. Deriche, O. Faugeras and Q. Luo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 Intelligence 1995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0A99-B8A0-45BE-83FA-14B274191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onical Fra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476360" y="180828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924360" y="4292640"/>
            <a:ext cx="1439640" cy="14349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3419640" y="5877000"/>
            <a:ext cx="2687400" cy="8856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flipV="1">
            <a:off x="5076000" y="3717360"/>
            <a:ext cx="115128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16200000">
            <a:off x="3061440" y="3787560"/>
            <a:ext cx="1294560" cy="115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116" swAng="54001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116" swAng="5400116"/>
              </a:path>
            </a:pathLst>
          </a:custGeom>
          <a:noFill/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57800" y="42609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 rot="14035800">
            <a:off x="4010400" y="1523520"/>
            <a:ext cx="115200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6372360" y="4508640"/>
            <a:ext cx="671400" cy="4125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467160" y="2376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3576600" y="2251080"/>
            <a:ext cx="182520" cy="1522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6"/>
          <a:stretch/>
        </p:blipFill>
        <p:spPr>
          <a:xfrm>
            <a:off x="5435640" y="4195800"/>
            <a:ext cx="595440" cy="2905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7"/>
          <a:stretch/>
        </p:blipFill>
        <p:spPr>
          <a:xfrm>
            <a:off x="2268360" y="4508640"/>
            <a:ext cx="671760" cy="3664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8"/>
          <a:stretch/>
        </p:blipFill>
        <p:spPr>
          <a:xfrm>
            <a:off x="4500720" y="1268280"/>
            <a:ext cx="274320" cy="2286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9"/>
          <a:stretch/>
        </p:blipFill>
        <p:spPr>
          <a:xfrm>
            <a:off x="4708440" y="1816200"/>
            <a:ext cx="3103560" cy="23270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6194520" y="2351160"/>
            <a:ext cx="226800" cy="226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076800" y="25290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4255-20F7-4C9A-B532-3B045EDF124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1341360"/>
            <a:ext cx="9143640" cy="4290840"/>
            <a:chOff x="0" y="1341360"/>
            <a:chExt cx="9143640" cy="4290840"/>
          </a:xfrm>
        </p:grpSpPr>
        <p:pic>
          <p:nvPicPr>
            <p:cNvPr id="691" name="" descr=""/>
            <p:cNvPicPr/>
            <p:nvPr/>
          </p:nvPicPr>
          <p:blipFill>
            <a:blip r:embed="rId1"/>
            <a:stretch/>
          </p:blipFill>
          <p:spPr>
            <a:xfrm>
              <a:off x="0" y="134784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2"/>
            <a:stretch/>
          </p:blipFill>
          <p:spPr>
            <a:xfrm>
              <a:off x="3046680" y="134784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3"/>
            <a:stretch/>
          </p:blipFill>
          <p:spPr>
            <a:xfrm>
              <a:off x="6087240" y="1341360"/>
              <a:ext cx="3056400" cy="21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4"/>
            <a:stretch/>
          </p:blipFill>
          <p:spPr>
            <a:xfrm>
              <a:off x="0" y="3484800"/>
              <a:ext cx="30420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5"/>
            <a:stretch/>
          </p:blipFill>
          <p:spPr>
            <a:xfrm>
              <a:off x="3031920" y="3491640"/>
              <a:ext cx="30438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6"/>
            <a:stretch/>
          </p:blipFill>
          <p:spPr>
            <a:xfrm>
              <a:off x="6072840" y="3490200"/>
              <a:ext cx="3059640" cy="21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"/>
          <p:cNvSpPr/>
          <p:nvPr/>
        </p:nvSpPr>
        <p:spPr>
          <a:xfrm>
            <a:off x="1455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5280" y="5877000"/>
            <a:ext cx="84027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oriented patches at multiple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8E6A-CF1E-48DC-93A9-DCAA484AAD7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481E-1CEC-42BB-8800-0C4E64AFCE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patch, sampled at 5 x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08ED-2666-4F9A-A522-311232BFA20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patch, sampled at 5 x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/gain norm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 = (I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5799240" y="3433680"/>
            <a:ext cx="3043080" cy="303552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5791320" y="3124080"/>
            <a:ext cx="304776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43400" y="3944880"/>
            <a:ext cx="596880" cy="1238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48920" y="266688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8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720000">
            <a:off x="4233240" y="365760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40 pix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4FBA-4762-48EE-A8F1-E4DBB954178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33320" y="136800"/>
            <a:ext cx="7686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tching Interest Points: 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s corners /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and match repeatable imag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to clutter and oc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variant to scale and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ners detected at multipl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ors oriented using local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sample a blurred image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t to scale and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63520" y="516888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state of the art imag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E4E9-D0DD-4313-AF81-B124B41D157A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67160" y="426240"/>
            <a:ext cx="224928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interest points with the Harris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points with cross-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with the fundamental matrix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65E2-7CBF-4C98-A073-E79AE8537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00160" y="136800"/>
            <a:ext cx="33462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1480" y="2185920"/>
            <a:ext cx="4124520" cy="309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78280" y="2184480"/>
            <a:ext cx="4125960" cy="3098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9960" y="585144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points extracted with Harris (~ 500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D349-1B20-46EA-9F82-412DD59DB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41720" y="1716120"/>
            <a:ext cx="4835520" cy="363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03400" y="136800"/>
            <a:ext cx="33465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533C-2CD7-4195-A075-4733CA26F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41720" y="1716120"/>
            <a:ext cx="4835520" cy="363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51080" y="1714680"/>
            <a:ext cx="4819680" cy="3619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03400" y="136800"/>
            <a:ext cx="33465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C22F-B4B2-44B6-BA2F-E43425AF8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3080" y="136800"/>
            <a:ext cx="594828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oss-correlation mat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46400" y="1711440"/>
            <a:ext cx="4857840" cy="3647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97680" y="585144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matches – motion vectors (188 pai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FA81-5AAC-4A0D-A70D-5F71728006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0:20:05Z</dcterms:created>
  <dc:creator>Movi</dc:creator>
  <dc:description/>
  <dc:language>en-US</dc:language>
  <cp:lastModifiedBy>Linda Shapiro</cp:lastModifiedBy>
  <cp:lastPrinted>2002-01-07T20:53:29Z</cp:lastPrinted>
  <dcterms:modified xsi:type="dcterms:W3CDTF">2007-12-26T22:51:49Z</dcterms:modified>
  <cp:revision>550</cp:revision>
  <dc:subject/>
  <dc:title>Geometry and Matching of Curves</dc:title>
</cp:coreProperties>
</file>