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76C-BCC9-4CE3-BF08-2A1B5440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793-39FA-4ADE-A822-F1D0E574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A67-BEEB-4243-A4BA-3FFF5119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44A-EFF2-403D-88A2-FBCBB78E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6C0-B2CD-42F5-A395-5AC88475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709-7F98-4740-B96C-98DE927B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706-6CC1-4FDB-8519-7C977458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58C-52F8-4C27-8B6D-7AEF9F6C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AD0-1C3B-4065-8B9B-BC551902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AF0-F389-45AB-83BE-098275C0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050-3C64-42C0-A04A-7DE027A6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02F-9D99-4E13-9776-2B911AD0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FEC5-62E9-47FA-BE37-540CD6F27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6200" y="304920"/>
            <a:ext cx="51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er Vision 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3560" y="1778040"/>
            <a:ext cx="3196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9240" y="1295280"/>
            <a:ext cx="692748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resholding a gray-ton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ing good threshol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ltering with mathematical morp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nected component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umeric feature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catio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y-ton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ape feature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is 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y cherry is b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ise is medium 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gram shows two cherry regions (black background has been remo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5560" y="1066680"/>
            <a:ext cx="380844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91320" y="4267080"/>
            <a:ext cx="3127320" cy="1897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28560" y="6248520"/>
            <a:ext cx="21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y-ton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19680" y="5156280"/>
            <a:ext cx="98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1840" y="612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45680" y="6172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hreshold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tsu’s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98720" y="2165400"/>
            <a:ext cx="56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ssumption: the histogram is bimo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1981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3048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2425680"/>
            <a:ext cx="1295640" cy="622440"/>
          </a:xfrm>
          <a:custGeom>
            <a:avLst/>
            <a:gdLst/>
            <a:ahLst/>
            <a:rect l="l" t="t" r="r" b="b"/>
            <a:pathLst>
              <a:path w="816" h="392">
                <a:moveTo>
                  <a:pt x="0" y="392"/>
                </a:moveTo>
                <a:cubicBezTo>
                  <a:pt x="52" y="384"/>
                  <a:pt x="104" y="376"/>
                  <a:pt x="144" y="344"/>
                </a:cubicBezTo>
                <a:cubicBezTo>
                  <a:pt x="184" y="312"/>
                  <a:pt x="216" y="224"/>
                  <a:pt x="240" y="200"/>
                </a:cubicBezTo>
                <a:cubicBezTo>
                  <a:pt x="264" y="176"/>
                  <a:pt x="264" y="184"/>
                  <a:pt x="288" y="200"/>
                </a:cubicBezTo>
                <a:cubicBezTo>
                  <a:pt x="312" y="216"/>
                  <a:pt x="352" y="272"/>
                  <a:pt x="384" y="296"/>
                </a:cubicBezTo>
                <a:cubicBezTo>
                  <a:pt x="416" y="320"/>
                  <a:pt x="440" y="344"/>
                  <a:pt x="480" y="344"/>
                </a:cubicBezTo>
                <a:cubicBezTo>
                  <a:pt x="520" y="344"/>
                  <a:pt x="584" y="352"/>
                  <a:pt x="624" y="296"/>
                </a:cubicBezTo>
                <a:cubicBezTo>
                  <a:pt x="664" y="240"/>
                  <a:pt x="688" y="0"/>
                  <a:pt x="720" y="8"/>
                </a:cubicBezTo>
                <a:cubicBezTo>
                  <a:pt x="752" y="16"/>
                  <a:pt x="800" y="288"/>
                  <a:pt x="816" y="34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30481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2480" y="3384720"/>
            <a:ext cx="68191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: find the threshol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minim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eighted sum of within-group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he two groups that result from sepa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y tones at value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13400" y="205740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p 1   Grp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00100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0920" y="5299200"/>
            <a:ext cx="45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rks wel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assumption ho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shold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768320"/>
            <a:ext cx="4033800" cy="4189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53000" y="1768320"/>
            <a:ext cx="4033800" cy="4189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59120" y="590868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image                        pixels above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09880" y="2139840"/>
            <a:ext cx="7360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lation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expand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nected sets of 1s of a binary im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an be used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growing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filling holes and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3352680"/>
            <a:ext cx="1067040" cy="838440"/>
          </a:xfrm>
          <a:prstGeom prst="hexagon">
            <a:avLst>
              <a:gd name="adj" fmla="val 3181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3124080"/>
            <a:ext cx="1524240" cy="1295640"/>
          </a:xfrm>
          <a:prstGeom prst="hexagon">
            <a:avLst>
              <a:gd name="adj" fmla="val 29411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27640" y="5113440"/>
            <a:ext cx="1219320" cy="1292040"/>
          </a:xfrm>
          <a:custGeom>
            <a:avLst/>
            <a:gdLst/>
            <a:ahLst/>
            <a:rect l="l" t="t" r="r" b="b"/>
            <a:pathLst>
              <a:path w="768" h="814">
                <a:moveTo>
                  <a:pt x="133" y="21"/>
                </a:moveTo>
                <a:cubicBezTo>
                  <a:pt x="173" y="23"/>
                  <a:pt x="218" y="8"/>
                  <a:pt x="254" y="27"/>
                </a:cubicBezTo>
                <a:cubicBezTo>
                  <a:pt x="272" y="36"/>
                  <a:pt x="258" y="68"/>
                  <a:pt x="261" y="88"/>
                </a:cubicBezTo>
                <a:cubicBezTo>
                  <a:pt x="268" y="130"/>
                  <a:pt x="296" y="123"/>
                  <a:pt x="334" y="128"/>
                </a:cubicBezTo>
                <a:cubicBezTo>
                  <a:pt x="361" y="137"/>
                  <a:pt x="374" y="135"/>
                  <a:pt x="395" y="114"/>
                </a:cubicBezTo>
                <a:cubicBezTo>
                  <a:pt x="397" y="107"/>
                  <a:pt x="400" y="101"/>
                  <a:pt x="401" y="94"/>
                </a:cubicBezTo>
                <a:cubicBezTo>
                  <a:pt x="415" y="0"/>
                  <a:pt x="381" y="29"/>
                  <a:pt x="488" y="21"/>
                </a:cubicBezTo>
                <a:cubicBezTo>
                  <a:pt x="557" y="23"/>
                  <a:pt x="627" y="19"/>
                  <a:pt x="696" y="27"/>
                </a:cubicBezTo>
                <a:cubicBezTo>
                  <a:pt x="712" y="29"/>
                  <a:pt x="705" y="58"/>
                  <a:pt x="709" y="74"/>
                </a:cubicBezTo>
                <a:cubicBezTo>
                  <a:pt x="717" y="108"/>
                  <a:pt x="717" y="103"/>
                  <a:pt x="730" y="141"/>
                </a:cubicBezTo>
                <a:cubicBezTo>
                  <a:pt x="737" y="161"/>
                  <a:pt x="743" y="202"/>
                  <a:pt x="743" y="202"/>
                </a:cubicBezTo>
                <a:cubicBezTo>
                  <a:pt x="741" y="253"/>
                  <a:pt x="759" y="310"/>
                  <a:pt x="736" y="356"/>
                </a:cubicBezTo>
                <a:cubicBezTo>
                  <a:pt x="725" y="378"/>
                  <a:pt x="685" y="351"/>
                  <a:pt x="663" y="362"/>
                </a:cubicBezTo>
                <a:cubicBezTo>
                  <a:pt x="651" y="369"/>
                  <a:pt x="649" y="402"/>
                  <a:pt x="649" y="402"/>
                </a:cubicBezTo>
                <a:cubicBezTo>
                  <a:pt x="651" y="424"/>
                  <a:pt x="638" y="455"/>
                  <a:pt x="656" y="469"/>
                </a:cubicBezTo>
                <a:cubicBezTo>
                  <a:pt x="679" y="487"/>
                  <a:pt x="735" y="448"/>
                  <a:pt x="743" y="476"/>
                </a:cubicBezTo>
                <a:cubicBezTo>
                  <a:pt x="768" y="557"/>
                  <a:pt x="740" y="646"/>
                  <a:pt x="736" y="731"/>
                </a:cubicBezTo>
                <a:cubicBezTo>
                  <a:pt x="736" y="738"/>
                  <a:pt x="734" y="746"/>
                  <a:pt x="730" y="751"/>
                </a:cubicBezTo>
                <a:cubicBezTo>
                  <a:pt x="678" y="814"/>
                  <a:pt x="488" y="784"/>
                  <a:pt x="488" y="784"/>
                </a:cubicBezTo>
                <a:cubicBezTo>
                  <a:pt x="355" y="780"/>
                  <a:pt x="237" y="770"/>
                  <a:pt x="107" y="778"/>
                </a:cubicBezTo>
                <a:cubicBezTo>
                  <a:pt x="98" y="779"/>
                  <a:pt x="19" y="795"/>
                  <a:pt x="13" y="771"/>
                </a:cubicBezTo>
                <a:cubicBezTo>
                  <a:pt x="1" y="723"/>
                  <a:pt x="17" y="672"/>
                  <a:pt x="20" y="623"/>
                </a:cubicBezTo>
                <a:cubicBezTo>
                  <a:pt x="24" y="549"/>
                  <a:pt x="33" y="402"/>
                  <a:pt x="33" y="402"/>
                </a:cubicBezTo>
                <a:cubicBezTo>
                  <a:pt x="29" y="317"/>
                  <a:pt x="15" y="233"/>
                  <a:pt x="20" y="148"/>
                </a:cubicBezTo>
                <a:cubicBezTo>
                  <a:pt x="22" y="107"/>
                  <a:pt x="0" y="35"/>
                  <a:pt x="40" y="27"/>
                </a:cubicBezTo>
                <a:cubicBezTo>
                  <a:pt x="71" y="21"/>
                  <a:pt x="102" y="23"/>
                  <a:pt x="133" y="2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15200" y="5105520"/>
            <a:ext cx="11430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5029200"/>
            <a:ext cx="14475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334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5334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5029200"/>
            <a:ext cx="14475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486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23200" y="-52560"/>
            <a:ext cx="619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ematical Morp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00600" y="727200"/>
            <a:ext cx="47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lation, Erosion, Closing, Op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5120" y="1263600"/>
            <a:ext cx="19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i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51440" y="2057400"/>
            <a:ext cx="718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osion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hrink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nected sets of 1s of a binary im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an be used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shrinking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Removing bridges, branches and small protr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3276720"/>
            <a:ext cx="914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6576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2743200"/>
            <a:ext cx="1219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8880" y="2895480"/>
            <a:ext cx="1219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4876920"/>
            <a:ext cx="533520" cy="533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800600"/>
            <a:ext cx="685800" cy="609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4800600"/>
            <a:ext cx="685800" cy="609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59000" y="4997520"/>
            <a:ext cx="511200" cy="201600"/>
          </a:xfrm>
          <a:custGeom>
            <a:avLst/>
            <a:gdLst/>
            <a:ahLst/>
            <a:rect l="l" t="t" r="r" b="b"/>
            <a:pathLst>
              <a:path w="322" h="127">
                <a:moveTo>
                  <a:pt x="4" y="7"/>
                </a:moveTo>
                <a:cubicBezTo>
                  <a:pt x="102" y="14"/>
                  <a:pt x="202" y="0"/>
                  <a:pt x="298" y="20"/>
                </a:cubicBezTo>
                <a:cubicBezTo>
                  <a:pt x="312" y="23"/>
                  <a:pt x="312" y="60"/>
                  <a:pt x="312" y="60"/>
                </a:cubicBezTo>
                <a:cubicBezTo>
                  <a:pt x="314" y="80"/>
                  <a:pt x="322" y="100"/>
                  <a:pt x="318" y="120"/>
                </a:cubicBezTo>
                <a:cubicBezTo>
                  <a:pt x="317" y="127"/>
                  <a:pt x="305" y="127"/>
                  <a:pt x="298" y="127"/>
                </a:cubicBezTo>
                <a:cubicBezTo>
                  <a:pt x="247" y="124"/>
                  <a:pt x="206" y="105"/>
                  <a:pt x="158" y="94"/>
                </a:cubicBezTo>
                <a:cubicBezTo>
                  <a:pt x="124" y="96"/>
                  <a:pt x="90" y="95"/>
                  <a:pt x="57" y="100"/>
                </a:cubicBezTo>
                <a:cubicBezTo>
                  <a:pt x="43" y="102"/>
                  <a:pt x="17" y="114"/>
                  <a:pt x="17" y="114"/>
                </a:cubicBezTo>
                <a:cubicBezTo>
                  <a:pt x="0" y="66"/>
                  <a:pt x="17" y="126"/>
                  <a:pt x="17" y="67"/>
                </a:cubicBezTo>
                <a:cubicBezTo>
                  <a:pt x="17" y="47"/>
                  <a:pt x="10" y="26"/>
                  <a:pt x="4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5791320"/>
            <a:ext cx="1143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5715000"/>
            <a:ext cx="7596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609588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5791320"/>
            <a:ext cx="106668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6172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ucturing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25600" y="2368440"/>
            <a:ext cx="6170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structuring elemen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is a shape mask us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basic morphological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y can be any shape and size tha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gitally representable, and each has an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origi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5720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4343400"/>
            <a:ext cx="1067040" cy="990720"/>
          </a:xfrm>
          <a:prstGeom prst="hexagon">
            <a:avLst>
              <a:gd name="adj" fmla="val 2692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441972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2880" y="518796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02320" y="541656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x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22440" y="53341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4495680"/>
            <a:ext cx="1295280" cy="83844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0240" y="548640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17920" y="6019920"/>
            <a:ext cx="49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ox(length,width)               disk(dia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lation with Structuring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57040" y="1981080"/>
            <a:ext cx="522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rguments to dilation and erosion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60480" y="2438280"/>
            <a:ext cx="36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binary imag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tructuring element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44240" y="3276720"/>
            <a:ext cx="62935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ilate(B,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kes binary image B, places the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structuring element S over each 1-pixel, and 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ructuring element S into the output image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rresponding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39400" y="5029200"/>
            <a:ext cx="962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77040" y="5181480"/>
            <a:ext cx="538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1040" y="5029200"/>
            <a:ext cx="962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72040" y="6172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895480" y="58669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09240" y="61023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9800" y="58672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74160" y="50292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26520" y="61038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rosion with Structuring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42800" y="2216160"/>
            <a:ext cx="72550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erode(B,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kes a binary image B, places the orig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structuring element S over every pixel position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s a binary 1 into that position of the output image only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ry position of S (with a 1) covers a 1 in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4425840"/>
            <a:ext cx="11743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95680" y="4495680"/>
            <a:ext cx="32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4349880"/>
            <a:ext cx="11743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19080" y="58737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99640" y="58672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0600" y="39686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endCxn id="203" idx="1"/>
          </p:cNvCxnSpPr>
          <p:nvPr/>
        </p:nvCxnSpPr>
        <p:spPr>
          <a:xfrm flipH="1" rot="16200000">
            <a:off x="3212280" y="4635360"/>
            <a:ext cx="584640" cy="153000"/>
          </a:xfrm>
          <a:prstGeom prst="curved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426708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78600" y="46483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15360" y="587376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    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9920" y="6019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pening and 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30680" y="2521080"/>
            <a:ext cx="7047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losing</a:t>
            </a:r>
            <a:r>
              <a:rPr b="0" lang="en-US" sz="2000" spc="-1" strike="noStrike">
                <a:solidFill>
                  <a:srgbClr val="02d6e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compound operation of dilation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erosion (with the same structuring el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pening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compound operation of erosion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dilation (with the same structuring el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5240" y="206280"/>
            <a:ext cx="53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gital Image Terminolog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137160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4920" y="1295280"/>
            <a:ext cx="30765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0    0    0    1   0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0    1    1    1   0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1  95  96  94  93  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0  92  93  93  92  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0  93  93  94  92  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1  92  93  93  93  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0  94  95  95  96  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49280" y="148896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ixel (with value 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962160" y="1752480"/>
            <a:ext cx="1904760" cy="1143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2438280"/>
            <a:ext cx="1295640" cy="1067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51080" y="202248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ts 3x3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419360" y="2362320"/>
            <a:ext cx="152388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31600" y="4384800"/>
            <a:ext cx="422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y-scale (or gray-tone)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spectra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ed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2057400"/>
            <a:ext cx="22100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1800" y="2743200"/>
            <a:ext cx="244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of med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876560" y="304812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2520" y="37339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solution (7x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rcRect l="38399" t="24925" r="26882" b="19521"/>
          <a:stretch/>
        </p:blipFill>
        <p:spPr>
          <a:xfrm>
            <a:off x="2514600" y="304920"/>
            <a:ext cx="5270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lication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ar Tooth Insp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19102" t="42131" r="20227" b="12931"/>
          <a:stretch/>
        </p:blipFill>
        <p:spPr>
          <a:xfrm>
            <a:off x="838080" y="1523880"/>
            <a:ext cx="4114800" cy="2438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rcRect l="19049" t="40186" r="20239" b="12186"/>
          <a:stretch/>
        </p:blipFill>
        <p:spPr>
          <a:xfrm>
            <a:off x="838080" y="4114800"/>
            <a:ext cx="4114800" cy="2438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579280" y="2057400"/>
            <a:ext cx="109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i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66760" y="510552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e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cted Components Lab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42670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514600" y="42670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800600" y="42670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50640" y="1371600"/>
            <a:ext cx="763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you have a binary image, you can identify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analyze each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connected set of pixels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nected components operation takes in a binary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produces a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labeled im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which each pixel ha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er label of either the background (0) or a compon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70360" y="422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6934320" y="42670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39080" y="3774960"/>
            <a:ext cx="79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          thresholded          opening+closing   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for C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63320" y="1447920"/>
            <a:ext cx="732060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ursive Tracking (almost never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llel Growing (needs parallel hard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w-by-Row (most com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. propagate labels down to the botto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equival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. Compute equivalenc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. Replace each labeled pixel wit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el of its equivalenc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abelings shown as Pseudo-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2925720" cy="1954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4495680" y="4419720"/>
            <a:ext cx="2925720" cy="1954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099560" y="2216160"/>
            <a:ext cx="167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1’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n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shol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39400" y="4800600"/>
            <a:ext cx="167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28800" y="129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7840" y="20628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hree Stages of Computer 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64160" y="1184400"/>
            <a:ext cx="160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60160" y="182880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mage        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133720"/>
            <a:ext cx="10666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20280" y="377496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mage                 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4038480"/>
            <a:ext cx="10666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4320" y="545148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eatures             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5715000"/>
            <a:ext cx="9144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63200" y="447840"/>
            <a:ext cx="175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67080" y="2362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343040" y="5562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20800" y="56386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2200" y="18288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p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2925720" cy="2193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63868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523880" y="4114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2946600" cy="2209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65960" y="2700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20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5720" y="1752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5334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6080" y="4876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35463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6120" y="31622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18480" y="32385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g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6362640"/>
            <a:ext cx="15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g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6160" y="632448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lar arcs and line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56880" y="5753160"/>
            <a:ext cx="982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3124080" cy="2342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32440" y="21924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720" y="24382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-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us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82920" y="52959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color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50720" y="5219640"/>
            <a:ext cx="29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ons of homogeneous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6400" y="3124080"/>
            <a:ext cx="13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ollow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4495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720" y="5715000"/>
            <a:ext cx="982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71600" y="38862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1055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52120" y="2209680"/>
            <a:ext cx="1579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0400" y="4191120"/>
            <a:ext cx="1649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02920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29560" y="19051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23040" y="316224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d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3720" y="468648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10560" y="21924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- to High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579132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ild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Image Analysi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8520" y="1143000"/>
            <a:ext cx="6835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in a variety of applic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 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sh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cument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s of a set of image analysi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are used to produce or proces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ages, usually images of 0’s and 1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1280" y="4952880"/>
            <a:ext cx="26136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1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red blood cell im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lood cells are separat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touch – b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and pepper noise from thresho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peration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to clean it 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403560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0:17:13Z</dcterms:created>
  <dc:creator>cse</dc:creator>
  <dc:description/>
  <dc:language>en-US</dc:language>
  <cp:lastModifiedBy>Linda Shapiro</cp:lastModifiedBy>
  <dcterms:modified xsi:type="dcterms:W3CDTF">2008-01-09T23:12:18Z</dcterms:modified>
  <cp:revision>12</cp:revision>
  <dc:subject/>
  <dc:title>Slide 1</dc:title>
</cp:coreProperties>
</file>