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2D8-23CF-489E-BF8B-A9FAB8AC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679-E7D5-4083-9418-7B130530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119-C297-49B9-8B4A-7EC64D33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44D-0551-48D4-B1EF-2D3BC9F6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9D4-9B03-4B7F-8BDD-C03BE584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BCF-BA2F-4E60-AC5C-4E7A3E49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B58-6D33-4DB4-AE44-099761EF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D68-B7EE-4B1B-ACDB-5D9D390F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469-5F1C-4C12-843C-75E090E8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1B0-2F02-4579-8E39-19B313B7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FE0-E0A9-4083-BDFE-6498BE6A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7DF-9BEF-4355-9B44-C5490C8F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7609-6181-4EC0-80F3-A9000338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6200" y="30492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 Vision 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3560" y="1778040"/>
            <a:ext cx="319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9240" y="1295280"/>
            <a:ext cx="692748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sholding a gray-ton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ing good thresho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tering with mathematical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nected componen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umeric featur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tio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y-ton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pe feature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is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y cherry is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ise is medium 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gram shows two cherry regions (black background has been remo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560" y="1066680"/>
            <a:ext cx="38084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3127320" cy="1897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8560" y="624852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y-ton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19680" y="5156280"/>
            <a:ext cx="98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1840" y="612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45680" y="617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hreshold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tsu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98720" y="2165400"/>
            <a:ext cx="56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ssumption: the histogram is bi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2425680"/>
            <a:ext cx="1295640" cy="622440"/>
          </a:xfrm>
          <a:custGeom>
            <a:avLst/>
            <a:gdLst/>
            <a:ahLst/>
            <a:rect l="l" t="t" r="r" b="b"/>
            <a:pathLst>
              <a:path w="816" h="392">
                <a:moveTo>
                  <a:pt x="0" y="392"/>
                </a:moveTo>
                <a:cubicBezTo>
                  <a:pt x="52" y="384"/>
                  <a:pt x="104" y="376"/>
                  <a:pt x="144" y="344"/>
                </a:cubicBezTo>
                <a:cubicBezTo>
                  <a:pt x="184" y="312"/>
                  <a:pt x="216" y="224"/>
                  <a:pt x="240" y="200"/>
                </a:cubicBezTo>
                <a:cubicBezTo>
                  <a:pt x="264" y="176"/>
                  <a:pt x="264" y="184"/>
                  <a:pt x="288" y="200"/>
                </a:cubicBezTo>
                <a:cubicBezTo>
                  <a:pt x="312" y="216"/>
                  <a:pt x="352" y="272"/>
                  <a:pt x="384" y="296"/>
                </a:cubicBezTo>
                <a:cubicBezTo>
                  <a:pt x="416" y="320"/>
                  <a:pt x="440" y="344"/>
                  <a:pt x="480" y="344"/>
                </a:cubicBezTo>
                <a:cubicBezTo>
                  <a:pt x="520" y="344"/>
                  <a:pt x="584" y="352"/>
                  <a:pt x="624" y="296"/>
                </a:cubicBezTo>
                <a:cubicBezTo>
                  <a:pt x="664" y="240"/>
                  <a:pt x="688" y="0"/>
                  <a:pt x="720" y="8"/>
                </a:cubicBezTo>
                <a:cubicBezTo>
                  <a:pt x="752" y="16"/>
                  <a:pt x="800" y="288"/>
                  <a:pt x="816" y="3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048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2480" y="3384720"/>
            <a:ext cx="68191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: find the threshol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min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eighted sum of within-group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e two groups that result from sepa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y tones at value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3400" y="20574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p 1   Gr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00100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0920" y="5299200"/>
            <a:ext cx="45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ks wel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assumption h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shol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53000" y="1768320"/>
            <a:ext cx="4033800" cy="4189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59120" y="590868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image                        pixels abov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9880" y="2139840"/>
            <a:ext cx="7360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latio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xpan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nected sets of 1s of a binary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be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grow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filling holes and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3352680"/>
            <a:ext cx="1067040" cy="838440"/>
          </a:xfrm>
          <a:prstGeom prst="hexagon">
            <a:avLst>
              <a:gd name="adj" fmla="val 3181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124080"/>
            <a:ext cx="1524240" cy="1295640"/>
          </a:xfrm>
          <a:prstGeom prst="hexagon">
            <a:avLst>
              <a:gd name="adj" fmla="val 2941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27640" y="5113440"/>
            <a:ext cx="1219320" cy="1292040"/>
          </a:xfrm>
          <a:custGeom>
            <a:avLst/>
            <a:gdLst/>
            <a:ahLst/>
            <a:rect l="l" t="t" r="r" b="b"/>
            <a:pathLst>
              <a:path w="768" h="814">
                <a:moveTo>
                  <a:pt x="133" y="21"/>
                </a:moveTo>
                <a:cubicBezTo>
                  <a:pt x="173" y="23"/>
                  <a:pt x="218" y="8"/>
                  <a:pt x="254" y="27"/>
                </a:cubicBezTo>
                <a:cubicBezTo>
                  <a:pt x="272" y="36"/>
                  <a:pt x="258" y="68"/>
                  <a:pt x="261" y="88"/>
                </a:cubicBezTo>
                <a:cubicBezTo>
                  <a:pt x="268" y="130"/>
                  <a:pt x="296" y="123"/>
                  <a:pt x="334" y="128"/>
                </a:cubicBezTo>
                <a:cubicBezTo>
                  <a:pt x="361" y="137"/>
                  <a:pt x="374" y="135"/>
                  <a:pt x="395" y="114"/>
                </a:cubicBezTo>
                <a:cubicBezTo>
                  <a:pt x="397" y="107"/>
                  <a:pt x="400" y="101"/>
                  <a:pt x="401" y="94"/>
                </a:cubicBezTo>
                <a:cubicBezTo>
                  <a:pt x="415" y="0"/>
                  <a:pt x="381" y="29"/>
                  <a:pt x="488" y="21"/>
                </a:cubicBezTo>
                <a:cubicBezTo>
                  <a:pt x="557" y="23"/>
                  <a:pt x="627" y="19"/>
                  <a:pt x="696" y="27"/>
                </a:cubicBezTo>
                <a:cubicBezTo>
                  <a:pt x="712" y="29"/>
                  <a:pt x="705" y="58"/>
                  <a:pt x="709" y="74"/>
                </a:cubicBezTo>
                <a:cubicBezTo>
                  <a:pt x="717" y="108"/>
                  <a:pt x="717" y="103"/>
                  <a:pt x="730" y="141"/>
                </a:cubicBezTo>
                <a:cubicBezTo>
                  <a:pt x="737" y="161"/>
                  <a:pt x="743" y="202"/>
                  <a:pt x="743" y="202"/>
                </a:cubicBezTo>
                <a:cubicBezTo>
                  <a:pt x="741" y="253"/>
                  <a:pt x="759" y="310"/>
                  <a:pt x="736" y="356"/>
                </a:cubicBezTo>
                <a:cubicBezTo>
                  <a:pt x="725" y="378"/>
                  <a:pt x="685" y="351"/>
                  <a:pt x="663" y="362"/>
                </a:cubicBezTo>
                <a:cubicBezTo>
                  <a:pt x="651" y="369"/>
                  <a:pt x="649" y="402"/>
                  <a:pt x="649" y="402"/>
                </a:cubicBezTo>
                <a:cubicBezTo>
                  <a:pt x="651" y="424"/>
                  <a:pt x="638" y="455"/>
                  <a:pt x="656" y="469"/>
                </a:cubicBezTo>
                <a:cubicBezTo>
                  <a:pt x="679" y="487"/>
                  <a:pt x="735" y="448"/>
                  <a:pt x="743" y="476"/>
                </a:cubicBezTo>
                <a:cubicBezTo>
                  <a:pt x="768" y="557"/>
                  <a:pt x="740" y="646"/>
                  <a:pt x="736" y="731"/>
                </a:cubicBezTo>
                <a:cubicBezTo>
                  <a:pt x="736" y="738"/>
                  <a:pt x="734" y="746"/>
                  <a:pt x="730" y="751"/>
                </a:cubicBezTo>
                <a:cubicBezTo>
                  <a:pt x="678" y="814"/>
                  <a:pt x="488" y="784"/>
                  <a:pt x="488" y="784"/>
                </a:cubicBezTo>
                <a:cubicBezTo>
                  <a:pt x="355" y="780"/>
                  <a:pt x="237" y="770"/>
                  <a:pt x="107" y="778"/>
                </a:cubicBezTo>
                <a:cubicBezTo>
                  <a:pt x="98" y="779"/>
                  <a:pt x="19" y="795"/>
                  <a:pt x="13" y="771"/>
                </a:cubicBezTo>
                <a:cubicBezTo>
                  <a:pt x="1" y="723"/>
                  <a:pt x="17" y="672"/>
                  <a:pt x="20" y="623"/>
                </a:cubicBezTo>
                <a:cubicBezTo>
                  <a:pt x="24" y="549"/>
                  <a:pt x="33" y="402"/>
                  <a:pt x="33" y="402"/>
                </a:cubicBezTo>
                <a:cubicBezTo>
                  <a:pt x="29" y="317"/>
                  <a:pt x="15" y="233"/>
                  <a:pt x="20" y="148"/>
                </a:cubicBezTo>
                <a:cubicBezTo>
                  <a:pt x="22" y="107"/>
                  <a:pt x="0" y="35"/>
                  <a:pt x="40" y="27"/>
                </a:cubicBezTo>
                <a:cubicBezTo>
                  <a:pt x="71" y="21"/>
                  <a:pt x="102" y="23"/>
                  <a:pt x="133" y="2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5105520"/>
            <a:ext cx="11430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029200"/>
            <a:ext cx="14475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5334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029200"/>
            <a:ext cx="14475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3200" y="-5256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al 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00600" y="72720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lation, Erosion, Closing, Op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5120" y="1263600"/>
            <a:ext cx="19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i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51440" y="2057400"/>
            <a:ext cx="718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osio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hrin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nected sets of 1s of a binary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an be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shrinking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Removing bridges, branches and small protr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327672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657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27432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8880" y="289548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4876920"/>
            <a:ext cx="53352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800600"/>
            <a:ext cx="68580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800600"/>
            <a:ext cx="685800" cy="609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59000" y="49975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4" y="7"/>
                </a:moveTo>
                <a:cubicBezTo>
                  <a:pt x="102" y="14"/>
                  <a:pt x="202" y="0"/>
                  <a:pt x="298" y="20"/>
                </a:cubicBezTo>
                <a:cubicBezTo>
                  <a:pt x="312" y="23"/>
                  <a:pt x="312" y="60"/>
                  <a:pt x="312" y="60"/>
                </a:cubicBezTo>
                <a:cubicBezTo>
                  <a:pt x="314" y="80"/>
                  <a:pt x="322" y="100"/>
                  <a:pt x="318" y="120"/>
                </a:cubicBezTo>
                <a:cubicBezTo>
                  <a:pt x="317" y="127"/>
                  <a:pt x="305" y="127"/>
                  <a:pt x="298" y="127"/>
                </a:cubicBezTo>
                <a:cubicBezTo>
                  <a:pt x="247" y="124"/>
                  <a:pt x="206" y="105"/>
                  <a:pt x="158" y="94"/>
                </a:cubicBezTo>
                <a:cubicBezTo>
                  <a:pt x="124" y="96"/>
                  <a:pt x="90" y="95"/>
                  <a:pt x="57" y="100"/>
                </a:cubicBezTo>
                <a:cubicBezTo>
                  <a:pt x="43" y="102"/>
                  <a:pt x="17" y="114"/>
                  <a:pt x="17" y="114"/>
                </a:cubicBezTo>
                <a:cubicBezTo>
                  <a:pt x="0" y="66"/>
                  <a:pt x="17" y="126"/>
                  <a:pt x="17" y="67"/>
                </a:cubicBezTo>
                <a:cubicBezTo>
                  <a:pt x="17" y="47"/>
                  <a:pt x="10" y="26"/>
                  <a:pt x="4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791320"/>
            <a:ext cx="1143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5715000"/>
            <a:ext cx="7596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6095880"/>
            <a:ext cx="7632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5791320"/>
            <a:ext cx="106668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172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cturing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25600" y="2368440"/>
            <a:ext cx="617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tructuring elemen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s a shape mask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basic morphological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y can be any shape and size tha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gitally representable, and each has a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origi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572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43434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4419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2880" y="518796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2320" y="541656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x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22440" y="53341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4495680"/>
            <a:ext cx="1295280" cy="8384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0240" y="548640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7920" y="60199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ox(length,width)               disk(di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lation with Structuring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57040" y="1981080"/>
            <a:ext cx="52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guments to dilation and erosio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60480" y="2438280"/>
            <a:ext cx="36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binary imag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tructuring element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44240" y="3276720"/>
            <a:ext cx="62935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late(B,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kes binary image B, places the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tructuring element S over each 1-pixel,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ucturing element S into the output image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rresponding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39400" y="5029200"/>
            <a:ext cx="962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7040" y="5181480"/>
            <a:ext cx="538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1040" y="5029200"/>
            <a:ext cx="962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72040" y="6172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586692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09240" y="6102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9800" y="5867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74160" y="50292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26520" y="61038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rosion with Structuring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42800" y="2216160"/>
            <a:ext cx="7255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rode(B,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kes a binary image B, places the orig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tructuring element S over every pixel position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s a binary 1 into that position of the output image only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 position of S (with a 1) covers a 1 in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4425840"/>
            <a:ext cx="1174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95680" y="4495680"/>
            <a:ext cx="32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4349880"/>
            <a:ext cx="1174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1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9080" y="58737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99640" y="5867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0600" y="3968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endCxn id="203" idx="1"/>
          </p:cNvCxnSpPr>
          <p:nvPr/>
        </p:nvCxnSpPr>
        <p:spPr>
          <a:xfrm flipH="1" rot="16200000">
            <a:off x="3212280" y="4635360"/>
            <a:ext cx="584640" cy="15300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26708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78600" y="46483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5360" y="587376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   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6019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pening and 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0680" y="2521080"/>
            <a:ext cx="7047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losing</a:t>
            </a:r>
            <a:r>
              <a:rPr b="0" lang="en-US" sz="2000" spc="-1" strike="noStrike">
                <a:solidFill>
                  <a:srgbClr val="02d6e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compound operation of dilation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rosion (with the same structuring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pening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compound operation of erosion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dilation (with the same structuring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5240" y="2062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gital Image Termin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37160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4920" y="1295280"/>
            <a:ext cx="3076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  0    0    1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  1    1    1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95  96  94  93 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92  93  93  92 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93  93  94  92 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92  93  93  93 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0  94  95  95  96 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49280" y="148896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ixel (with value 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62160" y="1752480"/>
            <a:ext cx="1904760" cy="1143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438280"/>
            <a:ext cx="1295640" cy="1067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51080" y="20224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ts 3x3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419360" y="2362320"/>
            <a:ext cx="15238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1600" y="4384800"/>
            <a:ext cx="422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-scale (or gray-tone)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pectr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057400"/>
            <a:ext cx="22100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1800" y="2743200"/>
            <a:ext cx="244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of 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560" y="30481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2520" y="373392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solution (7x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38399" t="24925" r="26882" b="19521"/>
          <a:stretch/>
        </p:blipFill>
        <p:spPr>
          <a:xfrm>
            <a:off x="2514600" y="304920"/>
            <a:ext cx="5270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ar Tooth Insp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9102" t="42131" r="20227" b="12931"/>
          <a:stretch/>
        </p:blipFill>
        <p:spPr>
          <a:xfrm>
            <a:off x="838080" y="1523880"/>
            <a:ext cx="4114800" cy="2438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19049" t="40186" r="20239" b="12186"/>
          <a:stretch/>
        </p:blipFill>
        <p:spPr>
          <a:xfrm>
            <a:off x="838080" y="4114800"/>
            <a:ext cx="4114800" cy="2438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579280" y="2057400"/>
            <a:ext cx="10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66760" y="510552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ed Components Lab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50640" y="1371600"/>
            <a:ext cx="763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you have a binary image, you can identif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analyze each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onnected set of pixel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nected components operation takes in a binary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duces 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labeled im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which each pixel ha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 label of either the background (0) or a compon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036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934320" y="42670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39080" y="3774960"/>
            <a:ext cx="79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          thresholded          opening+closing   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for C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63320" y="1447920"/>
            <a:ext cx="73206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ursive Tracking (almost never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Growing (needs parallel hard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w-by-Row (most com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 propagate labels down to the botto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equival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 Compute equivalen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 Replace each labeled pixel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el of its equivalenc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abelings shown as Pseudo-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2925720" cy="1954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2925720" cy="1954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099560" y="2216160"/>
            <a:ext cx="167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1’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n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shol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39400" y="4800600"/>
            <a:ext cx="167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7840" y="2062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hree Stages of Computer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64160" y="1184400"/>
            <a:ext cx="160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0160" y="18288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age      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13372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0280" y="377496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mage                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403848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4320" y="54514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eatures             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71500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63200" y="44784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7080" y="2362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34304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0800" y="5638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2200" y="1828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2388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65960" y="270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20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5720" y="1752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6080" y="4876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3546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6120" y="3162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18480" y="32385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636264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6160" y="63244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lar arcs and line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56880" y="5753160"/>
            <a:ext cx="982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32440" y="21924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720" y="2438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2920" y="5295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colo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50720" y="521964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ons of homogeneous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6400" y="312408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llow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4495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720" y="5715000"/>
            <a:ext cx="982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055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2120" y="2209680"/>
            <a:ext cx="157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0400" y="4191120"/>
            <a:ext cx="1649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2920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560" y="19051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23040" y="31622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d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3720" y="46864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10560" y="2192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 to High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57913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Image Analysi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8520" y="1143000"/>
            <a:ext cx="683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a variety of applic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sh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set of image analysi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re used to produce or proces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ges, usually images of 0’s and 1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1280" y="4952880"/>
            <a:ext cx="26136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1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red blood cell i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od cells are separat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ouch – b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and pepper noise from thresh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to clean it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403560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17:13Z</dcterms:created>
  <dc:creator>cse</dc:creator>
  <dc:description/>
  <dc:language>en-US</dc:language>
  <cp:lastModifiedBy>Linda Shapiro</cp:lastModifiedBy>
  <dcterms:modified xsi:type="dcterms:W3CDTF">2008-01-09T23:12:18Z</dcterms:modified>
  <cp:revision>12</cp:revision>
  <dc:subject/>
  <dc:title>Slide 1</dc:title>
</cp:coreProperties>
</file>