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692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16240" y="-360"/>
            <a:ext cx="31672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52440" y="717120"/>
            <a:ext cx="4778640" cy="35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159480"/>
            <a:ext cx="316692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116240" y="9159480"/>
            <a:ext cx="3167280" cy="477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533A91C-54A9-44BE-9EB9-97F1687A1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rite a formula for it, computers can exc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 vision can’t solve the whole problem (yet), so breaks it down into pie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pieces have important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stitch, 3D shape recon, image search, sciss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252440" y="717480"/>
            <a:ext cx="4778640" cy="3583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49320" y="4540320"/>
            <a:ext cx="5384880" cy="4379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tion, tracking, segmentation, scene understanding,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020E-7A49-40EB-960D-DE53812A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762-13E2-49E0-8018-C323ED96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454-63A9-45DE-BA36-FF14133A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2F8-D1CC-457E-8228-F005B05C3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29A-053C-46EA-A4CB-0519BB5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5A9-216E-4BE4-AA5D-EAA999F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269E-7BE9-434F-A9B8-BF87798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809-A566-476E-ABFA-6FE949AE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D72-3F81-4819-96CC-55D0178B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01C0-8133-4399-8983-3008F23B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BF4-A9DA-41B0-8E52-90BB656F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CF1-D1AA-4E02-87B5-971B4C98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F402-E279-428A-B9EB-85470E7A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3808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1.cs.columbia.edu/CAVE/omnicam/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graphics.stanford.edu/projects/array/" TargetMode="External"/><Relationship Id="rId5" Type="http://schemas.openxmlformats.org/officeDocument/2006/relationships/hyperlink" Target="http://graphics.stanford.edu/projects/array/" TargetMode="External"/><Relationship Id="rId6" Type="http://schemas.openxmlformats.org/officeDocument/2006/relationships/hyperlink" Target="http://graphics.stanford.edu/projects/array/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robots.ox.ac.uk/~vgg/research/vgoogle/tie/tp575280_fp_002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an computers match human perception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5790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 and no (but mostly no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s are much better at “hard”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9200" indent="-134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s can be better at “easy”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92600" y="1177920"/>
            <a:ext cx="33606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cces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vision algorithms rival hum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 still far 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Sensors and Imag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2593800" cy="394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51814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bia’s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mni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686480" y="1036800"/>
            <a:ext cx="3390840" cy="4068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19720" y="51814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Stanford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ulticamera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3657600" y="2133720"/>
            <a:ext cx="879480" cy="20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Recogni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3772080" cy="30178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800600" y="1066680"/>
            <a:ext cx="3851280" cy="2895840"/>
            <a:chOff x="4800600" y="1066680"/>
            <a:chExt cx="3851280" cy="2895840"/>
          </a:xfrm>
        </p:grpSpPr>
        <p:pic>
          <p:nvPicPr>
            <p:cNvPr id="66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800600" y="1066680"/>
              <a:ext cx="176040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4800600" y="2602080"/>
              <a:ext cx="169236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6858000" y="1676520"/>
              <a:ext cx="1793880" cy="1349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362320" y="4446720"/>
            <a:ext cx="2286000" cy="218268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5105520" y="4572000"/>
            <a:ext cx="3657600" cy="2057400"/>
            <a:chOff x="5105520" y="4572000"/>
            <a:chExt cx="3657600" cy="2057400"/>
          </a:xfrm>
        </p:grpSpPr>
        <p:pic>
          <p:nvPicPr>
            <p:cNvPr id="71" name="" descr=""/>
            <p:cNvPicPr/>
            <p:nvPr/>
          </p:nvPicPr>
          <p:blipFill>
            <a:blip r:embed="rId7"/>
            <a:stretch/>
          </p:blipFill>
          <p:spPr>
            <a:xfrm>
              <a:off x="5105520" y="4572000"/>
              <a:ext cx="365760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8"/>
            <a:srcRect l="0" t="0" r="63169" b="0"/>
            <a:stretch/>
          </p:blipFill>
          <p:spPr>
            <a:xfrm>
              <a:off x="5105520" y="4572000"/>
              <a:ext cx="1347480" cy="20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"/>
          <p:cNvSpPr/>
          <p:nvPr/>
        </p:nvSpPr>
        <p:spPr>
          <a:xfrm>
            <a:off x="3048120" y="3962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Goo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5105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ola/J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Digital Huma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4022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0" y="54705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n et al., Space of Human Body Sha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irections:  Vision and Learn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0T17:20:27Z</dcterms:created>
  <dc:creator>Steve Seitz</dc:creator>
  <dc:description/>
  <dc:language>en-US</dc:language>
  <cp:lastModifiedBy>Steve Seitz</cp:lastModifiedBy>
  <cp:lastPrinted>1999-10-04T18:53:50Z</cp:lastPrinted>
  <dcterms:modified xsi:type="dcterms:W3CDTF">2005-03-10T02:27:22Z</dcterms:modified>
  <cp:revision>370</cp:revision>
  <dc:subject/>
  <dc:title>Computer Vision</dc:title>
</cp:coreProperties>
</file>