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166920" cy="477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116240" y="-360"/>
            <a:ext cx="3167280" cy="477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lstStyle>
            <a:lvl1pPr indent="0" algn="r"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252440" y="717120"/>
            <a:ext cx="4778640" cy="358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49320" y="4540320"/>
            <a:ext cx="5384880" cy="43797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9159480"/>
            <a:ext cx="3166920" cy="477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116240" y="9159480"/>
            <a:ext cx="3167280" cy="477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fld id="{81407A6A-A3AB-4B0D-B6C0-60A8883F402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252440" y="717480"/>
            <a:ext cx="4778640" cy="358308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49320" y="4540320"/>
            <a:ext cx="5384880" cy="43797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can write a formula for it, computers can exc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uter vision can’t solve the whole problem (yet), so breaks it down into pie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of the pieces have important appl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252440" y="717480"/>
            <a:ext cx="4778640" cy="358308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49320" y="4540320"/>
            <a:ext cx="5384880" cy="43797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stitch, 3D shape recon, image search, scisso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252440" y="717480"/>
            <a:ext cx="4778640" cy="358308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49320" y="4540320"/>
            <a:ext cx="5384880" cy="43797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ognition, tracking, segmentation, scene understanding, mo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8D28-DD7C-457A-BB94-1D4029C69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66048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9227-5322-4422-8907-0DBF71A68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654F-B0E0-471C-BAD5-0E99AA5DB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9F34-B7E8-4F90-9C34-AC61029CB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FC12-E3F1-46B8-BAAD-5FC514B01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56C8-68E3-4437-93B7-326691399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A673-5459-420B-927F-D22DC958D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9E27-CA22-43BB-AB91-EDFD0886A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76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4BE0-B6A0-416C-BFDA-7F41B28F6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1631-968A-4AC9-9034-1FE6C1C6F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8CC5-4443-462D-830C-0817F7B25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66048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B525-473D-4BB6-BD68-5EE79C66E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C6B9E-0DDF-4406-9F8B-2406811DB0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838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1.cs.columbia.edu/CAVE/omnicam/" TargetMode="External"/><Relationship Id="rId3" Type="http://schemas.openxmlformats.org/officeDocument/2006/relationships/image" Target="../media/image3.jpeg"/><Relationship Id="rId4" Type="http://schemas.openxmlformats.org/officeDocument/2006/relationships/hyperlink" Target="http://graphics.stanford.edu/projects/array/" TargetMode="External"/><Relationship Id="rId5" Type="http://schemas.openxmlformats.org/officeDocument/2006/relationships/hyperlink" Target="http://graphics.stanford.edu/projects/array/" TargetMode="External"/><Relationship Id="rId6" Type="http://schemas.openxmlformats.org/officeDocument/2006/relationships/hyperlink" Target="http://graphics.stanford.edu/projects/array/" TargetMode="External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robots.ox.ac.uk/~vgg/research/vgoogle/tie/tp575280_fp_002.jpg" TargetMode="External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pn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an computers match human perception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90720" y="5790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7000"/>
          </a:bodyPr>
          <a:p>
            <a:pPr marL="160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es and no (but mostly no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9200" indent="-134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umans are much better at “hard” th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9200" indent="-134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rs can be better at “easy” th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09680" y="113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892600" y="1177920"/>
            <a:ext cx="3360600" cy="45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uccess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er vision algorithms rival hum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V still far behi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Directions:  Sensors and Imaging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914400" y="1143000"/>
            <a:ext cx="2593800" cy="39434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533520" y="51814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umbia’s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Omnic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4686480" y="1036800"/>
            <a:ext cx="3390840" cy="40687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419720" y="5181480"/>
            <a:ext cx="41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Stanford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multicamera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 arr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7"/>
          <a:stretch/>
        </p:blipFill>
        <p:spPr>
          <a:xfrm>
            <a:off x="3657600" y="2133720"/>
            <a:ext cx="879480" cy="207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Directions:  Recogni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3772080" cy="3017880"/>
          </a:xfrm>
          <a:prstGeom prst="rect">
            <a:avLst/>
          </a:prstGeom>
          <a:ln w="0">
            <a:noFill/>
          </a:ln>
        </p:spPr>
      </p:pic>
      <p:grpSp>
        <p:nvGrpSpPr>
          <p:cNvPr id="65" name=""/>
          <p:cNvGrpSpPr/>
          <p:nvPr/>
        </p:nvGrpSpPr>
        <p:grpSpPr>
          <a:xfrm>
            <a:off x="4800600" y="1066680"/>
            <a:ext cx="3851280" cy="2895840"/>
            <a:chOff x="4800600" y="1066680"/>
            <a:chExt cx="3851280" cy="2895840"/>
          </a:xfrm>
        </p:grpSpPr>
        <p:pic>
          <p:nvPicPr>
            <p:cNvPr id="66" name="" descr="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4800600" y="1066680"/>
              <a:ext cx="1760400" cy="136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" descr=""/>
            <p:cNvPicPr/>
            <p:nvPr/>
          </p:nvPicPr>
          <p:blipFill>
            <a:blip r:embed="rId4"/>
            <a:stretch/>
          </p:blipFill>
          <p:spPr>
            <a:xfrm>
              <a:off x="4800600" y="2602080"/>
              <a:ext cx="1692360" cy="136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" descr=""/>
            <p:cNvPicPr/>
            <p:nvPr/>
          </p:nvPicPr>
          <p:blipFill>
            <a:blip r:embed="rId5"/>
            <a:stretch/>
          </p:blipFill>
          <p:spPr>
            <a:xfrm>
              <a:off x="6858000" y="1676520"/>
              <a:ext cx="1793880" cy="1349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9" name="" descr=""/>
          <p:cNvPicPr/>
          <p:nvPr/>
        </p:nvPicPr>
        <p:blipFill>
          <a:blip r:embed="rId6"/>
          <a:stretch/>
        </p:blipFill>
        <p:spPr>
          <a:xfrm>
            <a:off x="2362320" y="4446720"/>
            <a:ext cx="2286000" cy="2182680"/>
          </a:xfrm>
          <a:prstGeom prst="rect">
            <a:avLst/>
          </a:prstGeom>
          <a:ln w="0">
            <a:noFill/>
          </a:ln>
        </p:spPr>
      </p:pic>
      <p:grpSp>
        <p:nvGrpSpPr>
          <p:cNvPr id="70" name=""/>
          <p:cNvGrpSpPr/>
          <p:nvPr/>
        </p:nvGrpSpPr>
        <p:grpSpPr>
          <a:xfrm>
            <a:off x="5105520" y="4572000"/>
            <a:ext cx="3657600" cy="2057400"/>
            <a:chOff x="5105520" y="4572000"/>
            <a:chExt cx="3657600" cy="2057400"/>
          </a:xfrm>
        </p:grpSpPr>
        <p:pic>
          <p:nvPicPr>
            <p:cNvPr id="71" name="" descr=""/>
            <p:cNvPicPr/>
            <p:nvPr/>
          </p:nvPicPr>
          <p:blipFill>
            <a:blip r:embed="rId7"/>
            <a:stretch/>
          </p:blipFill>
          <p:spPr>
            <a:xfrm>
              <a:off x="5105520" y="4572000"/>
              <a:ext cx="3657600" cy="205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" descr=""/>
            <p:cNvPicPr/>
            <p:nvPr/>
          </p:nvPicPr>
          <p:blipFill>
            <a:blip r:embed="rId8"/>
            <a:srcRect l="0" t="0" r="63169" b="0"/>
            <a:stretch/>
          </p:blipFill>
          <p:spPr>
            <a:xfrm>
              <a:off x="5105520" y="4572000"/>
              <a:ext cx="1347480" cy="2057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" name=""/>
          <p:cNvSpPr/>
          <p:nvPr/>
        </p:nvSpPr>
        <p:spPr>
          <a:xfrm>
            <a:off x="3048120" y="39625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deo Goog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52280" y="5105520"/>
            <a:ext cx="320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-time fac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Viola/Jon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Directions:  Digital Human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7315200" cy="40226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2286000" y="5470560"/>
            <a:ext cx="518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en et al., Space of Human Body Shap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Directions:  Vision and Learning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10T17:20:27Z</dcterms:created>
  <dc:creator>Steve Seitz</dc:creator>
  <dc:description/>
  <dc:language>en-US</dc:language>
  <cp:lastModifiedBy>Steve Seitz</cp:lastModifiedBy>
  <cp:lastPrinted>1999-10-04T18:53:50Z</cp:lastPrinted>
  <dcterms:modified xsi:type="dcterms:W3CDTF">2005-03-10T02:27:22Z</dcterms:modified>
  <cp:revision>370</cp:revision>
  <dc:subject/>
  <dc:title>Computer Vision</dc:title>
</cp:coreProperties>
</file>