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0C3-77AD-4BDB-8D10-0B53BACA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D1D-7240-4FFD-AA79-179DB5D8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22E-6834-43B3-898A-8799BA36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E7C-C045-420F-ABA1-4340BEC1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D34-D142-4023-B548-F917BDB4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44A-08B9-4E2D-9EF6-BF8903D7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20B-9132-4355-AA13-4D653E92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B68-8D41-4245-B21B-82110D3A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3D8-9D50-42DF-95F2-D388400A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CA6-E58C-474E-A7BF-591CEA2A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722-840B-4636-B1DE-2E145B62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22A-BAFF-4674-8CBC-E2B68996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57F0-34FA-451D-9813-AFE7F59DC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588 Section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l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25, 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3 - 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vector upd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NOT link state, also NOT distance vector as described in the boo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itial table contains no 1’s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ers don’t know about their direct links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tables like on page 16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flooding direction might change if a new route is t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3 -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forwar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al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 interactive video, audi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tive means buffering (normal technique) is b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be want multic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rs, links f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stion happ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Story of RSV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ers deliv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low specific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receivers, over predictabl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u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Receivers se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source reserv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ack toward the sender.  Routers along the way d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dmission contr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decide whether guarantees can be made, th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cket schedul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meet those guarant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Feature She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-driv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able for multi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ene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-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lerates failures,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h state - forward, using existing ro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ation state - reverse p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out &amp; refre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ters: differentiate between se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a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minders &amp;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3 due June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3 or final project will be due June 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 documents 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week: 4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3 -1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flections on Trusting Tru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Ken Thomp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ure 1 might give you some clues about how to answer this ques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3 -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denial of service attack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 flo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service attacks, possibly pretending map www.cnn.com to your favorite (ahem) ‘adult entertainment’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rastructure attack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urfing: broadcast icmp echo with a forged source 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host atta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w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3 - 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ast source routing packet header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iciency: size, complex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you get both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it be deploy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it help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3 -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mpatible routing protoco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it happ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fix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362320"/>
            <a:ext cx="1752840" cy="1828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2362320"/>
            <a:ext cx="1752480" cy="1828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59092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5812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5812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9720" y="251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89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28195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38098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28195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38098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86520" y="43084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4360" y="4343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2895480"/>
            <a:ext cx="1828800" cy="838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2819520"/>
            <a:ext cx="1828800" cy="8380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3 - 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to e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) if lost (ii) how to reco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lost should be of the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x doesn’t get his up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to multicast every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cover should be of the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end the update to x again, x asks for an updat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uning is initiated ag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3 - 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asynchronous up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write, but read the before im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to get processor ord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to get total ord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9:43:35Z</dcterms:created>
  <dc:creator>Neil T. Spring</dc:creator>
  <dc:description/>
  <dc:language>en-US</dc:language>
  <cp:lastModifiedBy>Neil T. Spring</cp:lastModifiedBy>
  <dcterms:modified xsi:type="dcterms:W3CDTF">1999-05-25T18:27:47Z</dcterms:modified>
  <cp:revision>23</cp:revision>
  <dc:subject/>
  <dc:title>588 Section 1</dc:title>
</cp:coreProperties>
</file>