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CE8-079D-427A-BD77-995CA99E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82C-AFCA-4680-BDF1-E8252CBE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BBF-4C5F-4FC8-8C1C-83D5B5BA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0A0-6AF5-43C6-AC34-C031E827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E4E-3F0E-457E-8D23-D371F780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2BC-D4A1-4FAB-AFEA-B82C9161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7A6-4BE4-4645-A527-C4EE6A05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B72-E248-4E6D-A89B-B7D428E9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68A-03F8-457A-B54E-E991FCB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D8B-CE78-47D2-82A5-BFC604E9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4A9-746A-410A-B148-1424D411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593-A47F-456B-99AC-652610C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B5D4-6AD0-4605-83B5-D30BEDA88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88 Section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25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vector upd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NOT link state, also NOT distance vector as described in the boo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itial table contains no 1’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rs don’t know about their direct link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ables like on page 16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flooding direction might change if a new route is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forwar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al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 interactive video, audi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ve means buffering (normal technique) is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be want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rs, links f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stion happ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tory of RSV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ers deliv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low specific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receivers, over predictabl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u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Receivers se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ource reserv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ck toward the sender.  Routers along the way d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mission contr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cide whether guarantees can be made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cket schedul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meet those guarant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eature She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-dr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able for multi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-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erates failures,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 state - forward, using existing 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ation state - reverse p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out &amp; refre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ters: differentiate between se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inders &amp;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3 due Jun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3 or final project will be due June 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 documents 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week: 4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1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flections on Trusting Tru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Ken Thomp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1 might give you some clues about how to answer this ques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denial of service attac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 flo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service attacks, possibly pretending map www.cnn.com to your favorite (ahem) ‘adult entertainment’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 attack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urfing: broadcast icmp echo with a forged source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host atta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w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 source routing packet header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: size, complex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get bot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deploy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it hel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mpatible routing protoco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it happ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fix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362320"/>
            <a:ext cx="175284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2362320"/>
            <a:ext cx="175248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59092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5812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5812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972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8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8195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8195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3809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86520" y="4308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4360" y="4343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895480"/>
            <a:ext cx="1828800" cy="838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2819520"/>
            <a:ext cx="1828800" cy="838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to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) if lost (ii) how to rec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lost should be of the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x doesn’t get his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o multicast 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cover should be of the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end the update to x again, x asks for an updat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ning is initiated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asynchronous up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write, but read the before im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o get processor ord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o get total ord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5-25T18:27:47Z</dcterms:modified>
  <cp:revision>23</cp:revision>
  <dc:subject/>
  <dc:title>588 Section 1</dc:title>
</cp:coreProperties>
</file>