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C17-C135-490B-A4F7-7A6C1C34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8DD-0705-43FA-A968-85AF3FB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AF7-F347-4DBA-81FB-082C7508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7D9-4284-40DC-8C6C-C1C4091F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D5F-7F00-459D-BF57-66EFE95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753-2A98-439C-B6A5-9E982604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FF6-04F2-4A25-B3E3-315BC54E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45D-0BA9-49D9-8485-6C38256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DCA-17B1-43EA-BC23-9A66E277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BD4-F7BD-436D-945F-0CC3D00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E9D-383A-4685-8B5A-EAE14DE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31C-0BE5-45B9-9DB8-BA68249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3F9-7074-4E9F-BF10-278C331A1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88 Section 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Sp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8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you might want to kn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depth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porcupine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against ba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TL/data value reversal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hing doesn’t extend to h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peed things up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NS Attribu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P Addre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 from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AME: Canonical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o other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: Authoritative Name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R: Pointer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from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: Mail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s mail destined for this mac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to get em (hos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popl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       A       128.95.2.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t CNAME pop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has no CNAME record (Authoritative answ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t CNAME www.cs.washingt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.cs.washington.edu   CNAME   bauhaus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re host stuff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v 128.95.2.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ry about 128.95.2.24 for record types P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poplar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: 128.95.2.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-t mx pop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       MX      10 june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lar.cs.washington.edu        MX      20 trout.cs.washington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tive Nam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er interface for name loo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 side web replica 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e service provid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ches /  transformation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ame services: IBM’s web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on’t care which host gives us the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do we normally do to make big web serv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it up, st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.su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round rob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icrosoft.com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dd new servers without telling any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dir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 level spli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consider locality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and service not equiva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ould we do to make big web serv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he user pick a close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netscape or 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 list of different places you can download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hould you p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n’t the machine figure it 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2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N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inders &amp;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ing Assignment 2 due May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3 will be due Jun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 will be due June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to talk to Tom about the final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1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warding packets through 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ever cost of A-B is higher than A-C-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c cost inf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state - everyone will get consis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vector - asymmetric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inconsistency affecting ro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in the middle of the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the leaves 0..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ute to 010 is (from the root): left right le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ute from 001 to 010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(to the 00? rou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(to the 0?? rou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(to the 01? Rou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(to the 010 ho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 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realiz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nodes are du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s know the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se source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nodes know the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s don’t know mu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r failure is less trans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2 -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low start, each ack increases cwnd by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acks not really shown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nspring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735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mework 2 - 5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know yet. :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you need to know about D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to IP address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lar.cs.washington.edu = 128.95.2.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to host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2.95.128.in-addr.arpa = popla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h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s aren’t immediately 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caching important t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6T19:43:35Z</dcterms:created>
  <dc:creator>Neil T. Spring</dc:creator>
  <dc:description/>
  <dc:language>en-US</dc:language>
  <cp:lastModifiedBy>Neil T. Spring</cp:lastModifiedBy>
  <dcterms:modified xsi:type="dcterms:W3CDTF">1999-05-18T15:02:29Z</dcterms:modified>
  <cp:revision>21</cp:revision>
  <dc:subject/>
  <dc:title>588 Section 1</dc:title>
</cp:coreProperties>
</file>