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4AE-C4D5-47A7-88C5-E513A00D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AC4-1976-4D45-8521-D580F178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4F1-D0D7-4C17-9A99-5256391C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8D7-D066-4CBF-894F-AAFB10BA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688-E029-418C-9FC1-4B96CC2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BF1-2477-4296-B8FA-8952F776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414-80A1-4068-ACBC-B69A067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3CB-05B9-4F29-89AD-3A6D59DF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866-F1D1-41FD-90EB-D9AA3882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6F2-DB71-4A05-BDB0-2A8D7A1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69F-D5FB-4FC0-998D-86509BE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71C-3BBC-4B69-9A6C-D246C92F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A814-974C-438A-82F8-CB2FCD368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88 Section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8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you might want to kn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depth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porcupine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against ba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TL/data value reversal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hing doesn’t extend to h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peed things u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NS Attribu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P Addr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 from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AME: Canonical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o other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: Authoritative Name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R: Pointer re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from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: Mail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s mail destined for this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to get em (hos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popl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       A       128.95.2.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t CNAME pop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has no CNAME record (Authoritative answ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t CNAME www.cs.washington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cs.washington.edu   CNAME   bauhaus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re host stuff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v 128.95.2.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ry about 128.95.2.24 for record types PT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poplar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: 128.95.2.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t mx pop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       MX      10 june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       MX      20 trout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tive Nam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er interface for name loo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 side web replica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e service provid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aches /  transformation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ame services: IBM’s web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on’t care which host gives us the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do we normally do to make big web server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it up, st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.sun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round rob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icrosoft.com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dd new servers without telling any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dir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 level spli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consider locality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and service not equival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ould we do to make big web server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the user pick a close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netscape or 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 list of different places you can download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hould you p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n’t the machine figure it 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2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N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inders &amp;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ing Assignment 2 due Ma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 will be due Jun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 will be due June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to talk to Tom about the final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1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warding packets through 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ever cost of A-B is higher than A-C-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ic cost inf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state - everyone will get consis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vector - asymmetric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 inconsistency affecting ro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in the middle of the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the leaves 0..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ute to 010 is (from the root): left right le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ute from 001 to 010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(to the 00? rou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(to the 0?? rou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(to the 01? Rou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(to the 010 ho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realiz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nodes are du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s know the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se source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nodes know the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s don’t know mu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 failure is less 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 -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low start, each ack increases cwnd by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acks not really shown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nspring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735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’t know yet. :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you need to know about D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to IP address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lar.cs.washington.edu = 128.95.2.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to host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2.95.128.in-addr.arpa = popla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h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s aren’t immediately 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caching important t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18T15:02:29Z</dcterms:modified>
  <cp:revision>21</cp:revision>
  <dc:subject/>
  <dc:title>588 Section 1</dc:title>
</cp:coreProperties>
</file>