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46C-782C-43F0-B937-BBD86F5A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3AF-03EC-492A-8F5A-EE936ECC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1C9-09A5-4E9C-B4DB-0B2C7B22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E41-32ED-4C7B-93A2-5B38CC0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F2E-D168-4927-90FE-93FE571E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AC1-18E2-4937-AD1F-59DCABE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889-A527-47FA-B617-4F1BFB1A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D75-8BFE-4DF4-AF29-78F5222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28C-110B-4289-AFF3-085B428E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8F9-C379-4DB6-BB0E-E796FB6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546-2892-4BCF-A650-4446787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26B-9888-4685-BF8D-5B20530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706-A768-41DD-B4E2-40EA0C19E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88 Section 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1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LM: How many lay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up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the first one, wait a few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for the next one, wait a few second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until drop (skipped sequence numb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back to the previous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exponentially increasing ti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he next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there’s new bandwidth or less con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the drop wasn’t your fa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Challenge: Reli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RM paper is one approach (little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ndant transmission is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may be small so redundancy is c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: here are the previous 6 commands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it: redundancy in video or audio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audio has some (doesn’t rely on it exclusiv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just tolerate missing a 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is reliability har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keep state about all receivers and still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reason about RTT/cw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ate sh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AL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Level Fr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explained it to me as ‘it’s just UDP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defines an atomic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ly like a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es a record, block, file, frame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deals with 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ccept out of order packets (real aud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: S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nteraction is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s learn they’re missing something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e in sequenc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a report from someone else about a newer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s missing data ask everyone for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a student asking for a copy of the hand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can re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Retransmit Reque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oo many retransmit reques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stic suppression: nodes farther away see our request and don’t make one of their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stic suppression: nodes equally far have a random timer, not all will fire before they see our requ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better solution for containing retransmissions and retransmission reques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Retransmit Contai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Scoping (I don’t kn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ocal receivers that could help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parate channels for each missed packet (can a host subscribe that fast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TL  Scop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reach those who also want a retransm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TTL-based Scope Ha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y with TTL*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 from the requestor with T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Requir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ackets do you hold on t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order upd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Whose writing goes on to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mas’ write ru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LM (the paper you didn’t re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 &amp; S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inders &amp;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Assignment 2 due Ma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 will be due Jun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 will be due June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roject t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1 seems to have gone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your help with the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Summary (Revie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ies to anyone who is list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s to shared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use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pe contro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ty of ways to generate distribution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Trees (Revie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Path Floo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ood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Path Broadca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duplicates on a wire by electing a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ncated RP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e uninterested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Path Multica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e on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Challenges (Revie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in receiver band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ndant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ing/consistency of multiple se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Challenge: Heterogene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want to watch the rolling stones on our comp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ld includes links speeds that differ by 3 orders of magnitude (at leas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ms, is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s, cable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link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broadcast does not f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: Simulc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.8 modems get this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network links get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: RL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-driven Layered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a bunch of streams of increasing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layer: includes the most important stuff, 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layers: add detail, may be l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s dynamically decide how many layers to subscribe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implies congestion implies over-subscri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12T00:46:06Z</dcterms:modified>
  <cp:revision>19</cp:revision>
  <dc:subject/>
  <dc:title>588 Section 1</dc:title>
</cp:coreProperties>
</file>