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1C93-AF6C-40E8-927C-A3FD522E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3091-FE22-41AF-AB41-4E06FA63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A2E4-DB67-4F36-9552-1FA9FF2FB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7BBF-F47F-4C7E-B018-C41C64AE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190F-FE6D-4E54-ABD3-E6747778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F29D-3DD2-4EAD-A4CA-BF469036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6856-15A5-4C3B-AB14-57171201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DAC3-6CDA-4AB4-AEDA-80A26BBE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D73F-C841-40D0-9936-6687D5CC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7FD2-DAA8-4CDE-B682-A44DA286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CD82-32C6-44B8-83D0-D1DA6F9B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DDBA-5932-4D18-9544-7293D154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1DEE-2125-4D3E-9624-47AABE5451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588 Section 6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il Sp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11, 199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LM: How many layer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up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the first one, wait a few seco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k for the next one, wait a few second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at until drop (skipped sequence numb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 back to the previous lay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exponentially increasing tim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 the next lay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be there’s new bandwidth or less conges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be the drop wasn’t your faul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ulticast Challenge: Reliabi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RM paper is one approach (little l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ndant transmission is an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ssages may be small so redundancy is che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icit: here are the previous 6 commands ag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icit: redundancy in video or audio stre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 audio has some (doesn’t rely on it exclusive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you just tolerate missing a fr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y is reliability hard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’t keep state about all receivers and still sc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’t reason about RTT/cw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fate sha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 is AL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 Level Fra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one explained it to me as ‘it’s just UDP’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 defines an atomic un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ughly like a pack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aches a record, block, file, frame,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 deals with ord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accept out of order packets (real audi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sponse: SR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interaction is multic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ivers learn they’re missing something wh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e in sequence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ive a report from someone else about a newer pack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ivers missing data ask everyone for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e a student asking for a copy of the hand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one can rep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RM Retransmit Reques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too many retransmit reques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istic suppression: nodes farther away see our request and don’t make one of their 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abilistic suppression: nodes equally far have a random timer, not all will fire before they see our requ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here a better solution for containing retransmissions and retransmission reques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RM Retransmit Contai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rative Scoping (I don’t know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arate Gro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local receivers that could help 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ibly separate channels for each missed packet (can a host subscribe that fast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TL  Scope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reach those who also want a retransmi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RM TTL-based Scope Hack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ly with TTL*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est from the requestor with TT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RM Requir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packets do you hold on t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you order updat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. Whose writing goes on top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mas’ write rul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chedu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 slid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cast re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3slid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LM (the paper you didn’t rea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3 slid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F &amp; S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8 slid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minders &amp; No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ming Assignment 2 due May 2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ework 3 will be due June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ct 3 will be due June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 Project too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ct 1 seems to have gone w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s for your help with the im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ulticast Summary (Review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ries to anyone who is liste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dates to shared s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ic use of re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pe contro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nty of ways to generate distribution tr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ulticast Trees (Review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erse Path Floo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a good t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erse Path Broadcas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oid duplicates on a wire by electing a pa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ncated RP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une uninterested lea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erse Path Multicas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une on de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ulticast Challenges (Review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s in receiver bandwid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ndant transmi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ransmi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dering/consistency of multiple sen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ulticast Challenge: Heterogene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ll want to watch the rolling stones on our comput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world includes links speeds that differ by 3 orders of magnitude (at least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ms, isd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s, cable mod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eless link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broadcast does not fit al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sponse: Simulca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8.8 modems get this stre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 network links get an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sponse: RL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iver-driven Layered Multic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d a bunch of streams of increasing det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layer: includes the most important stuff, sm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layers: add detail, may be lar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ivers dynamically decide how many layers to subscribe 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s implies congestion implies over-subscrip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6T19:43:35Z</dcterms:created>
  <dc:creator>Neil T. Spring</dc:creator>
  <dc:description/>
  <dc:language>en-US</dc:language>
  <cp:lastModifiedBy>Neil T. Spring</cp:lastModifiedBy>
  <dcterms:modified xsi:type="dcterms:W3CDTF">1999-05-12T00:46:06Z</dcterms:modified>
  <cp:revision>19</cp:revision>
  <dc:subject/>
  <dc:title>588 Section 1</dc:title>
</cp:coreProperties>
</file>