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FA7-7E52-403A-8DA6-560BA60A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124-37A7-4FD1-8943-B11F5716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BD0-6251-4F9D-8532-4F7C4A66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9A6-5C4F-4EE8-AF24-4F3B53FC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D65-60A0-440B-9574-E7291CFD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AAB-F771-41CC-B620-E1A85A1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8E5-7A4C-4280-A1D9-BD6DFED6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240-7632-4A2D-83B7-B14F12CF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C7C-E349-4FD6-A12A-9E9A29E3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D5D-8C50-4452-B243-A109E93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C59-F3CC-4939-A6C6-8F099B6B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FA4-7E88-45B9-B38D-385A20D5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F958-FE92-4366-BDB2-6DC6ABB92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88 Section 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4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DR: Classless InterDomai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“B”, “C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st variable length prefi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internal node has degree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tty simple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k of routers to visit along the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router can push a new (more explicit) route on to the stack to get to the next 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is 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rror pron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to imple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ify your assertion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cpdump as a tool is 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 slides from Week 4 might be helpful.  Note that the timer isn’t cor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ing tcpdump output alone is not f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20 data packets must be sent: yes, all 20 should be in the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a count of round trips in the third data packet drop part (with a little explanation) is 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W = MSS *C / ( RTT * sqrt(p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c packet loss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ca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cast Routing in Datagram Internetworks and Extended 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o multica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ff you know some set of machines care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s to shared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ff you don’t know who cares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multicas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” resources deman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have to unicast to every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have to broadcast to those who don’t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’t be filtered in hardwar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doesn’t make it very far into the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ers and receivers can come and go; the network figures out how to move bi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: non-members can send to th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d: can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vasive: there are members every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rse: low member to non-member rat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: few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inement: Scope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 want to try close destinations fir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s excessive res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T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know the only recipients you care about are close, don’t bother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/ Prin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Compu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gle Spanning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 one spanning tree for all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n to see which attached segments care about that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packet arrives on an incident edge, and the other edge cares, forw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to maintain state about who ca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transparent (hosts have to keep ca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ance Vector Multica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rse Pa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n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potentially a different shortest-path tree from every sender to every multicast group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 sli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work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9 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ca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1 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Path Floo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a good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d in the RPB section of the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rse-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know how to get from a source to a destination, so we presume a packet would come back the same 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o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 those packets over all outgoing li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Path Broadca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void duplic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y electing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ter as the ‘parent’ of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’ 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the elected parent can send the packet on the 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the closest, using address to break 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uncated RP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ers on child links tell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n is not a l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body downstream would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une uninterested le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spanning tree already had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Path Multica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waste resources pruning unused multicast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une on dem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membership report (NM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k State instea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’ve got a map of the network, and a new multicast packet shows up from a new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jkstra’s on de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che the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ht take a while to get the first packet thr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sues in multica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s in receiver bandwid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ndant 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ing/consistency of multiple se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d Homework Assignmen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have received it this aftern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applicable question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work 2 due Monday, May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ing Assignment 2 due May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Project t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ing with images (1 slid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few slides: each problem in a little detai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you know what we’re asking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you the opportunity to ask questions on each problem individu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1c &amp;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 formats: EPS, PNG, GIF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your name on em, filename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o should work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 descriptions ok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pology =  (A,B)(B,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ing = a -&gt; b, wait t se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rinted and mailed t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4240" y="4940280"/>
            <a:ext cx="335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 3523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versity of Washing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ttle, WA 98195-23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extra detail because it comes up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ulticast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second programming 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g Sche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ance 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-based distance 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is to decide where to forward a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 1: Link St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router sends out an LSP describing what other routers it’s connected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routers can overlay LSPs to discover the complete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es for link-sta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ably distributing LSPs (reliable flood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ably processing L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PF has additional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 balan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 1: Distance Vec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router sends a vector of distances to each dest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programming sort of 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can reach my neighbor’s destinations in 1 extra hop (or bet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lit horizon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advertise routes back where they came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es for distance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bility after link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-based Distance Vec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 BGP (199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the (transit) AS’s packets would travel thr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’s are stub, multihomed, or tran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ed by a 16-bit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avoid loo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G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policy based 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on getting there loop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5-05T02:16:07Z</dcterms:modified>
  <cp:revision>15</cp:revision>
  <dc:subject/>
  <dc:title>588 Section 1</dc:title>
</cp:coreProperties>
</file>