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C4-7E63-4C84-A5DC-F14E1982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8BA-3AA9-494D-AAF5-0DB1865B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8C2-BFEE-4976-AC44-995EA536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CE6-AAFC-49CD-82C6-E5FA81C2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485-4CAE-41C9-B870-5669A32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D54-14C3-4286-80BA-C779AA5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C13-DA5C-40FC-BDAC-81B73E3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D9C-C343-408A-9EE6-B96CE5F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9B8-E1B8-4C11-A6D6-58DCAFC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E29-63CE-40B5-AD26-B1DE24F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04F-2E85-4103-9B10-B644453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2CD-17B4-4D88-9809-E162CE8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0451-7928-4F8B-8C84-45B504633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4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DR: Classless InterDomai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“B”, “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st variable length prefi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ternal node has degree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tty simpl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k of routers to visit along th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can push a new (more explicit) route on to the stack to get to the next 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is 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rror pro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to imple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ify your assertion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cpdump as a tool is 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slides from Week 4 might be helpful.  Note that the timer isn’t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ing tcpdump output alone is not f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20 data packets must be sent: yes, all 20 should be in the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a count of round trips in the third data packet drop part (with a little explanation) is f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 = MSS *C / ( RTT * sqrt(p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 packet loss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cast Routing in Datagram Internetworks and Extended 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o multica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ff you know some set of machines care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s to shared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ff you don’t know who cares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multicas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” resources deman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have to unicast to ever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have to broadcast to those who don’t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’t be filtered in hardwar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doesn’t make it very far into the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ers and receivers can come and go; the network figures out how to move b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: non-members can send to th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d: ca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vasive: there are members every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rse: low member to non-member rat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: few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inement: Scop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want to try close destinations fir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s excessive res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T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know the only recipients you care about are close, don’t bother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/ Prin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ngle Spanning Tre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one spanning tree for all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n to see which attached segments care about that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packet arrives on an incident edge, and the other edge cares, forw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to maintain state about who ca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transparent (hosts have to keep ca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ance Vector Multi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 Pa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n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potentially a different shortest-path tree from every sender to every multicast grou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9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ca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1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Floo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d a good t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d in the RPB section of the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-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know how to get from a source to a destination, so we presume a packet would come back the same 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 those packets over all outgoing l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Broad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oid duplic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electing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er as the ‘parent’ of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’ 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the elected parent can send the packet on the 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the closest, using address to break 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uncated RP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rs on child links tell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n is not a l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body downstream would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une uninterested le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spanning tree already had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verse Path Multi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waste resources pruning unused multicast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une on dem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membership report (N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k State instea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’ve got a map of the network, and a new multicast packet shows up from a new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kstra’s on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che the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ht take a while to get the first packet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sues in multicas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receiver band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ndant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/consistency of multiple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d Homework Assignmen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have received it this aftern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applicable question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2 due Monday, May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Project t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ing with images (1 slid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few slides: each problem in a little deta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know what we’re asking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you the opportunity to ask questions on each problem individu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1c &amp;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formats: EPS, PNG, GIF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your name on em, filename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 should work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 descriptions ok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ology =  (A,B)(B,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ing = a -&gt; b, wait t se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rinted and mailed 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4240" y="4940280"/>
            <a:ext cx="335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 3523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Washing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ttle, WA 98195-23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2: Problem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extra detail because it comes up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ulticast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econd programming 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Sche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ance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-based distance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is to decide where to forward a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 1: Link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sends out an LSP describing what other routers it’s connect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routers can overlay LSPs to discover the complete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s for link-sta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ably distributing LSPs (reliable flood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lably processing L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PF has additional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 1: Distance Ve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router sends a vector of distances to each dest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programming sort of 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an reach my neighbor’s destinations in 1 extra hop (or bet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lit horizon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advertise routes back where they came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s for distance v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bility after link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-based Distance Vec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 BGP (199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the (transit) AS’s packets would travel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’s are stub, multihomed, or tran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ed by a 16-bit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void loo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G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policy based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on getting there loop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05T02:16:07Z</dcterms:modified>
  <cp:revision>15</cp:revision>
  <dc:subject/>
  <dc:title>588 Section 1</dc:title>
</cp:coreProperties>
</file>