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301-70D4-4C26-8D42-3CB01375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4BA-428C-4C5D-B768-931FC1AB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B13-2626-4015-BBAF-2A16C616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F8B-5662-4076-BCEE-C4907372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7AC-856B-4017-A328-CD4A24A9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582-4A4B-4F91-B5F3-1D3F1087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627-BAB7-4B7E-B3AD-D44AD3F4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8DA-D7F3-480F-8D50-EF0BAC14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C71-89F8-4917-87FC-A9884673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01A-6FC9-4EFB-AEF7-59D5E65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B9F-573D-4629-9F88-8011DA3B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6ED-0361-42E4-8D17-8362A4DD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1B9-72D4-4ADF-A411-33FB12079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88 Section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27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TP vs. Tel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 shoves a lot of packets into the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gets a bigger share of the band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makes sure it gets what bandwidth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onsequences of full queu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TP vs. Tel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 shoves a lot of packets into the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gets a bigger share of the band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makes sure it gets what bandwidth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onsequences of full queu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ts get drop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ts get dela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fair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rhetorical ques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al alloc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ource?  Destination? Connec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 sources really  need bandwid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FS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users with many proces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 with many outgoing connec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al Set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ion of  FCFS &amp; FQ using three flow control algorith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flow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rtt, fixed window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cobson &amp; Karels’ (J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outs signals congestion: modify cw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der bit when passing congested gate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ness evi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elnet packets are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Roundtr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ans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ggest variability in delay, since timeouts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ped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y congestion was not resol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Underloaded Gateway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al setup looks like a modem link (56Kb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de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bit already had decent delay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strange Roundtrip times for FTP in FQ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Overloaded Gate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buffer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: several ways to achieve fair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Q affects telnet de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Q doesn’t reduce the number of retransmits/dr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Ill-behaved sour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 source fills the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Q charges for dropped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at shutting it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ndtrip for good apps preser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Mixed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12 for one Generic sou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 for sources to implement J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Multi-hop networ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is the fourth colum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bit doesn’t work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roundtrip time is the same across all routes is mysteriou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2 descri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 Queueing (Demers et.al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Complex networ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umn 4 &amp;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ers aided by timely a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wrong with fair queue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d Homework Assignment 1 s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seven problems have been gra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work 2 due 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May 3, now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Assignment 1 “solution” available as part of P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ject 2, Routing &amp; Cong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pology discovery, (make t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ting packets (lookup in t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ure management (change t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part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estion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ptive window siz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p packets o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s rate won’t be as bad this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ir Queue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the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ir Queue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the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bandwidth alloc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wrong with FCF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ir Queue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the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bandwidth alloc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wrong with FCF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 vs. Tel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 users break end-to-end congestion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gel’s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ly Window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only one unacknowledged  small packet into the net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etwise fair queue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d to Bitwise Round-robin (BR) described in this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TP vs. Tel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 shoves a lot of packets into the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4-28T02:21:20Z</dcterms:modified>
  <cp:revision>11</cp:revision>
  <dc:subject/>
  <dc:title>588 Section 1</dc:title>
</cp:coreProperties>
</file>