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F96-A1DE-48E5-94EC-304CA54D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C20-77A0-46B8-8CD1-465483B4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DB3-D6A1-4A22-84AB-B68F89B8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787-8055-4F2E-B878-91807666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50C-0FAC-4951-A7F2-A0B32C00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EB9-2E76-4246-9800-C4EFCEED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D60-3AE7-4A8C-8863-745AB926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86D-F625-4613-A33A-9E713A63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20F-F316-4697-9855-5C67516E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B8A-4E5D-4F9E-A5AE-481626EA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D96-DEA8-4DE3-969E-3A76A97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D1F-D41D-47EE-B4DB-CD7EB90B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32D9-B6D7-4BA3-A036-4876FD4EC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88 Section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il 27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TP vs. Tel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 shoves a lot of packets into the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gets a bigger share of the band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makes sure it gets what bandwidth i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consequences of full queu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TP vs. Tel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 shoves a lot of packets into the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gets a bigger share of the band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makes sure it gets what bandwidth i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consequences of full queu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ts get drop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ts get dela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fair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rhetorical ques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al alloc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ource?  Destination? Connec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 sources really  need bandwid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FS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 users with many process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s with many outgoing connec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mental Set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ion of  FCFS &amp; FQ using three flow control algorith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flow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rtt, fixed window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cobson &amp; Karels’ (J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outs signals congestion: modify cw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b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der bit when passing congested gate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ness evi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elnet packets are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erage Roundtr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rans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ggest variability in delay, since timeouts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opped Pack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y congestion was not resol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Underloaded Gateway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al setup looks like a modem link (56Kb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r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de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bit already had decent delay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strange Roundtrip times for FTP in FQ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Overloaded Gate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buffer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: several ways to achieve fair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Q affects telnet de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Q doesn’t reduce the number of retransmits/dr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Ill-behaved sour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 source fills the 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Q charges for dropped pack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at shutting it d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ndtrip for good apps preser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Mixed Protoc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12 for one Generic sour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 for sources to implement J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Multi-hop networ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is the fourth colum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bit doesn’t work a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roundtrip time is the same across all routes is mysteriou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2 descri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r Queueing (Demers et.al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s: Complex networ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umn 4 &amp;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ers aided by timely ac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wrong with fair queue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d Homework Assignment 1 so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seven problems have been gra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work 2 due 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May 3, now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ming Assignment 1 “solution” available as part of P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ject 2, Routing &amp; Cong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pology discovery, (make t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ting packets (lookup in t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lure management (change t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partit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gestion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ptive window siz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p packets or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s rate won’t be as bad this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ir Queue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the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ir Queue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the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bandwidth alloc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wrong with FCF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ir Queue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the probl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bandwidth alloc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wrong with FCF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 vs. Tel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 users break end-to-end congestion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gel’s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ly Window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 only one unacknowledged  small packet into the net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etwise fair queue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d to Bitwise Round-robin (BR) described in this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TP vs. Tel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 shoves a lot of packets into the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4-28T02:21:20Z</dcterms:modified>
  <cp:revision>11</cp:revision>
  <dc:subject/>
  <dc:title>588 Section 1</dc:title>
</cp:coreProperties>
</file>