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ECB-C38E-49BA-A54F-870E20BA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5E9-613B-4F2C-B8FB-239AA94E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EB3-0BFA-4CE2-AD01-25F1117F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A9A-3B43-417A-9DAB-8BFA1F98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27C-949F-48C4-B467-B85F9B4D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2A0-9E35-45AE-857F-12A36CC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99D-652F-46C0-8228-52D1591E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2A9-69F0-4334-8288-AFB0AA39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066-8A43-423E-B4FB-B5253957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EF5-DA8A-4059-B83E-262F378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E6A-7C7C-4F91-B108-0D633659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021-FE04-4D0C-85B2-16FF3FD1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5DB0-DE78-4575-AC2E-509CF41C6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88 Section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13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’s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: initialized to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able but not found: stored in a 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set 2 no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closest, add to found 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carnap.ss.uci.edu/java/dijkstra/DijkstraApplet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’s Algorithm (practic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foun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t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reachable but not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t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no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st </a:t>
            </a:r>
            <a:r>
              <a:rPr b="0" lang="en-US" sz="2800" spc="-1" strike="noStrike">
                <a:solidFill>
                  <a:srgbClr val="ffffff"/>
                </a:solidFill>
                <a:latin typeface="WP IconicSymbolsA"/>
                <a:ea typeface="WP IconicSymbolsA"/>
              </a:rPr>
              <a:t>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rm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new neighbors, add to ten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entative neighbors, maybe reduc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routing is h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as_big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net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, B, C provide limited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erarchy within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fconfig (contex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lvin:~&gt; /sbin/ifconfig le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0: flags=863&lt;UP,BROADCAST,NOTRAILERS,RUNNING,MULTICAST&gt; mtu 1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et 128.95.1.10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etmask ffffff00 broadcast 128.95.1.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ba:~&gt; /sbin/ifconfig eth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th0      Link encap:10Mbps Ethernet  HWaddr 00:A0:24:D1:51:E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et addr:128.95.4.58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cast:128.95.4.255  Mask:255.255.25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P BROADCAST RUNNING MULTICAST  MTU:1500  Metric: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X packets:14088923 errors:0 dropped:0 overruns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X packets:7022055 errors:0 dropped:0 overruns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rupt:3 Base address:0xff0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st routing table (more contex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poplar:~&gt; netstat -n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Kernel IP routing tabl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Destination     Gateway         Genmask         Flags   MSS Window  irtt Ifa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28.95.3.0      0.0.0.0         </a:t>
            </a:r>
            <a:r>
              <a:rPr b="1" lang="en-US" sz="1300" spc="-1" strike="noStrike">
                <a:solidFill>
                  <a:srgbClr val="ffff00"/>
                </a:solidFill>
                <a:latin typeface="Courier New"/>
              </a:rPr>
              <a:t>255.255.255.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  U      1500 0          0 eth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27.0.0.0       0.0.0.0         255.0.0.0       U      3584 0          0 l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.0.0.0         128.95.3.100    0.0.0.0         UG     1500 0          0 eth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ands to genera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oute add -net 128.95.3.0 netmask 255.255.255.0 eth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oute add default gw 128.95.3.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class of address is 128.95.3.16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’s the implied class of this addres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dress Space Uti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map_small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858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route (contex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xson’s Path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jkstra’s (shortest path)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wor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Assignment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tl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( not yet at ho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 UDP message to host with tt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t sender of time exceeded IC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l = ttl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the ttl stor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plar:~&gt; traceroute www.sdsc.ed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ceroute to www.sdsc.edu (198.202.75.101), 30 hops max, 40 byte pack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 hoover-V3.cac.washington.edu (128.95.3.100)  0.865 ms  0.826 ms  0.80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  uwbr2-FE1-1-0.cac.washington.edu (140.142.153.24)  0.844 ms  0.685 ms  0.68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 adsgpop1-FE5-0-0.snnap.net (198.32.170.1)  0.822 ms  0.789 ms  1.08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  cs-pos.sej.vbns.net (198.48.91.2)  1.876 ms  1.874 ms  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  cs-atm0-0-21.sdsc.vbns.net (204.147.129.81)  27.587 ms  27.697 ms  27.52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  medusa.sdsc.edu (198.17.46.10)  28.011 ms  27.67 ms  33.596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  webfarm1.sdsc.edu (198.202.75.201)  28.239 ms  27.798 ms  27.85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 example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plar:~&gt; traceroute www.cs.monash.edu.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ceroute to shelob.cs.monash.edu.au (130.194.64.159), 30 hops max, 40 byte pack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 hoover-V3.cac.washington.edu (128.95.3.100)  0.85 ms  1.223 ms  0.70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  uwbr2-FE1-1-0.cac.washington.edu (140.142.153.24)  0.74 ms  0.589 ms  0.58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 fe3-0.wes-as3942.nw.verio.net (198.32.170.19)  1.381 ms  1.145 ms  1.5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  sl-gw3-sea-5-0.sprintlink.net (144.228.96.25)  2.067 ms  1.833 ms  1.395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  sl-bb10-sea-4-1.sprintlink.net (144.232.6.41)  1.055 ms  1.127 ms  1.331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  sl-bb4-sea-0-0-0.sprintlink.net (144.232.6.10)  2.074 ms  2.595 ms  1.89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  core2-hssi3-0.Seattle.cw.net (206.157.77.153)  3.483 ms  4.334 ms  5.44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8  core4-hssi5-0-0.WestOrange.cw.net (206.157.77.105)  70.998 ms core4-hssi0-0-0.WestOrange.cw.net (206.157.77.109)  70.09 ms core4-hssi5-0-0.WestOrange.cw.net (206.157.77.105)  75.67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  cwusa-mciworldcom.WestOrange.cw.net (166.49.11.142)  216.362 ms  70.449 ms  71.93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  207.124.127.34 (207.124.127.34)  93.276 ms  92.253 ms  91.87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1  nyd-7513-1-f5-0.cwix.net (206.142.243.1)  92.658 ms  90.659 ms  100.49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  sfd-7513-2-a10-0-2.cwix.net (207.124.107.74)  117.85 ms  131.157 ms  128.031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3  g-sfd-br-02-f1-0.gn.cwix.net (206.142.242.1)  97.64 ms  98.739 ms  105.24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4  cwi-optus.cwix.net (207.124.109.58)  448.903 ms  451.08 ms  444.25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  h21-4.ia2.optus.net.au (202.139.7.137)  459.292 ms  448.061 ms  453.086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6  atm50-4.ia3.optus.net.au (202.139.7.149)  477.353 ms  529.946 ms  510.43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7  192.65.88.194 (192.65.88.194)  520.156 ms  502.582 ms  475.863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8  monash-gw.vrn.edu.au (203.21.130.135)  463.963 ms  468.625 ms  465.67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9  eng-gw.monash.edu.au (130.194.14.50)  476.322 ms  462.563 ms  468.38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  shelob.cs.monash.edu.au (130.194.64.159)  466.978 ms  453.821 ms  460.58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 example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ww.sdsc.edu TO www.cs.monash.edu.au at Tue Apr 13 13:18:31 PDT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ceroute to shelob.cs.monash.edu.au (130.194.64.159), 30 hops max, 40 byte pack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 medusa.sdsc.edu (198.202.75.10)  1 ms  0 ms  0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  192.12.207.9 (192.12.207.9)  1 ms  11 ms  1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 atm2-0-6.san-bb1.cerf.net (134.24.12.25)  5 ms  3 ms  3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  pos0-0-155M.san-bb6.cerf.net (134.24.29.130)  4 ms !H * 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  atm6-0-2-622M.lax-bb4.cerf.net (134.24.32.62)  6 ms  7 ms  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  pos6-0-622M.sfo-bb3.cerf.net (134.24.29.233)  17 ms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!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*  16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  pos11-0-0.sfo-bb2.cerf.net (134.24.29.198)  15 ms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1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  att-gcsi-gw.sfo-bb2.cerf.net (134.24.45.6)  27 ms  21 ms  19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  205.174.74.166 (205.174.74.166)  19 ms  17 ms  19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  h21-4.ia2.optus.net.au (202.139.7.137)  360 ms  373 ms  36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1  202.139.7.54 (202.139.7.54)  350 ms  349 ms  34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  192.65.88.194 (192.65.88.194)  358 ms  352 ms  35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3  monash-gw.vrn.edu.au (203.21.130.135)  366 ms  364 ms  36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4  eng-gw.monash.edu.au (130.194.14.50)  363 ms  373 ms  360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  * shelob.cs.monash.edu.au (130.194.64.159)  365 ms  366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 example IV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aceroute to ares.fedworld.gov (192.239.92.47), 30 hops max, 40 byte pac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  hoover-V3.cac.washington.edu (128.95.3.100)  0.835 ms (255)  0.844 ms (255)  0.86 ms (25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  uwbr2-FE5-1-0.cac.washington.edu (140.142.154.24)  0.656 ms (254)  0.588 ms (254)  0.703 ms (25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  fe3-0.wes-as3942.nw.verio.net (198.32.170.19)  1.618 ms (253)  1.162 ms (253)  1.18 ms (25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  sl-gw3-sea-5-0.sprintlink.net (144.228.96.25)  2.516 ms (252)  2.721 ms (252)  2.239 ms (25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  sl-bb10-sea-4-1.sprintlink.net (144.232.6.41)  2.181 ms (251)  1.879 ms (251)  1.708 ms (25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  sl-bb3-sea-0-0-0.sprintlink.net (144.232.6.18)  2.357 ms (250)  1.739 ms (250)  1.436 ms (25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  hssi5-1-0.br1.sea1.alter.net (137.39.250.50)  2.51 ms (249)  2.104 ms (249)  3.763 ms (24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  105.atm2-0.xr2.sea1.alter.net (146.188.200.70)  2.761 ms (248)  2.034 ms (248)  2.523 ms (24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  194.atm3-0.tr2.sea1.alter.net (146.188.200.118)  3.238 ms (247)  2.432 ms (247)  1.838 ms (24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  110.atm7-0.tr2.dca1.alter.net (146.188.136.233)  80.31 ms (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44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 77.324 ms (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44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 74.776 ms (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44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1  198.atm6-0.xr2.tco1.alter.net (146.188.161.177)  85.166 ms (245)  81.341 ms (245)  78.24 ms (24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  192.atm10-0-0.gw3.tco1.alter.net (146.188.161.117)  80.006 ms (244)  68.574 ms (244)  76.293 ms (24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  * * 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4  fedworld-gw.customer.ALTER.NET (157.130.34.194)  62.019 ms (243) !A * 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 * * fedworld-gw.customer.ALTER.NET (157.130.34.194)  63.617 ms (243) !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6  * fedworld-gw.customer.ALTER.NET (157.130.34.194)  64.511 ms (243) !A 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xson’s Patholo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bil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al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really a stabilit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build a real time applic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4-14T00:25:24Z</dcterms:modified>
  <cp:revision>4</cp:revision>
  <dc:subject/>
  <dc:title>588 Section 1</dc:title>
</cp:coreProperties>
</file>