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522D-BE12-4C77-979B-38401B173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ped fragments are worse than dropped pack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gmenting fragments doesn’t work so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sembly is h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mean to probe a route when routes change?  Must time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ility of prob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D3F-F50B-4B04-8851-BE635620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1D90-8BDB-4E52-8AFC-E09C0E9A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9FAD-7C70-4D40-BAF0-95FCEAD7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443-237B-45AF-9158-F5B778DA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867-AAA4-4C39-9ACF-07FD5549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08E-FB21-4F85-9B12-3F69300B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4755-5999-49A4-BFF5-5FC38384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6DED-F4F1-4AD6-BA4A-F62F4D8F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7017-BCE2-4C2B-8179-3779E12D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DEC-CED2-47BA-A239-D36C15C6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958-9D2D-4AE7-8D73-968D2E94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4AE9-A354-4095-8C80-E569C14D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8E03-0D98-48E3-A1AC-F89E161ACF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88 Section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il 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ril 6, 19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bining the two pap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foo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5818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ramming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p and Wait -&gt; Sliding Wind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(JDK, J+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gmentation Considered Harm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d Capacity of an Eth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ming Assignment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nd time 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graduate: UC San Die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 Weather Servic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ian Bershad &amp; Hank Lev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rcupine Scalable Server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are yo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you sign up for this cour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o you hope to lear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you programmed in Java befo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agmentation = Harmfu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are packets fragmen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fragmentation harmfu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ternatives for Fragmentation Avoid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y data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76-bytes off net/through a gat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ing  (2 typ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-fragment fl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ive de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exceeded with fragment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gmentation warnings at gate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ompelling are the graphs for deterministic packet los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h MTU discovery (RFC1191) in IPv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opin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ed Capac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bad is ethernet under loa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meters - specification vs.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vs. std. deviation measu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 at graphs, fairly easy to interpr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rt cables, fewer hosts, correct protocol implementation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st possible packet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mix RT and bulk data ap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performance requires hard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stakes yield poor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6T19:43:35Z</dcterms:created>
  <dc:creator>Neil T. Spring</dc:creator>
  <dc:description/>
  <dc:language>en-US</dc:language>
  <cp:lastModifiedBy>neil spring</cp:lastModifiedBy>
  <dcterms:modified xsi:type="dcterms:W3CDTF">1998-04-06T23:13:05Z</dcterms:modified>
  <cp:revision>4</cp:revision>
  <dc:subject/>
  <dc:title>588 Section 1</dc:title>
</cp:coreProperties>
</file>