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6992D-B1B8-4DFA-8BAC-EB2430C4E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opped fragments are worse than dropped pack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gmenting fragments doesn’t work so w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ssembly is h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it mean to probe a route when routes change?  Must time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exibility of prob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04DB-033F-479C-888F-290662B74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3F28-E612-4B02-B0B8-3F25DE9EC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EA90-85F1-44EF-B87B-DF2E5F7A7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B406-667B-4B74-824A-166E401FA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4BA2-A709-4703-9082-70FD42472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4C2E-25D8-479A-9512-38407F463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2024-7B3B-4910-81D5-D81960D79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66F6-AB0B-4DC8-AB0D-1EE4C983A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87FE-FF6C-4585-8941-D7668F59D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C217-5A91-467E-B00B-9593CECD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3726-3C83-453D-8398-98ADD295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8330-FA4A-4FEF-BDCE-E5856FE9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7E5A6-230E-434D-A354-18C1F50033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588 Section 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il Sp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ril 6, 199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bining the two pap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foo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58188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gramming Assign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op and Wait -&gt; Sliding Wind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va (JDK, J++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ta struc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chedu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agmentation Considered Harmfu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asured Capacity of an Ethern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gramming Assignment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nd time 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dergraduate: UC San Dieg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twork Weather Service Pro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rian Bershad &amp; Hank Lev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rcupine Scalable Server Pro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o are you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y did you sign up for this cours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do you hope to lear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ve you programmed in Java befor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ragmentation = Harmfu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are packets fragment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s fragmentation harmfu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lternatives for Fragmentation Avoida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ny datagra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76-bytes off net/through a gate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bing  (2 typ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’t-fragment fl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ssive det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me exceeded with fragment si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agmentation warnings at gatew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compelling are the graphs for deterministic packet los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th MTU discovery (RFC1191) in IPv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opinion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asured Capac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bad is ethernet under loa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ameters - specification vs. pract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tal vs. std. deviation measur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ok at graphs, fairly easy to interpr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ess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rt cables, fewer hosts, correct protocol implementation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st possible packet si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’t mix RT and bulk data ap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gh performance requires hard 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stakes yield poor perform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06T19:43:35Z</dcterms:created>
  <dc:creator>Neil T. Spring</dc:creator>
  <dc:description/>
  <dc:language>en-US</dc:language>
  <cp:lastModifiedBy>neil spring</cp:lastModifiedBy>
  <dcterms:modified xsi:type="dcterms:W3CDTF">1998-04-06T23:13:05Z</dcterms:modified>
  <cp:revision>4</cp:revision>
  <dc:subject/>
  <dc:title>588 Section 1</dc:title>
</cp:coreProperties>
</file>