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22200" y="704520"/>
            <a:ext cx="4502160" cy="33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0B10C75-DC5D-4D36-8A5D-5F98DB9408D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278858A-0E13-4E55-9ABD-A0A7764D36C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32280" y="648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32280" y="861840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861840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648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20520" y="4311360"/>
            <a:ext cx="50958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EEE3D66-70C7-43C9-ABB1-2EA39EC2AE7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20520" y="4311360"/>
            <a:ext cx="50958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AEF-4643-4F9E-8E24-5CAF2946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3CC-63D0-40C2-A08C-40AA414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8DB-4B3E-4BE7-A1AF-80CC2C1C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235-582D-4202-9A8B-B3DD847F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C39-70A7-43BE-A7F7-26D93A42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2281-0BF3-464D-B550-E627030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605-8B6A-4D66-8B1F-CBB30AA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0FFA-EA1B-45CD-B34B-5F7DE95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C9E6-D681-4760-97A2-D11F7B9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BD6B-2C32-47AB-AE8A-6ED6F85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B19-E625-4755-8D7B-9542A01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67B-3C00-4ED8-AF20-A725D6AD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D7E-6DF1-4193-8298-B04DE9A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125-0CAC-47FF-A26F-9EF4270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100-82F0-44F9-B681-3B47374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8E8-F84B-44D6-BC77-0111FADE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A7D-E657-414E-A578-43E5EC4D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000-7E49-4185-8DC5-1A5EFBB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4B7-CD92-4EB1-B06A-9315FBA4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F4E-C71D-449C-9C57-1F21925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2A6-1686-44F4-8D11-6C54CF7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4D1-3C3E-4C68-8E20-FFD0A3F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2CB-124B-4A3A-9545-D869DF4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828-CA20-4319-9677-2121314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1DCF-0394-4110-BBD5-3D81720F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AA89-6427-42E3-BF73-222058104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8: N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locate wide area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: name -&gt;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: IP address -&gt;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generic challenge: how do we build wide area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d replica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82F-0DE5-449F-B231-87975E7DFC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herence Mode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appear as if to a single,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ops can occur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s by same host performe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5C3-E692-4FD6-BEE2-1D81949E5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Cache Coher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aged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it reload to get up-to-dat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s (NFS, WWW, D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periodically polls server for newes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backs (AFS, SMPs, trans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notifies client whenever data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ation or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07D-64E6-4E84-9A6A-1292D3CD4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quential Consistency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08600" y="2013120"/>
            <a:ext cx="91728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3760" y="46674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87680" y="46800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5680" y="199872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4160" y="20923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4880" y="477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326280" y="2714400"/>
            <a:ext cx="1233360" cy="19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25880" y="4678200"/>
            <a:ext cx="917640" cy="7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25880" y="2352600"/>
            <a:ext cx="741600" cy="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80720" y="175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5520" y="495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57120" y="2714760"/>
            <a:ext cx="11048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7850000">
            <a:off x="2772000" y="3245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2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3645600">
            <a:off x="6542640" y="32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584680" y="2750760"/>
            <a:ext cx="506520" cy="19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420880" y="2763720"/>
            <a:ext cx="52884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7013000">
            <a:off x="5236920" y="3610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2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7013000">
            <a:off x="4856760" y="3506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79600" y="2763360"/>
            <a:ext cx="1024200" cy="191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38840" y="2492280"/>
            <a:ext cx="752400" cy="2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059400">
            <a:off x="3286080" y="364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3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3480" y="2774880"/>
            <a:ext cx="1152720" cy="181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3645600">
            <a:off x="6077880" y="3756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5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59840" y="2451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4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1840" y="5678640"/>
            <a:ext cx="62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 doesn’t complete until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ies invalidated or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294-505C-4E19-988B-438DEC95C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Experienc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instance of globally distributed database in widesprea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ing/replication crucial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nsistenc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lement, crucial for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is difficult to 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caching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3B3-721E-4535-A78A-7A096A1DF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800" y="1768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: can take decades to deploy ne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: need to put functionality at most effective point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ackets -- programs in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routers -- programmable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ervices -- put servers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292-D48C-496E-A3C7-04981E63F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ames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have become complex, distribut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have become heter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ne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ice should be able to use an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ice should be able to move functionality into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3C-32F0-4B2A-B0DD-602CA710AF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5200" y="2906640"/>
            <a:ext cx="844200" cy="12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110040" y="3063960"/>
            <a:ext cx="914400" cy="88740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87480" y="1685880"/>
            <a:ext cx="1441800" cy="784440"/>
          </a:xfrm>
          <a:prstGeom prst="rect">
            <a:avLst/>
          </a:prstGeom>
          <a:solidFill>
            <a:srgbClr val="66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2957400"/>
            <a:ext cx="914400" cy="88740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28640" y="3359160"/>
            <a:ext cx="1506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0040" y="3371760"/>
            <a:ext cx="3089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022280" y="3578400"/>
            <a:ext cx="3063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28280" y="3603600"/>
            <a:ext cx="146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444480" y="2549520"/>
            <a:ext cx="12600" cy="52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2280" y="2496960"/>
            <a:ext cx="0" cy="579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78200" y="1725480"/>
            <a:ext cx="12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1640" y="2997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62280" y="262584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75240" y="2651040"/>
            <a:ext cx="13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8880" y="29732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360360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age (1024X76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62240" y="328140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8000" y="3205080"/>
            <a:ext cx="11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720" y="4276800"/>
            <a:ext cx="81234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name -&gt; IP addres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ing and transport sepa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 have global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Naming Reconsider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2520" y="3527280"/>
            <a:ext cx="145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527280" y="24699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3680" y="2470320"/>
            <a:ext cx="0" cy="58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3409920"/>
            <a:ext cx="30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021200" y="3540240"/>
            <a:ext cx="306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46280" y="3622680"/>
            <a:ext cx="143496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8360" y="6076080"/>
            <a:ext cx="392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t flexible or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600" y="286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ing Flexibility to N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 replies with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issues request to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round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order of replicas provided to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 Local Director/Distributed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redirection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alancing vs. distance, fail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C81-08FB-4695-B106-0C75A5E7C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Naming Flexi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customizes content to specific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nn.com, advertisement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ustomize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to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of new IP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, larger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DDE-DB21-4975-A6CA-987681DA1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Naming Flexi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independ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resource names (U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s that can chang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ripts to mang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bject systems (e.g., Globe, Leg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scalably locate mobil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8BF-893E-4B95-8F3F-15B3CE8DD3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main Name System (DN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have global scope -- they mean the same thing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are organized hierarc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nn.com, june.cs.washington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tree can be assigned to different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ing and replication for performance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nsistency to simplif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F15-3BAC-494B-8C41-6A59D3136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0800" y="2293920"/>
            <a:ext cx="803736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ext-sensitive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ser types cnn.com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lient is behind a modem, it gets back a b/w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lient is a palm pilot, it gets  a distilled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the client is in Europe, it goes to the European repl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bine naming and transport in one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vide flexibility and extensibility in the way wide area resources are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ames Scenari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8240" y="156960"/>
            <a:ext cx="8202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ctive Names: Basic Ide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12840" y="1230480"/>
            <a:ext cx="7112160" cy="1695240"/>
            <a:chOff x="1212840" y="1230480"/>
            <a:chExt cx="7112160" cy="1695240"/>
          </a:xfrm>
        </p:grpSpPr>
        <p:sp>
          <p:nvSpPr>
            <p:cNvPr id="256" name=""/>
            <p:cNvSpPr/>
            <p:nvPr/>
          </p:nvSpPr>
          <p:spPr>
            <a:xfrm>
              <a:off x="6348240" y="1663560"/>
              <a:ext cx="19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0240" y="1230480"/>
              <a:ext cx="1858680" cy="1695240"/>
            </a:xfrm>
            <a:prstGeom prst="flowChartMultidocumen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840" y="1704960"/>
              <a:ext cx="109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2080" y="173340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Progr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90680" y="2030400"/>
              <a:ext cx="10540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1080" y="195732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30200" y="3092400"/>
            <a:ext cx="84675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 resolved to mobile, secure programs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tive Names organized into hierarchical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amespac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 A program is associated with each namesp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pace programs can be changed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ten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tive Names are connection oriented: better end-to-end semantics and performa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89680" y="3251160"/>
            <a:ext cx="349200" cy="160200"/>
          </a:xfrm>
          <a:prstGeom prst="rightArrow">
            <a:avLst>
              <a:gd name="adj1" fmla="val 50000"/>
              <a:gd name="adj2" fmla="val 5449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1280" y="4668840"/>
            <a:ext cx="349200" cy="160200"/>
          </a:xfrm>
          <a:prstGeom prst="rightArrow">
            <a:avLst>
              <a:gd name="adj1" fmla="val 50000"/>
              <a:gd name="adj2" fmla="val 5449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480" y="295200"/>
            <a:ext cx="833436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Programming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7680" y="2933640"/>
            <a:ext cx="787716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cation independen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s may run on any A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eam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program operates on a data stream which is the result of the previous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inuation passing sty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does not have to return to the c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9080" y="1455840"/>
            <a:ext cx="7253280" cy="1551960"/>
            <a:chOff x="919080" y="1455840"/>
            <a:chExt cx="7253280" cy="1551960"/>
          </a:xfrm>
        </p:grpSpPr>
        <p:sp>
          <p:nvSpPr>
            <p:cNvPr id="268" name=""/>
            <p:cNvSpPr/>
            <p:nvPr/>
          </p:nvSpPr>
          <p:spPr>
            <a:xfrm>
              <a:off x="919080" y="193968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2640" y="2160360"/>
              <a:ext cx="86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8160" y="1954080"/>
              <a:ext cx="15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Program1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9000" y="19634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Progra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02320" y="2172960"/>
              <a:ext cx="74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0240" y="217296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72360" y="2265120"/>
              <a:ext cx="0" cy="74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609920" y="2982600"/>
              <a:ext cx="654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609920" y="2447280"/>
              <a:ext cx="0" cy="53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81400" y="1950840"/>
              <a:ext cx="1409760" cy="49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79920" y="1947600"/>
              <a:ext cx="1409760" cy="49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96840" y="1520640"/>
              <a:ext cx="10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6920" y="1455840"/>
              <a:ext cx="15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4160" y="14558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80960" y="196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Performance G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44480" y="4710240"/>
            <a:ext cx="4475160" cy="1172880"/>
            <a:chOff x="744480" y="4710240"/>
            <a:chExt cx="4475160" cy="1172880"/>
          </a:xfrm>
        </p:grpSpPr>
        <p:sp>
          <p:nvSpPr>
            <p:cNvPr id="284" name=""/>
            <p:cNvSpPr/>
            <p:nvPr/>
          </p:nvSpPr>
          <p:spPr>
            <a:xfrm>
              <a:off x="2622600" y="5295960"/>
              <a:ext cx="627120" cy="5871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61920" y="5295960"/>
              <a:ext cx="627120" cy="58716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2920" y="5218200"/>
              <a:ext cx="627120" cy="587160"/>
            </a:xfrm>
            <a:prstGeom prst="ellipse">
              <a:avLst/>
            </a:prstGeom>
            <a:solidFill>
              <a:srgbClr val="c1d31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4480" y="4788000"/>
              <a:ext cx="12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7920" y="473544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97160" y="471024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2280" y="550692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9720" y="5467320"/>
              <a:ext cx="1029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262320" y="563724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592280" y="570240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24400" y="4151160"/>
            <a:ext cx="3259080" cy="2394720"/>
            <a:chOff x="5324400" y="4151160"/>
            <a:chExt cx="3259080" cy="2394720"/>
          </a:xfrm>
        </p:grpSpPr>
        <p:sp>
          <p:nvSpPr>
            <p:cNvPr id="295" name=""/>
            <p:cNvSpPr/>
            <p:nvPr/>
          </p:nvSpPr>
          <p:spPr>
            <a:xfrm>
              <a:off x="7283520" y="5573520"/>
              <a:ext cx="627120" cy="587520"/>
            </a:xfrm>
            <a:prstGeom prst="ellipse">
              <a:avLst/>
            </a:prstGeom>
            <a:solidFill>
              <a:srgbClr val="c1d31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5960" y="608616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0680" y="4570200"/>
              <a:ext cx="627120" cy="5875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7400" y="4570200"/>
              <a:ext cx="627120" cy="58752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24400" y="4154400"/>
              <a:ext cx="12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95960" y="415116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7760" y="478152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69360" y="517680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148080" y="5058720"/>
              <a:ext cx="113508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28480" y="1531800"/>
            <a:ext cx="82076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lication customized transport protoc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grams are location independent. Location can be chosen to optimally utilize resources (e.g., distill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stomization can be performed close to client instead of at the server (e.g., to cache dynamic cont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 way 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6C2-3C46-40AA-948D-72A8B765DCC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47640" y="1550880"/>
            <a:ext cx="8212320" cy="53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names organized in a hierarchy of namespac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pace programs can delegate to subordinate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06440" y="230040"/>
            <a:ext cx="815184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Composing Servi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16040" y="2935440"/>
            <a:ext cx="3352680" cy="981360"/>
            <a:chOff x="2516040" y="2935440"/>
            <a:chExt cx="3352680" cy="981360"/>
          </a:xfrm>
        </p:grpSpPr>
        <p:sp>
          <p:nvSpPr>
            <p:cNvPr id="308" name=""/>
            <p:cNvSpPr/>
            <p:nvPr/>
          </p:nvSpPr>
          <p:spPr>
            <a:xfrm>
              <a:off x="3369600" y="2935440"/>
              <a:ext cx="249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ot-HT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125880" y="3231360"/>
              <a:ext cx="867600" cy="33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79800" y="324324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9800" y="3243240"/>
              <a:ext cx="808920" cy="30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6040" y="3517920"/>
              <a:ext cx="33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nn          yahoo      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osing Servi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3440" y="1920960"/>
            <a:ext cx="856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inuation passing style program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pace programs bundle remaining work into “after methods” before passing contr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ustomiz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http|reply] --&gt;[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refetch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http|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istil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repl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242-0515-446D-B0F9-56CFA21FA6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52440" y="247680"/>
            <a:ext cx="845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800" y="1212840"/>
            <a:ext cx="8310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tection between active name programs provided by Java’s type safety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ller passes a certificate to the callee granting it a subset of its rights (e.g., to translate na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ansitive closure of the certificates determines the rights of a principal (e.g., to provide serv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stance, each caller might grant its callee the right to respond to the cl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BCB-D1C7-4163-9676-3AE2A62FFD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6480" y="196920"/>
            <a:ext cx="8399160" cy="16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crokernel Architectu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39880" y="5091120"/>
            <a:ext cx="23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46280" y="498312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9480" y="4832280"/>
            <a:ext cx="47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31840" y="4983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7520" y="4808520"/>
            <a:ext cx="2114640" cy="82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03400" y="4818240"/>
            <a:ext cx="9720" cy="80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9560" y="5262480"/>
            <a:ext cx="221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1960" y="4910040"/>
            <a:ext cx="584280" cy="50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3120" y="5240160"/>
            <a:ext cx="584280" cy="511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84560" y="4971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65600" y="4960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59520" y="4863960"/>
            <a:ext cx="206280" cy="430200"/>
          </a:xfrm>
          <a:custGeom>
            <a:avLst/>
            <a:gdLst/>
            <a:ahLst/>
            <a:rect l="l" t="t" r="r" b="b"/>
            <a:pathLst>
              <a:path w="130" h="271">
                <a:moveTo>
                  <a:pt x="129" y="0"/>
                </a:moveTo>
                <a:lnTo>
                  <a:pt x="24" y="90"/>
                </a:lnTo>
                <a:lnTo>
                  <a:pt x="105" y="159"/>
                </a:lnTo>
                <a:lnTo>
                  <a:pt x="0" y="270"/>
                </a:lnTo>
                <a:lnTo>
                  <a:pt x="6" y="26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89560" y="4794120"/>
            <a:ext cx="117360" cy="1080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1280" y="5238720"/>
            <a:ext cx="117360" cy="1080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27200" y="4830840"/>
            <a:ext cx="9360" cy="8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40040" y="4749840"/>
            <a:ext cx="2222640" cy="98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5240" y="4452840"/>
            <a:ext cx="5413320" cy="175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86040" y="34354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84360" y="3711600"/>
            <a:ext cx="70020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78000" y="3706920"/>
            <a:ext cx="76860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9960" y="3049560"/>
            <a:ext cx="115740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7560" y="3995640"/>
            <a:ext cx="60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21040" y="3168720"/>
            <a:ext cx="618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382920" y="3076560"/>
            <a:ext cx="1410480" cy="431640"/>
            <a:chOff x="3382920" y="3076560"/>
            <a:chExt cx="1410480" cy="431640"/>
          </a:xfrm>
        </p:grpSpPr>
        <p:sp>
          <p:nvSpPr>
            <p:cNvPr id="342" name=""/>
            <p:cNvSpPr/>
            <p:nvPr/>
          </p:nvSpPr>
          <p:spPr>
            <a:xfrm>
              <a:off x="3409920" y="3076560"/>
              <a:ext cx="13834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it 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82920" y="3165480"/>
              <a:ext cx="11815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05280" y="3703680"/>
            <a:ext cx="393480" cy="431640"/>
            <a:chOff x="4805280" y="3703680"/>
            <a:chExt cx="393480" cy="431640"/>
          </a:xfrm>
        </p:grpSpPr>
        <p:sp>
          <p:nvSpPr>
            <p:cNvPr id="345" name=""/>
            <p:cNvSpPr/>
            <p:nvPr/>
          </p:nvSpPr>
          <p:spPr>
            <a:xfrm>
              <a:off x="4811400" y="3703680"/>
              <a:ext cx="38736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5280" y="3878280"/>
              <a:ext cx="33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951200" y="4165560"/>
            <a:ext cx="0" cy="57168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7520" y="5180040"/>
            <a:ext cx="571320" cy="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09720" y="2185920"/>
            <a:ext cx="1570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7960" y="1944720"/>
            <a:ext cx="8156520" cy="446076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73760" y="4148280"/>
            <a:ext cx="0" cy="57132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22360" y="378000"/>
            <a:ext cx="811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1: Replic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1633680"/>
            <a:ext cx="4157640" cy="46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NS Round-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andomly choose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void hot-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tributed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oute to nearest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eographic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tive 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vious performance,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ap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6400" y="1631880"/>
            <a:ext cx="358164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87400" y="1784520"/>
            <a:ext cx="2744640" cy="3963960"/>
            <a:chOff x="887400" y="1784520"/>
            <a:chExt cx="2744640" cy="3963960"/>
          </a:xfrm>
        </p:grpSpPr>
        <p:sp>
          <p:nvSpPr>
            <p:cNvPr id="356" name=""/>
            <p:cNvSpPr/>
            <p:nvPr/>
          </p:nvSpPr>
          <p:spPr>
            <a:xfrm>
              <a:off x="890640" y="1784520"/>
              <a:ext cx="1898640" cy="846360"/>
            </a:xfrm>
            <a:custGeom>
              <a:avLst/>
              <a:gdLst/>
              <a:ahLst/>
              <a:rect l="l" t="t" r="r" b="b"/>
              <a:pathLst>
                <a:path w="1196" h="533">
                  <a:moveTo>
                    <a:pt x="267" y="0"/>
                  </a:moveTo>
                  <a:lnTo>
                    <a:pt x="312" y="157"/>
                  </a:lnTo>
                  <a:lnTo>
                    <a:pt x="287" y="193"/>
                  </a:lnTo>
                  <a:lnTo>
                    <a:pt x="0" y="161"/>
                  </a:lnTo>
                  <a:lnTo>
                    <a:pt x="90" y="441"/>
                  </a:lnTo>
                  <a:lnTo>
                    <a:pt x="225" y="448"/>
                  </a:lnTo>
                  <a:lnTo>
                    <a:pt x="252" y="532"/>
                  </a:lnTo>
                  <a:lnTo>
                    <a:pt x="798" y="455"/>
                  </a:lnTo>
                  <a:lnTo>
                    <a:pt x="1195" y="455"/>
                  </a:lnTo>
                  <a:lnTo>
                    <a:pt x="1195" y="4"/>
                  </a:lnTo>
                  <a:lnTo>
                    <a:pt x="267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560" y="2484720"/>
              <a:ext cx="1985760" cy="1079640"/>
            </a:xfrm>
            <a:custGeom>
              <a:avLst/>
              <a:gdLst/>
              <a:ahLst/>
              <a:rect l="l" t="t" r="r" b="b"/>
              <a:pathLst>
                <a:path w="1251" h="680">
                  <a:moveTo>
                    <a:pt x="80" y="0"/>
                  </a:moveTo>
                  <a:lnTo>
                    <a:pt x="220" y="4"/>
                  </a:lnTo>
                  <a:lnTo>
                    <a:pt x="252" y="91"/>
                  </a:lnTo>
                  <a:lnTo>
                    <a:pt x="783" y="14"/>
                  </a:lnTo>
                  <a:lnTo>
                    <a:pt x="1190" y="14"/>
                  </a:lnTo>
                  <a:lnTo>
                    <a:pt x="1250" y="84"/>
                  </a:lnTo>
                  <a:lnTo>
                    <a:pt x="1165" y="339"/>
                  </a:lnTo>
                  <a:lnTo>
                    <a:pt x="1220" y="349"/>
                  </a:lnTo>
                  <a:lnTo>
                    <a:pt x="1220" y="679"/>
                  </a:lnTo>
                  <a:lnTo>
                    <a:pt x="35" y="679"/>
                  </a:lnTo>
                  <a:lnTo>
                    <a:pt x="0" y="533"/>
                  </a:lnTo>
                  <a:lnTo>
                    <a:pt x="80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7400" y="3561120"/>
              <a:ext cx="2744640" cy="2187360"/>
            </a:xfrm>
            <a:custGeom>
              <a:avLst/>
              <a:gdLst/>
              <a:ahLst/>
              <a:rect l="l" t="t" r="r" b="b"/>
              <a:pathLst>
                <a:path w="1729" h="1378">
                  <a:moveTo>
                    <a:pt x="40" y="0"/>
                  </a:moveTo>
                  <a:lnTo>
                    <a:pt x="743" y="0"/>
                  </a:lnTo>
                  <a:lnTo>
                    <a:pt x="743" y="469"/>
                  </a:lnTo>
                  <a:lnTo>
                    <a:pt x="1648" y="1115"/>
                  </a:lnTo>
                  <a:lnTo>
                    <a:pt x="1728" y="1190"/>
                  </a:lnTo>
                  <a:lnTo>
                    <a:pt x="1688" y="1377"/>
                  </a:lnTo>
                  <a:lnTo>
                    <a:pt x="1234" y="1377"/>
                  </a:lnTo>
                  <a:lnTo>
                    <a:pt x="833" y="1145"/>
                  </a:lnTo>
                  <a:lnTo>
                    <a:pt x="691" y="1145"/>
                  </a:lnTo>
                  <a:lnTo>
                    <a:pt x="349" y="713"/>
                  </a:lnTo>
                  <a:lnTo>
                    <a:pt x="110" y="448"/>
                  </a:lnTo>
                  <a:lnTo>
                    <a:pt x="140" y="346"/>
                  </a:lnTo>
                  <a:lnTo>
                    <a:pt x="0" y="210"/>
                  </a:lnTo>
                  <a:lnTo>
                    <a:pt x="40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503360" y="1866960"/>
            <a:ext cx="749160" cy="568080"/>
            <a:chOff x="1503360" y="1866960"/>
            <a:chExt cx="749160" cy="568080"/>
          </a:xfrm>
        </p:grpSpPr>
        <p:sp>
          <p:nvSpPr>
            <p:cNvPr id="360" name=""/>
            <p:cNvSpPr/>
            <p:nvPr/>
          </p:nvSpPr>
          <p:spPr>
            <a:xfrm>
              <a:off x="1512720" y="2392200"/>
              <a:ext cx="730440" cy="42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12720" y="1866960"/>
              <a:ext cx="730440" cy="531720"/>
            </a:xfrm>
            <a:prstGeom prst="rect">
              <a:avLst/>
            </a:prstGeom>
            <a:solidFill>
              <a:srgbClr val="e6dc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03360" y="1866960"/>
              <a:ext cx="648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81280" y="18669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46400" y="18669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14520" y="190656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92440" y="19065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779120" y="1878120"/>
              <a:ext cx="466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11320" y="1914480"/>
              <a:ext cx="144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0160" y="1993680"/>
              <a:ext cx="468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2290680"/>
              <a:ext cx="468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62200" y="2290680"/>
              <a:ext cx="612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2200" y="1993680"/>
              <a:ext cx="612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53684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4620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555560" y="19663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56528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57464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59372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60344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61280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623960" y="19663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63368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64304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64952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65888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6860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796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848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0820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756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728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3664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3684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54620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55560" y="19936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56528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7464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59372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60344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61280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23960" y="19936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63368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164304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64952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65888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860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796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848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0820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756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728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3664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53684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4620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55560" y="2022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56528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57464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9372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60344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61280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623960" y="2022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163368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64304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4952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65888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6860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9848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0820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1756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2728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3664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53684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54620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555560" y="20462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56528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57464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59372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60344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1280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23960" y="20462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3368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64304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4952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65888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60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796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848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0820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1756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2728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3664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5720" y="20271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4040" y="20271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9880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0816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1788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18874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55680" y="1887480"/>
              <a:ext cx="972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90600" y="1887480"/>
              <a:ext cx="111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53684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54620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555560" y="21016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56528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57464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59372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60344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61280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623960" y="21016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63368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64304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64952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65888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6860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796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9848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0820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1756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3664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53684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54620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555560" y="2133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56528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57464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59372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60344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61280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623960" y="2133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63368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64304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64952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65888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860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796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848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0820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1756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2728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3664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53684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54620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555560" y="21574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56528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157464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59372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60344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61280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23960" y="21574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63368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64304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64952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65888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6860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7796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48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820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1756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2728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3664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536840" y="21952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546200" y="21952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555560" y="21952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56528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57464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59372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03360" y="3695760"/>
            <a:ext cx="749160" cy="568080"/>
            <a:chOff x="1503360" y="3695760"/>
            <a:chExt cx="749160" cy="568080"/>
          </a:xfrm>
        </p:grpSpPr>
        <p:sp>
          <p:nvSpPr>
            <p:cNvPr id="528" name=""/>
            <p:cNvSpPr/>
            <p:nvPr/>
          </p:nvSpPr>
          <p:spPr>
            <a:xfrm>
              <a:off x="1512720" y="4221000"/>
              <a:ext cx="730440" cy="42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2720" y="3695760"/>
              <a:ext cx="730440" cy="531720"/>
            </a:xfrm>
            <a:prstGeom prst="rect">
              <a:avLst/>
            </a:prstGeom>
            <a:solidFill>
              <a:srgbClr val="e6dc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03360" y="3695760"/>
              <a:ext cx="648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81280" y="36957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46400" y="36957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14520" y="373536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92440" y="37353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779120" y="3706920"/>
              <a:ext cx="466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11320" y="3743280"/>
              <a:ext cx="144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00160" y="3822480"/>
              <a:ext cx="468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00160" y="4119480"/>
              <a:ext cx="468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62200" y="4119480"/>
              <a:ext cx="612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62200" y="3822480"/>
              <a:ext cx="612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53684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54620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555560" y="3795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56528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57464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59372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60344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1280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623960" y="3795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63368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64304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64952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165888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6860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7796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9848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820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1756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2728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3664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53684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54620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555560" y="38224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56528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57464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159372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60344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61280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623960" y="38224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163368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64304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64952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65888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6860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796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9848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820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1756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2728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3664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53684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4620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555560" y="38509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6528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157464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59372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60344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61280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623960" y="38509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63368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64304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64952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65888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860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796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9848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820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1756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2728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3664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53684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154620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1555560" y="38750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56528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57464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59372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0344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61280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623960" y="38750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163368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64304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64952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65888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6860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796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9848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820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1756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2728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3664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55720" y="3855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94040" y="38559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880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0816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1788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25800" y="3716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55680" y="3716280"/>
              <a:ext cx="972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0600" y="3716280"/>
              <a:ext cx="111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53684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54620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555560" y="39304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56528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57464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59372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60344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61280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1623960" y="39304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63368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164304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64952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65888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860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7796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9848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0820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1756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2728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3664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3684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54620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5560" y="39618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56528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57464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59372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60344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61280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623960" y="39618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63368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64304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64952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65888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6860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7796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9848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820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1756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2728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3664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53684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54620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555560" y="39862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156528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7464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59372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60344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61280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1623960" y="39862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63368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64304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64952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5888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6860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7796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9848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0820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728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664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536840" y="40240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546200" y="40240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555560" y="40240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56528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57464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59372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003320" y="4186080"/>
            <a:ext cx="352440" cy="293760"/>
            <a:chOff x="1003320" y="4186080"/>
            <a:chExt cx="352440" cy="293760"/>
          </a:xfrm>
        </p:grpSpPr>
        <p:sp>
          <p:nvSpPr>
            <p:cNvPr id="696" name=""/>
            <p:cNvSpPr/>
            <p:nvPr/>
          </p:nvSpPr>
          <p:spPr>
            <a:xfrm>
              <a:off x="1003320" y="44114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03320" y="44352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35080" y="44481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27080" y="44179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5240" y="44179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96920" y="44240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35080" y="44305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64960" y="44416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28600" y="43383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8600" y="43574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28600" y="43686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90520" y="43210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03120" y="43257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66840" y="43210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28680" y="42051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234440" y="42908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28600" y="41860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8600" y="41986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1200" y="41986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4800" y="43257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47680" y="42051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52360" y="42116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71440" y="42163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60360" y="43210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09680" y="43876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78000" y="43941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09600" y="4454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16080" y="43941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22200" y="4448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2868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2868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28680" y="44416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34800" y="44352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36600" y="44352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36600" y="44305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36600" y="44240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34800" y="44179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34800" y="44114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34800" y="4405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41280" y="440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4128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4776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5388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6036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66840" y="43988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71520" y="43988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78000" y="43988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06520" y="4146480"/>
            <a:ext cx="352440" cy="293760"/>
            <a:chOff x="506520" y="4146480"/>
            <a:chExt cx="352440" cy="293760"/>
          </a:xfrm>
        </p:grpSpPr>
        <p:sp>
          <p:nvSpPr>
            <p:cNvPr id="744" name=""/>
            <p:cNvSpPr/>
            <p:nvPr/>
          </p:nvSpPr>
          <p:spPr>
            <a:xfrm>
              <a:off x="506520" y="43718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6520" y="43956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280" y="44085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0280" y="43783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8440" y="43783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0120" y="43844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8280" y="43909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8160" y="44020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1800" y="42987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1800" y="43178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1800" y="43290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3720" y="42814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6320" y="42861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0040" y="42814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880" y="41655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37640" y="42512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1800" y="41464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1800" y="41590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4400" y="41590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8000" y="42861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880" y="41655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5560" y="41720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4640" y="41767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3560" y="42814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2880" y="43480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1200" y="43545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2800" y="44146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9280" y="43545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5400" y="44085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1880" y="4408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880" y="4408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1880" y="44020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8000" y="43956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9800" y="43956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800" y="43909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9800" y="43844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000" y="43783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8000" y="43718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8000" y="43657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436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448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096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708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356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0040" y="43592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4720" y="43592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1200" y="43592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63720" y="4603680"/>
            <a:ext cx="352440" cy="293760"/>
            <a:chOff x="963720" y="4603680"/>
            <a:chExt cx="352440" cy="293760"/>
          </a:xfrm>
        </p:grpSpPr>
        <p:sp>
          <p:nvSpPr>
            <p:cNvPr id="792" name=""/>
            <p:cNvSpPr/>
            <p:nvPr/>
          </p:nvSpPr>
          <p:spPr>
            <a:xfrm>
              <a:off x="963720" y="48290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63720" y="48528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95480" y="48657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87480" y="48355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25640" y="48355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57320" y="48416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95480" y="48481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25360" y="48592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89000" y="47559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89000" y="47750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89000" y="47862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50920" y="47386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63520" y="47433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27240" y="47386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89080" y="46227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1194840" y="47084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89000" y="46036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9000" y="46162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01600" y="46162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95200" y="47433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108080" y="46227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12760" y="46292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1840" y="46339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20760" y="47386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70080" y="48052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38400" y="48117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70000" y="48718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76480" y="4811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82600" y="48657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890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1890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89080" y="4859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95200" y="4852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852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7000" y="48481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97000" y="48416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95200" y="48355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5200" y="4829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95200" y="48229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1680" y="4822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016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081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142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207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27240" y="48164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31920" y="48164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38400" y="48164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06520" y="4603680"/>
            <a:ext cx="352440" cy="293760"/>
            <a:chOff x="506520" y="4603680"/>
            <a:chExt cx="352440" cy="293760"/>
          </a:xfrm>
        </p:grpSpPr>
        <p:sp>
          <p:nvSpPr>
            <p:cNvPr id="840" name=""/>
            <p:cNvSpPr/>
            <p:nvPr/>
          </p:nvSpPr>
          <p:spPr>
            <a:xfrm>
              <a:off x="506520" y="48290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6520" y="48528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8280" y="48657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0280" y="48355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8440" y="48355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0120" y="48416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38280" y="48481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8160" y="48592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1800" y="47559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31800" y="47750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1800" y="47862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720" y="47386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7433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0040" y="47386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1880" y="46227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37640" y="47084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1800" y="46036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31800" y="46162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4400" y="46162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8000" y="47433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0880" y="46227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560" y="46292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640" y="46339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3560" y="47386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2880" y="48052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1200" y="48117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2800" y="48718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9280" y="4811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5400" y="48657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18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18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1880" y="4859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8000" y="4852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9800" y="4852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9800" y="48481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800" y="48416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8000" y="48355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8000" y="4829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00" y="48229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4480" y="4822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44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09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70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35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0040" y="48164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4720" y="48164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1200" y="48164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735120" y="4375080"/>
            <a:ext cx="380880" cy="304920"/>
          </a:xfrm>
          <a:prstGeom prst="star5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143000" y="4427640"/>
            <a:ext cx="709560" cy="125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878120" y="4198680"/>
            <a:ext cx="0" cy="277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990720" y="2903040"/>
            <a:ext cx="861840" cy="1497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78120" y="2421000"/>
            <a:ext cx="0" cy="480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15680" y="3743280"/>
            <a:ext cx="130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Berke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47240" y="1822320"/>
            <a:ext cx="110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2240" y="5135400"/>
            <a:ext cx="130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Berke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614-3530-4013-B4B8-01F48E67FD2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34960" y="168120"/>
            <a:ext cx="802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Replic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536840" y="1309680"/>
          <a:ext cx="651348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09680"/>
                    <a:ext cx="65134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DF4-3F2C-4963-BD99-E17F66A2817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Name Sp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june.cs.washington.edu, jun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to reuse names in different parts of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4360" y="313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76240" y="395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3680" y="396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000" y="3931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387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9440" y="3883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5240" y="384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600" y="492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3600" y="488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us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6640" y="4835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9840" y="4845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645920" y="3505320"/>
            <a:ext cx="237492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57320" y="3505320"/>
            <a:ext cx="1222200" cy="55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9880" y="3516480"/>
            <a:ext cx="1260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44920" y="3481560"/>
            <a:ext cx="49392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2640" y="3492360"/>
            <a:ext cx="170496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2640" y="3457440"/>
            <a:ext cx="282096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8960" y="4351320"/>
            <a:ext cx="311472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10000" y="4327560"/>
            <a:ext cx="13636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362480"/>
            <a:ext cx="30636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3680" y="4338720"/>
            <a:ext cx="239868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0" y="4856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79880" y="4316400"/>
            <a:ext cx="355140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7040" y="572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6960" y="5766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25240" y="577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74840" y="5232240"/>
            <a:ext cx="104616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8880" y="5232240"/>
            <a:ext cx="5173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03800" y="5221440"/>
            <a:ext cx="217476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C2E-34F4-4CF4-906D-FAF0D1EF4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834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2: Mobile Distill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name a singl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bject based on client  network connection,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pproach [Fox9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aintains client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object, dist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name + a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distill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computation/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bil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0040" y="1982880"/>
            <a:ext cx="4111920" cy="44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454040" cy="11779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625760" cy="12337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609480" y="2133720"/>
            <a:ext cx="844560" cy="12254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4"/>
          <a:stretch/>
        </p:blipFill>
        <p:spPr>
          <a:xfrm>
            <a:off x="3276720" y="2819520"/>
            <a:ext cx="768240" cy="60624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30040" y="1601640"/>
            <a:ext cx="4035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lient-Specific N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5"/>
          <a:stretch/>
        </p:blipFill>
        <p:spPr>
          <a:xfrm>
            <a:off x="3124080" y="3429000"/>
            <a:ext cx="1095480" cy="16257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2744640" y="5411880"/>
            <a:ext cx="1444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Variables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Network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996920" y="3978360"/>
            <a:ext cx="547560" cy="376200"/>
            <a:chOff x="1996920" y="3978360"/>
            <a:chExt cx="547560" cy="376200"/>
          </a:xfrm>
        </p:grpSpPr>
        <p:grpSp>
          <p:nvGrpSpPr>
            <p:cNvPr id="913" name=""/>
            <p:cNvGrpSpPr/>
            <p:nvPr/>
          </p:nvGrpSpPr>
          <p:grpSpPr>
            <a:xfrm>
              <a:off x="2073240" y="4054320"/>
              <a:ext cx="390600" cy="300240"/>
              <a:chOff x="2073240" y="4054320"/>
              <a:chExt cx="390600" cy="30024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2187720" y="4054320"/>
                <a:ext cx="158760" cy="17640"/>
                <a:chOff x="2187720" y="4054320"/>
                <a:chExt cx="158760" cy="176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2332080" y="4054320"/>
                  <a:ext cx="14400" cy="17640"/>
                </a:xfrm>
                <a:custGeom>
                  <a:avLst/>
                  <a:gdLst>
                    <a:gd name="textAreaLeft" fmla="*/ 3600 w 14400"/>
                    <a:gd name="textAreaRight" fmla="*/ 10800 w 14400"/>
                    <a:gd name="textAreaTop" fmla="*/ 3600 h 17640"/>
                    <a:gd name="textAreaBottom" fmla="*/ 14040 h 17640"/>
                  </a:gdLst>
                  <a:ahLst/>
                  <a:rect l="textAreaLeft" t="textAreaTop" r="textAreaRight" b="textAreaBottom"/>
                  <a:pathLst>
                    <a:path w="21600" h="26341">
                      <a:moveTo>
                        <a:pt x="18293" y="0"/>
                      </a:moveTo>
                      <a:arcTo wR="18293" hR="18293" stAng="16200000" swAng="-5400000"/>
                      <a:lnTo>
                        <a:pt x="0" y="8048"/>
                      </a:lnTo>
                      <a:arcTo wR="18293" hR="18293" stAng="10800000" swAng="-5400000"/>
                      <a:lnTo>
                        <a:pt x="3307" y="26341"/>
                      </a:lnTo>
                      <a:arcTo wR="18293" hR="18293" stAng="5400000" swAng="-5400000"/>
                      <a:lnTo>
                        <a:pt x="21600" y="18293"/>
                      </a:lnTo>
                      <a:arcTo wR="18293" hR="1829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187720" y="4056120"/>
                  <a:ext cx="15840" cy="15840"/>
                </a:xfrm>
                <a:prstGeom prst="roundRect">
                  <a:avLst>
                    <a:gd name="adj" fmla="val 7825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>
                <a:off x="2075040" y="4068720"/>
                <a:ext cx="387000" cy="127080"/>
              </a:xfrm>
              <a:custGeom>
                <a:avLst/>
                <a:gdLst/>
                <a:ahLst/>
                <a:rect l="l" t="t" r="r" b="b"/>
                <a:pathLst>
                  <a:path w="244" h="80">
                    <a:moveTo>
                      <a:pt x="56" y="0"/>
                    </a:moveTo>
                    <a:lnTo>
                      <a:pt x="187" y="0"/>
                    </a:lnTo>
                    <a:lnTo>
                      <a:pt x="243" y="79"/>
                    </a:lnTo>
                    <a:lnTo>
                      <a:pt x="0" y="7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073240" y="4192560"/>
                <a:ext cx="390600" cy="162000"/>
              </a:xfrm>
              <a:prstGeom prst="roundRect">
                <a:avLst>
                  <a:gd name="adj" fmla="val 1281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2173320" y="4073400"/>
              <a:ext cx="196920" cy="173160"/>
              <a:chOff x="2173320" y="4073400"/>
              <a:chExt cx="196920" cy="173160"/>
            </a:xfrm>
          </p:grpSpPr>
          <p:sp>
            <p:nvSpPr>
              <p:cNvPr id="920" name=""/>
              <p:cNvSpPr/>
              <p:nvPr/>
            </p:nvSpPr>
            <p:spPr>
              <a:xfrm>
                <a:off x="2173320" y="4073400"/>
                <a:ext cx="196920" cy="171720"/>
              </a:xfrm>
              <a:custGeom>
                <a:avLst/>
                <a:gdLst/>
                <a:ahLst/>
                <a:rect l="l" t="t" r="r" b="b"/>
                <a:pathLst>
                  <a:path w="124" h="108">
                    <a:moveTo>
                      <a:pt x="25" y="0"/>
                    </a:moveTo>
                    <a:lnTo>
                      <a:pt x="0" y="107"/>
                    </a:lnTo>
                    <a:lnTo>
                      <a:pt x="123" y="107"/>
                    </a:lnTo>
                    <a:lnTo>
                      <a:pt x="97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73320" y="4075200"/>
                <a:ext cx="77760" cy="171360"/>
              </a:xfrm>
              <a:custGeom>
                <a:avLst/>
                <a:gdLst/>
                <a:ahLst/>
                <a:rect l="l" t="t" r="r" b="b"/>
                <a:pathLst>
                  <a:path w="49" h="108">
                    <a:moveTo>
                      <a:pt x="25" y="0"/>
                    </a:moveTo>
                    <a:lnTo>
                      <a:pt x="0" y="107"/>
                    </a:lnTo>
                    <a:lnTo>
                      <a:pt x="41" y="107"/>
                    </a:lnTo>
                    <a:lnTo>
                      <a:pt x="48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9240" y="4075200"/>
                <a:ext cx="81000" cy="171360"/>
              </a:xfrm>
              <a:custGeom>
                <a:avLst/>
                <a:gdLst/>
                <a:ahLst/>
                <a:rect l="l" t="t" r="r" b="b"/>
                <a:pathLst>
                  <a:path w="51" h="108">
                    <a:moveTo>
                      <a:pt x="25" y="0"/>
                    </a:moveTo>
                    <a:lnTo>
                      <a:pt x="50" y="107"/>
                    </a:lnTo>
                    <a:lnTo>
                      <a:pt x="7" y="107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189160" y="4119480"/>
                <a:ext cx="163440" cy="5724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8" y="0"/>
                    </a:moveTo>
                    <a:lnTo>
                      <a:pt x="0" y="35"/>
                    </a:lnTo>
                    <a:lnTo>
                      <a:pt x="102" y="35"/>
                    </a:lnTo>
                    <a:lnTo>
                      <a:pt x="94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1996920" y="3978360"/>
              <a:ext cx="547560" cy="190080"/>
              <a:chOff x="1996920" y="3978360"/>
              <a:chExt cx="547560" cy="190080"/>
            </a:xfrm>
          </p:grpSpPr>
          <p:sp>
            <p:nvSpPr>
              <p:cNvPr id="925" name=""/>
              <p:cNvSpPr/>
              <p:nvPr/>
            </p:nvSpPr>
            <p:spPr>
              <a:xfrm>
                <a:off x="2055240" y="3978360"/>
                <a:ext cx="43344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7" y="9212"/>
                    </a:moveTo>
                    <a:arcTo wR="10800" hR="10800" stAng="-10292550" swAng="9584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7" y="9212"/>
                    </a:moveTo>
                    <a:arcTo wR="10800" hR="10800" stAng="-10292550" swAng="9584044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205000" y="4006440"/>
                <a:ext cx="33948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13" y="695"/>
                    </a:moveTo>
                    <a:arcTo wR="10800" hR="10800" stAng="-4159601" swAng="6612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13" y="695"/>
                    </a:moveTo>
                    <a:arcTo wR="10800" hR="10800" stAng="-4159601" swAng="6612057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96920" y="4006800"/>
                <a:ext cx="33948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90" y="17817"/>
                    </a:moveTo>
                    <a:arcTo wR="10800" hR="10800" stAng="8368657" swAng="64177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90" y="17817"/>
                    </a:moveTo>
                    <a:arcTo wR="10800" hR="10800" stAng="8368657" swAng="6417707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2027160" y="5467320"/>
            <a:ext cx="277920" cy="201600"/>
            <a:chOff x="2027160" y="5467320"/>
            <a:chExt cx="277920" cy="201600"/>
          </a:xfrm>
        </p:grpSpPr>
        <p:sp>
          <p:nvSpPr>
            <p:cNvPr id="929" name=""/>
            <p:cNvSpPr/>
            <p:nvPr/>
          </p:nvSpPr>
          <p:spPr>
            <a:xfrm>
              <a:off x="2027160" y="5589720"/>
              <a:ext cx="8748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54" y="16"/>
                  </a:moveTo>
                  <a:lnTo>
                    <a:pt x="50" y="9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8" y="43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1" y="31"/>
                  </a:lnTo>
                  <a:lnTo>
                    <a:pt x="44" y="26"/>
                  </a:lnTo>
                  <a:lnTo>
                    <a:pt x="47" y="23"/>
                  </a:lnTo>
                  <a:lnTo>
                    <a:pt x="51" y="20"/>
                  </a:lnTo>
                  <a:lnTo>
                    <a:pt x="54" y="16"/>
                  </a:lnTo>
                </a:path>
              </a:pathLst>
            </a:custGeom>
            <a:solidFill>
              <a:srgbClr val="f4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97000" y="56055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1"/>
                  </a:moveTo>
                  <a:lnTo>
                    <a:pt x="6" y="7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85840" y="56102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7" y="5"/>
                  </a:moveTo>
                  <a:lnTo>
                    <a:pt x="4" y="8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85840" y="5614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9"/>
                  </a:moveTo>
                  <a:lnTo>
                    <a:pt x="6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3"/>
                  </a:lnTo>
                  <a:lnTo>
                    <a:pt x="2" y="9"/>
                  </a:lnTo>
                  <a:lnTo>
                    <a:pt x="5" y="11"/>
                  </a:lnTo>
                  <a:lnTo>
                    <a:pt x="6" y="7"/>
                  </a:lnTo>
                  <a:lnTo>
                    <a:pt x="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1800" y="5614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4"/>
                  </a:moveTo>
                  <a:lnTo>
                    <a:pt x="3" y="7"/>
                  </a:lnTo>
                  <a:lnTo>
                    <a:pt x="10" y="9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70000" y="562140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3"/>
                  </a:moveTo>
                  <a:lnTo>
                    <a:pt x="7" y="10"/>
                  </a:lnTo>
                  <a:lnTo>
                    <a:pt x="10" y="1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57400" y="563076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7" y="5"/>
                  </a:moveTo>
                  <a:lnTo>
                    <a:pt x="5" y="8"/>
                  </a:lnTo>
                  <a:lnTo>
                    <a:pt x="13" y="8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54160" y="563580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3"/>
                  </a:moveTo>
                  <a:lnTo>
                    <a:pt x="7" y="9"/>
                  </a:lnTo>
                  <a:lnTo>
                    <a:pt x="8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9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39760" y="564048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7" y="7"/>
                  </a:moveTo>
                  <a:lnTo>
                    <a:pt x="5" y="9"/>
                  </a:lnTo>
                  <a:lnTo>
                    <a:pt x="14" y="9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36880" y="564840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8" y="9"/>
                  </a:lnTo>
                  <a:lnTo>
                    <a:pt x="10" y="4"/>
                  </a:lnTo>
                  <a:lnTo>
                    <a:pt x="1" y="0"/>
                  </a:lnTo>
                  <a:lnTo>
                    <a:pt x="0" y="6"/>
                  </a:lnTo>
                  <a:lnTo>
                    <a:pt x="4" y="3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9"/>
                  </a:lnTo>
                  <a:lnTo>
                    <a:pt x="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31840" y="5649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8"/>
                  </a:lnTo>
                  <a:lnTo>
                    <a:pt x="7" y="9"/>
                  </a:lnTo>
                  <a:lnTo>
                    <a:pt x="7" y="1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75040" y="54673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130" y="0"/>
                  </a:moveTo>
                  <a:lnTo>
                    <a:pt x="134" y="7"/>
                  </a:lnTo>
                  <a:lnTo>
                    <a:pt x="136" y="11"/>
                  </a:lnTo>
                  <a:lnTo>
                    <a:pt x="140" y="15"/>
                  </a:lnTo>
                  <a:lnTo>
                    <a:pt x="144" y="20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28" y="108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1" y="62"/>
                  </a:lnTo>
                  <a:lnTo>
                    <a:pt x="0" y="47"/>
                  </a:lnTo>
                  <a:lnTo>
                    <a:pt x="1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75040" y="54673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130" y="0"/>
                  </a:moveTo>
                  <a:lnTo>
                    <a:pt x="134" y="7"/>
                  </a:lnTo>
                  <a:lnTo>
                    <a:pt x="136" y="11"/>
                  </a:lnTo>
                  <a:lnTo>
                    <a:pt x="140" y="15"/>
                  </a:lnTo>
                  <a:lnTo>
                    <a:pt x="144" y="20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28" y="108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1" y="62"/>
                  </a:lnTo>
                  <a:lnTo>
                    <a:pt x="0" y="47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 flipV="1">
            <a:off x="2341440" y="5043600"/>
            <a:ext cx="50796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863800" y="4938840"/>
            <a:ext cx="282600" cy="190440"/>
            <a:chOff x="2863800" y="4938840"/>
            <a:chExt cx="282600" cy="190440"/>
          </a:xfrm>
        </p:grpSpPr>
        <p:sp>
          <p:nvSpPr>
            <p:cNvPr id="944" name=""/>
            <p:cNvSpPr/>
            <p:nvPr/>
          </p:nvSpPr>
          <p:spPr>
            <a:xfrm>
              <a:off x="3057480" y="4941720"/>
              <a:ext cx="88920" cy="7488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0" y="30"/>
                  </a:moveTo>
                  <a:lnTo>
                    <a:pt x="4" y="36"/>
                  </a:lnTo>
                  <a:lnTo>
                    <a:pt x="8" y="39"/>
                  </a:lnTo>
                  <a:lnTo>
                    <a:pt x="10" y="43"/>
                  </a:lnTo>
                  <a:lnTo>
                    <a:pt x="12" y="46"/>
                  </a:lnTo>
                  <a:lnTo>
                    <a:pt x="17" y="43"/>
                  </a:lnTo>
                  <a:lnTo>
                    <a:pt x="23" y="41"/>
                  </a:lnTo>
                  <a:lnTo>
                    <a:pt x="28" y="38"/>
                  </a:lnTo>
                  <a:lnTo>
                    <a:pt x="33" y="36"/>
                  </a:lnTo>
                  <a:lnTo>
                    <a:pt x="39" y="33"/>
                  </a:lnTo>
                  <a:lnTo>
                    <a:pt x="43" y="29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3" y="17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0" y="30"/>
                  </a:lnTo>
                </a:path>
              </a:pathLst>
            </a:custGeom>
            <a:solidFill>
              <a:srgbClr val="f4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60720" y="498168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0"/>
                  </a:moveTo>
                  <a:lnTo>
                    <a:pt x="2" y="3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8640" y="49798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4" y="4"/>
                  </a:moveTo>
                  <a:lnTo>
                    <a:pt x="7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8" y="9"/>
                  </a:lnTo>
                  <a:lnTo>
                    <a:pt x="11" y="7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75120" y="4971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4" y="2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6" y="11"/>
                  </a:lnTo>
                  <a:lnTo>
                    <a:pt x="6" y="6"/>
                  </a:lnTo>
                  <a:lnTo>
                    <a:pt x="3" y="8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79800" y="497520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5"/>
                  </a:moveTo>
                  <a:lnTo>
                    <a:pt x="9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8" y="9"/>
                  </a:lnTo>
                  <a:lnTo>
                    <a:pt x="12" y="6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84480" y="496404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0"/>
                  </a:moveTo>
                  <a:lnTo>
                    <a:pt x="3" y="3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95640" y="49626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5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9" y="8"/>
                  </a:lnTo>
                  <a:lnTo>
                    <a:pt x="12" y="5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05000" y="495144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1" y="4"/>
                  </a:lnTo>
                  <a:lnTo>
                    <a:pt x="0" y="11"/>
                  </a:lnTo>
                  <a:lnTo>
                    <a:pt x="7" y="13"/>
                  </a:lnTo>
                  <a:lnTo>
                    <a:pt x="8" y="6"/>
                  </a:lnTo>
                  <a:lnTo>
                    <a:pt x="5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10040" y="49514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7" y="2"/>
                  </a:moveTo>
                  <a:lnTo>
                    <a:pt x="9" y="1"/>
                  </a:lnTo>
                  <a:lnTo>
                    <a:pt x="0" y="0"/>
                  </a:lnTo>
                  <a:lnTo>
                    <a:pt x="1" y="8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22640" y="49388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9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30560" y="494172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5"/>
                  </a:moveTo>
                  <a:lnTo>
                    <a:pt x="7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63800" y="495288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2" y="110"/>
                  </a:moveTo>
                  <a:lnTo>
                    <a:pt x="9" y="104"/>
                  </a:lnTo>
                  <a:lnTo>
                    <a:pt x="7" y="99"/>
                  </a:lnTo>
                  <a:lnTo>
                    <a:pt x="3" y="94"/>
                  </a:lnTo>
                  <a:lnTo>
                    <a:pt x="0" y="89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9" y="8"/>
                  </a:lnTo>
                  <a:lnTo>
                    <a:pt x="127" y="13"/>
                  </a:lnTo>
                  <a:lnTo>
                    <a:pt x="133" y="19"/>
                  </a:lnTo>
                  <a:lnTo>
                    <a:pt x="138" y="28"/>
                  </a:lnTo>
                  <a:lnTo>
                    <a:pt x="141" y="40"/>
                  </a:lnTo>
                  <a:lnTo>
                    <a:pt x="144" y="55"/>
                  </a:lnTo>
                  <a:lnTo>
                    <a:pt x="144" y="70"/>
                  </a:lnTo>
                  <a:lnTo>
                    <a:pt x="12" y="1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63800" y="495288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2" y="110"/>
                  </a:moveTo>
                  <a:lnTo>
                    <a:pt x="9" y="104"/>
                  </a:lnTo>
                  <a:lnTo>
                    <a:pt x="7" y="99"/>
                  </a:lnTo>
                  <a:lnTo>
                    <a:pt x="3" y="94"/>
                  </a:lnTo>
                  <a:lnTo>
                    <a:pt x="0" y="89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9" y="8"/>
                  </a:lnTo>
                  <a:lnTo>
                    <a:pt x="127" y="13"/>
                  </a:lnTo>
                  <a:lnTo>
                    <a:pt x="133" y="19"/>
                  </a:lnTo>
                  <a:lnTo>
                    <a:pt x="138" y="28"/>
                  </a:lnTo>
                  <a:lnTo>
                    <a:pt x="141" y="40"/>
                  </a:lnTo>
                  <a:lnTo>
                    <a:pt x="144" y="55"/>
                  </a:lnTo>
                  <a:lnTo>
                    <a:pt x="144" y="70"/>
                  </a:lnTo>
                  <a:lnTo>
                    <a:pt x="12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905120" y="2133720"/>
            <a:ext cx="530280" cy="999720"/>
            <a:chOff x="1905120" y="2133720"/>
            <a:chExt cx="530280" cy="999720"/>
          </a:xfrm>
        </p:grpSpPr>
        <p:grpSp>
          <p:nvGrpSpPr>
            <p:cNvPr id="958" name=""/>
            <p:cNvGrpSpPr/>
            <p:nvPr/>
          </p:nvGrpSpPr>
          <p:grpSpPr>
            <a:xfrm>
              <a:off x="1905120" y="2133720"/>
              <a:ext cx="530280" cy="171360"/>
              <a:chOff x="1905120" y="2133720"/>
              <a:chExt cx="530280" cy="171360"/>
            </a:xfrm>
          </p:grpSpPr>
          <p:sp>
            <p:nvSpPr>
              <p:cNvPr id="959" name=""/>
              <p:cNvSpPr/>
              <p:nvPr/>
            </p:nvSpPr>
            <p:spPr>
              <a:xfrm>
                <a:off x="2268360" y="2205000"/>
                <a:ext cx="167040" cy="100080"/>
              </a:xfrm>
              <a:custGeom>
                <a:avLst/>
                <a:gdLst/>
                <a:ahLst/>
                <a:rect l="l" t="t" r="r" b="b"/>
                <a:pathLst>
                  <a:path w="105" h="63">
                    <a:moveTo>
                      <a:pt x="0" y="62"/>
                    </a:moveTo>
                    <a:lnTo>
                      <a:pt x="28" y="41"/>
                    </a:lnTo>
                    <a:lnTo>
                      <a:pt x="29" y="51"/>
                    </a:lnTo>
                    <a:lnTo>
                      <a:pt x="72" y="17"/>
                    </a:lnTo>
                    <a:lnTo>
                      <a:pt x="73" y="22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95640" y="2133720"/>
                <a:ext cx="117360" cy="1508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0" y="94"/>
                    </a:moveTo>
                    <a:lnTo>
                      <a:pt x="10" y="67"/>
                    </a:lnTo>
                    <a:lnTo>
                      <a:pt x="23" y="76"/>
                    </a:lnTo>
                    <a:lnTo>
                      <a:pt x="46" y="27"/>
                    </a:lnTo>
                    <a:lnTo>
                      <a:pt x="56" y="33"/>
                    </a:lnTo>
                    <a:lnTo>
                      <a:pt x="73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25720" y="2133720"/>
                <a:ext cx="117360" cy="1508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73" y="94"/>
                    </a:moveTo>
                    <a:lnTo>
                      <a:pt x="62" y="68"/>
                    </a:lnTo>
                    <a:lnTo>
                      <a:pt x="49" y="76"/>
                    </a:lnTo>
                    <a:lnTo>
                      <a:pt x="25" y="27"/>
                    </a:lnTo>
                    <a:lnTo>
                      <a:pt x="16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905120" y="2206800"/>
                <a:ext cx="163440" cy="98280"/>
              </a:xfrm>
              <a:custGeom>
                <a:avLst/>
                <a:gdLst/>
                <a:ahLst/>
                <a:rect l="l" t="t" r="r" b="b"/>
                <a:pathLst>
                  <a:path w="103" h="62">
                    <a:moveTo>
                      <a:pt x="102" y="61"/>
                    </a:moveTo>
                    <a:lnTo>
                      <a:pt x="75" y="39"/>
                    </a:lnTo>
                    <a:lnTo>
                      <a:pt x="74" y="49"/>
                    </a:lnTo>
                    <a:lnTo>
                      <a:pt x="32" y="14"/>
                    </a:lnTo>
                    <a:lnTo>
                      <a:pt x="3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14640" y="2322360"/>
              <a:ext cx="109440" cy="811080"/>
              <a:chOff x="2114640" y="2322360"/>
              <a:chExt cx="109440" cy="811080"/>
            </a:xfrm>
          </p:grpSpPr>
          <p:sp>
            <p:nvSpPr>
              <p:cNvPr id="964" name=""/>
              <p:cNvSpPr/>
              <p:nvPr/>
            </p:nvSpPr>
            <p:spPr>
              <a:xfrm>
                <a:off x="2173320" y="261000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2114640" y="2322360"/>
                <a:ext cx="109440" cy="811080"/>
                <a:chOff x="2114640" y="2322360"/>
                <a:chExt cx="109440" cy="811080"/>
              </a:xfrm>
            </p:grpSpPr>
            <p:sp>
              <p:nvSpPr>
                <p:cNvPr id="966" name=""/>
                <p:cNvSpPr/>
                <p:nvPr/>
              </p:nvSpPr>
              <p:spPr>
                <a:xfrm flipV="1">
                  <a:off x="2171880" y="2322360"/>
                  <a:ext cx="0" cy="18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2133720" y="2479320"/>
                  <a:ext cx="12600" cy="6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98520" y="2506680"/>
                  <a:ext cx="12960" cy="60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38400" y="3105000"/>
                  <a:ext cx="712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151000" y="2933640"/>
                  <a:ext cx="493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149560" y="2952720"/>
                  <a:ext cx="5868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2114640" y="2951280"/>
                  <a:ext cx="10944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160720" y="2765520"/>
                  <a:ext cx="27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160720" y="2781360"/>
                  <a:ext cx="36360" cy="14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2144880" y="2754000"/>
                  <a:ext cx="39600" cy="18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166840" y="2625840"/>
                  <a:ext cx="208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2157480" y="2596680"/>
                  <a:ext cx="17280" cy="18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2165400" y="2479320"/>
                  <a:ext cx="324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158920" y="2322360"/>
                  <a:ext cx="27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0" name=""/>
          <p:cNvSpPr/>
          <p:nvPr/>
        </p:nvSpPr>
        <p:spPr>
          <a:xfrm>
            <a:off x="1463760" y="266688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01840" y="2682720"/>
            <a:ext cx="885960" cy="80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39720" y="419112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30440" y="419112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4E4-CC54-4D43-9A36-E4E965E585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468360" y="169920"/>
            <a:ext cx="81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2: Mobile Disti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4329000" y="1706400"/>
          <a:ext cx="481500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9000" y="1706400"/>
                    <a:ext cx="48150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"/>
          <p:cNvSpPr/>
          <p:nvPr/>
        </p:nvSpPr>
        <p:spPr>
          <a:xfrm>
            <a:off x="0" y="1852560"/>
            <a:ext cx="439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ation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erver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bandwidth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1d3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d315"/>
                </a:solidFill>
                <a:latin typeface="Times New Roman"/>
              </a:rPr>
              <a:t>Prox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server CPU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estimate of both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1735200"/>
            <a:ext cx="4367160" cy="3470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3D3-6FB6-4162-A94E-B597F627F90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12840" y="157320"/>
            <a:ext cx="858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3: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1969920"/>
            <a:ext cx="8310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ent customization: distilling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rver customization: ad rotation, server-side inclu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posing these customizations using Active Names leads to 2-fold improvement in performa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rver customization can take place at prox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illation further improv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781-EA85-4BF4-BA03-204FA2BE8CE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4: Active C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971640" y="1752480"/>
          <a:ext cx="8184960" cy="35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52480"/>
                    <a:ext cx="818496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mprove on 50% cache hit r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674-B193-4919-A7F4-CA0E53BBEE4E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me Space Delegation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ganization controls its own name space (“zone” = subtree of global t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rg has its own na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ed fo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ers translate only or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lookup proceeds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B6E-8D74-4567-B7FA-028A68A05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Lookup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6200" y="3257640"/>
            <a:ext cx="835200" cy="68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400" y="4156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331632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4920" y="4243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8320" y="245736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4720" y="2360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t&amp;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3240" y="367992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3040" y="36784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shing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18160" y="485460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4280" y="4737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 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359892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160" y="28854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.washing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7480" y="2715840"/>
            <a:ext cx="2505240" cy="8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33360" y="2833560"/>
            <a:ext cx="250524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496600">
            <a:off x="3179160" y="32468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shington=IP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496600">
            <a:off x="2979360" y="28245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.washing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0" y="3809880"/>
            <a:ext cx="250524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057480" y="3927240"/>
            <a:ext cx="2540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97000">
            <a:off x="4024080" y="4072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=IPadd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6160" y="3927600"/>
            <a:ext cx="2540160" cy="12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045960" y="4010040"/>
            <a:ext cx="2551320" cy="12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69800">
            <a:off x="3535920" y="481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une=IPaddr’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C5D-E23C-4CFE-89A8-A2D6E86A9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erformance and Avail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servers ar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ice available if &gt;= one replica i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load balanced between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queries are cached at local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for repeated trans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name caching (edu, washington.edu, cs.washington.edu, june.cs.washington.e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534-FE1A-4D3A-89B4-199F22E5A1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Cache Effective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208-219F-445D-8C77-1CD5A8BB36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plica/Cache Coher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eep replicas/cached copies up to d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solution: eventu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downloads from master to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data periodically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ust re-quer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f old data is provided temporar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AE7-C0B9-4154-B641-6C69800A8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ventual Consistency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08600" y="2013120"/>
            <a:ext cx="91728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43760" y="46674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87680" y="46800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65680" y="199872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160" y="20923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4880" y="477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173280" y="2738520"/>
            <a:ext cx="123372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25880" y="4678200"/>
            <a:ext cx="917640" cy="7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925880" y="2352600"/>
            <a:ext cx="741600" cy="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0720" y="175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k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5520" y="495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03560" y="2739600"/>
            <a:ext cx="1093680" cy="19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33520" y="2809800"/>
            <a:ext cx="11048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7850000">
            <a:off x="3180240" y="3667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849400">
            <a:off x="2308680" y="3233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rege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3645600">
            <a:off x="6542640" y="32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50760"/>
            <a:ext cx="506160" cy="19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14480" y="2763720"/>
            <a:ext cx="52884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7013000">
            <a:off x="5330160" y="3614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q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7013000">
            <a:off x="4401360" y="3504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q:rege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0A2-443D-422D-AABE-B10A7151B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19T23:15:42Z</dcterms:modified>
  <cp:revision>155</cp:revision>
  <dc:subject/>
  <dc:title>Eraser: A Dynamic Race Detector for  Multi-Threaded Programs</dc:title>
</cp:coreProperties>
</file>