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1440" y="19080"/>
            <a:ext cx="300816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33360" y="19080"/>
            <a:ext cx="300852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22200" y="704520"/>
            <a:ext cx="4502160" cy="337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23400" y="4311720"/>
            <a:ext cx="5092920" cy="4070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1440" y="8610480"/>
            <a:ext cx="300816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33360" y="8610480"/>
            <a:ext cx="300852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5F7FB1B-0B01-47FF-B0F0-004A984840E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 txBox="1"/>
          <p:nvPr/>
        </p:nvSpPr>
        <p:spPr>
          <a:xfrm>
            <a:off x="3933360" y="8610480"/>
            <a:ext cx="300852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DFC8D2A-D92A-4A18-90EF-03B78BD757A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1440" y="8610480"/>
            <a:ext cx="300816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-1440" y="19080"/>
            <a:ext cx="300816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933360" y="19080"/>
            <a:ext cx="300852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932280" y="648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932280" y="861840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8618400"/>
            <a:ext cx="3006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6480"/>
            <a:ext cx="3006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20520" y="4311360"/>
            <a:ext cx="509580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 txBox="1"/>
          <p:nvPr/>
        </p:nvSpPr>
        <p:spPr>
          <a:xfrm>
            <a:off x="3933360" y="8610480"/>
            <a:ext cx="300852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986BF79-9C0E-49C3-ACA2-F753C2300BB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-1440" y="8610480"/>
            <a:ext cx="300816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1440" y="19080"/>
            <a:ext cx="300816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933360" y="19080"/>
            <a:ext cx="3008520" cy="4492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93228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0"/>
            <a:ext cx="3008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20520" y="4311360"/>
            <a:ext cx="509580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8F4-F598-4E21-A04A-5AE95981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251-5CD8-4EEE-BE93-8DB9DC10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09C-76C8-4366-97E3-4C964FB2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B25-EE5D-46BD-A847-3CF9B321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523E-C926-4ECD-AC16-2216A5B3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DDDD-9D42-4BA0-9C1B-1E7FE318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E99E-0370-45CF-AFBA-FA1DCE2C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264B-2EB8-4578-8DDF-86FD4A32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239D-EDB3-4842-91F9-B89E6EE2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16ED-21FB-4CB0-915E-3F8400A1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5ACF-3766-4090-B34F-7215C4CE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86F-34A2-4300-BFCE-0FC63D21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C1E1-8001-4361-8375-9A49DFF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D5D4-7508-4E1F-A11B-A752D58E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01D9-221A-4114-9206-C820CB8F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7393-18F2-43D3-8EC3-61AAE358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F4E0-DC46-4AED-8C4C-143F0F02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1AD-CDBE-46F6-A08C-964D243A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047-AA7F-46D0-9F28-4B280907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6C8-64F3-4833-A23D-ECD01827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ADE-D057-4401-9F73-8840A269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B655-3DE3-40E6-B02F-31381AB1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186-A995-404F-A80B-22E8E389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5AE-53FC-4212-9849-AD75B2C3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2CE7-FCB9-4191-A233-E12F88DA8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9B0E-4D22-43A3-87FC-42B2F1807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cture 8: Nam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how do we efficiently locate wide area re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ing: name -&gt; IP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: IP address -&gt; packet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generic challenge: how do we build wide area serv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and replica coh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 in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1AE-9A28-4707-A529-87BD5C0619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oherence Model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appear as if to a single, 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al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 ops can occur in any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r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s by same host performed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3BB-CFE1-4FC1-BF6B-7F0585B25F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mplementing Cache Coheren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7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anaged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hit reload to get up-to-dat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outs (NFS, WWW, D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periodically polls server for newest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backs (AFS, SMPs, trans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notifies client whenever data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ation or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0D2-ACB4-4BF0-B068-692EEC49AF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equential Consistency 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08600" y="2013120"/>
            <a:ext cx="91728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3760" y="4667400"/>
            <a:ext cx="91764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87680" y="4680000"/>
            <a:ext cx="91764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65680" y="1998720"/>
            <a:ext cx="91764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4160" y="209232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4880" y="4779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326280" y="2714400"/>
            <a:ext cx="1233360" cy="19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25880" y="4678200"/>
            <a:ext cx="917640" cy="776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925880" y="2352600"/>
            <a:ext cx="741600" cy="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80720" y="1757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1: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75520" y="4955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057120" y="2714760"/>
            <a:ext cx="1104840" cy="191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7850000">
            <a:off x="2772000" y="3245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2: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3645600">
            <a:off x="6542640" y="326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: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584680" y="2750760"/>
            <a:ext cx="506520" cy="19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420880" y="2763720"/>
            <a:ext cx="528840" cy="192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7013000">
            <a:off x="5236920" y="3610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2: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7013000">
            <a:off x="4856760" y="3506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1: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79600" y="2763360"/>
            <a:ext cx="1024200" cy="1916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38840" y="2492280"/>
            <a:ext cx="752400" cy="2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8059400">
            <a:off x="3286080" y="3644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3: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3480" y="2774880"/>
            <a:ext cx="1152720" cy="181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3645600">
            <a:off x="6077880" y="3756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5: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59840" y="2451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4: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61840" y="5678640"/>
            <a:ext cx="621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 doesn’t complete until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ies invalidated or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9EB-F255-4FBF-AC10-2CF2EF78E2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NS Experienc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instance of globally distributed database in widesprea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hing/replication crucial f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consistenc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implement, crucial for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is difficult to ev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caching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CA2-10BB-4FE6-877D-690A6AAF0C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ctive Networ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31800" y="1768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: can take decades to deploy new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: need to put functionality at most effective point in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packets -- programs in IP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routers -- programmable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services -- put servers in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356-2F22-4C0B-91CE-29D9961EB5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ctive Names Motiv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have become complex, distribut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have become heteroge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s need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/service should be able to use an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/service should be able to move functionality into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B13-7A3D-4D43-9B78-7EADD471E6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35200" y="2906640"/>
            <a:ext cx="844200" cy="122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110040" y="3063960"/>
            <a:ext cx="914400" cy="88740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87480" y="1685880"/>
            <a:ext cx="1441800" cy="784440"/>
          </a:xfrm>
          <a:prstGeom prst="rect">
            <a:avLst/>
          </a:prstGeom>
          <a:solidFill>
            <a:srgbClr val="66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86600" y="2957400"/>
            <a:ext cx="914400" cy="887400"/>
          </a:xfrm>
          <a:prstGeom prst="ellipse">
            <a:avLst/>
          </a:prstGeom>
          <a:solidFill>
            <a:srgbClr val="66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28640" y="3359160"/>
            <a:ext cx="15066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10040" y="3371760"/>
            <a:ext cx="30891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022280" y="3578400"/>
            <a:ext cx="3063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628280" y="3603600"/>
            <a:ext cx="146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3444480" y="2549520"/>
            <a:ext cx="12600" cy="527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62280" y="2496960"/>
            <a:ext cx="0" cy="579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78200" y="1725480"/>
            <a:ext cx="12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1640" y="299736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62280" y="2625840"/>
            <a:ext cx="8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75240" y="2651040"/>
            <a:ext cx="13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98880" y="297324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3603600"/>
            <a:ext cx="21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mage (1024X76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62240" y="328140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28000" y="3205080"/>
            <a:ext cx="11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5720" y="4276800"/>
            <a:ext cx="812340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name -&gt; IP address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aming and transport sepa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ames have global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NS Naming Reconsidered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22520" y="3527280"/>
            <a:ext cx="145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527280" y="2469960"/>
            <a:ext cx="0" cy="56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3680" y="2470320"/>
            <a:ext cx="0" cy="58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21200" y="3409920"/>
            <a:ext cx="30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021200" y="3540240"/>
            <a:ext cx="306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646280" y="3622680"/>
            <a:ext cx="1434960" cy="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8360" y="6076080"/>
            <a:ext cx="392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ot flexible or exten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1600" y="286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ding Flexibility to Nam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re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 end replies with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reissues request to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 round r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 order of replicas provided to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o Local Director/Distributed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redirection in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balancing vs. distance, failo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219-3505-4E3F-9577-557F61FDF1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re Naming Flexibi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customizes content to specific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cnn.com, advertisement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customizes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to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oyment of new IP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, larger 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4E3-93E0-4C5F-81DE-86D9914327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ore Naming Flexibi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independen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resource names (UR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Ls that can chang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ripts to mangl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object systems (e.g., Globe, Leg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scalably locate mobile ob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226-7CF0-42A1-90F1-27DAA6AB26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omain Name System (DNS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8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 have global scope -- they mean the same thing ever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 are organized hierarc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nn.com, june.cs.washington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btree can be assigned to different 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ing and replication for performance,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nsistency to simplif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05B-0F7A-4EBB-9947-A00FD48ABA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820800" y="2293920"/>
            <a:ext cx="8037360" cy="40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ntext-sensitive n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User types cnn.com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f client is behind a modem, it gets back a b/w i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f client is a palm pilot, it gets  a distilled ima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f the client is in Europe, it goes to the European repl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mbine naming and transport in one fram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ovide flexibility and extensibility in the way wide area resources are acc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ctive Names Scenario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8240" y="156960"/>
            <a:ext cx="8202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Active Names: Basic Ide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12840" y="1230480"/>
            <a:ext cx="7112160" cy="1695240"/>
            <a:chOff x="1212840" y="1230480"/>
            <a:chExt cx="7112160" cy="1695240"/>
          </a:xfrm>
        </p:grpSpPr>
        <p:sp>
          <p:nvSpPr>
            <p:cNvPr id="256" name=""/>
            <p:cNvSpPr/>
            <p:nvPr/>
          </p:nvSpPr>
          <p:spPr>
            <a:xfrm>
              <a:off x="6348240" y="1663560"/>
              <a:ext cx="19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Da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40240" y="1230480"/>
              <a:ext cx="1858680" cy="1695240"/>
            </a:xfrm>
            <a:prstGeom prst="flowChartMultidocumen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2840" y="1704960"/>
              <a:ext cx="109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02080" y="173340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Progra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290680" y="2030400"/>
              <a:ext cx="105408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91080" y="1957320"/>
              <a:ext cx="87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30200" y="3092400"/>
            <a:ext cx="846756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ames resolved to mobile, secure programs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ctive Names organized into hierarchical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amespac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. A program is associated with each namespa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amespace programs can be changed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tens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ctive Names are connection oriented: better end-to-end semantics and performan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89680" y="3251160"/>
            <a:ext cx="349200" cy="160200"/>
          </a:xfrm>
          <a:prstGeom prst="rightArrow">
            <a:avLst>
              <a:gd name="adj1" fmla="val 50000"/>
              <a:gd name="adj2" fmla="val 5449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1280" y="4668840"/>
            <a:ext cx="349200" cy="160200"/>
          </a:xfrm>
          <a:prstGeom prst="rightArrow">
            <a:avLst>
              <a:gd name="adj1" fmla="val 50000"/>
              <a:gd name="adj2" fmla="val 5449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0480" y="295200"/>
            <a:ext cx="833436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Programming Mode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7680" y="2933640"/>
            <a:ext cx="7877160" cy="35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cation independent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grams may run on any AN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ream dat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program operates on a data stream which is the result of the previous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tinuation passing sty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rol does not have to return to the c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19080" y="1455840"/>
            <a:ext cx="7253280" cy="1551960"/>
            <a:chOff x="919080" y="1455840"/>
            <a:chExt cx="7253280" cy="1551960"/>
          </a:xfrm>
        </p:grpSpPr>
        <p:sp>
          <p:nvSpPr>
            <p:cNvPr id="268" name=""/>
            <p:cNvSpPr/>
            <p:nvPr/>
          </p:nvSpPr>
          <p:spPr>
            <a:xfrm>
              <a:off x="919080" y="193968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22640" y="2160360"/>
              <a:ext cx="86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78160" y="1954080"/>
              <a:ext cx="159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Program1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99000" y="1963440"/>
              <a:ext cx="161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Program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02320" y="2172960"/>
              <a:ext cx="74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50240" y="2172960"/>
              <a:ext cx="652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72360" y="2265120"/>
              <a:ext cx="0" cy="74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609920" y="2982600"/>
              <a:ext cx="654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609920" y="2447280"/>
              <a:ext cx="0" cy="53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81400" y="1950840"/>
              <a:ext cx="1409760" cy="49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79920" y="1947600"/>
              <a:ext cx="1409760" cy="49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96840" y="1520640"/>
              <a:ext cx="107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36920" y="1455840"/>
              <a:ext cx="15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64160" y="14558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80960" y="19692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Performance G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44480" y="4710240"/>
            <a:ext cx="4475160" cy="1172880"/>
            <a:chOff x="744480" y="4710240"/>
            <a:chExt cx="4475160" cy="1172880"/>
          </a:xfrm>
        </p:grpSpPr>
        <p:sp>
          <p:nvSpPr>
            <p:cNvPr id="284" name=""/>
            <p:cNvSpPr/>
            <p:nvPr/>
          </p:nvSpPr>
          <p:spPr>
            <a:xfrm>
              <a:off x="2622600" y="5295960"/>
              <a:ext cx="627120" cy="58716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61920" y="5295960"/>
              <a:ext cx="627120" cy="587160"/>
            </a:xfrm>
            <a:prstGeom prst="ellipse">
              <a:avLst/>
            </a:prstGeom>
            <a:solidFill>
              <a:srgbClr val="0000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82920" y="5218200"/>
              <a:ext cx="627120" cy="587160"/>
            </a:xfrm>
            <a:prstGeom prst="ellipse">
              <a:avLst/>
            </a:prstGeom>
            <a:solidFill>
              <a:srgbClr val="c1d31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4480" y="4788000"/>
              <a:ext cx="126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47920" y="4735440"/>
              <a:ext cx="14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97160" y="4710240"/>
              <a:ext cx="11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92280" y="5506920"/>
              <a:ext cx="10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49720" y="5467320"/>
              <a:ext cx="1029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3262320" y="5637240"/>
              <a:ext cx="103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592280" y="5702400"/>
              <a:ext cx="103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24400" y="4151160"/>
            <a:ext cx="3259080" cy="2394720"/>
            <a:chOff x="5324400" y="4151160"/>
            <a:chExt cx="3259080" cy="2394720"/>
          </a:xfrm>
        </p:grpSpPr>
        <p:sp>
          <p:nvSpPr>
            <p:cNvPr id="295" name=""/>
            <p:cNvSpPr/>
            <p:nvPr/>
          </p:nvSpPr>
          <p:spPr>
            <a:xfrm>
              <a:off x="7283520" y="5573520"/>
              <a:ext cx="627120" cy="587520"/>
            </a:xfrm>
            <a:prstGeom prst="ellipse">
              <a:avLst/>
            </a:prstGeom>
            <a:solidFill>
              <a:srgbClr val="c1d31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5960" y="6086160"/>
              <a:ext cx="11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40680" y="4570200"/>
              <a:ext cx="627120" cy="58752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67400" y="4570200"/>
              <a:ext cx="627120" cy="587520"/>
            </a:xfrm>
            <a:prstGeom prst="ellipse">
              <a:avLst/>
            </a:prstGeom>
            <a:solidFill>
              <a:srgbClr val="0000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24400" y="4154400"/>
              <a:ext cx="126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95960" y="4151160"/>
              <a:ext cx="14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97760" y="4781520"/>
              <a:ext cx="10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69360" y="5176800"/>
              <a:ext cx="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6148080" y="5058720"/>
              <a:ext cx="1135080" cy="73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528480" y="1531800"/>
            <a:ext cx="82076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pplication customized transport protoco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ograms are location independent. Location can be chosen to optimally utilize resources (e.g., distillation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ustomization can be performed close to client instead of at the server (e.g., to cache dynamic cont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3 way R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F0C-02E1-4E02-A484-9C587B2CA7A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47640" y="1550880"/>
            <a:ext cx="8212320" cy="53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ve names organized in a hierarchy of namespac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amespace programs can delegate to subordinate name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06440" y="230040"/>
            <a:ext cx="815184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Composing Servic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516040" y="2935440"/>
            <a:ext cx="3352680" cy="981360"/>
            <a:chOff x="2516040" y="2935440"/>
            <a:chExt cx="3352680" cy="981360"/>
          </a:xfrm>
        </p:grpSpPr>
        <p:sp>
          <p:nvSpPr>
            <p:cNvPr id="308" name=""/>
            <p:cNvSpPr/>
            <p:nvPr/>
          </p:nvSpPr>
          <p:spPr>
            <a:xfrm>
              <a:off x="3369600" y="2935440"/>
              <a:ext cx="249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ot-HTT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125880" y="3231360"/>
              <a:ext cx="867600" cy="33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79800" y="324324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79800" y="3243240"/>
              <a:ext cx="808920" cy="30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6040" y="3517920"/>
              <a:ext cx="33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nn          yahoo      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mposing Servic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33440" y="1920960"/>
            <a:ext cx="856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fter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inuation passing style program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amespace programs bundle remaining work into “after methods” before passing contro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ustomize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http|reply] --&gt;[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refetch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http|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istil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reply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F8E-FA48-49D7-8E07-4694B4810C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52440" y="247680"/>
            <a:ext cx="845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9800" y="1212840"/>
            <a:ext cx="83106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otection between active name programs provided by Java’s type safety mech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ller passes a certificate to the callee granting it a subset of its rights (e.g., to translate na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ransitive closure of the certificates determines the rights of a principal (e.g., to provide servic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r instance, each caller might grant its callee the right to respond to the cl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3E1-1D45-4189-865A-7B72FC7F507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66480" y="196920"/>
            <a:ext cx="8399160" cy="16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icrokernel Architectur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39880" y="5091120"/>
            <a:ext cx="234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46280" y="4983120"/>
            <a:ext cx="1270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9480" y="4832280"/>
            <a:ext cx="47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31840" y="49831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7520" y="4808520"/>
            <a:ext cx="2114640" cy="82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03400" y="4818240"/>
            <a:ext cx="9720" cy="80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69560" y="5262480"/>
            <a:ext cx="221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c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1960" y="4910040"/>
            <a:ext cx="584280" cy="5076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83120" y="5240160"/>
            <a:ext cx="584280" cy="5112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84560" y="4971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65600" y="4960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59520" y="4863960"/>
            <a:ext cx="206280" cy="430200"/>
          </a:xfrm>
          <a:custGeom>
            <a:avLst/>
            <a:gdLst/>
            <a:ahLst/>
            <a:rect l="l" t="t" r="r" b="b"/>
            <a:pathLst>
              <a:path w="130" h="271">
                <a:moveTo>
                  <a:pt x="129" y="0"/>
                </a:moveTo>
                <a:lnTo>
                  <a:pt x="24" y="90"/>
                </a:lnTo>
                <a:lnTo>
                  <a:pt x="105" y="159"/>
                </a:lnTo>
                <a:lnTo>
                  <a:pt x="0" y="270"/>
                </a:lnTo>
                <a:lnTo>
                  <a:pt x="6" y="26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89560" y="4794120"/>
            <a:ext cx="117360" cy="1080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21280" y="5238720"/>
            <a:ext cx="117360" cy="1080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27200" y="4830840"/>
            <a:ext cx="9360" cy="80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40040" y="4749840"/>
            <a:ext cx="2222640" cy="98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95240" y="4452840"/>
            <a:ext cx="5413320" cy="1755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86040" y="343548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84360" y="3711600"/>
            <a:ext cx="70020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78000" y="3706920"/>
            <a:ext cx="76860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9960" y="3049560"/>
            <a:ext cx="115740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ti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17560" y="3995640"/>
            <a:ext cx="600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21040" y="3168720"/>
            <a:ext cx="6188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382920" y="3076560"/>
            <a:ext cx="1410480" cy="431640"/>
            <a:chOff x="3382920" y="3076560"/>
            <a:chExt cx="1410480" cy="431640"/>
          </a:xfrm>
        </p:grpSpPr>
        <p:sp>
          <p:nvSpPr>
            <p:cNvPr id="342" name=""/>
            <p:cNvSpPr/>
            <p:nvPr/>
          </p:nvSpPr>
          <p:spPr>
            <a:xfrm>
              <a:off x="3409920" y="3076560"/>
              <a:ext cx="138348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it Cou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82920" y="3165480"/>
              <a:ext cx="11815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805280" y="3703680"/>
            <a:ext cx="393480" cy="431640"/>
            <a:chOff x="4805280" y="3703680"/>
            <a:chExt cx="393480" cy="431640"/>
          </a:xfrm>
        </p:grpSpPr>
        <p:sp>
          <p:nvSpPr>
            <p:cNvPr id="345" name=""/>
            <p:cNvSpPr/>
            <p:nvPr/>
          </p:nvSpPr>
          <p:spPr>
            <a:xfrm>
              <a:off x="4811400" y="3703680"/>
              <a:ext cx="38736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5280" y="3878280"/>
              <a:ext cx="333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951200" y="4165560"/>
            <a:ext cx="0" cy="571680"/>
          </a:xfrm>
          <a:prstGeom prst="line">
            <a:avLst/>
          </a:prstGeom>
          <a:ln w="76320">
            <a:solidFill>
              <a:srgbClr val="777777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7520" y="5180040"/>
            <a:ext cx="571320" cy="0"/>
          </a:xfrm>
          <a:prstGeom prst="line">
            <a:avLst/>
          </a:prstGeom>
          <a:ln w="76320">
            <a:solidFill>
              <a:srgbClr val="777777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09720" y="2185920"/>
            <a:ext cx="1570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Ut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7960" y="1944720"/>
            <a:ext cx="8156520" cy="446076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73760" y="4148280"/>
            <a:ext cx="0" cy="571320"/>
          </a:xfrm>
          <a:prstGeom prst="line">
            <a:avLst/>
          </a:prstGeom>
          <a:ln w="76320">
            <a:solidFill>
              <a:srgbClr val="777777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22360" y="378000"/>
            <a:ext cx="811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Application 1: Replica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1633680"/>
            <a:ext cx="4157640" cy="463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NS Round-R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Randomly choose re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void hot-sp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stributed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Route to nearest re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Geographic loc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tive 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evious performance,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dap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6400" y="1631880"/>
            <a:ext cx="3581640" cy="464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887400" y="1784520"/>
            <a:ext cx="2744640" cy="3963960"/>
            <a:chOff x="887400" y="1784520"/>
            <a:chExt cx="2744640" cy="3963960"/>
          </a:xfrm>
        </p:grpSpPr>
        <p:sp>
          <p:nvSpPr>
            <p:cNvPr id="356" name=""/>
            <p:cNvSpPr/>
            <p:nvPr/>
          </p:nvSpPr>
          <p:spPr>
            <a:xfrm>
              <a:off x="890640" y="1784520"/>
              <a:ext cx="1898640" cy="846360"/>
            </a:xfrm>
            <a:custGeom>
              <a:avLst/>
              <a:gdLst/>
              <a:ahLst/>
              <a:rect l="l" t="t" r="r" b="b"/>
              <a:pathLst>
                <a:path w="1196" h="533">
                  <a:moveTo>
                    <a:pt x="267" y="0"/>
                  </a:moveTo>
                  <a:lnTo>
                    <a:pt x="312" y="157"/>
                  </a:lnTo>
                  <a:lnTo>
                    <a:pt x="287" y="193"/>
                  </a:lnTo>
                  <a:lnTo>
                    <a:pt x="0" y="161"/>
                  </a:lnTo>
                  <a:lnTo>
                    <a:pt x="90" y="441"/>
                  </a:lnTo>
                  <a:lnTo>
                    <a:pt x="225" y="448"/>
                  </a:lnTo>
                  <a:lnTo>
                    <a:pt x="252" y="532"/>
                  </a:lnTo>
                  <a:lnTo>
                    <a:pt x="798" y="455"/>
                  </a:lnTo>
                  <a:lnTo>
                    <a:pt x="1195" y="455"/>
                  </a:lnTo>
                  <a:lnTo>
                    <a:pt x="1195" y="4"/>
                  </a:lnTo>
                  <a:lnTo>
                    <a:pt x="267" y="0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98560" y="2484720"/>
              <a:ext cx="1985760" cy="1079640"/>
            </a:xfrm>
            <a:custGeom>
              <a:avLst/>
              <a:gdLst/>
              <a:ahLst/>
              <a:rect l="l" t="t" r="r" b="b"/>
              <a:pathLst>
                <a:path w="1251" h="680">
                  <a:moveTo>
                    <a:pt x="80" y="0"/>
                  </a:moveTo>
                  <a:lnTo>
                    <a:pt x="220" y="4"/>
                  </a:lnTo>
                  <a:lnTo>
                    <a:pt x="252" y="91"/>
                  </a:lnTo>
                  <a:lnTo>
                    <a:pt x="783" y="14"/>
                  </a:lnTo>
                  <a:lnTo>
                    <a:pt x="1190" y="14"/>
                  </a:lnTo>
                  <a:lnTo>
                    <a:pt x="1250" y="84"/>
                  </a:lnTo>
                  <a:lnTo>
                    <a:pt x="1165" y="339"/>
                  </a:lnTo>
                  <a:lnTo>
                    <a:pt x="1220" y="349"/>
                  </a:lnTo>
                  <a:lnTo>
                    <a:pt x="1220" y="679"/>
                  </a:lnTo>
                  <a:lnTo>
                    <a:pt x="35" y="679"/>
                  </a:lnTo>
                  <a:lnTo>
                    <a:pt x="0" y="533"/>
                  </a:lnTo>
                  <a:lnTo>
                    <a:pt x="80" y="0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87400" y="3561120"/>
              <a:ext cx="2744640" cy="2187360"/>
            </a:xfrm>
            <a:custGeom>
              <a:avLst/>
              <a:gdLst/>
              <a:ahLst/>
              <a:rect l="l" t="t" r="r" b="b"/>
              <a:pathLst>
                <a:path w="1729" h="1378">
                  <a:moveTo>
                    <a:pt x="40" y="0"/>
                  </a:moveTo>
                  <a:lnTo>
                    <a:pt x="743" y="0"/>
                  </a:lnTo>
                  <a:lnTo>
                    <a:pt x="743" y="469"/>
                  </a:lnTo>
                  <a:lnTo>
                    <a:pt x="1648" y="1115"/>
                  </a:lnTo>
                  <a:lnTo>
                    <a:pt x="1728" y="1190"/>
                  </a:lnTo>
                  <a:lnTo>
                    <a:pt x="1688" y="1377"/>
                  </a:lnTo>
                  <a:lnTo>
                    <a:pt x="1234" y="1377"/>
                  </a:lnTo>
                  <a:lnTo>
                    <a:pt x="833" y="1145"/>
                  </a:lnTo>
                  <a:lnTo>
                    <a:pt x="691" y="1145"/>
                  </a:lnTo>
                  <a:lnTo>
                    <a:pt x="349" y="713"/>
                  </a:lnTo>
                  <a:lnTo>
                    <a:pt x="110" y="448"/>
                  </a:lnTo>
                  <a:lnTo>
                    <a:pt x="140" y="346"/>
                  </a:lnTo>
                  <a:lnTo>
                    <a:pt x="0" y="210"/>
                  </a:lnTo>
                  <a:lnTo>
                    <a:pt x="40" y="0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503360" y="1866960"/>
            <a:ext cx="749160" cy="568080"/>
            <a:chOff x="1503360" y="1866960"/>
            <a:chExt cx="749160" cy="568080"/>
          </a:xfrm>
        </p:grpSpPr>
        <p:sp>
          <p:nvSpPr>
            <p:cNvPr id="360" name=""/>
            <p:cNvSpPr/>
            <p:nvPr/>
          </p:nvSpPr>
          <p:spPr>
            <a:xfrm>
              <a:off x="1512720" y="2392200"/>
              <a:ext cx="730440" cy="42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12720" y="1866960"/>
              <a:ext cx="730440" cy="531720"/>
            </a:xfrm>
            <a:prstGeom prst="rect">
              <a:avLst/>
            </a:prstGeom>
            <a:solidFill>
              <a:srgbClr val="e6dc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03360" y="1866960"/>
              <a:ext cx="6480" cy="54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81280" y="1866960"/>
              <a:ext cx="6120" cy="54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46400" y="1866960"/>
              <a:ext cx="6120" cy="54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14520" y="1906560"/>
              <a:ext cx="25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92440" y="1906560"/>
              <a:ext cx="44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1779120" y="1878120"/>
              <a:ext cx="466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11320" y="1914480"/>
              <a:ext cx="1440" cy="47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00160" y="1993680"/>
              <a:ext cx="4680" cy="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0160" y="2290680"/>
              <a:ext cx="4680" cy="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62200" y="2290680"/>
              <a:ext cx="6120" cy="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62200" y="1993680"/>
              <a:ext cx="6120" cy="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536840" y="19663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546200" y="19663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555560" y="19663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565280" y="19663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1574640" y="19663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1593720" y="19663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1603440" y="19663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1612800" y="19663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623960" y="19663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633680" y="19663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1643040" y="19663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1649520" y="19663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658880" y="19663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68600" y="19796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77960" y="19796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98480" y="19796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08200" y="19796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17560" y="19796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27280" y="19796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36640" y="19796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1536840" y="19936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546200" y="19936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555560" y="199368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565280" y="19936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574640" y="19936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593720" y="19936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603440" y="19936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612800" y="19936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1623960" y="199368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633680" y="19936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1643040" y="19936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649520" y="19936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658880" y="19936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668600" y="20066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77960" y="20066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8480" y="2006640"/>
              <a:ext cx="1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08200" y="20066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7560" y="2006640"/>
              <a:ext cx="1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27280" y="20066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36640" y="2006640"/>
              <a:ext cx="1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1536840" y="20221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1546200" y="20221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555560" y="20221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565280" y="2022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1574640" y="2022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1593720" y="2022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603440" y="2022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612800" y="2022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1623960" y="20221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1633680" y="20221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1643040" y="20221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649520" y="2022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658880" y="2022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68600" y="2035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7960" y="2035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98480" y="2035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08200" y="2035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17560" y="2035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27280" y="2035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36640" y="2035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536840" y="204624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546200" y="204624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1555560" y="204624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565280" y="2046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1574640" y="2046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593720" y="2046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1603440" y="2046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612800" y="2046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23960" y="204624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1633680" y="204624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643040" y="204624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1649520" y="2046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1658880" y="2046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68600" y="206064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77960" y="206064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98480" y="206064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08200" y="206064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17560" y="206064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27280" y="206064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36640" y="206064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55720" y="20271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94040" y="202716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98800" y="1887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08160" y="1887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17880" y="1887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25800" y="18874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6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55680" y="1887480"/>
              <a:ext cx="9720" cy="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90600" y="1887480"/>
              <a:ext cx="11160" cy="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536840" y="210168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546200" y="210168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555560" y="210168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1565280" y="21016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574640" y="21016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1593720" y="21016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603440" y="21016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1612800" y="21016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1623960" y="210168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1633680" y="210168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1643040" y="210168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1649520" y="21016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658880" y="21016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68600" y="211608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77960" y="211608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98480" y="2116080"/>
              <a:ext cx="1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08200" y="211608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17560" y="2116080"/>
              <a:ext cx="1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27280" y="211608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36640" y="2116080"/>
              <a:ext cx="1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1536840" y="21330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1546200" y="21330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1555560" y="213300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1565280" y="21330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1574640" y="21330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1593720" y="21330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1603440" y="21330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1612800" y="21330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1623960" y="213300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1633680" y="21330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1643040" y="21330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649520" y="21330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1658880" y="21330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68600" y="2146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77960" y="2146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8480" y="214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708200" y="2146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17560" y="214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27280" y="2146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36640" y="214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1536840" y="21574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1546200" y="21574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1555560" y="215748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565280" y="21574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1574640" y="21574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593720" y="21574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603440" y="21574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612800" y="21574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623960" y="215748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1633680" y="21574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643040" y="21574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1649520" y="21574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1658880" y="21574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68600" y="21715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77960" y="21715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98480" y="217152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08200" y="21715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17560" y="217152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27280" y="21715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736640" y="217152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1536840" y="21952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1546200" y="21952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1555560" y="219528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1565280" y="21952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1574640" y="21952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1593720" y="21952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03360" y="3695760"/>
            <a:ext cx="749160" cy="568080"/>
            <a:chOff x="1503360" y="3695760"/>
            <a:chExt cx="749160" cy="568080"/>
          </a:xfrm>
        </p:grpSpPr>
        <p:sp>
          <p:nvSpPr>
            <p:cNvPr id="528" name=""/>
            <p:cNvSpPr/>
            <p:nvPr/>
          </p:nvSpPr>
          <p:spPr>
            <a:xfrm>
              <a:off x="1512720" y="4221000"/>
              <a:ext cx="730440" cy="42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12720" y="3695760"/>
              <a:ext cx="730440" cy="531720"/>
            </a:xfrm>
            <a:prstGeom prst="rect">
              <a:avLst/>
            </a:prstGeom>
            <a:solidFill>
              <a:srgbClr val="e6dc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03360" y="3695760"/>
              <a:ext cx="6480" cy="54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81280" y="3695760"/>
              <a:ext cx="6120" cy="54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46400" y="3695760"/>
              <a:ext cx="6120" cy="54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514520" y="3735360"/>
              <a:ext cx="25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92440" y="3735360"/>
              <a:ext cx="44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1779120" y="3706920"/>
              <a:ext cx="466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11320" y="3743280"/>
              <a:ext cx="1440" cy="47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000160" y="3822480"/>
              <a:ext cx="4680" cy="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00160" y="4119480"/>
              <a:ext cx="4680" cy="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62200" y="4119480"/>
              <a:ext cx="6120" cy="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62200" y="3822480"/>
              <a:ext cx="6120" cy="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536840" y="37951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546200" y="37951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555560" y="37951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565280" y="3795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574640" y="3795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593720" y="3795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603440" y="3795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612800" y="3795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623960" y="37951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633680" y="37951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643040" y="37951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649520" y="3795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1658880" y="3795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68600" y="38084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77960" y="38084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98480" y="38084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8200" y="38084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17560" y="38084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27280" y="38084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36640" y="38084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1536840" y="38224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1546200" y="38224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1555560" y="382248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1565280" y="38224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1574640" y="38224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1593720" y="38224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603440" y="38224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612800" y="38224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1623960" y="382248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1633680" y="38224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643040" y="38224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1649520" y="38224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1658880" y="38224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68600" y="38354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77960" y="38354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98480" y="3835440"/>
              <a:ext cx="1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8200" y="38354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17560" y="3835440"/>
              <a:ext cx="1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27280" y="38354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36640" y="3835440"/>
              <a:ext cx="1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536840" y="38509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1546200" y="38509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1555560" y="38509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565280" y="38509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1574640" y="38509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1593720" y="38509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1603440" y="38509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1612800" y="38509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1623960" y="38509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1633680" y="38509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1643040" y="38509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1649520" y="38509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1658880" y="38509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68600" y="3863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7960" y="3863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98480" y="3863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8200" y="3863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17560" y="3863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27280" y="3863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36640" y="3863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1536840" y="387504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1546200" y="387504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1555560" y="387504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1565280" y="38750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574640" y="38750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1593720" y="38750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1603440" y="38750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1612800" y="38750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1623960" y="387504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1633680" y="387504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1643040" y="387504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1649520" y="38750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1658880" y="38750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68600" y="388944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77960" y="388944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698480" y="388944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8200" y="388944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17560" y="388944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27280" y="388944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36640" y="3889440"/>
              <a:ext cx="18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55720" y="38559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94040" y="385596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098800" y="37162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08160" y="37162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17880" y="37162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25800" y="37162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6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55680" y="3716280"/>
              <a:ext cx="9720" cy="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90600" y="3716280"/>
              <a:ext cx="11160" cy="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1536840" y="393048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1546200" y="393048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1555560" y="393048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1565280" y="39304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1574640" y="39304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1593720" y="39304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1603440" y="39304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1612800" y="39304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1623960" y="393048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633680" y="393048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1643040" y="393048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1649520" y="39304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1658880" y="393048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68600" y="394488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77960" y="394488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698480" y="3944880"/>
              <a:ext cx="1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08200" y="394488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717560" y="3944880"/>
              <a:ext cx="1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27280" y="394488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36640" y="3944880"/>
              <a:ext cx="1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1536840" y="39618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546200" y="39618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555560" y="396180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565280" y="39618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574640" y="39618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1593720" y="39618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1603440" y="39618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1612800" y="39618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1623960" y="396180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1633680" y="39618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1643040" y="39618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649520" y="39618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1658880" y="39618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668600" y="3975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77960" y="3975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698480" y="3975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08200" y="3975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17560" y="3975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27280" y="3975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36640" y="3975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1536840" y="39862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1546200" y="39862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1555560" y="398628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1565280" y="39862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574640" y="39862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1593720" y="39862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1603440" y="39862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1612800" y="39862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1623960" y="398628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633680" y="39862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643040" y="39862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1649520" y="39862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658880" y="39862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668600" y="40003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677960" y="40003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698480" y="400032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08200" y="40003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17560" y="400032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27280" y="40003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36640" y="400032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1536840" y="40240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1546200" y="402408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1555560" y="402408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1565280" y="40240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1574640" y="40240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1593720" y="402408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003320" y="4186080"/>
            <a:ext cx="352440" cy="293760"/>
            <a:chOff x="1003320" y="4186080"/>
            <a:chExt cx="352440" cy="293760"/>
          </a:xfrm>
        </p:grpSpPr>
        <p:sp>
          <p:nvSpPr>
            <p:cNvPr id="696" name=""/>
            <p:cNvSpPr/>
            <p:nvPr/>
          </p:nvSpPr>
          <p:spPr>
            <a:xfrm>
              <a:off x="1003320" y="441144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39" y="0"/>
                  </a:moveTo>
                  <a:lnTo>
                    <a:pt x="31" y="0"/>
                  </a:lnTo>
                  <a:lnTo>
                    <a:pt x="19" y="8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98" y="42"/>
                  </a:lnTo>
                  <a:lnTo>
                    <a:pt x="106" y="42"/>
                  </a:lnTo>
                  <a:lnTo>
                    <a:pt x="138" y="31"/>
                  </a:lnTo>
                  <a:lnTo>
                    <a:pt x="138" y="19"/>
                  </a:lnTo>
                  <a:lnTo>
                    <a:pt x="43" y="0"/>
                  </a:lnTo>
                  <a:lnTo>
                    <a:pt x="39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03320" y="4435200"/>
              <a:ext cx="220680" cy="3816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8" y="23"/>
                  </a:lnTo>
                  <a:lnTo>
                    <a:pt x="102" y="23"/>
                  </a:lnTo>
                  <a:lnTo>
                    <a:pt x="110" y="20"/>
                  </a:lnTo>
                  <a:lnTo>
                    <a:pt x="122" y="16"/>
                  </a:lnTo>
                  <a:lnTo>
                    <a:pt x="126" y="16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3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135080" y="4448160"/>
              <a:ext cx="63360" cy="205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0" y="8"/>
                  </a:moveTo>
                  <a:lnTo>
                    <a:pt x="19" y="12"/>
                  </a:lnTo>
                  <a:lnTo>
                    <a:pt x="27" y="8"/>
                  </a:lnTo>
                  <a:lnTo>
                    <a:pt x="31" y="8"/>
                  </a:lnTo>
                  <a:lnTo>
                    <a:pt x="39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27080" y="4417920"/>
              <a:ext cx="133200" cy="44280"/>
            </a:xfrm>
            <a:custGeom>
              <a:avLst/>
              <a:gdLst/>
              <a:ahLst/>
              <a:rect l="l" t="t" r="r" b="b"/>
              <a:pathLst>
                <a:path w="84" h="28">
                  <a:moveTo>
                    <a:pt x="20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0" y="11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48" y="23"/>
                  </a:lnTo>
                  <a:lnTo>
                    <a:pt x="52" y="19"/>
                  </a:lnTo>
                  <a:lnTo>
                    <a:pt x="60" y="23"/>
                  </a:lnTo>
                  <a:lnTo>
                    <a:pt x="56" y="23"/>
                  </a:lnTo>
                  <a:lnTo>
                    <a:pt x="64" y="27"/>
                  </a:lnTo>
                  <a:lnTo>
                    <a:pt x="72" y="23"/>
                  </a:lnTo>
                  <a:lnTo>
                    <a:pt x="83" y="15"/>
                  </a:lnTo>
                  <a:lnTo>
                    <a:pt x="20" y="0"/>
                  </a:lnTo>
                  <a:lnTo>
                    <a:pt x="2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65240" y="4417920"/>
              <a:ext cx="33120" cy="79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0"/>
                  </a:moveTo>
                  <a:lnTo>
                    <a:pt x="4" y="0"/>
                  </a:ln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96920" y="4424040"/>
              <a:ext cx="39600" cy="1296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0"/>
                  </a:moveTo>
                  <a:lnTo>
                    <a:pt x="4" y="0"/>
                  </a:lnTo>
                  <a:lnTo>
                    <a:pt x="24" y="4"/>
                  </a:lnTo>
                  <a:lnTo>
                    <a:pt x="20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135080" y="443052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3"/>
                  </a:moveTo>
                  <a:lnTo>
                    <a:pt x="0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64960" y="444168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4" y="0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128600" y="4338360"/>
              <a:ext cx="227160" cy="6840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43" y="8"/>
                  </a:moveTo>
                  <a:lnTo>
                    <a:pt x="0" y="19"/>
                  </a:lnTo>
                  <a:lnTo>
                    <a:pt x="0" y="27"/>
                  </a:lnTo>
                  <a:lnTo>
                    <a:pt x="63" y="42"/>
                  </a:lnTo>
                  <a:lnTo>
                    <a:pt x="71" y="42"/>
                  </a:lnTo>
                  <a:lnTo>
                    <a:pt x="138" y="35"/>
                  </a:lnTo>
                  <a:lnTo>
                    <a:pt x="142" y="31"/>
                  </a:lnTo>
                  <a:lnTo>
                    <a:pt x="142" y="12"/>
                  </a:lnTo>
                  <a:lnTo>
                    <a:pt x="138" y="12"/>
                  </a:lnTo>
                  <a:lnTo>
                    <a:pt x="126" y="0"/>
                  </a:lnTo>
                  <a:lnTo>
                    <a:pt x="75" y="8"/>
                  </a:lnTo>
                  <a:lnTo>
                    <a:pt x="43" y="8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128600" y="4357440"/>
              <a:ext cx="227160" cy="31680"/>
            </a:xfrm>
            <a:custGeom>
              <a:avLst/>
              <a:gdLst/>
              <a:ahLst/>
              <a:rect l="l" t="t" r="r" b="b"/>
              <a:pathLst>
                <a:path w="143" h="20">
                  <a:moveTo>
                    <a:pt x="0" y="7"/>
                  </a:moveTo>
                  <a:lnTo>
                    <a:pt x="63" y="19"/>
                  </a:lnTo>
                  <a:lnTo>
                    <a:pt x="67" y="19"/>
                  </a:lnTo>
                  <a:lnTo>
                    <a:pt x="138" y="3"/>
                  </a:lnTo>
                  <a:lnTo>
                    <a:pt x="142" y="3"/>
                  </a:lnTo>
                  <a:lnTo>
                    <a:pt x="142" y="0"/>
                  </a:lnTo>
                  <a:lnTo>
                    <a:pt x="1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28600" y="4368600"/>
              <a:ext cx="227160" cy="27000"/>
            </a:xfrm>
            <a:custGeom>
              <a:avLst/>
              <a:gdLst/>
              <a:ahLst/>
              <a:rect l="l" t="t" r="r" b="b"/>
              <a:pathLst>
                <a:path w="143" h="17">
                  <a:moveTo>
                    <a:pt x="0" y="4"/>
                  </a:moveTo>
                  <a:lnTo>
                    <a:pt x="59" y="16"/>
                  </a:lnTo>
                  <a:lnTo>
                    <a:pt x="67" y="16"/>
                  </a:lnTo>
                  <a:lnTo>
                    <a:pt x="138" y="0"/>
                  </a:lnTo>
                  <a:lnTo>
                    <a:pt x="14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190520" y="4321080"/>
              <a:ext cx="152280" cy="49320"/>
            </a:xfrm>
            <a:custGeom>
              <a:avLst/>
              <a:gdLst/>
              <a:ahLst/>
              <a:rect l="l" t="t" r="r" b="b"/>
              <a:pathLst>
                <a:path w="96" h="31">
                  <a:moveTo>
                    <a:pt x="12" y="3"/>
                  </a:moveTo>
                  <a:lnTo>
                    <a:pt x="0" y="19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8" y="30"/>
                  </a:lnTo>
                  <a:lnTo>
                    <a:pt x="40" y="30"/>
                  </a:lnTo>
                  <a:lnTo>
                    <a:pt x="48" y="26"/>
                  </a:lnTo>
                  <a:lnTo>
                    <a:pt x="55" y="26"/>
                  </a:lnTo>
                  <a:lnTo>
                    <a:pt x="95" y="19"/>
                  </a:lnTo>
                  <a:lnTo>
                    <a:pt x="87" y="0"/>
                  </a:lnTo>
                  <a:lnTo>
                    <a:pt x="12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03120" y="4325760"/>
              <a:ext cx="14400" cy="4464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4" y="4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66840" y="4321080"/>
              <a:ext cx="63360" cy="1908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0" y="3"/>
                  </a:moveTo>
                  <a:lnTo>
                    <a:pt x="3" y="7"/>
                  </a:lnTo>
                  <a:lnTo>
                    <a:pt x="15" y="7"/>
                  </a:lnTo>
                  <a:lnTo>
                    <a:pt x="19" y="11"/>
                  </a:lnTo>
                  <a:lnTo>
                    <a:pt x="39" y="11"/>
                  </a:lnTo>
                  <a:lnTo>
                    <a:pt x="35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28680" y="4205160"/>
              <a:ext cx="12708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31" y="0"/>
                  </a:moveTo>
                  <a:lnTo>
                    <a:pt x="75" y="23"/>
                  </a:lnTo>
                  <a:lnTo>
                    <a:pt x="79" y="23"/>
                  </a:lnTo>
                  <a:lnTo>
                    <a:pt x="79" y="30"/>
                  </a:lnTo>
                  <a:lnTo>
                    <a:pt x="71" y="73"/>
                  </a:lnTo>
                  <a:lnTo>
                    <a:pt x="67" y="76"/>
                  </a:lnTo>
                  <a:lnTo>
                    <a:pt x="8" y="80"/>
                  </a:lnTo>
                  <a:lnTo>
                    <a:pt x="0" y="57"/>
                  </a:lnTo>
                  <a:lnTo>
                    <a:pt x="31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flipV="1">
              <a:off x="1234440" y="4290840"/>
              <a:ext cx="1112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28600" y="4186080"/>
              <a:ext cx="157320" cy="154080"/>
            </a:xfrm>
            <a:custGeom>
              <a:avLst/>
              <a:gdLst/>
              <a:ahLst/>
              <a:rect l="l" t="t" r="r" b="b"/>
              <a:pathLst>
                <a:path w="99" h="97">
                  <a:moveTo>
                    <a:pt x="98" y="8"/>
                  </a:moveTo>
                  <a:lnTo>
                    <a:pt x="87" y="8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8" y="81"/>
                  </a:lnTo>
                  <a:lnTo>
                    <a:pt x="12" y="85"/>
                  </a:lnTo>
                  <a:lnTo>
                    <a:pt x="75" y="96"/>
                  </a:lnTo>
                  <a:lnTo>
                    <a:pt x="79" y="96"/>
                  </a:lnTo>
                  <a:lnTo>
                    <a:pt x="79" y="92"/>
                  </a:lnTo>
                  <a:lnTo>
                    <a:pt x="83" y="88"/>
                  </a:lnTo>
                  <a:lnTo>
                    <a:pt x="98" y="16"/>
                  </a:lnTo>
                  <a:lnTo>
                    <a:pt x="98" y="8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28600" y="419868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87" y="0"/>
                  </a:moveTo>
                  <a:lnTo>
                    <a:pt x="90" y="0"/>
                  </a:lnTo>
                  <a:lnTo>
                    <a:pt x="90" y="4"/>
                  </a:lnTo>
                  <a:lnTo>
                    <a:pt x="71" y="80"/>
                  </a:lnTo>
                  <a:lnTo>
                    <a:pt x="67" y="84"/>
                  </a:lnTo>
                  <a:lnTo>
                    <a:pt x="4" y="73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41200" y="4198680"/>
              <a:ext cx="120600" cy="11772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15" y="4"/>
                  </a:moveTo>
                  <a:lnTo>
                    <a:pt x="0" y="57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55" y="73"/>
                  </a:lnTo>
                  <a:lnTo>
                    <a:pt x="59" y="73"/>
                  </a:lnTo>
                  <a:lnTo>
                    <a:pt x="59" y="69"/>
                  </a:lnTo>
                  <a:lnTo>
                    <a:pt x="75" y="11"/>
                  </a:lnTo>
                  <a:lnTo>
                    <a:pt x="75" y="8"/>
                  </a:lnTo>
                  <a:lnTo>
                    <a:pt x="71" y="4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15" y="4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234800" y="432576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1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47680" y="4205160"/>
              <a:ext cx="108000" cy="1047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15" y="4"/>
                  </a:moveTo>
                  <a:lnTo>
                    <a:pt x="0" y="53"/>
                  </a:lnTo>
                  <a:lnTo>
                    <a:pt x="0" y="57"/>
                  </a:lnTo>
                  <a:lnTo>
                    <a:pt x="3" y="57"/>
                  </a:lnTo>
                  <a:lnTo>
                    <a:pt x="47" y="65"/>
                  </a:lnTo>
                  <a:lnTo>
                    <a:pt x="55" y="65"/>
                  </a:lnTo>
                  <a:lnTo>
                    <a:pt x="67" y="7"/>
                  </a:lnTo>
                  <a:lnTo>
                    <a:pt x="67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4"/>
                  </a:lnTo>
                </a:path>
              </a:pathLst>
            </a:custGeom>
            <a:solidFill>
              <a:srgbClr val="baa89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152360" y="4211640"/>
              <a:ext cx="10332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4" y="7"/>
                  </a:moveTo>
                  <a:lnTo>
                    <a:pt x="64" y="3"/>
                  </a:lnTo>
                  <a:lnTo>
                    <a:pt x="60" y="3"/>
                  </a:lnTo>
                  <a:lnTo>
                    <a:pt x="36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8" y="11"/>
                  </a:lnTo>
                  <a:lnTo>
                    <a:pt x="4" y="23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44" y="61"/>
                  </a:lnTo>
                  <a:lnTo>
                    <a:pt x="48" y="61"/>
                  </a:lnTo>
                  <a:lnTo>
                    <a:pt x="48" y="57"/>
                  </a:lnTo>
                  <a:lnTo>
                    <a:pt x="52" y="57"/>
                  </a:lnTo>
                  <a:lnTo>
                    <a:pt x="64" y="7"/>
                  </a:lnTo>
                </a:path>
              </a:pathLst>
            </a:custGeom>
            <a:solidFill>
              <a:srgbClr val="7fd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171440" y="4216320"/>
              <a:ext cx="20520" cy="381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2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4"/>
                  </a:lnTo>
                  <a:lnTo>
                    <a:pt x="12" y="0"/>
                  </a:lnTo>
                </a:path>
              </a:pathLst>
            </a:custGeom>
            <a:solidFill>
              <a:srgbClr val="d8e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260360" y="4321080"/>
              <a:ext cx="82440" cy="6120"/>
            </a:xfrm>
            <a:custGeom>
              <a:avLst/>
              <a:gdLst/>
              <a:ahLst/>
              <a:rect l="l" t="t" r="r" b="b"/>
              <a:pathLst>
                <a:path w="52" h="4">
                  <a:moveTo>
                    <a:pt x="0" y="3"/>
                  </a:moveTo>
                  <a:lnTo>
                    <a:pt x="7" y="3"/>
                  </a:lnTo>
                  <a:lnTo>
                    <a:pt x="23" y="0"/>
                  </a:lnTo>
                  <a:lnTo>
                    <a:pt x="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309680" y="4387680"/>
              <a:ext cx="6120" cy="1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78000" y="4394160"/>
              <a:ext cx="2052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3"/>
                  </a:moveTo>
                  <a:lnTo>
                    <a:pt x="8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8" y="3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09600" y="44542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216080" y="439416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3" y="3"/>
                  </a:moveTo>
                  <a:lnTo>
                    <a:pt x="39" y="3"/>
                  </a:lnTo>
                  <a:lnTo>
                    <a:pt x="39" y="0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2" y="7"/>
                  </a:lnTo>
                  <a:lnTo>
                    <a:pt x="12" y="11"/>
                  </a:lnTo>
                  <a:lnTo>
                    <a:pt x="8" y="11"/>
                  </a:lnTo>
                  <a:lnTo>
                    <a:pt x="12" y="19"/>
                  </a:lnTo>
                  <a:lnTo>
                    <a:pt x="12" y="26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4" y="34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4" y="42"/>
                  </a:lnTo>
                  <a:lnTo>
                    <a:pt x="12" y="42"/>
                  </a:lnTo>
                  <a:lnTo>
                    <a:pt x="16" y="38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35" y="7"/>
                  </a:lnTo>
                  <a:lnTo>
                    <a:pt x="43" y="7"/>
                  </a:lnTo>
                  <a:lnTo>
                    <a:pt x="43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222200" y="444816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0" y="8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22868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22868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28680" y="44416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34800" y="44352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36600" y="443520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236600" y="443052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36600" y="442404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234800" y="4417920"/>
              <a:ext cx="6480" cy="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34800" y="44114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34800" y="44053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41280" y="440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241280" y="43988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4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47760" y="43988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53880" y="43988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60360" y="43988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66840" y="4398840"/>
              <a:ext cx="468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271520" y="4398840"/>
              <a:ext cx="648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278000" y="4398840"/>
              <a:ext cx="612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06520" y="4146480"/>
            <a:ext cx="352440" cy="293760"/>
            <a:chOff x="506520" y="4146480"/>
            <a:chExt cx="352440" cy="293760"/>
          </a:xfrm>
        </p:grpSpPr>
        <p:sp>
          <p:nvSpPr>
            <p:cNvPr id="744" name=""/>
            <p:cNvSpPr/>
            <p:nvPr/>
          </p:nvSpPr>
          <p:spPr>
            <a:xfrm>
              <a:off x="506520" y="437184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39" y="0"/>
                  </a:moveTo>
                  <a:lnTo>
                    <a:pt x="31" y="0"/>
                  </a:lnTo>
                  <a:lnTo>
                    <a:pt x="19" y="8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98" y="42"/>
                  </a:lnTo>
                  <a:lnTo>
                    <a:pt x="106" y="42"/>
                  </a:lnTo>
                  <a:lnTo>
                    <a:pt x="138" y="31"/>
                  </a:lnTo>
                  <a:lnTo>
                    <a:pt x="138" y="19"/>
                  </a:lnTo>
                  <a:lnTo>
                    <a:pt x="43" y="0"/>
                  </a:lnTo>
                  <a:lnTo>
                    <a:pt x="39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6520" y="4395600"/>
              <a:ext cx="220680" cy="3816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8" y="23"/>
                  </a:lnTo>
                  <a:lnTo>
                    <a:pt x="102" y="23"/>
                  </a:lnTo>
                  <a:lnTo>
                    <a:pt x="110" y="20"/>
                  </a:lnTo>
                  <a:lnTo>
                    <a:pt x="122" y="16"/>
                  </a:lnTo>
                  <a:lnTo>
                    <a:pt x="126" y="16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3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8280" y="4408560"/>
              <a:ext cx="63360" cy="205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0" y="8"/>
                  </a:moveTo>
                  <a:lnTo>
                    <a:pt x="19" y="12"/>
                  </a:lnTo>
                  <a:lnTo>
                    <a:pt x="27" y="8"/>
                  </a:lnTo>
                  <a:lnTo>
                    <a:pt x="31" y="8"/>
                  </a:lnTo>
                  <a:lnTo>
                    <a:pt x="39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0280" y="4378320"/>
              <a:ext cx="133200" cy="44280"/>
            </a:xfrm>
            <a:custGeom>
              <a:avLst/>
              <a:gdLst/>
              <a:ahLst/>
              <a:rect l="l" t="t" r="r" b="b"/>
              <a:pathLst>
                <a:path w="84" h="28">
                  <a:moveTo>
                    <a:pt x="20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0" y="11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48" y="23"/>
                  </a:lnTo>
                  <a:lnTo>
                    <a:pt x="52" y="19"/>
                  </a:lnTo>
                  <a:lnTo>
                    <a:pt x="60" y="23"/>
                  </a:lnTo>
                  <a:lnTo>
                    <a:pt x="56" y="23"/>
                  </a:lnTo>
                  <a:lnTo>
                    <a:pt x="64" y="27"/>
                  </a:lnTo>
                  <a:lnTo>
                    <a:pt x="72" y="23"/>
                  </a:lnTo>
                  <a:lnTo>
                    <a:pt x="83" y="15"/>
                  </a:lnTo>
                  <a:lnTo>
                    <a:pt x="20" y="0"/>
                  </a:lnTo>
                  <a:lnTo>
                    <a:pt x="2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68440" y="4378320"/>
              <a:ext cx="33120" cy="79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0"/>
                  </a:moveTo>
                  <a:lnTo>
                    <a:pt x="4" y="0"/>
                  </a:ln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0120" y="4384440"/>
              <a:ext cx="39600" cy="1296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0"/>
                  </a:moveTo>
                  <a:lnTo>
                    <a:pt x="4" y="0"/>
                  </a:lnTo>
                  <a:lnTo>
                    <a:pt x="24" y="4"/>
                  </a:lnTo>
                  <a:lnTo>
                    <a:pt x="20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8280" y="439092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3"/>
                  </a:moveTo>
                  <a:lnTo>
                    <a:pt x="0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8160" y="440208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4" y="0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1800" y="4298760"/>
              <a:ext cx="227160" cy="6840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43" y="8"/>
                  </a:moveTo>
                  <a:lnTo>
                    <a:pt x="0" y="19"/>
                  </a:lnTo>
                  <a:lnTo>
                    <a:pt x="0" y="27"/>
                  </a:lnTo>
                  <a:lnTo>
                    <a:pt x="63" y="42"/>
                  </a:lnTo>
                  <a:lnTo>
                    <a:pt x="71" y="42"/>
                  </a:lnTo>
                  <a:lnTo>
                    <a:pt x="138" y="35"/>
                  </a:lnTo>
                  <a:lnTo>
                    <a:pt x="142" y="31"/>
                  </a:lnTo>
                  <a:lnTo>
                    <a:pt x="142" y="12"/>
                  </a:lnTo>
                  <a:lnTo>
                    <a:pt x="138" y="12"/>
                  </a:lnTo>
                  <a:lnTo>
                    <a:pt x="126" y="0"/>
                  </a:lnTo>
                  <a:lnTo>
                    <a:pt x="75" y="8"/>
                  </a:lnTo>
                  <a:lnTo>
                    <a:pt x="43" y="8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1800" y="4317840"/>
              <a:ext cx="227160" cy="31680"/>
            </a:xfrm>
            <a:custGeom>
              <a:avLst/>
              <a:gdLst/>
              <a:ahLst/>
              <a:rect l="l" t="t" r="r" b="b"/>
              <a:pathLst>
                <a:path w="143" h="20">
                  <a:moveTo>
                    <a:pt x="0" y="7"/>
                  </a:moveTo>
                  <a:lnTo>
                    <a:pt x="63" y="19"/>
                  </a:lnTo>
                  <a:lnTo>
                    <a:pt x="67" y="19"/>
                  </a:lnTo>
                  <a:lnTo>
                    <a:pt x="138" y="3"/>
                  </a:lnTo>
                  <a:lnTo>
                    <a:pt x="142" y="3"/>
                  </a:lnTo>
                  <a:lnTo>
                    <a:pt x="142" y="0"/>
                  </a:lnTo>
                  <a:lnTo>
                    <a:pt x="1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1800" y="4329000"/>
              <a:ext cx="227160" cy="27000"/>
            </a:xfrm>
            <a:custGeom>
              <a:avLst/>
              <a:gdLst/>
              <a:ahLst/>
              <a:rect l="l" t="t" r="r" b="b"/>
              <a:pathLst>
                <a:path w="143" h="17">
                  <a:moveTo>
                    <a:pt x="0" y="4"/>
                  </a:moveTo>
                  <a:lnTo>
                    <a:pt x="59" y="16"/>
                  </a:lnTo>
                  <a:lnTo>
                    <a:pt x="67" y="16"/>
                  </a:lnTo>
                  <a:lnTo>
                    <a:pt x="138" y="0"/>
                  </a:lnTo>
                  <a:lnTo>
                    <a:pt x="14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93720" y="4281480"/>
              <a:ext cx="152280" cy="49320"/>
            </a:xfrm>
            <a:custGeom>
              <a:avLst/>
              <a:gdLst/>
              <a:ahLst/>
              <a:rect l="l" t="t" r="r" b="b"/>
              <a:pathLst>
                <a:path w="96" h="31">
                  <a:moveTo>
                    <a:pt x="12" y="3"/>
                  </a:moveTo>
                  <a:lnTo>
                    <a:pt x="0" y="19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8" y="30"/>
                  </a:lnTo>
                  <a:lnTo>
                    <a:pt x="40" y="30"/>
                  </a:lnTo>
                  <a:lnTo>
                    <a:pt x="48" y="26"/>
                  </a:lnTo>
                  <a:lnTo>
                    <a:pt x="55" y="26"/>
                  </a:lnTo>
                  <a:lnTo>
                    <a:pt x="95" y="19"/>
                  </a:lnTo>
                  <a:lnTo>
                    <a:pt x="87" y="0"/>
                  </a:lnTo>
                  <a:lnTo>
                    <a:pt x="12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6320" y="4286160"/>
              <a:ext cx="14400" cy="4464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4" y="4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70040" y="4281480"/>
              <a:ext cx="63360" cy="1908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0" y="3"/>
                  </a:moveTo>
                  <a:lnTo>
                    <a:pt x="3" y="7"/>
                  </a:lnTo>
                  <a:lnTo>
                    <a:pt x="15" y="7"/>
                  </a:lnTo>
                  <a:lnTo>
                    <a:pt x="19" y="11"/>
                  </a:lnTo>
                  <a:lnTo>
                    <a:pt x="39" y="11"/>
                  </a:lnTo>
                  <a:lnTo>
                    <a:pt x="35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1880" y="4165560"/>
              <a:ext cx="12708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31" y="0"/>
                  </a:moveTo>
                  <a:lnTo>
                    <a:pt x="75" y="23"/>
                  </a:lnTo>
                  <a:lnTo>
                    <a:pt x="79" y="23"/>
                  </a:lnTo>
                  <a:lnTo>
                    <a:pt x="79" y="30"/>
                  </a:lnTo>
                  <a:lnTo>
                    <a:pt x="71" y="73"/>
                  </a:lnTo>
                  <a:lnTo>
                    <a:pt x="67" y="76"/>
                  </a:lnTo>
                  <a:lnTo>
                    <a:pt x="8" y="80"/>
                  </a:lnTo>
                  <a:lnTo>
                    <a:pt x="0" y="57"/>
                  </a:lnTo>
                  <a:lnTo>
                    <a:pt x="31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737640" y="4251240"/>
              <a:ext cx="1112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31800" y="4146480"/>
              <a:ext cx="157320" cy="154080"/>
            </a:xfrm>
            <a:custGeom>
              <a:avLst/>
              <a:gdLst/>
              <a:ahLst/>
              <a:rect l="l" t="t" r="r" b="b"/>
              <a:pathLst>
                <a:path w="99" h="97">
                  <a:moveTo>
                    <a:pt x="98" y="8"/>
                  </a:moveTo>
                  <a:lnTo>
                    <a:pt x="87" y="8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8" y="81"/>
                  </a:lnTo>
                  <a:lnTo>
                    <a:pt x="12" y="85"/>
                  </a:lnTo>
                  <a:lnTo>
                    <a:pt x="75" y="96"/>
                  </a:lnTo>
                  <a:lnTo>
                    <a:pt x="79" y="96"/>
                  </a:lnTo>
                  <a:lnTo>
                    <a:pt x="79" y="92"/>
                  </a:lnTo>
                  <a:lnTo>
                    <a:pt x="83" y="88"/>
                  </a:lnTo>
                  <a:lnTo>
                    <a:pt x="98" y="16"/>
                  </a:lnTo>
                  <a:lnTo>
                    <a:pt x="98" y="8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31800" y="415908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87" y="0"/>
                  </a:moveTo>
                  <a:lnTo>
                    <a:pt x="90" y="0"/>
                  </a:lnTo>
                  <a:lnTo>
                    <a:pt x="90" y="4"/>
                  </a:lnTo>
                  <a:lnTo>
                    <a:pt x="71" y="80"/>
                  </a:lnTo>
                  <a:lnTo>
                    <a:pt x="67" y="84"/>
                  </a:lnTo>
                  <a:lnTo>
                    <a:pt x="4" y="73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44400" y="4159080"/>
              <a:ext cx="120600" cy="11772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15" y="4"/>
                  </a:moveTo>
                  <a:lnTo>
                    <a:pt x="0" y="57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55" y="73"/>
                  </a:lnTo>
                  <a:lnTo>
                    <a:pt x="59" y="73"/>
                  </a:lnTo>
                  <a:lnTo>
                    <a:pt x="59" y="69"/>
                  </a:lnTo>
                  <a:lnTo>
                    <a:pt x="75" y="11"/>
                  </a:lnTo>
                  <a:lnTo>
                    <a:pt x="75" y="8"/>
                  </a:lnTo>
                  <a:lnTo>
                    <a:pt x="71" y="4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15" y="4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8000" y="428616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1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0880" y="4165560"/>
              <a:ext cx="108000" cy="1047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15" y="4"/>
                  </a:moveTo>
                  <a:lnTo>
                    <a:pt x="0" y="53"/>
                  </a:lnTo>
                  <a:lnTo>
                    <a:pt x="0" y="57"/>
                  </a:lnTo>
                  <a:lnTo>
                    <a:pt x="3" y="57"/>
                  </a:lnTo>
                  <a:lnTo>
                    <a:pt x="47" y="65"/>
                  </a:lnTo>
                  <a:lnTo>
                    <a:pt x="55" y="65"/>
                  </a:lnTo>
                  <a:lnTo>
                    <a:pt x="67" y="7"/>
                  </a:lnTo>
                  <a:lnTo>
                    <a:pt x="67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4"/>
                  </a:lnTo>
                </a:path>
              </a:pathLst>
            </a:custGeom>
            <a:solidFill>
              <a:srgbClr val="baa89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55560" y="4172040"/>
              <a:ext cx="10332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4" y="7"/>
                  </a:moveTo>
                  <a:lnTo>
                    <a:pt x="64" y="3"/>
                  </a:lnTo>
                  <a:lnTo>
                    <a:pt x="60" y="3"/>
                  </a:lnTo>
                  <a:lnTo>
                    <a:pt x="36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8" y="11"/>
                  </a:lnTo>
                  <a:lnTo>
                    <a:pt x="4" y="23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44" y="61"/>
                  </a:lnTo>
                  <a:lnTo>
                    <a:pt x="48" y="61"/>
                  </a:lnTo>
                  <a:lnTo>
                    <a:pt x="48" y="57"/>
                  </a:lnTo>
                  <a:lnTo>
                    <a:pt x="52" y="57"/>
                  </a:lnTo>
                  <a:lnTo>
                    <a:pt x="64" y="7"/>
                  </a:lnTo>
                </a:path>
              </a:pathLst>
            </a:custGeom>
            <a:solidFill>
              <a:srgbClr val="7fd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74640" y="4176720"/>
              <a:ext cx="20520" cy="381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2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4"/>
                  </a:lnTo>
                  <a:lnTo>
                    <a:pt x="12" y="0"/>
                  </a:lnTo>
                </a:path>
              </a:pathLst>
            </a:custGeom>
            <a:solidFill>
              <a:srgbClr val="d8e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3560" y="4281480"/>
              <a:ext cx="82440" cy="6120"/>
            </a:xfrm>
            <a:custGeom>
              <a:avLst/>
              <a:gdLst/>
              <a:ahLst/>
              <a:rect l="l" t="t" r="r" b="b"/>
              <a:pathLst>
                <a:path w="52" h="4">
                  <a:moveTo>
                    <a:pt x="0" y="3"/>
                  </a:moveTo>
                  <a:lnTo>
                    <a:pt x="7" y="3"/>
                  </a:lnTo>
                  <a:lnTo>
                    <a:pt x="23" y="0"/>
                  </a:lnTo>
                  <a:lnTo>
                    <a:pt x="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12880" y="4348080"/>
              <a:ext cx="6120" cy="1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81200" y="4354560"/>
              <a:ext cx="2052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3"/>
                  </a:moveTo>
                  <a:lnTo>
                    <a:pt x="8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8" y="3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12800" y="44146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9280" y="435456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3" y="3"/>
                  </a:moveTo>
                  <a:lnTo>
                    <a:pt x="39" y="3"/>
                  </a:lnTo>
                  <a:lnTo>
                    <a:pt x="39" y="0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2" y="7"/>
                  </a:lnTo>
                  <a:lnTo>
                    <a:pt x="12" y="11"/>
                  </a:lnTo>
                  <a:lnTo>
                    <a:pt x="8" y="11"/>
                  </a:lnTo>
                  <a:lnTo>
                    <a:pt x="12" y="19"/>
                  </a:lnTo>
                  <a:lnTo>
                    <a:pt x="12" y="26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4" y="34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4" y="42"/>
                  </a:lnTo>
                  <a:lnTo>
                    <a:pt x="12" y="42"/>
                  </a:lnTo>
                  <a:lnTo>
                    <a:pt x="16" y="38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35" y="7"/>
                  </a:lnTo>
                  <a:lnTo>
                    <a:pt x="43" y="7"/>
                  </a:lnTo>
                  <a:lnTo>
                    <a:pt x="43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5400" y="440856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0" y="8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1880" y="4408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1880" y="4408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1880" y="44020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38000" y="43956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9800" y="439560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9800" y="439092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9800" y="438444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8000" y="4378320"/>
              <a:ext cx="6480" cy="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8000" y="43718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8000" y="43657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4480" y="436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44480" y="43592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4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0960" y="43592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57080" y="43592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3560" y="43592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0040" y="4359240"/>
              <a:ext cx="468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74720" y="4359240"/>
              <a:ext cx="648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1200" y="4359240"/>
              <a:ext cx="612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963720" y="4603680"/>
            <a:ext cx="352440" cy="293760"/>
            <a:chOff x="963720" y="4603680"/>
            <a:chExt cx="352440" cy="293760"/>
          </a:xfrm>
        </p:grpSpPr>
        <p:sp>
          <p:nvSpPr>
            <p:cNvPr id="792" name=""/>
            <p:cNvSpPr/>
            <p:nvPr/>
          </p:nvSpPr>
          <p:spPr>
            <a:xfrm>
              <a:off x="963720" y="482904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39" y="0"/>
                  </a:moveTo>
                  <a:lnTo>
                    <a:pt x="31" y="0"/>
                  </a:lnTo>
                  <a:lnTo>
                    <a:pt x="19" y="8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98" y="42"/>
                  </a:lnTo>
                  <a:lnTo>
                    <a:pt x="106" y="42"/>
                  </a:lnTo>
                  <a:lnTo>
                    <a:pt x="138" y="31"/>
                  </a:lnTo>
                  <a:lnTo>
                    <a:pt x="138" y="19"/>
                  </a:lnTo>
                  <a:lnTo>
                    <a:pt x="43" y="0"/>
                  </a:lnTo>
                  <a:lnTo>
                    <a:pt x="39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63720" y="4852800"/>
              <a:ext cx="220680" cy="3816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8" y="23"/>
                  </a:lnTo>
                  <a:lnTo>
                    <a:pt x="102" y="23"/>
                  </a:lnTo>
                  <a:lnTo>
                    <a:pt x="110" y="20"/>
                  </a:lnTo>
                  <a:lnTo>
                    <a:pt x="122" y="16"/>
                  </a:lnTo>
                  <a:lnTo>
                    <a:pt x="126" y="16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3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095480" y="4865760"/>
              <a:ext cx="63360" cy="205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0" y="8"/>
                  </a:moveTo>
                  <a:lnTo>
                    <a:pt x="19" y="12"/>
                  </a:lnTo>
                  <a:lnTo>
                    <a:pt x="27" y="8"/>
                  </a:lnTo>
                  <a:lnTo>
                    <a:pt x="31" y="8"/>
                  </a:lnTo>
                  <a:lnTo>
                    <a:pt x="39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87480" y="4835520"/>
              <a:ext cx="133200" cy="44280"/>
            </a:xfrm>
            <a:custGeom>
              <a:avLst/>
              <a:gdLst/>
              <a:ahLst/>
              <a:rect l="l" t="t" r="r" b="b"/>
              <a:pathLst>
                <a:path w="84" h="28">
                  <a:moveTo>
                    <a:pt x="20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0" y="11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48" y="23"/>
                  </a:lnTo>
                  <a:lnTo>
                    <a:pt x="52" y="19"/>
                  </a:lnTo>
                  <a:lnTo>
                    <a:pt x="60" y="23"/>
                  </a:lnTo>
                  <a:lnTo>
                    <a:pt x="56" y="23"/>
                  </a:lnTo>
                  <a:lnTo>
                    <a:pt x="64" y="27"/>
                  </a:lnTo>
                  <a:lnTo>
                    <a:pt x="72" y="23"/>
                  </a:lnTo>
                  <a:lnTo>
                    <a:pt x="83" y="15"/>
                  </a:lnTo>
                  <a:lnTo>
                    <a:pt x="20" y="0"/>
                  </a:lnTo>
                  <a:lnTo>
                    <a:pt x="2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025640" y="4835520"/>
              <a:ext cx="33120" cy="79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0"/>
                  </a:moveTo>
                  <a:lnTo>
                    <a:pt x="4" y="0"/>
                  </a:ln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057320" y="4841640"/>
              <a:ext cx="39600" cy="1296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0"/>
                  </a:moveTo>
                  <a:lnTo>
                    <a:pt x="4" y="0"/>
                  </a:lnTo>
                  <a:lnTo>
                    <a:pt x="24" y="4"/>
                  </a:lnTo>
                  <a:lnTo>
                    <a:pt x="20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095480" y="484812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3"/>
                  </a:moveTo>
                  <a:lnTo>
                    <a:pt x="0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125360" y="485928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4" y="0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89000" y="4755960"/>
              <a:ext cx="227160" cy="6840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43" y="8"/>
                  </a:moveTo>
                  <a:lnTo>
                    <a:pt x="0" y="19"/>
                  </a:lnTo>
                  <a:lnTo>
                    <a:pt x="0" y="27"/>
                  </a:lnTo>
                  <a:lnTo>
                    <a:pt x="63" y="42"/>
                  </a:lnTo>
                  <a:lnTo>
                    <a:pt x="71" y="42"/>
                  </a:lnTo>
                  <a:lnTo>
                    <a:pt x="138" y="35"/>
                  </a:lnTo>
                  <a:lnTo>
                    <a:pt x="142" y="31"/>
                  </a:lnTo>
                  <a:lnTo>
                    <a:pt x="142" y="12"/>
                  </a:lnTo>
                  <a:lnTo>
                    <a:pt x="138" y="12"/>
                  </a:lnTo>
                  <a:lnTo>
                    <a:pt x="126" y="0"/>
                  </a:lnTo>
                  <a:lnTo>
                    <a:pt x="75" y="8"/>
                  </a:lnTo>
                  <a:lnTo>
                    <a:pt x="43" y="8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89000" y="4775040"/>
              <a:ext cx="227160" cy="31680"/>
            </a:xfrm>
            <a:custGeom>
              <a:avLst/>
              <a:gdLst/>
              <a:ahLst/>
              <a:rect l="l" t="t" r="r" b="b"/>
              <a:pathLst>
                <a:path w="143" h="20">
                  <a:moveTo>
                    <a:pt x="0" y="7"/>
                  </a:moveTo>
                  <a:lnTo>
                    <a:pt x="63" y="19"/>
                  </a:lnTo>
                  <a:lnTo>
                    <a:pt x="67" y="19"/>
                  </a:lnTo>
                  <a:lnTo>
                    <a:pt x="138" y="3"/>
                  </a:lnTo>
                  <a:lnTo>
                    <a:pt x="142" y="3"/>
                  </a:lnTo>
                  <a:lnTo>
                    <a:pt x="142" y="0"/>
                  </a:lnTo>
                  <a:lnTo>
                    <a:pt x="1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089000" y="4786200"/>
              <a:ext cx="227160" cy="27000"/>
            </a:xfrm>
            <a:custGeom>
              <a:avLst/>
              <a:gdLst/>
              <a:ahLst/>
              <a:rect l="l" t="t" r="r" b="b"/>
              <a:pathLst>
                <a:path w="143" h="17">
                  <a:moveTo>
                    <a:pt x="0" y="4"/>
                  </a:moveTo>
                  <a:lnTo>
                    <a:pt x="59" y="16"/>
                  </a:lnTo>
                  <a:lnTo>
                    <a:pt x="67" y="16"/>
                  </a:lnTo>
                  <a:lnTo>
                    <a:pt x="138" y="0"/>
                  </a:lnTo>
                  <a:lnTo>
                    <a:pt x="14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150920" y="4738680"/>
              <a:ext cx="152280" cy="49320"/>
            </a:xfrm>
            <a:custGeom>
              <a:avLst/>
              <a:gdLst/>
              <a:ahLst/>
              <a:rect l="l" t="t" r="r" b="b"/>
              <a:pathLst>
                <a:path w="96" h="31">
                  <a:moveTo>
                    <a:pt x="12" y="3"/>
                  </a:moveTo>
                  <a:lnTo>
                    <a:pt x="0" y="19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8" y="30"/>
                  </a:lnTo>
                  <a:lnTo>
                    <a:pt x="40" y="30"/>
                  </a:lnTo>
                  <a:lnTo>
                    <a:pt x="48" y="26"/>
                  </a:lnTo>
                  <a:lnTo>
                    <a:pt x="55" y="26"/>
                  </a:lnTo>
                  <a:lnTo>
                    <a:pt x="95" y="19"/>
                  </a:lnTo>
                  <a:lnTo>
                    <a:pt x="87" y="0"/>
                  </a:lnTo>
                  <a:lnTo>
                    <a:pt x="12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163520" y="4743360"/>
              <a:ext cx="14400" cy="4464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4" y="4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227240" y="4738680"/>
              <a:ext cx="63360" cy="1908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0" y="3"/>
                  </a:moveTo>
                  <a:lnTo>
                    <a:pt x="3" y="7"/>
                  </a:lnTo>
                  <a:lnTo>
                    <a:pt x="15" y="7"/>
                  </a:lnTo>
                  <a:lnTo>
                    <a:pt x="19" y="11"/>
                  </a:lnTo>
                  <a:lnTo>
                    <a:pt x="39" y="11"/>
                  </a:lnTo>
                  <a:lnTo>
                    <a:pt x="35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189080" y="4622760"/>
              <a:ext cx="12708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31" y="0"/>
                  </a:moveTo>
                  <a:lnTo>
                    <a:pt x="75" y="23"/>
                  </a:lnTo>
                  <a:lnTo>
                    <a:pt x="79" y="23"/>
                  </a:lnTo>
                  <a:lnTo>
                    <a:pt x="79" y="30"/>
                  </a:lnTo>
                  <a:lnTo>
                    <a:pt x="71" y="73"/>
                  </a:lnTo>
                  <a:lnTo>
                    <a:pt x="67" y="76"/>
                  </a:lnTo>
                  <a:lnTo>
                    <a:pt x="8" y="80"/>
                  </a:lnTo>
                  <a:lnTo>
                    <a:pt x="0" y="57"/>
                  </a:lnTo>
                  <a:lnTo>
                    <a:pt x="31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1194840" y="4708440"/>
              <a:ext cx="1112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89000" y="4603680"/>
              <a:ext cx="157320" cy="154080"/>
            </a:xfrm>
            <a:custGeom>
              <a:avLst/>
              <a:gdLst/>
              <a:ahLst/>
              <a:rect l="l" t="t" r="r" b="b"/>
              <a:pathLst>
                <a:path w="99" h="97">
                  <a:moveTo>
                    <a:pt x="98" y="8"/>
                  </a:moveTo>
                  <a:lnTo>
                    <a:pt x="87" y="8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8" y="81"/>
                  </a:lnTo>
                  <a:lnTo>
                    <a:pt x="12" y="85"/>
                  </a:lnTo>
                  <a:lnTo>
                    <a:pt x="75" y="96"/>
                  </a:lnTo>
                  <a:lnTo>
                    <a:pt x="79" y="96"/>
                  </a:lnTo>
                  <a:lnTo>
                    <a:pt x="79" y="92"/>
                  </a:lnTo>
                  <a:lnTo>
                    <a:pt x="83" y="88"/>
                  </a:lnTo>
                  <a:lnTo>
                    <a:pt x="98" y="16"/>
                  </a:lnTo>
                  <a:lnTo>
                    <a:pt x="98" y="8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89000" y="461628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87" y="0"/>
                  </a:moveTo>
                  <a:lnTo>
                    <a:pt x="90" y="0"/>
                  </a:lnTo>
                  <a:lnTo>
                    <a:pt x="90" y="4"/>
                  </a:lnTo>
                  <a:lnTo>
                    <a:pt x="71" y="80"/>
                  </a:lnTo>
                  <a:lnTo>
                    <a:pt x="67" y="84"/>
                  </a:lnTo>
                  <a:lnTo>
                    <a:pt x="4" y="73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01600" y="4616280"/>
              <a:ext cx="120600" cy="11772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15" y="4"/>
                  </a:moveTo>
                  <a:lnTo>
                    <a:pt x="0" y="57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55" y="73"/>
                  </a:lnTo>
                  <a:lnTo>
                    <a:pt x="59" y="73"/>
                  </a:lnTo>
                  <a:lnTo>
                    <a:pt x="59" y="69"/>
                  </a:lnTo>
                  <a:lnTo>
                    <a:pt x="75" y="11"/>
                  </a:lnTo>
                  <a:lnTo>
                    <a:pt x="75" y="8"/>
                  </a:lnTo>
                  <a:lnTo>
                    <a:pt x="71" y="4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15" y="4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195200" y="474336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1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108080" y="4622760"/>
              <a:ext cx="108000" cy="1047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15" y="4"/>
                  </a:moveTo>
                  <a:lnTo>
                    <a:pt x="0" y="53"/>
                  </a:lnTo>
                  <a:lnTo>
                    <a:pt x="0" y="57"/>
                  </a:lnTo>
                  <a:lnTo>
                    <a:pt x="3" y="57"/>
                  </a:lnTo>
                  <a:lnTo>
                    <a:pt x="47" y="65"/>
                  </a:lnTo>
                  <a:lnTo>
                    <a:pt x="55" y="65"/>
                  </a:lnTo>
                  <a:lnTo>
                    <a:pt x="67" y="7"/>
                  </a:lnTo>
                  <a:lnTo>
                    <a:pt x="67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4"/>
                  </a:lnTo>
                </a:path>
              </a:pathLst>
            </a:custGeom>
            <a:solidFill>
              <a:srgbClr val="baa89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112760" y="4629240"/>
              <a:ext cx="10332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4" y="7"/>
                  </a:moveTo>
                  <a:lnTo>
                    <a:pt x="64" y="3"/>
                  </a:lnTo>
                  <a:lnTo>
                    <a:pt x="60" y="3"/>
                  </a:lnTo>
                  <a:lnTo>
                    <a:pt x="36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8" y="11"/>
                  </a:lnTo>
                  <a:lnTo>
                    <a:pt x="4" y="23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44" y="61"/>
                  </a:lnTo>
                  <a:lnTo>
                    <a:pt x="48" y="61"/>
                  </a:lnTo>
                  <a:lnTo>
                    <a:pt x="48" y="57"/>
                  </a:lnTo>
                  <a:lnTo>
                    <a:pt x="52" y="57"/>
                  </a:lnTo>
                  <a:lnTo>
                    <a:pt x="64" y="7"/>
                  </a:lnTo>
                </a:path>
              </a:pathLst>
            </a:custGeom>
            <a:solidFill>
              <a:srgbClr val="7fd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31840" y="4633920"/>
              <a:ext cx="20520" cy="381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2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4"/>
                  </a:lnTo>
                  <a:lnTo>
                    <a:pt x="12" y="0"/>
                  </a:lnTo>
                </a:path>
              </a:pathLst>
            </a:custGeom>
            <a:solidFill>
              <a:srgbClr val="d8e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220760" y="4738680"/>
              <a:ext cx="82440" cy="6120"/>
            </a:xfrm>
            <a:custGeom>
              <a:avLst/>
              <a:gdLst/>
              <a:ahLst/>
              <a:rect l="l" t="t" r="r" b="b"/>
              <a:pathLst>
                <a:path w="52" h="4">
                  <a:moveTo>
                    <a:pt x="0" y="3"/>
                  </a:moveTo>
                  <a:lnTo>
                    <a:pt x="7" y="3"/>
                  </a:lnTo>
                  <a:lnTo>
                    <a:pt x="23" y="0"/>
                  </a:lnTo>
                  <a:lnTo>
                    <a:pt x="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70080" y="4805280"/>
              <a:ext cx="6120" cy="1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238400" y="4811760"/>
              <a:ext cx="2052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3"/>
                  </a:moveTo>
                  <a:lnTo>
                    <a:pt x="8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8" y="3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170000" y="48718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176480" y="481176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3" y="3"/>
                  </a:moveTo>
                  <a:lnTo>
                    <a:pt x="39" y="3"/>
                  </a:lnTo>
                  <a:lnTo>
                    <a:pt x="39" y="0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2" y="7"/>
                  </a:lnTo>
                  <a:lnTo>
                    <a:pt x="12" y="11"/>
                  </a:lnTo>
                  <a:lnTo>
                    <a:pt x="8" y="11"/>
                  </a:lnTo>
                  <a:lnTo>
                    <a:pt x="12" y="19"/>
                  </a:lnTo>
                  <a:lnTo>
                    <a:pt x="12" y="26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4" y="34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4" y="42"/>
                  </a:lnTo>
                  <a:lnTo>
                    <a:pt x="12" y="42"/>
                  </a:lnTo>
                  <a:lnTo>
                    <a:pt x="16" y="38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35" y="7"/>
                  </a:lnTo>
                  <a:lnTo>
                    <a:pt x="43" y="7"/>
                  </a:lnTo>
                  <a:lnTo>
                    <a:pt x="43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182600" y="486576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0" y="8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189080" y="4865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189080" y="4865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89080" y="48592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195200" y="4852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97000" y="485280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97000" y="484812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97000" y="484164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195200" y="4835520"/>
              <a:ext cx="6480" cy="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95200" y="4829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95200" y="48229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01680" y="4822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01680" y="4816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4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08160" y="4816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14280" y="4816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20760" y="4816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27240" y="4816440"/>
              <a:ext cx="468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31920" y="4816440"/>
              <a:ext cx="648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38400" y="4816440"/>
              <a:ext cx="612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506520" y="4603680"/>
            <a:ext cx="352440" cy="293760"/>
            <a:chOff x="506520" y="4603680"/>
            <a:chExt cx="352440" cy="293760"/>
          </a:xfrm>
        </p:grpSpPr>
        <p:sp>
          <p:nvSpPr>
            <p:cNvPr id="840" name=""/>
            <p:cNvSpPr/>
            <p:nvPr/>
          </p:nvSpPr>
          <p:spPr>
            <a:xfrm>
              <a:off x="506520" y="482904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39" y="0"/>
                  </a:moveTo>
                  <a:lnTo>
                    <a:pt x="31" y="0"/>
                  </a:lnTo>
                  <a:lnTo>
                    <a:pt x="19" y="8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98" y="42"/>
                  </a:lnTo>
                  <a:lnTo>
                    <a:pt x="106" y="42"/>
                  </a:lnTo>
                  <a:lnTo>
                    <a:pt x="138" y="31"/>
                  </a:lnTo>
                  <a:lnTo>
                    <a:pt x="138" y="19"/>
                  </a:lnTo>
                  <a:lnTo>
                    <a:pt x="43" y="0"/>
                  </a:lnTo>
                  <a:lnTo>
                    <a:pt x="39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6520" y="4852800"/>
              <a:ext cx="220680" cy="3816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8" y="23"/>
                  </a:lnTo>
                  <a:lnTo>
                    <a:pt x="102" y="23"/>
                  </a:lnTo>
                  <a:lnTo>
                    <a:pt x="110" y="20"/>
                  </a:lnTo>
                  <a:lnTo>
                    <a:pt x="122" y="16"/>
                  </a:lnTo>
                  <a:lnTo>
                    <a:pt x="126" y="16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3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8280" y="4865760"/>
              <a:ext cx="63360" cy="205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0" y="8"/>
                  </a:moveTo>
                  <a:lnTo>
                    <a:pt x="19" y="12"/>
                  </a:lnTo>
                  <a:lnTo>
                    <a:pt x="27" y="8"/>
                  </a:lnTo>
                  <a:lnTo>
                    <a:pt x="31" y="8"/>
                  </a:lnTo>
                  <a:lnTo>
                    <a:pt x="39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0280" y="4835520"/>
              <a:ext cx="133200" cy="44280"/>
            </a:xfrm>
            <a:custGeom>
              <a:avLst/>
              <a:gdLst/>
              <a:ahLst/>
              <a:rect l="l" t="t" r="r" b="b"/>
              <a:pathLst>
                <a:path w="84" h="28">
                  <a:moveTo>
                    <a:pt x="20" y="4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0" y="11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48" y="23"/>
                  </a:lnTo>
                  <a:lnTo>
                    <a:pt x="52" y="19"/>
                  </a:lnTo>
                  <a:lnTo>
                    <a:pt x="60" y="23"/>
                  </a:lnTo>
                  <a:lnTo>
                    <a:pt x="56" y="23"/>
                  </a:lnTo>
                  <a:lnTo>
                    <a:pt x="64" y="27"/>
                  </a:lnTo>
                  <a:lnTo>
                    <a:pt x="72" y="23"/>
                  </a:lnTo>
                  <a:lnTo>
                    <a:pt x="83" y="15"/>
                  </a:lnTo>
                  <a:lnTo>
                    <a:pt x="20" y="0"/>
                  </a:lnTo>
                  <a:lnTo>
                    <a:pt x="2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8440" y="4835520"/>
              <a:ext cx="33120" cy="79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0"/>
                  </a:moveTo>
                  <a:lnTo>
                    <a:pt x="4" y="0"/>
                  </a:ln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0120" y="4841640"/>
              <a:ext cx="39600" cy="1296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0"/>
                  </a:moveTo>
                  <a:lnTo>
                    <a:pt x="4" y="0"/>
                  </a:lnTo>
                  <a:lnTo>
                    <a:pt x="24" y="4"/>
                  </a:lnTo>
                  <a:lnTo>
                    <a:pt x="20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38280" y="484812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3"/>
                  </a:moveTo>
                  <a:lnTo>
                    <a:pt x="0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8160" y="485928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4" y="0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31800" y="4755960"/>
              <a:ext cx="227160" cy="6840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43" y="8"/>
                  </a:moveTo>
                  <a:lnTo>
                    <a:pt x="0" y="19"/>
                  </a:lnTo>
                  <a:lnTo>
                    <a:pt x="0" y="27"/>
                  </a:lnTo>
                  <a:lnTo>
                    <a:pt x="63" y="42"/>
                  </a:lnTo>
                  <a:lnTo>
                    <a:pt x="71" y="42"/>
                  </a:lnTo>
                  <a:lnTo>
                    <a:pt x="138" y="35"/>
                  </a:lnTo>
                  <a:lnTo>
                    <a:pt x="142" y="31"/>
                  </a:lnTo>
                  <a:lnTo>
                    <a:pt x="142" y="12"/>
                  </a:lnTo>
                  <a:lnTo>
                    <a:pt x="138" y="12"/>
                  </a:lnTo>
                  <a:lnTo>
                    <a:pt x="126" y="0"/>
                  </a:lnTo>
                  <a:lnTo>
                    <a:pt x="75" y="8"/>
                  </a:lnTo>
                  <a:lnTo>
                    <a:pt x="43" y="8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31800" y="4775040"/>
              <a:ext cx="227160" cy="31680"/>
            </a:xfrm>
            <a:custGeom>
              <a:avLst/>
              <a:gdLst/>
              <a:ahLst/>
              <a:rect l="l" t="t" r="r" b="b"/>
              <a:pathLst>
                <a:path w="143" h="20">
                  <a:moveTo>
                    <a:pt x="0" y="7"/>
                  </a:moveTo>
                  <a:lnTo>
                    <a:pt x="63" y="19"/>
                  </a:lnTo>
                  <a:lnTo>
                    <a:pt x="67" y="19"/>
                  </a:lnTo>
                  <a:lnTo>
                    <a:pt x="138" y="3"/>
                  </a:lnTo>
                  <a:lnTo>
                    <a:pt x="142" y="3"/>
                  </a:lnTo>
                  <a:lnTo>
                    <a:pt x="142" y="0"/>
                  </a:lnTo>
                  <a:lnTo>
                    <a:pt x="1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1800" y="4786200"/>
              <a:ext cx="227160" cy="27000"/>
            </a:xfrm>
            <a:custGeom>
              <a:avLst/>
              <a:gdLst/>
              <a:ahLst/>
              <a:rect l="l" t="t" r="r" b="b"/>
              <a:pathLst>
                <a:path w="143" h="17">
                  <a:moveTo>
                    <a:pt x="0" y="4"/>
                  </a:moveTo>
                  <a:lnTo>
                    <a:pt x="59" y="16"/>
                  </a:lnTo>
                  <a:lnTo>
                    <a:pt x="67" y="16"/>
                  </a:lnTo>
                  <a:lnTo>
                    <a:pt x="138" y="0"/>
                  </a:lnTo>
                  <a:lnTo>
                    <a:pt x="14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93720" y="4738680"/>
              <a:ext cx="152280" cy="49320"/>
            </a:xfrm>
            <a:custGeom>
              <a:avLst/>
              <a:gdLst/>
              <a:ahLst/>
              <a:rect l="l" t="t" r="r" b="b"/>
              <a:pathLst>
                <a:path w="96" h="31">
                  <a:moveTo>
                    <a:pt x="12" y="3"/>
                  </a:moveTo>
                  <a:lnTo>
                    <a:pt x="0" y="19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8" y="30"/>
                  </a:lnTo>
                  <a:lnTo>
                    <a:pt x="40" y="30"/>
                  </a:lnTo>
                  <a:lnTo>
                    <a:pt x="48" y="26"/>
                  </a:lnTo>
                  <a:lnTo>
                    <a:pt x="55" y="26"/>
                  </a:lnTo>
                  <a:lnTo>
                    <a:pt x="95" y="19"/>
                  </a:lnTo>
                  <a:lnTo>
                    <a:pt x="87" y="0"/>
                  </a:lnTo>
                  <a:lnTo>
                    <a:pt x="12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6320" y="4743360"/>
              <a:ext cx="14400" cy="4464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4" y="4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70040" y="4738680"/>
              <a:ext cx="63360" cy="1908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0" y="3"/>
                  </a:moveTo>
                  <a:lnTo>
                    <a:pt x="3" y="7"/>
                  </a:lnTo>
                  <a:lnTo>
                    <a:pt x="15" y="7"/>
                  </a:lnTo>
                  <a:lnTo>
                    <a:pt x="19" y="11"/>
                  </a:lnTo>
                  <a:lnTo>
                    <a:pt x="39" y="11"/>
                  </a:lnTo>
                  <a:lnTo>
                    <a:pt x="35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31880" y="4622760"/>
              <a:ext cx="12708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31" y="0"/>
                  </a:moveTo>
                  <a:lnTo>
                    <a:pt x="75" y="23"/>
                  </a:lnTo>
                  <a:lnTo>
                    <a:pt x="79" y="23"/>
                  </a:lnTo>
                  <a:lnTo>
                    <a:pt x="79" y="30"/>
                  </a:lnTo>
                  <a:lnTo>
                    <a:pt x="71" y="73"/>
                  </a:lnTo>
                  <a:lnTo>
                    <a:pt x="67" y="76"/>
                  </a:lnTo>
                  <a:lnTo>
                    <a:pt x="8" y="80"/>
                  </a:lnTo>
                  <a:lnTo>
                    <a:pt x="0" y="57"/>
                  </a:lnTo>
                  <a:lnTo>
                    <a:pt x="31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737640" y="4708440"/>
              <a:ext cx="1112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1800" y="4603680"/>
              <a:ext cx="157320" cy="154080"/>
            </a:xfrm>
            <a:custGeom>
              <a:avLst/>
              <a:gdLst/>
              <a:ahLst/>
              <a:rect l="l" t="t" r="r" b="b"/>
              <a:pathLst>
                <a:path w="99" h="97">
                  <a:moveTo>
                    <a:pt x="98" y="8"/>
                  </a:moveTo>
                  <a:lnTo>
                    <a:pt x="87" y="8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8" y="81"/>
                  </a:lnTo>
                  <a:lnTo>
                    <a:pt x="12" y="85"/>
                  </a:lnTo>
                  <a:lnTo>
                    <a:pt x="75" y="96"/>
                  </a:lnTo>
                  <a:lnTo>
                    <a:pt x="79" y="96"/>
                  </a:lnTo>
                  <a:lnTo>
                    <a:pt x="79" y="92"/>
                  </a:lnTo>
                  <a:lnTo>
                    <a:pt x="83" y="88"/>
                  </a:lnTo>
                  <a:lnTo>
                    <a:pt x="98" y="16"/>
                  </a:lnTo>
                  <a:lnTo>
                    <a:pt x="98" y="8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31800" y="461628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87" y="0"/>
                  </a:moveTo>
                  <a:lnTo>
                    <a:pt x="90" y="0"/>
                  </a:lnTo>
                  <a:lnTo>
                    <a:pt x="90" y="4"/>
                  </a:lnTo>
                  <a:lnTo>
                    <a:pt x="71" y="80"/>
                  </a:lnTo>
                  <a:lnTo>
                    <a:pt x="67" y="84"/>
                  </a:lnTo>
                  <a:lnTo>
                    <a:pt x="4" y="73"/>
                  </a:lnTo>
                  <a:lnTo>
                    <a:pt x="0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44400" y="4616280"/>
              <a:ext cx="120600" cy="11772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15" y="4"/>
                  </a:moveTo>
                  <a:lnTo>
                    <a:pt x="0" y="57"/>
                  </a:lnTo>
                  <a:lnTo>
                    <a:pt x="0" y="65"/>
                  </a:lnTo>
                  <a:lnTo>
                    <a:pt x="4" y="65"/>
                  </a:lnTo>
                  <a:lnTo>
                    <a:pt x="55" y="73"/>
                  </a:lnTo>
                  <a:lnTo>
                    <a:pt x="59" y="73"/>
                  </a:lnTo>
                  <a:lnTo>
                    <a:pt x="59" y="69"/>
                  </a:lnTo>
                  <a:lnTo>
                    <a:pt x="75" y="11"/>
                  </a:lnTo>
                  <a:lnTo>
                    <a:pt x="75" y="8"/>
                  </a:lnTo>
                  <a:lnTo>
                    <a:pt x="71" y="4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15" y="4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8000" y="4743360"/>
              <a:ext cx="2088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1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50880" y="4622760"/>
              <a:ext cx="108000" cy="1047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15" y="4"/>
                  </a:moveTo>
                  <a:lnTo>
                    <a:pt x="0" y="53"/>
                  </a:lnTo>
                  <a:lnTo>
                    <a:pt x="0" y="57"/>
                  </a:lnTo>
                  <a:lnTo>
                    <a:pt x="3" y="57"/>
                  </a:lnTo>
                  <a:lnTo>
                    <a:pt x="47" y="65"/>
                  </a:lnTo>
                  <a:lnTo>
                    <a:pt x="55" y="65"/>
                  </a:lnTo>
                  <a:lnTo>
                    <a:pt x="67" y="7"/>
                  </a:lnTo>
                  <a:lnTo>
                    <a:pt x="67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4"/>
                  </a:lnTo>
                </a:path>
              </a:pathLst>
            </a:custGeom>
            <a:solidFill>
              <a:srgbClr val="baa89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560" y="4629240"/>
              <a:ext cx="10332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4" y="7"/>
                  </a:moveTo>
                  <a:lnTo>
                    <a:pt x="64" y="3"/>
                  </a:lnTo>
                  <a:lnTo>
                    <a:pt x="60" y="3"/>
                  </a:lnTo>
                  <a:lnTo>
                    <a:pt x="36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8" y="11"/>
                  </a:lnTo>
                  <a:lnTo>
                    <a:pt x="4" y="23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44" y="61"/>
                  </a:lnTo>
                  <a:lnTo>
                    <a:pt x="48" y="61"/>
                  </a:lnTo>
                  <a:lnTo>
                    <a:pt x="48" y="57"/>
                  </a:lnTo>
                  <a:lnTo>
                    <a:pt x="52" y="57"/>
                  </a:lnTo>
                  <a:lnTo>
                    <a:pt x="64" y="7"/>
                  </a:lnTo>
                </a:path>
              </a:pathLst>
            </a:custGeom>
            <a:solidFill>
              <a:srgbClr val="7fd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4640" y="4633920"/>
              <a:ext cx="20520" cy="381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2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4"/>
                  </a:lnTo>
                  <a:lnTo>
                    <a:pt x="12" y="0"/>
                  </a:lnTo>
                </a:path>
              </a:pathLst>
            </a:custGeom>
            <a:solidFill>
              <a:srgbClr val="d8e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3560" y="4738680"/>
              <a:ext cx="82440" cy="6120"/>
            </a:xfrm>
            <a:custGeom>
              <a:avLst/>
              <a:gdLst/>
              <a:ahLst/>
              <a:rect l="l" t="t" r="r" b="b"/>
              <a:pathLst>
                <a:path w="52" h="4">
                  <a:moveTo>
                    <a:pt x="0" y="3"/>
                  </a:moveTo>
                  <a:lnTo>
                    <a:pt x="7" y="3"/>
                  </a:lnTo>
                  <a:lnTo>
                    <a:pt x="23" y="0"/>
                  </a:lnTo>
                  <a:lnTo>
                    <a:pt x="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12880" y="4805280"/>
              <a:ext cx="6120" cy="1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81200" y="4811760"/>
              <a:ext cx="2052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3"/>
                  </a:moveTo>
                  <a:lnTo>
                    <a:pt x="8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8" y="3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12800" y="48718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8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19280" y="481176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3" y="3"/>
                  </a:moveTo>
                  <a:lnTo>
                    <a:pt x="39" y="3"/>
                  </a:lnTo>
                  <a:lnTo>
                    <a:pt x="39" y="0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2" y="7"/>
                  </a:lnTo>
                  <a:lnTo>
                    <a:pt x="12" y="11"/>
                  </a:lnTo>
                  <a:lnTo>
                    <a:pt x="8" y="11"/>
                  </a:lnTo>
                  <a:lnTo>
                    <a:pt x="12" y="19"/>
                  </a:lnTo>
                  <a:lnTo>
                    <a:pt x="12" y="26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4" y="34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4" y="42"/>
                  </a:lnTo>
                  <a:lnTo>
                    <a:pt x="12" y="42"/>
                  </a:lnTo>
                  <a:lnTo>
                    <a:pt x="16" y="38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35" y="7"/>
                  </a:lnTo>
                  <a:lnTo>
                    <a:pt x="43" y="7"/>
                  </a:lnTo>
                  <a:lnTo>
                    <a:pt x="43" y="3"/>
                  </a:lnTo>
                </a:path>
              </a:pathLst>
            </a:custGeom>
            <a:solidFill>
              <a:srgbClr val="e1cba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5400" y="486576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0" y="8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31880" y="4865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1880" y="4865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31880" y="48592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38000" y="4852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39800" y="485280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39800" y="484812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39800" y="484164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38000" y="4835520"/>
              <a:ext cx="6480" cy="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8000" y="4829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8000" y="48229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4480" y="4822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4480" y="4816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4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0960" y="4816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7080" y="4816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3560" y="481644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0"/>
                  </a:lnTo>
                  <a:lnTo>
                    <a:pt x="4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70040" y="4816440"/>
              <a:ext cx="468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74720" y="4816440"/>
              <a:ext cx="648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81200" y="4816440"/>
              <a:ext cx="612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735120" y="4375080"/>
            <a:ext cx="380880" cy="304920"/>
          </a:xfrm>
          <a:prstGeom prst="star5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1143000" y="4427640"/>
            <a:ext cx="709560" cy="1252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1878120" y="4198680"/>
            <a:ext cx="0" cy="2775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990720" y="2903040"/>
            <a:ext cx="861840" cy="1497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878120" y="2421000"/>
            <a:ext cx="0" cy="480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515680" y="3743280"/>
            <a:ext cx="1301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Berke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Re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847240" y="1822320"/>
            <a:ext cx="110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Sea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Rep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2240" y="5135400"/>
            <a:ext cx="1301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Berke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 Antiqua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087-677E-427C-ADCB-A9E206BFC97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534960" y="168120"/>
            <a:ext cx="802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Replica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1536840" y="1309680"/>
          <a:ext cx="651348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309680"/>
                    <a:ext cx="651348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B27-6E9A-451A-AB6A-7CC3B609E19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ierarchical Name Sp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june.cs.washington.edu, jun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to reuse names in different parts of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44360" y="3134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76240" y="3956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53680" y="3967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000" y="3931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8120" y="3870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09440" y="3883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75240" y="3846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600" y="4929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w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3600" y="4881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us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46640" y="4835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sh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09840" y="4845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645920" y="3505320"/>
            <a:ext cx="2374920" cy="52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57320" y="3505320"/>
            <a:ext cx="1222200" cy="55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9880" y="3516480"/>
            <a:ext cx="1260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44920" y="3481560"/>
            <a:ext cx="49392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2640" y="3492360"/>
            <a:ext cx="170496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62640" y="3457440"/>
            <a:ext cx="282096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58960" y="4351320"/>
            <a:ext cx="311472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610000" y="4327560"/>
            <a:ext cx="136368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362480"/>
            <a:ext cx="30636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73680" y="4338720"/>
            <a:ext cx="2398680" cy="67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38400" y="4856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79880" y="4316400"/>
            <a:ext cx="355140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87040" y="5720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96960" y="5766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25240" y="5777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174840" y="5232240"/>
            <a:ext cx="104616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8880" y="5232240"/>
            <a:ext cx="51732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03800" y="5221440"/>
            <a:ext cx="2174760" cy="63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B77-086F-46A7-822A-BDA08D0588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834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pplication 2: Mobile Distill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0" y="16761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s name a singl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bject based on client  network connection,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approach [Fox9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y maintains client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s object, dist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n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 name + a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distillation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computation/b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obile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0040" y="1982880"/>
            <a:ext cx="4111920" cy="44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1454040" cy="117792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1625760" cy="123372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609480" y="2133720"/>
            <a:ext cx="844560" cy="122544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4"/>
          <a:stretch/>
        </p:blipFill>
        <p:spPr>
          <a:xfrm>
            <a:off x="3276720" y="2819520"/>
            <a:ext cx="768240" cy="60624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230040" y="1601640"/>
            <a:ext cx="4035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lient-Specific N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5"/>
          <a:stretch/>
        </p:blipFill>
        <p:spPr>
          <a:xfrm>
            <a:off x="3124080" y="3429000"/>
            <a:ext cx="1095480" cy="162576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2744640" y="5411880"/>
            <a:ext cx="1444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Variables: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Network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996920" y="3978360"/>
            <a:ext cx="547560" cy="376200"/>
            <a:chOff x="1996920" y="3978360"/>
            <a:chExt cx="547560" cy="376200"/>
          </a:xfrm>
        </p:grpSpPr>
        <p:grpSp>
          <p:nvGrpSpPr>
            <p:cNvPr id="913" name=""/>
            <p:cNvGrpSpPr/>
            <p:nvPr/>
          </p:nvGrpSpPr>
          <p:grpSpPr>
            <a:xfrm>
              <a:off x="2073240" y="4054320"/>
              <a:ext cx="390600" cy="300240"/>
              <a:chOff x="2073240" y="4054320"/>
              <a:chExt cx="390600" cy="300240"/>
            </a:xfrm>
          </p:grpSpPr>
          <p:grpSp>
            <p:nvGrpSpPr>
              <p:cNvPr id="914" name=""/>
              <p:cNvGrpSpPr/>
              <p:nvPr/>
            </p:nvGrpSpPr>
            <p:grpSpPr>
              <a:xfrm>
                <a:off x="2187720" y="4054320"/>
                <a:ext cx="158760" cy="17640"/>
                <a:chOff x="2187720" y="4054320"/>
                <a:chExt cx="158760" cy="1764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2332080" y="4054320"/>
                  <a:ext cx="14400" cy="17640"/>
                </a:xfrm>
                <a:custGeom>
                  <a:avLst/>
                  <a:gdLst>
                    <a:gd name="textAreaLeft" fmla="*/ 3600 w 14400"/>
                    <a:gd name="textAreaRight" fmla="*/ 10800 w 14400"/>
                    <a:gd name="textAreaTop" fmla="*/ 3600 h 17640"/>
                    <a:gd name="textAreaBottom" fmla="*/ 14040 h 17640"/>
                  </a:gdLst>
                  <a:ahLst/>
                  <a:rect l="textAreaLeft" t="textAreaTop" r="textAreaRight" b="textAreaBottom"/>
                  <a:pathLst>
                    <a:path w="21600" h="26341">
                      <a:moveTo>
                        <a:pt x="18293" y="0"/>
                      </a:moveTo>
                      <a:arcTo wR="18293" hR="18293" stAng="16200000" swAng="-5400000"/>
                      <a:lnTo>
                        <a:pt x="0" y="8048"/>
                      </a:lnTo>
                      <a:arcTo wR="18293" hR="18293" stAng="10800000" swAng="-5400000"/>
                      <a:lnTo>
                        <a:pt x="3307" y="26341"/>
                      </a:lnTo>
                      <a:arcTo wR="18293" hR="18293" stAng="5400000" swAng="-5400000"/>
                      <a:lnTo>
                        <a:pt x="21600" y="18293"/>
                      </a:lnTo>
                      <a:arcTo wR="18293" hR="18293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2187720" y="4056120"/>
                  <a:ext cx="15840" cy="15840"/>
                </a:xfrm>
                <a:prstGeom prst="roundRect">
                  <a:avLst>
                    <a:gd name="adj" fmla="val 7825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7" name=""/>
              <p:cNvSpPr/>
              <p:nvPr/>
            </p:nvSpPr>
            <p:spPr>
              <a:xfrm>
                <a:off x="2075040" y="4068720"/>
                <a:ext cx="387000" cy="127080"/>
              </a:xfrm>
              <a:custGeom>
                <a:avLst/>
                <a:gdLst/>
                <a:ahLst/>
                <a:rect l="l" t="t" r="r" b="b"/>
                <a:pathLst>
                  <a:path w="244" h="80">
                    <a:moveTo>
                      <a:pt x="56" y="0"/>
                    </a:moveTo>
                    <a:lnTo>
                      <a:pt x="187" y="0"/>
                    </a:lnTo>
                    <a:lnTo>
                      <a:pt x="243" y="79"/>
                    </a:lnTo>
                    <a:lnTo>
                      <a:pt x="0" y="79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073240" y="4192560"/>
                <a:ext cx="390600" cy="162000"/>
              </a:xfrm>
              <a:prstGeom prst="roundRect">
                <a:avLst>
                  <a:gd name="adj" fmla="val 1281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2173320" y="4073400"/>
              <a:ext cx="196920" cy="173160"/>
              <a:chOff x="2173320" y="4073400"/>
              <a:chExt cx="196920" cy="173160"/>
            </a:xfrm>
          </p:grpSpPr>
          <p:sp>
            <p:nvSpPr>
              <p:cNvPr id="920" name=""/>
              <p:cNvSpPr/>
              <p:nvPr/>
            </p:nvSpPr>
            <p:spPr>
              <a:xfrm>
                <a:off x="2173320" y="4073400"/>
                <a:ext cx="196920" cy="171720"/>
              </a:xfrm>
              <a:custGeom>
                <a:avLst/>
                <a:gdLst/>
                <a:ahLst/>
                <a:rect l="l" t="t" r="r" b="b"/>
                <a:pathLst>
                  <a:path w="124" h="108">
                    <a:moveTo>
                      <a:pt x="25" y="0"/>
                    </a:moveTo>
                    <a:lnTo>
                      <a:pt x="0" y="107"/>
                    </a:lnTo>
                    <a:lnTo>
                      <a:pt x="123" y="107"/>
                    </a:lnTo>
                    <a:lnTo>
                      <a:pt x="97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73320" y="4075200"/>
                <a:ext cx="77760" cy="171360"/>
              </a:xfrm>
              <a:custGeom>
                <a:avLst/>
                <a:gdLst/>
                <a:ahLst/>
                <a:rect l="l" t="t" r="r" b="b"/>
                <a:pathLst>
                  <a:path w="49" h="108">
                    <a:moveTo>
                      <a:pt x="25" y="0"/>
                    </a:moveTo>
                    <a:lnTo>
                      <a:pt x="0" y="107"/>
                    </a:lnTo>
                    <a:lnTo>
                      <a:pt x="41" y="107"/>
                    </a:lnTo>
                    <a:lnTo>
                      <a:pt x="48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9240" y="4075200"/>
                <a:ext cx="81000" cy="171360"/>
              </a:xfrm>
              <a:custGeom>
                <a:avLst/>
                <a:gdLst/>
                <a:ahLst/>
                <a:rect l="l" t="t" r="r" b="b"/>
                <a:pathLst>
                  <a:path w="51" h="108">
                    <a:moveTo>
                      <a:pt x="25" y="0"/>
                    </a:moveTo>
                    <a:lnTo>
                      <a:pt x="50" y="107"/>
                    </a:lnTo>
                    <a:lnTo>
                      <a:pt x="7" y="107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189160" y="4119480"/>
                <a:ext cx="163440" cy="57240"/>
              </a:xfrm>
              <a:custGeom>
                <a:avLst/>
                <a:gdLst/>
                <a:ahLst/>
                <a:rect l="l" t="t" r="r" b="b"/>
                <a:pathLst>
                  <a:path w="103" h="36">
                    <a:moveTo>
                      <a:pt x="8" y="0"/>
                    </a:moveTo>
                    <a:lnTo>
                      <a:pt x="0" y="35"/>
                    </a:lnTo>
                    <a:lnTo>
                      <a:pt x="102" y="35"/>
                    </a:lnTo>
                    <a:lnTo>
                      <a:pt x="94" y="0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1996920" y="3978360"/>
              <a:ext cx="547560" cy="190080"/>
              <a:chOff x="1996920" y="3978360"/>
              <a:chExt cx="547560" cy="190080"/>
            </a:xfrm>
          </p:grpSpPr>
          <p:sp>
            <p:nvSpPr>
              <p:cNvPr id="925" name=""/>
              <p:cNvSpPr/>
              <p:nvPr/>
            </p:nvSpPr>
            <p:spPr>
              <a:xfrm>
                <a:off x="2055240" y="3978360"/>
                <a:ext cx="433440" cy="17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7" y="9212"/>
                    </a:moveTo>
                    <a:arcTo wR="10800" hR="10800" stAng="-10292550" swAng="95840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7" y="9212"/>
                    </a:moveTo>
                    <a:arcTo wR="10800" hR="10800" stAng="-10292550" swAng="9584044"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205000" y="4006440"/>
                <a:ext cx="339480" cy="16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613" y="695"/>
                    </a:moveTo>
                    <a:arcTo wR="10800" hR="10800" stAng="-4159601" swAng="6612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613" y="695"/>
                    </a:moveTo>
                    <a:arcTo wR="10800" hR="10800" stAng="-4159601" swAng="6612057"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996920" y="4006800"/>
                <a:ext cx="339480" cy="16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90" y="17817"/>
                    </a:moveTo>
                    <a:arcTo wR="10800" hR="10800" stAng="8368657" swAng="64177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90" y="17817"/>
                    </a:moveTo>
                    <a:arcTo wR="10800" hR="10800" stAng="8368657" swAng="6417707"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8" name=""/>
          <p:cNvGrpSpPr/>
          <p:nvPr/>
        </p:nvGrpSpPr>
        <p:grpSpPr>
          <a:xfrm>
            <a:off x="2027160" y="5467320"/>
            <a:ext cx="277920" cy="201600"/>
            <a:chOff x="2027160" y="5467320"/>
            <a:chExt cx="277920" cy="201600"/>
          </a:xfrm>
        </p:grpSpPr>
        <p:sp>
          <p:nvSpPr>
            <p:cNvPr id="929" name=""/>
            <p:cNvSpPr/>
            <p:nvPr/>
          </p:nvSpPr>
          <p:spPr>
            <a:xfrm>
              <a:off x="2027160" y="5589720"/>
              <a:ext cx="87480" cy="7596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54" y="16"/>
                  </a:moveTo>
                  <a:lnTo>
                    <a:pt x="50" y="9"/>
                  </a:lnTo>
                  <a:lnTo>
                    <a:pt x="46" y="7"/>
                  </a:lnTo>
                  <a:lnTo>
                    <a:pt x="44" y="3"/>
                  </a:lnTo>
                  <a:lnTo>
                    <a:pt x="42" y="0"/>
                  </a:lnTo>
                  <a:lnTo>
                    <a:pt x="37" y="3"/>
                  </a:lnTo>
                  <a:lnTo>
                    <a:pt x="31" y="6"/>
                  </a:lnTo>
                  <a:lnTo>
                    <a:pt x="26" y="9"/>
                  </a:lnTo>
                  <a:lnTo>
                    <a:pt x="21" y="12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7" y="47"/>
                  </a:lnTo>
                  <a:lnTo>
                    <a:pt x="22" y="47"/>
                  </a:lnTo>
                  <a:lnTo>
                    <a:pt x="28" y="43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1" y="31"/>
                  </a:lnTo>
                  <a:lnTo>
                    <a:pt x="44" y="26"/>
                  </a:lnTo>
                  <a:lnTo>
                    <a:pt x="47" y="23"/>
                  </a:lnTo>
                  <a:lnTo>
                    <a:pt x="51" y="20"/>
                  </a:lnTo>
                  <a:lnTo>
                    <a:pt x="54" y="16"/>
                  </a:lnTo>
                </a:path>
              </a:pathLst>
            </a:custGeom>
            <a:solidFill>
              <a:srgbClr val="f4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97000" y="5605560"/>
              <a:ext cx="1440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1"/>
                  </a:moveTo>
                  <a:lnTo>
                    <a:pt x="6" y="7"/>
                  </a:lnTo>
                  <a:lnTo>
                    <a:pt x="8" y="1"/>
                  </a:lnTo>
                  <a:lnTo>
                    <a:pt x="2" y="0"/>
                  </a:lnTo>
                  <a:lnTo>
                    <a:pt x="0" y="6"/>
                  </a:lnTo>
                  <a:lnTo>
                    <a:pt x="2" y="3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7"/>
                  </a:lnTo>
                  <a:lnTo>
                    <a:pt x="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85840" y="56102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7" y="5"/>
                  </a:moveTo>
                  <a:lnTo>
                    <a:pt x="4" y="8"/>
                  </a:lnTo>
                  <a:lnTo>
                    <a:pt x="11" y="9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085840" y="561492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9"/>
                  </a:moveTo>
                  <a:lnTo>
                    <a:pt x="6" y="7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5"/>
                  </a:lnTo>
                  <a:lnTo>
                    <a:pt x="3" y="3"/>
                  </a:lnTo>
                  <a:lnTo>
                    <a:pt x="2" y="9"/>
                  </a:lnTo>
                  <a:lnTo>
                    <a:pt x="5" y="11"/>
                  </a:lnTo>
                  <a:lnTo>
                    <a:pt x="6" y="7"/>
                  </a:lnTo>
                  <a:lnTo>
                    <a:pt x="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71800" y="561492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8" y="4"/>
                  </a:moveTo>
                  <a:lnTo>
                    <a:pt x="3" y="7"/>
                  </a:lnTo>
                  <a:lnTo>
                    <a:pt x="10" y="9"/>
                  </a:lnTo>
                  <a:lnTo>
                    <a:pt x="12" y="2"/>
                  </a:ln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070000" y="5621400"/>
              <a:ext cx="1764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3"/>
                  </a:moveTo>
                  <a:lnTo>
                    <a:pt x="7" y="10"/>
                  </a:lnTo>
                  <a:lnTo>
                    <a:pt x="10" y="1"/>
                  </a:lnTo>
                  <a:lnTo>
                    <a:pt x="3" y="0"/>
                  </a:lnTo>
                  <a:lnTo>
                    <a:pt x="0" y="8"/>
                  </a:lnTo>
                  <a:lnTo>
                    <a:pt x="3" y="5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4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57400" y="563076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7" y="5"/>
                  </a:moveTo>
                  <a:lnTo>
                    <a:pt x="5" y="8"/>
                  </a:lnTo>
                  <a:lnTo>
                    <a:pt x="13" y="8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54160" y="5635800"/>
              <a:ext cx="1440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3"/>
                  </a:moveTo>
                  <a:lnTo>
                    <a:pt x="7" y="9"/>
                  </a:lnTo>
                  <a:lnTo>
                    <a:pt x="8" y="2"/>
                  </a:lnTo>
                  <a:lnTo>
                    <a:pt x="1" y="0"/>
                  </a:lnTo>
                  <a:lnTo>
                    <a:pt x="0" y="7"/>
                  </a:lnTo>
                  <a:lnTo>
                    <a:pt x="2" y="4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9"/>
                  </a:lnTo>
                  <a:lnTo>
                    <a:pt x="4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39760" y="5640480"/>
              <a:ext cx="2412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7" y="7"/>
                  </a:moveTo>
                  <a:lnTo>
                    <a:pt x="5" y="9"/>
                  </a:lnTo>
                  <a:lnTo>
                    <a:pt x="14" y="9"/>
                  </a:lnTo>
                  <a:lnTo>
                    <a:pt x="1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7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036880" y="5648400"/>
              <a:ext cx="1728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3" y="12"/>
                  </a:moveTo>
                  <a:lnTo>
                    <a:pt x="8" y="9"/>
                  </a:lnTo>
                  <a:lnTo>
                    <a:pt x="10" y="4"/>
                  </a:lnTo>
                  <a:lnTo>
                    <a:pt x="1" y="0"/>
                  </a:lnTo>
                  <a:lnTo>
                    <a:pt x="0" y="6"/>
                  </a:lnTo>
                  <a:lnTo>
                    <a:pt x="4" y="3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8" y="9"/>
                  </a:lnTo>
                  <a:lnTo>
                    <a:pt x="3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31840" y="5649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4"/>
                  </a:moveTo>
                  <a:lnTo>
                    <a:pt x="0" y="8"/>
                  </a:lnTo>
                  <a:lnTo>
                    <a:pt x="7" y="9"/>
                  </a:lnTo>
                  <a:lnTo>
                    <a:pt x="7" y="1"/>
                  </a:lnTo>
                  <a:lnTo>
                    <a:pt x="1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75040" y="5467320"/>
              <a:ext cx="230040" cy="182520"/>
            </a:xfrm>
            <a:custGeom>
              <a:avLst/>
              <a:gdLst/>
              <a:ahLst/>
              <a:rect l="l" t="t" r="r" b="b"/>
              <a:pathLst>
                <a:path w="145" h="115">
                  <a:moveTo>
                    <a:pt x="130" y="0"/>
                  </a:moveTo>
                  <a:lnTo>
                    <a:pt x="134" y="7"/>
                  </a:lnTo>
                  <a:lnTo>
                    <a:pt x="136" y="11"/>
                  </a:lnTo>
                  <a:lnTo>
                    <a:pt x="140" y="15"/>
                  </a:lnTo>
                  <a:lnTo>
                    <a:pt x="144" y="20"/>
                  </a:lnTo>
                  <a:lnTo>
                    <a:pt x="46" y="114"/>
                  </a:lnTo>
                  <a:lnTo>
                    <a:pt x="37" y="111"/>
                  </a:lnTo>
                  <a:lnTo>
                    <a:pt x="28" y="108"/>
                  </a:lnTo>
                  <a:lnTo>
                    <a:pt x="20" y="103"/>
                  </a:lnTo>
                  <a:lnTo>
                    <a:pt x="14" y="97"/>
                  </a:lnTo>
                  <a:lnTo>
                    <a:pt x="9" y="89"/>
                  </a:lnTo>
                  <a:lnTo>
                    <a:pt x="5" y="76"/>
                  </a:lnTo>
                  <a:lnTo>
                    <a:pt x="1" y="62"/>
                  </a:lnTo>
                  <a:lnTo>
                    <a:pt x="0" y="47"/>
                  </a:lnTo>
                  <a:lnTo>
                    <a:pt x="1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75040" y="5467320"/>
              <a:ext cx="230040" cy="182520"/>
            </a:xfrm>
            <a:custGeom>
              <a:avLst/>
              <a:gdLst/>
              <a:ahLst/>
              <a:rect l="l" t="t" r="r" b="b"/>
              <a:pathLst>
                <a:path w="145" h="115">
                  <a:moveTo>
                    <a:pt x="130" y="0"/>
                  </a:moveTo>
                  <a:lnTo>
                    <a:pt x="134" y="7"/>
                  </a:lnTo>
                  <a:lnTo>
                    <a:pt x="136" y="11"/>
                  </a:lnTo>
                  <a:lnTo>
                    <a:pt x="140" y="15"/>
                  </a:lnTo>
                  <a:lnTo>
                    <a:pt x="144" y="20"/>
                  </a:lnTo>
                  <a:lnTo>
                    <a:pt x="46" y="114"/>
                  </a:lnTo>
                  <a:lnTo>
                    <a:pt x="37" y="111"/>
                  </a:lnTo>
                  <a:lnTo>
                    <a:pt x="28" y="108"/>
                  </a:lnTo>
                  <a:lnTo>
                    <a:pt x="20" y="103"/>
                  </a:lnTo>
                  <a:lnTo>
                    <a:pt x="14" y="97"/>
                  </a:lnTo>
                  <a:lnTo>
                    <a:pt x="9" y="89"/>
                  </a:lnTo>
                  <a:lnTo>
                    <a:pt x="5" y="76"/>
                  </a:lnTo>
                  <a:lnTo>
                    <a:pt x="1" y="62"/>
                  </a:lnTo>
                  <a:lnTo>
                    <a:pt x="0" y="47"/>
                  </a:lnTo>
                  <a:lnTo>
                    <a:pt x="1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 flipV="1">
            <a:off x="2341440" y="5043600"/>
            <a:ext cx="507960" cy="495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863800" y="4938840"/>
            <a:ext cx="282600" cy="190440"/>
            <a:chOff x="2863800" y="4938840"/>
            <a:chExt cx="282600" cy="190440"/>
          </a:xfrm>
        </p:grpSpPr>
        <p:sp>
          <p:nvSpPr>
            <p:cNvPr id="944" name=""/>
            <p:cNvSpPr/>
            <p:nvPr/>
          </p:nvSpPr>
          <p:spPr>
            <a:xfrm>
              <a:off x="3057480" y="4941720"/>
              <a:ext cx="88920" cy="7488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0" y="30"/>
                  </a:moveTo>
                  <a:lnTo>
                    <a:pt x="4" y="36"/>
                  </a:lnTo>
                  <a:lnTo>
                    <a:pt x="8" y="39"/>
                  </a:lnTo>
                  <a:lnTo>
                    <a:pt x="10" y="43"/>
                  </a:lnTo>
                  <a:lnTo>
                    <a:pt x="12" y="46"/>
                  </a:lnTo>
                  <a:lnTo>
                    <a:pt x="17" y="43"/>
                  </a:lnTo>
                  <a:lnTo>
                    <a:pt x="23" y="41"/>
                  </a:lnTo>
                  <a:lnTo>
                    <a:pt x="28" y="38"/>
                  </a:lnTo>
                  <a:lnTo>
                    <a:pt x="33" y="36"/>
                  </a:lnTo>
                  <a:lnTo>
                    <a:pt x="39" y="33"/>
                  </a:lnTo>
                  <a:lnTo>
                    <a:pt x="43" y="29"/>
                  </a:lnTo>
                  <a:lnTo>
                    <a:pt x="48" y="25"/>
                  </a:lnTo>
                  <a:lnTo>
                    <a:pt x="52" y="23"/>
                  </a:lnTo>
                  <a:lnTo>
                    <a:pt x="53" y="17"/>
                  </a:lnTo>
                  <a:lnTo>
                    <a:pt x="55" y="14"/>
                  </a:lnTo>
                  <a:lnTo>
                    <a:pt x="55" y="12"/>
                  </a:lnTo>
                  <a:lnTo>
                    <a:pt x="55" y="9"/>
                  </a:lnTo>
                  <a:lnTo>
                    <a:pt x="55" y="8"/>
                  </a:lnTo>
                  <a:lnTo>
                    <a:pt x="54" y="6"/>
                  </a:lnTo>
                  <a:lnTo>
                    <a:pt x="53" y="5"/>
                  </a:lnTo>
                  <a:lnTo>
                    <a:pt x="47" y="2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23" y="9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3"/>
                  </a:lnTo>
                  <a:lnTo>
                    <a:pt x="4" y="26"/>
                  </a:lnTo>
                  <a:lnTo>
                    <a:pt x="0" y="30"/>
                  </a:lnTo>
                </a:path>
              </a:pathLst>
            </a:custGeom>
            <a:solidFill>
              <a:srgbClr val="f4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060720" y="4981680"/>
              <a:ext cx="1440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0"/>
                  </a:moveTo>
                  <a:lnTo>
                    <a:pt x="2" y="3"/>
                  </a:lnTo>
                  <a:lnTo>
                    <a:pt x="0" y="10"/>
                  </a:lnTo>
                  <a:lnTo>
                    <a:pt x="6" y="12"/>
                  </a:lnTo>
                  <a:lnTo>
                    <a:pt x="8" y="5"/>
                  </a:lnTo>
                  <a:lnTo>
                    <a:pt x="5" y="8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68640" y="49798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4" y="4"/>
                  </a:moveTo>
                  <a:lnTo>
                    <a:pt x="7" y="1"/>
                  </a:lnTo>
                  <a:lnTo>
                    <a:pt x="0" y="0"/>
                  </a:lnTo>
                  <a:lnTo>
                    <a:pt x="1" y="9"/>
                  </a:lnTo>
                  <a:lnTo>
                    <a:pt x="8" y="9"/>
                  </a:lnTo>
                  <a:lnTo>
                    <a:pt x="11" y="7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4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075120" y="49719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4" y="2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6" y="11"/>
                  </a:lnTo>
                  <a:lnTo>
                    <a:pt x="6" y="6"/>
                  </a:lnTo>
                  <a:lnTo>
                    <a:pt x="3" y="8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4"/>
                  </a:lnTo>
                  <a:lnTo>
                    <a:pt x="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079800" y="4975200"/>
              <a:ext cx="2052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4" y="5"/>
                  </a:moveTo>
                  <a:lnTo>
                    <a:pt x="9" y="2"/>
                  </a:lnTo>
                  <a:lnTo>
                    <a:pt x="2" y="0"/>
                  </a:lnTo>
                  <a:lnTo>
                    <a:pt x="0" y="7"/>
                  </a:lnTo>
                  <a:lnTo>
                    <a:pt x="8" y="9"/>
                  </a:lnTo>
                  <a:lnTo>
                    <a:pt x="12" y="6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6"/>
                  </a:lnTo>
                  <a:lnTo>
                    <a:pt x="4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084480" y="4964040"/>
              <a:ext cx="1764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6" y="0"/>
                  </a:moveTo>
                  <a:lnTo>
                    <a:pt x="3" y="3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0" y="5"/>
                  </a:lnTo>
                  <a:lnTo>
                    <a:pt x="7" y="8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095640" y="496260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5" y="3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" y="8"/>
                  </a:lnTo>
                  <a:lnTo>
                    <a:pt x="9" y="8"/>
                  </a:lnTo>
                  <a:lnTo>
                    <a:pt x="12" y="5"/>
                  </a:lnTo>
                  <a:lnTo>
                    <a:pt x="9" y="8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105000" y="4951440"/>
              <a:ext cx="1440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1" y="4"/>
                  </a:lnTo>
                  <a:lnTo>
                    <a:pt x="0" y="11"/>
                  </a:lnTo>
                  <a:lnTo>
                    <a:pt x="7" y="13"/>
                  </a:lnTo>
                  <a:lnTo>
                    <a:pt x="8" y="6"/>
                  </a:lnTo>
                  <a:lnTo>
                    <a:pt x="5" y="9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110040" y="49514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7" y="2"/>
                  </a:moveTo>
                  <a:lnTo>
                    <a:pt x="9" y="1"/>
                  </a:lnTo>
                  <a:lnTo>
                    <a:pt x="0" y="0"/>
                  </a:lnTo>
                  <a:lnTo>
                    <a:pt x="1" y="8"/>
                  </a:lnTo>
                  <a:lnTo>
                    <a:pt x="11" y="9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122640" y="4938840"/>
              <a:ext cx="1728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lnTo>
                    <a:pt x="2" y="3"/>
                  </a:lnTo>
                  <a:lnTo>
                    <a:pt x="0" y="8"/>
                  </a:lnTo>
                  <a:lnTo>
                    <a:pt x="8" y="12"/>
                  </a:lnTo>
                  <a:lnTo>
                    <a:pt x="10" y="7"/>
                  </a:lnTo>
                  <a:lnTo>
                    <a:pt x="6" y="9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130560" y="494172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5"/>
                  </a:moveTo>
                  <a:lnTo>
                    <a:pt x="7" y="1"/>
                  </a:lnTo>
                  <a:lnTo>
                    <a:pt x="0" y="0"/>
                  </a:lnTo>
                  <a:lnTo>
                    <a:pt x="0" y="8"/>
                  </a:lnTo>
                  <a:lnTo>
                    <a:pt x="6" y="10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863800" y="4952880"/>
              <a:ext cx="230400" cy="17640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2" y="110"/>
                  </a:moveTo>
                  <a:lnTo>
                    <a:pt x="9" y="104"/>
                  </a:lnTo>
                  <a:lnTo>
                    <a:pt x="7" y="99"/>
                  </a:lnTo>
                  <a:lnTo>
                    <a:pt x="3" y="94"/>
                  </a:lnTo>
                  <a:lnTo>
                    <a:pt x="0" y="89"/>
                  </a:lnTo>
                  <a:lnTo>
                    <a:pt x="102" y="0"/>
                  </a:lnTo>
                  <a:lnTo>
                    <a:pt x="110" y="4"/>
                  </a:lnTo>
                  <a:lnTo>
                    <a:pt x="119" y="8"/>
                  </a:lnTo>
                  <a:lnTo>
                    <a:pt x="127" y="13"/>
                  </a:lnTo>
                  <a:lnTo>
                    <a:pt x="133" y="19"/>
                  </a:lnTo>
                  <a:lnTo>
                    <a:pt x="138" y="28"/>
                  </a:lnTo>
                  <a:lnTo>
                    <a:pt x="141" y="40"/>
                  </a:lnTo>
                  <a:lnTo>
                    <a:pt x="144" y="55"/>
                  </a:lnTo>
                  <a:lnTo>
                    <a:pt x="144" y="70"/>
                  </a:lnTo>
                  <a:lnTo>
                    <a:pt x="12" y="1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863800" y="4952880"/>
              <a:ext cx="230400" cy="17640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2" y="110"/>
                  </a:moveTo>
                  <a:lnTo>
                    <a:pt x="9" y="104"/>
                  </a:lnTo>
                  <a:lnTo>
                    <a:pt x="7" y="99"/>
                  </a:lnTo>
                  <a:lnTo>
                    <a:pt x="3" y="94"/>
                  </a:lnTo>
                  <a:lnTo>
                    <a:pt x="0" y="89"/>
                  </a:lnTo>
                  <a:lnTo>
                    <a:pt x="102" y="0"/>
                  </a:lnTo>
                  <a:lnTo>
                    <a:pt x="110" y="4"/>
                  </a:lnTo>
                  <a:lnTo>
                    <a:pt x="119" y="8"/>
                  </a:lnTo>
                  <a:lnTo>
                    <a:pt x="127" y="13"/>
                  </a:lnTo>
                  <a:lnTo>
                    <a:pt x="133" y="19"/>
                  </a:lnTo>
                  <a:lnTo>
                    <a:pt x="138" y="28"/>
                  </a:lnTo>
                  <a:lnTo>
                    <a:pt x="141" y="40"/>
                  </a:lnTo>
                  <a:lnTo>
                    <a:pt x="144" y="55"/>
                  </a:lnTo>
                  <a:lnTo>
                    <a:pt x="144" y="70"/>
                  </a:lnTo>
                  <a:lnTo>
                    <a:pt x="12" y="1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1905120" y="2133720"/>
            <a:ext cx="530280" cy="999720"/>
            <a:chOff x="1905120" y="2133720"/>
            <a:chExt cx="530280" cy="999720"/>
          </a:xfrm>
        </p:grpSpPr>
        <p:grpSp>
          <p:nvGrpSpPr>
            <p:cNvPr id="958" name=""/>
            <p:cNvGrpSpPr/>
            <p:nvPr/>
          </p:nvGrpSpPr>
          <p:grpSpPr>
            <a:xfrm>
              <a:off x="1905120" y="2133720"/>
              <a:ext cx="530280" cy="171360"/>
              <a:chOff x="1905120" y="2133720"/>
              <a:chExt cx="530280" cy="171360"/>
            </a:xfrm>
          </p:grpSpPr>
          <p:sp>
            <p:nvSpPr>
              <p:cNvPr id="959" name=""/>
              <p:cNvSpPr/>
              <p:nvPr/>
            </p:nvSpPr>
            <p:spPr>
              <a:xfrm>
                <a:off x="2268360" y="2205000"/>
                <a:ext cx="167040" cy="100080"/>
              </a:xfrm>
              <a:custGeom>
                <a:avLst/>
                <a:gdLst/>
                <a:ahLst/>
                <a:rect l="l" t="t" r="r" b="b"/>
                <a:pathLst>
                  <a:path w="105" h="63">
                    <a:moveTo>
                      <a:pt x="0" y="62"/>
                    </a:moveTo>
                    <a:lnTo>
                      <a:pt x="28" y="41"/>
                    </a:lnTo>
                    <a:lnTo>
                      <a:pt x="29" y="51"/>
                    </a:lnTo>
                    <a:lnTo>
                      <a:pt x="72" y="17"/>
                    </a:lnTo>
                    <a:lnTo>
                      <a:pt x="73" y="22"/>
                    </a:lnTo>
                    <a:lnTo>
                      <a:pt x="104" y="0"/>
                    </a:lnTo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195640" y="2133720"/>
                <a:ext cx="117360" cy="150840"/>
              </a:xfrm>
              <a:custGeom>
                <a:avLst/>
                <a:gdLst/>
                <a:ahLst/>
                <a:rect l="l" t="t" r="r" b="b"/>
                <a:pathLst>
                  <a:path w="74" h="95">
                    <a:moveTo>
                      <a:pt x="0" y="94"/>
                    </a:moveTo>
                    <a:lnTo>
                      <a:pt x="10" y="67"/>
                    </a:lnTo>
                    <a:lnTo>
                      <a:pt x="23" y="76"/>
                    </a:lnTo>
                    <a:lnTo>
                      <a:pt x="46" y="27"/>
                    </a:lnTo>
                    <a:lnTo>
                      <a:pt x="56" y="33"/>
                    </a:lnTo>
                    <a:lnTo>
                      <a:pt x="73" y="0"/>
                    </a:lnTo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025720" y="2133720"/>
                <a:ext cx="117360" cy="150840"/>
              </a:xfrm>
              <a:custGeom>
                <a:avLst/>
                <a:gdLst/>
                <a:ahLst/>
                <a:rect l="l" t="t" r="r" b="b"/>
                <a:pathLst>
                  <a:path w="74" h="95">
                    <a:moveTo>
                      <a:pt x="73" y="94"/>
                    </a:moveTo>
                    <a:lnTo>
                      <a:pt x="62" y="68"/>
                    </a:lnTo>
                    <a:lnTo>
                      <a:pt x="49" y="76"/>
                    </a:lnTo>
                    <a:lnTo>
                      <a:pt x="25" y="27"/>
                    </a:lnTo>
                    <a:lnTo>
                      <a:pt x="16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905120" y="2206800"/>
                <a:ext cx="163440" cy="98280"/>
              </a:xfrm>
              <a:custGeom>
                <a:avLst/>
                <a:gdLst/>
                <a:ahLst/>
                <a:rect l="l" t="t" r="r" b="b"/>
                <a:pathLst>
                  <a:path w="103" h="62">
                    <a:moveTo>
                      <a:pt x="102" y="61"/>
                    </a:moveTo>
                    <a:lnTo>
                      <a:pt x="75" y="39"/>
                    </a:lnTo>
                    <a:lnTo>
                      <a:pt x="74" y="49"/>
                    </a:lnTo>
                    <a:lnTo>
                      <a:pt x="32" y="14"/>
                    </a:lnTo>
                    <a:lnTo>
                      <a:pt x="30" y="2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2114640" y="2322360"/>
              <a:ext cx="109440" cy="811080"/>
              <a:chOff x="2114640" y="2322360"/>
              <a:chExt cx="109440" cy="811080"/>
            </a:xfrm>
          </p:grpSpPr>
          <p:sp>
            <p:nvSpPr>
              <p:cNvPr id="964" name=""/>
              <p:cNvSpPr/>
              <p:nvPr/>
            </p:nvSpPr>
            <p:spPr>
              <a:xfrm>
                <a:off x="2173320" y="2610000"/>
                <a:ext cx="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2114640" y="2322360"/>
                <a:ext cx="109440" cy="811080"/>
                <a:chOff x="2114640" y="2322360"/>
                <a:chExt cx="109440" cy="811080"/>
              </a:xfrm>
            </p:grpSpPr>
            <p:sp>
              <p:nvSpPr>
                <p:cNvPr id="966" name=""/>
                <p:cNvSpPr/>
                <p:nvPr/>
              </p:nvSpPr>
              <p:spPr>
                <a:xfrm flipV="1">
                  <a:off x="2171880" y="2322360"/>
                  <a:ext cx="0" cy="18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2133720" y="2479320"/>
                  <a:ext cx="12600" cy="6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98520" y="2506680"/>
                  <a:ext cx="12960" cy="604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38400" y="3105000"/>
                  <a:ext cx="712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151000" y="2933640"/>
                  <a:ext cx="493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149560" y="2952720"/>
                  <a:ext cx="5868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>
                  <a:off x="2114640" y="2951280"/>
                  <a:ext cx="109440" cy="14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160720" y="2765520"/>
                  <a:ext cx="2700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160720" y="2781360"/>
                  <a:ext cx="36360" cy="141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2144880" y="2754000"/>
                  <a:ext cx="39600" cy="18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166840" y="2625840"/>
                  <a:ext cx="2088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V="1">
                  <a:off x="2157480" y="2596680"/>
                  <a:ext cx="17280" cy="18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V="1">
                  <a:off x="2165400" y="2479320"/>
                  <a:ext cx="324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158920" y="2322360"/>
                  <a:ext cx="2700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80" name=""/>
          <p:cNvSpPr/>
          <p:nvPr/>
        </p:nvSpPr>
        <p:spPr>
          <a:xfrm>
            <a:off x="1463760" y="2666880"/>
            <a:ext cx="581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01840" y="2682720"/>
            <a:ext cx="885960" cy="80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539720" y="419112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30440" y="4191120"/>
            <a:ext cx="58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4587-A640-4A76-B53F-B84EB4CB7A6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468360" y="169920"/>
            <a:ext cx="819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Application 2: Mobile Disti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5" name=""/>
          <p:cNvGraphicFramePr/>
          <p:nvPr/>
        </p:nvGraphicFramePr>
        <p:xfrm>
          <a:off x="4329000" y="1706400"/>
          <a:ext cx="4815000" cy="35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9000" y="1706400"/>
                    <a:ext cx="481500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7" name=""/>
          <p:cNvSpPr/>
          <p:nvPr/>
        </p:nvSpPr>
        <p:spPr>
          <a:xfrm>
            <a:off x="0" y="1852560"/>
            <a:ext cx="439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llation 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Server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s bandwidth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1d31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d315"/>
                </a:solidFill>
                <a:latin typeface="Times New Roman"/>
              </a:rPr>
              <a:t>Prox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s server CPU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Activ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estimate of both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1735200"/>
            <a:ext cx="4367160" cy="3470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4F6-2810-4386-BDBA-3F5C5B9928B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312840" y="157320"/>
            <a:ext cx="858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badi MT Condensed"/>
              </a:rPr>
              <a:t>Application 3: Custo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8360" y="1969920"/>
            <a:ext cx="8310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lient customization: distilling the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rver customization: ad rotation, server-side inclu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mposing these customizations using Active Names leads to 2-fold improvement in performan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rver customization can take place at prox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stillation further improves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2B3-AC57-4814-9751-4254CD5D94E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pplication 4: Active Cach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994" name=""/>
          <p:cNvGraphicFramePr/>
          <p:nvPr/>
        </p:nvGraphicFramePr>
        <p:xfrm>
          <a:off x="971640" y="1752480"/>
          <a:ext cx="8184960" cy="356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52480"/>
                    <a:ext cx="818496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improve on 50% cache hit r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47B-876F-4E6A-8D46-96A532943DB8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Name Space Delegation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rganization controls its own name space (“zone” = subtree of global t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rg has its own name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ed for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servers translate only org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lookup proceeds step-by-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C8C-AE22-4BCD-99B2-1C7B2E63AC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NS Lookup 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6200" y="3257640"/>
            <a:ext cx="835200" cy="68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400" y="4156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46400" y="3316320"/>
            <a:ext cx="798480" cy="69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44920" y="42436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S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48320" y="2457360"/>
            <a:ext cx="798480" cy="69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4720" y="23608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oot&amp;e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83240" y="3679920"/>
            <a:ext cx="798480" cy="69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93040" y="367848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shing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18160" y="4854600"/>
            <a:ext cx="798480" cy="69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4280" y="47372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 D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3598920"/>
            <a:ext cx="1059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2160" y="28854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.washingto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057480" y="2715840"/>
            <a:ext cx="2505240" cy="89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033360" y="2833560"/>
            <a:ext cx="2505240" cy="88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20496600">
            <a:off x="3179160" y="324684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shington=IP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496600">
            <a:off x="2979360" y="28245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.washingto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92400" y="3809880"/>
            <a:ext cx="250524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057480" y="3927240"/>
            <a:ext cx="25401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97000">
            <a:off x="4024080" y="40726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=IPaddr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16160" y="3927600"/>
            <a:ext cx="2540160" cy="12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045960" y="4010040"/>
            <a:ext cx="2551320" cy="12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69800">
            <a:off x="3535920" y="4814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une=IPaddr’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DFC-8016-4CF2-B8F9-5C87286117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erformance and Availabi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2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 servers are re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service available if &gt;= one replica i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load balanced between rep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 queries are cached at local 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sponse for repeated trans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name caching (edu, washington.edu, cs.washington.edu, june.cs.washington.e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F23-84D6-4C5D-AF0E-3551EE2705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NS Cache Effectivenes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52560" y="1473120"/>
          <a:ext cx="6819840" cy="523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73120"/>
                    <a:ext cx="681984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42A-B25F-40D9-AF51-933F40166D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plica/Cache Coheren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keep replicas/cached copies up to d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 solution: eventual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downloads from master to rep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d data periodically time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y must re-quer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if old data is provided temporari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103-9DF3-4FEA-847F-F24D80B64D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ventual Consistency Exampl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08600" y="2013120"/>
            <a:ext cx="91728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43760" y="4667400"/>
            <a:ext cx="91764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87680" y="4680000"/>
            <a:ext cx="91764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65680" y="1998720"/>
            <a:ext cx="917640" cy="776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4160" y="209232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4880" y="4779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173280" y="2738520"/>
            <a:ext cx="1233720" cy="192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25880" y="4678200"/>
            <a:ext cx="917640" cy="776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4925880" y="2352600"/>
            <a:ext cx="741600" cy="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0720" y="1757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k: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75520" y="4955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03560" y="2739600"/>
            <a:ext cx="1093680" cy="19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233520" y="2809800"/>
            <a:ext cx="1104840" cy="191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7850000">
            <a:off x="3180240" y="3667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1:x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7849400">
            <a:off x="2308680" y="32335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1:rege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3645600">
            <a:off x="6542640" y="326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: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384880" y="2750760"/>
            <a:ext cx="506160" cy="19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514480" y="2763720"/>
            <a:ext cx="528840" cy="192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7013000">
            <a:off x="5330160" y="3614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q: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7013000">
            <a:off x="4401360" y="35042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+q:rege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49A-230A-4CDC-A518-B9BFCCD446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11:14Z</dcterms:created>
  <dc:creator>Stefan Savage</dc:creator>
  <dc:description/>
  <dc:language>en-US</dc:language>
  <cp:lastModifiedBy>cse</cp:lastModifiedBy>
  <cp:lastPrinted>1999-02-18T02:30:17Z</cp:lastPrinted>
  <dcterms:modified xsi:type="dcterms:W3CDTF">1999-05-19T23:15:42Z</dcterms:modified>
  <cp:revision>155</cp:revision>
  <dc:subject/>
  <dc:title>Eraser: A Dynamic Race Detector for  Multi-Threaded Programs</dc:title>
</cp:coreProperties>
</file>