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46E-2C4F-409B-9D07-A4A60C98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379-C355-4BB8-8FCA-825BBA07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3EE-853B-46AB-91F2-48783F3C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E45-9775-4335-843D-E61A02E5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7D9C-4152-43B9-B09B-F2491FD2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A6DF-7C00-44FB-A6C8-81702531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30B5-41E1-49C1-B373-2C4FE564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E7C6-83B6-4595-AE69-48133AAF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E54F-8C02-418C-BB76-F84FBA30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6DE8-B2FF-4E48-B0AF-B30909FE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3D2A-7049-4ECD-BB4D-0B2BD194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000-9B7C-4B02-9EDC-87309163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DB5B-6DB6-4037-B6DF-C919FD60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4602-B9FD-4A47-BAC7-2AFAED53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D8F0-B21F-422C-9696-8FE42BF0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DCA6-E9AF-46DD-A2BB-57454A84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8E67-E594-459E-9B1C-A0B756D7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7DA-4F19-4EA1-A162-A69F5E49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805-E6CE-451A-8B9F-3EC8EAFE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038-3C3D-433A-B815-F9C8F4B7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B61-F2E2-426C-BBF3-CDB2E81E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11E-5136-4E5D-BB24-DCD63346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996-20F3-49A3-AB31-69EEE060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539-8272-46DB-A666-E57AE553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11BD-0642-4E91-ABB5-975C6A6F4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2094-ECAC-4A50-9674-BCA144C31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6: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efficiently send messages to a group of mach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revisit all aspects of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7DA-F96D-4C20-822A-63DD62C0B8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gative 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solution: only send back to source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sequence number (2, 3, 5, 6, 7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g if no data being sent, to detect if missing last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packets if losses are infreq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CP uses acks for pacing new s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15B-F820-4D60-981A-CBE13405B6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ack Implo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ose packet near sender, overwhelm sender with nac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51280" y="587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14720" y="322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56200" y="473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30680" y="4208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103640" y="445608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86080" y="417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25600" y="45705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52640" y="435132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5440" y="461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774800" y="4420800"/>
            <a:ext cx="365040" cy="35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86400" y="355140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068720" y="4316400"/>
            <a:ext cx="4348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4738320" y="5738760"/>
            <a:ext cx="32868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067360" y="5210280"/>
            <a:ext cx="458640" cy="25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986200" y="437472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4092480" y="5079960"/>
            <a:ext cx="3398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4127400" y="5219640"/>
            <a:ext cx="3398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3044880" y="447948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3103560" y="460800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069640" y="404496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211480" y="398448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292480" y="391464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409480" y="385452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139920" y="3645000"/>
            <a:ext cx="974880" cy="43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152000" y="404496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293480" y="3984480"/>
            <a:ext cx="5526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374840" y="391464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491840" y="385452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585440" y="3794040"/>
            <a:ext cx="5526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23720" y="3934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E68-6E5E-44F2-A565-D2E1EE10CC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p by Hop Retransmis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keeps copy of 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nds if negative ack or time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51280" y="587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14720" y="322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56200" y="473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30680" y="4208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03640" y="445608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86080" y="417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5600" y="45705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2640" y="435132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5440" y="461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63520" y="405612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70200" y="4444920"/>
            <a:ext cx="3632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081160" y="3985920"/>
            <a:ext cx="58752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009960" y="3457080"/>
            <a:ext cx="105876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27720" y="3268800"/>
            <a:ext cx="93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68360" y="429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74840" y="4176720"/>
            <a:ext cx="69372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1200" y="400644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86080" y="4892760"/>
            <a:ext cx="600120" cy="363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21280" y="5586480"/>
            <a:ext cx="341280" cy="245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925880" y="5008320"/>
            <a:ext cx="495360" cy="2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103640" y="4395600"/>
            <a:ext cx="495360" cy="2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736-331D-4F01-93EB-58D37CA609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alable Reliable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ulticast services to recover from packet los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issing packet, multicast N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get the pa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to suppress N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s with packet will multicast r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else missing the pa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to suppress 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s packets are signed b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F48-01ED-4D45-A601-B370FA9BBE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RM Scalabilit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04520" y="194616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ryone multicasts N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K implosion everyw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ryone multicasts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mplosion everyw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inimize simultaneous NACKs and re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CD2-2B4D-4BCB-8397-27E6CDE373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RM Scala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6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andom delay before sending NACK/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likely for more than one to sen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 delay to reduc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K delay based on distance to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y delay based on distance to N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est. using periodic session m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matter which host NACKs, re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D3F-7894-49D9-B4CE-C1751EB706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RM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3 detects loss, multicasts N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 sees NACK, multicasts re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60920" y="587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24360" y="3227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65480" y="473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30680" y="4208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103640" y="445608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95720" y="41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25600" y="45705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74720" y="4615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63520" y="405612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444760" y="4255920"/>
            <a:ext cx="2239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081160" y="3985920"/>
            <a:ext cx="58752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009960" y="3457080"/>
            <a:ext cx="105876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27720" y="3268800"/>
            <a:ext cx="93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68360" y="429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550960" y="4316400"/>
            <a:ext cx="18900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09C-9877-4B17-895F-73E35ABD9C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RM Timer Adapt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system to be robust to topologies, group sizes,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average delays to minimize redundant NACKs, re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ous to RTT estimation in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oo many NACKs, increase average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ACK once, reduce delay so NACK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741-C26D-4238-AF90-9B62BA589F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multiple drop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TTL expanding ring search for local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55840" y="4032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84280" y="405756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36840" y="4065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72160" y="33148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474804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11800" y="5370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81560" y="48862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92920" y="5899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44640" y="42321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73440" y="421956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87960" y="32781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6160" y="36100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79920" y="433872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95920" y="503244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654520" y="513864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619600" y="5680080"/>
            <a:ext cx="376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49800" y="344484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32400" y="594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95840" y="329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37320" y="4800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73800" y="355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11800" y="42782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784760" y="452592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67200" y="424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06720" y="4640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82840" y="5788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844640" y="41259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125880" y="4325760"/>
            <a:ext cx="2239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762280" y="4055760"/>
            <a:ext cx="58752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91080" y="3526920"/>
            <a:ext cx="105876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08480" y="333864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232080" y="4386240"/>
            <a:ext cx="18900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76800" y="3887640"/>
            <a:ext cx="37656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47920" y="54151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2920" y="5345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76520" y="5752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38600" y="383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610000" y="4975200"/>
            <a:ext cx="48240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27480" y="4975200"/>
            <a:ext cx="21096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14880" y="3586320"/>
            <a:ext cx="987480" cy="4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527200" y="4903920"/>
            <a:ext cx="471600" cy="42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62360" y="4316400"/>
            <a:ext cx="706320" cy="41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797360" y="4421160"/>
            <a:ext cx="5047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68840" y="360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76360" y="4967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897440" y="501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B6F-B256-46ED-B413-648AEED610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RM Evalu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as we increase # of h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diversity of link bandwid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as load incre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y with corrupted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al of service =&gt; NACK ever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123-BEB4-469D-B245-71EF0C33DD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Address Alloc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st IP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d statically to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d hierarchically by hosts’ 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 IP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d per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cross admin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7B8-1BF5-489E-B2F8-A733ACEE6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pplication Level Fram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application to control how data is packetized 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PC, object on packet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trast, TCP/IP transmits byte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A53-A484-4B04-949C-2043E82676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Packet Ord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order unicast packets =&gt; seq #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order multicast packets from a single source =&gt; seq #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multiple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can arrive in different order at different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bad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what can we do to fix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A19-A2D4-4C49-92BB-B936A3497B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Ordering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449840" y="233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46360" y="5083200"/>
            <a:ext cx="78768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3962520" y="472752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569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37000" y="572616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714840" y="524340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63640" y="319284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57240" y="3598920"/>
            <a:ext cx="987480" cy="3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65880" y="528516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6667560" y="5186520"/>
            <a:ext cx="622080" cy="45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691080" y="5307480"/>
            <a:ext cx="13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by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492360" y="4738680"/>
            <a:ext cx="493920" cy="89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49680" y="2121480"/>
            <a:ext cx="13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xc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4279680" y="2257200"/>
            <a:ext cx="106200" cy="69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479840" y="2280960"/>
            <a:ext cx="528840" cy="6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822320" y="4070520"/>
            <a:ext cx="1105200" cy="9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03320" y="418824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513400" y="589644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yz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39920" y="40672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98560" y="4243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93560" y="405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654960" y="58341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84800" y="6063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31160" y="611352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48240" y="5397480"/>
            <a:ext cx="622440" cy="75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6008760" y="2857680"/>
            <a:ext cx="1611360" cy="86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59480" y="29800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aybz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7FE-9BC6-419F-90B0-0E48820A33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: Email Group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77680" y="185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27360" y="189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38240" y="18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4440" y="1896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915840" y="2550960"/>
            <a:ext cx="2013120" cy="30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70080" y="2541600"/>
            <a:ext cx="268128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75040" y="2191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et for lun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92280" y="31125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Need to h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design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33720" y="2563920"/>
            <a:ext cx="4749840" cy="2904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20600" y="30488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Meet at no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1022400" y="3375000"/>
            <a:ext cx="4362480" cy="6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3320" y="41299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Noon for wha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855520" y="3409920"/>
            <a:ext cx="2716200" cy="1563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641920" y="3468600"/>
            <a:ext cx="2222640" cy="1033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349600" y="3881520"/>
            <a:ext cx="253980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987640" y="3787920"/>
            <a:ext cx="4867200" cy="2703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75520" y="4636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Confirm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069920" y="3692520"/>
            <a:ext cx="6842160" cy="8571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76640" y="5036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firm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4400" y="4645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Oh, o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-23040" y="5496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Anytime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than no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DB2-7F50-4D91-93FD-E008340223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: Deterministic Replica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e server for higher throughput, fault tol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from any rep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o all rep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keep replicas consist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ll replicas exactly same sequence of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eplica behaves deterministically, reaches same state as all other rep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52E-3979-42F1-864D-11A2B6914A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Total Ord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ckets are delivered in same order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eq # for all packets to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ource sends packets to arb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er assigns sequence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rbiter fails, elect new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s don’t process packets out of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031-825A-451D-A22F-223728F5CC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Causal Ord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ordering inefficient for sub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causal 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are never delivered before packets that could have “caused”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must have gotten all the packets source h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that originate concurrently can be delivered in any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339-0685-4057-B0CB-09D291669C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mplementing Causal Ord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carry per-host sequence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 on each 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ost maintains a “version vec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seq #’s seen (in order) from each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version vector in each outgoing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ceiver, delay packet until host vector &gt; packet vector, for all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334-36AF-482B-A1B8-9E3AFA6FB0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ausal Ordering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77680" y="185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27360" y="189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38240" y="18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24440" y="1896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915840" y="2550960"/>
            <a:ext cx="2013120" cy="30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70080" y="2541600"/>
            <a:ext cx="268128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75040" y="2191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et for lun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992280" y="31125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Need to h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design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33720" y="2563920"/>
            <a:ext cx="4749840" cy="2904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20600" y="30488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Meet at no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1022400" y="3375000"/>
            <a:ext cx="4362480" cy="6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20120" y="41299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Defer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855520" y="3409920"/>
            <a:ext cx="2716200" cy="1563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641920" y="3468600"/>
            <a:ext cx="2222640" cy="1033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349600" y="3881520"/>
            <a:ext cx="253980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987640" y="3787920"/>
            <a:ext cx="4867200" cy="2703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38360" y="46364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Defer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1069920" y="3692520"/>
            <a:ext cx="6842160" cy="8571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76640" y="5036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firm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54120" y="468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11 a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-23040" y="5496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Anytime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than 11a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4600" y="1630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0,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28960" y="16542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67880" y="164124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0,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01640" y="17125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0,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35280" y="1652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0,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32960" y="261756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1,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894080" y="3722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0,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47560" y="3520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1,1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761520" y="56001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How about no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598320" y="4419720"/>
            <a:ext cx="176400" cy="19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7686720" y="4951440"/>
            <a:ext cx="200160" cy="1293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EAC-FF61-4A56-B229-F8DF86C327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Congestion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receivers have very different bandwid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t ma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t m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t av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995640" y="389556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48200" y="39038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83160" y="3152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54840" y="4586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3160" y="5208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792920" y="4724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4280" y="5737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84800" y="405756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99320" y="31161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267160" y="3448080"/>
            <a:ext cx="117648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91280" y="41767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07280" y="487044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7265880" y="497664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30960" y="55180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61160" y="328284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43760" y="578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107200" y="313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248680" y="463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014720" y="339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21160" y="416412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232240" y="4281480"/>
            <a:ext cx="68292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72360" y="4986360"/>
            <a:ext cx="50616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5338800" y="33746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796080" y="3152880"/>
            <a:ext cx="89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7196040" y="4892400"/>
            <a:ext cx="56376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37360" y="56340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3480" y="4377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14520" y="3142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76560" y="27313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38680" y="4129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13720" y="4552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97800" y="5879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6K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1520" y="40194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372360" y="4305240"/>
            <a:ext cx="5299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6489720" y="4422600"/>
            <a:ext cx="47160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283160" y="393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B12-D824-4DA9-8C2F-42BEEA4DCA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dress Allocation Solu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ser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ddresses for inter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es for glob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allo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to group to ask if address i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onflict resolution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D40-1806-41BD-BDAD-9AA656CD4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yered Multimedi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signal at multiple gran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Kb/s - voi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Mb/s - choppy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Mb/s - high quality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s can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(redund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(progressive refin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A1E-FB8F-4169-B8BE-0A12EB32AB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91600" y="240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rop Policies for 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for low bandwidth layers are kept, drop queued packets for higher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router support (hard to deploy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upstream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(e.g., drop tail, 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arriving at congested router are dropped regardless of thei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FF4-3425-4D7A-BC92-9AB8917FCD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eiver-Driven 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ayer a separat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ubscribes to max group that will get through with minimal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ally adapt to availabl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cket losses as congestion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no special rout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dropped independently of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C4C-D6C2-4268-8C6C-43CFE41D37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receiver know which layers to add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decides based on observed 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’t add layer if no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dynamically adapts to availabl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cket drops as congestion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rops =&gt; try subscribing to high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=&gt; unsubscribe to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B69-D931-49EF-BAB2-45A7BB0122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Join Experimen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s periodically try subscribing to higher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nough capacity, no congestion, no drops =&gt; keep layer (&amp; try next lay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 enough capacity, congestion, drops  =&gt; drop layer (&amp; increase time to next r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impact on other receiv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936-3D0A-4E90-82B0-1C43964E05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Join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4720" y="31431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27280" y="31510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162240" y="2400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33560" y="383364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01880" y="44560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39718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83000" y="49849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63520" y="33051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78400" y="23637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046240" y="2695680"/>
            <a:ext cx="117648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70000" y="3424320"/>
            <a:ext cx="78768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86000" y="411804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044960" y="422424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10040" y="47656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40240" y="2530440"/>
            <a:ext cx="9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32120" y="5029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95560" y="238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37040" y="3886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93440" y="2640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00240" y="3411360"/>
            <a:ext cx="49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11320" y="35290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51080" y="42339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117880" y="2622600"/>
            <a:ext cx="101124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75160" y="2400480"/>
            <a:ext cx="89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3975120" y="4140000"/>
            <a:ext cx="56340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16440" y="48816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2200" y="3625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93600" y="2390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455640" y="1978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17760" y="3377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92440" y="3799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76520" y="5126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6K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30600" y="32670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151080" y="3552840"/>
            <a:ext cx="53028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268800" y="3670200"/>
            <a:ext cx="47124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971520" y="3180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94640" y="557244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 joins layer 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ils at lay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36120" y="35431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,R3 join layer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in layer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ils at lay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01440" y="175572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 joins layer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ins layer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ins lay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A4A-75A5-4927-B45B-73066E1A86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Scalabilit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ith more recei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frequency of experi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ikely to conflict (false sign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spends more time cong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# of experiments per h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longer to conv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629-8B67-46AE-8CBE-318D542443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Receiver Coordin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advertises intent to add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conflicting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xperiment fails, will see increased drops =&gt; don’t try adding layer! (shared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to try adding lower layer during higher layer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’t cause drops at higher lay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EB1-F6A4-4D42-88BE-1729AD454D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Interac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multicast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unicast TCP traff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air queu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riority for lower lay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EA2-CDBD-4FAD-858A-FF7DB257A9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600" y="240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rop Policies for 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for low bandwidth layers are kept, drop queued packets for higher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arriving at congested router are dropped regardless of thei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on vs. rea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3D9-A5D0-4E56-AA3B-BAA649F5727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ope Control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 with reverse path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prunes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 control over liste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listen to multicast convers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oping more difficult in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sub-group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 a leader/suppress duplicat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nearest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9F9-5EC2-4833-907E-08AED24E2D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Intui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offers better incentives to well-behav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versend, performance rapidly de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offers clearer congestion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shar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LM approaches optimal opera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 is already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E2A-C08A-401A-91FC-B3E7B4DCAA9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Intui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1434960" y="1974960"/>
          <a:ext cx="61851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974960"/>
                    <a:ext cx="61851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E60-14A6-478D-99D1-473C1910D45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ajaj et al. Intui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 offers much bette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with bursty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LM will perform badly with bursty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ble to adapt to congestion trans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offers better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ocially optimal != individually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A9C-7388-4CF5-BE7D-231386F017B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ajaj et al. Intui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434960" y="1974960"/>
          <a:ext cx="61851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974960"/>
                    <a:ext cx="61851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F5C-B27D-4F42-9ABB-E7D94560002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del Detai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lternatives using total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of low layers &gt; utility of high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of layer even if some d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f drops on other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tail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imulation and analytic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07A-D208-41DA-92EE-E69597B958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del Resul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traffic: RLM is close to opt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sty traffic: RLM &lt; uniform &lt;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by 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LM worse if low layers not valu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ntive to oversubscribe with both uniform and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 disincentive to send/receive =&gt; individual = socially opt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7C7-1E74-4E22-82B3-79029431533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Summa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 needed for efficiency, group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visit all aspects of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B5D-C284-4096-91E2-5EDAF5C6A83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219400" y="3611160"/>
            <a:ext cx="5067000" cy="3594240"/>
            <a:chOff x="2219400" y="3611160"/>
            <a:chExt cx="5067000" cy="3594240"/>
          </a:xfrm>
        </p:grpSpPr>
        <p:sp>
          <p:nvSpPr>
            <p:cNvPr id="96" name=""/>
            <p:cNvSpPr/>
            <p:nvPr/>
          </p:nvSpPr>
          <p:spPr>
            <a:xfrm>
              <a:off x="3097800" y="3611160"/>
              <a:ext cx="4188600" cy="2963880"/>
            </a:xfrm>
            <a:prstGeom prst="cloudCallout">
              <a:avLst>
                <a:gd name="adj1" fmla="val -63611"/>
                <a:gd name="adj2" fmla="val 687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19400" y="5765040"/>
              <a:ext cx="1689480" cy="14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ope Control Mechanism #1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 TT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uses TTL = max local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order router, forward pkts out iff &gt; TTL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9280" y="464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2080" y="4573440"/>
            <a:ext cx="2655720" cy="2016360"/>
            <a:chOff x="532080" y="4573440"/>
            <a:chExt cx="2655720" cy="2016360"/>
          </a:xfrm>
        </p:grpSpPr>
        <p:sp>
          <p:nvSpPr>
            <p:cNvPr id="102" name=""/>
            <p:cNvSpPr/>
            <p:nvPr/>
          </p:nvSpPr>
          <p:spPr>
            <a:xfrm>
              <a:off x="1211040" y="54738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99280" y="51750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64640" y="57456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2080" y="599328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79920" y="553500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5640" y="540864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341720" y="5292360"/>
              <a:ext cx="482040" cy="2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51440" y="5582520"/>
              <a:ext cx="32256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09000" y="5858640"/>
              <a:ext cx="36180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83200" y="5901480"/>
              <a:ext cx="15408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03480" y="612288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2080" y="533592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4280" y="5459760"/>
              <a:ext cx="2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370880" y="5263200"/>
              <a:ext cx="41436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54400" y="595656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974880" y="5390280"/>
              <a:ext cx="0" cy="31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8080" y="548316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107440" y="5628960"/>
              <a:ext cx="554400" cy="49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625400" y="5024880"/>
              <a:ext cx="65088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5200" y="5408640"/>
              <a:ext cx="183240" cy="15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04200" y="6270120"/>
              <a:ext cx="18360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29680" y="4725000"/>
              <a:ext cx="18324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20360" y="4715280"/>
              <a:ext cx="18360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6720" y="519336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53720" y="5268240"/>
              <a:ext cx="35208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704680" y="6111360"/>
              <a:ext cx="236160" cy="2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43480" y="6116400"/>
              <a:ext cx="15408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6160" y="6210000"/>
              <a:ext cx="15408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881360" y="502992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697760" y="487476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117160" y="487476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21720" y="5521680"/>
              <a:ext cx="110520" cy="2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421720" y="5310720"/>
              <a:ext cx="25056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797200" y="5170320"/>
              <a:ext cx="1494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21080" y="45781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25720" y="457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1880" y="5231160"/>
              <a:ext cx="294120" cy="14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924920" y="503424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736280" y="487476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165760" y="489312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9920" y="616248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26360" y="625608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450160" y="5283000"/>
              <a:ext cx="16848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88920" y="5488200"/>
              <a:ext cx="2170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946240" y="5104080"/>
              <a:ext cx="1494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831760" y="5188680"/>
              <a:ext cx="11052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8560" y="519552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58720" y="5554080"/>
              <a:ext cx="1252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74560" y="6023520"/>
              <a:ext cx="322920" cy="10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644840" y="5882040"/>
              <a:ext cx="6732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9880" y="613224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0600" y="6279480"/>
              <a:ext cx="18324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543320" y="6087240"/>
              <a:ext cx="6732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596600" y="5862960"/>
              <a:ext cx="5796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495440" y="6074280"/>
              <a:ext cx="727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8160" y="5638680"/>
              <a:ext cx="30816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018080" y="40726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TL thresh =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40160" y="4362480"/>
            <a:ext cx="458640" cy="71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787-53A6-4452-A80E-CB596F475F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2219400" y="3611160"/>
            <a:ext cx="5067000" cy="3594240"/>
            <a:chOff x="2219400" y="3611160"/>
            <a:chExt cx="5067000" cy="3594240"/>
          </a:xfrm>
        </p:grpSpPr>
        <p:sp>
          <p:nvSpPr>
            <p:cNvPr id="161" name=""/>
            <p:cNvSpPr/>
            <p:nvPr/>
          </p:nvSpPr>
          <p:spPr>
            <a:xfrm>
              <a:off x="3097800" y="3611160"/>
              <a:ext cx="4188600" cy="2963880"/>
            </a:xfrm>
            <a:prstGeom prst="cloudCallout">
              <a:avLst>
                <a:gd name="adj1" fmla="val -63611"/>
                <a:gd name="adj2" fmla="val 687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9400" y="5765040"/>
              <a:ext cx="1689480" cy="14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ope Control Mechanism #2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block of “local”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order router, forward only glob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9280" y="464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2080" y="4573440"/>
            <a:ext cx="2655720" cy="2016360"/>
            <a:chOff x="532080" y="4573440"/>
            <a:chExt cx="2655720" cy="2016360"/>
          </a:xfrm>
        </p:grpSpPr>
        <p:sp>
          <p:nvSpPr>
            <p:cNvPr id="167" name=""/>
            <p:cNvSpPr/>
            <p:nvPr/>
          </p:nvSpPr>
          <p:spPr>
            <a:xfrm>
              <a:off x="1211040" y="54738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9280" y="51750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64640" y="57456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2080" y="599328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9920" y="553500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5640" y="540864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341720" y="5292360"/>
              <a:ext cx="482040" cy="2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51440" y="5582520"/>
              <a:ext cx="32256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9000" y="5858640"/>
              <a:ext cx="36180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83200" y="5901480"/>
              <a:ext cx="15408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03480" y="612288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2080" y="533592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4280" y="5459760"/>
              <a:ext cx="2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370880" y="5263200"/>
              <a:ext cx="41436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54400" y="595656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974880" y="5390280"/>
              <a:ext cx="0" cy="31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8080" y="548316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107440" y="5628960"/>
              <a:ext cx="554400" cy="49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625400" y="5024880"/>
              <a:ext cx="65088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200" y="5408640"/>
              <a:ext cx="183240" cy="15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04200" y="6270120"/>
              <a:ext cx="18360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29680" y="4725000"/>
              <a:ext cx="18324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20360" y="4715280"/>
              <a:ext cx="18360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46720" y="519336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53720" y="5268240"/>
              <a:ext cx="35208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704680" y="6111360"/>
              <a:ext cx="236160" cy="2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43480" y="6116400"/>
              <a:ext cx="15408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46160" y="6210000"/>
              <a:ext cx="15408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881360" y="502992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697760" y="487476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117160" y="487476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21720" y="5521680"/>
              <a:ext cx="110520" cy="2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421720" y="5310720"/>
              <a:ext cx="25056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797200" y="5170320"/>
              <a:ext cx="1494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21080" y="45781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25720" y="457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91880" y="5231160"/>
              <a:ext cx="294120" cy="14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924920" y="503424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736280" y="487476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165760" y="489312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9920" y="616248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26360" y="625608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450160" y="5283000"/>
              <a:ext cx="16848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88920" y="5488200"/>
              <a:ext cx="2170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946240" y="5104080"/>
              <a:ext cx="1494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831760" y="5188680"/>
              <a:ext cx="11052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98560" y="519552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58720" y="5554080"/>
              <a:ext cx="1252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74560" y="6023520"/>
              <a:ext cx="322920" cy="10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644840" y="5882040"/>
              <a:ext cx="6732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69880" y="613224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70600" y="6279480"/>
              <a:ext cx="18324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543320" y="6087240"/>
              <a:ext cx="6732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596600" y="5862960"/>
              <a:ext cx="5796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495440" y="6074280"/>
              <a:ext cx="727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8160" y="5638680"/>
              <a:ext cx="30816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19880" y="377280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’t forward 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ffff0000-0xffff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0160" y="4362480"/>
            <a:ext cx="458640" cy="71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CC0-B1A6-45E6-9966-E12580482C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panding Ring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“nearest” receiver by sending to more and more of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06400" y="3052800"/>
            <a:ext cx="7542360" cy="3630960"/>
            <a:chOff x="806400" y="3052800"/>
            <a:chExt cx="7542360" cy="3630960"/>
          </a:xfrm>
        </p:grpSpPr>
        <p:sp>
          <p:nvSpPr>
            <p:cNvPr id="228" name=""/>
            <p:cNvSpPr/>
            <p:nvPr/>
          </p:nvSpPr>
          <p:spPr>
            <a:xfrm>
              <a:off x="2962440" y="4527720"/>
              <a:ext cx="35388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95880" y="3998880"/>
              <a:ext cx="35352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90600" y="5008680"/>
              <a:ext cx="35352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10480" y="5447160"/>
              <a:ext cx="35388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9000" y="4636080"/>
              <a:ext cx="518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97480" y="4412520"/>
              <a:ext cx="35352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59080" y="4206600"/>
              <a:ext cx="1105920" cy="32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1040" y="4720320"/>
              <a:ext cx="74016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17840" y="5208840"/>
              <a:ext cx="82872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18520" y="5284800"/>
              <a:ext cx="35388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3120" y="5837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69960" y="4308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427120" y="4380120"/>
              <a:ext cx="1080" cy="50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13760" y="4544640"/>
              <a:ext cx="5187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993560" y="4802760"/>
              <a:ext cx="1271160" cy="79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901680" y="3733920"/>
              <a:ext cx="1492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99400" y="4412520"/>
              <a:ext cx="420120" cy="24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25400" y="593712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17880" y="320256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90160" y="318564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42360" y="3759480"/>
              <a:ext cx="486360" cy="41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15760" y="4031280"/>
              <a:ext cx="35388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5440" y="4164120"/>
              <a:ext cx="80640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347160" y="5656320"/>
              <a:ext cx="54108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08560" y="5664960"/>
              <a:ext cx="35388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67200" y="5830920"/>
              <a:ext cx="3535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481280" y="3742200"/>
              <a:ext cx="14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65840" y="3468240"/>
              <a:ext cx="108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015520" y="3468240"/>
              <a:ext cx="108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05640" y="4613040"/>
              <a:ext cx="25380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705640" y="4239000"/>
              <a:ext cx="57384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556680" y="3990600"/>
              <a:ext cx="343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18960" y="3100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38760" y="3092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74800" y="3482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44920" y="358380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894360" y="3873240"/>
              <a:ext cx="343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59680" y="5500800"/>
              <a:ext cx="740160" cy="17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946320" y="5250240"/>
              <a:ext cx="15480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80920" y="585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51040" y="595368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716280" y="5613480"/>
              <a:ext cx="15480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1800" y="5108040"/>
              <a:ext cx="2530440" cy="1266840"/>
            </a:xfrm>
            <a:custGeom>
              <a:avLst/>
              <a:gdLst/>
              <a:ahLst/>
              <a:rect l="l" t="t" r="r" b="b"/>
              <a:pathLst>
                <a:path w="1696" h="1246">
                  <a:moveTo>
                    <a:pt x="163" y="1246"/>
                  </a:moveTo>
                  <a:cubicBezTo>
                    <a:pt x="132" y="1224"/>
                    <a:pt x="101" y="1203"/>
                    <a:pt x="81" y="1112"/>
                  </a:cubicBezTo>
                  <a:cubicBezTo>
                    <a:pt x="61" y="1021"/>
                    <a:pt x="0" y="849"/>
                    <a:pt x="44" y="697"/>
                  </a:cubicBezTo>
                  <a:cubicBezTo>
                    <a:pt x="88" y="545"/>
                    <a:pt x="109" y="312"/>
                    <a:pt x="348" y="201"/>
                  </a:cubicBezTo>
                  <a:cubicBezTo>
                    <a:pt x="587" y="90"/>
                    <a:pt x="1266" y="62"/>
                    <a:pt x="1481" y="31"/>
                  </a:cubicBezTo>
                  <a:cubicBezTo>
                    <a:pt x="1696" y="0"/>
                    <a:pt x="1666" y="8"/>
                    <a:pt x="1637" y="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66680" y="4109400"/>
              <a:ext cx="5025960" cy="2143800"/>
            </a:xfrm>
            <a:custGeom>
              <a:avLst/>
              <a:gdLst/>
              <a:ahLst/>
              <a:rect l="l" t="t" r="r" b="b"/>
              <a:pathLst>
                <a:path w="3369" h="2109">
                  <a:moveTo>
                    <a:pt x="88" y="2109"/>
                  </a:moveTo>
                  <a:cubicBezTo>
                    <a:pt x="44" y="2009"/>
                    <a:pt x="0" y="1909"/>
                    <a:pt x="6" y="1761"/>
                  </a:cubicBezTo>
                  <a:cubicBezTo>
                    <a:pt x="12" y="1613"/>
                    <a:pt x="11" y="1411"/>
                    <a:pt x="125" y="1220"/>
                  </a:cubicBezTo>
                  <a:cubicBezTo>
                    <a:pt x="239" y="1029"/>
                    <a:pt x="420" y="814"/>
                    <a:pt x="688" y="613"/>
                  </a:cubicBezTo>
                  <a:cubicBezTo>
                    <a:pt x="956" y="412"/>
                    <a:pt x="1415" y="24"/>
                    <a:pt x="1732" y="12"/>
                  </a:cubicBezTo>
                  <a:cubicBezTo>
                    <a:pt x="2049" y="0"/>
                    <a:pt x="2318" y="434"/>
                    <a:pt x="2591" y="538"/>
                  </a:cubicBezTo>
                  <a:cubicBezTo>
                    <a:pt x="2864" y="642"/>
                    <a:pt x="3239" y="619"/>
                    <a:pt x="3369" y="63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6400" y="3052800"/>
              <a:ext cx="7542360" cy="3058560"/>
            </a:xfrm>
            <a:custGeom>
              <a:avLst/>
              <a:gdLst/>
              <a:ahLst/>
              <a:rect l="l" t="t" r="r" b="b"/>
              <a:pathLst>
                <a:path w="5055" h="3009">
                  <a:moveTo>
                    <a:pt x="270" y="3009"/>
                  </a:moveTo>
                  <a:cubicBezTo>
                    <a:pt x="186" y="2885"/>
                    <a:pt x="102" y="2762"/>
                    <a:pt x="77" y="2476"/>
                  </a:cubicBezTo>
                  <a:cubicBezTo>
                    <a:pt x="52" y="2190"/>
                    <a:pt x="0" y="1632"/>
                    <a:pt x="122" y="1291"/>
                  </a:cubicBezTo>
                  <a:cubicBezTo>
                    <a:pt x="244" y="950"/>
                    <a:pt x="509" y="638"/>
                    <a:pt x="811" y="432"/>
                  </a:cubicBezTo>
                  <a:cubicBezTo>
                    <a:pt x="1113" y="226"/>
                    <a:pt x="1462" y="108"/>
                    <a:pt x="1937" y="54"/>
                  </a:cubicBezTo>
                  <a:cubicBezTo>
                    <a:pt x="2412" y="0"/>
                    <a:pt x="3142" y="17"/>
                    <a:pt x="3662" y="106"/>
                  </a:cubicBezTo>
                  <a:cubicBezTo>
                    <a:pt x="4182" y="195"/>
                    <a:pt x="4823" y="507"/>
                    <a:pt x="5055" y="5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95680" y="6181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TTL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7200" y="6166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TTL=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14120" y="5758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TTL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41560" y="4230000"/>
              <a:ext cx="4028760" cy="2131560"/>
            </a:xfrm>
            <a:custGeom>
              <a:avLst/>
              <a:gdLst/>
              <a:ahLst/>
              <a:rect l="l" t="t" r="r" b="b"/>
              <a:pathLst>
                <a:path w="2700" h="2097">
                  <a:moveTo>
                    <a:pt x="530" y="2097"/>
                  </a:moveTo>
                  <a:cubicBezTo>
                    <a:pt x="504" y="1951"/>
                    <a:pt x="478" y="1806"/>
                    <a:pt x="456" y="1653"/>
                  </a:cubicBezTo>
                  <a:cubicBezTo>
                    <a:pt x="434" y="1500"/>
                    <a:pt x="472" y="1306"/>
                    <a:pt x="397" y="1179"/>
                  </a:cubicBezTo>
                  <a:cubicBezTo>
                    <a:pt x="322" y="1052"/>
                    <a:pt x="0" y="1020"/>
                    <a:pt x="4" y="890"/>
                  </a:cubicBezTo>
                  <a:cubicBezTo>
                    <a:pt x="8" y="760"/>
                    <a:pt x="238" y="543"/>
                    <a:pt x="419" y="401"/>
                  </a:cubicBezTo>
                  <a:cubicBezTo>
                    <a:pt x="600" y="259"/>
                    <a:pt x="842" y="0"/>
                    <a:pt x="1093" y="38"/>
                  </a:cubicBezTo>
                  <a:cubicBezTo>
                    <a:pt x="1344" y="76"/>
                    <a:pt x="1655" y="526"/>
                    <a:pt x="1923" y="630"/>
                  </a:cubicBezTo>
                  <a:cubicBezTo>
                    <a:pt x="2191" y="734"/>
                    <a:pt x="2571" y="655"/>
                    <a:pt x="2700" y="6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91720" y="62240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TTL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02120" y="4667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72240" y="476928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02720" y="5026680"/>
              <a:ext cx="30528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08440" y="6117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78560" y="621864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69560" y="5945760"/>
              <a:ext cx="174960" cy="27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14F-82F1-4E98-8DAC-DC3E46A6B9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liable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ke sure each receiver gets a copy of each mess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51280" y="587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14720" y="322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56200" y="473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0680" y="4208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03640" y="445608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6080" y="417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25600" y="45705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52640" y="435132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5440" y="461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1F2-C7E0-452E-A623-36C7326748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k Implo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ach receiver acks each packet, sender gets overwhelm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51280" y="587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14720" y="322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6200" y="473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30680" y="4208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103640" y="445608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86080" y="417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25600" y="45705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52640" y="435132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5440" y="461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1774800" y="4420800"/>
            <a:ext cx="365040" cy="35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586400" y="355140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068720" y="4316400"/>
            <a:ext cx="4348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4738320" y="5738760"/>
            <a:ext cx="32868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067360" y="5210280"/>
            <a:ext cx="458640" cy="25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2986200" y="437472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4092480" y="5079960"/>
            <a:ext cx="3398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4127400" y="5219640"/>
            <a:ext cx="3398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044880" y="447948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3103560" y="460800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069640" y="404496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211480" y="398448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292480" y="391464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09480" y="385452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139920" y="3645000"/>
            <a:ext cx="974880" cy="43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152000" y="404496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293480" y="3984480"/>
            <a:ext cx="5526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374840" y="391464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491840" y="385452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585440" y="3794040"/>
            <a:ext cx="5526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01C-125D-41E3-B06C-EA05AFC387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5-12T22:12:19Z</dcterms:modified>
  <cp:revision>149</cp:revision>
  <dc:subject/>
  <dc:title>Eraser: A Dynamic Race Detector for  Multi-Threaded Programs</dc:title>
</cp:coreProperties>
</file>