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C0A-617A-41EE-9F11-0482675B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B2C-86C6-40D0-BF7B-7C01351A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75E-6BD7-457A-A31B-41E73A33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163-D5C4-4046-80AD-26B4BB89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E71D-DDB7-4E37-B366-EFDFFEDC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8449-706F-49F9-8D2D-DE81065C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A56A-CC26-4E09-8F50-0869ED6B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D17-C43F-47B3-8077-4E80337A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D6C7-5E77-4CA4-B820-11984123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1258-A552-4ED9-BCAF-00CED66A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288E-6284-4FAE-97D9-1AE3C7AA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32E-BDF7-4407-8F5E-B196AB7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3A3-681A-4192-9615-E2BD6C0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55A-EFE3-4E71-A207-4C1217D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2735-5418-4371-A53B-233CCB3E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A35-10D4-47F4-8492-C77A4228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5FF1-4353-40EF-B9A6-1CE8A357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405-E46D-4846-8172-024F93B6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473-D22C-4C5D-9B34-A9DBFC99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20A-4F37-4AB9-A752-764122A5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C9B-39D1-4BB4-AB11-96EE1709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FFB-4CBD-4BB9-ACDA-F4D4390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07CC-0907-4E51-8DCD-4BCC83B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27D-7D03-4CDF-A0A0-D529712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BA5-87DD-4DBF-8D3B-910C4AF6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C105-CA6D-4160-9873-AAC6E99F5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6: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end messages to a group of mach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visit all aspects of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F79-7C8D-4BFB-BBEB-751001AA7E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gative 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olution: only send back to source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sequence number (2, 3, 5, 6, 7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 if no data being sent, to detect if missing last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packets if losses are infreq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CP uses acks for pacing new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25C-772B-4C91-8778-9EA4CCDEB4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ack Implo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se packet near sender, overwhelm sender with nac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774800" y="4420800"/>
            <a:ext cx="36504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86400" y="355140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068720" y="4316400"/>
            <a:ext cx="4348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738320" y="5738760"/>
            <a:ext cx="32868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067360" y="5210280"/>
            <a:ext cx="45864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986200" y="437472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4092480" y="507996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127400" y="521964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3044880" y="447948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3103560" y="460800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6964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211480" y="398448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29248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40948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139920" y="3645000"/>
            <a:ext cx="974880" cy="43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15200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293480" y="398448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37484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49184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585440" y="379404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23720" y="393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072-B606-482E-949F-61C93DFAFD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Re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keeps copy of 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nds if negative ack or tim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63520" y="40561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70200" y="4444920"/>
            <a:ext cx="3632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081160" y="3985920"/>
            <a:ext cx="5875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009960" y="3457080"/>
            <a:ext cx="105876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27720" y="326880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68360" y="429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74840" y="4176720"/>
            <a:ext cx="69372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200" y="400644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86080" y="4892760"/>
            <a:ext cx="60012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21280" y="5586480"/>
            <a:ext cx="341280" cy="245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925880" y="5008320"/>
            <a:ext cx="495360" cy="2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103640" y="4395600"/>
            <a:ext cx="495360" cy="26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5D6-5BC4-4CAC-ADCD-84F527BDD8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alable Reliable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ulticast services to recover from packet los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ssing packet, multicast N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get the pa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to suppress N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s with packet will multicast r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else missing the pa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to suppress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packets are signed b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01A-CB29-4CEF-B2A9-119B5D738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Scalabilit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04520" y="194616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one multicasts N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K implosion everyw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one multicasts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mplosion everyw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inimize simultaneous NACKs and re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CE8-18B6-4A9E-84A6-4B1D561E4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Scal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6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andom delay before sending NACK/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likely for more than one to sen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delay to reduc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K delay based on distance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y delay based on distance to N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est. using periodic session m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matter which host NACKs, re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8BF-EC3E-4480-B835-37D2A55A2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3 detects loss, multicasts N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 sees NACK, multicasts re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60920" y="587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24360" y="3227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65480" y="473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95720" y="41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74720" y="4615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63520" y="40561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444760" y="4255920"/>
            <a:ext cx="2239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081160" y="3985920"/>
            <a:ext cx="5875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009960" y="3457080"/>
            <a:ext cx="105876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27720" y="326880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68360" y="429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550960" y="4316400"/>
            <a:ext cx="18900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5EC-924C-4BD0-BFF4-EF338A5CF9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Timer Adap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system to be robust to topologies, group sizes,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average delays to minimize redundant NACKs, re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to RTT estimation i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o many NACKs, increase averag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ACK once, reduce delay so NA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4BB-BE9A-45F9-AE2E-8433D02D23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multiple drop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TTL expanding ring search for local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55840" y="4032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84280" y="405756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36840" y="4065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72160" y="33148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474804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11800" y="5370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81560" y="48862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92920" y="5899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844640" y="4232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421956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87960" y="3278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6160" y="36100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79920" y="433872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5920" y="50324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654520" y="513864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19600" y="5680080"/>
            <a:ext cx="376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49800" y="34448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32400" y="594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95840" y="329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37320" y="480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73800" y="355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11800" y="42782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784760" y="452592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67200" y="424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06720" y="4640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82840" y="5788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44640" y="41259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125880" y="4325760"/>
            <a:ext cx="2239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762280" y="4055760"/>
            <a:ext cx="5875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91080" y="3526920"/>
            <a:ext cx="105876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08480" y="33386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232080" y="4386240"/>
            <a:ext cx="18900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76800" y="3887640"/>
            <a:ext cx="37656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47920" y="54151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2920" y="5345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76520" y="575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38600" y="38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610000" y="4975200"/>
            <a:ext cx="48240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27480" y="4975200"/>
            <a:ext cx="21096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14880" y="3586320"/>
            <a:ext cx="98748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527200" y="4903920"/>
            <a:ext cx="471600" cy="42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62360" y="4316400"/>
            <a:ext cx="706320" cy="41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797360" y="4421160"/>
            <a:ext cx="5047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68840" y="360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360" y="4967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97440" y="501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FC5-CA5F-4E5B-A31D-2098E407C7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RM Evalu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as we increase # of h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diversity of link bandwid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as load incr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y with corrupt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al of service =&gt; NACK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02C-5FE0-4A89-B2D2-B48B57D50B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st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statically to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hierarchically by hosts’ 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d per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cross admin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739-D831-41DD-8721-4692FE01D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pplication Level Fr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application to control how data is packetized 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PC, object on packet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trast, TCP/IP transmits byte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C26-2797-40DD-992C-B0CEA9ECE2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Packet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order unicast packets =&gt; seq #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order multicast packets from a single source =&gt; seq #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multiple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can arrive in different order at different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bad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what can we do to fix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E75-0989-4F08-8F74-10F128EA05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Ordering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63640" y="319284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57240" y="3598920"/>
            <a:ext cx="987480" cy="3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65880" y="528516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6667560" y="5186520"/>
            <a:ext cx="622080" cy="45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91080" y="5307480"/>
            <a:ext cx="13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by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492360" y="4738680"/>
            <a:ext cx="493920" cy="8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9680" y="2121480"/>
            <a:ext cx="13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xc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4279680" y="2257200"/>
            <a:ext cx="106200" cy="69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479840" y="2280960"/>
            <a:ext cx="52884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822320" y="4070520"/>
            <a:ext cx="1105200" cy="9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03320" y="418824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13400" y="589644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yz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39920" y="40672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98560" y="4243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93560" y="405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54960" y="58341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84800" y="6063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31160" y="611352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48240" y="5397480"/>
            <a:ext cx="622440" cy="75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008760" y="2857680"/>
            <a:ext cx="1611360" cy="86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9480" y="29800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aybz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7AE-85BF-4CB7-92BB-28E0EDE884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Email Group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77680" y="185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27360" y="18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38240" y="18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4440" y="189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915840" y="2550960"/>
            <a:ext cx="2013120" cy="30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70080" y="2541600"/>
            <a:ext cx="268128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75040" y="2191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et for lun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92280" y="31125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Need to h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sign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33720" y="2563920"/>
            <a:ext cx="4749840" cy="290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20600" y="30488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eet at no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022400" y="3375000"/>
            <a:ext cx="4362480" cy="6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3320" y="41299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Noon for wha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855520" y="3409920"/>
            <a:ext cx="2716200" cy="1563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641920" y="3468600"/>
            <a:ext cx="2222640" cy="1033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349600" y="3881520"/>
            <a:ext cx="253980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987640" y="3787920"/>
            <a:ext cx="4867200" cy="2703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75520" y="4636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Confirm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069920" y="3692520"/>
            <a:ext cx="6842160" cy="857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76640" y="5036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rm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4400" y="4645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Oh, o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-23040" y="5496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Anytime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than no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AC3-C80C-4748-AEDE-0159EDB96F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Deterministic Replica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e server for higher throughput, fault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from any re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o all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eep replicas consist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ll replicas exactly same sequence of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eplica behaves deterministically, reaches same state as all other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D92-C317-48FC-B489-18704DC796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Total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ckets are delivered in same order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eq # for all packets to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ource sends packets to arb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er assigns sequence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rbiter fails, elect new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s don’t process packets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6E5-7FCE-4275-AF7B-47009CB1A0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Causal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ordering inefficient for sub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causal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e never delivered before packets that could have “caused”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must have gotten all the packets source h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that originate concurrently can be delivered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A2C-8E7E-49D9-985F-0124BD793A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ementing Causal Ord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arry per-host sequenc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 on each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ost maintains a “version vec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seq #’s seen (in order) from each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version vector in each outgoing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ceiver, delay packet until host vector &gt; packet vector, for all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C41-5E12-40B1-9C3E-1C3EC36C50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usal Ordering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77680" y="185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27360" y="18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38240" y="186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4440" y="189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915840" y="2550960"/>
            <a:ext cx="2013120" cy="30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70080" y="2541600"/>
            <a:ext cx="268128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75040" y="2191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et for lun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92280" y="31125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Need to h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sign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33720" y="2563920"/>
            <a:ext cx="4749840" cy="290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0600" y="30488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eet at no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022400" y="3375000"/>
            <a:ext cx="4362480" cy="6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20120" y="41299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Defer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855520" y="3409920"/>
            <a:ext cx="2716200" cy="1563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41920" y="3468600"/>
            <a:ext cx="2222640" cy="1033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349600" y="3881520"/>
            <a:ext cx="253980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987640" y="3787920"/>
            <a:ext cx="4867200" cy="2703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38360" y="46364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fer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069920" y="3692520"/>
            <a:ext cx="6842160" cy="8571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76640" y="5036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rm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4120" y="468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11 a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-23040" y="5496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Anytime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than 11a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4600" y="1630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8960" y="1654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67880" y="16412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01640" y="17125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5280" y="1652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32960" y="261756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1,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894080" y="37224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0,0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47560" y="3520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,1,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761520" y="56001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How about no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98320" y="4419720"/>
            <a:ext cx="176400" cy="19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7686720" y="4951440"/>
            <a:ext cx="200160" cy="1293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88D-706C-42ED-BF0D-9E5ED40582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Congestion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receivers have very different bandwid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t m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t m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t av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995640" y="389556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48200" y="39038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3160" y="3152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54840" y="4586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3160" y="5208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792920" y="4724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4280" y="5737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84800" y="405756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9320" y="3116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267160" y="3448080"/>
            <a:ext cx="1176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91280" y="41767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7280" y="48704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7265880" y="497664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30960" y="55180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61160" y="32828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43760" y="578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107200" y="313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48680" y="463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14720" y="339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21160" y="416412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32240" y="4281480"/>
            <a:ext cx="68292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72360" y="4986360"/>
            <a:ext cx="50616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5338800" y="33746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796080" y="315288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7196040" y="4892400"/>
            <a:ext cx="56376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37360" y="56340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3480" y="4377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14520" y="3142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76560" y="2731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4129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13720" y="4552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97800" y="5879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6K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1520" y="40194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372360" y="4305240"/>
            <a:ext cx="529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489720" y="4422600"/>
            <a:ext cx="47160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83160" y="393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015-B402-4673-9B0B-1CF04818ED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ress Allocation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er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ddresses for inter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es for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l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to group to ask if address i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nflict resolu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ADA-1743-43B8-B916-EFF0871BB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ed Multimedi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signal at multiple gran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Kb/s - voi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Mb/s - chopp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b/s - high qualit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s can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(redund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(progressive refin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F26-A948-4956-8C30-CD4BD782F7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1600" y="240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rop Policies for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for low bandwidth layers are kept, drop queued packets for high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router support (hard to deplo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upstrea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(e.g., drop tail, 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riving at congested router are dropped regardless of thei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675-CBA0-46BF-B91A-D495BC2783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eiver-Driven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a separat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ubscribes to max group that will get through with minimal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ly adapt to availabl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cket losses as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no special rout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independently of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761-C8F4-4722-94D1-0686292718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receiver know which layers to ad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ides based on observed 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’t add layer if no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dynamically adapts to availabl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cket drops as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ops =&gt; try subscribing to high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=&gt; unsubscribe to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78F-2AB4-42C5-81EA-AB9D1701F8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Join Experi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 periodically try subscribing to high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nough capacity, no congestion, no drops =&gt; keep layer (&amp; try next 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enough capacity, congestion, drops  =&gt; drop layer (&amp; increase time to next r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impact on other recei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2AF-17A8-4F74-BA87-C1AE9B5B29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Join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4720" y="3143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27280" y="31510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62240" y="2400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33560" y="383364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01880" y="44560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39718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83000" y="49849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63520" y="3305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78400" y="23637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2046240" y="2695680"/>
            <a:ext cx="117648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70000" y="3424320"/>
            <a:ext cx="78768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86000" y="41180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044960" y="422424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10040" y="47656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40240" y="253044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32120" y="5029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95560" y="238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37040" y="3886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93440" y="264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00240" y="341136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11320" y="35290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51080" y="42339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117880" y="2622600"/>
            <a:ext cx="101124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75160" y="2400480"/>
            <a:ext cx="89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975120" y="4140000"/>
            <a:ext cx="56340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16440" y="48816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2200" y="3625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93600" y="2390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55640" y="1978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17760" y="3377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92440" y="3799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76520" y="5126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6K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30600" y="3267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151080" y="3552840"/>
            <a:ext cx="5302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268800" y="3670200"/>
            <a:ext cx="47124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971520" y="3180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94640" y="557244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 joins layer 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ils at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36120" y="35431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,R3 join layer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 layer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ils at lay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01440" y="17557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joins layer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s layer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s lay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AA8-E4AC-4925-8E51-DD4D71A9E0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Scalabilit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ith more rece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requency of experi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ikely to conflict (false sign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pends more time 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# of experiments per h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longer to conv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F09-6DF1-4E50-BDDC-653832A995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Receiver Coordin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advertises intent to add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flict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periment fails, will see increased drops =&gt; don’t try adding layer! (shared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to try adding lower layer during higher layer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cause drops at higher 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481-5194-4FA5-BEC2-35B44C99FC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Interac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multicast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unicast TCP traff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air queu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iority for lower 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F77-3E56-4125-829A-B55882641A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600" y="240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rop Policies for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for low bandwidth layers are kept, drop queued packets for high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riving at congested router are dropped regardless of thei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 vs. re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D2E-BC07-4FAB-BD09-F6616421E9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 with reverse path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prunes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control over liste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listen to multicast convers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ing more difficult in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sub-group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a leader/suppress duplic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nearest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F1D-757A-49A0-BCE7-EF8248F62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offers better incentives to we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versend, performance rapidly de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offers clearer congestion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har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M approaches optimal oper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is already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9B8-2C05-4AC3-8157-EE95940D5C6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1434960" y="1974960"/>
          <a:ext cx="61851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974960"/>
                    <a:ext cx="61851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B41-B29F-4503-BC19-9D153EA1F68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jaj et al.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offers much bette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with bursty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M will perform badly with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ble to adapt to congestion trans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offers better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ocially optimal != individually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8AC-C3E2-4852-89A1-C89ADD183B7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jaj et al. Intui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434960" y="1974960"/>
          <a:ext cx="61851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974960"/>
                    <a:ext cx="61851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3EB-F919-40D3-A8D1-6ACF445F5A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el Detai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lternatives using tot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of low layers &gt; utility of high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of layer even if some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drops on other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ail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mulation and analyt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3C7-A54F-45E5-88F7-3275468322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el Resul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traffic: RLM is close to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y traffic: RLM &lt; uniform &lt;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by 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LM worse if low layers not valu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 to oversubscribe with both uniform and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disincentive to send/receive =&gt; individual = socially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5CD-7900-4F24-AC17-468BA8DF1B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Summa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 needed for efficiency, group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sit all aspects of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543-CD5E-48AB-BACF-37FB350B72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219400" y="3611160"/>
            <a:ext cx="5067000" cy="3594240"/>
            <a:chOff x="2219400" y="3611160"/>
            <a:chExt cx="5067000" cy="3594240"/>
          </a:xfrm>
        </p:grpSpPr>
        <p:sp>
          <p:nvSpPr>
            <p:cNvPr id="96" name=""/>
            <p:cNvSpPr/>
            <p:nvPr/>
          </p:nvSpPr>
          <p:spPr>
            <a:xfrm>
              <a:off x="3097800" y="3611160"/>
              <a:ext cx="4188600" cy="2963880"/>
            </a:xfrm>
            <a:prstGeom prst="cloudCallout">
              <a:avLst>
                <a:gd name="adj1" fmla="val -63611"/>
                <a:gd name="adj2" fmla="val 687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19400" y="5765040"/>
              <a:ext cx="1689480" cy="14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echanism #1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TT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uses TTL = max local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pkts out iff &gt; TTL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9280" y="464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2080" y="4573440"/>
            <a:ext cx="2655720" cy="2016360"/>
            <a:chOff x="532080" y="4573440"/>
            <a:chExt cx="2655720" cy="2016360"/>
          </a:xfrm>
        </p:grpSpPr>
        <p:sp>
          <p:nvSpPr>
            <p:cNvPr id="102" name=""/>
            <p:cNvSpPr/>
            <p:nvPr/>
          </p:nvSpPr>
          <p:spPr>
            <a:xfrm>
              <a:off x="1211040" y="54738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99280" y="51750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64640" y="57456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2080" y="599328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9920" y="553500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5640" y="540864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41720" y="5292360"/>
              <a:ext cx="482040" cy="2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51440" y="5582520"/>
              <a:ext cx="3225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9000" y="5858640"/>
              <a:ext cx="3618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3200" y="590148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3480" y="612288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080" y="53359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280" y="545976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370880" y="5263200"/>
              <a:ext cx="41436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54400" y="595656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74880" y="5390280"/>
              <a:ext cx="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080" y="54831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107440" y="5628960"/>
              <a:ext cx="554400" cy="49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625400" y="5024880"/>
              <a:ext cx="65088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200" y="5408640"/>
              <a:ext cx="183240" cy="15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04200" y="627012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9680" y="472500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0360" y="471528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6720" y="519336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53720" y="5268240"/>
              <a:ext cx="352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04680" y="6111360"/>
              <a:ext cx="23616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43480" y="611640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6160" y="6210000"/>
              <a:ext cx="15408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881360" y="5029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6977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1171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21720" y="5521680"/>
              <a:ext cx="11052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421720" y="5310720"/>
              <a:ext cx="25056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97200" y="517032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1080" y="45781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25720" y="457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1880" y="5231160"/>
              <a:ext cx="294120" cy="14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924920" y="503424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36280" y="487476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165760" y="489312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9920" y="61624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6360" y="62560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450160" y="5283000"/>
              <a:ext cx="1684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88920" y="5488200"/>
              <a:ext cx="217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46240" y="510408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831760" y="5188680"/>
              <a:ext cx="110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8560" y="519552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8720" y="5554080"/>
              <a:ext cx="1252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74560" y="6023520"/>
              <a:ext cx="322920" cy="10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644840" y="58820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9880" y="613224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0600" y="627948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543320" y="60872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96600" y="5862960"/>
              <a:ext cx="5796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495440" y="6074280"/>
              <a:ext cx="727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8160" y="5638680"/>
              <a:ext cx="30816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18080" y="4072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TL thresh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40160" y="4362480"/>
            <a:ext cx="45864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84C-F9A0-4EE9-96FE-5094CF2A6A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219400" y="3611160"/>
            <a:ext cx="5067000" cy="3594240"/>
            <a:chOff x="2219400" y="3611160"/>
            <a:chExt cx="5067000" cy="3594240"/>
          </a:xfrm>
        </p:grpSpPr>
        <p:sp>
          <p:nvSpPr>
            <p:cNvPr id="161" name=""/>
            <p:cNvSpPr/>
            <p:nvPr/>
          </p:nvSpPr>
          <p:spPr>
            <a:xfrm>
              <a:off x="3097800" y="3611160"/>
              <a:ext cx="4188600" cy="2963880"/>
            </a:xfrm>
            <a:prstGeom prst="cloudCallout">
              <a:avLst>
                <a:gd name="adj1" fmla="val -63611"/>
                <a:gd name="adj2" fmla="val 687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9400" y="5765040"/>
              <a:ext cx="1689480" cy="14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echanism #2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block of “local”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only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9280" y="464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2080" y="4573440"/>
            <a:ext cx="2655720" cy="2016360"/>
            <a:chOff x="532080" y="4573440"/>
            <a:chExt cx="2655720" cy="2016360"/>
          </a:xfrm>
        </p:grpSpPr>
        <p:sp>
          <p:nvSpPr>
            <p:cNvPr id="167" name=""/>
            <p:cNvSpPr/>
            <p:nvPr/>
          </p:nvSpPr>
          <p:spPr>
            <a:xfrm>
              <a:off x="1211040" y="54738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9280" y="51750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64640" y="574560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2080" y="599328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9920" y="553500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5640" y="540864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341720" y="5292360"/>
              <a:ext cx="482040" cy="2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1440" y="5582520"/>
              <a:ext cx="3225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000" y="5858640"/>
              <a:ext cx="3618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3200" y="590148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3480" y="612288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2080" y="53359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280" y="545976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370880" y="5263200"/>
              <a:ext cx="41436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54400" y="595656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974880" y="5390280"/>
              <a:ext cx="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8080" y="5483160"/>
              <a:ext cx="22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107440" y="5628960"/>
              <a:ext cx="554400" cy="49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625400" y="5024880"/>
              <a:ext cx="65088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200" y="5408640"/>
              <a:ext cx="183240" cy="15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04200" y="627012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9680" y="472500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20360" y="4715280"/>
              <a:ext cx="18360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46720" y="5193360"/>
              <a:ext cx="154080" cy="13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53720" y="5268240"/>
              <a:ext cx="352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704680" y="6111360"/>
              <a:ext cx="23616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43480" y="6116400"/>
              <a:ext cx="15408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46160" y="6210000"/>
              <a:ext cx="15408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881360" y="5029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6977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117160" y="487476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1720" y="5521680"/>
              <a:ext cx="11052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21720" y="5310720"/>
              <a:ext cx="25056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797200" y="517032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21080" y="45781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25720" y="457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91880" y="5231160"/>
              <a:ext cx="294120" cy="14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24920" y="503424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36280" y="487476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165760" y="4893120"/>
              <a:ext cx="0" cy="13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9920" y="61624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26360" y="6256080"/>
              <a:ext cx="1587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50160" y="5283000"/>
              <a:ext cx="1684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8920" y="5488200"/>
              <a:ext cx="217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946240" y="5104080"/>
              <a:ext cx="1494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831760" y="5188680"/>
              <a:ext cx="11052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98560" y="519552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58720" y="5554080"/>
              <a:ext cx="1252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74560" y="6023520"/>
              <a:ext cx="322920" cy="10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44840" y="58820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69880" y="6132240"/>
              <a:ext cx="183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0600" y="6279480"/>
              <a:ext cx="183240" cy="15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543320" y="6087240"/>
              <a:ext cx="6732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596600" y="5862960"/>
              <a:ext cx="5796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495440" y="6074280"/>
              <a:ext cx="727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8160" y="5638680"/>
              <a:ext cx="30816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19880" y="377280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’t forward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ffff0000-0xffff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0160" y="4362480"/>
            <a:ext cx="45864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030-7F7B-470A-8D25-82A0C47F4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panding Ring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“nearest” receiver by sending to more and more of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06400" y="3052800"/>
            <a:ext cx="7542360" cy="3630960"/>
            <a:chOff x="806400" y="3052800"/>
            <a:chExt cx="7542360" cy="3630960"/>
          </a:xfrm>
        </p:grpSpPr>
        <p:sp>
          <p:nvSpPr>
            <p:cNvPr id="228" name=""/>
            <p:cNvSpPr/>
            <p:nvPr/>
          </p:nvSpPr>
          <p:spPr>
            <a:xfrm>
              <a:off x="2962440" y="4527720"/>
              <a:ext cx="35388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95880" y="3998880"/>
              <a:ext cx="35352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90600" y="5008680"/>
              <a:ext cx="35352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10480" y="5447160"/>
              <a:ext cx="35388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9000" y="4636080"/>
              <a:ext cx="518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97480" y="4412520"/>
              <a:ext cx="35352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59080" y="4206600"/>
              <a:ext cx="1105920" cy="32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1040" y="4720320"/>
              <a:ext cx="74016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17840" y="5208840"/>
              <a:ext cx="82872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18520" y="5284800"/>
              <a:ext cx="35388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3120" y="5837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9960" y="4308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27120" y="4380120"/>
              <a:ext cx="1080" cy="5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13760" y="4544640"/>
              <a:ext cx="518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993560" y="4802760"/>
              <a:ext cx="1271160" cy="79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901680" y="3733920"/>
              <a:ext cx="1492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9400" y="4412520"/>
              <a:ext cx="420120" cy="24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25400" y="593712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17880" y="320256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90160" y="318564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42360" y="3759480"/>
              <a:ext cx="486360" cy="41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15760" y="4031280"/>
              <a:ext cx="353880" cy="21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5440" y="4164120"/>
              <a:ext cx="80640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347160" y="5656320"/>
              <a:ext cx="54108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08560" y="5664960"/>
              <a:ext cx="35388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67200" y="5830920"/>
              <a:ext cx="3535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481280" y="3742200"/>
              <a:ext cx="14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5840" y="3468240"/>
              <a:ext cx="108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015520" y="3468240"/>
              <a:ext cx="108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5640" y="4613040"/>
              <a:ext cx="2538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05640" y="4239000"/>
              <a:ext cx="57384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556680" y="3990600"/>
              <a:ext cx="343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18960" y="3100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38760" y="3092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74800" y="3482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44920" y="358380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894360" y="3873240"/>
              <a:ext cx="343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59680" y="5500800"/>
              <a:ext cx="740160" cy="17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946320" y="5250240"/>
              <a:ext cx="15480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0920" y="585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51040" y="595368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716280" y="5613480"/>
              <a:ext cx="15480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1800" y="5108040"/>
              <a:ext cx="2530440" cy="1266840"/>
            </a:xfrm>
            <a:custGeom>
              <a:avLst/>
              <a:gdLst/>
              <a:ahLst/>
              <a:rect l="l" t="t" r="r" b="b"/>
              <a:pathLst>
                <a:path w="1696" h="1246">
                  <a:moveTo>
                    <a:pt x="163" y="1246"/>
                  </a:moveTo>
                  <a:cubicBezTo>
                    <a:pt x="132" y="1224"/>
                    <a:pt x="101" y="1203"/>
                    <a:pt x="81" y="1112"/>
                  </a:cubicBezTo>
                  <a:cubicBezTo>
                    <a:pt x="61" y="1021"/>
                    <a:pt x="0" y="849"/>
                    <a:pt x="44" y="697"/>
                  </a:cubicBezTo>
                  <a:cubicBezTo>
                    <a:pt x="88" y="545"/>
                    <a:pt x="109" y="312"/>
                    <a:pt x="348" y="201"/>
                  </a:cubicBezTo>
                  <a:cubicBezTo>
                    <a:pt x="587" y="90"/>
                    <a:pt x="1266" y="62"/>
                    <a:pt x="1481" y="31"/>
                  </a:cubicBezTo>
                  <a:cubicBezTo>
                    <a:pt x="1696" y="0"/>
                    <a:pt x="1666" y="8"/>
                    <a:pt x="1637" y="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66680" y="4109400"/>
              <a:ext cx="5025960" cy="2143800"/>
            </a:xfrm>
            <a:custGeom>
              <a:avLst/>
              <a:gdLst/>
              <a:ahLst/>
              <a:rect l="l" t="t" r="r" b="b"/>
              <a:pathLst>
                <a:path w="3369" h="2109">
                  <a:moveTo>
                    <a:pt x="88" y="2109"/>
                  </a:moveTo>
                  <a:cubicBezTo>
                    <a:pt x="44" y="2009"/>
                    <a:pt x="0" y="1909"/>
                    <a:pt x="6" y="1761"/>
                  </a:cubicBezTo>
                  <a:cubicBezTo>
                    <a:pt x="12" y="1613"/>
                    <a:pt x="11" y="1411"/>
                    <a:pt x="125" y="1220"/>
                  </a:cubicBezTo>
                  <a:cubicBezTo>
                    <a:pt x="239" y="1029"/>
                    <a:pt x="420" y="814"/>
                    <a:pt x="688" y="613"/>
                  </a:cubicBezTo>
                  <a:cubicBezTo>
                    <a:pt x="956" y="412"/>
                    <a:pt x="1415" y="24"/>
                    <a:pt x="1732" y="12"/>
                  </a:cubicBezTo>
                  <a:cubicBezTo>
                    <a:pt x="2049" y="0"/>
                    <a:pt x="2318" y="434"/>
                    <a:pt x="2591" y="538"/>
                  </a:cubicBezTo>
                  <a:cubicBezTo>
                    <a:pt x="2864" y="642"/>
                    <a:pt x="3239" y="619"/>
                    <a:pt x="3369" y="63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6400" y="3052800"/>
              <a:ext cx="7542360" cy="3058560"/>
            </a:xfrm>
            <a:custGeom>
              <a:avLst/>
              <a:gdLst/>
              <a:ahLst/>
              <a:rect l="l" t="t" r="r" b="b"/>
              <a:pathLst>
                <a:path w="5055" h="3009">
                  <a:moveTo>
                    <a:pt x="270" y="3009"/>
                  </a:moveTo>
                  <a:cubicBezTo>
                    <a:pt x="186" y="2885"/>
                    <a:pt x="102" y="2762"/>
                    <a:pt x="77" y="2476"/>
                  </a:cubicBezTo>
                  <a:cubicBezTo>
                    <a:pt x="52" y="2190"/>
                    <a:pt x="0" y="1632"/>
                    <a:pt x="122" y="1291"/>
                  </a:cubicBezTo>
                  <a:cubicBezTo>
                    <a:pt x="244" y="950"/>
                    <a:pt x="509" y="638"/>
                    <a:pt x="811" y="432"/>
                  </a:cubicBezTo>
                  <a:cubicBezTo>
                    <a:pt x="1113" y="226"/>
                    <a:pt x="1462" y="108"/>
                    <a:pt x="1937" y="54"/>
                  </a:cubicBezTo>
                  <a:cubicBezTo>
                    <a:pt x="2412" y="0"/>
                    <a:pt x="3142" y="17"/>
                    <a:pt x="3662" y="106"/>
                  </a:cubicBezTo>
                  <a:cubicBezTo>
                    <a:pt x="4182" y="195"/>
                    <a:pt x="4823" y="507"/>
                    <a:pt x="5055" y="5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95680" y="6181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7200" y="6166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14120" y="5758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41560" y="4230000"/>
              <a:ext cx="4028760" cy="2131560"/>
            </a:xfrm>
            <a:custGeom>
              <a:avLst/>
              <a:gdLst/>
              <a:ahLst/>
              <a:rect l="l" t="t" r="r" b="b"/>
              <a:pathLst>
                <a:path w="2700" h="2097">
                  <a:moveTo>
                    <a:pt x="530" y="2097"/>
                  </a:moveTo>
                  <a:cubicBezTo>
                    <a:pt x="504" y="1951"/>
                    <a:pt x="478" y="1806"/>
                    <a:pt x="456" y="1653"/>
                  </a:cubicBezTo>
                  <a:cubicBezTo>
                    <a:pt x="434" y="1500"/>
                    <a:pt x="472" y="1306"/>
                    <a:pt x="397" y="1179"/>
                  </a:cubicBezTo>
                  <a:cubicBezTo>
                    <a:pt x="322" y="1052"/>
                    <a:pt x="0" y="1020"/>
                    <a:pt x="4" y="890"/>
                  </a:cubicBezTo>
                  <a:cubicBezTo>
                    <a:pt x="8" y="760"/>
                    <a:pt x="238" y="543"/>
                    <a:pt x="419" y="401"/>
                  </a:cubicBezTo>
                  <a:cubicBezTo>
                    <a:pt x="600" y="259"/>
                    <a:pt x="842" y="0"/>
                    <a:pt x="1093" y="38"/>
                  </a:cubicBezTo>
                  <a:cubicBezTo>
                    <a:pt x="1344" y="76"/>
                    <a:pt x="1655" y="526"/>
                    <a:pt x="1923" y="630"/>
                  </a:cubicBezTo>
                  <a:cubicBezTo>
                    <a:pt x="2191" y="734"/>
                    <a:pt x="2571" y="655"/>
                    <a:pt x="2700" y="6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91720" y="62240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TTL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02120" y="4667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72240" y="476928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2720" y="5026680"/>
              <a:ext cx="30528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440" y="6117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78560" y="6218640"/>
              <a:ext cx="420120" cy="24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69560" y="5945760"/>
              <a:ext cx="174960" cy="27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454-A309-4447-A349-1F1B59E4DC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iable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ke sure each receiver gets a copy of each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C55-0F21-4288-803C-42331761F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k Implo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ach receiver acks each packet, sender gets overwhelm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0680" y="4208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103640" y="4456080"/>
            <a:ext cx="54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86080" y="417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25600" y="45705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52640" y="435132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5440" y="461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1774800" y="4420800"/>
            <a:ext cx="36504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86400" y="355140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68720" y="4316400"/>
            <a:ext cx="4348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738320" y="5738760"/>
            <a:ext cx="32868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067360" y="5210280"/>
            <a:ext cx="45864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2986200" y="437472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4092480" y="507996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127400" y="5219640"/>
            <a:ext cx="3398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044880" y="447948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103560" y="4608000"/>
            <a:ext cx="635040" cy="42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06964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211480" y="398448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9248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0948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139920" y="3645000"/>
            <a:ext cx="974880" cy="43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152000" y="404496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293480" y="398448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374840" y="3914640"/>
            <a:ext cx="55224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491840" y="3854520"/>
            <a:ext cx="55260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85440" y="3794040"/>
            <a:ext cx="5526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0EF-0949-4116-8C12-442A04F22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5-12T22:12:19Z</dcterms:modified>
  <cp:revision>149</cp:revision>
  <dc:subject/>
  <dc:title>Eraser: A Dynamic Race Detector for  Multi-Threaded Programs</dc:title>
</cp:coreProperties>
</file>