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C75-465B-4C28-8565-AF644A40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232-AB1E-4DC3-B26A-DCA6AC4F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71F-9DFC-40BB-A3C9-D98E9847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8FF-39B5-4FC6-A5F2-6E785F0C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B433-93F3-4E31-9479-4F7D3ABB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0DD5-C140-45A5-A1F7-7E26D53B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D5C8-2C03-438D-8BD9-94E5B2DB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8AB6-DA0A-40D5-B362-D9582BAB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B481-F5F1-4EE1-A030-2A94F82F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F4F9-F217-414C-8C6D-DA761DA5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EE31-A3C3-4D08-B84C-10626EA8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3FA-A890-4D1E-97FA-8C4E1CC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B594-C4D4-499C-B031-CF3D9DA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0B67-AA8D-485B-AAC8-528AF5E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9F53-3FD4-4F90-84CD-AE0E87C1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4E72-9CEB-4697-B7DC-742F7D1B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A4E8-2C9D-4FCB-B3EA-A52EEA26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F9F-F63E-46D9-BD6E-60880F2F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B2C-06D8-4812-8401-2AC196B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9B5-6C07-4433-97C7-CFCBBA7D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246-B313-471C-9569-909CF0EC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5E7-433B-4DB5-9D34-0B92CAE1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974-5218-429E-8E74-0582A48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AAB-C241-4919-A5FE-30D87B5E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99D1-4A22-47DC-8852-3A552273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1B57-E79C-4FEB-8C18-2338F118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6: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efficiently send messages to a group of mach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revisit all aspects of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ous systems and adm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(next tim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delivery (nex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elivery (nex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mputing a Spanning Tre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(simple)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 a leader (ex: node with lowest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 is shortest path to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compute if topolog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(simple)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topology everywhere, compute in parallel (aka link s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witched LAN Multicast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only few recei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nt needlessly over some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prune links if no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large scale 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 tree efficient for al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spanning tree p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spanning tree per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olutions as in Intern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Multicast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07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tribute packets across thousands of L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responsible for its attached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forward packets to all interested routers? (DVMRP, M-OSPF, MB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hosts declare interest to their routers? (IG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anning Tre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 per group or tree per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: router table entry per group vs. entry per group * per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: worst case factor of 2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: can spread load with per-sourc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ezvous: per source can leverage unicast routing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asic Approach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7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data and prune where there are no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distance vector routing (DVM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membership and compute forwarding 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link state routing (MOS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rendezvous for group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f unicast routing (P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stance Vector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unicast routing tables form inverse tree from senders to de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ot use backwards for multic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refinements to eliminate useless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DVMRP (Distance Vector Multicast Routing Protoco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 in M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verse Path Flooding (RPF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forwards packet from S iff packet came via shortest path back to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2160" y="3989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4720" y="3997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19680" y="3246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1000" y="46800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59320" y="53020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29440" y="48182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40440" y="58309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0960" y="41511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5840" y="320976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703680" y="35416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27440" y="42703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43440" y="496404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702400" y="5070240"/>
            <a:ext cx="541080" cy="29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67480" y="56116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97320" y="33764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79920" y="5875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43360" y="322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84840" y="473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0880" y="3486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737240" y="3587400"/>
            <a:ext cx="306360" cy="10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7680" y="4257720"/>
            <a:ext cx="49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8760" y="43750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8520" y="50799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867200" y="3645000"/>
            <a:ext cx="27144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774960" y="34682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32240" y="3246480"/>
            <a:ext cx="89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632560" y="4986000"/>
            <a:ext cx="56340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667400" y="3633840"/>
            <a:ext cx="21240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73880" y="57276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57600" y="295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351320" y="3209760"/>
            <a:ext cx="2462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29080" y="508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316040" y="5159160"/>
            <a:ext cx="152280" cy="15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dundant Sen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F will forward packet to router, even if it will dis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gets pkt on all of its input li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uter connected to LAN will broadcast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9520" y="4424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54480" y="5105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77040" y="5105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503600" y="4750920"/>
            <a:ext cx="4939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21440" y="4727520"/>
            <a:ext cx="36324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079960" y="4103640"/>
            <a:ext cx="1116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738600" y="5880240"/>
            <a:ext cx="311616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1160" y="544500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6320" y="545616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04440" y="5474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verse Path Broadcast (RPB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istance vector, neighbors exchange routing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send to neighbor if on its shortest path back to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send on LAN if have shortest path back to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ies arbitrar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runcated RPB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1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hosts tell routers if 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forward on LAN iff there are 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 to router/host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overloading LAN with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data to multiple receivers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ing, narrow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coordination, sub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question to unknown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nymous directo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Group Management Protocol (IGMP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join, host multicasts join requests to hosts in group + routers on LAN, TTL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periodically query hosts for group 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forwarding if receiver cr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set random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xpire, multicast 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hosts in group disable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GMP (step 1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 one router periodically query about all groups (TTL=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85880" y="351936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89480" y="3565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3880" y="3187800"/>
            <a:ext cx="3636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67000" y="4339800"/>
            <a:ext cx="614016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63720" y="388152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68760" y="391644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79560" y="4786200"/>
            <a:ext cx="44784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17680" y="3151080"/>
            <a:ext cx="363600" cy="4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6200" y="4786200"/>
            <a:ext cx="44748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30720" y="4797360"/>
            <a:ext cx="44748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59480" y="4784760"/>
            <a:ext cx="44748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12000" y="4821120"/>
            <a:ext cx="44748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04960" y="347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068560" y="432720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197160" y="431640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43480" y="432576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783400" y="43480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134120" y="434952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927520" y="3246480"/>
            <a:ext cx="39816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630760" y="3292560"/>
            <a:ext cx="3985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14560" y="390528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97080" y="438624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6920" y="438624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58000" y="436248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46560" y="438624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10520" y="439740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641920" y="3846240"/>
            <a:ext cx="0" cy="44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GMP (step 2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roup member responds to group with TTL=1, everyone else de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57520" y="3519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61120" y="3565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3187800"/>
            <a:ext cx="36324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538280" y="4339800"/>
            <a:ext cx="614052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5360" y="388152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40400" y="391644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51200" y="4786200"/>
            <a:ext cx="44748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89320" y="3151080"/>
            <a:ext cx="363240" cy="4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57480" y="4786200"/>
            <a:ext cx="44784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02000" y="4797360"/>
            <a:ext cx="44784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0760" y="4784760"/>
            <a:ext cx="44784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83280" y="4821120"/>
            <a:ext cx="44784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76240" y="347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57440" y="4793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60560" y="472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08520" y="4791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139840" y="432720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268800" y="431640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14760" y="432576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854680" y="43480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205760" y="434952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998800" y="3246480"/>
            <a:ext cx="3985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702400" y="3292560"/>
            <a:ext cx="3985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925720" y="3870000"/>
            <a:ext cx="0" cy="44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688000" y="3857400"/>
            <a:ext cx="0" cy="44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336760" y="4362120"/>
            <a:ext cx="0" cy="44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53000" y="438480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6680" y="436104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verse Path Multicast (RPM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 packets only to those areas of the network with 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and prun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GMP to tell if LAN if no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hildren are members, propagate prune to parent in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membership and prune if wrong vs. assume non-membership and explicit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a receiver join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ft (prune cancel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remember where they sent pr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multicast traffic came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ild joins, send graft in same direc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R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graft is drop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prune is drop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hase 1: Truncated Broad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87800" y="40798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27560" y="47847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925960" y="3222360"/>
            <a:ext cx="4114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hase 2: Prun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87800" y="40798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27560" y="47847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809600" y="3033720"/>
            <a:ext cx="729000" cy="363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950080" y="3376440"/>
            <a:ext cx="48240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9760" y="3471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une(s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08680" y="291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une(s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hase 3: Graf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14560" y="36561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9880" y="29052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21200" y="4338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87960" y="4960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51160" y="380988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35720" y="3492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233880" y="320040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57640" y="392904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73640" y="462276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73680" y="473076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32480" y="5629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27040" y="3462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5560" y="362124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98960" y="403380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38720" y="4738680"/>
            <a:ext cx="50616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05160" y="312696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03840" y="486900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338560" y="3446280"/>
            <a:ext cx="0" cy="78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85960" y="36799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100480" y="4046400"/>
            <a:ext cx="135288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25800" y="252900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9920" y="349236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88200" y="5656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11840" y="177480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13200" y="175104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75640" y="256536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1664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26080" y="3139920"/>
            <a:ext cx="858600" cy="4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8120" y="525780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8720" y="527040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02280" y="5505480"/>
            <a:ext cx="376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549680" y="254124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102200" y="215244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124600" y="215244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67280" y="377676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867280" y="324612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783480" y="28936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7480" y="174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44960" y="173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4821120" y="2987640"/>
            <a:ext cx="728640" cy="363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656240" y="255240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5800" y="2152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24340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02520" y="538632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4760" y="562140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996160" y="3330720"/>
            <a:ext cx="482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73480" y="3692520"/>
            <a:ext cx="52992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242040" y="3390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ft(s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19840" y="286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ft(s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473960" y="2289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29680" y="231624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159680" y="272700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01960" y="2778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ort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302240" y="2787480"/>
            <a:ext cx="376200" cy="152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819480" y="2998800"/>
            <a:ext cx="3762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hase 4: Steady Stat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87800" y="40798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27560" y="47847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25960" y="3222360"/>
            <a:ext cx="4114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49840" y="233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856560" y="2986200"/>
            <a:ext cx="269640" cy="18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7243920" y="2798280"/>
            <a:ext cx="39816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PM Mechan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driven -- prune only when packet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ally time out pr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loops possible in routing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Efficienc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data only once down link shared by multiple 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1280" y="587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14720" y="322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40120" y="307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56200" y="473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ink State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PF (Multicast OSP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GMP to determine LAN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 topology/group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uter gets complete topology, group 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shortest path spanning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ute tree every time topology 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/delete links if membership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ink State Mechan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4560" y="177012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st link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mpute routes for all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-to-all shortes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IDR to reduce tab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 link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mpute routes for all source-group pai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on demand when packet arr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loops possible in routing 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M = Protocol Independent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parse groups -- groups that involve only a few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narrowcasting -- chat rooms, virtual corporations, … =&gt; could be commo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vector + link state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broadcast to every router in Intern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Approach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ulticast group has a set of predefined rendezvous points (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ultiple for failure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join: send packet to one 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join: send to all RP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nfrequent traffic, use tree p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ed at rendezvous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/delete links via reference 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frequent traffic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specialize with tree p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outers below RP observe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ts of packets from on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sends jo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sends  traffic to router in addition to 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router gets traffic from source, pr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Shared Tre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90840" y="334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02400" y="3903840"/>
            <a:ext cx="306360" cy="44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Receiver Joi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90840" y="334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02400" y="3903840"/>
            <a:ext cx="306360" cy="44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302240" y="2833560"/>
            <a:ext cx="352440" cy="189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6808320" y="3056040"/>
            <a:ext cx="352440" cy="18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6044760" y="3467160"/>
            <a:ext cx="352440" cy="189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25400" y="3448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in *,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36600" y="2920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ort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61000" y="230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36600" y="530244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in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3362400" y="4739760"/>
            <a:ext cx="600120" cy="481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Shared Tree After Join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5925960" y="3222360"/>
            <a:ext cx="4114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49840" y="233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856560" y="2986200"/>
            <a:ext cx="269640" cy="18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7243920" y="2798280"/>
            <a:ext cx="39816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90840" y="334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02400" y="3903840"/>
            <a:ext cx="306360" cy="44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46360" y="5083200"/>
            <a:ext cx="78768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962520" y="472752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569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37000" y="572616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3714840" y="524340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844440" y="4680000"/>
            <a:ext cx="141480" cy="43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597120" y="5210280"/>
            <a:ext cx="17784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409920" y="3457440"/>
            <a:ext cx="95256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16160" y="4116240"/>
            <a:ext cx="75240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Source Based Tree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925960" y="3222360"/>
            <a:ext cx="4114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449840" y="233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856560" y="2986200"/>
            <a:ext cx="269640" cy="18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43920" y="2798280"/>
            <a:ext cx="39816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90840" y="334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702400" y="3903840"/>
            <a:ext cx="306360" cy="44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46360" y="5083200"/>
            <a:ext cx="78768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962520" y="472752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569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37000" y="572616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714840" y="524340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3844440" y="4680000"/>
            <a:ext cx="141480" cy="43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597120" y="5210280"/>
            <a:ext cx="17784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3409920" y="3457440"/>
            <a:ext cx="95256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16160" y="4116240"/>
            <a:ext cx="75240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816920" y="4023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in s,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2376360" y="3940200"/>
            <a:ext cx="588960" cy="23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1730520" y="3963960"/>
            <a:ext cx="588960" cy="23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Source Based Tree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925960" y="3222360"/>
            <a:ext cx="4114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449840" y="233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6856560" y="2986200"/>
            <a:ext cx="269640" cy="18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7243920" y="2798280"/>
            <a:ext cx="39816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90840" y="334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02400" y="3903840"/>
            <a:ext cx="306360" cy="44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46360" y="5083200"/>
            <a:ext cx="78768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3962520" y="472752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569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37000" y="572616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714840" y="524340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844440" y="4680000"/>
            <a:ext cx="141480" cy="43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3597120" y="5210280"/>
            <a:ext cx="17784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16160" y="4116240"/>
            <a:ext cx="75240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291000" y="45648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f join s,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80280" y="1953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f sour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7054920" y="2257560"/>
            <a:ext cx="164880" cy="44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490800" y="4834080"/>
            <a:ext cx="693720" cy="23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Bone Deploy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1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provide multicast services without router sup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one as virtual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 routers, forward multicast traffic by tunneling over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vector for routing between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tunnel bw to avoid interfering with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u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Protocol Independenc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sent to specific targets using unicast rout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join: send to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join: send to 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based tree creation: send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packets: send to RPs,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access links confuse reference counting: all routers listen for add/pr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we decide on RP’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consensus of which RP to use for each group, or nothing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d bootstrap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 candidates register with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 broadcasts candidate RP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s use consistent hash to select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Routing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e routing problem into sub-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each organization to choose their ow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table size by aggregating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Broadcast and Pru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Path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incoming packet if not from revers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incoming packet to all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Path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eighbor AS, compute if we’re on reverse path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incoming packets to useful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e prunes across AS back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Link Stat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topology, group membership within ea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AS topology, group membership, to all AS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ulticast tree across AS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incoming/outgoing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ulticast tree within ea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PI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sender and receiver jo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indepen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border routers propagate joins across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interoperate PIM with broadcast&amp;pr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Routing Mechan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each AS uses its own algorith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multicast packet may arrive on any border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etect routing l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e explicit joins in P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duce table size using aggreg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nearby sources? similar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Address Alloc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ynamic than unicast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cross organizationa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ser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ddresses for inter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es for glob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allo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isten to tell if address i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onflict resolution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ope Control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 with reverse path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prunes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control over liste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listen to multicast convers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oping more difficult in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sub-group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 a leader/suppress duplicat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nearest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ope Control Mechanis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TT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uses TTL = max diameter of local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order router, forward pkts iff &gt; local T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block of “local”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order router, forward only glob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Multicast Service Mode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4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by (inter)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help from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ed as virtual network (MB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effort (unreliable, unordered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ddressed t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allocated from special range in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L for scope control (ex: send one h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panding Ring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“nearest”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ly send to more and more of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irst to all receivers within one hop, then two hops, then three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receivers have different bandwid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32160" y="3989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84720" y="3997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819680" y="3246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491000" y="46800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59320" y="53020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29440" y="48182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40440" y="58309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20960" y="41511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35840" y="320976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3703680" y="35416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27440" y="42703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43440" y="496404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5702400" y="5070240"/>
            <a:ext cx="541080" cy="29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67480" y="56116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97320" y="33764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79920" y="5875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43360" y="322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84840" y="473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450880" y="3486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57680" y="4257720"/>
            <a:ext cx="49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68760" y="43750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808520" y="50799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774960" y="34682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232240" y="3246480"/>
            <a:ext cx="89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5632560" y="4986000"/>
            <a:ext cx="56340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73880" y="57276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9640" y="4471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551040" y="3236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13080" y="2824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075200" y="4223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73800" y="470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33960" y="597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6K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signal at multiple gran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Kb/s - voi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Mb/s - choppy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Mb/s - high quality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ackets at router if can’t handle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a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persistent congestion at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upstream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eiver-Driven 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s dynamically adapt to availabl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ayer a separat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ubscribes to max layer that will get through with minimal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acket drops as congestion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rops =&gt; try subscribing to high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=&gt; unsubscribe to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Mechan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s periodically try subscribing to higher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nsuccessful, overwhelms bottleneck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packet losses for other receiv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other receivers drop lay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wo conflicting subscribes at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Receiver Coordin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advertises intent to add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congestion signal during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conflicting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advertises result when done.  Example of shared lea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uccessful, other receivers ad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nsuccessful, wait longer until next r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Multicast Service Mode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, one or many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-- anyone can join, le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long to any number of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s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send packet to grou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or may not be i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multicast virtual circu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N Multicast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1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ly supported on shared media LANs (Ethernet, FD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 subscribes t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layer notifies Ethernet card to listen to packets with grou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witched LANs?          (switched Ethernet, AT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 already requires broadcast suppo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lood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aven’t seen a packet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it on every link but in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witches to remember each p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86000" y="4281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14440" y="43070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7000" y="43149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02320" y="35640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73640" y="4997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41960" y="56196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1720" y="5135400"/>
            <a:ext cx="37656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23080" y="614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74800" y="448164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03600" y="446868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8120" y="3527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86320" y="385920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0080" y="458784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6080" y="528156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584680" y="5387760"/>
            <a:ext cx="541440" cy="29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49760" y="592920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9960" y="369396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2560" y="619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26000" y="354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67480" y="5050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960" y="3804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619520" y="3904920"/>
            <a:ext cx="306360" cy="10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anning Tre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every host gets one copy (retransmission needed for dro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78240" y="4140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32200" y="3854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040" y="380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78280" y="49831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38520" y="54291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46720" y="5557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16160" y="3621240"/>
            <a:ext cx="42372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6680" y="4805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18400" y="3209760"/>
            <a:ext cx="42372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1960" y="4726080"/>
            <a:ext cx="4240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90760" y="5773680"/>
            <a:ext cx="42372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5600" y="5830920"/>
            <a:ext cx="4240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916280" y="5655960"/>
            <a:ext cx="8348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39880" y="3774960"/>
            <a:ext cx="76356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44720" y="4068720"/>
            <a:ext cx="98748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221000" y="3962520"/>
            <a:ext cx="1198800" cy="4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37320" y="3444480"/>
            <a:ext cx="10936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4210200"/>
            <a:ext cx="58680" cy="79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103560" y="5245200"/>
            <a:ext cx="8002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45120" y="5221440"/>
            <a:ext cx="113976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643720" y="5114880"/>
            <a:ext cx="44748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408720" y="4938480"/>
            <a:ext cx="928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02400" y="5808600"/>
            <a:ext cx="10350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03600" y="4479840"/>
            <a:ext cx="212760" cy="9763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244760" y="4151160"/>
            <a:ext cx="1245960" cy="916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78640" y="4127400"/>
            <a:ext cx="458640" cy="692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5-06T00:20:33Z</dcterms:modified>
  <cp:revision>135</cp:revision>
  <dc:subject/>
  <dc:title>Eraser: A Dynamic Race Detector for  Multi-Threaded Programs</dc:title>
</cp:coreProperties>
</file>