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222-5D6D-4321-AA23-BB5D6C43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B45-A5A2-45FC-8B58-9FB3057A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168-8BD7-44B2-988E-FE590056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BBB-E579-4C61-ACB7-A75E7070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0791-9DE5-4860-91C2-132A5A96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B94B-FAD0-4C37-858F-9367A58B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D860-13A3-4E87-AB96-3C669FEF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AAF4-E3E4-40C5-8D16-8669119B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C5A4-077F-4D39-B7D1-1CDF8631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7B2E-F730-49A0-A285-19EBC4FC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E1E8-27C0-42A4-8BA5-F81D3A8A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142-73FB-458D-B543-0D417E34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00D1-2F44-4FE0-895B-FC0DB8C3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411A-F705-4E0E-A2E3-6F1C8B75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A1CE-7147-4B40-B1AC-5B15D59C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3669-2401-49E8-B731-2A0E35F4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6853-3DDE-4F94-81C7-6DA37B7A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CFC-752A-4D14-A505-90ABDF8B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303-CDC5-4707-92E4-7F03693F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224-1D9E-44BE-A80E-51044E19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4C3-34DC-45FC-A698-84CB4879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760-485E-429A-85E2-3184317A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DDC-477A-4594-97EC-6F779D2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345-265C-4402-A562-2CED185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E8E5-623E-45F1-868C-D7A0C42F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8EEF-2149-4B02-824E-17B99192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cture 6: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: how do we efficiently send messages to a group of mach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revisit all aspects of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ous systems and admi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(next tim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delivery (nex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elivery (nex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mputing a Spanning Tre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(simple)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 a leader (ex: node with lowest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 is shortest path to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compute if topolog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(simple)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topology everywhere, compute in parallel (aka link s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witched LAN Multicast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only few recei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nt needlessly over some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prune links if no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large scale L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 tree efficient for al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spanning tree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spanning tree per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olutions as in Intern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Multicast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07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istribute packets across thousands of L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responsible for its attached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forward packets to all interested routers? (DVMRP, M-OSPF, MB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hosts declare interest to their routers? (I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anning Tre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 per group or tree per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: router table entry per group vs. entry per group * per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: worst case factor of 2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: can spread load with per-sourc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ezvous: per source can leverage unicast rout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asic Approach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7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data and prune where there are no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distance vector routing (DVM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membership and compute forwarding 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link state routing (MOS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rendezvous for group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unicast routing (P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stance Vector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unicast routing tables form inverse tree from senders to 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ot use backwards for 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refinements to eliminate useless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DVMRP (Distance Vector Multicast Routing Protoco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 in M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verse Path Flooding (RPF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forwards packet from S iff packet came via shortest path back to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2160" y="3989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4720" y="3997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19680" y="3246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1000" y="46800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59320" y="53020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29440" y="48182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40440" y="58309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41511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5840" y="320976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703680" y="35416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27440" y="42703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43440" y="49640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702400" y="5070240"/>
            <a:ext cx="541080" cy="29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67480" y="56116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97320" y="33764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79920" y="587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43360" y="322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84840" y="473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0880" y="348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737240" y="3587400"/>
            <a:ext cx="306360" cy="10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7680" y="4257720"/>
            <a:ext cx="49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8760" y="43750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8520" y="50799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867200" y="3645000"/>
            <a:ext cx="27144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74960" y="34682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32240" y="3246480"/>
            <a:ext cx="89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632560" y="4986000"/>
            <a:ext cx="56340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67400" y="3633840"/>
            <a:ext cx="21240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73880" y="57276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57600" y="295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351320" y="3209760"/>
            <a:ext cx="2462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29080" y="508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316040" y="5159160"/>
            <a:ext cx="152280" cy="15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dundant Sen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F will forward packet to router, even if it will dis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gets pkt on all of its input li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connected to LAN will broadcast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9520" y="44244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54480" y="5105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77040" y="5105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03600" y="4750920"/>
            <a:ext cx="49392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21440" y="4727520"/>
            <a:ext cx="36324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79960" y="4103640"/>
            <a:ext cx="1116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738600" y="5880240"/>
            <a:ext cx="311616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1160" y="544500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6320" y="545616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04440" y="5474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verse Path Broadcast (RPB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istance vector, neighbors exchange routing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send to neighbor if on its shortest path back to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send on LAN if have shortest path back to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rbitr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runcated RPB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1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hosts tell routers if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forward on LAN iff there are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to router/host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overloading LAN with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data to multiple receivers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ing, narrow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coordination, sub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question to unknown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nymous directo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ernet Group Management Protocol (IGMP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join, host multicasts join requests to hosts in group + routers on LAN, TTL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periodically query hosts for group 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forwarding if receiver cr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set random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xpire, multicast 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hosts in group disable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GMP (step 1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 one router periodically query about all groups (TTL=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85880" y="351936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89480" y="3565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3880" y="3187800"/>
            <a:ext cx="3636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67000" y="4339800"/>
            <a:ext cx="614016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63720" y="388152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68760" y="391644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79560" y="478620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17680" y="3151080"/>
            <a:ext cx="363600" cy="4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6200" y="478620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30720" y="479736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59480" y="478476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12000" y="482112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04960" y="347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068560" y="432720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197160" y="431640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43480" y="432576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783400" y="43480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134120" y="434952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927520" y="3246480"/>
            <a:ext cx="39816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0760" y="3292560"/>
            <a:ext cx="3985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14560" y="390528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97080" y="438624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6920" y="438624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58000" y="436248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46560" y="438624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10520" y="439740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641920" y="3846240"/>
            <a:ext cx="0" cy="44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GMP (step 2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roup member responds to group with TTL=1, everyone else de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57520" y="3519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61120" y="3565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3187800"/>
            <a:ext cx="36324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538280" y="4339800"/>
            <a:ext cx="614052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5360" y="388152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40400" y="391644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51200" y="4786200"/>
            <a:ext cx="44748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89320" y="3151080"/>
            <a:ext cx="363240" cy="4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57480" y="478620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02000" y="479736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0760" y="478476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83280" y="4821120"/>
            <a:ext cx="447840" cy="41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76240" y="347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57440" y="4793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60560" y="472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08520" y="4791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139840" y="432720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268800" y="431640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14760" y="432576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854680" y="43480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205760" y="4349520"/>
            <a:ext cx="0" cy="44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998800" y="3246480"/>
            <a:ext cx="3985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702400" y="3292560"/>
            <a:ext cx="3985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925720" y="3870000"/>
            <a:ext cx="0" cy="44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688000" y="3857400"/>
            <a:ext cx="0" cy="44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336760" y="4362120"/>
            <a:ext cx="0" cy="44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53000" y="438480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6680" y="436104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verse Path Multicast (RPM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 packets only to those areas of the network with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and prun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GMP to tell if LAN if no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hildren are members, propagate prune to parent in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membership and prune if wrong vs. assume non-membership and explicit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es a receiver join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ft (prune cancel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remember where they sent pr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multicast traffic came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ild joins, send graft in same direc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graft is drop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prune is drop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hase 1: Truncated Broad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87800" y="40798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27560" y="47847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hase 2: Prun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87800" y="40798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27560" y="47847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809600" y="3033720"/>
            <a:ext cx="729000" cy="363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50080" y="3376440"/>
            <a:ext cx="48240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9760" y="3471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une(s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08680" y="2918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une(s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hase 3: Graf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14560" y="3656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9880" y="29052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21200" y="4338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87960" y="4960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51160" y="380988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35720" y="3492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233880" y="320040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57640" y="392904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73640" y="462276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73680" y="473076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32480" y="5629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27040" y="3462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5560" y="362124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98960" y="403380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38720" y="4738680"/>
            <a:ext cx="50616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05160" y="312696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03840" y="486900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338560" y="3446280"/>
            <a:ext cx="0" cy="78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85960" y="36799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100480" y="4046400"/>
            <a:ext cx="135288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25800" y="252900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9920" y="349236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88200" y="5656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11840" y="177480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13200" y="175104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75640" y="256536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1664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26080" y="3139920"/>
            <a:ext cx="858600" cy="4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8120" y="525780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8720" y="527040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02280" y="5505480"/>
            <a:ext cx="376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549680" y="254124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102200" y="215244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124600" y="215244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67280" y="377676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867280" y="324612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783480" y="28936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7480" y="174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44960" y="173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4821120" y="2987640"/>
            <a:ext cx="728640" cy="363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656240" y="255240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5800" y="2152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24340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02520" y="538632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54760" y="562140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996160" y="3330720"/>
            <a:ext cx="48240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73480" y="3692520"/>
            <a:ext cx="52992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242040" y="3390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ft(s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19840" y="286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ft(s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473960" y="2289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29680" y="231624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159680" y="272700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01960" y="2778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ort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302240" y="2787480"/>
            <a:ext cx="376200" cy="152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819480" y="2998800"/>
            <a:ext cx="3762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hase 4: Steady St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87800" y="40798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27560" y="47847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856560" y="2986200"/>
            <a:ext cx="26964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243920" y="2798280"/>
            <a:ext cx="39816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PM Mechan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driven -- prune only when packet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ally time out pr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oops possible in routing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Efficiency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data only once down link shared by multiple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62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03520" y="39877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5720" y="399564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91040" y="3244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62360" y="46782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0680" y="53006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0800" y="4816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11800" y="5829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3520" y="41623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92320" y="4149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7200" y="32083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5040" y="354024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98800" y="4268880"/>
            <a:ext cx="787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96260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973760" y="5068800"/>
            <a:ext cx="5410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8840" y="56102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68680" y="337500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1280" y="5874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14720" y="322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40120" y="307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56200" y="473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680" y="3485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ink State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PF (Multicast OSP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GMP to determine LAN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 topology/group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gets complete topology, group 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hortest path spanning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 tree every time topology 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/delete links if membership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ink State Mechan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74560" y="177012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ast link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mpute routes for all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-to-all shortes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IDR to reduce tab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ast link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mpute routes for all source-group pai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on demand when packet arr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loops possible in routing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M = Protocol Independent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parse groups -- groups that involve only a few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narrowcasting -- chat rooms, virtual corporations, … =&gt; could be commo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vector + link state 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broadcast to every router in Intern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Approach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ulticast group has a set of predefined rendezvous points (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ultiple for failure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join: send packet to one 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join: send to all RP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nfrequent traffic, use tree p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ed at rendezvous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/delete links via reference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f frequent traffic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specialize with tree p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outers below RP observe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ts of packets from on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sends jo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ends  traffic to router in addition to 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router gets traffic from source, pr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Shared Tre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Receiver Joi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302240" y="2833560"/>
            <a:ext cx="352440" cy="189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6808320" y="3056040"/>
            <a:ext cx="352440" cy="18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044760" y="3467160"/>
            <a:ext cx="352440" cy="189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25400" y="3448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in *,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36600" y="292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ort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61000" y="230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36600" y="530244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in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3362400" y="4739760"/>
            <a:ext cx="600120" cy="481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Shared Tree After Join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856560" y="2986200"/>
            <a:ext cx="26964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7243920" y="2798280"/>
            <a:ext cx="39816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46360" y="5083200"/>
            <a:ext cx="78768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962520" y="472752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569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37000" y="572616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3714840" y="524340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844440" y="4680000"/>
            <a:ext cx="141480" cy="43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597120" y="5210280"/>
            <a:ext cx="17784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409920" y="3457440"/>
            <a:ext cx="9525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16160" y="4116240"/>
            <a:ext cx="75240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Source Based Tree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856560" y="2986200"/>
            <a:ext cx="26964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43920" y="2798280"/>
            <a:ext cx="39816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46360" y="5083200"/>
            <a:ext cx="78768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962520" y="472752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569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37000" y="572616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714840" y="524340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3844440" y="4680000"/>
            <a:ext cx="141480" cy="43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597120" y="5210280"/>
            <a:ext cx="17784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3409920" y="3457440"/>
            <a:ext cx="95256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16160" y="4116240"/>
            <a:ext cx="75240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816920" y="4023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in s,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2376360" y="3940200"/>
            <a:ext cx="588960" cy="23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1730520" y="3963960"/>
            <a:ext cx="588960" cy="23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Source Based Tree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03400" y="37018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38720" y="2951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010040" y="43848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76800" y="5006880"/>
            <a:ext cx="37656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340000" y="38559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524560" y="353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222720" y="32464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46480" y="39751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2480" y="4668840"/>
            <a:ext cx="8827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62520" y="477684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21320" y="567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15880" y="350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14400" y="36669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294000" y="31730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2680" y="49150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27400" y="3492360"/>
            <a:ext cx="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74800" y="372600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089680" y="4092480"/>
            <a:ext cx="1352520" cy="124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3914640" y="2575080"/>
            <a:ext cx="1587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28760" y="3538440"/>
            <a:ext cx="44748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77040" y="570240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900680" y="182088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02040" y="17971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864480" y="2611440"/>
            <a:ext cx="51732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405480" y="2997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714920" y="3186000"/>
            <a:ext cx="85896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546960" y="5303880"/>
            <a:ext cx="57600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97560" y="53164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91480" y="5551560"/>
            <a:ext cx="37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4538520" y="25873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40910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113440" y="21981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56120" y="3822840"/>
            <a:ext cx="2700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5856120" y="3292200"/>
            <a:ext cx="6112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772320" y="293976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46320" y="179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33800" y="178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08520" y="3092400"/>
            <a:ext cx="71748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645080" y="25984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184640" y="219852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32240" y="224460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91360" y="54324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43600" y="5667480"/>
            <a:ext cx="38736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925960" y="3222360"/>
            <a:ext cx="4114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62320" y="3738600"/>
            <a:ext cx="530280" cy="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449840" y="233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405560" y="2362320"/>
            <a:ext cx="44784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7135920" y="2773080"/>
            <a:ext cx="365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856560" y="2986200"/>
            <a:ext cx="269640" cy="18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7243920" y="2798280"/>
            <a:ext cx="39816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90840" y="334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02400" y="3903840"/>
            <a:ext cx="306360" cy="44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46360" y="5083200"/>
            <a:ext cx="787680" cy="26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962520" y="472752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569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37000" y="5726160"/>
            <a:ext cx="4474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714840" y="5243400"/>
            <a:ext cx="16488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844440" y="4680000"/>
            <a:ext cx="141480" cy="43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3597120" y="5210280"/>
            <a:ext cx="17784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16160" y="4116240"/>
            <a:ext cx="752400" cy="43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291000" y="45648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f join s,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80280" y="195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f sour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7054920" y="2257560"/>
            <a:ext cx="164880" cy="44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490800" y="4834080"/>
            <a:ext cx="693720" cy="23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Bone Deploy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01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provide multicast services without router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one as virtu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 routers, forward multicast traffic by tunneling over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vector for routing between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tunnel bw to avoid interfering with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pread u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IM Protocol Independenc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sent to specific targets using unicast rout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join: send t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join: send to 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based tree creation: send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packets: send to RPs,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access links confuse reference counting: all routers listen for add/pr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ow do we decide on RP’s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consensus of which RP to use for each group, or nothing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d bootstrap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 candidates register with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 broadcasts candidate RP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s use consistent hash to select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Routing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e routing problem into sub-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each organization to choose their ow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table size by aggregating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Broadcast and Prun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Path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incoming packet if not from revers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incoming packet to all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Path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eighbor AS, compute if we’re on reverse path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incoming packets to useful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e prunes across AS back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Link Stat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topology, group membership within ea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AS topology, group membership, to all AS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ulticast tree across AS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incoming/outgoing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ulticast tree within ea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PI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sender and receiver jo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indepen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border routers propagate joins across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interoperate PIM with broadcast&amp;pr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Hierarchical Routing Mechan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each AS uses its own algorith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multicast packet may arrive on any border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tect routing 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e explicit joins in P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duce table size using aggreg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nearby sources? similar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ulticast Address Alloc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ynamic than unicast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cross organizationa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er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ddresses for inter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es for glob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allo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sten to tell if address i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nflict resolutio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otiv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 with reverse path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prunes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control over liste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listen to multicast convers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ing more difficult in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sub-group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 a leader/suppress duplicat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nearest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cope Control Mechanis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 TT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uses TTL = max diameter of local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order router, forward pkts iff &gt; local T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block of “local”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order router, forward only glob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Multicast Service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42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by (inter)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help from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ed as virtual network (MB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effort (unreliable, unordered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ddressed t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allocated from special range i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L for scope control (ex: send one h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panding Ring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“nearest”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ly send to more and more of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irst to all receivers within one hop, then two hops, then three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receivers have different bandwid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32160" y="3989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84720" y="3997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19680" y="3246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91000" y="46800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59320" y="53020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29440" y="48182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40440" y="58309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20960" y="41511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35840" y="320976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3703680" y="354168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27440" y="427032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3440" y="496404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5702400" y="5070240"/>
            <a:ext cx="541080" cy="29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67480" y="561168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97320" y="337644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79920" y="587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43360" y="322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84840" y="473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450880" y="348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57680" y="4257720"/>
            <a:ext cx="49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68760" y="4375080"/>
            <a:ext cx="68256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808520" y="5079960"/>
            <a:ext cx="506520" cy="34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774960" y="3468240"/>
            <a:ext cx="101124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232240" y="3246480"/>
            <a:ext cx="89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5632560" y="4986000"/>
            <a:ext cx="56340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73880" y="5727600"/>
            <a:ext cx="387360" cy="2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9640" y="4471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551040" y="3236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13080" y="2824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075200" y="4223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73800" y="470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33960" y="597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6K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signal at multiple gran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Kb/s - voi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Mb/s - choppy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Mb/s - high quality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ackets at router if can’t handle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persistent congestion at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upstream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ceiver-Driven Layered Multicas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s dynamically adapt to availabl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ayer a separat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ubscribes to max layer that will get through with minimal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acket drops as congestion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rops =&gt; try subscribing to high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=&gt; unsubscribe to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Mechanic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s periodically try subscribing to highe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nsuccessful, overwhelms bottleneck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packet losses for other receiv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other receivers drop lay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wo conflicting subscribes at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LM Receiver Coordin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advertises intent to add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congestion signal during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onflicting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advertises result when done.  Example of shared lea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uccessful, other receivers ad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nsuccessful, wait longer until next r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P Multicast Service Mode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, one or many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-- anyone can join, le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long to any number of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s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send packet to grou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or may not be i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ulticast virtual circu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N Multicast Rout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1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supported on shared media LANs (Ethernet, FD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 subscribes t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layer notifies Ethernet card to listen to packets with grou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witched LANs?          (switched Ethernet, AT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 already requires broadcast suppo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looding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aven’t seen a packet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it on every link but in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witches to remember each p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86000" y="42814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14440" y="43070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7000" y="43149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02320" y="356400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73640" y="4997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41960" y="561960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1720" y="5135400"/>
            <a:ext cx="37656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23080" y="614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74800" y="448164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3600" y="446868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8120" y="3527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86320" y="3859200"/>
            <a:ext cx="11761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0080" y="4587840"/>
            <a:ext cx="78732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6080" y="5281560"/>
            <a:ext cx="56520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584680" y="5387760"/>
            <a:ext cx="541440" cy="29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49760" y="5929200"/>
            <a:ext cx="376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9960" y="3693960"/>
            <a:ext cx="93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2560" y="619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26000" y="354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67480" y="5050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960" y="3804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619520" y="3904920"/>
            <a:ext cx="306360" cy="10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3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panning Tre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every host gets one copy (retransmission needed for dro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78240" y="41403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32200" y="38545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040" y="380844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78280" y="498312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38520" y="542916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46720" y="5557680"/>
            <a:ext cx="376200" cy="34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16160" y="3621240"/>
            <a:ext cx="42372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6680" y="4805280"/>
            <a:ext cx="376200" cy="34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18400" y="3209760"/>
            <a:ext cx="42372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1960" y="4726080"/>
            <a:ext cx="4240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90760" y="5773680"/>
            <a:ext cx="423720" cy="3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5600" y="5830920"/>
            <a:ext cx="424080" cy="3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16280" y="5655960"/>
            <a:ext cx="8348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39880" y="3774960"/>
            <a:ext cx="76356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44720" y="4068720"/>
            <a:ext cx="98748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221000" y="3962520"/>
            <a:ext cx="1198800" cy="4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37320" y="3444480"/>
            <a:ext cx="10936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4210200"/>
            <a:ext cx="58680" cy="79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103560" y="5245200"/>
            <a:ext cx="80028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45120" y="5221440"/>
            <a:ext cx="113976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643720" y="5114880"/>
            <a:ext cx="44748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408720" y="4938480"/>
            <a:ext cx="928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02400" y="5808600"/>
            <a:ext cx="10350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03600" y="4479840"/>
            <a:ext cx="212760" cy="9763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244760" y="4151160"/>
            <a:ext cx="1245960" cy="91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78640" y="4127400"/>
            <a:ext cx="458640" cy="692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11:14Z</dcterms:created>
  <dc:creator>Stefan Savage</dc:creator>
  <dc:description/>
  <dc:language>en-US</dc:language>
  <cp:lastModifiedBy>cse</cp:lastModifiedBy>
  <cp:lastPrinted>1999-02-18T02:30:17Z</cp:lastPrinted>
  <dcterms:modified xsi:type="dcterms:W3CDTF">1999-05-06T00:20:33Z</dcterms:modified>
  <cp:revision>135</cp:revision>
  <dc:subject/>
  <dc:title>Eraser: A Dynamic Race Detector for  Multi-Threaded Programs</dc:title>
</cp:coreProperties>
</file>