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5A3F-8F2E-403D-9AB2-4AD072A3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7E3C-C1F0-4EEA-84B0-A2AD05DD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8D05-4889-45EA-B9A3-4DA3D23B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FAEA-3371-4C1F-9AD2-E9495402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2836-5D4A-40B8-B746-C5EB3D3C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3636-153B-4EAC-BFE7-9D817345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BE9E-B61F-465B-99EA-1F0404B5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0EF6-1B8E-48A5-B4CF-46CA9CC5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A9D4-60E7-4CCF-81F1-20C58B27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B2C0-48B7-4D7A-A7E6-877C19A2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F8F8-AFCE-47D1-B7CA-5AC4F227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8E1C-CDFC-4710-8182-E4747A79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D30C-DBC9-4F15-BECF-52E1C2B4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9866-9BD5-4A81-9BCC-0AEDE4B8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676D-4F62-4E8F-944B-E6614E1B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6535-057A-4F4C-B7CB-8DF2D1A5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C42E-CD48-4BE4-809F-5B62FDD1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9FE2-6403-417A-9CAB-F5682FDA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B680-6429-4CDF-B717-34FF5D60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D078-1E4B-419E-B452-A4515BA9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AA43-A3A4-416F-B9BD-6D33A88A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E57-564B-4929-A259-72B25F43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FF84-3168-422C-A90B-723D69FE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CD6C-2C24-44E3-8B62-B134BEEA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34B9-705B-404E-8ED5-86A592560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98E5-FBAA-49DD-B41B-AF21D72C5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ecture 5: Congestion Contro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: how do we efficiently share network resources among billions of h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time: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ime: Alternative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air Queue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e resources equally among all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delay for interactive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on against misbehaving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simulate general processor sharing (bitwise round rob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ompute number of competing flows, at each i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cheduling Background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77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minimize avg response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be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fa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hortest job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equal size jobs, start at t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robin =&gt; all finish at sa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O =&gt; minimizes avg respons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qual size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robin =&gt; bad if lots of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O =&gt; small jobs delayed behind big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source Allocation via Pric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2760" y="1935000"/>
            <a:ext cx="829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has flat rate pr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ueing delay = implicit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enalty for being a bad citi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: usage-based pr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priority levels with different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self-select based on price sensitivity, expected 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riority for interactive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riority for background file trans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ongestion Control Classific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it vs. implicit state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: DECbit,  ATM rates, cr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it: TCP, packet-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window vs. dynamic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: TCP, DECbit, cr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: packet-pair, ATM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to end vs. hop by 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to end: TCP, DECbit, ATM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p by hop: credits, hop by hop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acket Pair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it, dynamic rate, end to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fair queueing at all ro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all packets in p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leneck router will separate packet pair at exactly fair shar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rate across pairs (moving av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rate to achieve desired queue length at bottlen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CP Vega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it, dynamic window, end to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expected to actual 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= window size / round trip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= acks / round trip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ctual &lt; expected, queues increasing =&gt; decrease rate before packet dr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ctual &gt; expected, queues decreasing =&gt; increas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TM Forum Rate Contro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it, dynamic rate, end to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ically send rate contro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es in path provide min fair shar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 decrease, additive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urce goes idle, go back to initial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response, multiplicative 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 share comput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d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info provided by host in rate control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TM Forum Rate Contro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16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witches don’t support rat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es set congestion bit (as in DECb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nential decrease, additive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erability prevents immediate increase even when switches support rat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s evenly space cells at defined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s short bursts (would foil rat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to implement if multiple connections per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p by Hop Rate Contro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it, dynamic rate, hop by 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witch measures rate packets are departing, per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sends rate info up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stream switch throttles rate to reach target downstream buffer occup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 is shorter control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p by Hop Credit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18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it, dynamic window, hop by 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send packet without buffer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stream switch sends credits as packets de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stream switch counts downstream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FIFO queueing, head of line blo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s fill with traffic for bottlen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traffic waits behind bottlen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ide Design Spa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bit, Fair queueing,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pair, TCP Ve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control, cr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s and pr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ead of Line Block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534680" y="3191400"/>
            <a:ext cx="5040360" cy="2829600"/>
            <a:chOff x="1534680" y="3191400"/>
            <a:chExt cx="5040360" cy="2829600"/>
          </a:xfrm>
        </p:grpSpPr>
        <p:grpSp>
          <p:nvGrpSpPr>
            <p:cNvPr id="128" name=""/>
            <p:cNvGrpSpPr/>
            <p:nvPr/>
          </p:nvGrpSpPr>
          <p:grpSpPr>
            <a:xfrm>
              <a:off x="1853280" y="3252240"/>
              <a:ext cx="4721760" cy="2768760"/>
              <a:chOff x="1853280" y="3252240"/>
              <a:chExt cx="4721760" cy="2768760"/>
            </a:xfrm>
          </p:grpSpPr>
          <p:sp>
            <p:nvSpPr>
              <p:cNvPr id="129" name=""/>
              <p:cNvSpPr/>
              <p:nvPr/>
            </p:nvSpPr>
            <p:spPr>
              <a:xfrm>
                <a:off x="2784600" y="3252240"/>
                <a:ext cx="2810880" cy="2768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864800" y="3542040"/>
                <a:ext cx="9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635440" y="3542040"/>
                <a:ext cx="9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863360" y="4137840"/>
                <a:ext cx="9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855440" y="5494680"/>
                <a:ext cx="9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53280" y="4847400"/>
                <a:ext cx="9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614200" y="4088880"/>
                <a:ext cx="9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613120" y="4872240"/>
                <a:ext cx="9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614200" y="5525280"/>
                <a:ext cx="9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055400" y="3333240"/>
                <a:ext cx="249840" cy="25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Crossb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851280" y="3453840"/>
                <a:ext cx="677520" cy="2316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046320" y="3396960"/>
                <a:ext cx="571680" cy="333000"/>
              </a:xfrm>
              <a:custGeom>
                <a:avLst/>
                <a:gdLst>
                  <a:gd name="textAreaLeft" fmla="*/ 89280 w 571680"/>
                  <a:gd name="textAreaRight" fmla="*/ 500400 w 571680"/>
                  <a:gd name="textAreaTop" fmla="*/ 83160 h 333000"/>
                  <a:gd name="textAreaBottom" fmla="*/ 249840 h 33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085920" y="3978000"/>
                <a:ext cx="571680" cy="333000"/>
              </a:xfrm>
              <a:custGeom>
                <a:avLst/>
                <a:gdLst>
                  <a:gd name="textAreaLeft" fmla="*/ 89280 w 571680"/>
                  <a:gd name="textAreaRight" fmla="*/ 500400 w 571680"/>
                  <a:gd name="textAreaTop" fmla="*/ 83160 h 333000"/>
                  <a:gd name="textAreaBottom" fmla="*/ 249840 h 33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819680" y="3371760"/>
                <a:ext cx="571680" cy="333360"/>
              </a:xfrm>
              <a:custGeom>
                <a:avLst/>
                <a:gdLst>
                  <a:gd name="textAreaLeft" fmla="*/ 89280 w 571680"/>
                  <a:gd name="textAreaRight" fmla="*/ 500400 w 571680"/>
                  <a:gd name="textAreaTop" fmla="*/ 83160 h 333360"/>
                  <a:gd name="textAreaBottom" fmla="*/ 250200 h 333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762080" y="4687200"/>
                <a:ext cx="571680" cy="333000"/>
              </a:xfrm>
              <a:custGeom>
                <a:avLst/>
                <a:gdLst>
                  <a:gd name="textAreaLeft" fmla="*/ 89280 w 571680"/>
                  <a:gd name="textAreaRight" fmla="*/ 500400 w 571680"/>
                  <a:gd name="textAreaTop" fmla="*/ 83160 h 333000"/>
                  <a:gd name="textAreaBottom" fmla="*/ 249840 h 33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808160" y="3927600"/>
                <a:ext cx="571680" cy="333360"/>
              </a:xfrm>
              <a:custGeom>
                <a:avLst/>
                <a:gdLst>
                  <a:gd name="textAreaLeft" fmla="*/ 89280 w 571680"/>
                  <a:gd name="textAreaRight" fmla="*/ 500400 w 571680"/>
                  <a:gd name="textAreaTop" fmla="*/ 83160 h 333360"/>
                  <a:gd name="textAreaBottom" fmla="*/ 250200 h 333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12200" y="4687200"/>
                <a:ext cx="571680" cy="333000"/>
              </a:xfrm>
              <a:custGeom>
                <a:avLst/>
                <a:gdLst>
                  <a:gd name="textAreaLeft" fmla="*/ 89280 w 571680"/>
                  <a:gd name="textAreaRight" fmla="*/ 500400 w 571680"/>
                  <a:gd name="textAreaTop" fmla="*/ 83160 h 333000"/>
                  <a:gd name="textAreaBottom" fmla="*/ 249840 h 33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121200" y="5324400"/>
                <a:ext cx="571680" cy="333360"/>
              </a:xfrm>
              <a:custGeom>
                <a:avLst/>
                <a:gdLst>
                  <a:gd name="textAreaLeft" fmla="*/ 89280 w 571680"/>
                  <a:gd name="textAreaRight" fmla="*/ 500400 w 571680"/>
                  <a:gd name="textAreaTop" fmla="*/ 83160 h 333360"/>
                  <a:gd name="textAreaBottom" fmla="*/ 250200 h 333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817520" y="5348520"/>
                <a:ext cx="571680" cy="333360"/>
              </a:xfrm>
              <a:custGeom>
                <a:avLst/>
                <a:gdLst>
                  <a:gd name="textAreaLeft" fmla="*/ 89280 w 571680"/>
                  <a:gd name="textAreaRight" fmla="*/ 500400 w 571680"/>
                  <a:gd name="textAreaTop" fmla="*/ 83160 h 333360"/>
                  <a:gd name="textAreaBottom" fmla="*/ 250200 h 333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1680840" y="31914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aaaa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01360" y="37605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bbbb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34680" y="44402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ecece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1360" y="5079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ddd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720400" y="3142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c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74240" y="4351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  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voiding Head of Line Block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rinet: make network faster than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2: per-flow queue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buffer space allo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bandwidth * latency per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buffer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buffers for higher rate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flow starts and sto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traffic is self-similar =&gt; highly bur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CP vs. Rates vs. Credit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it take for web response to take only a single RT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: if send all at once =&gt; more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52520" y="3525840"/>
          <a:ext cx="6083280" cy="299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3525840"/>
                    <a:ext cx="608328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haring congestion inform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-host 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web connections from a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Padmanabhan98, Touch97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-host 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large server farm or a large client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potential is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estination localit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952560" y="1473120"/>
          <a:ext cx="6819840" cy="523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473120"/>
                    <a:ext cx="6819840" cy="52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haring Congestion Inform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520920" cy="774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638680" y="4038480"/>
            <a:ext cx="905040" cy="1314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62120" y="3505320"/>
            <a:ext cx="237960" cy="4190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1219320" y="3505320"/>
            <a:ext cx="237960" cy="4190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1676520" y="3505320"/>
            <a:ext cx="237960" cy="4190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621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29400" y="4038480"/>
            <a:ext cx="1752480" cy="909720"/>
          </a:xfrm>
          <a:prstGeom prst="rightArrow">
            <a:avLst>
              <a:gd name="adj1" fmla="val 50000"/>
              <a:gd name="adj2" fmla="val 4816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4640" y="39913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061640" y="4343400"/>
            <a:ext cx="99540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2133720"/>
            <a:ext cx="2438640" cy="2438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3505320"/>
            <a:ext cx="533520" cy="1904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5715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62485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6324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5181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5486400"/>
            <a:ext cx="4572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914400" y="5638680"/>
            <a:ext cx="4572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990720" y="5790960"/>
            <a:ext cx="45720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676520" y="5791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5410080"/>
            <a:ext cx="3812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5486400"/>
            <a:ext cx="4572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2971800" y="5790960"/>
            <a:ext cx="45720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5715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14600" y="6172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63244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3047760" y="563868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828800" y="5562360"/>
            <a:ext cx="7621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819520" y="571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14600" y="4038480"/>
            <a:ext cx="4572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523880" y="4343040"/>
            <a:ext cx="10288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819520" y="3124080"/>
            <a:ext cx="5619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743200" y="3124080"/>
            <a:ext cx="1522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666880" y="4343040"/>
            <a:ext cx="7632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419112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048120" y="5029200"/>
            <a:ext cx="7617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2560" y="15991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prise/Campus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08040" y="342792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der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45720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2362320"/>
            <a:ext cx="0" cy="4114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86280" y="3814920"/>
            <a:ext cx="2070000" cy="1290600"/>
          </a:xfrm>
          <a:prstGeom prst="hexagon">
            <a:avLst>
              <a:gd name="adj" fmla="val 40098"/>
              <a:gd name="vf" fmla="val 11547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1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ime to Re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459080" y="1579680"/>
          <a:ext cx="5905440" cy="38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9080" y="1579680"/>
                    <a:ext cx="59054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3449520" y="5487840"/>
            <a:ext cx="1844640" cy="9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97320" y="5149800"/>
            <a:ext cx="1854000" cy="1650960"/>
          </a:xfrm>
          <a:prstGeom prst="ellipse">
            <a:avLst/>
          </a:prstGeom>
          <a:noFill/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683160" y="5346720"/>
            <a:ext cx="1225440" cy="1231920"/>
          </a:xfrm>
          <a:prstGeom prst="line">
            <a:avLst/>
          </a:prstGeom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ulticast Preview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to multiple receivers at 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casting, narrow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t every aspect of 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l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tandard “Drop Tail” Router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33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in, first out” schedule for out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any arriving packet if no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xplicit congestion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end more packets, get mor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ation: free buffer =&gt; host s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buffers can actual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outer Solution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both router and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bit -- congestion bit in packet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router, hosts use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 queu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-connection buffer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-- Random early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 packet or set bit in packet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ECbit router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2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 tracks average queue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eneration cycle: queue goes from  empty to non-empty to emp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from start of previous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verage &gt; 1, router sets bit for flows sending more than their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verage &gt; 2, router sets bit in every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 can be set by any router in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s carry bit back to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ECbit sour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072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averages across acks i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if &gt; 50% of bits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detect congestion earlier than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ve increase, multiplicative de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 factor = 0.875 (7/8 vs. TCP 1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hange, ignore DECbit for packets in flight (vs. TCP ignore other drops in wind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low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andom Early Detec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improve TCP performance with minimal hardware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TCP synchronization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uple buffer size from congestion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average queue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nentially weighted moving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vg &gt; low threshold, drop with low pr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vg &gt; high threshold, drop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ax-min fairnes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a single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e bandwidth equally among all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one doesn’t need share, redis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the minimum bandwidth provided to any flow not receiving its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-wide 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urces send at minimum (max-min) rate along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rates are chang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mplementing max-min fairnes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processor 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-flow queu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wise round robin among all que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not simple round rob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packet length =&gt; can get more service by sending bigger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fair instantaneous servic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arrive just before/after packet depar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5T18:11:14Z</dcterms:created>
  <dc:creator>Stefan Savage</dc:creator>
  <dc:description/>
  <dc:language>en-US</dc:language>
  <cp:lastModifiedBy>cse</cp:lastModifiedBy>
  <cp:lastPrinted>1999-02-18T02:30:17Z</cp:lastPrinted>
  <dcterms:modified xsi:type="dcterms:W3CDTF">1999-04-28T10:04:30Z</dcterms:modified>
  <cp:revision>115</cp:revision>
  <dc:subject/>
  <dc:title>Eraser: A Dynamic Race Detector for  Multi-Threaded Programs</dc:title>
</cp:coreProperties>
</file>