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BBA-4ECE-458F-96E3-FC6A05AA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8BD-2ABD-4BBB-BC5C-DE0ABCE9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533-2F32-4F0D-9183-A96FCF5A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F61-27B7-4E19-A24B-0864E623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B903-A2DB-4C64-BBDD-E92F3B03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9B2D-C418-413A-92B2-031E35F4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5FA8-B4B3-4726-87B2-CC127B9F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90B9-2D9F-4B94-B865-70A7EE4E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36AF-32F1-45D1-9FFC-14D6BAAB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52E2-A5AE-4185-B4A4-74D10664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EAC-8551-4DD0-89B0-47A5AA5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74A-47B4-429F-B618-E722CA39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B70-7551-4BCA-AA77-7964A87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D5F-5603-496B-BA0D-CD66A26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836-17DA-4010-BC7C-E412E82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C0D3-E041-4BA0-949E-5E03856A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39D-BD48-4E14-9F05-E4D32F8A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97F-9516-4887-9A56-EC30138A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3FC-EACE-4634-8D5E-ADA9976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6E6-E01F-4570-80F4-8E8CFCA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957-E2AE-4E00-95FF-C7D6051D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79B-866A-4CFF-9444-4B20AE7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679-0688-49D4-B117-8BB2205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3AC-D879-4755-9BA9-14607538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D37-EFB8-4DD8-B205-B9DCD9222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2C4-791A-4479-8B10-532D5CA4D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5: Congestion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hare network resources among billions of h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: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air Queue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resources equally among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delay for interactiv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against misbehaving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: simulate general processor sharing (bitwise round rob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ute number of competing flows, at each i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heduling Backgroun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inimize avg response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ortest job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equal size jobs, start at t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 =&gt; all finish at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=&gt; minimizes avg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qual siz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robin =&gt; bad if lot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=&gt; small jobs delayed behind bi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source Allocation via Pric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2760" y="1935000"/>
            <a:ext cx="829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has flat rate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delay = implici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nalty for being a bad cit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: usage-base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iority levels with different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elf-select based on price sensitivity, expected 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iority for interactiv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for background file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gestion Control Classifi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vs. implicit state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: DECbit,  ATM rates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: TCP, packet-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window vs. dynam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: TCP, DECbit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: packet-pair, ATM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o end vs.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to end: TCP, DECbit, ATM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 by hop: credits, hop by hop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acket Pai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, dynamic rate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fair queueing at all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ll packets i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router will separate packet pair at exactly fair sha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rate across pairs (moving av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 to achieve desired queue length at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Vega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, dynamic window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tual &lt; expected, queues increasing =&gt; decrease rate before packet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ctual &gt; expected, queues decreasing =&gt;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TM Forum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rate, end to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send rate contro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in path provide min fair sha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decrease, additiv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urce goes idle, go back to initi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response, 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share comput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nfo provided by host in rate contro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TM Forum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6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witches don’t support ra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set congestion bit (as in DEC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decrease, additiv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 prevents immediate increase even when switches support 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evenly space cells at defined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short bursts (would foil rat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implement if multiple connections pe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Rate Contro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rate,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witch measures rate packets are departing, per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ends rate info up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switch throttles rate to reach target downstream buffer occup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 is shorter control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p by Hop Cred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8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, dynamic window, hop by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end packet without buff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stream switch sends credits as packets de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switch counts downstream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IFO queueing, head of line 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s fill with traffic for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raffic waits behind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ide Design Sp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, Fair queueing,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air, TCP V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control,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 an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ead of Line Block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34680" y="3191400"/>
            <a:ext cx="5040360" cy="2829600"/>
            <a:chOff x="1534680" y="3191400"/>
            <a:chExt cx="5040360" cy="2829600"/>
          </a:xfrm>
        </p:grpSpPr>
        <p:grpSp>
          <p:nvGrpSpPr>
            <p:cNvPr id="128" name=""/>
            <p:cNvGrpSpPr/>
            <p:nvPr/>
          </p:nvGrpSpPr>
          <p:grpSpPr>
            <a:xfrm>
              <a:off x="1853280" y="3252240"/>
              <a:ext cx="4721760" cy="2768760"/>
              <a:chOff x="1853280" y="3252240"/>
              <a:chExt cx="4721760" cy="2768760"/>
            </a:xfrm>
          </p:grpSpPr>
          <p:sp>
            <p:nvSpPr>
              <p:cNvPr id="129" name=""/>
              <p:cNvSpPr/>
              <p:nvPr/>
            </p:nvSpPr>
            <p:spPr>
              <a:xfrm>
                <a:off x="2784600" y="3252240"/>
                <a:ext cx="2810880" cy="276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64800" y="35420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35440" y="35420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63360" y="41378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55440" y="54946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3280" y="484740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14200" y="40888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13120" y="487224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14200" y="5525280"/>
                <a:ext cx="93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55400" y="3333240"/>
                <a:ext cx="24984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Crossb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1280" y="3453840"/>
                <a:ext cx="677520" cy="231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6320" y="339696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85920" y="39780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19680" y="337176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2080" y="46872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08160" y="392760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2200" y="4687200"/>
                <a:ext cx="571680" cy="33300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000"/>
                  <a:gd name="textAreaBottom" fmla="*/ 249840 h 33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21200" y="532440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17520" y="5348520"/>
                <a:ext cx="571680" cy="333360"/>
              </a:xfrm>
              <a:custGeom>
                <a:avLst/>
                <a:gdLst>
                  <a:gd name="textAreaLeft" fmla="*/ 89280 w 571680"/>
                  <a:gd name="textAreaRight" fmla="*/ 500400 w 571680"/>
                  <a:gd name="textAreaTop" fmla="*/ 83160 h 333360"/>
                  <a:gd name="textAreaBottom" fmla="*/ 250200 h 33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80840" y="31914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1360" y="3760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bbb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680" y="4440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ecec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1360" y="5079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ddd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720400" y="314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c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4240" y="4351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 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voiding Head of Line Block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rinet: make network faster tha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2: per-flow queue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buffer space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andwidth * latency p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buffer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ffers for higher rat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flow starts and st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traffic is self-similar =&gt; highly bur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CP vs. Rates vs. Credi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take for web response to take only a single RT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 if send all at once =&gt; more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52520" y="3525840"/>
          <a:ext cx="6083280" cy="29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3525840"/>
                    <a:ext cx="608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web connections from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admanabhan98, Touch9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host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large server farm or a large clien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potential is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stination localit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52560" y="1473120"/>
          <a:ext cx="6819840" cy="523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73120"/>
                    <a:ext cx="68198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haring Congestion Inform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20920" cy="77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905040" cy="131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237960" cy="419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237960" cy="419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04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4038480"/>
            <a:ext cx="1752480" cy="909720"/>
          </a:xfrm>
          <a:prstGeom prst="rightArrow">
            <a:avLst>
              <a:gd name="adj1" fmla="val 50000"/>
              <a:gd name="adj2" fmla="val 4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4640" y="39913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061640" y="4343400"/>
            <a:ext cx="99540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2133720"/>
            <a:ext cx="243864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505320"/>
            <a:ext cx="53352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6248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324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914400" y="56386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9072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76520" y="5791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4100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48640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971800" y="57909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715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6172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6324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7760" y="56386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5562360"/>
            <a:ext cx="7621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195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038480"/>
            <a:ext cx="4572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4343040"/>
            <a:ext cx="10288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19520" y="3124080"/>
            <a:ext cx="561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43200" y="312408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666880" y="4343040"/>
            <a:ext cx="763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48120" y="5029200"/>
            <a:ext cx="7617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2560" y="15991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/Camp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8040" y="342792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572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2362320"/>
            <a:ext cx="0" cy="41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86280" y="3814920"/>
            <a:ext cx="2070000" cy="1290600"/>
          </a:xfrm>
          <a:prstGeom prst="hexagon">
            <a:avLst>
              <a:gd name="adj" fmla="val 40098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1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me to Re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59080" y="1579680"/>
          <a:ext cx="590544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579680"/>
                    <a:ext cx="59054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49520" y="5487840"/>
            <a:ext cx="18446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97320" y="5149800"/>
            <a:ext cx="1854000" cy="1650960"/>
          </a:xfrm>
          <a:prstGeom prst="ellipse">
            <a:avLst/>
          </a:prstGeom>
          <a:noFill/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683160" y="5346720"/>
            <a:ext cx="1225440" cy="1231920"/>
          </a:xfrm>
          <a:prstGeom prst="line">
            <a:avLst/>
          </a:prstGeom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Previe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to multiple receiver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ing, narrow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every aspect of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tandard “Drop Tail” Route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33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, first out” schedule for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any arriving packet if no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nd more packets, get mor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: free buffer =&gt; host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ffers can act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outer Solu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--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-- Random early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Cbit route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2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tracks average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ion cycle: queue goes from  empty to non-empty to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from start of previou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erage &gt; 1, router sets bit for flows sending more than the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erage &gt; 2, router sets bit in every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can be set by any router i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s carry bit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Cbit sour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7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verages across acks i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if &gt; 50% of bits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etect congestion earlier tha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factor = 0.875 (7/8 vs. TCP 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hange, ignore DECbit for packets in flight (vs. TCP ignore other drops in win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ow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ndom Early Detec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CP synchroniza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uple buffer size from congestion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verage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ly weighted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g &gt; low threshold, drop with low pr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vg &gt; high threshold, drop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x-min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singl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 bandwidth equally among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one doesn’t need share, redis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the minimum bandwidth provided to any flow not receiving it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-wid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urces send at minimum (max-min) rate along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rates are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mplementing max-min fairn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ocesso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flow 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round robin among al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simple round ro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length =&gt; can get more service by sending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instantaneous servi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rrive just before/after packet de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4-28T10:04:30Z</dcterms:modified>
  <cp:revision>115</cp:revision>
  <dc:subject/>
  <dc:title>Eraser: A Dynamic Race Detector for  Multi-Threaded Programs</dc:title>
</cp:coreProperties>
</file>