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9E5-399D-44E2-B762-E17D0078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AC2-3831-4101-8B6D-E8D51535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DD4-83B1-4891-9BF4-E23A5F59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F2E-E8CB-4BF1-AF43-876CF69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4EEA-35F8-4DE1-B592-354AD398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335-F50D-4AF5-AECB-70ECBCEE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9CB-A91A-455D-A37F-09A94586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BE5-DADD-4A4B-96B6-A4D1C8C6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7346-B683-425D-A020-E040D84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B77D-F6F3-4728-9C42-1D6C9AE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142-9EA6-4064-BFEE-E165022F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43D-A608-40F7-8552-36AD8668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0A7-E5CA-41D6-A127-565BDB42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59C5-2484-4CBC-9B94-C9A7BEB7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43A-10E8-423C-97C1-76B09842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44E9-6B82-46B6-B88D-27F241C2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009A-4337-4D19-925B-454A4E8F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747-5629-4EC7-9763-5A8DCEC9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E62-72A4-4191-A638-29057D7A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EFB-FFD0-4600-843C-C320EE2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286-AE7E-4A2F-B388-ABD6F902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0A1-1EF3-4466-98B9-57085B92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854-E5A2-4C68-BFEF-47A1EFA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6E1-8864-4F71-94A9-9810A53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3174-D502-4C00-9F84-A9EC74FB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B51-F85B-45BB-AE8E-4D9FE8DBF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4: Congestion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hare network resources among billions of h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s adjust rate based on packet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time: Alternativ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queueing,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as, packe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N, rate control, 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a timeout to s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round-trip tim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+ (1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moothing factor of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is measured round-trip time (ACK’s to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out at 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elay variance factor of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Karn’s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estimate RTT when data is retransmit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sample RTT when you retransm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dded exponential backoff to retransmit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r Conges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rate of packets arriving &gt; rate of packets depar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drop any overflow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589760" y="2956320"/>
            <a:ext cx="4950000" cy="2829600"/>
            <a:chOff x="1589760" y="2956320"/>
            <a:chExt cx="4950000" cy="2829600"/>
          </a:xfrm>
        </p:grpSpPr>
        <p:grpSp>
          <p:nvGrpSpPr>
            <p:cNvPr id="223" name=""/>
            <p:cNvGrpSpPr/>
            <p:nvPr/>
          </p:nvGrpSpPr>
          <p:grpSpPr>
            <a:xfrm>
              <a:off x="1818000" y="3017160"/>
              <a:ext cx="4721760" cy="2768760"/>
              <a:chOff x="1818000" y="3017160"/>
              <a:chExt cx="4721760" cy="2768760"/>
            </a:xfrm>
          </p:grpSpPr>
          <p:sp>
            <p:nvSpPr>
              <p:cNvPr id="224" name=""/>
              <p:cNvSpPr/>
              <p:nvPr/>
            </p:nvSpPr>
            <p:spPr>
              <a:xfrm>
                <a:off x="2749320" y="3017160"/>
                <a:ext cx="2811240" cy="276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29520" y="33069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00160" y="33069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28080" y="39027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0160" y="5259600"/>
                <a:ext cx="9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18000" y="461232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79280" y="385380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78200" y="46371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79280" y="529020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20480" y="3098160"/>
                <a:ext cx="24984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Crossb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16360" y="3218760"/>
                <a:ext cx="677880" cy="231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11400" y="316188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50640" y="374292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84760" y="313668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27160" y="445212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73240" y="369252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76920" y="445212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085920" y="508932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82240" y="511344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645560" y="29563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aa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65720" y="3525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bb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89760" y="4205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cc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65720" y="4844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dd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685480" y="294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c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CP sent full window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inks become loaded, queues fill up, and this can lea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gestion collapse: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 round-trip time exceeds retransmit interval this can create a stable condition in which every packet is being retransmitted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d behavior: network oscillates between loaded and un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Jacobson Solu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etransmission timer to adapt to variations in queueing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 network bandwidth from packe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=&gt; congestion =&gt; redu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s also caused by link no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ops =&gt; no congestion =&gt; increas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send rate based on network bandwidth as well as receiv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Jacobson’s RTT estimato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eal with wide variance in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stimator of varianc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 = M -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 + gE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gain for avg = 1/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D + h(|Err| - 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gain for dev = 1/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at R + 4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variance is small, R do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Congestion Control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3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rate to match networ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increase/multiplicativ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e around bottleneck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identify bottleneck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acking the Bottleneck Bandwidth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= window size/R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ve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=&gt; dropped packet =&gt;                   cut window size in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arrives =&gt; no drop =&gt;                   increase window size by one packet/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“Sawtooth”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illates around bottlenec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to changes in competing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17560" y="2825640"/>
          <a:ext cx="585000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825640"/>
                    <a:ext cx="585000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Slow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star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nd bottleneck bandwid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 sending a singl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low to avoid overwhelming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increase until get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find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window &lt; bottleneck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to linear increase/multiplicative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brief Internet history..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4800" y="5334120"/>
            <a:ext cx="78087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2840" y="5337000"/>
            <a:ext cx="1440" cy="10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0192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756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95680" y="536904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1680" y="5381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7708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9272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408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972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528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85680" y="453672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000" y="3780000"/>
            <a:ext cx="103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19280" y="3551400"/>
            <a:ext cx="3240" cy="17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4240" y="2805120"/>
            <a:ext cx="9032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3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35000" y="452556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5320" y="3803760"/>
            <a:ext cx="642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4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29040" y="4570560"/>
            <a:ext cx="144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65280" y="3813120"/>
            <a:ext cx="99756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&amp;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793 &amp; 7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8160" y="3803760"/>
            <a:ext cx="6652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7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86120" y="4549320"/>
            <a:ext cx="144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97560" y="4511160"/>
            <a:ext cx="144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1760" y="3790800"/>
            <a:ext cx="642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194440" y="4076640"/>
            <a:ext cx="288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23360" y="3416400"/>
            <a:ext cx="6638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9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945040" y="3443400"/>
            <a:ext cx="3240" cy="18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22600" y="2735280"/>
            <a:ext cx="103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sol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329520" y="2684520"/>
            <a:ext cx="0" cy="263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65760" y="2114640"/>
            <a:ext cx="125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W/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2920" y="42670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56800" y="373068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161120" y="3762000"/>
            <a:ext cx="0" cy="15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840" y="3041640"/>
            <a:ext cx="140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-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17760" y="3833640"/>
            <a:ext cx="1125720" cy="73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ow Star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ly find the bottlenec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611360" y="2556000"/>
          <a:ext cx="585000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556000"/>
                    <a:ext cx="585000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ow Start Probl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 usually overshoots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se many packets in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ty traffic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ause bursty losses for other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nd entire time in slow st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voiding burstiness: ack pa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06400" y="2163600"/>
            <a:ext cx="5240520" cy="3610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320" y="369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52040" y="3780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39960" y="238608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86000" y="222084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686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66960" y="21384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96120" y="48322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19840" y="37386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24680" y="263196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95920" y="21034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70400" y="1640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38600" y="2110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79640" y="547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57440" y="437364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86200" y="5430960"/>
            <a:ext cx="280800" cy="258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61000" y="55720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4920" y="593316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ndow size = round trip delay * b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Ack Pa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queueing delays on return path changes spacing between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ck waits for single long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e with bursty cross-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after a time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k Pacing After Timeou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loss disrupts ack 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start/additive increase cause packet lo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ss, use slow start to regain ack 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to linear increase at last successfu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45320" y="16765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5840" y="16938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84560" y="17078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7240" y="2001240"/>
            <a:ext cx="78084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8320" y="23173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9480" y="271908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797160" y="25408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773400" y="284544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773400" y="31741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82760" y="35632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00720" y="1662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12760" y="214488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94320" y="208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16480" y="2250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70400" y="2660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7640" y="2859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85000" y="2410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9800" y="351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06880" y="3001320"/>
            <a:ext cx="139284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759000" y="3856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14960" y="261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21440" y="3823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1120" y="411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05080" y="484776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817680" y="56761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760" y="491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0960" y="575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outs dominate perform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08040" y="1697040"/>
          <a:ext cx="60102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697040"/>
                    <a:ext cx="60102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transm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1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detect packet loss without a time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e acks imply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reordering (route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Tah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nd if see three dup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timeout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45320" y="16765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05840" y="16938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4560" y="17078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07240" y="2001240"/>
            <a:ext cx="78084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8320" y="23173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19480" y="271908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797160" y="25408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73400" y="284544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773400" y="31741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82760" y="35632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00720" y="1662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412760" y="214488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94320" y="208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16480" y="2250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70400" y="2660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7640" y="2859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85000" y="2410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9800" y="351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06880" y="3001320"/>
            <a:ext cx="139284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759000" y="3856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14960" y="261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1440" y="3823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1120" y="411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28840" y="443664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72240" y="458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08640" y="548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16240" y="52552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transmit Cavea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in order packe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ally adjust number of dup acks needed for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with small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mod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if packets lost in b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t peak of slow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transm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aining ack pacing limit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504800" y="1662120"/>
          <a:ext cx="6193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662120"/>
                    <a:ext cx="619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16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uplicate acks to maintain ack 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 ack =&gt; packet lef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ther ack =&gt; sen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if lose packets in b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and slow start to reestablish ack 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45320" y="16765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05840" y="16938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84560" y="17078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07240" y="2001240"/>
            <a:ext cx="78084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08320" y="23173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19480" y="271908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797160" y="25408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773400" y="284544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773400" y="31741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782760" y="35632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00720" y="1662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412760" y="214488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94320" y="208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16480" y="2250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70400" y="2660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7640" y="2859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85000" y="2410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49800" y="351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06880" y="3001320"/>
            <a:ext cx="139284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759000" y="3856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14960" y="261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21440" y="3823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1120" y="411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28840" y="443664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72240" y="458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19480" y="338868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770160" y="427896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92480" y="512892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13560" y="5266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: This is your life..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8840" y="5345280"/>
            <a:ext cx="66121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31760" y="5365800"/>
            <a:ext cx="180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6720" y="533412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1520" y="5381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67360" y="53532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1440" y="5343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75320" y="536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23400" y="533088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34600" y="5343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06600" y="452412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01520" y="3778200"/>
            <a:ext cx="99756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&amp;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793 &amp; 7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3080" y="428940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3240" y="3263760"/>
            <a:ext cx="191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scrib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int Cer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b Ka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IEEE Trans Co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890880" y="3621240"/>
            <a:ext cx="3240" cy="16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16600" y="286380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SD Unix 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4960" y="1681200"/>
            <a:ext cx="1716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gel’s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reduce over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small packe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dicts congestion collap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81360" y="3024360"/>
            <a:ext cx="504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9560" y="1996920"/>
            <a:ext cx="154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arn’s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better estimate round-tri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1360" y="3040200"/>
            <a:ext cx="154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gestion collap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9800" y="3030480"/>
            <a:ext cx="1847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n Jacobson’s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estion avoidance and congestion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mplemented i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BSD Taho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684760" y="397512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36264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128000" y="4595400"/>
            <a:ext cx="14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57960" y="2220840"/>
            <a:ext cx="184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BSD 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st re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ayed ACK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16768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960" y="5346720"/>
            <a:ext cx="77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03400" y="5345280"/>
            <a:ext cx="1020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208160" y="431316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220760" y="2765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1720" y="1776240"/>
            <a:ext cx="18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e-way handsh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aymond Tomli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SIGCOMM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436760" y="1981080"/>
          <a:ext cx="619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981080"/>
                    <a:ext cx="619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layed 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quest/response programs, you send separate ACK and Data packets for each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ACK data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200ms (must be less than 500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CK every oth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delay duplicate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layed Ack Impac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 triggered by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 half as many acks =&gt; window grows half as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 with window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rigger delayed ack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wo TCP connections share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 equilibrium independent of initial bandwidth (assuming equal RT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343160" y="2440080"/>
          <a:ext cx="619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2440080"/>
                    <a:ext cx="619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quilibrium Proof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CP and UDP share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initial rates, UDP will get priority!  TCP will take what’s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343160" y="2440080"/>
          <a:ext cx="619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2440080"/>
                    <a:ext cx="619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wo different TCP implementations share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ut back more slowly after drops =&gt; will grab bigger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dd more quickly after acks =&gt; will grab bigger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 to cause congestion collap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CP “accelerator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mprove perf at expense o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per-flow fair queueing at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CP connection is shor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26840" y="1735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 dominate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network is unloa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iness causes extra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losses unreliable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ose connection setup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get drop when connection near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unrelated to send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mit, have to signal every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loss rate as increase # of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10KB document</a:t>
            </a:r>
            <a:br>
              <a:rPr sz="44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Mb/s Ethernet,70ms RTT, 536 M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~ 10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KB window, 70ms RTT ~ 7.5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use 10KB window ~ 1.2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drop rate ~ 275 Kb/s (Mat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timeouts ~ 228 Kb/s (Padhy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, no losses ~ 140 K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, with 5% drop ~ 75 K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ort flow bandwidth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49160" y="1562040"/>
          <a:ext cx="77346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562040"/>
                    <a:ext cx="7734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2656800" y="624420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length=10Kbytes, RTT=7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: After 199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520" y="5334120"/>
            <a:ext cx="831204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480" y="5329080"/>
            <a:ext cx="1800" cy="10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06720" y="533412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0240" y="5345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79840" y="5353200"/>
            <a:ext cx="180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11440" y="5343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87800" y="536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98600" y="4535640"/>
            <a:ext cx="180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01000" y="3071880"/>
            <a:ext cx="1047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loy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ic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973080" y="424332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065400"/>
            <a:ext cx="167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Veg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rakmo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l congestio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08440" y="2890440"/>
            <a:ext cx="4680" cy="242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81400" y="1738440"/>
            <a:ext cx="102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ra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92520" y="1809720"/>
            <a:ext cx="161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CK 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loyd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ive Acknowle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43360" y="3051000"/>
            <a:ext cx="154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oving TCP star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11800" y="3041640"/>
            <a:ext cx="184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K 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athis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sion to S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394956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367240" y="3021120"/>
            <a:ext cx="5040" cy="22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19640" y="4173480"/>
            <a:ext cx="3240" cy="11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3006720"/>
            <a:ext cx="122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Rain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218440" y="3739680"/>
            <a:ext cx="4680" cy="153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web connections from a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admanabhan98, Touch9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large server farm or a large cli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potential is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stination loca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52560" y="1473120"/>
          <a:ext cx="68198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73120"/>
                    <a:ext cx="68198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52092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905040" cy="1314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2193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237960" cy="4190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621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29400" y="4038480"/>
            <a:ext cx="1752480" cy="909720"/>
          </a:xfrm>
          <a:prstGeom prst="rightArrow">
            <a:avLst>
              <a:gd name="adj1" fmla="val 50000"/>
              <a:gd name="adj2" fmla="val 481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4640" y="3991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061640" y="4343400"/>
            <a:ext cx="99540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2133720"/>
            <a:ext cx="243864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280" y="3505320"/>
            <a:ext cx="53352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6248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43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324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914400" y="56386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99072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676520" y="5791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54100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97180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6172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2680" y="6324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3047760" y="56386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5562360"/>
            <a:ext cx="7621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195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40384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523880" y="4343040"/>
            <a:ext cx="10288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819520" y="3124080"/>
            <a:ext cx="561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743200" y="312408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666880" y="4343040"/>
            <a:ext cx="763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04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71800" y="419112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048120" y="502920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2560" y="15991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/Camp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08040" y="34279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45720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2362320"/>
            <a:ext cx="0" cy="41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86280" y="3814920"/>
            <a:ext cx="2070000" cy="1290600"/>
          </a:xfrm>
          <a:prstGeom prst="hexagon">
            <a:avLst>
              <a:gd name="adj" fmla="val 40098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1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tthis et al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TCP has complex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odel its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ots of simplifying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rop per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flow behavior (ignore slow st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receiver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me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3133800" y="5502240"/>
                <a:ext cx="271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oes this mea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r RTT =&gt; wors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hared links, TCP penalizes WAN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 delay hurt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drop rate =&gt; wors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ed vs. non-correlated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my behavior cause more drops for me, or just more drops for other fl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122640" y="1668600"/>
                <a:ext cx="271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oes adding buffers help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+ Increases ability of router to handle bursts =&gt; fewer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Allows greater overshoot in slow start =&gt; bursty traffic =&gt; more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otentially increases R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lakrishnan et al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 poor performance on wireless links (&lt;= 10% of pe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Interaction with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links drop pkts due to noise, hand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interprets all drops as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TCP will reduce send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’s goal: Evaluate propos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lternativ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CP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handling of multiple drops per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faster retransmit (one dup 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bit for non-congestion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ansmission at link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sult in packet re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aware suppresses duplicate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ify TCP Implemen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2E: standard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Reno: if multiple drops in window, first ack after fast recovery will be “part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ACK: list recent missing pk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-- wait for 3 dup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-- resend after one dup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N: explicit bit for non-congestio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N + SMART not sim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Layer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layer: transparent re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host sees packets arrive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ware link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 duplicate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layer with S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handling of multiple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layer with SACK and TCP 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Flow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is a sliding window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ndow siz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sen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tes without receiving an acknowled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ata is acknowledged then the window slides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advertises a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number of bytes the receiver is willing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CP always send entir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lit TC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proxy at wireless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local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 failure visible to end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 xput limited to min across 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sualizing the wind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8440" y="3786120"/>
            <a:ext cx="166500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3440" y="3786120"/>
            <a:ext cx="1665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100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672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80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3786120"/>
            <a:ext cx="1665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0520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14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22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6368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7956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036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69120" y="38480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85000" y="38480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35800" y="38480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19240" y="2976480"/>
            <a:ext cx="336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8320" y="266400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ered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dvertised by rece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60840" y="3363840"/>
            <a:ext cx="168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38240" y="33321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ble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01760" y="464184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2280" y="431640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9440" y="480528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4749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t, not 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02320" y="464184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6680" y="43164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send A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481824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2560" y="449280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’t send un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4640" y="55213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ide of window advances when data is acknowled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ide controlled by size of window adverti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served TCP Probl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24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ly window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el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retransmission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llaps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lly Window Syndrom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(Clark, 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r advertises small increases in the  receive window then the sender may waste time sending lots of small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must not advertise small window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window by min(MSS,RecvBuffer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agel’s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acket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want to send a 41 byte packet for each key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to wait for more dat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only one outstanding small segment that has not yet been 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daptive: faster that ACKs arrive, mo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ni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22T00:45:02Z</dcterms:modified>
  <cp:revision>108</cp:revision>
  <dc:subject/>
  <dc:title>Eraser: A Dynamic Race Detector for  Multi-Threaded Programs</dc:title>
</cp:coreProperties>
</file>