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143-A799-4D65-810D-47B8BDEF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DA3-69B7-4DA5-BEEE-24323B69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3FF-4EAD-4EBA-9343-A4285889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5AA-E6FF-4F8F-B370-1B697572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4726-1D87-4C1D-9CA7-1DC1396E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02C6-0C7E-4666-ADC0-D299E0CF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17CD-7934-4D23-9295-F0143F8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78E4-997F-4F01-B4E8-0DFFA8F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4FD4-7CDD-49E7-9AEF-8B0593BD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DFB9-C9D2-4A8E-8ABA-D739E3E8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2480-E144-40F0-9EC5-6391AA8C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B5D-8B24-43A0-AE38-9DB3D6CF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EAB-A6EC-4B11-B558-2577149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0148-981D-4690-A52E-36994B1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B82A-CE86-4E42-B61D-AD269D5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4F8B-4B6D-46E3-A2D6-5F02DEFC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4A9C-E77D-4DC0-BBC1-6C71D8F5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2FA-15F3-4A22-82B3-404A010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230-5352-493F-90C4-1650AF3F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4ED-64E4-44EE-9C49-155E16DD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198-A81B-42E4-933B-D1E6910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CF2-03F5-4B9B-BB0F-FC2DAE55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B00-5827-46D3-96EA-5D798BB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178-D2A3-4BA1-9B25-8B0C4FFC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3378-2423-4FBA-A28B-35082925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9FE-5211-4601-A3D3-16E31648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3: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get a collection of nodes to cooperate to provide some service, in a completely distributed fashion with no centralized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Avoida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terministic delay after collision, collision will occur again in lock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ndom delay with fixed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senders =&gt; needless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senders =&gt; too many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ly increasing random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enders from # of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nders =&gt; increase wa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roblems: Fair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3240" y="1711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favors lates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limit to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istory -- unfairness averag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nary search for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allocation (cell ph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e channel to ask fo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ther channels to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roblems: Inst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unstable at high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k throughput wors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hosts -- more collisions needed to identify single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packet sizes -- more frequent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links -- collisions take longer to observe, more waste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elling vs. Measuremen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s work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over-engineering =&gt; usually low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ng shows unstable at high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ling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won’t work as loads incr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PUs, real-time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acket Tra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traffic is “self-similar” (frac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y at every time scale (msecs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, low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oad determines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 long term p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s determin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oken Ring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broadcast around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 “right to send” rotates around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, real-time bandwidth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host holds token for limi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latency when only one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to point links electrically simpler than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y Did Ethernet Wi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 rings -- network un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-- node 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common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=&gt; cost =&gt; volume =&gt;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igher bandwidths (vs. FD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witching (vs. 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ed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64636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65720" y="179712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4184640"/>
            <a:ext cx="58716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94000" y="3786120"/>
            <a:ext cx="49356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8760" y="2879640"/>
            <a:ext cx="49392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8240" y="4208400"/>
            <a:ext cx="49392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11800" y="2773440"/>
            <a:ext cx="493560" cy="48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95840" y="4937040"/>
            <a:ext cx="49356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3774960"/>
            <a:ext cx="58716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27480" y="1820880"/>
            <a:ext cx="58716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7280" y="572616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0560" y="528012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5200" y="408132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22520" y="3257640"/>
            <a:ext cx="21096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1240" y="2446200"/>
            <a:ext cx="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044600" y="5409720"/>
            <a:ext cx="586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61000" y="4692600"/>
            <a:ext cx="69840" cy="5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98720" y="3151080"/>
            <a:ext cx="1411200" cy="88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9880" y="4257720"/>
            <a:ext cx="2081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38960" y="2422080"/>
            <a:ext cx="2196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0" y="447984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7440" y="2998800"/>
            <a:ext cx="79848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3351240"/>
            <a:ext cx="2668680" cy="11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03840" y="3045960"/>
            <a:ext cx="1422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3800" y="3246120"/>
            <a:ext cx="1540080" cy="16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56200" y="486576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3800" y="5160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560" y="388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3560" y="274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0960" y="1910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1000" y="18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4880" y="582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78240" y="494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07000" y="534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4640" y="4237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57360" y="380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73280" y="289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49480" y="490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79840" y="276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60920" y="421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ed Network Advant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n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o point electrically simpler tha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greater aggregate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can sen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fault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-- mom, cs.washington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-- phone #,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ly unique, machine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from here t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Layer and Abov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(Ethernet, packet radio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listens; if not destination, ig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(ATM, switched Eth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s switches, connect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 Intern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4760" y="2011320"/>
            <a:ext cx="3409920" cy="403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8760" y="243360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2560" y="243360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57320" y="330192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47600" y="5278320"/>
            <a:ext cx="11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44720" y="433548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7000" y="32306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05560" y="43718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07000" y="532296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16280" y="2463480"/>
            <a:ext cx="30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o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8600" y="2305080"/>
            <a:ext cx="822240" cy="337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2280" y="222264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0160" y="306864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18592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3440" y="410220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9240" y="299556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71840" y="410220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3000" y="503064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0400" y="506556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the Switch Know Where to Send the Pack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routing (Myri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arries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global addresses (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virtual circuits (ATM, MP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headers, smal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urce Routing (Myrinet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tire path i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-&gt; F (east, south, s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can be very simple and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(unbounded) hea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must know topology (e.g., fail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use: machine room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obal Addresses (IP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has destinatio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witch has forwarding table of destination -&gt; nex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 and x: F -&gt;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 and y: F-&gt;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z: F-&gt;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algorithm for calcula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r Table Siz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for every host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 entries,doubling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for every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host on LAN shares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too many, doubling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for eve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host in organization shares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areful, spars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4 addres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0 | 7 bit network | 24 bit host (1M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10 | 14 bit network | 16 bit host (64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110 | 21 bit network | 8 bit host (2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1110 | 28 bit multicast group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net # centrally, host #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W has class B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Address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ru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B IP addresses; 4B micros in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run out faster if sparsely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structure causes internal fragm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ddress aggregation to keep tables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 class C netwo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fficient IP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net addresses between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djacent net addresses to same 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less routing (C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routing table entries whenever all nodes with same prefix share same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support for fast prefix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V6 -- 128 bit address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every device (PDA, toaster, etc.) to be assigned its ow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s packe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nel IPV6 packets over IPV4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PV4 systems communicate with IPV6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Address Transl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ultiple machines to be assigned same IPV4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 separates internal from ext.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only need internally uniqu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 translates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IP -&gt; dynamically allocated ext.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NAT cras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roadcast Network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veryone a fixed time/freq s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fixed bandwidth (e.g., v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raffic is burs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arb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ell phone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ha/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obal Address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=&gt; simple error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witch knows about every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table entries for nearby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ath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ackets to destination take sam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rtual Circuits (ATM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witch has forwarding table of connection -&gt; nex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nnection setup, allocate virtual circuit ID (VCI) at each switch i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ontains VCI, swizzled at each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put #, input VCI) -&gt; (output #, output V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v: (west=A, 12) -&gt; (east=w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: (west=v, 2) -&gt; (south=y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y: (north=w, 7) -&gt; (south=F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rtual Circui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lookup (smaller t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exible (different path for each circu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serve bandwidth at connection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route connection setup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failure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59080" y="1716120"/>
          <a:ext cx="621972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716120"/>
                    <a:ext cx="621972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set up routing table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ory to compute “shortest pa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=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=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, hops =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computation to adapt to changes in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wo Approach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vector (RIP, BG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routing tables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knows comple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used between admi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tate (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everyone you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computes shortes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used within admi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, can get to self with cost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tables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ighbor has lower cost, updat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0: v knows abou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v learns about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v learns about C, G,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v learns about D, E,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from both w and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v learns about alternat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y Hop Coun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used in original ARP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ally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ized satellit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 count yields unique loop-fre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router processing overhead consumed by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design a dynamically stable adaptive routing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Proble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97280" y="2281320"/>
            <a:ext cx="9302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86080" y="4044960"/>
            <a:ext cx="9302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032360"/>
            <a:ext cx="9302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68480" y="2846520"/>
            <a:ext cx="1105200" cy="11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16320" y="439884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32480" y="2774880"/>
            <a:ext cx="77616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74840" y="23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3640" y="414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8520" y="408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86920" y="313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5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7480" y="449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1000" y="305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5800" y="546156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if A-&gt;C fai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loha Network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radio network in Hawaii, 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discard on collision (using C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common =&gt; limited to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lution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 distance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poison rever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make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: send entire path with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eck if path has lo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tate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end what you know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gets complete topology via reliable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identifies direct neighbors, puts in numbered link stat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get link state packet from neighbor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en befor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process and forward everywhere but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complete topology, compute shortest path using grap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link state algorithm guarantee routing tables are loop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if everyone has the sa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f updates are propa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th-based distance vector loop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vector: node talks only to neighbors, tells them everything it knows or ha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tate: node talks to everyone, tells them only about its neighbors (what it knows for s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mposed of many autonomous systems (AS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 to administrative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S can choose its own routing al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link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 used to route between AS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: shortest number of AS’s in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admins can express polic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Routing in Practi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xson, Frequency of Routing Path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age, Frequency of Routing In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yd, Synchronization of Routing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axson Methodolog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TL field by 1, until get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TL expires, router replies with erro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d all pairs of 27 - 33 sites, spread over 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, 1995 (anecdotally, similar 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ing Pathologi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t loops: 0.13 - 0.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loops: 0.055 - 0.0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neous routing: 0.004 - 0.00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stream change: 0.16 // 0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failure: 0.21 // 0.4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&gt;= 30 sec: 0.96 // 2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athologies: 1.5 // 3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 Fla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8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 ~ 9%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 ~ 23%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~ 68%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ing Assymet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policy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ortest path, assymetry should be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of measurements show assymetric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Carrier Sen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ill send even if A-&g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won’t send to A if C-&gt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(post-Alo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arget if ok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propagation delay &gt;&gt; pkt size/b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1120" y="266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3600" y="420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67360" y="418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64480" y="271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867280" y="2976480"/>
            <a:ext cx="1116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43680" y="3035160"/>
            <a:ext cx="16812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8440" y="3094200"/>
            <a:ext cx="1116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Interne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99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don’t always take the “best”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routing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raffic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and how badly does this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Anecdote2" descr=""/>
          <p:cNvPicPr/>
          <p:nvPr/>
        </p:nvPicPr>
        <p:blipFill>
          <a:blip r:embed="rId1"/>
          <a:stretch/>
        </p:blipFill>
        <p:spPr>
          <a:xfrm>
            <a:off x="5651640" y="2044800"/>
            <a:ext cx="3022560" cy="3905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423040" y="6045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imes in milliseco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path selection stud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conditions between host p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, loss rate,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long term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e “potential” alternate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 host pairs to make synthetic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For hosts A and B, is there a host C such that the latency of AC + CB &lt; A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tency and packet loss r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69" name="allsets-latency-abs" descr=""/>
          <p:cNvPicPr/>
          <p:nvPr/>
        </p:nvPicPr>
        <p:blipFill>
          <a:blip r:embed="rId1"/>
          <a:stretch/>
        </p:blipFill>
        <p:spPr>
          <a:xfrm>
            <a:off x="203040" y="2255760"/>
            <a:ext cx="4210200" cy="2946600"/>
          </a:xfrm>
          <a:prstGeom prst="rect">
            <a:avLst/>
          </a:prstGeom>
          <a:ln w="0">
            <a:noFill/>
          </a:ln>
        </p:spPr>
      </p:pic>
      <p:pic>
        <p:nvPicPr>
          <p:cNvPr id="270" name="allsets-drop-rate-abs" descr=""/>
          <p:cNvPicPr/>
          <p:nvPr/>
        </p:nvPicPr>
        <p:blipFill>
          <a:blip r:embed="rId2"/>
          <a:stretch/>
        </p:blipFill>
        <p:spPr>
          <a:xfrm>
            <a:off x="4710240" y="2259000"/>
            <a:ext cx="4186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ndwidth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2" name="allsets-bandwidth-abs" descr=""/>
          <p:cNvPicPr/>
          <p:nvPr/>
        </p:nvPicPr>
        <p:blipFill>
          <a:blip r:embed="rId1"/>
          <a:stretch/>
        </p:blipFill>
        <p:spPr>
          <a:xfrm>
            <a:off x="1104840" y="171468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fidence interv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4" name="d2-na-latency-abs" descr=""/>
          <p:cNvPicPr/>
          <p:nvPr/>
        </p:nvPicPr>
        <p:blipFill>
          <a:blip r:embed="rId1"/>
          <a:stretch/>
        </p:blipFill>
        <p:spPr>
          <a:xfrm>
            <a:off x="262080" y="1716120"/>
            <a:ext cx="3436920" cy="2406600"/>
          </a:xfrm>
          <a:prstGeom prst="rect">
            <a:avLst/>
          </a:prstGeom>
          <a:ln w="0">
            <a:noFill/>
          </a:ln>
        </p:spPr>
      </p:pic>
      <p:pic>
        <p:nvPicPr>
          <p:cNvPr id="275" name="x1-drop-rate-abs" descr=""/>
          <p:cNvPicPr/>
          <p:nvPr/>
        </p:nvPicPr>
        <p:blipFill>
          <a:blip r:embed="rId2"/>
          <a:stretch/>
        </p:blipFill>
        <p:spPr>
          <a:xfrm>
            <a:off x="5356080" y="1698480"/>
            <a:ext cx="3463920" cy="2424240"/>
          </a:xfrm>
          <a:prstGeom prst="rect">
            <a:avLst/>
          </a:prstGeom>
          <a:ln w="0">
            <a:noFill/>
          </a:ln>
        </p:spPr>
      </p:pic>
      <p:pic>
        <p:nvPicPr>
          <p:cNvPr id="276" name="n2-na-bandwidth-abs" descr=""/>
          <p:cNvPicPr/>
          <p:nvPr/>
        </p:nvPicPr>
        <p:blipFill>
          <a:blip r:embed="rId3"/>
          <a:stretch/>
        </p:blipFill>
        <p:spPr>
          <a:xfrm>
            <a:off x="2540160" y="4262400"/>
            <a:ext cx="3456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urnal effec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8" name="x1-latency-abs-bytime" descr=""/>
          <p:cNvPicPr/>
          <p:nvPr/>
        </p:nvPicPr>
        <p:blipFill>
          <a:blip r:embed="rId1"/>
          <a:stretch/>
        </p:blipFill>
        <p:spPr>
          <a:xfrm>
            <a:off x="279360" y="2590920"/>
            <a:ext cx="4205160" cy="2943000"/>
          </a:xfrm>
          <a:prstGeom prst="rect">
            <a:avLst/>
          </a:prstGeom>
          <a:ln w="0">
            <a:noFill/>
          </a:ln>
        </p:spPr>
      </p:pic>
      <p:pic>
        <p:nvPicPr>
          <p:cNvPr id="279" name="x1-drop-rate-abs-bytime" descr=""/>
          <p:cNvPicPr/>
          <p:nvPr/>
        </p:nvPicPr>
        <p:blipFill>
          <a:blip r:embed="rId2"/>
          <a:stretch/>
        </p:blipFill>
        <p:spPr>
          <a:xfrm>
            <a:off x="4635360" y="2590920"/>
            <a:ext cx="4205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would you expec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 based routing ignore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ly it would yield optimal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synthetically generat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points on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= distance + random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ing Synchroniz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 lots of periodic anomalies in the Internet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ed behavior results in worse network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everyone leaves work at 5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in context of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ethodology and Resul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simple analytical model of rout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model predict synchron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m’s Razor -- use simplest explanation that is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s model accurate? 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dd random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DMA Cell Phon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MA (tim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sender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MA (cod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enders at a time (collisions o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der has unique code known to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s chosen to be distinguishable, even when multiple sent at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hen high propagation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Aloha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if carrier sense is i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between senders can still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uses CRC to discard garbl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 and retrans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ad increases, more collisions, more retransmissions, more load, more collision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actical local area network, built at Xerox PARC in 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=&gt; no hidden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e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checks for collision; wait and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andomized waiting to avoid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Detec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packet length &gt; 2x max prop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, B are at opposite sides of link, and B starts one link prop delay afte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gigabit Eth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 network for min pkt size after collision, then stop s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bigger packets, since abort quickly after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14T22:25:54Z</dcterms:modified>
  <cp:revision>99</cp:revision>
  <dc:subject/>
  <dc:title>Eraser: A Dynamic Race Detector for  Multi-Threaded Programs</dc:title>
</cp:coreProperties>
</file>