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9A5C-DA7D-49D5-831D-A242CCCD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A5B-47D3-4E6D-BCF1-9F83B972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952-D1D3-4337-AD6B-CF74514B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E637-0C7F-4512-BD11-D8B75033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1536-CDD5-4701-875A-DD44D94E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D7FC-74A2-4366-810C-2BFFE80B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4E89-DDA3-49D1-8FA8-384F523D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B8DA-A0C8-4ACA-B1B5-0F70B752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6614-E50C-4203-8EDF-51E06EA7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1E22-842B-472A-9541-81290AEC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61CD-A1E5-4CE0-B64B-8D6D8FDA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7EE-CE7F-4E5D-85B9-3F95C3F4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7ABA-047F-4010-A7C0-588CC1E1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8D81-2BCF-4C5D-81B2-0D0D99A3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AF74-9BB8-4227-BE7A-3CCB7BA9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61C5-E53A-4F04-A553-EAAD0D14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F5C5-E141-4E61-B675-CCF59A9B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EBC6-6A08-413B-8EE9-F7A84519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5A4-09E9-4840-96D1-7A7AF071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960B-AF70-4462-A67A-0EBB1993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011-8606-4A34-89DC-7FADCF1C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2DA-E1E8-41AE-8457-116A02C6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F57-A884-4F3C-8E87-6CD06AF2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81E-2505-46F1-BACB-9A97F18F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A746-59C5-40C9-9CE2-2D22E2F0F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F014-68B5-40D2-840C-41205A971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cture 2:                             Transport and Hardwar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No centralize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y communication at a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and receiver have different views of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entralized arbiter of resource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ing: benefits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top and Wai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4006800"/>
            <a:ext cx="3240" cy="1905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8840" y="45835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4038480"/>
            <a:ext cx="3240" cy="186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4038480"/>
            <a:ext cx="3240" cy="186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871800" y="4120560"/>
            <a:ext cx="1418400" cy="648360"/>
            <a:chOff x="3871800" y="4120560"/>
            <a:chExt cx="1418400" cy="648360"/>
          </a:xfrm>
        </p:grpSpPr>
        <p:sp>
          <p:nvSpPr>
            <p:cNvPr id="177" name=""/>
            <p:cNvSpPr/>
            <p:nvPr/>
          </p:nvSpPr>
          <p:spPr>
            <a:xfrm>
              <a:off x="3871800" y="44679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688200">
              <a:off x="4025880" y="42145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802320" y="4956840"/>
            <a:ext cx="1431000" cy="580320"/>
            <a:chOff x="3802320" y="4956840"/>
            <a:chExt cx="1431000" cy="580320"/>
          </a:xfrm>
        </p:grpSpPr>
        <p:sp>
          <p:nvSpPr>
            <p:cNvPr id="180" name=""/>
            <p:cNvSpPr/>
            <p:nvPr/>
          </p:nvSpPr>
          <p:spPr>
            <a:xfrm flipV="1">
              <a:off x="3802320" y="5274720"/>
              <a:ext cx="1431000" cy="21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1071400">
              <a:off x="3992760" y="501696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2" name=""/>
          <p:cNvCxnSpPr>
            <a:stCxn id="174" idx="0"/>
            <a:endCxn id="174" idx="1"/>
          </p:cNvCxnSpPr>
          <p:nvPr/>
        </p:nvCxnSpPr>
        <p:spPr>
          <a:xfrm flipH="1" rot="16200000">
            <a:off x="2865960" y="49694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4618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83" name=""/>
          <p:cNvSpPr/>
          <p:nvPr/>
        </p:nvSpPr>
        <p:spPr>
          <a:xfrm rot="16200000">
            <a:off x="2822040" y="4656600"/>
            <a:ext cx="12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a packet, stop and wait until acknowledgement arri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7800" y="3580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08360" y="35802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covering from erro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148520" y="2215440"/>
            <a:ext cx="1418400" cy="648360"/>
            <a:chOff x="7148520" y="2215440"/>
            <a:chExt cx="1418400" cy="648360"/>
          </a:xfrm>
        </p:grpSpPr>
        <p:sp>
          <p:nvSpPr>
            <p:cNvPr id="189" name=""/>
            <p:cNvSpPr/>
            <p:nvPr/>
          </p:nvSpPr>
          <p:spPr>
            <a:xfrm>
              <a:off x="7148520" y="25628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688200">
              <a:off x="7302600" y="230940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7074360" y="2864160"/>
            <a:ext cx="1407960" cy="1247400"/>
            <a:chOff x="7074360" y="2864160"/>
            <a:chExt cx="1407960" cy="1247400"/>
          </a:xfrm>
        </p:grpSpPr>
        <p:sp>
          <p:nvSpPr>
            <p:cNvPr id="192" name=""/>
            <p:cNvSpPr/>
            <p:nvPr/>
          </p:nvSpPr>
          <p:spPr>
            <a:xfrm flipV="1">
              <a:off x="7074360" y="3068640"/>
              <a:ext cx="1407960" cy="10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9405200">
              <a:off x="7446240" y="30636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4" name=""/>
          <p:cNvCxnSpPr/>
          <p:nvPr/>
        </p:nvCxnSpPr>
        <p:spPr>
          <a:xfrm flipH="1" rot="16200000">
            <a:off x="6142680" y="30643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545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95" name=""/>
          <p:cNvSpPr/>
          <p:nvPr/>
        </p:nvSpPr>
        <p:spPr>
          <a:xfrm rot="16200000">
            <a:off x="6098400" y="2751840"/>
            <a:ext cx="12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71480" y="379872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688200">
            <a:off x="7544160" y="35798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077240" y="4526640"/>
            <a:ext cx="1431000" cy="580320"/>
            <a:chOff x="7077240" y="4526640"/>
            <a:chExt cx="1431000" cy="580320"/>
          </a:xfrm>
        </p:grpSpPr>
        <p:sp>
          <p:nvSpPr>
            <p:cNvPr id="199" name=""/>
            <p:cNvSpPr/>
            <p:nvPr/>
          </p:nvSpPr>
          <p:spPr>
            <a:xfrm flipV="1">
              <a:off x="7077240" y="4844520"/>
              <a:ext cx="1431000" cy="21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1071400">
              <a:off x="7267680" y="458676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1" name=""/>
          <p:cNvCxnSpPr/>
          <p:nvPr/>
        </p:nvCxnSpPr>
        <p:spPr>
          <a:xfrm flipH="1" rot="16200000">
            <a:off x="6142680" y="4539240"/>
            <a:ext cx="1891440" cy="3960"/>
          </a:xfrm>
          <a:prstGeom prst="bentConnector5">
            <a:avLst>
              <a:gd name="adj1" fmla="val 10660"/>
              <a:gd name="adj2" fmla="val -6800000"/>
              <a:gd name="adj3" fmla="val 77327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02" name=""/>
          <p:cNvSpPr/>
          <p:nvPr/>
        </p:nvSpPr>
        <p:spPr>
          <a:xfrm rot="16200000">
            <a:off x="6096960" y="4226400"/>
            <a:ext cx="12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86600" y="198108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534520" y="190512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579200" y="2215080"/>
            <a:ext cx="1085040" cy="648360"/>
            <a:chOff x="4579200" y="2215080"/>
            <a:chExt cx="1085040" cy="648360"/>
          </a:xfrm>
        </p:grpSpPr>
        <p:sp>
          <p:nvSpPr>
            <p:cNvPr id="206" name=""/>
            <p:cNvSpPr/>
            <p:nvPr/>
          </p:nvSpPr>
          <p:spPr>
            <a:xfrm>
              <a:off x="4619160" y="2622960"/>
              <a:ext cx="104508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688200">
              <a:off x="4614840" y="230904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8" name=""/>
          <p:cNvCxnSpPr/>
          <p:nvPr/>
        </p:nvCxnSpPr>
        <p:spPr>
          <a:xfrm flipH="1" rot="16200000">
            <a:off x="3628080" y="30643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09" name=""/>
          <p:cNvSpPr/>
          <p:nvPr/>
        </p:nvSpPr>
        <p:spPr>
          <a:xfrm rot="16200000">
            <a:off x="3584160" y="2750040"/>
            <a:ext cx="12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32480" y="3690720"/>
            <a:ext cx="1418400" cy="648360"/>
            <a:chOff x="4632480" y="3690720"/>
            <a:chExt cx="1418400" cy="648360"/>
          </a:xfrm>
        </p:grpSpPr>
        <p:sp>
          <p:nvSpPr>
            <p:cNvPr id="211" name=""/>
            <p:cNvSpPr/>
            <p:nvPr/>
          </p:nvSpPr>
          <p:spPr>
            <a:xfrm>
              <a:off x="4632480" y="40377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688200">
              <a:off x="4786560" y="37846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562640" y="4526640"/>
            <a:ext cx="1431000" cy="580320"/>
            <a:chOff x="4562640" y="4526640"/>
            <a:chExt cx="1431000" cy="580320"/>
          </a:xfrm>
        </p:grpSpPr>
        <p:sp>
          <p:nvSpPr>
            <p:cNvPr id="214" name=""/>
            <p:cNvSpPr/>
            <p:nvPr/>
          </p:nvSpPr>
          <p:spPr>
            <a:xfrm flipV="1">
              <a:off x="4562640" y="4844520"/>
              <a:ext cx="1431000" cy="21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1071400">
              <a:off x="4753080" y="458676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/>
          <p:nvPr/>
        </p:nvCxnSpPr>
        <p:spPr>
          <a:xfrm flipH="1" rot="16200000">
            <a:off x="3626640" y="4539240"/>
            <a:ext cx="1891440" cy="360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17" name=""/>
          <p:cNvSpPr/>
          <p:nvPr/>
        </p:nvSpPr>
        <p:spPr>
          <a:xfrm rot="16200000">
            <a:off x="3582360" y="4226400"/>
            <a:ext cx="12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198108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190512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486400" y="2590920"/>
            <a:ext cx="380880" cy="45720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2960" y="1905120"/>
            <a:ext cx="6120" cy="434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504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812960" y="2215440"/>
            <a:ext cx="1418400" cy="648360"/>
            <a:chOff x="1812960" y="2215440"/>
            <a:chExt cx="1418400" cy="648360"/>
          </a:xfrm>
        </p:grpSpPr>
        <p:sp>
          <p:nvSpPr>
            <p:cNvPr id="224" name=""/>
            <p:cNvSpPr/>
            <p:nvPr/>
          </p:nvSpPr>
          <p:spPr>
            <a:xfrm>
              <a:off x="1812960" y="25628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688200">
              <a:off x="1967040" y="230940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135160" y="2963520"/>
            <a:ext cx="1026000" cy="580320"/>
            <a:chOff x="2135160" y="2963520"/>
            <a:chExt cx="1026000" cy="580320"/>
          </a:xfrm>
        </p:grpSpPr>
        <p:sp>
          <p:nvSpPr>
            <p:cNvPr id="227" name=""/>
            <p:cNvSpPr/>
            <p:nvPr/>
          </p:nvSpPr>
          <p:spPr>
            <a:xfrm flipV="1">
              <a:off x="2189880" y="3322800"/>
              <a:ext cx="971280" cy="14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21071400">
              <a:off x="2165400" y="302364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9" name=""/>
          <p:cNvCxnSpPr/>
          <p:nvPr/>
        </p:nvCxnSpPr>
        <p:spPr>
          <a:xfrm flipH="1" rot="16200000">
            <a:off x="807120" y="30643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30" name=""/>
          <p:cNvSpPr/>
          <p:nvPr/>
        </p:nvSpPr>
        <p:spPr>
          <a:xfrm rot="16200000">
            <a:off x="762840" y="2751840"/>
            <a:ext cx="12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811520" y="3690720"/>
            <a:ext cx="1418400" cy="648360"/>
            <a:chOff x="1811520" y="3690720"/>
            <a:chExt cx="1418400" cy="648360"/>
          </a:xfrm>
        </p:grpSpPr>
        <p:sp>
          <p:nvSpPr>
            <p:cNvPr id="232" name=""/>
            <p:cNvSpPr/>
            <p:nvPr/>
          </p:nvSpPr>
          <p:spPr>
            <a:xfrm>
              <a:off x="1811520" y="40377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688200">
              <a:off x="1965600" y="37846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741680" y="4526640"/>
            <a:ext cx="1431000" cy="580320"/>
            <a:chOff x="1741680" y="4526640"/>
            <a:chExt cx="1431000" cy="580320"/>
          </a:xfrm>
        </p:grpSpPr>
        <p:sp>
          <p:nvSpPr>
            <p:cNvPr id="235" name=""/>
            <p:cNvSpPr/>
            <p:nvPr/>
          </p:nvSpPr>
          <p:spPr>
            <a:xfrm flipV="1">
              <a:off x="1741680" y="4844520"/>
              <a:ext cx="1431000" cy="21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1071400">
              <a:off x="1932120" y="458676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7" name=""/>
          <p:cNvCxnSpPr/>
          <p:nvPr/>
        </p:nvCxnSpPr>
        <p:spPr>
          <a:xfrm flipH="1" rot="16200000">
            <a:off x="805680" y="4539240"/>
            <a:ext cx="1891440" cy="360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38" name=""/>
          <p:cNvSpPr/>
          <p:nvPr/>
        </p:nvSpPr>
        <p:spPr>
          <a:xfrm rot="16200000">
            <a:off x="761400" y="4226400"/>
            <a:ext cx="12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1040" y="198108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98960" y="190512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3320" y="3276720"/>
            <a:ext cx="381240" cy="45720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30600" y="609480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33120" y="60948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35320" y="617112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blems with Stop and Wai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recognize a duplicate transmi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ut sequence number in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 R*D is very small, the sender can’t fill the p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sliding window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can we recognize resend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86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equenc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ackets and 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# in packet is finite -- how big should it b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bit for stop and wa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n’t send seq #1 until got ack for seq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7147800" y="2230200"/>
            <a:ext cx="1418400" cy="622080"/>
            <a:chOff x="7147800" y="2230200"/>
            <a:chExt cx="1418400" cy="622080"/>
          </a:xfrm>
        </p:grpSpPr>
        <p:sp>
          <p:nvSpPr>
            <p:cNvPr id="250" name=""/>
            <p:cNvSpPr/>
            <p:nvPr/>
          </p:nvSpPr>
          <p:spPr>
            <a:xfrm>
              <a:off x="7147800" y="2562480"/>
              <a:ext cx="1418400" cy="28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688200">
              <a:off x="7392600" y="230652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kt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074720" y="2862000"/>
            <a:ext cx="1407600" cy="1249920"/>
            <a:chOff x="7074720" y="2862000"/>
            <a:chExt cx="1407600" cy="1249920"/>
          </a:xfrm>
        </p:grpSpPr>
        <p:sp>
          <p:nvSpPr>
            <p:cNvPr id="253" name=""/>
            <p:cNvSpPr/>
            <p:nvPr/>
          </p:nvSpPr>
          <p:spPr>
            <a:xfrm flipV="1">
              <a:off x="7074720" y="3069000"/>
              <a:ext cx="1407600" cy="10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9405200">
              <a:off x="7238520" y="312984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7071480" y="379872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688200">
            <a:off x="7630920" y="357984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kt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102080" y="4846680"/>
            <a:ext cx="1431000" cy="615600"/>
            <a:chOff x="7102080" y="4846680"/>
            <a:chExt cx="1431000" cy="615600"/>
          </a:xfrm>
        </p:grpSpPr>
        <p:sp>
          <p:nvSpPr>
            <p:cNvPr id="258" name=""/>
            <p:cNvSpPr/>
            <p:nvPr/>
          </p:nvSpPr>
          <p:spPr>
            <a:xfrm flipV="1">
              <a:off x="7102080" y="518544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21071400">
              <a:off x="7177320" y="492444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086600" y="198108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534520" y="190512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28720" y="449244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688200">
            <a:off x="7759440" y="435456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k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113960" y="4116600"/>
            <a:ext cx="1431000" cy="615600"/>
            <a:chOff x="7113960" y="4116600"/>
            <a:chExt cx="1431000" cy="615600"/>
          </a:xfrm>
        </p:grpSpPr>
        <p:sp>
          <p:nvSpPr>
            <p:cNvPr id="265" name=""/>
            <p:cNvSpPr/>
            <p:nvPr/>
          </p:nvSpPr>
          <p:spPr>
            <a:xfrm flipV="1">
              <a:off x="7113960" y="4457160"/>
              <a:ext cx="1431000" cy="21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21071400">
              <a:off x="7188480" y="419436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packets can be delayed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262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reuse a seq #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in order deliv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 very late deliv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routers keep hop count per pkt, discard if exc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 #’s not reused within delay b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147360" y="2619360"/>
            <a:ext cx="1418400" cy="575640"/>
            <a:chOff x="6147360" y="2619360"/>
            <a:chExt cx="1418400" cy="575640"/>
          </a:xfrm>
        </p:grpSpPr>
        <p:sp>
          <p:nvSpPr>
            <p:cNvPr id="270" name=""/>
            <p:cNvSpPr/>
            <p:nvPr/>
          </p:nvSpPr>
          <p:spPr>
            <a:xfrm>
              <a:off x="6147360" y="2905200"/>
              <a:ext cx="1418400" cy="28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688200">
              <a:off x="6632640" y="264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105240" y="2323440"/>
            <a:ext cx="1019880" cy="226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688200">
            <a:off x="6494400" y="1923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139440" y="4282200"/>
            <a:ext cx="1430640" cy="516960"/>
            <a:chOff x="6139440" y="4282200"/>
            <a:chExt cx="1430640" cy="516960"/>
          </a:xfrm>
        </p:grpSpPr>
        <p:sp>
          <p:nvSpPr>
            <p:cNvPr id="275" name=""/>
            <p:cNvSpPr/>
            <p:nvPr/>
          </p:nvSpPr>
          <p:spPr>
            <a:xfrm flipV="1">
              <a:off x="6139440" y="4572720"/>
              <a:ext cx="1430640" cy="21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1071400">
              <a:off x="6532920" y="43106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099120" y="192240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47040" y="184644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52400" y="402264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688200">
            <a:off x="6718320" y="371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138000" y="3141000"/>
            <a:ext cx="1431360" cy="516960"/>
            <a:chOff x="6138000" y="3141000"/>
            <a:chExt cx="1431360" cy="516960"/>
          </a:xfrm>
        </p:grpSpPr>
        <p:sp>
          <p:nvSpPr>
            <p:cNvPr id="282" name=""/>
            <p:cNvSpPr/>
            <p:nvPr/>
          </p:nvSpPr>
          <p:spPr>
            <a:xfrm flipV="1">
              <a:off x="6138000" y="3432600"/>
              <a:ext cx="143136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21071400">
              <a:off x="6531480" y="3169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025760" y="2637000"/>
            <a:ext cx="500760" cy="263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145920" y="5216760"/>
            <a:ext cx="1418400" cy="575640"/>
            <a:chOff x="6145920" y="5216760"/>
            <a:chExt cx="1418400" cy="575640"/>
          </a:xfrm>
        </p:grpSpPr>
        <p:sp>
          <p:nvSpPr>
            <p:cNvPr id="286" name=""/>
            <p:cNvSpPr/>
            <p:nvPr/>
          </p:nvSpPr>
          <p:spPr>
            <a:xfrm>
              <a:off x="6145920" y="55029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688200">
              <a:off x="6631200" y="5245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7482240" y="4972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ep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30120" y="5626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je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happens on reboo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istinguish packets sent before and after rebo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remember last sequence #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 sequence # at 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boot takes max packet del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le storage -- increment high order bits of sequence # on every b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 we keep the pipe full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237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ultiple packets without waiting for first to be 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, unordered delive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new packet after each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keeps list of unack’ed packets; resends after time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same as stop&amp;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pkt 2 keeps being l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27920" y="196992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75840" y="189396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67160" y="2471400"/>
            <a:ext cx="1393200" cy="80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090920" y="276480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90920" y="308088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02080" y="3482640"/>
            <a:ext cx="1393200" cy="80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079760" y="330444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056000" y="360936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7056000" y="393768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7065360" y="432684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liding Window:               Reliable, ordered deliver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has to hold onto a packet until all prior packets have arr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er must prevent buffer overflow at 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sliding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buffer at sender and 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 in transit &lt;= buffer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 when sender and receiver agree packets at beginning have been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ender/Receiver Stat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31800" y="1735200"/>
            <a:ext cx="834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sent and acked (LAR = last ack recv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sent but not yet a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not yet sent (LFS = last frame s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received and acked (NFE = next frame expec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received out of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not yet received (LFA = last frame 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liding Window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11200" y="253836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34960" y="323208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835280" y="252684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200320" y="25398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563920" y="25380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009960" y="25398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456000" y="251424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867120" y="25380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230720" y="253656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749840" y="25380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114880" y="25506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78480" y="254916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924520" y="25506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370560" y="25254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781680" y="254916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6640" y="3663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93720" y="3638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25760" y="1499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68440" y="29034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0960" y="247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10200" y="2862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66600" y="2145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20840" y="2143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5240" y="2145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42840" y="2510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30200" y="253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54000" y="2875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41320" y="2545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24040" y="254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65400" y="2522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9080" y="254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59240" y="2545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2022120" y="3303360"/>
            <a:ext cx="12600" cy="28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4492440" y="3327480"/>
            <a:ext cx="824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54240" y="2178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77960" y="2156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11400" y="219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24320" y="220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376360" y="1928880"/>
            <a:ext cx="200160" cy="24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62480" y="1928880"/>
            <a:ext cx="13032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09720" y="49608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33480" y="565452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233440" y="494964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598840" y="496224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962440" y="496044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408480" y="496224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854520" y="493668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265640" y="496044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629240" y="49590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148360" y="496044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513400" y="49734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877000" y="49716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323040" y="49734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769080" y="494784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180200" y="49716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83960" y="6061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09560" y="6096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82400" y="39931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ve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866960" y="53262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78760" y="4896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v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008720" y="5285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65120" y="4567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19360" y="4566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3760" y="4567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41360" y="493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28720" y="4956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52520" y="5298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22560" y="4969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63920" y="4945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87600" y="4969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57760" y="4967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3255840" y="5702040"/>
            <a:ext cx="12960" cy="28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5349600" y="5691240"/>
            <a:ext cx="824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52760" y="4601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76480" y="4578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09920" y="4613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2840" y="4624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3198600" y="4410000"/>
            <a:ext cx="19980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30800" y="4338720"/>
            <a:ext cx="13032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04960" y="5321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 of reliable messag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/IP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ation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te procedur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: links, Ethernets and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performanc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we lose a packe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0760" y="19828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acks “got up through 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for receiver to buffer out of ord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imeout, sender restarts from k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ve re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sends ack for each pkt in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imeout, resend only missing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ender Algorith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full window, set time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increases LAR (packets sent &amp; ack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next packet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ime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nd LAR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ceiver Algorith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packet arriv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acket is the NFE (next frame expec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N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packet(s) to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ard if &lt; N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an we shortcut timeou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ackets usually arrive in order, out of order signals dr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 requests missing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retrans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detects missing 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oes TCP do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N + fast retrans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acks with NF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nder gets acks that don’t advance NFE, resends missing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and wait for ack for missing pac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nd entire wind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to add selective 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voiding burstiness: ack pac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06400" y="2163600"/>
            <a:ext cx="5240520" cy="3610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320" y="3697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52040" y="3780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39960" y="2386080"/>
            <a:ext cx="28116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86000" y="2220840"/>
            <a:ext cx="28116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303640" y="2668680"/>
            <a:ext cx="28080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66960" y="2138400"/>
            <a:ext cx="28116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96120" y="4832280"/>
            <a:ext cx="280800" cy="258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19840" y="3738600"/>
            <a:ext cx="28116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24680" y="2631960"/>
            <a:ext cx="28080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795920" y="2103480"/>
            <a:ext cx="28080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470400" y="1640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038600" y="21103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79640" y="5474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57440" y="4373640"/>
            <a:ext cx="280800" cy="258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986200" y="5430960"/>
            <a:ext cx="280800" cy="2584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61000" y="5572080"/>
            <a:ext cx="280800" cy="258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4920" y="5933160"/>
            <a:ext cx="76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indow size = round trip delay * bi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many sequence #’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 size +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window size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space: 0 1 2 3 0 1 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0 1 2, all ar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cks are lost, resend 0 1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cks arrive, send new 3 0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 &lt;= (max seq # + 1) /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 we determine timeout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 trip time varies with congestion, route changes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imeout too small, useless retrans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imeout too big, low u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: estimate RTT by timing 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 weighted moving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in RTT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transmission ambigu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9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istinguish first ack from retransmitted 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end to first 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ack dropp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send to last 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last ack dropp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ht never be able to correct too short time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69240" y="196848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416800" y="189216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86160" y="2597040"/>
            <a:ext cx="1451520" cy="654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9920" y="3760920"/>
            <a:ext cx="1451520" cy="654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015680" y="3288960"/>
            <a:ext cx="1367280" cy="781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7015680" y="4452480"/>
            <a:ext cx="1367280" cy="781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167880" y="3393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imeou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transmission ambiguity: Solution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: Karn-Part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RTT estimates for retransmitted pk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timeout on every re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sequence #’s to retransmissions (retry #1, retry #2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proposal: Add timestamp into packet header; ack returns timest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666880"/>
            <a:ext cx="1828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imple network mode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is a pipe connection two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, delay, overhead, error rate and messag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4190760" y="1523880"/>
            <a:ext cx="457200" cy="289548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" y="2362320"/>
            <a:ext cx="1441440" cy="1164960"/>
            <a:chOff x="457200" y="2362320"/>
            <a:chExt cx="1441440" cy="116496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457200" y="236232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762120" y="250020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2581200" y="278136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8954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28954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0960" y="278136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05400" y="28954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00840" y="28954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48240" y="29991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115040" y="2305080"/>
            <a:ext cx="10828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ransport: Practi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--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P -- user datagram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-- transmission control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C -- remote procedure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-- hypertext transfer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P -- Internet Protoco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provides packet delivery over network of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 is transparent to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may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upted -- due to link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ped -- congestion, routing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ordered -- routing changes, multi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ed -- if traverse network supporting only small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P Packet Heade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machine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ly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ination machine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sum (header, not paylo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TL (hop count) -- discard late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ID and fragment off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 processes communicat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provides host - host packet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know which process the message is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to “port” (mailbox) on dest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U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source, dest port to IP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transmissions, no sequence #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stat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 byte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duplex (acks carry reverse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byte stream into IP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- process (using por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ing window, go back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tuned congestion control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e buffer sizes and initial seq #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/IP Protocol Stack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46400" y="2311560"/>
            <a:ext cx="731880" cy="253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30720" y="2249640"/>
            <a:ext cx="743040" cy="255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2103480" y="3129120"/>
            <a:ext cx="976320" cy="457200"/>
            <a:chOff x="2103480" y="3129120"/>
            <a:chExt cx="976320" cy="457200"/>
          </a:xfrm>
        </p:grpSpPr>
        <p:sp>
          <p:nvSpPr>
            <p:cNvPr id="447" name=""/>
            <p:cNvSpPr/>
            <p:nvPr/>
          </p:nvSpPr>
          <p:spPr>
            <a:xfrm>
              <a:off x="2103480" y="3129120"/>
              <a:ext cx="9662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84840" y="3402360"/>
              <a:ext cx="752760" cy="16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end buff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47200" y="3189960"/>
              <a:ext cx="732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029200" y="3139920"/>
            <a:ext cx="976320" cy="457200"/>
            <a:chOff x="5029200" y="3139920"/>
            <a:chExt cx="976320" cy="457200"/>
          </a:xfrm>
        </p:grpSpPr>
        <p:sp>
          <p:nvSpPr>
            <p:cNvPr id="451" name=""/>
            <p:cNvSpPr/>
            <p:nvPr/>
          </p:nvSpPr>
          <p:spPr>
            <a:xfrm>
              <a:off x="5029200" y="3139920"/>
              <a:ext cx="9662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10560" y="3413160"/>
              <a:ext cx="752760" cy="16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cv buff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72920" y="3200760"/>
              <a:ext cx="732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1768320" y="2933640"/>
            <a:ext cx="5040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3038400" y="3822840"/>
            <a:ext cx="1168560" cy="255600"/>
            <a:chOff x="3038400" y="3822840"/>
            <a:chExt cx="1168560" cy="255600"/>
          </a:xfrm>
        </p:grpSpPr>
        <p:sp>
          <p:nvSpPr>
            <p:cNvPr id="456" name=""/>
            <p:cNvSpPr/>
            <p:nvPr/>
          </p:nvSpPr>
          <p:spPr>
            <a:xfrm>
              <a:off x="3038400" y="3822840"/>
              <a:ext cx="1168560" cy="255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03800" y="3832920"/>
              <a:ext cx="792720" cy="24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dex.ht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2184480" y="4465800"/>
            <a:ext cx="874800" cy="49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10200" y="4456080"/>
            <a:ext cx="874800" cy="4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024440" y="5411880"/>
            <a:ext cx="1025280" cy="257040"/>
            <a:chOff x="4024440" y="5411880"/>
            <a:chExt cx="1025280" cy="257040"/>
          </a:xfrm>
        </p:grpSpPr>
        <p:sp>
          <p:nvSpPr>
            <p:cNvPr id="461" name=""/>
            <p:cNvSpPr/>
            <p:nvPr/>
          </p:nvSpPr>
          <p:spPr>
            <a:xfrm>
              <a:off x="4024440" y="5413680"/>
              <a:ext cx="1025280" cy="255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59240" y="5411880"/>
              <a:ext cx="688680" cy="255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64160" y="5421960"/>
              <a:ext cx="375480" cy="245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763720" y="5394240"/>
            <a:ext cx="1027080" cy="254160"/>
            <a:chOff x="2763720" y="5394240"/>
            <a:chExt cx="1027080" cy="254160"/>
          </a:xfrm>
        </p:grpSpPr>
        <p:sp>
          <p:nvSpPr>
            <p:cNvPr id="465" name=""/>
            <p:cNvSpPr/>
            <p:nvPr/>
          </p:nvSpPr>
          <p:spPr>
            <a:xfrm>
              <a:off x="2763720" y="5394240"/>
              <a:ext cx="1027080" cy="25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99600" y="5402160"/>
              <a:ext cx="681120" cy="244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.ht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2408400" y="2360520"/>
            <a:ext cx="4474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59680" y="2638440"/>
            <a:ext cx="8222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er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59680" y="3332160"/>
            <a:ext cx="8222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ernel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129120" y="2649600"/>
            <a:ext cx="8236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92520" y="2658960"/>
            <a:ext cx="4892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70040" y="2617920"/>
            <a:ext cx="180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50960" y="364968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477040" y="2534760"/>
            <a:ext cx="1080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506920" y="366984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40160" y="5059440"/>
            <a:ext cx="24444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05120" y="5833800"/>
            <a:ext cx="25192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5345280" y="5079960"/>
            <a:ext cx="101520" cy="71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94080" y="5958000"/>
            <a:ext cx="82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twork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20800" y="2638440"/>
            <a:ext cx="397080" cy="8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631960" y="2790720"/>
            <a:ext cx="101880" cy="8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52840" y="2975040"/>
            <a:ext cx="618840" cy="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87920" y="2658960"/>
            <a:ext cx="376200" cy="1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99080" y="2975040"/>
            <a:ext cx="466920" cy="10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11800" y="2290680"/>
            <a:ext cx="4474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Sliding Window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09640" y="1735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-byte, not per-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packet says “here are bytes j-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 says “received up to byte 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buffer &gt;= send wind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uffer writes in kernel before s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r blocks if try to write past send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 buffer &gt;= receiv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 acked data in kernel, wait for 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er blocks if try to read past ack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sender process is faster than receiver proces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builds up in receiv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ata is acked, sender will send mo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ata is not acked, sender will retransm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Flow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 tells sender how much space left in receive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stops if receive window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es sender know when to resume sending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eceive window = 0, sender s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ata =&gt; no acks =&gt; no window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er periodically pings receiver with one byte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acks with current window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t have receiver ping se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hould sender be greedy (I)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sender transmit as soon as any space opens in receive wind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ly window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window opens a few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transmits little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window cl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er doesn’t restart until window is half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Network metric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mitted at a rate of R bits/se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or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D seconds for bit to progagate down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O secs for CPU to put message on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P that messsage will not arrive i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M of data being trans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hould sender be greedy (II)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 writes a few bytes; send a pac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uffered writes &gt; max packe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pp says “push” (ex: tel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imeout (ex: 0.5 s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gle’s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send two partial segments; wait for first to be a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of network vs. efficiency for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Packet Heade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, destination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# (bytes being s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 # (next byte 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 window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s: SYN, FIN, 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 leng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Connection Managemen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ymetric 3-way handsh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r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 2-way handsh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-serv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or (client) contact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er (server) responds, provide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Setup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way handsh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s initial sequence #, buffer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s accidental replays of connection 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603600" y="4187880"/>
            <a:ext cx="113976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03600" y="5435640"/>
            <a:ext cx="113976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573360" y="4780080"/>
            <a:ext cx="1170000" cy="47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933640" y="4414680"/>
            <a:ext cx="15192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N, seq # =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376880" y="4956120"/>
            <a:ext cx="302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N, ACK, seq # = y, ack # = x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13120" y="5681520"/>
            <a:ext cx="1674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, ack # = y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11680" y="3973680"/>
            <a:ext cx="11080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76560" y="4005360"/>
            <a:ext cx="5684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Transfe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is bi-dire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s can carry respons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3347640" y="4552920"/>
            <a:ext cx="142884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38640" y="5133960"/>
            <a:ext cx="153972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040280" y="4757760"/>
            <a:ext cx="1141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,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481560" y="5299200"/>
            <a:ext cx="730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301920" y="3633840"/>
            <a:ext cx="154008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92560" y="4021200"/>
            <a:ext cx="153972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3373560" y="4238640"/>
            <a:ext cx="142704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89360" y="3603600"/>
            <a:ext cx="7318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57600" y="3981600"/>
            <a:ext cx="731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567240" y="4370400"/>
            <a:ext cx="730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Teardow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 -- either side can close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570560" y="2665440"/>
            <a:ext cx="9252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251240" y="3257640"/>
            <a:ext cx="9241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28960" y="2633760"/>
            <a:ext cx="162576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838320" y="3216240"/>
            <a:ext cx="161604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3889080" y="3838680"/>
            <a:ext cx="1616040" cy="54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3919320" y="4257720"/>
            <a:ext cx="161604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3919320" y="4616280"/>
            <a:ext cx="161604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19680" y="5332320"/>
            <a:ext cx="162720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00720" y="3811680"/>
            <a:ext cx="9252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500720" y="4221000"/>
            <a:ext cx="9252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16560" y="4637160"/>
            <a:ext cx="925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633920" y="5318280"/>
            <a:ext cx="9237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73920" y="3699000"/>
            <a:ext cx="925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lf-open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99240" y="3165480"/>
            <a:ext cx="1440" cy="123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89520" y="5599080"/>
            <a:ext cx="2421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reclaim connection  immediately  (must be at least 1MSL after first F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73280" y="5076720"/>
            <a:ext cx="20527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reclaim connection  after 2 M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Limitati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50600" y="16984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size fields in TCP packet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 #/ack # -- 32 bits (can’t wrap in TT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1 ~ 6.4 hours; OC-24 ~ 28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/destination port # -- 16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s # of connections between two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s # of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 window size -- 16 bits (64K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= window size /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100ms delay =&gt; rate ~ 5Mb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P Fragment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CP and IP fragment and reassemble packets.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packets traverse heterogeneous 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etwork has its own max transfer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 ~ 1400 bytes; FDDI ~ 4500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P ~ 532 bytes; ATM ~ 53 bytes; Aloha ~ 80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is transparent to end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hange dynamically (but usually doesn’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routers fragment; hosts reassem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03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can TCP choose packet siz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72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smallest MTU across all networks in Intern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processing overhead dominates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message passing ~ 100 usec/p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weight message passing ~ 1 usec/p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raffic is loc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file server, web proxy, DNS cache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Use MTU of local networ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 MTU typically bigger than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refragmentation for WAN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burden on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gabit router has ~ 10us to forward 1KB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fficient if packet doesn’t divide eve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bit IP packet identifier + TT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s maximum rate to 2K packets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long to send a messag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t time T = M/R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Mbps Ethernet LAN (M=1K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/R=1ms, D ~=5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5Mbps cross country ATM (M=1K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/R = 50us, D ~= 40-100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*D is “storage” of p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ore Problems with Fragment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likelihood packet will be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lective retransmission of missing 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s may arrive out of order at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re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posed Soluti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fragment based on destination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local network, use LAN M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net, use min MTU acros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 MTU on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fragment bit” -&gt; error packet if too 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ary search using probe IP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informs host about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t network-level fra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ayer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layer “transparent” packet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decisions affect higher layers (and vice ver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loss =&gt; congestion or lossy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ordering =&gt; packet loss or multi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O vs. round robin queueing at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ragmentation solution w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ocket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abstraction representing communication end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on top of TCP, UDP, local pi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(passive 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 -- socket to specific local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-- wait for client to 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(active 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-- to specific remote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mote Procedure Cal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ion: call a procedure on a remot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calls: remoteFileSys-&gt;Read(“foo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invoked as: filesys-&gt;Read(“foo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-response message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b” routines provide g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mote Procedure Cal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609480" y="2265480"/>
          <a:ext cx="7848720" cy="354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65480"/>
                    <a:ext cx="784872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bject Oriented RPC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97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object being invoked is remo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object has local stub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b object translates local calls into R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object pointer is globally 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= machine # + address on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translates pointer dereference into 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shipping vs. data sh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PC on TCP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584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duce the # of mess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ed ack: wait for 200ms for reply or another pkt arr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P: reply serves as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C system provides retries, duplicate supress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, no conges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627960" y="1852560"/>
            <a:ext cx="171756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638760" y="2782800"/>
            <a:ext cx="171792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669000" y="3201840"/>
            <a:ext cx="17179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29480" y="4417920"/>
            <a:ext cx="171756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759720" y="6113520"/>
            <a:ext cx="171756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6648120" y="2343240"/>
            <a:ext cx="164628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6719400" y="4030560"/>
            <a:ext cx="1646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6708600" y="3630600"/>
            <a:ext cx="164808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23120" y="1752480"/>
            <a:ext cx="6714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18400" y="2174760"/>
            <a:ext cx="1170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N+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432560" y="2736720"/>
            <a:ext cx="6717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29600" y="3110040"/>
            <a:ext cx="67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137360" y="3537000"/>
            <a:ext cx="67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345440" y="3932280"/>
            <a:ext cx="671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370640" y="4321080"/>
            <a:ext cx="6717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6770160" y="5659560"/>
            <a:ext cx="164628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6740280" y="5310360"/>
            <a:ext cx="1646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29480" y="4846680"/>
            <a:ext cx="171756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61280" y="4757760"/>
            <a:ext cx="67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112160" y="5227560"/>
            <a:ext cx="6714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75600" y="5565600"/>
            <a:ext cx="669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458120" y="6037200"/>
            <a:ext cx="67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ducing TCP packets for RPC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8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repeated connections between the same pair of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istent HTTP (proposed stand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connection open after web request, in case there’s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/TCP -- “transactional”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andshake to init seq #s, recover from cr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init, request/reply = SYN+data+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eliminate handshake entir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PC Failure Model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142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times is an RPC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ly o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crashes before request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crashes after ack, but before 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crashes after reply, but reply dro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most o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rver crashes, can’t know if request wa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o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trying across crashes: idempotent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16200000">
            <a:off x="3520800" y="2971800"/>
            <a:ext cx="457200" cy="289548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to measure bandwidth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how slow link increases gap between pack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16040" y="4038480"/>
            <a:ext cx="39996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58840" y="4038480"/>
            <a:ext cx="39996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5616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3520800" y="4267080"/>
            <a:ext cx="457200" cy="289548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973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324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3576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97320" y="5721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73240" y="571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57280" y="4799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 bottleneck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97520" y="4343400"/>
            <a:ext cx="762120" cy="1600200"/>
          </a:xfrm>
          <a:custGeom>
            <a:avLst/>
            <a:gdLst>
              <a:gd name="textAreaLeft" fmla="*/ 101880 w 762120"/>
              <a:gd name="textAreaRight" fmla="*/ 660240 w 7621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391520" y="4267080"/>
            <a:ext cx="1082520" cy="1613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416640" y="5486400"/>
            <a:ext cx="12240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37400" y="5486400"/>
            <a:ext cx="12204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20960" y="5486400"/>
            <a:ext cx="12204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41360" y="5486400"/>
            <a:ext cx="12240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General’s Paradox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use messages and retries to synchronize two machines so they are guaranteed to do some operation at the same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General’s Paradox Illustrated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actly once RPC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chines agree to do operation, but not at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phase co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o disk before sending each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rash, read disk and r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phase co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participants to abort if run out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ardware Outlin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media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happens to a signal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ier analysis -- decompose signal into sum of sine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channel on each sin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response -- “bandwidt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response -- ri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to get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property of channels -- distort each frequency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ample: Square Wav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es distortion affect maximum bit rat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of bandwidth B and nois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quist limit  &lt;= 2B symbols/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nnon limit &lt;= log (S/2N) bits/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&lt;= 2B log (S/2N) bits/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tic &lt;= B log (1 + S/2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DMA Cell Phon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DMA (time division multiple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ne sender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MA (code division multiple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enders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nder has uniqu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1010 vs. 0101 vs. 1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known whether Shannon limit is higher or lower for CD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ock recover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receiver know when to s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bage if sample at wrong times or wrong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a priori agreement on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autobaud mod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ock recover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ing when to start/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defined bit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ying in phase despite clock dr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message 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s clocks drift slow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data rate; requires idle time between stop/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 clock into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chester encoding: clock in every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5 code: clock in every 5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rot="16200000">
            <a:off x="4190760" y="2666880"/>
            <a:ext cx="457200" cy="289548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to measure delay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round-trip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190760" y="3962160"/>
            <a:ext cx="457200" cy="289548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4114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4114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388620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54165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410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3962520"/>
            <a:ext cx="762120" cy="1600200"/>
          </a:xfrm>
          <a:custGeom>
            <a:avLst/>
            <a:gdLst>
              <a:gd name="textAreaLeft" fmla="*/ 101880 w 762120"/>
              <a:gd name="textAreaRight" fmla="*/ 660240 w 7621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082520" cy="1612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324480" y="5181480"/>
            <a:ext cx="122400" cy="451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5181480"/>
            <a:ext cx="122040" cy="451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388620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615960" cy="841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295280" y="4952880"/>
            <a:ext cx="615960" cy="841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145" name=""/>
          <p:cNvSpPr/>
          <p:nvPr/>
        </p:nvSpPr>
        <p:spPr>
          <a:xfrm>
            <a:off x="1295280" y="31230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02840" y="45709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ram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94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send packet, not just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st errors common:  lose sequence of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ynch on frame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C for error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rror Detection:                         CRCs vs. checksum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catch some inadvertent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 errors one or other will not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ums weaker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s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ic errors (ex: flip every 16th 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make every bit in CRC depend on every bit i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catches malicious erro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Network Laye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(Ethernet, packet radio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listens; if not destination, ign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(ATM, switched Ether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le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roadcast Network Arbitr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veryone a fixed time/freq sl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for fixed bandwidth (e.g., vo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traffic is burs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 arb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cell phone base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point of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arbi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oha/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loha Network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radio network in Hawaii, 197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bi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discard on collision (using CR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blems with Carrier Sen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142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den term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will send even if A-&gt;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ed term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won’t send to A if C-&gt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target if ok to s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propagation delay &gt;&gt; pkt size/b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21120" y="266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673600" y="420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67360" y="4180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764480" y="2711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867280" y="2976480"/>
            <a:ext cx="11160" cy="12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6043680" y="3035160"/>
            <a:ext cx="168120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948440" y="3094200"/>
            <a:ext cx="11160" cy="11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blems with Aloha Arbitr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72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if carrier sense is i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 between senders can still occ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uses CRC to discard garbled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times out and retrans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load increases, more collisions, more retransmissions, more load, more collisions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therne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ractical local area network, built at Xerox PARC in 7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d =&gt; no hidden 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 det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checks for collision; wait and r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randomized waiting to avoid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thernet Collision Detec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 packet length &gt; 2x max prop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, B are at opposite sides of link, and B starts one link prop delay after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gigabit Ethern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 network for min pkt size after collision, then stop s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bigger packets, since abort quickly after coll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thernet Collision Avoidan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eterministic delay after collision, collision will occur again in lock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andom delay with fixed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senders =&gt; needless wa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many senders =&gt; too many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ly increasing random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 senders from # of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enders =&gt; increase wai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rot="16200000">
            <a:off x="3902040" y="2971800"/>
            <a:ext cx="457200" cy="289584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to measure error rat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number of packets acknowled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37400" y="4191120"/>
            <a:ext cx="50292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3902040" y="4267080"/>
            <a:ext cx="457200" cy="289584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7856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541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1664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78560" y="5721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54120" y="571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38160" y="4799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 bottleneck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78760" y="4343400"/>
            <a:ext cx="761760" cy="1600200"/>
          </a:xfrm>
          <a:custGeom>
            <a:avLst/>
            <a:gdLst>
              <a:gd name="textAreaLeft" fmla="*/ 101880 w 761760"/>
              <a:gd name="textAreaRight" fmla="*/ 659880 w 76176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772400" y="4267080"/>
            <a:ext cx="1082520" cy="1613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797520" y="5486400"/>
            <a:ext cx="12240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18280" y="5486400"/>
            <a:ext cx="12204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01840" y="5486400"/>
            <a:ext cx="12240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22600" y="5486400"/>
            <a:ext cx="12204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114800" y="3352680"/>
            <a:ext cx="380880" cy="9907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0800" y="327528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thernet Problem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33240" y="17114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 -- backoff favors latest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limit to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history -- unfairness average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at high 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for max throughput at min packet sizes at max link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ary tale for modelling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Ethernets can be driven at high load today (ex: real-time vid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y Did Ethernet Win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ng technology: token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send” rotates around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fair, real-time bandwidth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ken rings -- network unu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-- node det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ble to switching (vs. AT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liable transmiss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send a packet reliably when it can be l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st reliable protocol: Stop and W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8:11:14Z</dcterms:created>
  <dc:creator>Stefan Savage</dc:creator>
  <dc:description/>
  <dc:language>en-US</dc:language>
  <cp:lastModifiedBy>cse</cp:lastModifiedBy>
  <cp:lastPrinted>1999-02-18T02:30:17Z</cp:lastPrinted>
  <dcterms:modified xsi:type="dcterms:W3CDTF">1999-04-07T23:08:04Z</dcterms:modified>
  <cp:revision>92</cp:revision>
  <dc:subject/>
  <dc:title>Eraser: A Dynamic Race Detector for  Multi-Threaded Programs</dc:title>
</cp:coreProperties>
</file>