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22200" y="704520"/>
            <a:ext cx="4502160" cy="33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76FC381-8B5C-44D4-86FB-6ADA88E3254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22200" y="70488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ser story -- no time for the bulls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s 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22200" y="70488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EC7-77C6-4755-AF92-680B9311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96B-6495-45C0-A1AD-C9625B2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5FA-A53E-434B-AF3E-77FF9AE0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624-BF94-48C1-A7DD-79BD6C2A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04D6-AC06-4ED7-A664-3A209BF5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CFA8-A986-484A-96B9-91080B7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56FC-4309-4021-A1AB-7677D89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C466-CF5B-4E18-8F28-E8FD723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485-96F6-47B4-966D-811E111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BBC-F878-4DBF-AFB2-50AEF98E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6CF6-1739-405A-8CE2-DDCB713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12E-234C-4A93-8A62-7BAE077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0E9-4875-406A-A304-0A33AB4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5C58-7C06-4849-8166-CC04C21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2FD1-988E-4A0E-93A1-6F762DA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D31B-CCB0-4040-BD09-8571CFFD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B9B-3B67-4A69-AD2D-98B6ABF4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72-67EA-4844-AD82-56942838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E89-DCC2-413B-965C-AE185B0F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08A-13A3-4FEA-9C9B-4F60929E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6D2-1DF1-43CE-BBA7-06FF3C4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180-CD13-49DC-B257-C8A98D9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89F-4768-41AA-8C81-EA81314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D42-35E9-4F54-A632-F27DF25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3699-732F-416D-A676-1847526F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91A-4B19-4EBD-9B06-B6F840EB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package" Target="../embeddings/oleObject1.ppt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SE 588: Network Syst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toco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: agreement between two parties as to how information is to be trans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uable with mor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centive to develop standards =&gt;  lots and lots and lots of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protocols vs. standardize interf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0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complex services on top of simpl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84640" y="3213000"/>
            <a:ext cx="457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08400" y="3124080"/>
            <a:ext cx="611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3800" y="3100320"/>
            <a:ext cx="539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8200" y="3100320"/>
            <a:ext cx="576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8600" y="3564000"/>
            <a:ext cx="458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79480" y="3076560"/>
            <a:ext cx="1440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29120" y="4052880"/>
            <a:ext cx="45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0240" y="3735360"/>
            <a:ext cx="552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57520" y="3417840"/>
            <a:ext cx="2761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0680" y="3381480"/>
            <a:ext cx="9864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1920" y="3325680"/>
            <a:ext cx="45900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06880" y="3735360"/>
            <a:ext cx="8240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9680" y="4368960"/>
            <a:ext cx="4572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89400" y="4255920"/>
            <a:ext cx="64152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0240" y="332568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440" y="3916440"/>
            <a:ext cx="73188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113080" y="3325680"/>
            <a:ext cx="27468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295960" y="3417840"/>
            <a:ext cx="100656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13280" y="4525920"/>
            <a:ext cx="45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63840" y="4940280"/>
            <a:ext cx="839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2200" y="5105520"/>
            <a:ext cx="600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56240" y="5140440"/>
            <a:ext cx="1098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62400" y="4189320"/>
            <a:ext cx="457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45320" y="5140440"/>
            <a:ext cx="1098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6800" y="5661000"/>
            <a:ext cx="80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24360" y="5140440"/>
            <a:ext cx="549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3720" y="5661000"/>
            <a:ext cx="1098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4120" y="5349960"/>
            <a:ext cx="1098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87360" y="4710240"/>
            <a:ext cx="8240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84640" y="4822920"/>
            <a:ext cx="92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4640" y="4710240"/>
            <a:ext cx="13730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76800" y="4710240"/>
            <a:ext cx="237816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52760" y="4822920"/>
            <a:ext cx="54936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84640" y="4710240"/>
            <a:ext cx="73188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55880" y="5345280"/>
            <a:ext cx="27468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67160" y="534528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641480" y="5345280"/>
            <a:ext cx="366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SI Model: 7 Protocol Laye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-- how to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nk -- how to transmit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-- how to rou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-- how to send packets reli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-- how to tie group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-- byte ordering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-- everything el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990720" y="4290840"/>
            <a:ext cx="4343400" cy="1881360"/>
            <a:chOff x="990720" y="4290840"/>
            <a:chExt cx="4343400" cy="1881360"/>
          </a:xfrm>
        </p:grpSpPr>
        <p:sp>
          <p:nvSpPr>
            <p:cNvPr id="158" name=""/>
            <p:cNvSpPr/>
            <p:nvPr/>
          </p:nvSpPr>
          <p:spPr>
            <a:xfrm>
              <a:off x="1066680" y="4290840"/>
              <a:ext cx="1433520" cy="131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572000"/>
              <a:ext cx="2362320" cy="160020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5105520"/>
              <a:ext cx="190476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when you click on a Web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6040" y="5104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082880" cy="1612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57200" y="2743200"/>
            <a:ext cx="1441440" cy="1164960"/>
            <a:chOff x="457200" y="2743200"/>
            <a:chExt cx="1441440" cy="11649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57200" y="2743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762120" y="2881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60120" y="228492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r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4720" y="22849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ww.netscap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65760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05520" y="3504960"/>
            <a:ext cx="12952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809880"/>
            <a:ext cx="1295280" cy="9144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257800" y="373356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07160" y="38696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kinds of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(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netscape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,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(e.g. 207.200.73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, works across al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(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8-00-2b-18-bc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, works on a particula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ding the right IP address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main Naming System (DN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505320"/>
            <a:ext cx="1441440" cy="1164960"/>
            <a:chOff x="228600" y="3505320"/>
            <a:chExt cx="1441440" cy="11649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8600" y="3505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33520" y="3643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0" name=""/>
          <p:cNvGraphicFramePr/>
          <p:nvPr/>
        </p:nvGraphicFramePr>
        <p:xfrm>
          <a:off x="7772400" y="327672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2767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315200" y="1949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28.95.1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59040" y="37339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8960" y="319932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at’s the IP address for www.netscape.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" y="2284560"/>
            <a:ext cx="218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r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8.95.1.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79560" y="4495680"/>
            <a:ext cx="541008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8080" y="40374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Oh, you can find it at 207.200.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ding the right Ether address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ress Resolution (AR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2133720"/>
            <a:ext cx="1441440" cy="1164960"/>
            <a:chOff x="990720" y="2133720"/>
            <a:chExt cx="1441440" cy="11649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90720" y="21337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1295640" y="22716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35812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429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6720" y="3580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43800" y="182880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82880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001000" y="3429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4080" y="2665440"/>
            <a:ext cx="42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roadcast: Anyon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thernet address for 128.95.1.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66680" y="4495680"/>
            <a:ext cx="1441440" cy="1164960"/>
            <a:chOff x="1066680" y="4495680"/>
            <a:chExt cx="1441440" cy="1164960"/>
          </a:xfrm>
        </p:grpSpPr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1066680" y="449568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6"/>
            <a:stretch/>
          </p:blipFill>
          <p:spPr>
            <a:xfrm>
              <a:off x="1371600" y="463356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990720" y="59436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040" y="59425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0120" y="4191120"/>
          <a:ext cx="895320" cy="16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1911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807732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5943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040" y="502776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roadcast: Yeah, I’m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08-00-2b-18-bc-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5943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560" y="159912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8.95.1.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1522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28.95.1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a packet get through the Interne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866320"/>
            <a:ext cx="4724640" cy="2963880"/>
          </a:xfrm>
          <a:prstGeom prst="cloudCallout">
            <a:avLst>
              <a:gd name="adj1" fmla="val -63606"/>
              <a:gd name="adj2" fmla="val 58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7520" y="4876920"/>
            <a:ext cx="19051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4760" y="56394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8280" y="342972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3520" y="510624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9560" y="2896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1760" y="297252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1760" y="29725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240" y="29725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59120" y="54108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64840" y="27439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17520" y="5638680"/>
            <a:ext cx="1371600" cy="1009440"/>
            <a:chOff x="1217520" y="5638680"/>
            <a:chExt cx="1371600" cy="1009440"/>
          </a:xfrm>
        </p:grpSpPr>
        <p:sp>
          <p:nvSpPr>
            <p:cNvPr id="228" name=""/>
            <p:cNvSpPr/>
            <p:nvPr/>
          </p:nvSpPr>
          <p:spPr>
            <a:xfrm>
              <a:off x="1598760" y="5638680"/>
              <a:ext cx="990360" cy="663480"/>
            </a:xfrm>
            <a:prstGeom prst="cloudCallout">
              <a:avLst>
                <a:gd name="adj1" fmla="val -82851"/>
                <a:gd name="adj2" fmla="val 700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7520" y="6171840"/>
              <a:ext cx="609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35440" y="60966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522440" y="6095880"/>
            <a:ext cx="3049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61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5486400"/>
            <a:ext cx="763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6840" y="5790960"/>
            <a:ext cx="4572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4" idx="2"/>
            <a:endCxn id="223" idx="2"/>
          </p:cNvCxnSpPr>
          <p:nvPr/>
        </p:nvCxnSpPr>
        <p:spPr>
          <a:xfrm flipH="1" rot="16200000">
            <a:off x="1126440" y="3072240"/>
            <a:ext cx="2160" cy="534240"/>
          </a:xfrm>
          <a:prstGeom prst="bentConnector3">
            <a:avLst>
              <a:gd name="adj1" fmla="val 1440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3" idx="2"/>
            <a:endCxn id="222" idx="2"/>
          </p:cNvCxnSpPr>
          <p:nvPr/>
        </p:nvCxnSpPr>
        <p:spPr>
          <a:xfrm flipH="1" flipV="1" rot="5400000">
            <a:off x="1638720" y="3058560"/>
            <a:ext cx="34200" cy="525960"/>
          </a:xfrm>
          <a:prstGeom prst="bentConnector3">
            <a:avLst>
              <a:gd name="adj1" fmla="val -68510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1903320" y="3581280"/>
            <a:ext cx="15256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198960" y="3733560"/>
            <a:ext cx="382320" cy="19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486040" y="3200400"/>
            <a:ext cx="1522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26" idx="1"/>
          </p:cNvCxnSpPr>
          <p:nvPr/>
        </p:nvCxnSpPr>
        <p:spPr>
          <a:xfrm flipH="1" flipV="1" rot="10800000">
            <a:off x="7764120" y="2924640"/>
            <a:ext cx="2160" cy="610200"/>
          </a:xfrm>
          <a:prstGeom prst="bentConnector3">
            <a:avLst>
              <a:gd name="adj1" fmla="val -1440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26" idx="1"/>
            <a:endCxn id="221" idx="3"/>
          </p:cNvCxnSpPr>
          <p:nvPr/>
        </p:nvCxnSpPr>
        <p:spPr>
          <a:xfrm flipV="1" rot="10800000">
            <a:off x="7342920" y="2924640"/>
            <a:ext cx="421560" cy="137160"/>
          </a:xfrm>
          <a:prstGeom prst="bentConnector3">
            <a:avLst>
              <a:gd name="adj1" fmla="val 49743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1751760" y="5182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55960" y="3733560"/>
            <a:ext cx="152532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1280" y="22104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0920" y="22104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2"/>
            <a:endCxn id="244" idx="2"/>
          </p:cNvCxnSpPr>
          <p:nvPr/>
        </p:nvCxnSpPr>
        <p:spPr>
          <a:xfrm flipH="1" flipV="1" rot="5400000">
            <a:off x="4458960" y="2296440"/>
            <a:ext cx="34200" cy="526320"/>
          </a:xfrm>
          <a:prstGeom prst="bentConnector3">
            <a:avLst>
              <a:gd name="adj1" fmla="val -68510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722840" y="2819520"/>
            <a:ext cx="53496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0760" y="4039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3200400"/>
            <a:ext cx="1307880" cy="507960"/>
          </a:xfrm>
          <a:custGeom>
            <a:avLst/>
            <a:gdLst/>
            <a:ahLst/>
            <a:rect l="l" t="t" r="r" b="b"/>
            <a:pathLst>
              <a:path w="824" h="320">
                <a:moveTo>
                  <a:pt x="48" y="96"/>
                </a:moveTo>
                <a:cubicBezTo>
                  <a:pt x="24" y="152"/>
                  <a:pt x="0" y="208"/>
                  <a:pt x="48" y="240"/>
                </a:cubicBezTo>
                <a:cubicBezTo>
                  <a:pt x="96" y="272"/>
                  <a:pt x="232" y="280"/>
                  <a:pt x="336" y="288"/>
                </a:cubicBezTo>
                <a:cubicBezTo>
                  <a:pt x="440" y="296"/>
                  <a:pt x="608" y="320"/>
                  <a:pt x="672" y="288"/>
                </a:cubicBezTo>
                <a:cubicBezTo>
                  <a:pt x="736" y="256"/>
                  <a:pt x="712" y="136"/>
                  <a:pt x="720" y="96"/>
                </a:cubicBezTo>
                <a:cubicBezTo>
                  <a:pt x="728" y="56"/>
                  <a:pt x="712" y="64"/>
                  <a:pt x="720" y="48"/>
                </a:cubicBezTo>
                <a:cubicBezTo>
                  <a:pt x="728" y="32"/>
                  <a:pt x="752" y="0"/>
                  <a:pt x="768" y="0"/>
                </a:cubicBezTo>
                <a:cubicBezTo>
                  <a:pt x="784" y="0"/>
                  <a:pt x="808" y="32"/>
                  <a:pt x="816" y="48"/>
                </a:cubicBezTo>
                <a:cubicBezTo>
                  <a:pt x="824" y="64"/>
                  <a:pt x="820" y="80"/>
                  <a:pt x="816" y="9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36720" y="3009960"/>
            <a:ext cx="5934240" cy="1128600"/>
          </a:xfrm>
          <a:custGeom>
            <a:avLst/>
            <a:gdLst/>
            <a:ahLst/>
            <a:rect l="l" t="t" r="r" b="b"/>
            <a:pathLst>
              <a:path w="3738" h="711">
                <a:moveTo>
                  <a:pt x="90" y="216"/>
                </a:moveTo>
                <a:cubicBezTo>
                  <a:pt x="58" y="256"/>
                  <a:pt x="0" y="318"/>
                  <a:pt x="90" y="360"/>
                </a:cubicBezTo>
                <a:cubicBezTo>
                  <a:pt x="180" y="402"/>
                  <a:pt x="476" y="453"/>
                  <a:pt x="628" y="469"/>
                </a:cubicBezTo>
                <a:cubicBezTo>
                  <a:pt x="780" y="485"/>
                  <a:pt x="900" y="466"/>
                  <a:pt x="1002" y="456"/>
                </a:cubicBezTo>
                <a:cubicBezTo>
                  <a:pt x="1104" y="446"/>
                  <a:pt x="1162" y="406"/>
                  <a:pt x="1242" y="408"/>
                </a:cubicBezTo>
                <a:cubicBezTo>
                  <a:pt x="1322" y="410"/>
                  <a:pt x="1367" y="432"/>
                  <a:pt x="1485" y="469"/>
                </a:cubicBezTo>
                <a:cubicBezTo>
                  <a:pt x="1603" y="506"/>
                  <a:pt x="1854" y="593"/>
                  <a:pt x="1953" y="630"/>
                </a:cubicBezTo>
                <a:cubicBezTo>
                  <a:pt x="2052" y="667"/>
                  <a:pt x="2033" y="677"/>
                  <a:pt x="2077" y="689"/>
                </a:cubicBezTo>
                <a:cubicBezTo>
                  <a:pt x="2121" y="701"/>
                  <a:pt x="2168" y="711"/>
                  <a:pt x="2216" y="704"/>
                </a:cubicBezTo>
                <a:cubicBezTo>
                  <a:pt x="2264" y="697"/>
                  <a:pt x="2309" y="679"/>
                  <a:pt x="2363" y="645"/>
                </a:cubicBezTo>
                <a:cubicBezTo>
                  <a:pt x="2417" y="611"/>
                  <a:pt x="2483" y="543"/>
                  <a:pt x="2538" y="499"/>
                </a:cubicBezTo>
                <a:cubicBezTo>
                  <a:pt x="2593" y="455"/>
                  <a:pt x="2615" y="433"/>
                  <a:pt x="2692" y="382"/>
                </a:cubicBezTo>
                <a:cubicBezTo>
                  <a:pt x="2769" y="331"/>
                  <a:pt x="2915" y="240"/>
                  <a:pt x="2999" y="191"/>
                </a:cubicBezTo>
                <a:cubicBezTo>
                  <a:pt x="3083" y="142"/>
                  <a:pt x="3130" y="117"/>
                  <a:pt x="3197" y="89"/>
                </a:cubicBezTo>
                <a:cubicBezTo>
                  <a:pt x="3264" y="61"/>
                  <a:pt x="3344" y="35"/>
                  <a:pt x="3402" y="24"/>
                </a:cubicBezTo>
                <a:cubicBezTo>
                  <a:pt x="3460" y="13"/>
                  <a:pt x="3514" y="0"/>
                  <a:pt x="3546" y="24"/>
                </a:cubicBezTo>
                <a:cubicBezTo>
                  <a:pt x="3578" y="48"/>
                  <a:pt x="3586" y="120"/>
                  <a:pt x="3594" y="168"/>
                </a:cubicBezTo>
                <a:cubicBezTo>
                  <a:pt x="3602" y="216"/>
                  <a:pt x="3570" y="288"/>
                  <a:pt x="3594" y="312"/>
                </a:cubicBezTo>
                <a:cubicBezTo>
                  <a:pt x="3618" y="336"/>
                  <a:pt x="3678" y="324"/>
                  <a:pt x="3738" y="31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055600" y="2438280"/>
            <a:ext cx="306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438280"/>
            <a:ext cx="760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send packet to next clos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83872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819520"/>
            <a:ext cx="755640" cy="610920"/>
            <a:chOff x="457200" y="2819520"/>
            <a:chExt cx="755640" cy="6109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819520"/>
              <a:ext cx="75564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617040" y="2891520"/>
              <a:ext cx="319320" cy="2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 flipV="1">
            <a:off x="3276720" y="5334120"/>
            <a:ext cx="12189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733920" y="373392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00600" y="426708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876920" y="2438280"/>
            <a:ext cx="213336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733560" y="373392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848720" y="3200400"/>
            <a:ext cx="776160" cy="1155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322040" y="5639400"/>
            <a:ext cx="1494360" cy="10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: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the routers know where to send data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tables at each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nternet: manua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update based on “c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ighbor with smallest hop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node says zero cost to every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ave address, now send data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phy’s Law applies to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corru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get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ght not fit in a singl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delivered in the wro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up CTO: someone proposes a new networking technology,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 afford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’t afford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’t afford not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networking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valuatio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gets corrupt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81080" y="1600200"/>
            <a:ext cx="3428640" cy="1904760"/>
            <a:chOff x="1981080" y="1600200"/>
            <a:chExt cx="3428640" cy="1904760"/>
          </a:xfrm>
        </p:grpSpPr>
        <p:sp>
          <p:nvSpPr>
            <p:cNvPr id="271" name=""/>
            <p:cNvSpPr/>
            <p:nvPr/>
          </p:nvSpPr>
          <p:spPr>
            <a:xfrm>
              <a:off x="2040840" y="1600200"/>
              <a:ext cx="1131480" cy="133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44920" y="1884600"/>
              <a:ext cx="1864800" cy="16203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1080" y="2424960"/>
              <a:ext cx="1503720" cy="61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886920" y="2361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1905120"/>
            <a:ext cx="1441440" cy="1164960"/>
            <a:chOff x="380880" y="1905120"/>
            <a:chExt cx="1441440" cy="116496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685800" y="20430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54784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1326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7696080" y="16002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922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4480" y="2132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48320" y="4343400"/>
          <a:ext cx="3019320" cy="227484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4343400"/>
                    <a:ext cx="30193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04920" y="3657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cks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971800" y="5028840"/>
            <a:ext cx="2057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594360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0552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51055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gets los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81080" y="1600200"/>
            <a:ext cx="3428640" cy="1904760"/>
            <a:chOff x="1981080" y="1600200"/>
            <a:chExt cx="3428640" cy="1904760"/>
          </a:xfrm>
        </p:grpSpPr>
        <p:sp>
          <p:nvSpPr>
            <p:cNvPr id="295" name=""/>
            <p:cNvSpPr/>
            <p:nvPr/>
          </p:nvSpPr>
          <p:spPr>
            <a:xfrm>
              <a:off x="2040840" y="1600200"/>
              <a:ext cx="1131480" cy="133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44920" y="1884600"/>
              <a:ext cx="1864800" cy="16203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424960"/>
              <a:ext cx="1503720" cy="61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886920" y="2361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0880" y="1905120"/>
            <a:ext cx="1441440" cy="1164960"/>
            <a:chOff x="380880" y="1905120"/>
            <a:chExt cx="1441440" cy="116496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685800" y="20430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696080" y="16002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922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64480" y="2132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8862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rans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905120" y="4343400"/>
            <a:ext cx="3733200" cy="2361960"/>
            <a:chOff x="1905120" y="4343400"/>
            <a:chExt cx="3733200" cy="2361960"/>
          </a:xfrm>
        </p:grpSpPr>
        <p:sp>
          <p:nvSpPr>
            <p:cNvPr id="307" name=""/>
            <p:cNvSpPr/>
            <p:nvPr/>
          </p:nvSpPr>
          <p:spPr>
            <a:xfrm>
              <a:off x="1970280" y="4343400"/>
              <a:ext cx="1231920" cy="165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07920" y="4696200"/>
              <a:ext cx="2030400" cy="20091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05120" y="5366160"/>
              <a:ext cx="1637280" cy="76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039200" y="540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029200"/>
            <a:ext cx="1441440" cy="1164960"/>
            <a:chOff x="228600" y="5029200"/>
            <a:chExt cx="1441440" cy="1164960"/>
          </a:xfrm>
        </p:grpSpPr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228600" y="5029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533520" y="5167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7772400" y="49528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88520" y="44946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6600" y="655308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0880" y="60188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1600200" y="51814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2133360" y="518004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a b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21400" y="655308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5680" y="60188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doesn’t fi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thernet, max IP packet is 1.5k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web page is 10kby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cross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0880" y="4572000"/>
            <a:ext cx="1441440" cy="1164960"/>
            <a:chOff x="380880" y="4572000"/>
            <a:chExt cx="1441440" cy="116496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685800" y="47098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61722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696080" y="43434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238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86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81120" y="59425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is out of order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3657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sequenc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0880" y="1600200"/>
            <a:ext cx="1441440" cy="1164960"/>
            <a:chOff x="380880" y="1600200"/>
            <a:chExt cx="1441440" cy="116496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685800" y="1738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61722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696080" y="13716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5238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02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81120" y="289404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x.thinde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4648320"/>
            <a:ext cx="1441440" cy="1164960"/>
            <a:chOff x="0" y="4648320"/>
            <a:chExt cx="1441440" cy="116496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0" y="4648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304920" y="4786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7696080" y="43434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0666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81120" y="60487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4876920"/>
            <a:ext cx="761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network is overload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an arrive at router faster than it can be forwar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bursts: buffer at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buffer over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and re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djusts rate until load =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Congestion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network: bus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data has a deadlin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ultimedia, tele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nternet: out of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guarantees,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anagement at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Telephone network has busy signals + explicit schedules at each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add this to the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multiple receiver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separate packet to 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zillions of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form distributio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data is dro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s would overwhelm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s? if drop is early in the tree -&gt; overwhelm send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sender is maliciou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acket has source, destination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! Host can 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IP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may have come from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to enforce sanity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ource must be from other side of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only allow repl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/digital signatures for authentication/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ealed wisd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Histo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effective multiplexed use of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support from underly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no support for multicast, real-time, fast failover, congestion contro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witching (fine-grained resource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onnect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Top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(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time (DiffSer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(Kerbe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9800" y="198108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tate m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e hard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multiple types of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n wide variety of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anagement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 host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rviv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, failabl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routers + 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routing simple (non-ada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 reliabl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Serv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nternet support real-time without help from underlying networ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congestion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ariety of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ugely successful because of it can run on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till important?  Consider IP on AT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uses 53 byt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ragmentation for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rop-tail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anagement =&gt; routing, congestion control, multicast, real-time,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effective =&gt; compared to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very cost effective compared to telephon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gh drop rates, inefficient rou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ment cost =&gt; $100M/year on protocol stack by major OS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behaving hosts =&gt; still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ree Internet surv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ssons from the Internet experi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zer paper: end to end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es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d to end princi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y should be implemented at a lower layer iff it can be correctly and completely implement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ANet provided reliable link transfer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ould still get corrupted on host-switch link, or insid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reliable file transf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isk on file (web) server over network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can introduce bi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I/O buses can introduce bi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an get garbled, dropped, misordered at an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tegrity check on file, not per packet or per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as performance op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violate end to end principle to provide reliability at link layer, if not required for correct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of the enve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hops (average Internet route = 15 h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corrupted packet per link)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packet lost end to 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0001% =&gt; Prob(loss) = 0.0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% =&gt; Prob(loss) =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Interne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istory: Clark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lessons: Saltze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 and 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o end principle widely followed within Internet community, but not elsewhere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um on end to end network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does its own error detection/correction (inter-sector g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bus and memory have ECC (or no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hardware become reliabl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Examp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ce vs. at most once vs. at leas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nly as strong as weakest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ressing duplicate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order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ication of End to End Princi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ssumption: minimal support from underlying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Internet can run on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end to end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almost everything done at e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has stupid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light switch runs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at the end hosts, and what by th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/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/resource al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guarant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ssons: Intuition doesn’t sca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breaks everytime you scale by an order of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ha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monitoring and repair of failed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to end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nam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Less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f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via 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outing tables based on IP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oute betwee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bad news quickly, good news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ternet’s MTTF/MTT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Less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nadvertently synchronize hosts/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receivers deci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s,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apps deci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w Direc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(move computation to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ckets to control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dge routers/gateways/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to Re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13000" y="1568520"/>
          <a:ext cx="590544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3000" y="1568520"/>
                    <a:ext cx="59054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3449520" y="5487840"/>
            <a:ext cx="18446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7320" y="5149800"/>
            <a:ext cx="1854000" cy="1650960"/>
          </a:xfrm>
          <a:prstGeom prst="ellipse">
            <a:avLst/>
          </a:prstGeom>
          <a:noFill/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683160" y="5346720"/>
            <a:ext cx="1225440" cy="123192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uture Challen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embedded in zillions of devices (toasters, coke ca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outing/congestion control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all run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ffic will surpass voice i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 Internet provide high enough reliability? (e.g., red 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ical Cla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60: basics (Peterson book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150: discussion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-180: next week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hours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Challen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use of ADSL and cable mod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modems limit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lots of TCP che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build a reliable, secure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% uptime -&gt; 99.999% u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ofing, denial of servic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nsport: Reliable, Efficient Message Deli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09680" y="266688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mple network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a pipe connection two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, delay, overhead, error rate and messag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4190760" y="1523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57200" y="2362320"/>
            <a:ext cx="1441440" cy="1164960"/>
            <a:chOff x="457200" y="2362320"/>
            <a:chExt cx="1441440" cy="116496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762120" y="2500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2581200" y="27813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00960" y="278136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054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0084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48240" y="29991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115040" y="2305080"/>
            <a:ext cx="10828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metr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tted at a rate of R bits/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or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D seconds for bit to progagate dow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O secs for CPU to put message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P that messsage will not arrive i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M of data being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long to send a messag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time T = M/R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bps Ethernet LAN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=1ms, D ~=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Mbps cross country ATM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 = 50us, D ~= 40-1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*D is “storage” of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6200000">
            <a:off x="3520800" y="297180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bandwidth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slow link increases gap between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160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588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561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3520800" y="42670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973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7324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357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732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7324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728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97520" y="434340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39152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4166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374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2096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4136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6200000">
            <a:off x="4190760" y="2666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dela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round-trip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4190760" y="396216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416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541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396252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082520" cy="1612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324480" y="5181480"/>
            <a:ext cx="12240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5181480"/>
            <a:ext cx="12204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220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487" name=""/>
          <p:cNvSpPr/>
          <p:nvPr/>
        </p:nvSpPr>
        <p:spPr>
          <a:xfrm>
            <a:off x="1295280" y="312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02840" y="4570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rot="16200000">
            <a:off x="3902040" y="297180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error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number of packets acknowled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37400" y="4191120"/>
            <a:ext cx="50292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3902040" y="426708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785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54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1664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7856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5412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3816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78760" y="4343400"/>
            <a:ext cx="761760" cy="1600200"/>
          </a:xfrm>
          <a:custGeom>
            <a:avLst/>
            <a:gdLst>
              <a:gd name="textAreaLeft" fmla="*/ 101880 w 761760"/>
              <a:gd name="textAreaRight" fmla="*/ 659880 w 7617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79752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828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018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226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528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114800" y="3352680"/>
            <a:ext cx="3808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0800" y="32752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end a packet reliably when it can b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reliable protocol: 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4006800"/>
            <a:ext cx="324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8840" y="4583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871800" y="4120560"/>
            <a:ext cx="1418400" cy="648360"/>
            <a:chOff x="3871800" y="4120560"/>
            <a:chExt cx="1418400" cy="648360"/>
          </a:xfrm>
        </p:grpSpPr>
        <p:sp>
          <p:nvSpPr>
            <p:cNvPr id="519" name=""/>
            <p:cNvSpPr/>
            <p:nvPr/>
          </p:nvSpPr>
          <p:spPr>
            <a:xfrm>
              <a:off x="3871800" y="4467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688200">
              <a:off x="4025880" y="42145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802320" y="4956840"/>
            <a:ext cx="1431000" cy="580320"/>
            <a:chOff x="3802320" y="4956840"/>
            <a:chExt cx="1431000" cy="580320"/>
          </a:xfrm>
        </p:grpSpPr>
        <p:sp>
          <p:nvSpPr>
            <p:cNvPr id="522" name=""/>
            <p:cNvSpPr/>
            <p:nvPr/>
          </p:nvSpPr>
          <p:spPr>
            <a:xfrm flipV="1">
              <a:off x="3802320" y="52747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1071400">
              <a:off x="3992760" y="50169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16" idx="1"/>
          </p:cNvCxnSpPr>
          <p:nvPr/>
        </p:nvCxnSpPr>
        <p:spPr>
          <a:xfrm flipH="1" rot="16200000">
            <a:off x="2865960" y="49694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25" name=""/>
          <p:cNvSpPr/>
          <p:nvPr/>
        </p:nvSpPr>
        <p:spPr>
          <a:xfrm rot="16200000">
            <a:off x="2822040" y="46566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packet, stop and wait until acknowledgement arr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7800" y="358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08360" y="3580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signments + Slip Day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network programming assignments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, routing/congestion, multicast,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roblem sets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reviews (due Wed noon -- 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, not a summa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iscussion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valuating some technology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a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overing from err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148520" y="2215440"/>
            <a:ext cx="1418400" cy="648360"/>
            <a:chOff x="7148520" y="2215440"/>
            <a:chExt cx="1418400" cy="648360"/>
          </a:xfrm>
        </p:grpSpPr>
        <p:sp>
          <p:nvSpPr>
            <p:cNvPr id="531" name=""/>
            <p:cNvSpPr/>
            <p:nvPr/>
          </p:nvSpPr>
          <p:spPr>
            <a:xfrm>
              <a:off x="714852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688200">
              <a:off x="730260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7074360" y="2864160"/>
            <a:ext cx="1407960" cy="1247400"/>
            <a:chOff x="7074360" y="2864160"/>
            <a:chExt cx="1407960" cy="1247400"/>
          </a:xfrm>
        </p:grpSpPr>
        <p:sp>
          <p:nvSpPr>
            <p:cNvPr id="534" name=""/>
            <p:cNvSpPr/>
            <p:nvPr/>
          </p:nvSpPr>
          <p:spPr>
            <a:xfrm flipV="1">
              <a:off x="7074360" y="30686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9405200">
              <a:off x="7446240" y="30636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6" name=""/>
          <p:cNvCxnSpPr/>
          <p:nvPr/>
        </p:nvCxnSpPr>
        <p:spPr>
          <a:xfrm flipH="1" rot="16200000">
            <a:off x="61426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37" name=""/>
          <p:cNvSpPr/>
          <p:nvPr/>
        </p:nvSpPr>
        <p:spPr>
          <a:xfrm rot="16200000">
            <a:off x="609840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688200">
            <a:off x="7544160" y="3579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077240" y="4526640"/>
            <a:ext cx="1431000" cy="580320"/>
            <a:chOff x="7077240" y="4526640"/>
            <a:chExt cx="1431000" cy="580320"/>
          </a:xfrm>
        </p:grpSpPr>
        <p:sp>
          <p:nvSpPr>
            <p:cNvPr id="541" name=""/>
            <p:cNvSpPr/>
            <p:nvPr/>
          </p:nvSpPr>
          <p:spPr>
            <a:xfrm flipV="1">
              <a:off x="70772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1071400">
              <a:off x="72676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3" name=""/>
          <p:cNvCxnSpPr/>
          <p:nvPr/>
        </p:nvCxnSpPr>
        <p:spPr>
          <a:xfrm flipH="1" rot="16200000">
            <a:off x="6142680" y="45392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44" name=""/>
          <p:cNvSpPr/>
          <p:nvPr/>
        </p:nvSpPr>
        <p:spPr>
          <a:xfrm rot="16200000">
            <a:off x="60969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579200" y="2215080"/>
            <a:ext cx="1085040" cy="648360"/>
            <a:chOff x="4579200" y="2215080"/>
            <a:chExt cx="1085040" cy="648360"/>
          </a:xfrm>
        </p:grpSpPr>
        <p:sp>
          <p:nvSpPr>
            <p:cNvPr id="548" name=""/>
            <p:cNvSpPr/>
            <p:nvPr/>
          </p:nvSpPr>
          <p:spPr>
            <a:xfrm>
              <a:off x="4619160" y="2622960"/>
              <a:ext cx="104508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688200">
              <a:off x="4614840" y="2309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0" name=""/>
          <p:cNvCxnSpPr/>
          <p:nvPr/>
        </p:nvCxnSpPr>
        <p:spPr>
          <a:xfrm flipH="1" rot="16200000">
            <a:off x="36280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51" name=""/>
          <p:cNvSpPr/>
          <p:nvPr/>
        </p:nvSpPr>
        <p:spPr>
          <a:xfrm rot="16200000">
            <a:off x="3584160" y="275004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632480" y="3690720"/>
            <a:ext cx="1418400" cy="648360"/>
            <a:chOff x="4632480" y="3690720"/>
            <a:chExt cx="1418400" cy="648360"/>
          </a:xfrm>
        </p:grpSpPr>
        <p:sp>
          <p:nvSpPr>
            <p:cNvPr id="553" name=""/>
            <p:cNvSpPr/>
            <p:nvPr/>
          </p:nvSpPr>
          <p:spPr>
            <a:xfrm>
              <a:off x="463248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688200">
              <a:off x="478656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562640" y="4526640"/>
            <a:ext cx="1431000" cy="580320"/>
            <a:chOff x="4562640" y="4526640"/>
            <a:chExt cx="1431000" cy="580320"/>
          </a:xfrm>
        </p:grpSpPr>
        <p:sp>
          <p:nvSpPr>
            <p:cNvPr id="556" name=""/>
            <p:cNvSpPr/>
            <p:nvPr/>
          </p:nvSpPr>
          <p:spPr>
            <a:xfrm flipV="1">
              <a:off x="45626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1071400">
              <a:off x="47530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/>
          <p:nvPr/>
        </p:nvCxnSpPr>
        <p:spPr>
          <a:xfrm flipH="1" rot="16200000">
            <a:off x="362664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59" name=""/>
          <p:cNvSpPr/>
          <p:nvPr/>
        </p:nvSpPr>
        <p:spPr>
          <a:xfrm rot="16200000">
            <a:off x="35823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486400" y="25909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2960" y="1905120"/>
            <a:ext cx="6120" cy="434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504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812960" y="2215440"/>
            <a:ext cx="1418400" cy="648360"/>
            <a:chOff x="1812960" y="2215440"/>
            <a:chExt cx="1418400" cy="648360"/>
          </a:xfrm>
        </p:grpSpPr>
        <p:sp>
          <p:nvSpPr>
            <p:cNvPr id="566" name=""/>
            <p:cNvSpPr/>
            <p:nvPr/>
          </p:nvSpPr>
          <p:spPr>
            <a:xfrm>
              <a:off x="181296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688200">
              <a:off x="196704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135160" y="2963520"/>
            <a:ext cx="1026000" cy="580320"/>
            <a:chOff x="2135160" y="2963520"/>
            <a:chExt cx="1026000" cy="580320"/>
          </a:xfrm>
        </p:grpSpPr>
        <p:sp>
          <p:nvSpPr>
            <p:cNvPr id="569" name=""/>
            <p:cNvSpPr/>
            <p:nvPr/>
          </p:nvSpPr>
          <p:spPr>
            <a:xfrm flipV="1">
              <a:off x="2189880" y="3322800"/>
              <a:ext cx="971280" cy="14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1071400">
              <a:off x="2165400" y="3023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1" name=""/>
          <p:cNvCxnSpPr/>
          <p:nvPr/>
        </p:nvCxnSpPr>
        <p:spPr>
          <a:xfrm flipH="1" rot="16200000">
            <a:off x="80712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72" name=""/>
          <p:cNvSpPr/>
          <p:nvPr/>
        </p:nvSpPr>
        <p:spPr>
          <a:xfrm rot="16200000">
            <a:off x="76284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11520" y="3690720"/>
            <a:ext cx="1418400" cy="648360"/>
            <a:chOff x="1811520" y="3690720"/>
            <a:chExt cx="1418400" cy="648360"/>
          </a:xfrm>
        </p:grpSpPr>
        <p:sp>
          <p:nvSpPr>
            <p:cNvPr id="574" name=""/>
            <p:cNvSpPr/>
            <p:nvPr/>
          </p:nvSpPr>
          <p:spPr>
            <a:xfrm>
              <a:off x="181152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88200">
              <a:off x="196560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741680" y="4526640"/>
            <a:ext cx="1431000" cy="580320"/>
            <a:chOff x="1741680" y="4526640"/>
            <a:chExt cx="1431000" cy="580320"/>
          </a:xfrm>
        </p:grpSpPr>
        <p:sp>
          <p:nvSpPr>
            <p:cNvPr id="577" name=""/>
            <p:cNvSpPr/>
            <p:nvPr/>
          </p:nvSpPr>
          <p:spPr>
            <a:xfrm flipV="1">
              <a:off x="174168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071400">
              <a:off x="193212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9" name=""/>
          <p:cNvCxnSpPr/>
          <p:nvPr/>
        </p:nvCxnSpPr>
        <p:spPr>
          <a:xfrm flipH="1" rot="16200000">
            <a:off x="80568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80" name=""/>
          <p:cNvSpPr/>
          <p:nvPr/>
        </p:nvSpPr>
        <p:spPr>
          <a:xfrm rot="16200000">
            <a:off x="76140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104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9896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3320" y="32767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30600" y="6094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33120" y="6094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35320" y="61711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cognize a duplicate trans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sequence number in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R*D is very small, the sender can’t fill the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liding windo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ptional Discussion S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Neil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network programm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papers befor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fina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-- computer, PDA, toaster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--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or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or switched (or both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-- move bits betwee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witching: stateless store&amp;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switching: stateful, cut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-- network of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delivers packets (&amp; locates n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(gateway) moves packets betwee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interoperability on top of any potential network or link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, Ethernet, token ring, cell phone, ADSL, cable modem, smoke signal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possible requirements on underly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01T02:03:06Z</dcterms:modified>
  <cp:revision>67</cp:revision>
  <dc:subject/>
  <dc:title>Eraser: A Dynamic Race Detector for  Multi-Threaded Programs</dc:title>
</cp:coreProperties>
</file>