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440" y="19080"/>
            <a:ext cx="300816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33360" y="19080"/>
            <a:ext cx="300852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22200" y="704520"/>
            <a:ext cx="4502160" cy="337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23400" y="4311720"/>
            <a:ext cx="5092920" cy="4070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1440" y="8610480"/>
            <a:ext cx="300816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33360" y="8610480"/>
            <a:ext cx="300852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3143300-5A84-491E-8DAF-A9C9D638A53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22200" y="70488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23400" y="4311720"/>
            <a:ext cx="5092920" cy="4070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ser story -- no time for the bullsh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s e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222200" y="70488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23400" y="4311720"/>
            <a:ext cx="5092920" cy="4070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want to communicate between hosts on different Ethernets?  Internet as interoperability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AC1-CA77-42AF-9E54-0B2CDC57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0B19-6C97-46DF-AA4B-62720546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DFB-FE2F-4820-B08E-5495E99F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AC8-1ED6-431C-8EEC-6D4DB4A9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1C05-A746-406B-B640-657B62DE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38DF-057E-4176-A5BC-0A38D559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8D2D-D572-4883-81AD-C21BD02C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E567-1FC9-4D8B-BA07-E35D40E8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F186-744D-40BF-B3E1-0942BD65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6783-2397-4976-B541-ACCD9B8F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7890-91A2-41C3-9FF8-D1DC88ED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518-AE20-49BC-84AC-65DA31BB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C388-7BBA-42A9-89FE-ED4461DB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3901-14F8-4526-BF4E-895BDD35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8087-FE95-4B29-A2E7-97583506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40FD-CA88-4C75-B540-18834575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CDAD-306B-4704-901B-2D8BBBC8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2843-97FD-4D15-AC29-D210EA5A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3E7-D88F-455A-AB37-309E4E44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5050-934A-4086-96BF-8182FF07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572-83FC-47F2-A1D5-319FB507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F49-FEDA-435F-B13E-A2465D69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D380-2D0D-4F8F-8D84-7D80AB4E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B9A6-75E6-444D-88AC-104EF998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4910-571B-4DF4-BCDE-FAD78258F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80A6-4F4D-4FD4-9840-968ED9493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package" Target="../embeddings/oleObject1.ppt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1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SE 588: Network System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And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l 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tocol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: agreement between two parties as to how information is to be trans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valuable with more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incentive to develop standards =&gt;  lots and lots and lots of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 protocols vs. standardize interfa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ayer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0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complex services on top of simpler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84640" y="3213000"/>
            <a:ext cx="4572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08400" y="3124080"/>
            <a:ext cx="611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03800" y="3100320"/>
            <a:ext cx="5396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8200" y="3100320"/>
            <a:ext cx="576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lo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8600" y="3564000"/>
            <a:ext cx="458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79480" y="3076560"/>
            <a:ext cx="1440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lecollab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29120" y="4052880"/>
            <a:ext cx="4590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70240" y="3735360"/>
            <a:ext cx="552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S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57520" y="3417840"/>
            <a:ext cx="27612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60680" y="3381480"/>
            <a:ext cx="9864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71920" y="3325680"/>
            <a:ext cx="459000" cy="64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06880" y="3735360"/>
            <a:ext cx="82404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49680" y="4368960"/>
            <a:ext cx="4572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289400" y="4255920"/>
            <a:ext cx="64152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70240" y="332568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6440" y="3916440"/>
            <a:ext cx="73188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113080" y="3325680"/>
            <a:ext cx="274680" cy="64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295960" y="3417840"/>
            <a:ext cx="100656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13280" y="4525920"/>
            <a:ext cx="457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63840" y="4940280"/>
            <a:ext cx="8398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02200" y="5105520"/>
            <a:ext cx="600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56240" y="5140440"/>
            <a:ext cx="10987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et ra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62400" y="4189320"/>
            <a:ext cx="4572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45320" y="5140440"/>
            <a:ext cx="10983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pa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76800" y="5661000"/>
            <a:ext cx="80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24360" y="5140440"/>
            <a:ext cx="5493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73720" y="5661000"/>
            <a:ext cx="10983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94120" y="5349960"/>
            <a:ext cx="10983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087360" y="4710240"/>
            <a:ext cx="82404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84640" y="4822920"/>
            <a:ext cx="9216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84640" y="4710240"/>
            <a:ext cx="137304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76800" y="4710240"/>
            <a:ext cx="237816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452760" y="4822920"/>
            <a:ext cx="54936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84640" y="4710240"/>
            <a:ext cx="73188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555880" y="5345280"/>
            <a:ext cx="27468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67160" y="5345280"/>
            <a:ext cx="18432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641480" y="5345280"/>
            <a:ext cx="3668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SI Model: 7 Protocol Layer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-- how to transmit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link -- how to transmit f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-- how to route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-- how to send packets relia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-- how to tie group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-- byte ordering,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-- everything el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990720" y="4290840"/>
            <a:ext cx="4343400" cy="1881360"/>
            <a:chOff x="990720" y="4290840"/>
            <a:chExt cx="4343400" cy="1881360"/>
          </a:xfrm>
        </p:grpSpPr>
        <p:sp>
          <p:nvSpPr>
            <p:cNvPr id="158" name=""/>
            <p:cNvSpPr/>
            <p:nvPr/>
          </p:nvSpPr>
          <p:spPr>
            <a:xfrm>
              <a:off x="1066680" y="4290840"/>
              <a:ext cx="1433520" cy="131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71800" y="4572000"/>
              <a:ext cx="2362320" cy="1600200"/>
            </a:xfrm>
            <a:prstGeom prst="cloudCallout">
              <a:avLst>
                <a:gd name="adj1" fmla="val -113574"/>
                <a:gd name="adj2" fmla="val -178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90720" y="5105520"/>
              <a:ext cx="190476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happens when you click on a Web l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6040" y="51044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010280" y="2743200"/>
            <a:ext cx="1082880" cy="161280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457200" y="2743200"/>
            <a:ext cx="1441440" cy="1164960"/>
            <a:chOff x="457200" y="2743200"/>
            <a:chExt cx="1441440" cy="116496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457200" y="274320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762120" y="288108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"/>
          <p:cNvSpPr/>
          <p:nvPr/>
        </p:nvSpPr>
        <p:spPr>
          <a:xfrm>
            <a:off x="60120" y="228492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our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74720" y="228492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ww.netscap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3657600"/>
            <a:ext cx="1295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105520" y="3504960"/>
            <a:ext cx="129528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3809880"/>
            <a:ext cx="1295280" cy="9144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257800" y="3733560"/>
            <a:ext cx="1295280" cy="990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07160" y="38696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fferent kinds of address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name (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ww.netscape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, human rea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Address (e.g. 207.200.73.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, works across al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 (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08-00-2b-18-bc-6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, works on a particular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inding the right IP address: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omain Naming System (DNS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505320"/>
            <a:ext cx="1441440" cy="1164960"/>
            <a:chOff x="228600" y="3505320"/>
            <a:chExt cx="1441440" cy="116496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228600" y="350532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533520" y="364320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0" name=""/>
          <p:cNvGraphicFramePr/>
          <p:nvPr/>
        </p:nvGraphicFramePr>
        <p:xfrm>
          <a:off x="7772400" y="3276720"/>
          <a:ext cx="895320" cy="16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3276720"/>
                    <a:ext cx="8953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7315200" y="19494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NS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(128.95.1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59040" y="3733920"/>
            <a:ext cx="5410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78960" y="3199320"/>
            <a:ext cx="60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hat’s the IP address for www.netscape.c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120" y="2284560"/>
            <a:ext cx="218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our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28.95.1.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79560" y="4495680"/>
            <a:ext cx="5410080" cy="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48080" y="4037400"/>
            <a:ext cx="45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Oh, you can find it at 207.200.7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inding the right Ether address: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dress Resolution (ARP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990720" y="2133720"/>
            <a:ext cx="1441440" cy="1164960"/>
            <a:chOff x="990720" y="2133720"/>
            <a:chExt cx="1441440" cy="116496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990720" y="213372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2"/>
            <a:stretch/>
          </p:blipFill>
          <p:spPr>
            <a:xfrm>
              <a:off x="1295640" y="227160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"/>
          <p:cNvSpPr/>
          <p:nvPr/>
        </p:nvSpPr>
        <p:spPr>
          <a:xfrm>
            <a:off x="914400" y="358128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4290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6720" y="35802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543800" y="1828800"/>
          <a:ext cx="895320" cy="16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828800"/>
                    <a:ext cx="8953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8001000" y="34290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34080" y="2665440"/>
            <a:ext cx="42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roadcast: Anyone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thernet address for 128.95.1.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066680" y="4495680"/>
            <a:ext cx="1441440" cy="1164960"/>
            <a:chOff x="1066680" y="4495680"/>
            <a:chExt cx="1441440" cy="1164960"/>
          </a:xfrm>
        </p:grpSpPr>
        <p:pic>
          <p:nvPicPr>
            <p:cNvPr id="202" name="" descr=""/>
            <p:cNvPicPr/>
            <p:nvPr/>
          </p:nvPicPr>
          <p:blipFill>
            <a:blip r:embed="rId5"/>
            <a:stretch/>
          </p:blipFill>
          <p:spPr>
            <a:xfrm>
              <a:off x="1066680" y="449568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6"/>
            <a:stretch/>
          </p:blipFill>
          <p:spPr>
            <a:xfrm>
              <a:off x="1371600" y="463356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"/>
          <p:cNvSpPr/>
          <p:nvPr/>
        </p:nvSpPr>
        <p:spPr>
          <a:xfrm>
            <a:off x="990720" y="59436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5791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3040" y="59425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620120" y="4191120"/>
          <a:ext cx="895320" cy="16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4191120"/>
                    <a:ext cx="8953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8077320" y="5791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5943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43040" y="5027760"/>
            <a:ext cx="31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roadcast: Yeah, I’m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08-00-2b-18-bc-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5943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0560" y="159912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28.95.1.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10280" y="1522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(128.95.1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es a packet get through the Interne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2866320"/>
            <a:ext cx="4724640" cy="2963880"/>
          </a:xfrm>
          <a:prstGeom prst="cloudCallout">
            <a:avLst>
              <a:gd name="adj1" fmla="val -63606"/>
              <a:gd name="adj2" fmla="val 58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7520" y="4876920"/>
            <a:ext cx="190512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94760" y="5639400"/>
            <a:ext cx="333360" cy="331560"/>
          </a:xfrm>
          <a:prstGeom prst="flowChartAlternate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28280" y="3429720"/>
            <a:ext cx="333360" cy="331560"/>
          </a:xfrm>
          <a:prstGeom prst="flowChartAlternate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3520" y="5106240"/>
            <a:ext cx="333360" cy="331560"/>
          </a:xfrm>
          <a:prstGeom prst="flowChartAlternate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09560" y="2896200"/>
            <a:ext cx="333360" cy="331560"/>
          </a:xfrm>
          <a:prstGeom prst="flowChartAlternate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1760" y="2972520"/>
            <a:ext cx="333360" cy="331560"/>
          </a:xfrm>
          <a:prstGeom prst="flowChartAlternate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1760" y="2972520"/>
            <a:ext cx="364320" cy="3639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240" y="2972520"/>
            <a:ext cx="364320" cy="3639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59120" y="5410800"/>
            <a:ext cx="364320" cy="3639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64840" y="2743920"/>
            <a:ext cx="364320" cy="3639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217520" y="5638680"/>
            <a:ext cx="1371600" cy="1009440"/>
            <a:chOff x="1217520" y="5638680"/>
            <a:chExt cx="1371600" cy="1009440"/>
          </a:xfrm>
        </p:grpSpPr>
        <p:sp>
          <p:nvSpPr>
            <p:cNvPr id="228" name=""/>
            <p:cNvSpPr/>
            <p:nvPr/>
          </p:nvSpPr>
          <p:spPr>
            <a:xfrm>
              <a:off x="1598760" y="5638680"/>
              <a:ext cx="990360" cy="663480"/>
            </a:xfrm>
            <a:prstGeom prst="cloudCallout">
              <a:avLst>
                <a:gd name="adj1" fmla="val -82851"/>
                <a:gd name="adj2" fmla="val 7009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17520" y="6171840"/>
              <a:ext cx="60984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135440" y="6096600"/>
            <a:ext cx="364320" cy="3639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522440" y="6095880"/>
            <a:ext cx="3049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6120" y="5638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79640" y="5486400"/>
            <a:ext cx="7632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436840" y="5790960"/>
            <a:ext cx="4572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4" idx="2"/>
            <a:endCxn id="223" idx="2"/>
          </p:cNvCxnSpPr>
          <p:nvPr/>
        </p:nvCxnSpPr>
        <p:spPr>
          <a:xfrm flipH="1" rot="16200000">
            <a:off x="1126440" y="3072240"/>
            <a:ext cx="2160" cy="534240"/>
          </a:xfrm>
          <a:prstGeom prst="bentConnector3">
            <a:avLst>
              <a:gd name="adj1" fmla="val 1440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3" idx="2"/>
            <a:endCxn id="222" idx="2"/>
          </p:cNvCxnSpPr>
          <p:nvPr/>
        </p:nvCxnSpPr>
        <p:spPr>
          <a:xfrm flipH="1" flipV="1" rot="5400000">
            <a:off x="1638720" y="3058560"/>
            <a:ext cx="34200" cy="525960"/>
          </a:xfrm>
          <a:prstGeom prst="bentConnector3">
            <a:avLst>
              <a:gd name="adj1" fmla="val -685106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1903320" y="3581280"/>
            <a:ext cx="152568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198960" y="3733560"/>
            <a:ext cx="382320" cy="19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486040" y="3200400"/>
            <a:ext cx="152244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26" idx="1"/>
          </p:cNvCxnSpPr>
          <p:nvPr/>
        </p:nvCxnSpPr>
        <p:spPr>
          <a:xfrm flipH="1" flipV="1" rot="10800000">
            <a:off x="7764120" y="2924640"/>
            <a:ext cx="2160" cy="610200"/>
          </a:xfrm>
          <a:prstGeom prst="bentConnector3">
            <a:avLst>
              <a:gd name="adj1" fmla="val -1440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1" name=""/>
          <p:cNvCxnSpPr>
            <a:stCxn id="226" idx="1"/>
            <a:endCxn id="221" idx="3"/>
          </p:cNvCxnSpPr>
          <p:nvPr/>
        </p:nvCxnSpPr>
        <p:spPr>
          <a:xfrm flipV="1" rot="10800000">
            <a:off x="7342920" y="2924640"/>
            <a:ext cx="421560" cy="137160"/>
          </a:xfrm>
          <a:prstGeom prst="bentConnector3">
            <a:avLst>
              <a:gd name="adj1" fmla="val 49743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1751760" y="5182200"/>
            <a:ext cx="333360" cy="331560"/>
          </a:xfrm>
          <a:prstGeom prst="flowChartAlternate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055960" y="3733560"/>
            <a:ext cx="152532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1280" y="2210400"/>
            <a:ext cx="333360" cy="331560"/>
          </a:xfrm>
          <a:prstGeom prst="flowChartAlternate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0920" y="2210400"/>
            <a:ext cx="364320" cy="3639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5" idx="2"/>
            <a:endCxn id="244" idx="2"/>
          </p:cNvCxnSpPr>
          <p:nvPr/>
        </p:nvCxnSpPr>
        <p:spPr>
          <a:xfrm flipH="1" flipV="1" rot="5400000">
            <a:off x="4458960" y="2296440"/>
            <a:ext cx="34200" cy="526320"/>
          </a:xfrm>
          <a:prstGeom prst="bentConnector3">
            <a:avLst>
              <a:gd name="adj1" fmla="val -685106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4722840" y="2819520"/>
            <a:ext cx="534960" cy="12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80760" y="4039200"/>
            <a:ext cx="333360" cy="331560"/>
          </a:xfrm>
          <a:prstGeom prst="flowChartAlternate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3200400"/>
            <a:ext cx="1307880" cy="507960"/>
          </a:xfrm>
          <a:custGeom>
            <a:avLst/>
            <a:gdLst/>
            <a:ahLst/>
            <a:rect l="l" t="t" r="r" b="b"/>
            <a:pathLst>
              <a:path w="824" h="320">
                <a:moveTo>
                  <a:pt x="48" y="96"/>
                </a:moveTo>
                <a:cubicBezTo>
                  <a:pt x="24" y="152"/>
                  <a:pt x="0" y="208"/>
                  <a:pt x="48" y="240"/>
                </a:cubicBezTo>
                <a:cubicBezTo>
                  <a:pt x="96" y="272"/>
                  <a:pt x="232" y="280"/>
                  <a:pt x="336" y="288"/>
                </a:cubicBezTo>
                <a:cubicBezTo>
                  <a:pt x="440" y="296"/>
                  <a:pt x="608" y="320"/>
                  <a:pt x="672" y="288"/>
                </a:cubicBezTo>
                <a:cubicBezTo>
                  <a:pt x="736" y="256"/>
                  <a:pt x="712" y="136"/>
                  <a:pt x="720" y="96"/>
                </a:cubicBezTo>
                <a:cubicBezTo>
                  <a:pt x="728" y="56"/>
                  <a:pt x="712" y="64"/>
                  <a:pt x="720" y="48"/>
                </a:cubicBezTo>
                <a:cubicBezTo>
                  <a:pt x="728" y="32"/>
                  <a:pt x="752" y="0"/>
                  <a:pt x="768" y="0"/>
                </a:cubicBezTo>
                <a:cubicBezTo>
                  <a:pt x="784" y="0"/>
                  <a:pt x="808" y="32"/>
                  <a:pt x="816" y="48"/>
                </a:cubicBezTo>
                <a:cubicBezTo>
                  <a:pt x="824" y="64"/>
                  <a:pt x="820" y="80"/>
                  <a:pt x="816" y="96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36720" y="3009960"/>
            <a:ext cx="5934240" cy="1128600"/>
          </a:xfrm>
          <a:custGeom>
            <a:avLst/>
            <a:gdLst/>
            <a:ahLst/>
            <a:rect l="l" t="t" r="r" b="b"/>
            <a:pathLst>
              <a:path w="3738" h="711">
                <a:moveTo>
                  <a:pt x="90" y="216"/>
                </a:moveTo>
                <a:cubicBezTo>
                  <a:pt x="58" y="256"/>
                  <a:pt x="0" y="318"/>
                  <a:pt x="90" y="360"/>
                </a:cubicBezTo>
                <a:cubicBezTo>
                  <a:pt x="180" y="402"/>
                  <a:pt x="476" y="453"/>
                  <a:pt x="628" y="469"/>
                </a:cubicBezTo>
                <a:cubicBezTo>
                  <a:pt x="780" y="485"/>
                  <a:pt x="900" y="466"/>
                  <a:pt x="1002" y="456"/>
                </a:cubicBezTo>
                <a:cubicBezTo>
                  <a:pt x="1104" y="446"/>
                  <a:pt x="1162" y="406"/>
                  <a:pt x="1242" y="408"/>
                </a:cubicBezTo>
                <a:cubicBezTo>
                  <a:pt x="1322" y="410"/>
                  <a:pt x="1367" y="432"/>
                  <a:pt x="1485" y="469"/>
                </a:cubicBezTo>
                <a:cubicBezTo>
                  <a:pt x="1603" y="506"/>
                  <a:pt x="1854" y="593"/>
                  <a:pt x="1953" y="630"/>
                </a:cubicBezTo>
                <a:cubicBezTo>
                  <a:pt x="2052" y="667"/>
                  <a:pt x="2033" y="677"/>
                  <a:pt x="2077" y="689"/>
                </a:cubicBezTo>
                <a:cubicBezTo>
                  <a:pt x="2121" y="701"/>
                  <a:pt x="2168" y="711"/>
                  <a:pt x="2216" y="704"/>
                </a:cubicBezTo>
                <a:cubicBezTo>
                  <a:pt x="2264" y="697"/>
                  <a:pt x="2309" y="679"/>
                  <a:pt x="2363" y="645"/>
                </a:cubicBezTo>
                <a:cubicBezTo>
                  <a:pt x="2417" y="611"/>
                  <a:pt x="2483" y="543"/>
                  <a:pt x="2538" y="499"/>
                </a:cubicBezTo>
                <a:cubicBezTo>
                  <a:pt x="2593" y="455"/>
                  <a:pt x="2615" y="433"/>
                  <a:pt x="2692" y="382"/>
                </a:cubicBezTo>
                <a:cubicBezTo>
                  <a:pt x="2769" y="331"/>
                  <a:pt x="2915" y="240"/>
                  <a:pt x="2999" y="191"/>
                </a:cubicBezTo>
                <a:cubicBezTo>
                  <a:pt x="3083" y="142"/>
                  <a:pt x="3130" y="117"/>
                  <a:pt x="3197" y="89"/>
                </a:cubicBezTo>
                <a:cubicBezTo>
                  <a:pt x="3264" y="61"/>
                  <a:pt x="3344" y="35"/>
                  <a:pt x="3402" y="24"/>
                </a:cubicBezTo>
                <a:cubicBezTo>
                  <a:pt x="3460" y="13"/>
                  <a:pt x="3514" y="0"/>
                  <a:pt x="3546" y="24"/>
                </a:cubicBezTo>
                <a:cubicBezTo>
                  <a:pt x="3578" y="48"/>
                  <a:pt x="3586" y="120"/>
                  <a:pt x="3594" y="168"/>
                </a:cubicBezTo>
                <a:cubicBezTo>
                  <a:pt x="3602" y="216"/>
                  <a:pt x="3570" y="288"/>
                  <a:pt x="3594" y="312"/>
                </a:cubicBezTo>
                <a:cubicBezTo>
                  <a:pt x="3618" y="336"/>
                  <a:pt x="3678" y="324"/>
                  <a:pt x="3738" y="312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055600" y="2438280"/>
            <a:ext cx="306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2438280"/>
            <a:ext cx="7606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1600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s send packet to next closest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838720" y="1294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57200" y="2819520"/>
            <a:ext cx="755640" cy="610920"/>
            <a:chOff x="457200" y="2819520"/>
            <a:chExt cx="755640" cy="61092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457200" y="2819520"/>
              <a:ext cx="755640" cy="61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617040" y="2891520"/>
              <a:ext cx="319320" cy="26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 flipV="1">
            <a:off x="3276720" y="5334120"/>
            <a:ext cx="121896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3733920" y="3733920"/>
            <a:ext cx="91440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800600" y="4267080"/>
            <a:ext cx="380880" cy="83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876920" y="2438280"/>
            <a:ext cx="213336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3733560" y="3733920"/>
            <a:ext cx="144756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848720" y="3200400"/>
            <a:ext cx="776160" cy="1155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7322040" y="5639400"/>
            <a:ext cx="1494360" cy="101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: 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: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 the routers know where to send data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warding tables at each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nternet: manual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update based on “co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tables with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eighbor with smallest hop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node says zero cost to everyw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ave address, now send data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rphy’s Law applies to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an be corru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an get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ight not fit in a single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an be delivered in the wrong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Goa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14240" y="17114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up CTO: someone proposes a new networking technology, i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sk you can afford to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sk you can’t afford to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sk you can’t afford not to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networking fundamen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evaluation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the data gets corrupted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981080" y="1600200"/>
            <a:ext cx="3428640" cy="1904760"/>
            <a:chOff x="1981080" y="1600200"/>
            <a:chExt cx="3428640" cy="1904760"/>
          </a:xfrm>
        </p:grpSpPr>
        <p:sp>
          <p:nvSpPr>
            <p:cNvPr id="271" name=""/>
            <p:cNvSpPr/>
            <p:nvPr/>
          </p:nvSpPr>
          <p:spPr>
            <a:xfrm>
              <a:off x="2040840" y="1600200"/>
              <a:ext cx="1131480" cy="133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44920" y="1884600"/>
              <a:ext cx="1864800" cy="1620360"/>
            </a:xfrm>
            <a:prstGeom prst="cloudCallout">
              <a:avLst>
                <a:gd name="adj1" fmla="val -113574"/>
                <a:gd name="adj2" fmla="val -178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81080" y="2424960"/>
              <a:ext cx="1503720" cy="61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886920" y="2361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0880" y="1905120"/>
            <a:ext cx="1441440" cy="1164960"/>
            <a:chOff x="380880" y="1905120"/>
            <a:chExt cx="1441440" cy="116496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380880" y="190512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685800" y="204300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"/>
          <p:cNvSpPr/>
          <p:nvPr/>
        </p:nvSpPr>
        <p:spPr>
          <a:xfrm>
            <a:off x="5478480" y="2666880"/>
            <a:ext cx="1905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213264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s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7696080" y="1600200"/>
            <a:ext cx="1082880" cy="1612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592280" y="2666880"/>
            <a:ext cx="1905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4480" y="213264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4343400"/>
            <a:ext cx="1143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3880" y="4343400"/>
            <a:ext cx="1143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66880" y="4343400"/>
            <a:ext cx="1143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648320" y="4343400"/>
          <a:ext cx="3019320" cy="227484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4343400"/>
                    <a:ext cx="301932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304920" y="365760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Ad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ecks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971800" y="5028840"/>
            <a:ext cx="20574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5943600"/>
            <a:ext cx="20574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3880" y="5105520"/>
            <a:ext cx="14479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66880" y="510552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the data gets los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981080" y="1600200"/>
            <a:ext cx="3428640" cy="1904760"/>
            <a:chOff x="1981080" y="1600200"/>
            <a:chExt cx="3428640" cy="1904760"/>
          </a:xfrm>
        </p:grpSpPr>
        <p:sp>
          <p:nvSpPr>
            <p:cNvPr id="295" name=""/>
            <p:cNvSpPr/>
            <p:nvPr/>
          </p:nvSpPr>
          <p:spPr>
            <a:xfrm>
              <a:off x="2040840" y="1600200"/>
              <a:ext cx="1131480" cy="133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44920" y="1884600"/>
              <a:ext cx="1864800" cy="1620360"/>
            </a:xfrm>
            <a:prstGeom prst="cloudCallout">
              <a:avLst>
                <a:gd name="adj1" fmla="val -113574"/>
                <a:gd name="adj2" fmla="val -178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81080" y="2424960"/>
              <a:ext cx="1503720" cy="61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886920" y="2361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80880" y="1905120"/>
            <a:ext cx="1441440" cy="1164960"/>
            <a:chOff x="380880" y="1905120"/>
            <a:chExt cx="1441440" cy="1164960"/>
          </a:xfrm>
        </p:grpSpPr>
        <p:pic>
          <p:nvPicPr>
            <p:cNvPr id="300" name="" descr=""/>
            <p:cNvPicPr/>
            <p:nvPr/>
          </p:nvPicPr>
          <p:blipFill>
            <a:blip r:embed="rId1"/>
            <a:stretch/>
          </p:blipFill>
          <p:spPr>
            <a:xfrm>
              <a:off x="380880" y="190512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2"/>
            <a:stretch/>
          </p:blipFill>
          <p:spPr>
            <a:xfrm>
              <a:off x="685800" y="204300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7696080" y="1600200"/>
            <a:ext cx="1082880" cy="16128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592280" y="2666880"/>
            <a:ext cx="1905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64480" y="213264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3886200"/>
            <a:ext cx="8305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me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ransm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905120" y="4343400"/>
            <a:ext cx="3733200" cy="2361960"/>
            <a:chOff x="1905120" y="4343400"/>
            <a:chExt cx="3733200" cy="2361960"/>
          </a:xfrm>
        </p:grpSpPr>
        <p:sp>
          <p:nvSpPr>
            <p:cNvPr id="307" name=""/>
            <p:cNvSpPr/>
            <p:nvPr/>
          </p:nvSpPr>
          <p:spPr>
            <a:xfrm>
              <a:off x="1970280" y="4343400"/>
              <a:ext cx="1231920" cy="165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07920" y="4696200"/>
              <a:ext cx="2030400" cy="2009160"/>
            </a:xfrm>
            <a:prstGeom prst="cloudCallout">
              <a:avLst>
                <a:gd name="adj1" fmla="val -113574"/>
                <a:gd name="adj2" fmla="val -178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05120" y="5366160"/>
              <a:ext cx="1637280" cy="765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4039200" y="54090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8600" y="5029200"/>
            <a:ext cx="1441440" cy="1164960"/>
            <a:chOff x="228600" y="5029200"/>
            <a:chExt cx="1441440" cy="1164960"/>
          </a:xfrm>
        </p:grpSpPr>
        <p:pic>
          <p:nvPicPr>
            <p:cNvPr id="312" name="" descr=""/>
            <p:cNvPicPr/>
            <p:nvPr/>
          </p:nvPicPr>
          <p:blipFill>
            <a:blip r:embed="rId4"/>
            <a:stretch/>
          </p:blipFill>
          <p:spPr>
            <a:xfrm>
              <a:off x="228600" y="502920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5"/>
            <a:stretch/>
          </p:blipFill>
          <p:spPr>
            <a:xfrm>
              <a:off x="533520" y="516708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" descr=""/>
          <p:cNvPicPr/>
          <p:nvPr/>
        </p:nvPicPr>
        <p:blipFill>
          <a:blip r:embed="rId6"/>
          <a:stretch/>
        </p:blipFill>
        <p:spPr>
          <a:xfrm>
            <a:off x="7772400" y="4952880"/>
            <a:ext cx="1082520" cy="1613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523880" y="5029200"/>
            <a:ext cx="1905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88520" y="44946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06600" y="6553080"/>
            <a:ext cx="1904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0880" y="601884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7"/>
          <a:stretch/>
        </p:blipFill>
        <p:spPr>
          <a:xfrm>
            <a:off x="1600200" y="5181480"/>
            <a:ext cx="615960" cy="841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320" name=""/>
          <p:cNvSpPr/>
          <p:nvPr/>
        </p:nvSpPr>
        <p:spPr>
          <a:xfrm>
            <a:off x="2133360" y="518004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 a bi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621400" y="6553080"/>
            <a:ext cx="1904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5680" y="601884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the data doesn’t fi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thernet, max IP packet is 1.5k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web page is 10kby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 across pa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80880" y="4572000"/>
            <a:ext cx="1441440" cy="1164960"/>
            <a:chOff x="380880" y="4572000"/>
            <a:chExt cx="1441440" cy="116496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380880" y="457200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685800" y="470988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"/>
          <p:cNvSpPr/>
          <p:nvPr/>
        </p:nvSpPr>
        <p:spPr>
          <a:xfrm>
            <a:off x="6172200" y="48006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48006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29000" y="48006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7400" y="48006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7696080" y="4343400"/>
            <a:ext cx="1082880" cy="16128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5238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954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670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386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102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81120" y="594252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the data is out of order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36576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Add sequence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80880" y="1600200"/>
            <a:ext cx="1441440" cy="1164960"/>
            <a:chOff x="380880" y="1600200"/>
            <a:chExt cx="1441440" cy="1164960"/>
          </a:xfrm>
        </p:grpSpPr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>
              <a:off x="380880" y="160020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2"/>
            <a:stretch/>
          </p:blipFill>
          <p:spPr>
            <a:xfrm>
              <a:off x="685800" y="173808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4" name=""/>
          <p:cNvSpPr/>
          <p:nvPr/>
        </p:nvSpPr>
        <p:spPr>
          <a:xfrm>
            <a:off x="6172200" y="18288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18288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429000" y="18288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18288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7696080" y="1371600"/>
            <a:ext cx="1082880" cy="1612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523880" y="2057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95480" y="2057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67080" y="2057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38680" y="2057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010280" y="2057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81120" y="2894040"/>
            <a:ext cx="21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x.thinde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0" y="4648320"/>
            <a:ext cx="1441440" cy="1164960"/>
            <a:chOff x="0" y="4648320"/>
            <a:chExt cx="1441440" cy="1164960"/>
          </a:xfrm>
        </p:grpSpPr>
        <p:pic>
          <p:nvPicPr>
            <p:cNvPr id="356" name="" descr=""/>
            <p:cNvPicPr/>
            <p:nvPr/>
          </p:nvPicPr>
          <p:blipFill>
            <a:blip r:embed="rId4"/>
            <a:stretch/>
          </p:blipFill>
          <p:spPr>
            <a:xfrm>
              <a:off x="0" y="464832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5"/>
            <a:stretch/>
          </p:blipFill>
          <p:spPr>
            <a:xfrm>
              <a:off x="304920" y="478620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7696080" y="4343400"/>
            <a:ext cx="1082880" cy="1612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066680" y="5105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5105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14800" y="5105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81120" y="604872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00200" y="4876920"/>
            <a:ext cx="7621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6232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4876920"/>
            <a:ext cx="7621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5105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4876920"/>
            <a:ext cx="76176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162920" y="5105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4876920"/>
            <a:ext cx="7621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3432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network is overloaded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an arrive at router faster than it can be forward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bursts: buffer at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buffer overflo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dropped and retrans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adjusts rate until load =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“Congestion contro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cast network: bus arbi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data has a deadlin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multimedia, telecon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nternet: out of lu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guarantees,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management at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Telephone network has busy signals + explicit schedules at each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add this to the Intern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multiple receiver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a separate packet to e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zillions of receiv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form distribution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data is dropp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s would overwhelm s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ks? if drop is early in the tree -&gt; overwhelm sender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sender is maliciou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packet has source, destination IP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! Host can p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yt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IP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may have come from an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s to enforce sanity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ource must be from other side of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only allow reply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ion/digital signatures for authentication/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ottom Lin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agi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ealed wisd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ternet Histor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effective multiplexed use of exist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 support from underlying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no support for multicast, real-time, fast failover, congestion control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switching (fine-grained resource sha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connecting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ecture Topic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(T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(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(Mb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time (DiffSer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ing (D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(Kerbe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09800" y="1981080"/>
            <a:ext cx="416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to end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state mg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write a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ther Goal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ive hardware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multiple types of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on wide variety of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anagement of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-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cost host attac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urvivabilit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ap, failabl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less routers + self-h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routing simple (non-adap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to end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hon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ra reliable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h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ypes of Servi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 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width 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an Internet support real-time without help from underlying networ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congestion contr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Variety of Networ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hugely successful because of it can run on an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till important?  Consider IP on AT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M uses 53 byt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fragmentation for IP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drop-tail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ther Goal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management =&gt; routing, congestion control, multicast, real-time, mo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-effective =&gt; compared to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very cost effective compared to telephone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high drop rates, inefficient rout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ore Goal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hment cost =&gt; $100M/year on protocol stack by major OS vend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behaving hosts =&gt; still a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 free Internet surv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essons from the Internet experien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zer paper: end to end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ess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nd to end princip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ity should be implemented at a lower layer iff it can be correctly and completely implemented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PANet provided reliable link transfers between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could still get corrupted on host-switch link, or inside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xample: reliable file transfe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disk on file (web) server over network to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ctr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k can introduce bit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ctr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 I/O buses can introduce bit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can get garbled, dropped, misordered at any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Integrity check on file, not per packet or per 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p by hop as performance op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violate end to end principle to provide reliability at link layer, if not required for correct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of the envelo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hops (average Internet route = 15 ho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(corrupted packet per link) =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(packet lost end to 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0.0001% =&gt; Prob(loss) = 0.00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% =&gt; Prob(loss) = 1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Internet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history: Clark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lessons: Saltzer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 and research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o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to end principle widely followed within Internet community, but not elsewhere.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um on end to end network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k does its own error detection/correction (inter-sector g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bus and memory have ECC (or noth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hardware become reliable enoug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ther Exampl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ly once vs. at most once vs. at leas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only as strong as weakest as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ressing duplicate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ordered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mplication of End to End Princip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assumption: minimal support from underlying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Internet can run on an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end to end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almost everything done at end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hone network has stupid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when light switch runs TC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be done at the end hosts, and what by the net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ing/rou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deliv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d deliv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control/resource allo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guarante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essons: Intuition doesn’t sca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breaks everytime you scale by an order of magn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has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monitoring and repair of failed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to end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nam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avo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ther Less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oft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ness via self-h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routing tables based on IP pre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route betwee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e bad news quickly, good news slow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Internet’s MTTF/MTT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ther Less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random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inadvertently synchronize hosts/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receivers decide where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groups, RS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apps decide where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-level fr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New Directi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 in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(move computation to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a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ackets to control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edge routers/gateways/firew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ime to Re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413000" y="1568520"/>
          <a:ext cx="590544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3000" y="1568520"/>
                    <a:ext cx="59054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"/>
          <p:cNvSpPr/>
          <p:nvPr/>
        </p:nvSpPr>
        <p:spPr>
          <a:xfrm>
            <a:off x="3449520" y="5487840"/>
            <a:ext cx="184464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97320" y="5149800"/>
            <a:ext cx="1854000" cy="1650960"/>
          </a:xfrm>
          <a:prstGeom prst="ellipse">
            <a:avLst/>
          </a:prstGeom>
          <a:noFill/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683160" y="5346720"/>
            <a:ext cx="1225440" cy="1231920"/>
          </a:xfrm>
          <a:prstGeom prst="line">
            <a:avLst/>
          </a:prstGeom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uture Challen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embedded in zillions of devices (toasters, coke can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routing/congestion control sca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they all run TC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ffic will surpass voice in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he Internet provide high enough reliability? (e.g., red ph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ypical Clas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-60: basics (Peterson book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-150: discussion of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-180: next week p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hours: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ore Challen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spread use of ADSL and cable mod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modems limit Internet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lots of TCP chea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build a reliable, secure Intern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% uptime -&gt; 99.999% up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ofing, denial of service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ransport: Reliable, Efficient Message Deliver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network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and w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ing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209680" y="2666880"/>
            <a:ext cx="1828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imple network mode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is a pipe connection two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, delay, overhead, error rate and messag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4190760" y="1523880"/>
            <a:ext cx="457200" cy="289548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57200" y="2362320"/>
            <a:ext cx="1441440" cy="1164960"/>
            <a:chOff x="457200" y="2362320"/>
            <a:chExt cx="1441440" cy="1164960"/>
          </a:xfrm>
        </p:grpSpPr>
        <p:pic>
          <p:nvPicPr>
            <p:cNvPr id="438" name="" descr=""/>
            <p:cNvPicPr/>
            <p:nvPr/>
          </p:nvPicPr>
          <p:blipFill>
            <a:blip r:embed="rId1"/>
            <a:stretch/>
          </p:blipFill>
          <p:spPr>
            <a:xfrm>
              <a:off x="457200" y="236232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762120" y="250020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" name=""/>
          <p:cNvSpPr/>
          <p:nvPr/>
        </p:nvSpPr>
        <p:spPr>
          <a:xfrm>
            <a:off x="2581200" y="278136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0" y="28954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28954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00960" y="2781360"/>
            <a:ext cx="3045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05400" y="28954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00840" y="28954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48240" y="29991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7115040" y="2305080"/>
            <a:ext cx="10828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Network metric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mitted at a rate of R bits/se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or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D seconds for bit to progagate down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O secs for CPU to put message on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P that messsage will not arrive i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M of data being trans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long to send a messag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t time T = M/R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Mbps Ethernet LAN (M=1K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/R=1ms, D ~=5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5Mbps cross country ATM (M=1K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/R = 50us, D ~= 40-100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*D is “storage” of p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6200000">
            <a:off x="3520800" y="2971800"/>
            <a:ext cx="457200" cy="289548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to measure bandwidth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how slow link increases gap between pack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616040" y="4038480"/>
            <a:ext cx="39996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158840" y="4038480"/>
            <a:ext cx="39996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45616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3520800" y="4267080"/>
            <a:ext cx="457200" cy="289548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973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07324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3576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97320" y="5721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073240" y="571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57280" y="4799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 bottleneck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797520" y="4343400"/>
            <a:ext cx="762120" cy="1600200"/>
          </a:xfrm>
          <a:custGeom>
            <a:avLst/>
            <a:gdLst>
              <a:gd name="textAreaLeft" fmla="*/ 101880 w 762120"/>
              <a:gd name="textAreaRight" fmla="*/ 660240 w 76212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7391520" y="4267080"/>
            <a:ext cx="1082520" cy="16131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6416640" y="5486400"/>
            <a:ext cx="12240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837400" y="5486400"/>
            <a:ext cx="12204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20960" y="5486400"/>
            <a:ext cx="12204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41360" y="5486400"/>
            <a:ext cx="12240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 rot="16200000">
            <a:off x="4190760" y="2666880"/>
            <a:ext cx="457200" cy="289548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to measure delay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round-trip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16200000">
            <a:off x="4190760" y="3962160"/>
            <a:ext cx="457200" cy="289548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867280" y="4114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43200" y="4114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388620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4165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5410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81680" y="3962520"/>
            <a:ext cx="762120" cy="1600200"/>
          </a:xfrm>
          <a:custGeom>
            <a:avLst/>
            <a:gdLst>
              <a:gd name="textAreaLeft" fmla="*/ 101880 w 762120"/>
              <a:gd name="textAreaRight" fmla="*/ 660240 w 76212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1082520" cy="16128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6324480" y="5181480"/>
            <a:ext cx="122400" cy="451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33720" y="5181480"/>
            <a:ext cx="122040" cy="451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172200" y="388620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1295280" y="3505320"/>
            <a:ext cx="615960" cy="841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1295280" y="4952880"/>
            <a:ext cx="615960" cy="841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487" name=""/>
          <p:cNvSpPr/>
          <p:nvPr/>
        </p:nvSpPr>
        <p:spPr>
          <a:xfrm>
            <a:off x="1295280" y="31230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302840" y="45709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 rot="16200000">
            <a:off x="3902040" y="2971800"/>
            <a:ext cx="457200" cy="289584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to measure error rat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number of packets acknowled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837400" y="4191120"/>
            <a:ext cx="50292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rot="16200000">
            <a:off x="3902040" y="4267080"/>
            <a:ext cx="457200" cy="289584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7856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541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1664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78560" y="5721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454120" y="571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738160" y="4799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 bottleneck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78760" y="4343400"/>
            <a:ext cx="761760" cy="1600200"/>
          </a:xfrm>
          <a:custGeom>
            <a:avLst/>
            <a:gdLst>
              <a:gd name="textAreaLeft" fmla="*/ 101880 w 761760"/>
              <a:gd name="textAreaRight" fmla="*/ 659880 w 76176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7772400" y="4267080"/>
            <a:ext cx="1082520" cy="161316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6797520" y="5486400"/>
            <a:ext cx="12240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18280" y="5486400"/>
            <a:ext cx="12204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01840" y="5486400"/>
            <a:ext cx="12240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722600" y="5486400"/>
            <a:ext cx="12204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9528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4114800" y="3352680"/>
            <a:ext cx="380880" cy="9907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0512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420800" y="327528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liable transmiss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end a packet reliably when it can be l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st reliable protocol: Stop and W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top and Wai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4006800"/>
            <a:ext cx="3240" cy="1905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058840" y="45835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09880" y="4038480"/>
            <a:ext cx="3240" cy="186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257800" y="4038480"/>
            <a:ext cx="3240" cy="186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3871800" y="4120560"/>
            <a:ext cx="1418400" cy="648360"/>
            <a:chOff x="3871800" y="4120560"/>
            <a:chExt cx="1418400" cy="648360"/>
          </a:xfrm>
        </p:grpSpPr>
        <p:sp>
          <p:nvSpPr>
            <p:cNvPr id="519" name=""/>
            <p:cNvSpPr/>
            <p:nvPr/>
          </p:nvSpPr>
          <p:spPr>
            <a:xfrm>
              <a:off x="3871800" y="44679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688200">
              <a:off x="4025880" y="42145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3802320" y="4956840"/>
            <a:ext cx="1431000" cy="580320"/>
            <a:chOff x="3802320" y="4956840"/>
            <a:chExt cx="1431000" cy="580320"/>
          </a:xfrm>
        </p:grpSpPr>
        <p:sp>
          <p:nvSpPr>
            <p:cNvPr id="522" name=""/>
            <p:cNvSpPr/>
            <p:nvPr/>
          </p:nvSpPr>
          <p:spPr>
            <a:xfrm flipV="1">
              <a:off x="3802320" y="5274720"/>
              <a:ext cx="1431000" cy="21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21071400">
              <a:off x="3992760" y="501696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4" name=""/>
          <p:cNvCxnSpPr>
            <a:stCxn id="516" idx="0"/>
            <a:endCxn id="516" idx="1"/>
          </p:cNvCxnSpPr>
          <p:nvPr/>
        </p:nvCxnSpPr>
        <p:spPr>
          <a:xfrm flipH="1" rot="16200000">
            <a:off x="2865960" y="49694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4618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525" name=""/>
          <p:cNvSpPr/>
          <p:nvPr/>
        </p:nvSpPr>
        <p:spPr>
          <a:xfrm rot="16200000">
            <a:off x="2822040" y="4656600"/>
            <a:ext cx="12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a packet, stop and wait until acknowledgement arriv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7800" y="3580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608360" y="35802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signments + Slip Day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network programming assignments (3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, routing/congestion, multicast,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problem sets (2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reviews (due Wed noon -- 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, not a summar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discussion (1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evaluating some technology (2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xam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covering from erro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7148520" y="2215440"/>
            <a:ext cx="1418400" cy="648360"/>
            <a:chOff x="7148520" y="2215440"/>
            <a:chExt cx="1418400" cy="648360"/>
          </a:xfrm>
        </p:grpSpPr>
        <p:sp>
          <p:nvSpPr>
            <p:cNvPr id="531" name=""/>
            <p:cNvSpPr/>
            <p:nvPr/>
          </p:nvSpPr>
          <p:spPr>
            <a:xfrm>
              <a:off x="7148520" y="25628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688200">
              <a:off x="7302600" y="230940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7074360" y="2864160"/>
            <a:ext cx="1407960" cy="1247400"/>
            <a:chOff x="7074360" y="2864160"/>
            <a:chExt cx="1407960" cy="1247400"/>
          </a:xfrm>
        </p:grpSpPr>
        <p:sp>
          <p:nvSpPr>
            <p:cNvPr id="534" name=""/>
            <p:cNvSpPr/>
            <p:nvPr/>
          </p:nvSpPr>
          <p:spPr>
            <a:xfrm flipV="1">
              <a:off x="7074360" y="3068640"/>
              <a:ext cx="1407960" cy="10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19405200">
              <a:off x="7446240" y="30636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6" name=""/>
          <p:cNvCxnSpPr/>
          <p:nvPr/>
        </p:nvCxnSpPr>
        <p:spPr>
          <a:xfrm flipH="1" rot="16200000">
            <a:off x="6142680" y="30643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545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537" name=""/>
          <p:cNvSpPr/>
          <p:nvPr/>
        </p:nvSpPr>
        <p:spPr>
          <a:xfrm rot="16200000">
            <a:off x="6098400" y="2751840"/>
            <a:ext cx="12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071480" y="379872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688200">
            <a:off x="7544160" y="35798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7077240" y="4526640"/>
            <a:ext cx="1431000" cy="580320"/>
            <a:chOff x="7077240" y="4526640"/>
            <a:chExt cx="1431000" cy="580320"/>
          </a:xfrm>
        </p:grpSpPr>
        <p:sp>
          <p:nvSpPr>
            <p:cNvPr id="541" name=""/>
            <p:cNvSpPr/>
            <p:nvPr/>
          </p:nvSpPr>
          <p:spPr>
            <a:xfrm flipV="1">
              <a:off x="7077240" y="4844520"/>
              <a:ext cx="1431000" cy="21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21071400">
              <a:off x="7267680" y="458676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3" name=""/>
          <p:cNvCxnSpPr/>
          <p:nvPr/>
        </p:nvCxnSpPr>
        <p:spPr>
          <a:xfrm flipH="1" rot="16200000">
            <a:off x="6142680" y="4539240"/>
            <a:ext cx="1891440" cy="3960"/>
          </a:xfrm>
          <a:prstGeom prst="bentConnector5">
            <a:avLst>
              <a:gd name="adj1" fmla="val 10660"/>
              <a:gd name="adj2" fmla="val -6800000"/>
              <a:gd name="adj3" fmla="val 77327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544" name=""/>
          <p:cNvSpPr/>
          <p:nvPr/>
        </p:nvSpPr>
        <p:spPr>
          <a:xfrm rot="16200000">
            <a:off x="6096960" y="4226400"/>
            <a:ext cx="12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086600" y="198108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534520" y="190512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579200" y="2215080"/>
            <a:ext cx="1085040" cy="648360"/>
            <a:chOff x="4579200" y="2215080"/>
            <a:chExt cx="1085040" cy="648360"/>
          </a:xfrm>
        </p:grpSpPr>
        <p:sp>
          <p:nvSpPr>
            <p:cNvPr id="548" name=""/>
            <p:cNvSpPr/>
            <p:nvPr/>
          </p:nvSpPr>
          <p:spPr>
            <a:xfrm>
              <a:off x="4619160" y="2622960"/>
              <a:ext cx="104508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688200">
              <a:off x="4614840" y="230904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0" name=""/>
          <p:cNvCxnSpPr/>
          <p:nvPr/>
        </p:nvCxnSpPr>
        <p:spPr>
          <a:xfrm flipH="1" rot="16200000">
            <a:off x="3628080" y="30643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551" name=""/>
          <p:cNvSpPr/>
          <p:nvPr/>
        </p:nvSpPr>
        <p:spPr>
          <a:xfrm rot="16200000">
            <a:off x="3584160" y="2750040"/>
            <a:ext cx="12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632480" y="3690720"/>
            <a:ext cx="1418400" cy="648360"/>
            <a:chOff x="4632480" y="3690720"/>
            <a:chExt cx="1418400" cy="648360"/>
          </a:xfrm>
        </p:grpSpPr>
        <p:sp>
          <p:nvSpPr>
            <p:cNvPr id="553" name=""/>
            <p:cNvSpPr/>
            <p:nvPr/>
          </p:nvSpPr>
          <p:spPr>
            <a:xfrm>
              <a:off x="4632480" y="40377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688200">
              <a:off x="4786560" y="37846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4562640" y="4526640"/>
            <a:ext cx="1431000" cy="580320"/>
            <a:chOff x="4562640" y="4526640"/>
            <a:chExt cx="1431000" cy="580320"/>
          </a:xfrm>
        </p:grpSpPr>
        <p:sp>
          <p:nvSpPr>
            <p:cNvPr id="556" name=""/>
            <p:cNvSpPr/>
            <p:nvPr/>
          </p:nvSpPr>
          <p:spPr>
            <a:xfrm flipV="1">
              <a:off x="4562640" y="4844520"/>
              <a:ext cx="1431000" cy="21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21071400">
              <a:off x="4753080" y="458676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8" name=""/>
          <p:cNvCxnSpPr/>
          <p:nvPr/>
        </p:nvCxnSpPr>
        <p:spPr>
          <a:xfrm flipH="1" rot="16200000">
            <a:off x="3626640" y="4539240"/>
            <a:ext cx="1891440" cy="360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559" name=""/>
          <p:cNvSpPr/>
          <p:nvPr/>
        </p:nvSpPr>
        <p:spPr>
          <a:xfrm rot="16200000">
            <a:off x="3582360" y="4226400"/>
            <a:ext cx="12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0" y="198108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19920" y="190512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486400" y="2590920"/>
            <a:ext cx="380880" cy="45720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12960" y="1905120"/>
            <a:ext cx="6120" cy="434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3504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1812960" y="2215440"/>
            <a:ext cx="1418400" cy="648360"/>
            <a:chOff x="1812960" y="2215440"/>
            <a:chExt cx="1418400" cy="648360"/>
          </a:xfrm>
        </p:grpSpPr>
        <p:sp>
          <p:nvSpPr>
            <p:cNvPr id="566" name=""/>
            <p:cNvSpPr/>
            <p:nvPr/>
          </p:nvSpPr>
          <p:spPr>
            <a:xfrm>
              <a:off x="1812960" y="25628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688200">
              <a:off x="1967040" y="230940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2135160" y="2963520"/>
            <a:ext cx="1026000" cy="580320"/>
            <a:chOff x="2135160" y="2963520"/>
            <a:chExt cx="1026000" cy="580320"/>
          </a:xfrm>
        </p:grpSpPr>
        <p:sp>
          <p:nvSpPr>
            <p:cNvPr id="569" name=""/>
            <p:cNvSpPr/>
            <p:nvPr/>
          </p:nvSpPr>
          <p:spPr>
            <a:xfrm flipV="1">
              <a:off x="2189880" y="3322800"/>
              <a:ext cx="971280" cy="14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1071400">
              <a:off x="2165400" y="302364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1" name=""/>
          <p:cNvCxnSpPr/>
          <p:nvPr/>
        </p:nvCxnSpPr>
        <p:spPr>
          <a:xfrm flipH="1" rot="16200000">
            <a:off x="807120" y="30643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572" name=""/>
          <p:cNvSpPr/>
          <p:nvPr/>
        </p:nvSpPr>
        <p:spPr>
          <a:xfrm rot="16200000">
            <a:off x="762840" y="2751840"/>
            <a:ext cx="12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811520" y="3690720"/>
            <a:ext cx="1418400" cy="648360"/>
            <a:chOff x="1811520" y="3690720"/>
            <a:chExt cx="1418400" cy="648360"/>
          </a:xfrm>
        </p:grpSpPr>
        <p:sp>
          <p:nvSpPr>
            <p:cNvPr id="574" name=""/>
            <p:cNvSpPr/>
            <p:nvPr/>
          </p:nvSpPr>
          <p:spPr>
            <a:xfrm>
              <a:off x="1811520" y="40377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688200">
              <a:off x="1965600" y="37846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1741680" y="4526640"/>
            <a:ext cx="1431000" cy="580320"/>
            <a:chOff x="1741680" y="4526640"/>
            <a:chExt cx="1431000" cy="580320"/>
          </a:xfrm>
        </p:grpSpPr>
        <p:sp>
          <p:nvSpPr>
            <p:cNvPr id="577" name=""/>
            <p:cNvSpPr/>
            <p:nvPr/>
          </p:nvSpPr>
          <p:spPr>
            <a:xfrm flipV="1">
              <a:off x="1741680" y="4844520"/>
              <a:ext cx="1431000" cy="21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21071400">
              <a:off x="1932120" y="458676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9" name=""/>
          <p:cNvCxnSpPr/>
          <p:nvPr/>
        </p:nvCxnSpPr>
        <p:spPr>
          <a:xfrm flipH="1" rot="16200000">
            <a:off x="805680" y="4539240"/>
            <a:ext cx="1891440" cy="360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580" name=""/>
          <p:cNvSpPr/>
          <p:nvPr/>
        </p:nvSpPr>
        <p:spPr>
          <a:xfrm rot="16200000">
            <a:off x="761400" y="4226400"/>
            <a:ext cx="12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751040" y="198108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98960" y="190512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903320" y="3276720"/>
            <a:ext cx="381240" cy="45720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30600" y="609480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533120" y="60948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835320" y="617112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blems with Stop and Wai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recognize a duplicate transmi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sequence number in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 R*D is very small, the sender can’t fill the p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sliding window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ptional Discussion Sec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by Neil 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for network programming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papers befor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final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: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ome Definiti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 -- computer, PDA, toaster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-- transmit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 or wir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cast or switched (or both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-- move bits between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switching: stateless store&amp;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switching: stateful, cut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ternet -- network of networ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delivers packets (&amp; locates no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 (gateway) moves packets between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interoperability on top of any potential network or link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m, Ethernet, token ring, cell phone, ADSL, cable modem, smoke signal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possible requirements on underlying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18:11:14Z</dcterms:created>
  <dc:creator>Stefan Savage</dc:creator>
  <dc:description/>
  <dc:language>en-US</dc:language>
  <cp:lastModifiedBy>cse</cp:lastModifiedBy>
  <cp:lastPrinted>1999-02-18T02:30:17Z</cp:lastPrinted>
  <dcterms:modified xsi:type="dcterms:W3CDTF">1999-04-01T02:03:06Z</dcterms:modified>
  <cp:revision>67</cp:revision>
  <dc:subject/>
  <dc:title>Eraser: A Dynamic Race Detector for  Multi-Threaded Programs</dc:title>
</cp:coreProperties>
</file>