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31A-EF7F-420B-B696-76C0806C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634-D1E1-4757-ACB1-882176B5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F31-FBA2-4755-B368-E2940306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83F-6922-416F-AD05-00E94370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C36-C40F-4B17-B019-B4FD03D5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F6A-3010-4052-AA3D-C3804F45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AB6-8BB5-4356-A47B-A79AD4FA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EFD-1744-47CC-8E71-38D8B202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FE0-5383-49F8-BB44-0ABE5C44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AB9-747B-44CF-A708-0FBAA3AB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53F-4385-47F7-BF2F-524BEC1A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B61-A06E-4CB5-8E3C-E82A62E5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98D0-B1CC-44BE-9731-6E2DBCEED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57200" y="838080"/>
            <a:ext cx="8305920" cy="75960"/>
            <a:chOff x="457200" y="838080"/>
            <a:chExt cx="8305920" cy="75960"/>
          </a:xfrm>
        </p:grpSpPr>
        <p:sp>
          <p:nvSpPr>
            <p:cNvPr id="6" name=""/>
            <p:cNvSpPr/>
            <p:nvPr/>
          </p:nvSpPr>
          <p:spPr>
            <a:xfrm>
              <a:off x="457200" y="838080"/>
              <a:ext cx="830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91404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380880" y="6248160"/>
            <a:ext cx="8305920" cy="75960"/>
            <a:chOff x="380880" y="6248160"/>
            <a:chExt cx="8305920" cy="75960"/>
          </a:xfrm>
        </p:grpSpPr>
        <p:sp>
          <p:nvSpPr>
            <p:cNvPr id="9" name=""/>
            <p:cNvSpPr/>
            <p:nvPr/>
          </p:nvSpPr>
          <p:spPr>
            <a:xfrm>
              <a:off x="380880" y="6324120"/>
              <a:ext cx="830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7200" y="624816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ML 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c elements of VRML files are no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type of node has a set of fields associated with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single-valued field typ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FNode, SFFloat SFInt32 SFColor, SFVec3f, SFRotatio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multi-valued field typ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Color, MFFloat, MFNode, MFVec3f, MFRotation, etc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need to be able to talk 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s -- When a field changes in one node, other fields in other nodes are automatically upd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C22-1069-40C4-9805-06EEDEF733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th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447920"/>
            <a:ext cx="66294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timer TimeSens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ycleInterval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op TR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baseOI OrientationInterpol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 [ 0 0.25 0.5 0.75 1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Value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0.3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-0.3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timer.fraction_changed   TO baseOI.set_f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baseOI.value_changed     TO base.set_r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3D3-BF70-415D-82C6-F499063BC4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the Lower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76520"/>
            <a:ext cx="6858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lowerArmOI OrientationInterpol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 [ 0 0.25 0.5 0.75 1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Value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.4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-0.4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timer.fraction_changed   TO lowerArmOI.set_f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lowerArmOI.value_changed TO lowerArm.set_r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635-E7F6-4647-8B2D-0971F5339E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the Upper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447920"/>
            <a:ext cx="7238880" cy="30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upperArmOI OrientationInterpol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 [ 0 0.25 0.5 0.75 1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Value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.8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.6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.2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timer.fraction_changed   TO upperArmOI.set_f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upperArmOI.value_changed TO upperArm.set_r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3D7-B4C2-4A47-AFEA-23F84050FB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 Upside-down Cone --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49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ometr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ight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radius defaults to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477120" y="1752480"/>
          <a:ext cx="204768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752480"/>
                    <a:ext cx="204768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12B-B7DA-43C8-BAF8-9965C0C093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 Upside-down Cone -- 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4952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ppeara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aran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eri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eri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ffuseColor 0.3 0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ometr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ight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radius defaults to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324480" y="1905120"/>
          <a:ext cx="200988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905120"/>
                    <a:ext cx="200988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607-BC5E-42A5-AD98-740F90242A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 Upside-down Cone -- Flip it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066680"/>
            <a:ext cx="7239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lation  0.0 1 0.0         # happens thi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le        0.5 2.0 0.5       # happens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tation     0   0   1   3.141 # happens seco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ildren 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ppeara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aran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eri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eri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ffuseColor 0.3 0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ometr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height 3.0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0120" y="838080"/>
          <a:ext cx="1419120" cy="54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838080"/>
                    <a:ext cx="141912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29C-1B81-44DD-A9C2-5172483EBF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cing Ball -- ROUTEs and Interpol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1219320"/>
            <a:ext cx="64771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VRML V2.0 utf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a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ts TimeSens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ycleInterva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op TR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all_p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ositionInterpol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 [0 0.5 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Value [0 0 0   0 3.0 0   0 0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all_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ion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ldren 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ometry Sphere 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U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all_ts.fraction_change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all_pi.set_f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U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all_pi.value_changed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all_t.set_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EB2-825F-4BF4-AA55-DAB8733628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105520" y="1447920"/>
          <a:ext cx="341928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34192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38080" y="1295280"/>
          <a:ext cx="298152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295280"/>
                    <a:ext cx="29815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990720" y="152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ot Arm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A91-60D7-4C07-85A1-738CFD0EAF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bot Arm Model --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914400"/>
            <a:ext cx="807696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VRML V2.0 utf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orldInfo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"cse591 -- Robot Arm from clas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vigationInfo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"EXAMIN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oup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base 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ion 0 -1.5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ffuseColor 0.8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ometry Cylind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ight 0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903-DDEC-4BEA-A5CF-684AA9B8A6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bot Arm Model -- Lower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8001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lowerArm 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nter 0 -1.875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ion 0 1.875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ffuseColor 0 0.8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ometry Box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ze 0.5 3 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85D-80F0-45D8-BA0F-FFD1A023A6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bot Arm Model -- Upper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143000"/>
            <a:ext cx="7848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upperArm 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nter 0 0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ion 0 1.75 0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ffuseColor 0 0 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ometry Box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ze 0.5 0.5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498-C195-41E7-9BC3-36F6C69462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4T21:14:43Z</dcterms:created>
  <dc:creator>Mark Manca</dc:creator>
  <dc:description/>
  <dc:language>en-US</dc:language>
  <cp:lastModifiedBy>Mark Manca</cp:lastModifiedBy>
  <cp:lastPrinted>1998-04-15T01:10:14Z</cp:lastPrinted>
  <dcterms:modified xsi:type="dcterms:W3CDTF">1998-04-15T04:23:44Z</dcterms:modified>
  <cp:revision>2</cp:revision>
  <dc:subject/>
  <dc:title>VRML Basics</dc:title>
</cp:coreProperties>
</file>