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C59-9D7B-475B-9283-09FFCB02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371-077A-450B-B0C4-4FC8DD4A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B23-9F10-41D6-B065-F8EC6498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91B-D47F-43BF-BDD7-F167BC4D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0D8-D9D4-4BC8-B876-473AF996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E6C-343B-49A3-84C9-59DFE46A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A43-C6E8-4E61-8678-F7BC23A0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576-5B2B-452F-A448-B74D81FE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5FE-EC05-47AD-8E1B-19131174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01B-F73B-46D5-9FDC-360CA1B5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0BD-8880-4947-89AD-6D74BAF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69F-B9B8-4EB3-B36E-5CE9496D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1449-0F75-4AA3-BB8C-2FDF0969B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57200" y="838080"/>
            <a:ext cx="8305920" cy="75960"/>
            <a:chOff x="457200" y="838080"/>
            <a:chExt cx="8305920" cy="75960"/>
          </a:xfrm>
        </p:grpSpPr>
        <p:sp>
          <p:nvSpPr>
            <p:cNvPr id="6" name=""/>
            <p:cNvSpPr/>
            <p:nvPr/>
          </p:nvSpPr>
          <p:spPr>
            <a:xfrm>
              <a:off x="457200" y="838080"/>
              <a:ext cx="830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91404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380880" y="6248160"/>
            <a:ext cx="8305920" cy="75960"/>
            <a:chOff x="380880" y="6248160"/>
            <a:chExt cx="8305920" cy="75960"/>
          </a:xfrm>
        </p:grpSpPr>
        <p:sp>
          <p:nvSpPr>
            <p:cNvPr id="9" name=""/>
            <p:cNvSpPr/>
            <p:nvPr/>
          </p:nvSpPr>
          <p:spPr>
            <a:xfrm>
              <a:off x="380880" y="6324120"/>
              <a:ext cx="830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7200" y="624816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ML 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c elements of VRML files are no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type of node has a set of fields associated with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single-valued field typ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FNode, SFFloat SFInt32 SFColor, SFVec3f, SFRotatio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multi-valued field typ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Color, MFFloat, MFNode, MFVec3f, MFRotation, etc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need to be able to talk to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s -- When a field changes in one node, other fields in other nodes are automatically upd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A6A-DB63-443C-B8F5-3B1E2C6A79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th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447920"/>
            <a:ext cx="66294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timer TimeSens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ycleInterval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op TR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baseOI OrientationInterpol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 [ 0 0.25 0.5 0.75 1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Value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0.3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-0.3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timer.fraction_changed   TO baseOI.set_f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baseOI.value_changed     TO base.set_r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D53-1777-4930-A81B-10A1831C87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the Lower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76520"/>
            <a:ext cx="6858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lowerArmOI OrientationInterpol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 [ 0 0.25 0.5 0.75 1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Value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.4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-0.4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timer.fraction_changed   TO lowerArmOI.set_f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lowerArmOI.value_changed TO lowerArm.set_r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544-1373-47A7-9C05-B8D6C7C966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the Upper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447920"/>
            <a:ext cx="7238880" cy="30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upperArmOI OrientationInterpol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 [ 0 0.25 0.5 0.75 1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Value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.8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.6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.2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timer.fraction_changed   TO upperArmOI.set_f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TE upperArmOI.value_changed TO upperArm.set_r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4D1-FFA0-4D4B-8DDD-C1B00E9009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 Upside-down Cone --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49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ometr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ight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radius defaults to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477120" y="1752480"/>
          <a:ext cx="204768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752480"/>
                    <a:ext cx="204768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69C-7FA4-4543-9B04-2C40570DAB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 Upside-down Cone -- 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4952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ppeara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aran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eri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eri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ffuseColor 0.3 0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ometr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eight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radius defaults to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324480" y="1905120"/>
          <a:ext cx="200988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905120"/>
                    <a:ext cx="200988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00D-34A2-4BE3-9B8C-6BD1B8F9B8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 Upside-down Cone -- Flip it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066680"/>
            <a:ext cx="7239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or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lation  0.0 1 0.0         # happens thi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le        0.5 2.0 0.5       # happens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tation     0   0   1   3.141 # happens seco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ildren 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ppeara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aran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eri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eri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ffuseColor 0.3 0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ometr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height 3.0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0120" y="838080"/>
          <a:ext cx="1419120" cy="54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838080"/>
                    <a:ext cx="141912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960-F127-4A31-A0D7-B0E3C5771B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cing Ball -- ROUTEs and Interpol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1219320"/>
            <a:ext cx="64771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VRML V2.0 utf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a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ts TimeSens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ycleInterva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op TR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all_p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ositionInterpol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 [0 0.5 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Value [0 0 0   0 3.0 0   0 0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all_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ion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ldren 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ometry Sphere 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U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all_ts.fraction_change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all_pi.set_f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U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all_pi.value_changed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all_t.set_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0C1-0D4A-4F93-B505-D34398E262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105520" y="1447920"/>
          <a:ext cx="341928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34192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38080" y="1295280"/>
          <a:ext cx="298152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295280"/>
                    <a:ext cx="29815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990720" y="152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ot Arm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443-ABC5-41F8-A3D0-9F70A2E065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bot Arm Model --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914400"/>
            <a:ext cx="807696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VRML V2.0 utf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orldInfo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"cse591 -- Robot Arm from clas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vigationInfo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"EXAMIN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oup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base 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ion 0 -1.5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ffuseColor 0.8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ometry Cylinde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ight 0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D73-1F8C-44B7-8232-524EE91332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bot Arm Model -- Lower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80010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lowerArm 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nter 0 -1.875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ion 0 1.875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ffuseColor 0 0.8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ometry Box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ze 0.5 3 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1CE5-A4F3-4EFE-BED0-8CC1894344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bot Arm Model -- Upper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143000"/>
            <a:ext cx="7848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upperArm Transfor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nter 0 0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lation 0 1.75 0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ldren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arance Appearanc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erial Material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ffuseColor 0 0 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ometry Box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ze 0.5 0.5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591 Spring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B7D-9892-486B-A15B-D330A9986E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4T21:14:43Z</dcterms:created>
  <dc:creator>Mark Manca</dc:creator>
  <dc:description/>
  <dc:language>en-US</dc:language>
  <cp:lastModifiedBy>Mark Manca</cp:lastModifiedBy>
  <cp:lastPrinted>1998-04-15T01:10:14Z</cp:lastPrinted>
  <dcterms:modified xsi:type="dcterms:W3CDTF">1998-04-15T04:23:44Z</dcterms:modified>
  <cp:revision>2</cp:revision>
  <dc:subject/>
  <dc:title>VRML Basics</dc:title>
</cp:coreProperties>
</file>