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D4BAC-33BE-4EAA-A040-C884831D9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FDB48-7386-4A29-BFE6-B253F66B8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5E7A-8B99-4EF4-99B6-FD6CFC8A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9BD8-A6AB-43B5-8383-D38F18F9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B0EB-6CBF-4F86-9134-258A147F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FEAF-803A-4C23-97BD-ADA2D82C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4F4B-ADAE-40A6-89C5-CCCFDEE1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F8D3-CF30-4463-AA13-E063E662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EC83-FA93-4734-8A03-E270EAC8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62AE-3352-49CA-B297-5F5DDF75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8AA6-8E7D-4675-BB79-6A71CE4D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F218-6CBC-42EE-AF25-F5634CB3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4B19-49A0-476B-9437-85AEED5A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1D71-7398-4CF1-AA1B-05478563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2430-22A8-45F8-AA3A-CA54FE0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1DD7-BF03-48C2-B95E-7989B70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ABF9-FEA2-4848-B9C7-3116E21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D3C4-40CB-4FEC-8259-5A249E78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2D5F-ABAF-4C5A-BEE3-F5E0758C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A731-CED2-4E3E-AC3F-A6F05BEA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086F-8248-4CE5-BD42-6B9BB32E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95C5-79E1-4FE7-93D4-9AA7FBD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294E-8511-417B-805D-20C20975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CA00-8B6C-4789-BBCD-DE997004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D92C-9162-4056-8417-1CDA6EF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7930-90D3-4313-AE5F-3AB85347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A150-4137-4EF3-8435-3AAFD1F3A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457200" y="15238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72B-EB01-4CDC-BB92-A1C872AF7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p557/CurrentQtr/projects/modeler/newdoc/demos/" TargetMode="External"/><Relationship Id="rId2" Type="http://schemas.openxmlformats.org/officeDocument/2006/relationships/hyperlink" Target="http://www.cs.washington.edu/education/courses/cse457/02au/projects/modeler/vote/winners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odeler Help Session</a:t>
            </a:r>
            <a:br>
              <a:rPr sz="5000"/>
            </a:b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SEP 557, Spring 2009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Mode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is a stat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Enable()/glDisable() changes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change something, it will stay that way until you change it to something ne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cludes: current color, transformation details, drawing modes, information about the ligh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maintains a transformation matrix that is applied to everything that is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words: transformations are cumu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ation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lRotated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lTranslated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lScaled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ve to the previous draw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Mode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back to an earlier transformation matr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lPushMatrix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lPopMatrix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track of the state of your model in a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make changes and then undo the transformation matrix, glPushMatrix() will keep track of where everything w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opped off the stack, will return to thos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s &amp;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 track of your pushes() and pops() – having unmatched pushes and pops can cause a lot of grief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help to divide the draw routine into a series of nested methods, each with their own push and po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lementing </a:t>
            </a:r>
            <a:r>
              <a:rPr b="0" lang="en-US" sz="2700" spc="-1" strike="noStrike">
                <a:solidFill>
                  <a:srgbClr val="ff3300"/>
                </a:solidFill>
                <a:latin typeface="Arial"/>
              </a:rPr>
              <a:t>gluLookAt(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ook in your slides and in the OpenGL Blue Book, but make sure you understand how it work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lementing the animation sequence: have a slider control multiple aspects of the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s &amp;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thwhile bells &amp; whistles that will help you out down the r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lighting/camera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curve functionality/swept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s &amp;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ing mapping FAQ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the OpenGL Programming Guide to see how to set up text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oad function in imageio.cpp to load a JPEG or PNG to use as a textur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oking for inspir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models can be found on previous quarters’ webs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hort list of sample executables available at: </a:t>
            </a:r>
            <a:r>
              <a:rPr b="0" lang="en-US" sz="23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cs.washington.edu/education/courses/csep557/CurrentQtr/projects/modeler/newdoc/demos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quarter of very impressive models: </a:t>
            </a:r>
            <a:r>
              <a:rPr b="0" lang="en-US" sz="23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cs.washington.edu/education/courses/cse457/02au/projects/modeler/vote/winners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links on the project p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he Source Control Ear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way we can fix problems is if we know abou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verify that your repository works by checking it out, building it, tweak something, and 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thing fails, please let us know so we can fix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To D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 Things Will Happen if you modif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16"/>
          <p:cNvSpPr/>
          <p:nvPr/>
        </p:nvSpPr>
        <p:spPr>
          <a:xfrm>
            <a:off x="4572000" y="19810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533520" y="2438280"/>
            <a:ext cx="39621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the glulookat() function in camera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model (like sample.cpp) with at least 4 hierarchical levels and 10 primitive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 S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ditional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4572000" y="2895480"/>
            <a:ext cx="39625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app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ui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draw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view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 Session Over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e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ng You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Modeling in Open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s &amp;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er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window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window with sl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view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avigate in the model view wind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cl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otate the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-cl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ove the point that the camera is looking at (Translation/Do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cl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oom in/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app.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ui.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ndles the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app.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fines the ModelerApplication class which handles the setting of control val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draw.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drawing of primitive shapes and materia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view.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the ModelerView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lass of your model – your model will be a subclass of Model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OpenGL drawing and event hand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view.c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ome base functionality such as setting up lighting and handling camera contr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OUCH THE FOLLOWING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app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ui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draw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view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animator project, you will be re-using your model source file and plugging it into a different application. If you change modelerapp.* or modelerdraw.*, your model may not work with the animator projec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get to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camera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in camera.cpp to implement your own version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luLookA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.c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BoxModel - you will replace this with your own mode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art: copy sample code and then modify in order to include the methods you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remove sample.cpp file and replace with  &lt;YourModel&gt;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elpful files (that you should also not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ui.f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ata file that controls the FLTK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ec.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Mat.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s useful vector/matrix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Your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ll changes in Sample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raw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where you will build you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ai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nitializes the contr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lider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at the top of the file defines the names and number of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ontrols both to Enum and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keep NUMCONTROLS variable at the end of the Enum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55:23Z</dcterms:created>
  <dc:creator>Diane Hu</dc:creator>
  <dc:description/>
  <dc:language>en-US</dc:language>
  <cp:lastModifiedBy>cse</cp:lastModifiedBy>
  <dcterms:modified xsi:type="dcterms:W3CDTF">2009-04-14T01:18:34Z</dcterms:modified>
  <cp:revision>81</cp:revision>
  <dc:subject/>
  <dc:title>Modeler Help Session CSE 457, Spring 2005</dc:title>
</cp:coreProperties>
</file>