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88175-3CF3-472E-9E66-2809517A5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677B6-2A6B-4969-98A0-058E794E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046F-5AB7-4D3A-BCA0-D946C2D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DA99-D51D-4F92-AD55-5E83A26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48C3-EFF8-43F9-997D-C556B48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4D40-3888-4775-907B-C2538CD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70C-8527-440B-9D4E-0AC8E3C5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266-6494-43A8-9E86-6448FD0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45D-F26A-4D2E-BAC1-E543110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6FDA-703A-4CA6-A27E-81CD242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9EB-CA3B-4DAD-BEC7-C40B9E58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6BE6-6133-41C6-B01E-B1AF8E77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9FF0-38CE-46C4-B442-B96C061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14AB-76EF-49AE-82F1-9D945436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50FE-ACC2-46A5-A226-CB548BD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5A81-AFD9-4B97-970D-7727B84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AB4-5C3F-4E06-8A63-7B199C9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6A3-E7A1-452C-BF37-78D2C7BD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2CA1-F52F-4A50-91F9-459559D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4D9A-47D6-4ACE-8EA5-198444A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FDD7-D77B-4968-9F3A-F29EBFF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5D3C-BC73-438A-986A-1C6F631A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C206-427C-45E5-9E5A-0D0978D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9C4-986E-4DAB-86A6-230CEA7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80BE-2711-4A00-B4EB-753B61F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B822-070E-4358-B9D3-E1F561D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1D8B-CF12-459D-BFF8-788ECAD9E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457200" y="15238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A8E-3B47-4EFB-8F6B-F963B2E10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p557/CurrentQtr/projects/modeler/newdoc/demos/" TargetMode="External"/><Relationship Id="rId2" Type="http://schemas.openxmlformats.org/officeDocument/2006/relationships/hyperlink" Target="http://www.cs.washington.edu/education/courses/cse457/02au/projects/modeler/vote/winners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er Help Session</a:t>
            </a:r>
            <a:br>
              <a:rPr sz="50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SEP 557, Spring 2009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Mode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is a stat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able()/glDisable() changes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change something, it will stay that way until you change it to something n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ludes: current color, transformation details, drawing modes, information about the ligh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maintains a transformation matrix that is applied to everything that is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: transformations are cum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ation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Rotat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Translat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Scaled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ve to the previous draw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Mode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back to an earlier transformation matr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PushMatrix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PopMatri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rack of the state of your model in a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make changes and then undo the transformation matrix, glPushMatrix() will keep track of where everything w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pped off the stack, will return to thos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rack of your pushes() and pops() – having unmatched pushes and pops can cause a lot of grief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help to divide the draw routine into a series of nested methods, each with their own push and po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lang="en-US" sz="2700" spc="-1" strike="noStrike">
                <a:solidFill>
                  <a:srgbClr val="ff3300"/>
                </a:solidFill>
                <a:latin typeface="Arial"/>
              </a:rPr>
              <a:t>gluLookAt(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ook in your slides and in the OpenGL Blue Book, but make sure you understand how it work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lementing the animation sequence: have a slider control multiple aspects of the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thwhile bells &amp; whistles that will help you out down the r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lighting/camera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curve functionality/swept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ing mapping FAQ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OpenGL Programming Guide to see how to set up text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ad function in imageio.cpp to load a JPEG or PNG to use as a textur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oking for inspir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models can be found on previous quarters’ webs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hort list of sample executables available at: </a:t>
            </a:r>
            <a:r>
              <a:rPr b="0" lang="en-US" sz="23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cs.washington.edu/education/courses/csep557/CurrentQtr/projects/modeler/newdoc/demos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quarter of very impressive models: </a:t>
            </a:r>
            <a:r>
              <a:rPr b="0" lang="en-US" sz="23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cs.washington.edu/education/courses/cse457/02au/projects/modeler/vote/winners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links on the project p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he Source Control Ear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way we can fix problems is if we know abou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verify that your repository works by checking it out, building it, tweak something, and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thing fails, please let us know so we can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 Things Will Happen if you modif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16"/>
          <p:cNvSpPr/>
          <p:nvPr/>
        </p:nvSpPr>
        <p:spPr>
          <a:xfrm>
            <a:off x="4572000" y="19810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33520" y="2438280"/>
            <a:ext cx="3962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he glulookat() function in camera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model (like sample.cpp) with at least 4 hierarchical levels and 10 primitive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S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ditional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72000" y="2895480"/>
            <a:ext cx="3962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app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ui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dra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vie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Session Over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e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ng You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odeling i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s &amp;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er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window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window with sl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view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vigate in the model view wind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otate the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ve the point that the camera is looking at (Translation/Do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cl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oom in/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app.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ui.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ndles the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app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fines the ModelerApplication class which handles the setting of control val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draw.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drawing of primitive shapes and materia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view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the ModelerView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lass of your model – your model will be a subclass of Model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OpenGL drawing and event hand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view.c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ome base functionality such as setting up lighting and handling camera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OUCH THE FOLLOWING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app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ui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dra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view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animator project, you will be re-using your model source file and plugging it into a different application. If you change modelerapp.* or modelerdraw.*, your model may not work with the animator proj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to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amera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in camera.cpp to implement your own versio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uLookA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.c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BoxModel - you will replace this with your own mode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art: copy sample code and then modify in order to include the methods you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remove sample.cpp file and replace with  &lt;YourModel&gt;.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r Cod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elpful files (that you should also not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delerui.f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ata file that controls the FLTK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ec.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Mat.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useful vector/matrix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Your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ll changes in Sample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raw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where you will build you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ain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itializes the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lide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at the top of the file defines the names and number of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ntrols both to Enum and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keep NUMCONTROLS variable at the end of the Enum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55:23Z</dcterms:created>
  <dc:creator>Diane Hu</dc:creator>
  <dc:description/>
  <dc:language>en-US</dc:language>
  <cp:lastModifiedBy>cse</cp:lastModifiedBy>
  <dcterms:modified xsi:type="dcterms:W3CDTF">2009-04-14T01:18:34Z</dcterms:modified>
  <cp:revision>81</cp:revision>
  <dc:subject/>
  <dc:title>Modeler Help Session CSE 457, Spring 2005</dc:title>
</cp:coreProperties>
</file>