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500CE-6AD7-4DA7-8FB1-22D1E50AB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57853-086A-47C3-A4D2-1A2994C21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CC80C-10CC-41C1-92E5-93A4B4F23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4BC8B-B971-475C-B198-086B8A504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41EA7-2B21-4607-BD72-BF6F2C824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B1D56-3679-480B-92D4-59579D6BD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66126-8348-4043-9DD9-719F2F243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984D8-40AB-43C6-A080-EC6313C05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2AECA-F6DC-458B-A322-F78BAFE72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67F79-0F41-48DC-921A-4E2D1B31A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7DBB7-8617-4241-ADA9-18E6CE784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B4BBC-06B6-45A1-A10C-2C51FDC88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C8A1B-BB5C-4283-93F6-7C9ED9069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871D3-943A-49E1-8DA3-CFCA49A8F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E2318-B41A-453F-8CA3-43B62B03A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AD25B-F3CE-4A06-823E-3CD48E199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4A762-A106-4865-8AB3-64A8F2A40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87803-7A80-4872-9F4F-6C2A4326C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C27F1-45F7-462C-80FD-7F313732E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B3135-D750-489C-A464-A62010273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B6DB4-D9BD-4514-B9E6-29098C457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0004C-298A-4159-929A-ED12760A9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92DB1-B5FA-4858-945B-5251AA53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29DF-548F-42AC-BB79-A474CE4B2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F4AD-5B58-455D-A2C1-99FDE910AD9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3DFF-C8FF-4E5C-8AFC-FBA7C2860C7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ltk.org/" TargetMode="External"/><Relationship Id="rId2" Type="http://schemas.openxmlformats.org/officeDocument/2006/relationships/hyperlink" Target="http://www.opengl.org/"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Project 1: Impressionist</a:t>
            </a:r>
            <a:br>
              <a:rPr sz="4600"/>
            </a:br>
            <a:r>
              <a:rPr b="0" lang="en-US" sz="4600" spc="-1" strike="noStrike">
                <a:solidFill>
                  <a:srgbClr val="006633"/>
                </a:solidFill>
                <a:latin typeface="Garamond"/>
              </a:rPr>
              <a:t>Help Session</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rushmaking, cont’d</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w, open up ImpressionistDoc.cpp</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triangleBrush.h to the includ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roll down a bit, and add triangleBrush to the selectable brushes.  Pick a constant for it.</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o to ImpBrush.h and add the constant for triangleBrush to the enum.</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o to impressionistUI.cpp, and add the triangle brush to the brush menu.</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rushmaking, cont’d again</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n Impressionist.  See the triangle brush.  </a:t>
            </a:r>
            <a:endParaRPr b="0" lang="en-US" sz="15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d, well, see the triangle brush make points instead of triangles.</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triangleBrush.cpp and go to BrushMove.</a:t>
            </a:r>
            <a:endParaRPr b="0" lang="en-US" sz="15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re’s what’s there now:</a:t>
            </a:r>
            <a:endParaRPr b="0" lang="en-US" sz="13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Begin( GL_POINTS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SetColor( source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glVertex2d( target.x, target.y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End();</a:t>
            </a:r>
            <a:endParaRPr b="0" lang="en-US" sz="11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angles need 3 vertices.  Lets center ours around the target point where the user clicked.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we do this?</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rushmaking, cont’d again</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do it like so:</a:t>
            </a:r>
            <a:endParaRPr b="0" lang="en-US" sz="15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int size = pDoc-&gt;get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int Ax,Ay,Bx,By,Cx,Cy;</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Ax = target.x - (.5*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x = target.x + (.5*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Cx = target.x;</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Ay = target.y - (.5*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y = target.y - (.5*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Cy = target.y + (.5*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Begin( GL_POLYGON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SetColor( source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glVertex2i( Ax, Ay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glVertex2i( Bx, By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glVertex2i( Cx, Cy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End();</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lter Kernel Hints</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member how filter kernels are applied to an imag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 at sample program.  How does it apply a filte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ould go wrong?</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ases should we handle?</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be looking closely at your filter kernel. . . Very closely</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penGL Debugging Hints</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thing that might help is to be checking for errors after each call. When it seems like nothing is happening, OpenGL is often returning an error message somewhere along the line. The begin-end block is a good possibility, and if that's the problem there will be an error code return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enum error_flag;</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_flag = glGetError();</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rror_flag != GL_NO_ERROR)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ntf("Error: %1s (%i) in %1s.\n",gluErrorString(error_flag),error_flag,"method nam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sic Photoshop</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o check your work. .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ter kernel in Photoshop:</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Filter-&gt;Other-&gt;Custom</a:t>
            </a:r>
            <a:endParaRPr b="0" lang="en-US" sz="20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an filter in Photoshop:</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Filter-&gt;Noise-&gt;Median</a:t>
            </a:r>
            <a:endParaRPr b="0" lang="en-US" sz="20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o resize your artifact. .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 to Image-&gt;Image Size</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tting up FLTK from home</a:t>
            </a:r>
            <a:endParaRPr b="0" lang="en-US" sz="38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wnload fltk 1.1.9 from the course webpag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t it wherever you think is convenient (say, C:\fltk-1.1.9)</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en up the impressionist projec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om tools, select option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o to the projects tab and select VC++ directori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der “show directories for” choose “Include fi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 new directory as the fltk folder (in my case, C:\fltk-1.1.9)</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so add the directories for the fltk\zlib, png, and jpeg (i.e. C:\fltk-1.1.9\zlib, C:\fltk-1.1.9\png, and C:\fltk-1.1.9\jpeg)</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der “show directories for” choose “Library fi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 new directory for fltk\lib (in my case, C:\fltk-1.1.9\lib)</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is all on the website, so don’t need to copy it dow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od References</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Books around the lab!!</a:t>
            </a:r>
            <a:r>
              <a:rPr b="0" lang="en-US" sz="1900" spc="-1" strike="noStrike">
                <a:solidFill>
                  <a:srgbClr val="000000"/>
                </a:solidFill>
                <a:latin typeface="Arial"/>
              </a:rPr>
              <a:t>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The Red/Blue OpenGL Bible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Class Web</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ts of references linked there!</a:t>
            </a:r>
            <a:endParaRPr b="0" lang="en-US" sz="17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Googl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996600"/>
                </a:solidFill>
                <a:uFillTx/>
                <a:latin typeface="Arial"/>
                <a:ea typeface="Times New Roman"/>
                <a:hlinkClick r:id="rId1"/>
              </a:rPr>
              <a:t>www.fltk.org</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996600"/>
                </a:solidFill>
                <a:uFillTx/>
                <a:latin typeface="Arial"/>
                <a:hlinkClick r:id="rId2"/>
              </a:rPr>
              <a:t>www.opengl.org</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Your TA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Questions. . .?</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ail the staff list (csep557-staff@cs) later</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OpenGL questions and clarifications can also be directed to the course list (csep557@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Skeleton Code</a:t>
            </a:r>
            <a:endParaRPr b="0" lang="en-US" sz="4200" spc="-1" strike="noStrike">
              <a:solidFill>
                <a:srgbClr val="006633"/>
              </a:solidFill>
              <a:latin typeface="Garamond"/>
            </a:endParaRPr>
          </a:p>
        </p:txBody>
      </p:sp>
      <p:pic>
        <p:nvPicPr>
          <p:cNvPr id="89" name="Picture 4" descr="[PICTURE]"/>
          <p:cNvPicPr/>
          <p:nvPr/>
        </p:nvPicPr>
        <p:blipFill>
          <a:blip r:embed="rId1"/>
          <a:stretch/>
        </p:blipFill>
        <p:spPr>
          <a:xfrm>
            <a:off x="457200" y="990720"/>
            <a:ext cx="7696080" cy="49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Skeleton Code cont’d</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ressionistDoc</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class handles all of the document-related stuff, like loading/saving, etc.</a:t>
            </a:r>
            <a:endParaRPr b="0" lang="en-US" sz="13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ressionistUI</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class handles all of the UI stuff, such as getting values from sliders, setting up the window, etc.</a:t>
            </a:r>
            <a:endParaRPr b="0" lang="en-US" sz="13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intView</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class handles drawing the side of the window the user paints on.</a:t>
            </a:r>
            <a:endParaRPr b="0" lang="en-US" sz="13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lot of event handling is done here (so here look for examples).</a:t>
            </a:r>
            <a:endParaRPr b="0" lang="en-US" sz="13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iginalView</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class handles the other side of the window. </a:t>
            </a:r>
            <a:endParaRPr b="0" lang="en-US" sz="13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Brush</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is the virtual class all brushes are derived from.</a:t>
            </a:r>
            <a:endParaRPr b="0" lang="en-US" sz="13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intBrush</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is an example brush that draws point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Meet your new friend (or enemy): OpenGL</a:t>
            </a:r>
            <a:endParaRPr b="0" lang="en-US" sz="34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enGL is a great environment for PC 2d/3d graphics applications.</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t is one among many others, such as DirectX, Glide, Allegro, etc.</a:t>
            </a:r>
            <a:endParaRPr b="0" lang="en-US" sz="17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ery easy to start working with—trust me!</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t is extremely well documented.</a:t>
            </a:r>
            <a:endParaRPr b="0" lang="en-US" sz="17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will be using it throughout the quarter.</a:t>
            </a:r>
            <a:endParaRPr b="0" lang="en-US" sz="19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1 uses just the basics of OpenGL.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though you’re welcome to learn more on your own, the focus of the project is on 2d image manipulation.</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w OpenGL Works</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nGL draws primitives—lines, vertexes, or polygons—subject to many selectable modes.</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t can be modeled as a </a:t>
            </a:r>
            <a:r>
              <a:rPr b="0" i="1" lang="en-US" sz="1700" spc="-1" strike="noStrike">
                <a:solidFill>
                  <a:srgbClr val="000000"/>
                </a:solidFill>
                <a:latin typeface="Arial"/>
              </a:rPr>
              <a:t>state machine</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ce a mode is selected, it stays there until turned off.</a:t>
            </a:r>
            <a:endParaRPr b="0" lang="en-US" sz="1500" spc="-1" strike="noStrike">
              <a:solidFill>
                <a:srgbClr val="000000"/>
              </a:solidFill>
              <a:latin typeface="Arial"/>
            </a:endParaRPr>
          </a:p>
          <a:p>
            <a:pPr lvl="1" marL="669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t is procedural—commands are executed in the order they’re specified.</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oordinate system in which it draws is transformed using function calls. </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lRotate, and why it might be confusing (right now).</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matrix stack.</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s will all be covered in detail in the modeler help sessio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rawing with openGL</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at said, how to draw an actual primitive?</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ts do an example: a filled triangle.  </a:t>
            </a:r>
            <a:endParaRPr b="0" lang="en-US" sz="1500" spc="-1" strike="noStrike">
              <a:solidFill>
                <a:srgbClr val="000000"/>
              </a:solidFill>
              <a:latin typeface="Arial"/>
            </a:endParaRPr>
          </a:p>
          <a:p>
            <a:pPr lvl="1" marL="6699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rst, set your color:</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glColor3f( red, green, blue );</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w, tell openGL to begin drawing:</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glBegin( GL_POLYGON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cify vertices A, B, and C.  Since we’re drawing in an image, use integers.</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Vertex2i( Ax, Ay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Vertex2i( Bx, By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Vertex2i( Cx, Cy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 the openGL block.</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glEnd();</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ce openGL to draw what you specified </a:t>
            </a:r>
            <a:r>
              <a:rPr b="1" i="1" lang="en-US" sz="1100" spc="-1" strike="noStrike">
                <a:solidFill>
                  <a:srgbClr val="000000"/>
                </a:solidFill>
                <a:latin typeface="Arial"/>
              </a:rPr>
              <a:t>now</a:t>
            </a:r>
            <a:r>
              <a:rPr b="1" lang="en-US" sz="1100" spc="-1" strike="noStrike">
                <a:solidFill>
                  <a:srgbClr val="000000"/>
                </a:solidFill>
                <a:latin typeface="Arial"/>
              </a:rPr>
              <a:t>.</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glFlush();   // don't forget this!</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LTK: Diet Win32</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nds for Fast Light ToolKit.  </a:t>
            </a:r>
            <a:endParaRPr b="0" lang="en-US" sz="19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really</a:t>
            </a:r>
            <a:r>
              <a:rPr b="0" lang="en-US" sz="2000" spc="-1" strike="noStrike">
                <a:solidFill>
                  <a:srgbClr val="000000"/>
                </a:solidFill>
                <a:latin typeface="Arial"/>
              </a:rPr>
              <a:t> handy cross-platform windowing system.</a:t>
            </a:r>
            <a:endParaRPr b="0" lang="en-US" sz="20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letely Event-driven (via callbacks).</a:t>
            </a:r>
            <a:endParaRPr b="0" lang="en-US" sz="19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ndow setup code is run, and then the main loop is called.  (we’ll look at an example in a second)</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further events are handed out to callbacks.</a:t>
            </a:r>
            <a:endParaRPr b="0" lang="en-US" sz="20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version has been released (fltk 1.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LTK Example code</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s code is taken/modified directly from fltk.org:</a:t>
            </a:r>
            <a:endParaRPr b="0" lang="en-US" sz="15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include &lt;put junk here&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code is executed in order:</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int main(int argc, char **argv)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Fl_Window *window = new Fl_Window(300,180);</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Fl_Box *box = new Fl_Box(20,40,260,100,"Hello, World!");</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n functions registered to Fl_Box on the box you created:</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ox-&gt;box(FL_UP_BOX);</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ox-&gt;labelsize(36);</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ox-&gt;labelfont(FL_BOLD+FL_ITALIC);</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ox-&gt;labeltype(FL_SHADOW_LABEL);</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window-&gt;end();</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window-&gt;show(argc, argv);</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where we hand control of our program to FLTK.  Anything that happens now is the result of a callback.</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return Fl::run();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w to Make a Brush</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w that we’ve got all the background, lets make a brush!</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esenting. . .triangleBrush! (Note: This will NOT count towards extra credit) </a:t>
            </a:r>
            <a:endParaRPr b="0" lang="en-US" sz="1700" spc="-1" strike="noStrike">
              <a:solidFill>
                <a:srgbClr val="000000"/>
              </a:solidFill>
              <a:latin typeface="Arial"/>
            </a:endParaRPr>
          </a:p>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siest way to do this: make a copy of pointBrush.h/cpp and rename them triangleBrush.h/cpp.</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them to the impressionist project.</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o through the code and change all pointBrush labels to triangleBrush.</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5:47:15Z</dcterms:created>
  <dc:creator>Young-M Shin</dc:creator>
  <dc:description/>
  <dc:language>en-US</dc:language>
  <cp:lastModifiedBy>ankit</cp:lastModifiedBy>
  <dcterms:modified xsi:type="dcterms:W3CDTF">2009-03-30T22:52:28Z</dcterms:modified>
  <cp:revision>32</cp:revision>
  <dc:subject/>
  <dc:title>  Project 1: Impressionist Help Session</dc:title>
</cp:coreProperties>
</file>