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007-D516-4A36-9A22-39F48AA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2E6-D461-45C4-A0ED-BC53BBA4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48D-12D1-41D3-BFA6-0DDDACD9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6EC-15B7-4625-A940-E0458B76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F13-0B4E-4489-A355-321767C8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2A3-11F5-4BC9-B8D8-985D358C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52C-2B19-436A-97AB-A8492E40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F55-59C8-457D-BC02-EE4C702F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D04-02AD-4852-8986-204C48E2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9D7-A418-478E-967D-A0A3DC45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C0D-284D-423B-924D-33A7BEE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A95-71AD-4513-8983-97EA33E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757D-9357-40F4-B96E-C9E980389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079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Dynamic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Why go out of sty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xpensive hardware for the time (actually, still is, relative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gister files grew so less registe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arly RISCs had lower C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9E7-42BF-4F75-B171-C96A0859780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AE6-3EAD-4EB5-9AD3-1ABECDB9DE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762120"/>
          <a:ext cx="515304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515304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295280" y="990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B9F-1273-4326-8ECB-EBE43CA4BF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95480" y="914400"/>
          <a:ext cx="515304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914400"/>
                    <a:ext cx="515304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95280" y="155736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55320" y="587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A60-9F87-44C4-9C2C-275D65AA35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95480" y="762120"/>
          <a:ext cx="515304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762120"/>
                    <a:ext cx="515304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295280" y="1646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CA5-C885-4330-9870-4730B049DD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995480" y="838080"/>
          <a:ext cx="515304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838080"/>
                    <a:ext cx="515304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295280" y="2157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777-9629-46FC-9AC8-AD32A6A596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: Interrupt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95480" y="838080"/>
          <a:ext cx="515304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838080"/>
                    <a:ext cx="515304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295280" y="2157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98C-D81C-4EC5-B437-45F6A90B86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: Interrupt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95480" y="762120"/>
          <a:ext cx="515304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762120"/>
                    <a:ext cx="515304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295280" y="16686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C13-CBCE-4526-A379-8BCAB8B3F5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: Interrupt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95480" y="838080"/>
          <a:ext cx="515304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838080"/>
                    <a:ext cx="515304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295280" y="15019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96D-296B-459E-BF44-7D6AD937E8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The R10000 in Action: Interrupt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95480" y="762120"/>
          <a:ext cx="515304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762120"/>
                    <a:ext cx="515304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95280" y="990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4AC-3092-4CFC-B5D3-D83F2F58BA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R10000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In-order issue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have already fetched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name architectural registers to physical registers via a map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etect structural hazards for instruction queues (integer, memory &amp; FP) &amp; active 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ssue up to 4 instructions to the instruction 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Out-of-order execution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to increase IL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ervation-station-like instruction queues that indicate when an operand has been calc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ach instruction monitors the setting of the busy-register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t busy-register table entry for the destin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etect functional unit structural &amp; RAW haz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patch instructions to functional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In-order completion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to preserve precise interru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is &amp; previous program-generated instructions have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register in previous mapping returned to fre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ollback on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28C-B9C0-4A1E-AF93-F8370BB823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88F-80E4-4521-9DF9-FDE85A83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Dynamic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Why come bac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igher chip den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reater need to hide latencies 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crepancy between CPU &amp; memory speeds in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ranch misprediction penalty incr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superpipel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cheduling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as generalized to cover more than floating point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andles branches &amp; hides branch la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ides cache mi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ommits instructions in-order to preserve precise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with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 more general register renaming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cessors now issue multiple instructions at the sam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more need to exploit I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2 style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large physical register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order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10000-styl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(PentiumPro-sty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66400"/>
            <a:ext cx="85345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Register Renaming with A Physical Regi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gister renaming provides a </a:t>
            </a:r>
            <a:r>
              <a:rPr b="1" sz="1800" spc="-1" strike="noStrike">
                <a:solidFill>
                  <a:srgbClr val="ff0000"/>
                </a:solidFill>
                <a:latin typeface="Arial"/>
              </a:rPr>
              <a:t>mapp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between 2 register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architectural register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defined by the 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physical register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implemented in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ults of the instructions committed so f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ults of subsequent, independent instructions that have not yet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more of them than architectural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~ issue width * # pipeline stages between register renaming &amp;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rchitectural regi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mapped to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 physical register during a register renaming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perands thereafter called by their physical register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hazards determined by comparing physical register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ff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liminates WAW and WAR haz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creases I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BCB-9D5B-4132-9D47-5B790B5C3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Review: Name Dependences &amp; WAR/WAW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use of the name depend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runs out of registers, so has to reuse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depend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otential WAR haz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VF _,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F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_, 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depend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otential WAW haz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VF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F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F1, 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F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F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F2, 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use of the WAR &amp; WAW hazar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take different numbers of cycles:                       separate functional units (or execution pipelines) for different instructions that have different numbers of 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order execution may allow the second instruction to complete before the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03C-A14E-4A2E-A8BE-AB346C4AF4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A Register Renaming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1676520"/>
          <a:ext cx="7905960" cy="343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90596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9DD-B456-40A0-99F7-A95AA1AB4D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E92-6B22-4D9C-BB8E-E08FF194C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 Implementation (R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Modular design with regular hardware data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 for register rena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64 </a:t>
            </a:r>
            <a:r>
              <a:rPr b="1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ff0000"/>
                </a:solidFill>
                <a:latin typeface="Arial"/>
              </a:rPr>
              <a:t>register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each, for integer &amp; 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map table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1" i="1" sz="1800" spc="-1" strike="noStrike">
                <a:solidFill>
                  <a:srgbClr val="00ff00"/>
                </a:solidFill>
                <a:latin typeface="Arial"/>
              </a:rPr>
              <a:t>curren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rchitectural-to-physical register mapping (separate, for integer &amp; 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ccessed with an architectural register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es a physical register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 destination register is assigned a new physical register number from a </a:t>
            </a:r>
            <a:r>
              <a:rPr b="1" sz="1800" spc="-1" strike="noStrike">
                <a:solidFill>
                  <a:srgbClr val="ff0000"/>
                </a:solidFill>
                <a:latin typeface="Arial"/>
              </a:rPr>
              <a:t>free register list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separate, for integer &amp; 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ource operands refer to the latest defined destination 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i.e., the current 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 Implementation (R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39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sz="1800" spc="-1" strike="noStrike">
                <a:solidFill>
                  <a:srgbClr val="ff0000"/>
                </a:solidFill>
                <a:latin typeface="Arial"/>
              </a:rPr>
              <a:t>nstruction “queues”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integer, FP &amp; data transf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tains decoded &amp; mapped instructions with the current physical register 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structions entered into free locations in the I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it there until they are dispatched to functional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omewhat analogous to Tomasulo reservation stations without value fields or valid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etermine when operands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ompare each source operand for instructions in the IQ to destinations being written this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etermines when an appropriate functional unit i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patches instructions to functional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8C4-6509-41E4-A844-548179C373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 Implementation (R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active lis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for all uncommitte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mechanism for maintaining precise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structions entered in program-generated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llows instructions to complete in program-generated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structions removed from the active list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 instruction commi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instruction has completed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ll instructions ahead of it ha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ranch is mispredi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 exception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tains the </a:t>
            </a:r>
            <a:r>
              <a:rPr b="1" i="1" sz="1800" spc="-1" strike="noStrike">
                <a:solidFill>
                  <a:srgbClr val="00ff00"/>
                </a:solidFill>
                <a:latin typeface="Arial"/>
              </a:rPr>
              <a:t>previou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rchitectural-to-physical destination register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sed to recreate the map table for instruction restart after an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structions in the other hardware structures &amp; the functional units are identified by their active list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D07-6B8C-4D98-BCE9-1C88600388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n</a:t>
            </a:r>
            <a:r>
              <a:rPr b="1" sz="2400" spc="-1" strike="noStrike" u="sng">
                <a:solidFill>
                  <a:srgbClr val="0000ff"/>
                </a:solidFill>
                <a:uFillTx/>
                <a:latin typeface="Arial"/>
              </a:rPr>
              <a:t> Implementation (R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rial"/>
              </a:rPr>
              <a:t>busy-register tabl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integer &amp; FP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dicates whether a physical register contains a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omewhat analogous to Tomasu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tatu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sed to determine operand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it is set when a register is mapped &amp; leaves the free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t available y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leared when a FU writes the 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w there’s a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 P54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095-BC0D-416A-BB3B-B1D9F0F509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9:04:54Z</dcterms:created>
  <dc:creator>Fred Videon</dc:creator>
  <dc:description/>
  <dc:language>en-US</dc:language>
  <cp:lastModifiedBy>uw</cp:lastModifiedBy>
  <dcterms:modified xsi:type="dcterms:W3CDTF">2003-04-22T23:30:24Z</dcterms:modified>
  <cp:revision>27</cp:revision>
  <dc:subject/>
  <dc:title>Dynamic Scheduling</dc:title>
</cp:coreProperties>
</file>